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011-B262-4430-94FB-3C44B95B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430-FA32-4D16-8C85-6B711F05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3EF-43BC-42FF-B66B-02DC5110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4A0-FB4C-4F19-8AE7-3CB5C46CD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7AE-AABD-4000-9AC7-D25CF50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7C4-1943-47FC-9C5D-28D699B4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9C5-B8CF-4980-847D-29DC24E6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7667-7D61-43BA-BD2B-8C1A747B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803D-CC0B-4433-8B38-3BEE58D2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2AA2-04BD-41BF-ABD8-075E2531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30D8-AF3E-4775-81E8-9EC0A291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16C-8903-4E0D-BD78-47E0F0CF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815D-B805-4DF5-9A34-A1BC1DA93A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838080" y="3240"/>
            <a:ext cx="7848720" cy="6781680"/>
            <a:chOff x="838080" y="3240"/>
            <a:chExt cx="7848720" cy="6781680"/>
          </a:xfrm>
        </p:grpSpPr>
        <p:pic>
          <p:nvPicPr>
            <p:cNvPr id="64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8080" y="3240"/>
              <a:ext cx="775080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Oval 4"/>
            <p:cNvSpPr/>
            <p:nvPr/>
          </p:nvSpPr>
          <p:spPr>
            <a:xfrm>
              <a:off x="7021080" y="597960"/>
              <a:ext cx="1665720" cy="674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5"/>
            <p:cNvSpPr/>
            <p:nvPr/>
          </p:nvSpPr>
          <p:spPr>
            <a:xfrm>
              <a:off x="1141920" y="2526120"/>
              <a:ext cx="2057400" cy="8676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"/>
            <p:cNvSpPr/>
            <p:nvPr/>
          </p:nvSpPr>
          <p:spPr>
            <a:xfrm>
              <a:off x="848160" y="501840"/>
              <a:ext cx="1567440" cy="7711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"/>
            <p:cNvSpPr/>
            <p:nvPr/>
          </p:nvSpPr>
          <p:spPr>
            <a:xfrm>
              <a:off x="94608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8"/>
            <p:cNvSpPr/>
            <p:nvPr/>
          </p:nvSpPr>
          <p:spPr>
            <a:xfrm>
              <a:off x="4277520" y="628596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6629400" y="6189480"/>
              <a:ext cx="1469520" cy="4816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Regulation of 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rate-limiting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nzyme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 24"/>
          <p:cNvGrpSpPr/>
          <p:nvPr/>
        </p:nvGrpSpPr>
        <p:grpSpPr>
          <a:xfrm>
            <a:off x="1297080" y="1523880"/>
            <a:ext cx="6709320" cy="4266000"/>
            <a:chOff x="1297080" y="1523880"/>
            <a:chExt cx="6709320" cy="4266000"/>
          </a:xfrm>
        </p:grpSpPr>
        <p:sp>
          <p:nvSpPr>
            <p:cNvPr id="75" name="TextBox 2"/>
            <p:cNvSpPr/>
            <p:nvPr/>
          </p:nvSpPr>
          <p:spPr>
            <a:xfrm>
              <a:off x="3735000" y="152388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"/>
            <p:cNvSpPr/>
            <p:nvPr/>
          </p:nvSpPr>
          <p:spPr>
            <a:xfrm>
              <a:off x="3380040" y="2438280"/>
              <a:ext cx="164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4"/>
            <p:cNvSpPr/>
            <p:nvPr/>
          </p:nvSpPr>
          <p:spPr>
            <a:xfrm>
              <a:off x="3470400" y="3312720"/>
              <a:ext cx="14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5"/>
            <p:cNvSpPr/>
            <p:nvPr/>
          </p:nvSpPr>
          <p:spPr>
            <a:xfrm>
              <a:off x="3018600" y="431568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3471120" y="54216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Straight Arrow Connector 8"/>
            <p:cNvCxnSpPr>
              <a:stCxn id="75" idx="2"/>
            </p:cNvCxnSpPr>
            <p:nvPr/>
          </p:nvCxnSpPr>
          <p:spPr>
            <a:xfrm>
              <a:off x="4113720" y="1893600"/>
              <a:ext cx="108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9"/>
            <p:cNvCxnSpPr/>
            <p:nvPr/>
          </p:nvCxnSpPr>
          <p:spPr>
            <a:xfrm>
              <a:off x="4113720" y="2808000"/>
              <a:ext cx="6840" cy="621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arrow" w="med"/>
            </a:ln>
          </p:spPr>
        </p:cxnSp>
        <p:cxnSp>
          <p:nvCxnSpPr>
            <p:cNvPr id="82" name="Straight Arrow Connector 10"/>
            <p:cNvCxnSpPr/>
            <p:nvPr/>
          </p:nvCxnSpPr>
          <p:spPr>
            <a:xfrm>
              <a:off x="4113720" y="372276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3" name="Straight Arrow Connector 11"/>
            <p:cNvCxnSpPr/>
            <p:nvPr/>
          </p:nvCxnSpPr>
          <p:spPr>
            <a:xfrm>
              <a:off x="4113720" y="4789440"/>
              <a:ext cx="6840" cy="621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4" name="Straight Arrow Connector 13"/>
            <p:cNvCxnSpPr/>
            <p:nvPr/>
          </p:nvCxnSpPr>
          <p:spPr>
            <a:xfrm>
              <a:off x="2920320" y="2160360"/>
              <a:ext cx="10674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85" name="Straight Arrow Connector 14"/>
            <p:cNvCxnSpPr/>
            <p:nvPr/>
          </p:nvCxnSpPr>
          <p:spPr>
            <a:xfrm>
              <a:off x="2743200" y="5029200"/>
              <a:ext cx="1296000" cy="21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86" name="Straight Arrow Connector 15"/>
            <p:cNvCxnSpPr/>
            <p:nvPr/>
          </p:nvCxnSpPr>
          <p:spPr>
            <a:xfrm>
              <a:off x="4773600" y="5612040"/>
              <a:ext cx="129600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7" name="Straight Arrow Connector 17"/>
            <p:cNvCxnSpPr/>
            <p:nvPr/>
          </p:nvCxnSpPr>
          <p:spPr>
            <a:xfrm flipH="1">
              <a:off x="5638320" y="4520880"/>
              <a:ext cx="1067400" cy="108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  <p:sp>
          <p:nvSpPr>
            <p:cNvPr id="88" name="TextBox 18"/>
            <p:cNvSpPr/>
            <p:nvPr/>
          </p:nvSpPr>
          <p:spPr>
            <a:xfrm>
              <a:off x="1422720" y="196848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9"/>
            <p:cNvSpPr/>
            <p:nvPr/>
          </p:nvSpPr>
          <p:spPr>
            <a:xfrm>
              <a:off x="6052680" y="539964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0"/>
            <p:cNvSpPr/>
            <p:nvPr/>
          </p:nvSpPr>
          <p:spPr>
            <a:xfrm>
              <a:off x="1297080" y="4496040"/>
              <a:ext cx="137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1"/>
            <p:cNvSpPr/>
            <p:nvPr/>
          </p:nvSpPr>
          <p:spPr>
            <a:xfrm>
              <a:off x="6859440" y="4177080"/>
              <a:ext cx="1146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Arial"/>
                  <a:ea typeface="Arial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 of gene expression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hen sufficient cholesterol is present,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transcript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s suppressed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vic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ver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erol Regulatory Element (SRE) is a recognition sequence in th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REBP (SRE binding protein) binding to SRE is essential for transcription of this g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REBP cleavage-activating protein (SCAP) is an intracellular cholesterol sens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insig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Golgi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nzyme phosphorylation and dephosphory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Phosphorylated form of enzyme is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ina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ephosphorylated form 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ac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holesterol synthesi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ecr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lesteryl e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limiting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gulation of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gulation of HMG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xcretion of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cholesterolemia and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in  and thyroxin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increas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upregulat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of enzyme ex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Glucagon and cortisol hav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opposite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eff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conversion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nto bile acids and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il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salts- excreted in the fe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eece1"/>
                </a:solidFill>
                <a:uFillTx/>
                <a:latin typeface="Calibri"/>
                <a:ea typeface="Arial"/>
              </a:rPr>
              <a:t>Secretion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of cholesterol in b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 the intestine, some cholesterol is converted by bacteria into coprostanol and cholestan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efor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x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Leads to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rugs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are used to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decreas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plasma cholesterol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Statins are structural analogs of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HMG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CoA reduct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tatin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enzyme activity by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competitiv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lant sterols are poorly absorbed by hum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sulating effect o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nerve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fib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6"/>
          <p:cNvSpPr/>
          <p:nvPr/>
        </p:nvSpPr>
        <p:spPr>
          <a:xfrm>
            <a:off x="0" y="1935000"/>
            <a:ext cx="47242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6280" rIns="90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  <a:ea typeface="Arial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Es are </a:t>
            </a:r>
            <a:r>
              <a:rPr b="0" lang="en-US" sz="3200" spc="-1" strike="noStrike" u="sng">
                <a:solidFill>
                  <a:srgbClr val="eeece1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 present in membr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is present in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Calibri"/>
              </a:rPr>
              <a:t>both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 cytosol and mitochondria of l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ma100914</cp:lastModifiedBy>
  <dcterms:modified xsi:type="dcterms:W3CDTF">2015-03-15T09:22:06Z</dcterms:modified>
  <cp:revision>54</cp:revision>
  <dc:subject/>
  <dc:title>Slide 1</dc:title>
</cp:coreProperties>
</file>