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2A8-5998-45E2-A2CF-D7BB10F6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438-9100-4694-982B-DEA0CFFC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292-9F7D-412E-97EE-AF060458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F81-FD3A-43C5-B2C2-4A6E3BF4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42D-1C23-4B5A-A01D-E7D0BBDC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3B2-E501-44BC-939C-D863327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CA-F66B-47B5-B872-4DE7FF4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AD5-402C-4EC4-9DF3-780BB4FF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309-9055-42E6-8F43-84E35A7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564-4D75-4F6A-A01E-44175A2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1F3-F14D-46D7-BB6E-452C887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C40-DA06-4A14-B3B4-01A5958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729-9E93-488F-A3B4-4F0C32ED51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838080" y="3240"/>
            <a:ext cx="7848720" cy="6781680"/>
            <a:chOff x="838080" y="3240"/>
            <a:chExt cx="7848720" cy="6781680"/>
          </a:xfrm>
        </p:grpSpPr>
        <p:pic>
          <p:nvPicPr>
            <p:cNvPr id="64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8080" y="3240"/>
              <a:ext cx="775080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4"/>
            <p:cNvSpPr/>
            <p:nvPr/>
          </p:nvSpPr>
          <p:spPr>
            <a:xfrm>
              <a:off x="7021080" y="597960"/>
              <a:ext cx="1665720" cy="674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5"/>
            <p:cNvSpPr/>
            <p:nvPr/>
          </p:nvSpPr>
          <p:spPr>
            <a:xfrm>
              <a:off x="1141920" y="2526120"/>
              <a:ext cx="2057400" cy="867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"/>
            <p:cNvSpPr/>
            <p:nvPr/>
          </p:nvSpPr>
          <p:spPr>
            <a:xfrm>
              <a:off x="848160" y="501840"/>
              <a:ext cx="1567440" cy="771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94608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4277520" y="628596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662940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rate-limiting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nzyme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1297080" y="1523880"/>
            <a:ext cx="6709320" cy="4266000"/>
            <a:chOff x="1297080" y="1523880"/>
            <a:chExt cx="6709320" cy="4266000"/>
          </a:xfrm>
        </p:grpSpPr>
        <p:sp>
          <p:nvSpPr>
            <p:cNvPr id="75" name="TextBox 2"/>
            <p:cNvSpPr/>
            <p:nvPr/>
          </p:nvSpPr>
          <p:spPr>
            <a:xfrm>
              <a:off x="3735000" y="15238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"/>
            <p:cNvSpPr/>
            <p:nvPr/>
          </p:nvSpPr>
          <p:spPr>
            <a:xfrm>
              <a:off x="3380040" y="243828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"/>
            <p:cNvSpPr/>
            <p:nvPr/>
          </p:nvSpPr>
          <p:spPr>
            <a:xfrm>
              <a:off x="3470400" y="331272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"/>
            <p:cNvSpPr/>
            <p:nvPr/>
          </p:nvSpPr>
          <p:spPr>
            <a:xfrm>
              <a:off x="3018600" y="431568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3471120" y="5421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Straight Arrow Connector 8"/>
            <p:cNvCxnSpPr>
              <a:stCxn id="75" idx="2"/>
            </p:cNvCxnSpPr>
            <p:nvPr/>
          </p:nvCxnSpPr>
          <p:spPr>
            <a:xfrm>
              <a:off x="4113720" y="1893600"/>
              <a:ext cx="108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9"/>
            <p:cNvCxnSpPr/>
            <p:nvPr/>
          </p:nvCxnSpPr>
          <p:spPr>
            <a:xfrm>
              <a:off x="4113720" y="2808000"/>
              <a:ext cx="6840" cy="621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2" name="Straight Arrow Connector 10"/>
            <p:cNvCxnSpPr/>
            <p:nvPr/>
          </p:nvCxnSpPr>
          <p:spPr>
            <a:xfrm>
              <a:off x="4113720" y="372276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3" name="Straight Arrow Connector 11"/>
            <p:cNvCxnSpPr/>
            <p:nvPr/>
          </p:nvCxnSpPr>
          <p:spPr>
            <a:xfrm>
              <a:off x="4113720" y="478944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4" name="Straight Arrow Connector 13"/>
            <p:cNvCxnSpPr/>
            <p:nvPr/>
          </p:nvCxnSpPr>
          <p:spPr>
            <a:xfrm>
              <a:off x="2920320" y="2160360"/>
              <a:ext cx="10674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85" name="Straight Arrow Connector 14"/>
            <p:cNvCxnSpPr/>
            <p:nvPr/>
          </p:nvCxnSpPr>
          <p:spPr>
            <a:xfrm>
              <a:off x="2743200" y="5029200"/>
              <a:ext cx="12960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86" name="Straight Arrow Connector 15"/>
            <p:cNvCxnSpPr/>
            <p:nvPr/>
          </p:nvCxnSpPr>
          <p:spPr>
            <a:xfrm>
              <a:off x="4773600" y="5612040"/>
              <a:ext cx="12960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7" name="Straight Arrow Connector 17"/>
            <p:cNvCxnSpPr/>
            <p:nvPr/>
          </p:nvCxnSpPr>
          <p:spPr>
            <a:xfrm flipH="1">
              <a:off x="5638320" y="4520880"/>
              <a:ext cx="106740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88" name="TextBox 18"/>
            <p:cNvSpPr/>
            <p:nvPr/>
          </p:nvSpPr>
          <p:spPr>
            <a:xfrm>
              <a:off x="1422720" y="196848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9"/>
            <p:cNvSpPr/>
            <p:nvPr/>
          </p:nvSpPr>
          <p:spPr>
            <a:xfrm>
              <a:off x="6052680" y="539964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/>
            <p:cNvSpPr/>
            <p:nvPr/>
          </p:nvSpPr>
          <p:spPr>
            <a:xfrm>
              <a:off x="1297080" y="4496040"/>
              <a:ext cx="137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1"/>
            <p:cNvSpPr/>
            <p:nvPr/>
          </p:nvSpPr>
          <p:spPr>
            <a:xfrm>
              <a:off x="6859440" y="41770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 of gene expression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hen sufficient cholesterol is present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transcript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s suppressed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vic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 Regulatory Element (SRE) is a recognition sequence in th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REBP (SRE binding protein) binding to SRE is essential for transcription of this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REBP cleavage-activating protein (SCAP) is an intracellular cholesterol se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insig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Golgi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nzyme phosphorylation and de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Phosphorylated form of enzyme is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phosphorylated form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holesterol synthes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lesteryl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limiting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gulation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ulation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xcretion of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cholesterolemia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in  and thyroxi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increas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upregulat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of enzy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Glucagon and cortisol hav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opposite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convers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nto bile acids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il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salts- excreted in the f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alibri"/>
                <a:ea typeface="Arial"/>
              </a:rPr>
              <a:t>Secretion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of cholesterol in b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the intestine, some cholesterol is converted by bacteria into coprostanol and cholestan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x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Leads to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rug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are used to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ecreas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plasma cholestero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atins are structural analogs of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HMG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nzyme activit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competitiv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lant sterols are poorly absorbed by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ating effect 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nerv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fib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1935000"/>
            <a:ext cx="4724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628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Es ar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present in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is present 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ytosol and mitochondria of l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ma100914</cp:lastModifiedBy>
  <dcterms:modified xsi:type="dcterms:W3CDTF">2015-03-15T09:22:06Z</dcterms:modified>
  <cp:revision>54</cp:revision>
  <dc:subject/>
  <dc:title>Slide 1</dc:title>
</cp:coreProperties>
</file>