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067-E90C-4763-9C17-14C743F6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241-A82C-459A-AFD1-6E838A66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A00-DE5D-4C62-AAAD-684C0494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352-FDE9-4FCF-9298-F6C0D7DB6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BE4-2E55-41AB-8699-2DC6A334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9D4-03F3-4425-BEAB-4193D354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63E-AFD6-41F4-8805-A956A474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D3B-DEA4-4510-B545-3FE39B8E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DF10-AB12-4455-BFDC-672C1710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88E2-4A14-42F1-857F-8F701D49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DF9-6A6E-4E84-8901-7DACD156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7AF-E458-4A33-BC63-33184ECC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9C4D-E120-4FAD-97E9-2FCE4AB6155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8_015"/>
          <p:cNvPicPr/>
          <p:nvPr/>
        </p:nvPicPr>
        <p:blipFill>
          <a:blip r:embed="rId1"/>
          <a:srcRect l="5000" t="2145" r="5000" b="20175"/>
          <a:stretch/>
        </p:blipFill>
        <p:spPr>
          <a:xfrm>
            <a:off x="457200" y="990720"/>
            <a:ext cx="8229600" cy="5867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9"/>
          <p:cNvSpPr/>
          <p:nvPr/>
        </p:nvSpPr>
        <p:spPr>
          <a:xfrm>
            <a:off x="228600" y="228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oprotein</a:t>
            </a:r>
            <a:r>
              <a:rPr b="1" lang="en-US" sz="44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Electropho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306720" y="2360520"/>
            <a:ext cx="857628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triacylglycerol transport (TG-rich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etary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V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dogenous (hepatic)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or cholesterol transport (cholesterol-rich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LDL: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free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HDL: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ainly esterifie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Chylomic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in intestinal mucosa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west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argest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est % of lipids and lowest %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est triacylglycerol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dietary ori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etar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lipids to peripher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sponsible for physiological milky appearance of plasma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up to 2 hours after me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Very Low Density Lipoproteins </a:t>
            </a:r>
            <a:br>
              <a:rPr sz="4000"/>
            </a:b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in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 triacylglycerol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hepatic orig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arry lipids from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ver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to peripher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scent VLDL: contains Apo B-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: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B-100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-II and Ap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from 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Metabolism of VLD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and secreted by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s in bl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ifications of circulating VLD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 products: IDL and L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ated dise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ypolipoproteinemia: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betalipoproteinem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yperlipoproteinemi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ype I hyperlipoproteinem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milial type II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18_017"/>
          <p:cNvPicPr/>
          <p:nvPr/>
        </p:nvPicPr>
        <p:blipFill>
          <a:blip r:embed="rId1"/>
          <a:srcRect l="11668" t="0" r="12503" b="22226"/>
          <a:stretch/>
        </p:blipFill>
        <p:spPr>
          <a:xfrm>
            <a:off x="1066680" y="228600"/>
            <a:ext cx="693432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1826640" y="5711760"/>
            <a:ext cx="548136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V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Metabolism of VLDLs: Mature 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embled and secreted by liver directly into blood as nascent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VLDLs: contain Apo B-100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lu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-II and Apo E. ApoC-II is required for activation of lipoprotein lip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oprotein lipase is required to degrade TG into glycerol and fatty acid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Modifications of Circulating VLD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 TG is degraded, VLDLs be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maller in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re d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po C back to H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change of TG with cholesterol ester (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y cholesterol ester transfer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duction of LDL in plasma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LDL             IDL (returns Apo E to HDL)    LDL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"/>
          <p:cNvSpPr/>
          <p:nvPr/>
        </p:nvSpPr>
        <p:spPr>
          <a:xfrm>
            <a:off x="1676520" y="5867280"/>
            <a:ext cx="10666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"/>
          <p:cNvSpPr/>
          <p:nvPr/>
        </p:nvSpPr>
        <p:spPr>
          <a:xfrm>
            <a:off x="7924680" y="5924520"/>
            <a:ext cx="10670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18_018"/>
          <p:cNvPicPr/>
          <p:nvPr/>
        </p:nvPicPr>
        <p:blipFill>
          <a:blip r:embed="rId1"/>
          <a:srcRect l="19169" t="1997" r="20001" b="22001"/>
          <a:stretch/>
        </p:blipFill>
        <p:spPr>
          <a:xfrm>
            <a:off x="1752480" y="152280"/>
            <a:ext cx="5562720" cy="5791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7"/>
          <p:cNvSpPr/>
          <p:nvPr/>
        </p:nvSpPr>
        <p:spPr>
          <a:xfrm>
            <a:off x="1752480" y="6019920"/>
            <a:ext cx="5715000" cy="6858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Impact"/>
              </a:rPr>
              <a:t>Lipid-Transfer Prote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914400" y="304920"/>
            <a:ext cx="73375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VLDLs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364120" y="1143000"/>
            <a:ext cx="48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polipoprotei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81600" y="1832040"/>
            <a:ext cx="8564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Abetalipoprotei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fect in TG-transfer prot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po B-100 cannot be loaded with lip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cumulation of TG in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375200" y="4114800"/>
            <a:ext cx="66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tty Liver (hepatic steatosi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249120" y="4861080"/>
            <a:ext cx="874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Imbalance between hepatic synthesis of T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nd secretion of VLDL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Accumulation of TG in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Impact"/>
              </a:rPr>
              <a:t>Lipoprotein Metabolis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044720" y="614520"/>
            <a:ext cx="7337520" cy="8251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Impact"/>
              </a:rPr>
              <a:t>VLDLs-Related Diseas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99600" y="1676520"/>
            <a:ext cx="8361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Lipoprotein lipas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or Apo C-II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Usually associated with acute abdomen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due to acute pancreat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I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Familial dysbeta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po E de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Hypercholesterolemia and atheroscle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1908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ipid compounds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Relatively water insol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refore, they are transported in plasma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(aqueous)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Lipoprote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819520" y="758880"/>
            <a:ext cx="3276360" cy="1312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ipoproteins and Related Clinic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therosclerosis and hyperten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ronary heart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ipoproteinemias (hypo- and hyper-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Fatty l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ipoprotei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6720" y="1847880"/>
            <a:ext cx="864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tein part: Apoproteins or apo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bbrevia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o-A, B, C, D,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ructural and transpor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zymatic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gands f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p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ccording to the type of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ifferent lipid components in various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8_014"/>
          <p:cNvPicPr/>
          <p:nvPr/>
        </p:nvPicPr>
        <p:blipFill>
          <a:blip r:embed="rId1"/>
          <a:srcRect l="16666" t="0" r="15833" b="19294"/>
          <a:stretch/>
        </p:blipFill>
        <p:spPr>
          <a:xfrm>
            <a:off x="533520" y="982800"/>
            <a:ext cx="5562360" cy="5494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533412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294840" y="295200"/>
            <a:ext cx="86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pherical molecules of lipids and proteins (apoprote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6098040" y="1523880"/>
            <a:ext cx="2911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uter co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ner c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holesterol 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Types of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Why do we have different types of lipoprotei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y differ in lipid and protein 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d therefore, they differ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ize and den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Electrophoretic mo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8_019"/>
          <p:cNvPicPr/>
          <p:nvPr/>
        </p:nvPicPr>
        <p:blipFill>
          <a:blip r:embed="rId1"/>
          <a:srcRect l="35002" t="510" r="34170" b="14585"/>
          <a:stretch/>
        </p:blipFill>
        <p:spPr>
          <a:xfrm>
            <a:off x="2895480" y="0"/>
            <a:ext cx="2819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228600" y="2209680"/>
            <a:ext cx="2971800" cy="266724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Type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5715000" y="5238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ylomic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ery 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V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8_025"/>
          <p:cNvPicPr/>
          <p:nvPr/>
        </p:nvPicPr>
        <p:blipFill>
          <a:blip r:embed="rId1"/>
          <a:srcRect l="37703" t="23021" r="36944" b="15829"/>
          <a:stretch/>
        </p:blipFill>
        <p:spPr>
          <a:xfrm>
            <a:off x="1447920" y="228600"/>
            <a:ext cx="2819160" cy="64771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>
            <a:off x="4343400" y="25909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Ultracentrifu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1-04-04T05:08:13Z</dcterms:modified>
  <cp:revision>11</cp:revision>
  <dc:subject/>
  <dc:title>PowerPoint Presentation</dc:title>
</cp:coreProperties>
</file>