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0AF-7F27-4A51-A265-2519B0CF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E60-464A-471C-AA72-6348AC2A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D71-48A0-469A-B604-8BB55132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B41-A0B2-44D3-8A63-B3B2C65A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26F-F20C-4518-8681-C977CEF9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CAB-11D3-4022-9A80-9FC9D63A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2E4-709B-4113-A6F3-0DEC0F06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FB4A-315E-48C6-BE76-E8BEC730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912-5346-4C77-A63B-18A6EF09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89B-D30C-4CF8-BBAA-837EAAE6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400-C905-4A2B-8861-30D2A0BE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F4F-34E8-4991-8C34-CDDBFEA0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839B-D932-42B3-9727-1631BE85093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8_015"/>
          <p:cNvPicPr/>
          <p:nvPr/>
        </p:nvPicPr>
        <p:blipFill>
          <a:blip r:embed="rId1"/>
          <a:srcRect l="5000" t="2145" r="5000" b="20175"/>
          <a:stretch/>
        </p:blipFill>
        <p:spPr>
          <a:xfrm>
            <a:off x="457200" y="99072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228600" y="228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oprotein</a:t>
            </a: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Plasma 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06720" y="2360520"/>
            <a:ext cx="8576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 triacylglycerol transport (TG-rich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ylomicrons: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ietary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VL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ndogenous (hepatic)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 cholesterol transport (cholesterol-rich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LDL: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inly free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HDL: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inly esterifie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Chylomic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embled in intestinal mucosal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west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rgest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est % of lipids and lowest %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est triacylglycerol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dietary orig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rr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etar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lipids to periphera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sponsible for physiological milky appearance of plasma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up to 2 hours after me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Very Low Density Lipoproteins </a:t>
            </a:r>
            <a:br>
              <a:rPr sz="4000"/>
            </a:b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VLD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embled in 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 triacylglycerol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hepatic orig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rry lipids from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ver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to periphera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scent VLDL: contains Apo B-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ure VLDL: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o B-100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o C-II and Ap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from H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Metabolism of VLD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embled and secreted by 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ure VLDLs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ifications of circulating VLD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d products: IDL and L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lated dise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ypolipoproteinemia: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betalipoproteinem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yperlipoproteinemi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ype I hyperlipoproteinem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milial type III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18_017"/>
          <p:cNvPicPr/>
          <p:nvPr/>
        </p:nvPicPr>
        <p:blipFill>
          <a:blip r:embed="rId1"/>
          <a:srcRect l="11668" t="0" r="12503" b="22226"/>
          <a:stretch/>
        </p:blipFill>
        <p:spPr>
          <a:xfrm>
            <a:off x="1066680" y="228600"/>
            <a:ext cx="6934320" cy="5334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1826640" y="5711760"/>
            <a:ext cx="548136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VL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Metabolism of VLDLs: Mature VLD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embled and secreted by liver directly into blood as nascen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ure VLDLs: contain Apo B-100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lu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o C-II and Apo E. ApoC-II is required for activation of lipoprotein lip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oprotein lipase is required to degrade TG into glycerol and fatty acid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Modifications of Circulating VLD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 TG is degraded, VLDLs be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maller in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re d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o C back to H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change of TG with cholesterol ester (H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y cholesterol ester transfer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duction of LDL in plasma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LDL             IDL (returns Apo E to HDL)    LDL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676520" y="5867280"/>
            <a:ext cx="106668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7924680" y="5924520"/>
            <a:ext cx="10670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8_018"/>
          <p:cNvPicPr/>
          <p:nvPr/>
        </p:nvPicPr>
        <p:blipFill>
          <a:blip r:embed="rId1"/>
          <a:srcRect l="19169" t="1997" r="20001" b="22001"/>
          <a:stretch/>
        </p:blipFill>
        <p:spPr>
          <a:xfrm>
            <a:off x="1752480" y="152280"/>
            <a:ext cx="5562720" cy="5791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1752480" y="6019920"/>
            <a:ext cx="5715000" cy="6858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id-Transfer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914400" y="304920"/>
            <a:ext cx="733752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VLDLs-Related Dis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364120" y="1143000"/>
            <a:ext cx="481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polipoprotei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1600" y="1832040"/>
            <a:ext cx="856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Abetalipoprotei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Defect in TG-transfer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po B-100 cannot be loaded with lip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ccumulation of TG in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375200" y="4114800"/>
            <a:ext cx="663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tty Liver (hepatic steatos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49120" y="4861080"/>
            <a:ext cx="874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Imbalance between hepatic synthesis of T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nd secretion of VLD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ccumulation of TG in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Impact"/>
              </a:rPr>
              <a:t>Lipoprotein Metabolis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84360" y="4124160"/>
            <a:ext cx="81039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044720" y="614520"/>
            <a:ext cx="733752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VLDLs-Related Dis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99600" y="1676520"/>
            <a:ext cx="8361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amilial Lipoprotein lipase de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or Apo C-II de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Usually associated with acute abdomen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due to acute pancre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II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amilial dysbeta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po E de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Hypercholesterolemia and atheroscler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1908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ipid compounds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Relatively water insolu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refore, they are transported in plasma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aqueous)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Lipo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819520" y="758880"/>
            <a:ext cx="3276360" cy="13129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Lipoproteins and Related Clinic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therosclerosis and hyperten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ronary heart dis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ipoproteinemias (hypo- and hyper-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tty l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Lipoprotei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6720" y="1847880"/>
            <a:ext cx="86479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tein part: Apoproteins or apolipo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bbrevia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o-A, B, C, D,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tructural and transpor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zymatic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igands for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 p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ccording to the type of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ifferent lipid components in various comb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8_014"/>
          <p:cNvPicPr/>
          <p:nvPr/>
        </p:nvPicPr>
        <p:blipFill>
          <a:blip r:embed="rId1"/>
          <a:srcRect l="16666" t="0" r="15833" b="19294"/>
          <a:stretch/>
        </p:blipFill>
        <p:spPr>
          <a:xfrm>
            <a:off x="533520" y="982800"/>
            <a:ext cx="5562360" cy="5494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5334120" y="5410080"/>
            <a:ext cx="335268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Lipoprotei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94840" y="295200"/>
            <a:ext cx="86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pherical molecules of lipids and proteins (apoprote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6098040" y="1523880"/>
            <a:ext cx="2911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uter co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ner co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olesterol 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Types of 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Why do we have different types of lipoprote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y differ in lipid and protein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therefore, they differ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ize and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Electrophoretic mo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8_019"/>
          <p:cNvPicPr/>
          <p:nvPr/>
        </p:nvPicPr>
        <p:blipFill>
          <a:blip r:embed="rId1"/>
          <a:srcRect l="35002" t="510" r="34170" b="14585"/>
          <a:stretch/>
        </p:blipFill>
        <p:spPr>
          <a:xfrm>
            <a:off x="2895480" y="0"/>
            <a:ext cx="2819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228600" y="2209680"/>
            <a:ext cx="2971800" cy="266724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Type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Compos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715000" y="52380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ylomic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ery 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V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 den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H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8_025"/>
          <p:cNvPicPr/>
          <p:nvPr/>
        </p:nvPicPr>
        <p:blipFill>
          <a:blip r:embed="rId1"/>
          <a:srcRect l="37703" t="23021" r="36944" b="15829"/>
          <a:stretch/>
        </p:blipFill>
        <p:spPr>
          <a:xfrm>
            <a:off x="1447920" y="228600"/>
            <a:ext cx="2819160" cy="64771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343400" y="2590920"/>
            <a:ext cx="4572000" cy="1904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Ultracentrifu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1-04-04T05:08:13Z</dcterms:modified>
  <cp:revision>11</cp:revision>
  <dc:subject/>
  <dc:title>PowerPoint Presentation</dc:title>
</cp:coreProperties>
</file>