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6E2-768D-4CB8-8E1F-2E840A2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FFC-D624-408D-B7E7-8998C833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FF8-169C-4914-BB26-8412C90D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DEB-37AA-4F79-A51C-6E625F68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827-DF2E-4214-983E-A2BFDB4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B92-99DF-4FF3-AC98-057E928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F37-0C2B-4D06-BDC9-AC5AE30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0FE-C68E-44D6-BAE0-6E527EF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3B2-F780-44CB-B2D8-F7FAB967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E8F-84D3-4BAF-9046-E40B232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180-123A-4BEB-873C-EE6376B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C59-4FEF-4317-9FBD-08041F7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DD8-DB21-4E3F-88F8-6950BC8B98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8_023"/>
          <p:cNvPicPr/>
          <p:nvPr/>
        </p:nvPicPr>
        <p:blipFill>
          <a:blip r:embed="rId1"/>
          <a:srcRect l="15002" t="48062" r="19167" b="15506"/>
          <a:stretch/>
        </p:blipFill>
        <p:spPr>
          <a:xfrm>
            <a:off x="990720" y="1546200"/>
            <a:ext cx="739116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62880" y="44280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11600" y="60958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= Phosphatidylcholine/Lec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High Density Lipoproteins (H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ed by intestine and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HDL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sk-shaped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apo A-I, C-II and E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primarily phospholipid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HDL (HD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rst,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llect cholesterol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verts cholesterol to cholesterol ester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pherical mature particle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Functions of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ervoir of apoproteins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.g., Apo C-II and E to 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take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other lipoproteins &amp; cell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HDL is suitable for uptake of cholesterol because of high content of PC that can both solublizes cholesterol and acts as a source of fatty acid for cholesterol ester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cation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zym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CAT/LCAT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ator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po A-I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-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PC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 ester (&amp; Lyso-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Why Is HDL a Good Cholesterol carri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relation between plasma HDL levels and atherosclerosis ….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verse cholesterol transport involves:</a:t>
            </a:r>
            <a:br>
              <a:rPr sz="36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fflux of cholesterol from peripheral tissues and other lipoproteins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sterification of cholesterol &amp; binding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to liver and stroidogenic cell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scavenger receptor class B (SR-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elective transfer of cholesterol ester into thes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lease of lipid-deplete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430720" y="609480"/>
            <a:ext cx="41050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600200"/>
            <a:ext cx="8458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ogen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-533880" y="380880"/>
            <a:ext cx="101307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aboratory Investigation of Atheroscler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2952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rum lipid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-12 hours (O/N) f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suremen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riglyceride level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chylomicron and VL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ota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LDL and H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H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s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ipoprotein electroph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apoprotein levels e.g., apo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862640" y="609480"/>
            <a:ext cx="545544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LDL-related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16002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amilial hypercholestrolem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plasma LDL level &amp; therefore, plasma 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-mature atherosclerosis and incre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sk for early-onset ischemic hear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ociated with the presence of tendon xanthomas on hands and ank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914040"/>
            <a:ext cx="88390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oproteins and Atheroscler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523880"/>
            <a:ext cx="91440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key element for cholesterol homeostasis is the balance between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holesterol transport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ver to peripheral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issues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ba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erse cholesterol transpor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rom peripheral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ssues to liver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oo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balance results in cholesterol deposition in the wall of blood vessels, thickening of the wall and narrowing of the lume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“Atheroscleros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337480" y="38088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8_019"/>
          <p:cNvPicPr/>
          <p:nvPr/>
        </p:nvPicPr>
        <p:blipFill>
          <a:blip r:embed="rId1"/>
          <a:srcRect l="35002" t="37305" r="34170" b="14585"/>
          <a:stretch/>
        </p:blipFill>
        <p:spPr>
          <a:xfrm>
            <a:off x="5257800" y="1523880"/>
            <a:ext cx="364824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143000" y="380880"/>
            <a:ext cx="701028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omposition of LDL and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200400"/>
            <a:ext cx="58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stly cholesterol 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3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stly free ch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3880" y="533520"/>
            <a:ext cx="6629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ow Density Lipoproteins (LD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8400" y="1905120"/>
            <a:ext cx="8817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 in the circulation as the end product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LD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red to VLD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t contains only apo B-100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maller size and more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ss 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ore cholesterol &amp;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cholesterol from liver to peripher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LDL at tissue leve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DL receptor-mediated endocytosis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ognized by apo B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862280" y="5711760"/>
            <a:ext cx="508500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Receptor-Mediated End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recept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ell surface glycoprotei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-affinity, tight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/Receptor binding and internalization of the complex by endocy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ease of cholesterol inside the cells for: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tilizatio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orage as cholesterol ester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f L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o amino acids, phospholipids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r recycl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LDL Receptor-Mediated Endocytosis: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wn-regul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 intracellular cholesterol con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gradation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Inhibi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de novo synthesis of cholestero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-regulation:</a:t>
            </a:r>
            <a:br>
              <a:rPr sz="32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ow intracellular cholesterol content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ycling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Stimula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de novo synthesis of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5T04:57:21Z</dcterms:modified>
  <cp:revision>12</cp:revision>
  <dc:subject/>
  <dc:title>PowerPoint Presentation</dc:title>
</cp:coreProperties>
</file>