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1AE9-4E29-441F-80D6-096FF962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CC5-2560-4A33-AD25-6CE12515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10E-CCF5-4A9F-B0CB-12D58457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A3F8-AA56-4B0E-8B58-0CCD3AEC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6D1-1115-41BE-A5B8-7D4B092C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7F4-C649-4148-913C-1212D7F5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3197-A8A9-4DD7-BA88-69B20B1B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D077-CFE4-4BA1-AC47-5FB57EDA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DC19-85A2-41E8-81E4-C79149F0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C16-41C0-4A90-B311-600F429C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B47D-6E66-422C-9964-461D852E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A8C5-807D-45F0-97AD-E4A255A0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2FB7-118C-4485-B44F-8B130B03C0D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8_023"/>
          <p:cNvPicPr/>
          <p:nvPr/>
        </p:nvPicPr>
        <p:blipFill>
          <a:blip r:embed="rId1"/>
          <a:srcRect l="15002" t="48062" r="19167" b="15506"/>
          <a:stretch/>
        </p:blipFill>
        <p:spPr>
          <a:xfrm>
            <a:off x="990720" y="1546200"/>
            <a:ext cx="7391160" cy="4397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2162880" y="442800"/>
            <a:ext cx="52070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H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1011600" y="6095880"/>
            <a:ext cx="47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C = Phosphatidylcholine/Lec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High Density Lipoproteins (HD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duced by intestine and l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scent HDL: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isk-shaped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ntains apo A-I, C-II and E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ntains primarily phospholipid (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ure HDL (HDL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irst, HDL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llect cholesterol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onverts cholesterol to cholesterol ester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pherical mature particle HDL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Functions of H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servoir of apoproteins</a:t>
            </a:r>
            <a:br>
              <a:rPr sz="32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.g., Apo C-II and E to VL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ptake of cholesterol:</a:t>
            </a:r>
            <a:br>
              <a:rPr sz="32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rom other lipoproteins &amp; cell membr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HDL is suitable for uptake of cholesterol because of high content of PC that can both solublizes cholesterol and acts as a source of fatty acid for cholesterol ester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sterification of cholesterol:</a:t>
            </a:r>
            <a:br>
              <a:rPr sz="32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nzyme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CAT/LCAT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tivator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Apo A-I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bstrate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Cholesterol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-substrate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PC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t: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Cholesterol ester (&amp; Lyso-P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Why Is HDL a Good Cholesterol carri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spcAft>
                <a:spcPts val="9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verse relation between plasma HDL levels and atherosclerosis …. H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spcAft>
                <a:spcPts val="9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verse cholesterol transport involves:</a:t>
            </a:r>
            <a:br>
              <a:rPr sz="36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fflux of cholesterol from peripheral tissues and other lipoproteins to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DL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sterification of cholesterol &amp; binding of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DL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to liver and stroidogenic cells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y scavenger receptor class B (SR-B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elective transfer of cholesterol ester into these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lease of lipid-depleted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DL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430720" y="609480"/>
            <a:ext cx="410508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Atheroscl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04920" y="1600200"/>
            <a:ext cx="84582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athogene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dified (oxidized) LDL …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xidative st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ptake of oxLDL by macrophage scavenger receptor: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cavenger receptor class A (SR-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-affinity, non-specific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n-regulated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am cell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herosclerotic plaqu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18_022"/>
          <p:cNvPicPr/>
          <p:nvPr/>
        </p:nvPicPr>
        <p:blipFill>
          <a:blip r:embed="rId1"/>
          <a:srcRect l="13333" t="2223" r="10002" b="12221"/>
          <a:stretch/>
        </p:blipFill>
        <p:spPr>
          <a:xfrm>
            <a:off x="1219320" y="0"/>
            <a:ext cx="7010280" cy="5867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1046160" y="6019920"/>
            <a:ext cx="7315200" cy="761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Athersclerotic plaque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-533880" y="380880"/>
            <a:ext cx="101307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Laboratory Investigation of Atheroscler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04920" y="1295280"/>
            <a:ext cx="84582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erum lipid profi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-12 hours (O/N) fa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easurement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triglyceride level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reflect chylomicron and VLDL lev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total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holestero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reflect LDL and HDL lev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HDL-cholesterol level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LDL-cholesterol level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thers,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lipoprotein electroph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erum apoprotein levels e.g., apo-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862640" y="609480"/>
            <a:ext cx="545544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LDL-related Dis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04920" y="160020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yperlipoproteinem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Type IIa Hyperlipoprotei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Familial hypercholestrolem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unctional defect of LDL-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crease plasma LDL level &amp; therefore, plasma cholestero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e-mature atherosclerosis and increa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isk for early-onset ischemic heart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ssociated with the presence of tendon xanthomas on hands and ank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640" y="914040"/>
            <a:ext cx="8839080" cy="1219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Lipoproteins and Atherosclero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84360" y="4124160"/>
            <a:ext cx="81039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1523880"/>
            <a:ext cx="914400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key element for cholesterol homeostasis is the balance between: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holesterol transport from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liver to peripheral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tissues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by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DL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(bad cholesterol carr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verse cholesterol transpor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from peripheral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ssues to liver b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HD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good cholesterol carr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8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mbalance results in cholesterol deposition in the wall of blood vessels, thickening of the wall and narrowing of the lumen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“Atherosclerosi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2337480" y="380880"/>
            <a:ext cx="4551480" cy="9169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Impact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18_019"/>
          <p:cNvPicPr/>
          <p:nvPr/>
        </p:nvPicPr>
        <p:blipFill>
          <a:blip r:embed="rId1"/>
          <a:srcRect l="35002" t="37305" r="34170" b="14585"/>
          <a:stretch/>
        </p:blipFill>
        <p:spPr>
          <a:xfrm>
            <a:off x="5257800" y="1523880"/>
            <a:ext cx="3648240" cy="5029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1143000" y="380880"/>
            <a:ext cx="7010280" cy="9144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Composition of LDL and HD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52280" y="3200400"/>
            <a:ext cx="58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igh density lipoprotein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(H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stly cholesterol e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re %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re % phospho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04920" y="1523880"/>
            <a:ext cx="601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ow density lipoprotein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(L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Mostly free cholester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523880" y="533520"/>
            <a:ext cx="6629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Low Density Lipoproteins (LD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58400" y="1905120"/>
            <a:ext cx="8817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roduced in the circulation as the end product of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LD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pared to VLD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t contains only apo B-100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maller size and more d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ess T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More cholesterol &amp; cholesterol 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ransport cholesterol from liver to peripheral t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ptake of LDL at tissue level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DL receptor-mediated endocytosis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cognized by apo B-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8_017"/>
          <p:cNvPicPr/>
          <p:nvPr/>
        </p:nvPicPr>
        <p:blipFill>
          <a:blip r:embed="rId1"/>
          <a:srcRect l="11668" t="0" r="12503" b="22226"/>
          <a:stretch/>
        </p:blipFill>
        <p:spPr>
          <a:xfrm>
            <a:off x="1066680" y="228600"/>
            <a:ext cx="6934320" cy="5334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1862280" y="5711760"/>
            <a:ext cx="508500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LDL Metabol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8_020"/>
          <p:cNvPicPr/>
          <p:nvPr/>
        </p:nvPicPr>
        <p:blipFill>
          <a:blip r:embed="rId1"/>
          <a:srcRect l="4168" t="5257" r="4168" b="10643"/>
          <a:stretch/>
        </p:blipFill>
        <p:spPr>
          <a:xfrm>
            <a:off x="380880" y="0"/>
            <a:ext cx="8382240" cy="60958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1"/>
          <p:cNvSpPr/>
          <p:nvPr/>
        </p:nvSpPr>
        <p:spPr>
          <a:xfrm>
            <a:off x="685800" y="6172200"/>
            <a:ext cx="7848720" cy="60948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LDL: Receptor-Mediated 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Impact"/>
              </a:rPr>
              <a:t>Receptor-Mediated Endocy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DL receptor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Cell surface glycoprotein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igh-affinity, tightly reg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DL/Receptor binding and internalization of the complex by endocyt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lease of cholesterol inside the cells for: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Utilization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torage as cholesterol ester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x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gradation of LDL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o amino acids, phospholipids and fatty 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gradation or recycling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of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Impact"/>
              </a:rPr>
              <a:t>LDL Receptor-Mediated Endocytosis: Reg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own-regulation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igh intracellular cholesterol cont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gradation of LDL receptors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Inhibition of recepotor synthesis at gene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ecrease No. of receptor at cell surface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crease further uptake of LDL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ecrease de novo synthesis of cholesterol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p-regulation:</a:t>
            </a:r>
            <a:br>
              <a:rPr sz="32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Low intracellular cholesterol content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cycling of LDL receptors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Stimulation of recepotor synthesis at gene leve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crease No. of receptor at cell surface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crease further uptake of LDL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crease de novo synthesis of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1-04-05T04:57:21Z</dcterms:modified>
  <cp:revision>12</cp:revision>
  <dc:subject/>
  <dc:title>PowerPoint Presentation</dc:title>
</cp:coreProperties>
</file>