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02D-9C09-4470-A2A9-05B8E3A7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6A8D-378D-4319-A04F-A47AA73D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C75-937E-44E1-B7BD-F67FBFB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D86-765B-42B6-B184-70FF7D44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96F-B1ED-4254-A22E-6B54EB4A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3A9-B719-4AEA-93A9-4647B2B3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0DA-8A1B-4450-BB00-34E205DE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9527-D609-46E4-827F-8A2F4763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999-36DE-47CD-9708-2A3B3F8B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A20E-6871-4B73-A863-6DCA554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ADB-F22F-4BE2-8E46-73CB9843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7BC-B392-41B7-B3EE-B0099ADC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D93F-AC48-42B7-9671-09CE2EC8C43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681280" y="76320"/>
            <a:ext cx="45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Glutathion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13_006"/>
          <p:cNvPicPr/>
          <p:nvPr/>
        </p:nvPicPr>
        <p:blipFill>
          <a:blip r:embed="rId1"/>
          <a:srcRect l="25205" t="0" r="17375" b="26800"/>
          <a:stretch/>
        </p:blipFill>
        <p:spPr>
          <a:xfrm>
            <a:off x="2438280" y="719280"/>
            <a:ext cx="5029200" cy="49989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6507360" y="487692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Times New Roman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407680" y="3965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33520" y="5710320"/>
            <a:ext cx="8305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*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2d2db9"/>
                </a:solidFill>
                <a:latin typeface="Times New Roman"/>
              </a:rPr>
              <a:t>Glucose-6-phosphate dehydrogenase  (G-6-PD) is the main source for NADPH generation and is, therefore, essential for proper function of glutathion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2"/>
          <p:cNvSpPr/>
          <p:nvPr/>
        </p:nvSpPr>
        <p:spPr>
          <a:xfrm>
            <a:off x="519120" y="822240"/>
            <a:ext cx="80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Biochemical Basi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G6PD Deficiency 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13_010"/>
          <p:cNvPicPr/>
          <p:nvPr/>
        </p:nvPicPr>
        <p:blipFill>
          <a:blip r:embed="rId1"/>
          <a:srcRect l="5615" t="4249" r="3594" b="42160"/>
          <a:stretch/>
        </p:blipFill>
        <p:spPr>
          <a:xfrm>
            <a:off x="685800" y="2492280"/>
            <a:ext cx="80773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Molecular &amp; Vascular Effects of R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Mole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Lipid peroxidatio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oly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Protein den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activation of enzy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NA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ell signaling effects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e.g., release of Ca</a:t>
            </a:r>
            <a:r>
              <a:rPr b="1" lang="en-US" sz="2400" spc="-1" strike="noStrike" baseline="30000">
                <a:solidFill>
                  <a:srgbClr val="3333cc"/>
                </a:solidFill>
                <a:latin typeface="Times New Roman"/>
              </a:rPr>
              <a:t>2+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from intracellular st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ytoskeletal da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Chemotax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cular 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ltered vascular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creased endothelial cell perme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Nitric Oxide (N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NO: 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Free radical gas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Very short half-lif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seconds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Metabolized into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itrates &amp; nitr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ynthesis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zyme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No synthas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cursor: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L-Argi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ffect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Relaxes vascular smooth muscl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revents platelet aggregation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Bactricidal &amp; Tumoricidal effects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Neurotransmitter in brain </a:t>
            </a:r>
            <a:br>
              <a:rPr sz="2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13_009"/>
          <p:cNvPicPr/>
          <p:nvPr/>
        </p:nvPicPr>
        <p:blipFill>
          <a:blip r:embed="rId1"/>
          <a:srcRect l="36112" t="0" r="31482" b="12230"/>
          <a:stretch/>
        </p:blipFill>
        <p:spPr>
          <a:xfrm>
            <a:off x="6172200" y="90360"/>
            <a:ext cx="26668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Impact"/>
              </a:rPr>
              <a:t>Oxidative Stress: Role of Nitric Oxide (NO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ay be both beneficial and detrimental, depending upon when and where NO is released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 produced by endotheli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e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mproving vascular dilation and perfusion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enefici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asodilators such a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itroglyceri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is metabolized into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and causes vasodila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ontrast, NO production by neuronal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or by the inducible form of NOS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has been reported to have detrimental eff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ed iNOS activity is generally associated with inflammatory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14400" y="152280"/>
            <a:ext cx="7391520" cy="1312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Pathogenesis of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28600" y="838080"/>
            <a:ext cx="8763120" cy="59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odified (oxidized) LDL …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Oxidative stress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(imbalance between oxidants and antioxida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ndothelial injury of arterial 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dherence of monocytes to endothelial cells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and their movement into intima where it becomes macroph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ptake of oxLDL by macrophage scavenger receptor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cavenger receptor class A (SR-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-affinity, non-specific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n-regulated recep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am cell transformation: Accumulation of excess lipids inside the cell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unregulated recep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therosclerotic plaqu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18_022"/>
          <p:cNvPicPr/>
          <p:nvPr/>
        </p:nvPicPr>
        <p:blipFill>
          <a:blip r:embed="rId1"/>
          <a:srcRect l="13333" t="2223" r="10002" b="12221"/>
          <a:stretch/>
        </p:blipFill>
        <p:spPr>
          <a:xfrm>
            <a:off x="1219320" y="0"/>
            <a:ext cx="7010280" cy="58672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1046160" y="6019920"/>
            <a:ext cx="7315200" cy="761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Athersclerotic plaque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57200" y="14479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Compare to physiological uptak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 (unmodifie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by </a:t>
            </a:r>
            <a:r>
              <a:rPr b="1" lang="en-US" sz="3600" spc="-1" strike="noStrike">
                <a:solidFill>
                  <a:srgbClr val="3333cc"/>
                </a:solidFill>
                <a:latin typeface="Impact"/>
              </a:rPr>
              <a:t>high-affinity, specific &amp; tightly regu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Impact"/>
              </a:rPr>
              <a:t>LDL-Recep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8_020"/>
          <p:cNvPicPr/>
          <p:nvPr/>
        </p:nvPicPr>
        <p:blipFill>
          <a:blip r:embed="rId1"/>
          <a:srcRect l="4168" t="5257" r="4168" b="10643"/>
          <a:stretch/>
        </p:blipFill>
        <p:spPr>
          <a:xfrm>
            <a:off x="380880" y="0"/>
            <a:ext cx="838224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685800" y="6172200"/>
            <a:ext cx="7848720" cy="60948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Impact"/>
              </a:rPr>
              <a:t>LDL: Receptor-Mediated Endocy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9320" y="914040"/>
            <a:ext cx="8381880" cy="1219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Oxidative Stress and Atheroscler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4124160"/>
            <a:ext cx="8103960" cy="764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.D.; Ph.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 condition in which cells are subjected to excessive levels of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Reactive Species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(Oxygen or Nitrative species) &amp; they are unable to counterbalance their deleterious effects with antioxid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t has been implicated in the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ge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cess &amp; in many diseases (e.g.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 and coronary heart diseases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2836080" y="304920"/>
            <a:ext cx="37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Oxidative St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94000" y="1752480"/>
            <a:ext cx="7976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damage to: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rotei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pids (unsaturated fatty aci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Oxidative stress and dis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nflammatory conditions e.g., Rheumatoid arthr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thersclerosis and coronary heart dis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an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6PD deficiency hemolytic anem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066680" y="83808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Imbalance between oxidant produ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nd antioxidant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Passport1001001"/>
          <p:cNvPicPr/>
          <p:nvPr/>
        </p:nvPicPr>
        <p:blipFill>
          <a:blip r:embed="rId1"/>
          <a:stretch/>
        </p:blipFill>
        <p:spPr>
          <a:xfrm>
            <a:off x="838080" y="533520"/>
            <a:ext cx="747396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1219320" y="83808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Reactive Oxygen Species (R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13_005"/>
          <p:cNvPicPr/>
          <p:nvPr/>
        </p:nvPicPr>
        <p:blipFill>
          <a:blip r:embed="rId1"/>
          <a:srcRect l="4604" t="4249" r="0" b="77453"/>
          <a:stretch/>
        </p:blipFill>
        <p:spPr>
          <a:xfrm>
            <a:off x="719280" y="1828800"/>
            <a:ext cx="7891200" cy="2971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587600" y="4876920"/>
            <a:ext cx="608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xygen-derived free radicals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.g., Superoxide and hydroxyl rad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Non-free radical: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301040" y="838080"/>
            <a:ext cx="64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Antioxidant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13_005"/>
          <p:cNvPicPr/>
          <p:nvPr/>
        </p:nvPicPr>
        <p:blipFill>
          <a:blip r:embed="rId1"/>
          <a:srcRect l="4604" t="22553" r="1578" b="47385"/>
          <a:stretch/>
        </p:blipFill>
        <p:spPr>
          <a:xfrm>
            <a:off x="228600" y="1981080"/>
            <a:ext cx="8839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ROS: Types and Sour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Free radical: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Superoxid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OH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 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Peroxyl radical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ROO</a:t>
            </a:r>
            <a:r>
              <a:rPr b="1" lang="en-US" sz="2400" spc="-1" strike="noStrike" baseline="5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Non free radical: </a:t>
            </a:r>
            <a:br>
              <a:rPr sz="28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Hydrogen peroxide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During course of metabolism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.g.,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uto-oxidation of hemoglobin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and xanthine oxidase</a:t>
            </a:r>
            <a:br>
              <a:rPr sz="24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Fenton reaction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, 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OH</a:t>
            </a:r>
            <a:r>
              <a:rPr b="1" lang="en-US" sz="2800" spc="-1" strike="noStrike" baseline="50000">
                <a:solidFill>
                  <a:srgbClr val="c00000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By partial reduction of molecular oxygen in electron transport chain in mitochond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ngestion of toxins, chemicals or dr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Straight Connector 6"/>
          <p:cNvSpPr/>
          <p:nvPr/>
        </p:nvSpPr>
        <p:spPr>
          <a:xfrm flipH="1">
            <a:off x="3450960" y="189072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traight Connector 7"/>
          <p:cNvSpPr/>
          <p:nvPr/>
        </p:nvSpPr>
        <p:spPr>
          <a:xfrm flipH="1">
            <a:off x="2557080" y="4753080"/>
            <a:ext cx="1522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traight Connector 8"/>
          <p:cNvSpPr/>
          <p:nvPr/>
        </p:nvSpPr>
        <p:spPr>
          <a:xfrm flipH="1">
            <a:off x="1938240" y="5726160"/>
            <a:ext cx="15264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Impact"/>
              </a:rPr>
              <a:t>Antioxida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Enzy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peroxide dismut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ta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lutathione system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(glutathione, NADPH, reductase, peroxidase  &amp; selenium)</a:t>
            </a:r>
            <a:br>
              <a:rPr sz="2400"/>
            </a:b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Vitami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C (ascorbic ac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A and </a:t>
            </a:r>
            <a:r>
              <a:rPr b="1" lang="el-GR" sz="2400" spc="-1" strike="noStrike">
                <a:solidFill>
                  <a:srgbClr val="c00000"/>
                </a:solidFill>
                <a:latin typeface="Verdana"/>
              </a:rPr>
              <a:t>β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-carot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Vitamin E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race el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ele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2-03-31T14:31:35Z</dcterms:modified>
  <cp:revision>31</cp:revision>
  <dc:subject/>
  <dc:title>PowerPoint Presentation</dc:title>
</cp:coreProperties>
</file>