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5F5-EB59-4CA7-8667-11A30A5F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0F6-A1C6-4F1C-BC9F-DD898788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94C-F02B-4197-91DD-827A6E3E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C0E-DD6E-4AA2-B19A-8CFD13D5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58ED-DA5D-49C3-BB60-5E5FBC48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F61F-6727-4C31-B173-B72DA512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EA65-7F8C-4A0B-B0AD-FDF5C1D5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875B-2981-41CC-A9CD-A2E69D0D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80E9-F836-4AED-9800-0C5749D7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2EED-FD3D-42D6-AD3B-396F6F35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CF39-39F1-40DF-BB3B-9F3186C9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961-BBAD-48CB-8C69-17B32C3F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E077-EEAC-46F2-857B-A9922074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0739-19BD-4F00-8349-B8DD5C8C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6BB3-9996-4EBA-9446-71E97FC3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9FB1-EB7C-4509-94F8-250D5957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F1F3-0353-40CF-BA47-58B38776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E22-41FA-463D-B96C-051E8B45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88C-948C-4717-8CE7-8144D454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338-00E1-4FB8-B931-D157E50C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8E2-DDC0-409E-BFC9-15AB46B6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46D-3DFE-4398-99E3-C33ED9E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F79-D7B0-4B7D-AEE9-781AD5E2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BBF-2615-4CD1-8507-EEE8839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9CC0-4412-40D3-BA75-19E3F2548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526A-BE39-4538-8D47-BC478134E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icture1"/>
          <p:cNvPicPr/>
          <p:nvPr/>
        </p:nvPicPr>
        <p:blipFill>
          <a:blip r:embed="rId1"/>
          <a:srcRect l="0" t="932" r="0" b="50716"/>
          <a:stretch/>
        </p:blipFill>
        <p:spPr>
          <a:xfrm>
            <a:off x="533520" y="1371600"/>
            <a:ext cx="811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bicarbonate conc. in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 in gastric fluid due to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sodium bicarbo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deficiency as a result of diuretic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ventilation (depressed breath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s P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compensate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iratory ar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usion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icture1"/>
          <p:cNvPicPr/>
          <p:nvPr/>
        </p:nvPicPr>
        <p:blipFill>
          <a:blip r:embed="rId1"/>
          <a:srcRect l="0" t="48113" r="0" b="5899"/>
          <a:stretch/>
        </p:blipFill>
        <p:spPr>
          <a:xfrm>
            <a:off x="571680" y="1752480"/>
            <a:ext cx="811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vated conc. of plasma lactate is called 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s eithe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ilure of circulatory system (hypox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carbohydrate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ody tissues produce ~ 1500 mmoles of lactate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actate enters blood stream and metabolized mainly by the liver (Cori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issues can produce lactate under anaerobic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yruvate is converted to lactate by lactate dehydrogen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5120" y="102060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Pyruvate + NADH + H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267080" y="2286000"/>
            <a:ext cx="0" cy="990720"/>
          </a:xfrm>
          <a:prstGeom prst="line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25360" y="391644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Lactate + NAD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5240" y="25146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Lactate dehydro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lycogen_Cori_cycle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278160" y="541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The Cori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keletal muscles produce high amounts of lactate during vigorous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ate is metabolized in liver (60%) and kidney (30%) to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lactate is metabolized to CO2 and water (Krebs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chanisms involved in lactic aci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 can occu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ive tissue lactate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hepatic metabolism of lac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 to metabolic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 and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tate metabolism in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chanisms involved in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ypes and causes of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agnosis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hypoxia in tissues (most com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xia causes impaired oxidative phosphorylation and decreased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rvive, the cells switch to anaerobic glycolysis for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roduces lactate as a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oxygen required to recover from oxygen deficiency is called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xygen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 is due to inadequate supply of oxygen to tissue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lmonary e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ontrolled hemorrh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ssue hypoperfusion (shock, cardiac arrest, acute heart failu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erobic muscular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disorders in carbohydrat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nital lactic acidosis is due to deficiency of pyruvate dehydrogenase enz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hepatic disease accompanied by shock or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done by measuring blood lactat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yperlactemi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–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lactic acidosis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cting the underly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oring adequate tissu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ing sodium bicarbo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-bas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s in bicarbonate conc. in the extracellular fluid (ECF) cause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 due to high conc. or 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lea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rcRect l="12617" t="3170" r="0" b="3458"/>
          <a:stretch/>
        </p:blipFill>
        <p:spPr>
          <a:xfrm>
            <a:off x="1981080" y="228600"/>
            <a:ext cx="445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3"/>
          <p:cNvPicPr/>
          <p:nvPr/>
        </p:nvPicPr>
        <p:blipFill>
          <a:blip r:embed="rId1"/>
          <a:srcRect l="6326" t="7132" r="6130" b="5573"/>
          <a:stretch/>
        </p:blipFill>
        <p:spPr>
          <a:xfrm>
            <a:off x="685800" y="1077840"/>
            <a:ext cx="7467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tion in bicarbonate conc. of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duc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rugs metabolized t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excre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nion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the difference between the sum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cations)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um of Cl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n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s in assessing acid-ba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anion gap: 3-11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: &gt;11 mEq/L (acid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anion gap: &lt;3 mEq/L (alkal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 occur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tubular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Hyperventi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compensatory physiological response to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nc. stimulates respirator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ventilation: deep, rapid, and gasping respiratory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rhythmia, cardiac ar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consciousness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Sumbul Fatma</dc:creator>
  <dc:description/>
  <dc:language>en-US</dc:language>
  <cp:lastModifiedBy>UG</cp:lastModifiedBy>
  <dcterms:modified xsi:type="dcterms:W3CDTF">2015-03-08T07:43:22Z</dcterms:modified>
  <cp:revision>44</cp:revision>
  <dc:subject/>
  <dc:title>Slide 1</dc:title>
</cp:coreProperties>
</file>