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813-6677-4501-9ED3-13C308F7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D22F-08B0-403A-8C8F-249D285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66B-EC1B-473C-B0B5-88E0E45C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C4CF-09D3-4662-B686-F4EB15D9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2D25-3494-4A63-A520-E5E7BE22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E0A-A131-4D85-AFE2-0C3D50EE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6DB8-893D-4FD9-B7D5-696B2DE7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9F6A-A8A7-4516-80BC-3AF22026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E8EF-7741-4377-992D-FBD54844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3892-3A0B-465E-93BA-3B2643CB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4B6F-4C2A-4CA1-86F6-8DF9879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043-9F65-45DB-9E58-793CBEB3C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1F93-B0D8-442D-9308-5CF00D3B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4F34-FEFD-4B26-8E25-A4BD888D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611D-3BF2-4F0A-84BA-DC5A1E03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2FFE-C05F-4D13-B5C6-27B3F649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7576-4E8B-45E0-9F01-1F3F963D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2916-FEE6-4BFC-81ED-767994D42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74F9-CE4C-49A7-A1E6-F02EDE52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B40-5530-4590-9BF4-FAD111C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625-C6D2-4E55-99F4-C7A8DA10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586-FEA5-4281-8DE9-F4CD72A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476-0427-479D-AF80-5515738B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E40-CE69-4CF4-A298-74DFEF34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7D72-D144-4833-B5C0-702E28042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DA2B-E302-4903-8F13-96F88A892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UG</cp:lastModifiedBy>
  <dcterms:modified xsi:type="dcterms:W3CDTF">2015-03-08T07:43:22Z</dcterms:modified>
  <cp:revision>44</cp:revision>
  <dc:subject/>
  <dc:title>Slide 1</dc:title>
</cp:coreProperties>
</file>