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5106-E84C-4BB8-8BD9-123C08E2A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042B-4979-4344-88E0-A4598AF316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BAFA-0152-4BE3-9340-D3451909493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4EC4-9D3D-4D8F-BF84-99DBF6D991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8120-05E1-4875-9A35-4ACA61FF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8621-3DE6-4C59-A51D-966687BD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FD26-5FA2-45B8-AD7B-0232B23A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D1A3-3746-48B9-9342-17ECC5E55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A904-5706-458A-9D8B-B6798888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44F97-7B71-4313-B60E-90DF58DB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98FE-8768-43D6-A163-CE48DAD8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41DC-3BE0-4844-A238-D03BE565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75FC-FB87-4D54-8E09-70BF8A9B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2EFC-7025-4D73-91EC-7692A973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DC67-A7F5-4FB8-B7F6-5BD96EB8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473-3410-4368-8515-716B78D7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7AE1-E1F7-4055-B3FC-7A20EA55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17D4-5674-4F77-B546-338A7E3E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C500-FB9A-4B64-89FB-0BC86D16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B64A-5D84-47C0-9700-4728CBF31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5FCC-5089-431F-9B5D-C5715B56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0A6-EF2A-4809-9EE4-BB52D72E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111-E458-4345-B1DD-5967E220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8DB-DC56-4EF6-B69C-909E9837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FCD-835F-4D57-987D-4E17682E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FBA-5F7E-4BA9-9A6F-96EC88E4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8095-9ABB-4DCE-BEC7-B82D0FEF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FB93-A469-44D0-871A-3E2E19D5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4239-F965-4F66-8EA8-963BE1D70A2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B53D-E615-40BE-89EB-3A35E49F4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roup_A_streptococcal_infection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1249560" y="2514600"/>
            <a:ext cx="65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Rheumatic Heart Dise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440080" y="4343400"/>
            <a:ext cx="405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mmunology Un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epartment of Path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llege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King Saud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ATHOGENE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heumatic fever  affect the peri-arteriolar connective tissu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believed to be caused b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ntibody cross-re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ross-reactivity is a 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Type II hypersensitivit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reaction and is termed </a:t>
            </a:r>
            <a:r>
              <a:rPr b="0" i="1" lang="en-US" sz="3200" spc="-1" strike="noStrike">
                <a:solidFill>
                  <a:srgbClr val="ffff00"/>
                </a:solidFill>
                <a:latin typeface="Calibri"/>
              </a:rPr>
              <a:t>molecular mimicr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roup A streptococcus pyogenes has a cell wall composed of branched polymers which sometimes contain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"</a:t>
            </a: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M proteins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hat are highly antigeni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antibodi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which the immune system generates against the "</a:t>
            </a: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M protei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" may cross react with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ardiac myofiber protein myosin and smooth muscle cells of arteri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, inducing cytokine release and tissue destr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inflammation occurs through direct attachment of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omple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Fc receptor-mediated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recruitment of neutrophils and macrophag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Image"/>
          <p:cNvPicPr/>
          <p:nvPr/>
        </p:nvPicPr>
        <p:blipFill>
          <a:blip r:embed="rId1"/>
          <a:stretch/>
        </p:blipFill>
        <p:spPr>
          <a:xfrm>
            <a:off x="609480" y="31680"/>
            <a:ext cx="8305920" cy="54594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533520" y="5527800"/>
            <a:ext cx="8458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agram illustrating the two hit theory of rheumatic heart disease. Group A streptococcal infection leads to the production of anti-group A carbohydrate antibody which cross-reacts with the valve endothelium as well as with the myocardium and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p-regulates vascular cell adhesion molecule-1 (VCAM-1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 the valve endothelium. T cells adhere to the VCAM-1 on valve endothelium and extravasate into the valve.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576600" y="471600"/>
            <a:ext cx="184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mage"/>
          <p:cNvPicPr/>
          <p:nvPr/>
        </p:nvPicPr>
        <p:blipFill>
          <a:blip r:embed="rId1"/>
          <a:stretch/>
        </p:blipFill>
        <p:spPr>
          <a:xfrm>
            <a:off x="30240" y="0"/>
            <a:ext cx="9113760" cy="5334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0" y="5257800"/>
            <a:ext cx="9144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agram illustrating the process of initial mimicry which leads t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nuloma formation, gamma interferon production and scarring in the valv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After the initial process has developed inflammation in the valve, other proteins in the valve may then be recognized by the immune system leading potentially t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pitope spreading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responses against other valve proteins such a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imentin and collagen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Molecular mimicry in the autoimmune pathogenesis of rheumatic heart disease” by L. Guilherme; J. Kalil; M.W. Cunningham. </a:t>
            </a:r>
            <a:br>
              <a:rPr sz="1400"/>
            </a:br>
            <a:br>
              <a:rPr sz="14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73960" cy="58438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380880" y="60199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munofluorescent staining of heart muscle with serum obtained from an acute rheumatic fever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athophysiolo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uring a Strep. infection activated antigen presenting cells such as macrophages present the bacterial antigen to helper T cell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lper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 cells subsequently activate self reactive B cell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d induce the production of antibodies against the cell wall of Streptococc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However the antibodies may also react against the myocardium and joints, producing the symptoms of rheumatic fev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tmpa83a24.png"/>
          <p:cNvPicPr/>
          <p:nvPr/>
        </p:nvPicPr>
        <p:blipFill>
          <a:blip r:embed="rId1"/>
          <a:stretch/>
        </p:blipFill>
        <p:spPr>
          <a:xfrm>
            <a:off x="130320" y="152280"/>
            <a:ext cx="8883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1981080" y="27432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nical Pres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Heart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p to 60% of patients with ARF progress to Rheumatic Heart Disease (RH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endocardium, pericardium, or myocardium may be affected (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pancarditi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alvular damage is the hallmark of rheumatic carditis. The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mitral valve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almost always affec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3" descr="Rheumatic_heart_disease%2C_gross_pathology_20G0013_lores.jpg"/>
          <p:cNvPicPr/>
          <p:nvPr/>
        </p:nvPicPr>
        <p:blipFill>
          <a:blip r:embed="rId1"/>
          <a:stretch/>
        </p:blipFill>
        <p:spPr>
          <a:xfrm>
            <a:off x="4495680" y="1752480"/>
            <a:ext cx="4648320" cy="33879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4267080" y="5257800"/>
            <a:ext cx="495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Left ventricle has been cut open to display characteristic severe thickening of mitral valve, thickened chordae tendineae, and hypertrophied left ventricul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ight Arrow 8"/>
          <p:cNvSpPr/>
          <p:nvPr/>
        </p:nvSpPr>
        <p:spPr>
          <a:xfrm>
            <a:off x="5486400" y="34290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ight Arrow 15"/>
          <p:cNvSpPr/>
          <p:nvPr/>
        </p:nvSpPr>
        <p:spPr>
          <a:xfrm>
            <a:off x="5334120" y="373392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ight Arrow 18"/>
          <p:cNvSpPr/>
          <p:nvPr/>
        </p:nvSpPr>
        <p:spPr>
          <a:xfrm>
            <a:off x="4876920" y="43434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understand basis of rheumatic fever as an immunologically mediated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late complicatio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of Streptococcal inf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know that autoimmunity results from production of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ross reacting antibodi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gainst Streptococcal antige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describe rheumatic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art disea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 one of the several manifestations of rheumatic fev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know the signs, symptoms, pathogenesis, treatment and prophylaxis of rheumatic heart disease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Joints (arthritis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s is usually polyarthritis, sometimes </a:t>
            </a: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flitting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from joint to joint (migratory), affecting the larger joints more than the smaller on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38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38840" indent="-438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welling, redness and tenderness are the common findings and occasionally joint effusion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flamed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Keen Joi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6" descr="4453-4463-5382-12617"/>
          <p:cNvPicPr/>
          <p:nvPr/>
        </p:nvPicPr>
        <p:blipFill>
          <a:blip r:embed="rId1"/>
          <a:stretch/>
        </p:blipFill>
        <p:spPr>
          <a:xfrm>
            <a:off x="4413240" y="2133720"/>
            <a:ext cx="4502160" cy="38862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4267080" y="1981080"/>
            <a:ext cx="914400" cy="4208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Skin (Erythema Marginatum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kin lesio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The classical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rythema marginatum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—lesions with prominent margins slightly rai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7" descr="fig12a"/>
          <p:cNvPicPr/>
          <p:nvPr/>
        </p:nvPicPr>
        <p:blipFill>
          <a:blip r:embed="rId1"/>
          <a:stretch/>
        </p:blipFill>
        <p:spPr>
          <a:xfrm>
            <a:off x="5105520" y="1981080"/>
            <a:ext cx="4043160" cy="487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Erythema-Marginatum-4.jpg"/>
          <p:cNvPicPr/>
          <p:nvPr/>
        </p:nvPicPr>
        <p:blipFill>
          <a:blip r:embed="rId2"/>
          <a:stretch/>
        </p:blipFill>
        <p:spPr>
          <a:xfrm>
            <a:off x="0" y="1981080"/>
            <a:ext cx="5105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Central nervous system (chorea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ydenham's chore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choreiform movements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ffect particularly the head and the upper limb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y may be generalized or restricted to one side of the body (hemi-chorea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rea eventually resolves completely, usually within 6 week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7" descr="Boys-Afflicted-with-Chorea-Known-as-St-Vitus-Dance-or-as-Danse-de-Saint-Guy-in-France-Giclee-Print-C12374586"/>
          <p:cNvPicPr/>
          <p:nvPr/>
        </p:nvPicPr>
        <p:blipFill>
          <a:blip r:embed="rId1"/>
          <a:stretch/>
        </p:blipFill>
        <p:spPr>
          <a:xfrm>
            <a:off x="4648320" y="1676520"/>
            <a:ext cx="42670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Subcutaneous nodu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Subcutaneous nodules :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se are painless, round, firm lumps overlaid by normal looking ski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y range from a few millimeters to 1.5 cm in diameter, and are localized over bony prominences like the elbow, shin and spine.  They sometimes last longer than a mon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7" descr="fig11"/>
          <p:cNvPicPr/>
          <p:nvPr/>
        </p:nvPicPr>
        <p:blipFill>
          <a:blip r:embed="rId1"/>
          <a:stretch/>
        </p:blipFill>
        <p:spPr>
          <a:xfrm>
            <a:off x="5029200" y="1523880"/>
            <a:ext cx="3505320" cy="2670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1949_f1"/>
          <p:cNvPicPr/>
          <p:nvPr/>
        </p:nvPicPr>
        <p:blipFill>
          <a:blip r:embed="rId2"/>
          <a:stretch/>
        </p:blipFill>
        <p:spPr>
          <a:xfrm>
            <a:off x="5029200" y="4267080"/>
            <a:ext cx="3581280" cy="2532240"/>
          </a:xfrm>
          <a:prstGeom prst="rect">
            <a:avLst/>
          </a:prstGeom>
          <a:ln w="0">
            <a:noFill/>
          </a:ln>
        </p:spPr>
      </p:pic>
      <p:sp>
        <p:nvSpPr>
          <p:cNvPr id="153" name="Right Arrow 8"/>
          <p:cNvSpPr/>
          <p:nvPr/>
        </p:nvSpPr>
        <p:spPr>
          <a:xfrm>
            <a:off x="5029200" y="32004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ight Arrow 9"/>
          <p:cNvSpPr/>
          <p:nvPr/>
        </p:nvSpPr>
        <p:spPr>
          <a:xfrm>
            <a:off x="5867280" y="533412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1331341-1331372-1007946-1782447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Investigation of Rheumatic Fev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ti-streptolysin O (ASO) ti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t least 80% of patients with ARF have an elevated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nti-streptolysin O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titer at presen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ising titer is more convinc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nti-DNAse 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Anti-hyaluronidase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Throat culture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for group A streptococci (obtain 2 or 3 culture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Rheumatic Fever – Clinical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ubsequent attac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d vulnerability to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reactivation of disea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th subsequent strep infe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ame symptom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th each atta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arditi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orsens with each atta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art valv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re frequently deformed (mitral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ear failur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velops after deca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Acute, recurring, chronic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ymptoms prone to recur with subsequent Strep. infec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hronic disease leads to fibrosis  (chordae of heart valves + valve cusp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3" descr="MS.bmp"/>
          <p:cNvPicPr/>
          <p:nvPr/>
        </p:nvPicPr>
        <p:blipFill>
          <a:blip r:embed="rId1"/>
          <a:stretch/>
        </p:blipFill>
        <p:spPr>
          <a:xfrm>
            <a:off x="990720" y="2743200"/>
            <a:ext cx="2638440" cy="350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MS_1.bmp"/>
          <p:cNvPicPr/>
          <p:nvPr/>
        </p:nvPicPr>
        <p:blipFill>
          <a:blip r:embed="rId2"/>
          <a:stretch/>
        </p:blipFill>
        <p:spPr>
          <a:xfrm>
            <a:off x="5562720" y="2666880"/>
            <a:ext cx="2489040" cy="35816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152280" y="63244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notic mitral valve seen from left atr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334120" y="63244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pened stenotic mitral val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Donut 8"/>
          <p:cNvSpPr/>
          <p:nvPr/>
        </p:nvSpPr>
        <p:spPr>
          <a:xfrm>
            <a:off x="1219320" y="3048120"/>
            <a:ext cx="2057400" cy="1981080"/>
          </a:xfrm>
          <a:custGeom>
            <a:avLst/>
            <a:gdLst/>
            <a:ahLst/>
            <a:rect l="l" t="t" r="r" b="b"/>
            <a:pathLst>
              <a:path w="2057400" h="1981200">
                <a:moveTo>
                  <a:pt x="0" y="990600"/>
                </a:moveTo>
                <a:cubicBezTo>
                  <a:pt x="0" y="443507"/>
                  <a:pt x="460565" y="0"/>
                  <a:pt x="1028700" y="0"/>
                </a:cubicBezTo>
                <a:cubicBezTo>
                  <a:pt x="1596835" y="0"/>
                  <a:pt x="2057400" y="443507"/>
                  <a:pt x="2057400" y="990600"/>
                </a:cubicBezTo>
                <a:cubicBezTo>
                  <a:pt x="2057400" y="1537693"/>
                  <a:pt x="1596835" y="1981200"/>
                  <a:pt x="1028700" y="1981200"/>
                </a:cubicBezTo>
                <a:cubicBezTo>
                  <a:pt x="460565" y="1981200"/>
                  <a:pt x="0" y="1537693"/>
                  <a:pt x="0" y="990600"/>
                </a:cubicBezTo>
                <a:close/>
                <a:moveTo>
                  <a:pt x="79486" y="990600"/>
                </a:moveTo>
                <a:cubicBezTo>
                  <a:pt x="79486" y="1493794"/>
                  <a:pt x="504464" y="1901714"/>
                  <a:pt x="1028700" y="1901714"/>
                </a:cubicBezTo>
                <a:cubicBezTo>
                  <a:pt x="1552936" y="1901714"/>
                  <a:pt x="1977914" y="1493794"/>
                  <a:pt x="1977914" y="990600"/>
                </a:cubicBezTo>
                <a:cubicBezTo>
                  <a:pt x="1977914" y="487406"/>
                  <a:pt x="1552936" y="79486"/>
                  <a:pt x="1028700" y="79486"/>
                </a:cubicBezTo>
                <a:cubicBezTo>
                  <a:pt x="504464" y="79486"/>
                  <a:pt x="79486" y="487406"/>
                  <a:pt x="79486" y="990600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reatment of 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 first strep throat infection with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enicill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 other manifestations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ymptomatic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phylacti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long term anti-strep therapy given to anyone who has had rheumatic fev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ake home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heumatic heart disease results from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ross reacting antibodi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binding the heart va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eated attacks of Streptococcal throat infection over the years damage heart valves resulting in either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tenotic or incompeten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art va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eatment involves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urgical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placement of the damaged heart valv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patients with rheumatic fever long term administration of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enicillin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recommended for prevention of future infections by group A Streptococcus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Epidemiology of Rheumatic Fever (RF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~3% of persons with untreated group A streptococcal </a:t>
            </a:r>
            <a:r>
              <a:rPr b="0" lang="en-GB" sz="2800" spc="-1" strike="noStrike">
                <a:solidFill>
                  <a:srgbClr val="ffff00"/>
                </a:solidFill>
                <a:latin typeface="Calibri"/>
              </a:rPr>
              <a:t>pharyngitis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 develop rheumatic fev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5-20 million new cases a year in developing countri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Risk fac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w standard of liv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ow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2286000" y="266688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alibri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Individual (HLA) susceptibility is  also importa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tigen-presenting cells bearing 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LA-DR7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molecule from RHD patients preferentially recognize heart-tissue prote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Guilherme L, Kalil J. Ann  N Y Acd Sci    2007,1107:426-43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heumatic fev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an inflammatory disease  which may develop after a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roup A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reptococcal infec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uch a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rep. throat infection or scarlet fev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involve 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eart, joints, skin, and br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commonly appears in children ages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5 through 15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rgan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aused by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group A streptococc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re is a latent period of 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~3 weeks (1–5 weeks)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between the group A streptococcal infection and the appearance of the clinical features of RF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Picture 6" descr="767703_com_streptococ"/>
          <p:cNvPicPr/>
          <p:nvPr/>
        </p:nvPicPr>
        <p:blipFill>
          <a:blip r:embed="rId1"/>
          <a:stretch/>
        </p:blipFill>
        <p:spPr>
          <a:xfrm>
            <a:off x="4114800" y="1600200"/>
            <a:ext cx="502920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Group A </a:t>
            </a:r>
            <a:r>
              <a:rPr b="0" lang="en-GB" sz="4000" spc="-1" strike="noStrike">
                <a:solidFill>
                  <a:srgbClr val="ffff00"/>
                </a:solidFill>
                <a:latin typeface="Symbol"/>
                <a:ea typeface="Symbol"/>
              </a:rPr>
              <a:t></a:t>
            </a:r>
            <a:r>
              <a:rPr b="0" lang="en-GB" sz="4000" spc="-1" strike="noStrike">
                <a:solidFill>
                  <a:srgbClr val="ffff00"/>
                </a:solidFill>
                <a:latin typeface="Calibri"/>
              </a:rPr>
              <a:t>haemolytic streptococc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All cases associated with recent infection (e.g. pharyngit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alibri"/>
              </a:rPr>
              <a:t>Antibody and cellular immune response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cross-reacts with human connective tiss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26" descr="strept"/>
          <p:cNvPicPr/>
          <p:nvPr/>
        </p:nvPicPr>
        <p:blipFill>
          <a:blip r:embed="rId1"/>
          <a:srcRect l="7846" t="4539" r="6866" b="10021"/>
          <a:stretch/>
        </p:blipFill>
        <p:spPr>
          <a:xfrm>
            <a:off x="0" y="34920"/>
            <a:ext cx="9144000" cy="5985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27"/>
          <p:cNvSpPr/>
          <p:nvPr/>
        </p:nvSpPr>
        <p:spPr>
          <a:xfrm>
            <a:off x="533520" y="6124680"/>
            <a:ext cx="80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imishikavi S,  Stead L  Streptococcal Pharyngitis – Images in Clinical Medicine.   NEJM 2005: 352:e1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241200" y="0"/>
            <a:ext cx="729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M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ttachment &amp; interferes with host immun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8680" y="1339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236840" y="990720"/>
            <a:ext cx="481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Hyaluronic acid caps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mouflages the bacte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17800" y="1644480"/>
            <a:ext cx="364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Comic Sans MS"/>
              </a:rPr>
              <a:t>Streptokin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Dissolves blood cl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64880" y="2590920"/>
            <a:ext cx="828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33"/>
                </a:solidFill>
                <a:uFillTx/>
                <a:latin typeface="Comic Sans MS"/>
              </a:rPr>
              <a:t>Peptid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Comic Sans MS"/>
              </a:rPr>
              <a:t>Degrades proteins involved in immun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16840" y="3505320"/>
            <a:ext cx="50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ece1"/>
                </a:solidFill>
                <a:uFillTx/>
                <a:latin typeface="Comic Sans MS"/>
              </a:rPr>
              <a:t>Pyrogenic 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omic Sans MS"/>
              </a:rPr>
              <a:t>Stimulate fever, rash &amp; sh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97080" y="4267080"/>
            <a:ext cx="692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ff"/>
                </a:solidFill>
                <a:uFillTx/>
                <a:latin typeface="Comic Sans MS"/>
              </a:rPr>
              <a:t>Streptolys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Lyse erythrocytes, leukocytes &amp; plate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914400" y="52578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Post streptococcal glomerulonephritis is caused by streptococcal antigen-antibody immune complexes (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Comic Sans MS"/>
              </a:rPr>
              <a:t>Type III hypersensitivity reaction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2:43:46Z</dcterms:created>
  <dc:creator>DR. ZAHID</dc:creator>
  <dc:description/>
  <dc:language>en-US</dc:language>
  <cp:lastModifiedBy>ZAHID</cp:lastModifiedBy>
  <dcterms:modified xsi:type="dcterms:W3CDTF">2015-02-18T06:11:14Z</dcterms:modified>
  <cp:revision>161</cp:revision>
  <dc:subject/>
  <dc:title>Slide 1</dc:title>
</cp:coreProperties>
</file>