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A9A1-41C9-4562-9D41-06FE61240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8535-E0AF-4958-B806-98E9383753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B163-CD4A-4D1D-9582-350BD8DE40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EAED-E8D9-4787-95D0-91B3132672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5F8-D91F-4AE3-A314-7DA3643E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4B4-E46C-415C-9083-17A4AC6F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312-B16D-48EB-B2AE-3B0C94C4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0FB-62BF-43B4-8067-837D9F3B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146-8466-4466-83CB-5EEAAEC5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3A5-D70B-4D58-B34E-9CEE6394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10EA-4FE0-4D36-9F63-B4C026D8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E84-34D2-4134-82C4-CC43368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617B-BEEC-43EB-8765-32BCBB7B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46F0-34B3-4213-9627-6A9A4A5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D29F-2144-420D-A8D9-52388DE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368-A457-4B71-8958-6503020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16C3-46B6-4BF9-81A7-723A759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16B4-9944-45A1-A9A1-639BB07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E9DD-5792-438E-B505-735D2C3F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72A3-DD4B-4D19-B7DF-8D9AF518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1C91-1499-4C94-99AA-3D1C2528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A91-A4D5-42D2-BF6C-5296442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9C8-2C0F-4660-B3C7-374B47EC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70B-4878-49F1-9767-A41F3B6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EDD-A690-4FE8-8C25-32172E3D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691-BE10-42D6-ABD2-5F5B8A8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ADD-1F5E-4424-90C0-4E634C97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79A-8E4A-4F52-BE6A-69E2CB6D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DC70-BDA4-4E6B-BE99-855FECF22C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8DD-FB42-4DC5-9F78-BD6F1E99D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oup_A_streptococcal_infection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249560" y="251460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heumatic Heart Dise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440080" y="434340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mmunology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partment of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llege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King Saud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heumatic fever  affect the peri-arteriolar connective tissu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believed to be caused b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tibody cross-re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oss-reactivity is a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ype II hypersensitiv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eaction and is termed </a:t>
            </a: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molecular mimicr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up A streptococcus pyogenes has a cell wall composed of branched polymers which sometimes conta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 protein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at are highly antigen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ich the immune system generates against the "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M prote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" may cross react with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ac myofiber protein myosin and smooth muscle cells of arter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inducing cytokine release and tissue de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nflammation occurs through direct attachment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mple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Fc receptor-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cruitment of neutrophils and macrophag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Image"/>
          <p:cNvPicPr/>
          <p:nvPr/>
        </p:nvPicPr>
        <p:blipFill>
          <a:blip r:embed="rId1"/>
          <a:stretch/>
        </p:blipFill>
        <p:spPr>
          <a:xfrm>
            <a:off x="609480" y="31680"/>
            <a:ext cx="8305920" cy="5459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533520" y="55278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two hit theory of rheumatic heart disease. Group A streptococcal infection leads to the production of anti-group A carbohydrate antibody which cross-reacts with the valve endothelium as well as with the myocardium and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p-regulates vascular cell adhesion molecule-1 (VCAM-1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valve endothelium. T cells adhere to the VCAM-1 on valve endothelium and extravasate into the valve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76600" y="471600"/>
            <a:ext cx="184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mage"/>
          <p:cNvPicPr/>
          <p:nvPr/>
        </p:nvPicPr>
        <p:blipFill>
          <a:blip r:embed="rId1"/>
          <a:stretch/>
        </p:blipFill>
        <p:spPr>
          <a:xfrm>
            <a:off x="30240" y="0"/>
            <a:ext cx="9113760" cy="5334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525780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process of initial mimicry which leads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nuloma formation, gamma interferon production and scarring in the valv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After the initial process has developed inflammation in the valve, other proteins in the valve may then be recognized by the immune system leading potentially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pitope spread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responses against other valve proteins such a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imentin and collagen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Molecular mimicry in the autoimmune pathogenesis of rheumatic heart disease” by L. Guilherme; J. Kalil; M.W. Cunningham. </a:t>
            </a:r>
            <a:br>
              <a:rPr sz="1400"/>
            </a:b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73960" cy="58438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unofluorescent staining of heart muscle with serum obtained from an acute rheumatic fev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physi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uring a Strep. infection activated antigen presenting cells such as macrophages present the bacterial antigen to helper T cell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lp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 cells subsequently activate self reactive B cel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induce the production of antibodies against the cell wall of Streptococ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However the antibodies may also react against the myocardium and joints, producing the symptom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tmpa83a24.png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981080" y="2743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nical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Hear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p to 60% of patients with ARF progress to Rheumatic Heart Disease (RH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docardium, pericardium, or myocardium may be affected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pancardit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vular damage is the hallmark of rheumatic carditis. 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mitral val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lmost always affec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3" descr="Rheumatic_heart_disease%2C_gross_pathology_20G0013_lores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3387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267080" y="5257800"/>
            <a:ext cx="495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eft ventricle has been cut open to display characteristic severe thickening of mitral valve, thickened chordae tendineae, and hypertrophied left ventr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ight Arrow 8"/>
          <p:cNvSpPr/>
          <p:nvPr/>
        </p:nvSpPr>
        <p:spPr>
          <a:xfrm>
            <a:off x="5486400" y="34290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ight Arrow 15"/>
          <p:cNvSpPr/>
          <p:nvPr/>
        </p:nvSpPr>
        <p:spPr>
          <a:xfrm>
            <a:off x="5334120" y="37339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>
            <a:off x="4876920" y="4343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understand basis of rheumatic fever as an immunologically 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ate complic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Streptococcal inf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at autoimmunity results from produc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ainst Streptococcal antige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escribe rheumatic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one of the several manifestation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e signs, symptoms, pathogenesis, treatment and prophylaxis of rheumatic heart diseas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Joints (arthriti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is usually polyarthritis, sometimes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flitt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from joint to joint (migratory), affecting the larger joints more than the smaller on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welling, redness and tenderness are the common findings and occasionally joint effus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lam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Keen Joi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6" descr="4453-4463-5382-12617"/>
          <p:cNvPicPr/>
          <p:nvPr/>
        </p:nvPicPr>
        <p:blipFill>
          <a:blip r:embed="rId1"/>
          <a:stretch/>
        </p:blipFill>
        <p:spPr>
          <a:xfrm>
            <a:off x="4413240" y="2133720"/>
            <a:ext cx="450216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4267080" y="1981080"/>
            <a:ext cx="914400" cy="420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Skin (Erythema Marginatum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kin lesio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classical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rythema marginatu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lesions with prominent margins slightly ra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7" descr="fig12a"/>
          <p:cNvPicPr/>
          <p:nvPr/>
        </p:nvPicPr>
        <p:blipFill>
          <a:blip r:embed="rId1"/>
          <a:stretch/>
        </p:blipFill>
        <p:spPr>
          <a:xfrm>
            <a:off x="5105520" y="1981080"/>
            <a:ext cx="404316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Erythema-Marginatum-4.jpg"/>
          <p:cNvPicPr/>
          <p:nvPr/>
        </p:nvPicPr>
        <p:blipFill>
          <a:blip r:embed="rId2"/>
          <a:stretch/>
        </p:blipFill>
        <p:spPr>
          <a:xfrm>
            <a:off x="0" y="1981080"/>
            <a:ext cx="5105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Central nervous system (chore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ydenham's chor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choreiform movement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 particularly the head and the upper limb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may be generalized or restricted to one side of the body (hemi-chore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rea eventually resolves completely, usually within 6 wee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7" descr="Boys-Afflicted-with-Chorea-Known-as-St-Vitus-Dance-or-as-Danse-de-Saint-Guy-in-France-Giclee-Print-C12374586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ubcutaneous nod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ubcutaneous nodules :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painless, round, firm lumps overlaid by normal looking ski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range from a few millimeters to 1.5 cm in diameter, and are localized over bony prominences like the elbow, shin and spine.  They sometimes last longer than a mon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7" descr="fig11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67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1949_f1"/>
          <p:cNvPicPr/>
          <p:nvPr/>
        </p:nvPicPr>
        <p:blipFill>
          <a:blip r:embed="rId2"/>
          <a:stretch/>
        </p:blipFill>
        <p:spPr>
          <a:xfrm>
            <a:off x="5029200" y="4267080"/>
            <a:ext cx="3581280" cy="2532240"/>
          </a:xfrm>
          <a:prstGeom prst="rect">
            <a:avLst/>
          </a:prstGeom>
          <a:ln w="0">
            <a:noFill/>
          </a:ln>
        </p:spPr>
      </p:pic>
      <p:sp>
        <p:nvSpPr>
          <p:cNvPr id="153" name="Right Arrow 8"/>
          <p:cNvSpPr/>
          <p:nvPr/>
        </p:nvSpPr>
        <p:spPr>
          <a:xfrm>
            <a:off x="5029200" y="3200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Arrow 9"/>
          <p:cNvSpPr/>
          <p:nvPr/>
        </p:nvSpPr>
        <p:spPr>
          <a:xfrm>
            <a:off x="5867280" y="53341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331341-1331372-1007946-1782447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vestigation of Rheumatic Fev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streptolysin O (ASO) ti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 least 80% of patients with ARF have an elevat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streptolysin 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iter at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ising titer is more convinc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DNAse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hyaluronidase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roat cultur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r group A streptococci (obtain 2 or 3 cultur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 – Clinical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ubsequent attac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vulnerability t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activation of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subsequent strep inf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ame symptom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ti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sens 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valv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frequently deformed (mit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 fail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s after dec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Acute, recurring, chronic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mptoms prone to recur with subsequent Strep. infe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hronic disease leads to fibrosis  (chordae of heart valves + valve cusp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3" descr="MS.bmp"/>
          <p:cNvPicPr/>
          <p:nvPr/>
        </p:nvPicPr>
        <p:blipFill>
          <a:blip r:embed="rId1"/>
          <a:stretch/>
        </p:blipFill>
        <p:spPr>
          <a:xfrm>
            <a:off x="990720" y="2743200"/>
            <a:ext cx="2638440" cy="350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S_1.bmp"/>
          <p:cNvPicPr/>
          <p:nvPr/>
        </p:nvPicPr>
        <p:blipFill>
          <a:blip r:embed="rId2"/>
          <a:stretch/>
        </p:blipFill>
        <p:spPr>
          <a:xfrm>
            <a:off x="5562720" y="2666880"/>
            <a:ext cx="2489040" cy="3581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52280" y="6324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notic mitral valve seen from left atr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pened stenotic mitral val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Donut 8"/>
          <p:cNvSpPr/>
          <p:nvPr/>
        </p:nvSpPr>
        <p:spPr>
          <a:xfrm>
            <a:off x="1219320" y="3048120"/>
            <a:ext cx="2057400" cy="1981080"/>
          </a:xfrm>
          <a:custGeom>
            <a:avLst/>
            <a:gdLst/>
            <a:ahLst/>
            <a:rect l="l" t="t" r="r" b="b"/>
            <a:pathLst>
              <a:path w="2057400" h="1981200">
                <a:moveTo>
                  <a:pt x="0" y="990600"/>
                </a:moveTo>
                <a:cubicBezTo>
                  <a:pt x="0" y="443507"/>
                  <a:pt x="460565" y="0"/>
                  <a:pt x="1028700" y="0"/>
                </a:cubicBezTo>
                <a:cubicBezTo>
                  <a:pt x="1596835" y="0"/>
                  <a:pt x="2057400" y="443507"/>
                  <a:pt x="2057400" y="990600"/>
                </a:cubicBezTo>
                <a:cubicBezTo>
                  <a:pt x="2057400" y="1537693"/>
                  <a:pt x="1596835" y="1981200"/>
                  <a:pt x="1028700" y="1981200"/>
                </a:cubicBezTo>
                <a:cubicBezTo>
                  <a:pt x="460565" y="1981200"/>
                  <a:pt x="0" y="1537693"/>
                  <a:pt x="0" y="990600"/>
                </a:cubicBezTo>
                <a:close/>
                <a:moveTo>
                  <a:pt x="79486" y="990600"/>
                </a:moveTo>
                <a:cubicBezTo>
                  <a:pt x="79486" y="1493794"/>
                  <a:pt x="504464" y="1901714"/>
                  <a:pt x="1028700" y="1901714"/>
                </a:cubicBezTo>
                <a:cubicBezTo>
                  <a:pt x="1552936" y="1901714"/>
                  <a:pt x="1977914" y="1493794"/>
                  <a:pt x="1977914" y="990600"/>
                </a:cubicBezTo>
                <a:cubicBezTo>
                  <a:pt x="1977914" y="487406"/>
                  <a:pt x="1552936" y="79486"/>
                  <a:pt x="1028700" y="79486"/>
                </a:cubicBezTo>
                <a:cubicBezTo>
                  <a:pt x="504464" y="79486"/>
                  <a:pt x="79486" y="487406"/>
                  <a:pt x="79486" y="990600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reatment of 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first strep throat infection wit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enicill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other manifestation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mptomat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phylact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ong term anti-strep therapy given to anyone who has had rheumatic fe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heumatic heart disease results from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inding the 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eated attacks of Streptococcal throat infection over the years damage heart valves resulting in eith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tenotic or incompet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ment involve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urgica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lacement of the damaged heart valv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patients with rheumatic fever long term administra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enicilli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recommended for prevention of future infections by group A Streptococcus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pidemiology of Rheumatic Fever (RF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~3% of persons with untreated group A streptococcal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pharyngitis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develop rheumatic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-20 million new cases a year in developing countr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w standard of liv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ow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286000" y="26668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dividual (HLA) susceptibility is  also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igen-presenting cells bearing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LA-DR7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lecule from RHD patients preferentially recognize heart-tissue prote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Guilherme L, Kalil J. Ann  N Y Acd Sci    2007,1107:426-4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nflammatory disease  which may develop after a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roup A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reptococcal infe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ch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ep. throat infection or scarlet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involve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art, joints, skin, and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ommonly appears in children age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5 through 1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used b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group A streptococc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a latent period of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~3 weeks (1–5 weeks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etween the group A streptococcal infection and the appearance of the clinical features of RF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6" descr="767703_com_streptococ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Group A </a:t>
            </a:r>
            <a:r>
              <a:rPr b="0" lang="en-GB" sz="4000" spc="-1" strike="noStrike">
                <a:solidFill>
                  <a:srgbClr val="ffff00"/>
                </a:solidFill>
                <a:latin typeface="Symbol"/>
                <a:ea typeface="Symbol"/>
              </a:rPr>
              <a:t></a:t>
            </a: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aemolytic streptococ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ll cases associated with recent infection (e.g. pharyngit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Antibody and cellular immune respons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oss-reacts with human connective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strept"/>
          <p:cNvPicPr/>
          <p:nvPr/>
        </p:nvPicPr>
        <p:blipFill>
          <a:blip r:embed="rId1"/>
          <a:srcRect l="7846" t="4539" r="6866" b="10021"/>
          <a:stretch/>
        </p:blipFill>
        <p:spPr>
          <a:xfrm>
            <a:off x="0" y="3492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533520" y="61246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mishikavi S,  Stead L  Streptococcal Pharyngitis – Images in Clinical Medicine.   NEJM 2005: 352:e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41200" y="0"/>
            <a:ext cx="72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achment &amp; interferes with host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8680" y="133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236840" y="990720"/>
            <a:ext cx="481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Hyaluronic acid caps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mouflages the bacte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17800" y="1644480"/>
            <a:ext cx="364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Streptokin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Dissolves blood c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64880" y="2590920"/>
            <a:ext cx="82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Peptid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Degrades proteins involved in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16840" y="3505320"/>
            <a:ext cx="50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ece1"/>
                </a:solidFill>
                <a:uFillTx/>
                <a:latin typeface="Comic Sans MS"/>
              </a:rPr>
              <a:t>Pyrogenic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omic Sans MS"/>
              </a:rPr>
              <a:t>Stimulate fever, rash &amp;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97080" y="426708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Comic Sans MS"/>
              </a:rPr>
              <a:t>Streptoly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yse erythrocytes, leukocytes &amp; plate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5257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ost streptococcal glomerulonephritis is caused by streptococcal antigen-antibody immune complexes (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Comic Sans MS"/>
              </a:rPr>
              <a:t>Type III hypersensitivity reaction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2:43:46Z</dcterms:created>
  <dc:creator>DR. ZAHID</dc:creator>
  <dc:description/>
  <dc:language>en-US</dc:language>
  <cp:lastModifiedBy>ZAHID</cp:lastModifiedBy>
  <dcterms:modified xsi:type="dcterms:W3CDTF">2015-02-18T06:11:14Z</dcterms:modified>
  <cp:revision>161</cp:revision>
  <dc:subject/>
  <dc:title>Slide 1</dc:title>
</cp:coreProperties>
</file>