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9B12E-29E8-427F-AF86-A21EC366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42C5E-CBB1-4DCA-B014-BF062D93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752D-92B4-4DD4-9B8C-0ED0A35C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3C88E-61BC-42D1-ACE8-229A28DF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EAF2-B4E9-494C-84B2-19BCC19B4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04DE-D203-439F-9ED8-813E82FD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A4BD-F02F-423E-B338-F4B79401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FB6E-18EF-4D84-9B04-1C79D9AF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3CB9-C04B-4A83-A05D-7EC968D7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7E9D7-2A36-4B5F-A22F-FECD366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E22-6FCC-4825-8A22-F853F31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46940-0BDA-4A47-AD4E-A250E309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56D2-BC95-4658-BB77-CB9670EC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A86C-198A-496B-8C2D-0D1FE683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9128-1921-4B41-BFBE-68CDF25AE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8331-BF4B-4626-A2AB-C24681DF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2FF9-BA67-460A-817F-C3D0ACBA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F1D0-90CF-4C2B-BB8E-EEE6FF11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82714-16EC-4F45-98FB-BAB646A1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CD02-FB46-45E2-BE38-665B26DD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45823-58BC-420A-88B5-A8914E28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4776-439C-4FA9-B950-CCFC75D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D7B73-164C-4BFC-BDDA-D8B4775A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FC01-FB75-434E-A4DB-81C9DA6E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EB9B-2F80-4284-94EC-7F78BB1EBD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AEB8-E77C-4249-82B8-8AF61E58D0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920600"/>
          </a:xfrm>
          <a:prstGeom prst="rect">
            <a:avLst/>
          </a:prstGeom>
          <a:solidFill>
            <a:srgbClr val="00248f"/>
          </a:solidFill>
          <a:ln w="9360">
            <a:solidFill>
              <a:srgbClr val="00248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Garamond"/>
                <a:ea typeface="Andalus"/>
              </a:rPr>
              <a:t>Infective Endocarditi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http://www.merckmanuals.com/media/home/figures/MMHE_03_029_01_eps.gif"/>
          <p:cNvPicPr/>
          <p:nvPr/>
        </p:nvPicPr>
        <p:blipFill>
          <a:blip r:embed="rId1"/>
          <a:stretch/>
        </p:blipFill>
        <p:spPr>
          <a:xfrm>
            <a:off x="-3781440" y="333360"/>
            <a:ext cx="2819520" cy="2352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merckmanuals.com/media/home/figures/MMHE_03_029_01_eps.gif"/>
          <p:cNvPicPr/>
          <p:nvPr/>
        </p:nvPicPr>
        <p:blipFill>
          <a:blip r:embed="rId2"/>
          <a:stretch/>
        </p:blipFill>
        <p:spPr>
          <a:xfrm>
            <a:off x="150840" y="-1127160"/>
            <a:ext cx="28195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ORTAL OF ENT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ntal  extraction     bleeding       bacteraemi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ocking the tooth in the socket          pumping effect on the vessels of periodontal  ligament , forces bacteria from gingival pockets into blood stream   40 – 80 % bacteraemi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ensitivity of  blood culture technique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everity of gingival inf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ral  irrigation  dev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NO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aemia  may follow  scaling , tooth brushing, endodontic  therapy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ack of clinical effect of many bacteraemia is due to small number or low virule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They are rapidly cleared by normal body defence ( leucocytes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trept. Faecalis may cause endocarditis after genitourinary or gut proced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CAUSATIVE ORGANIS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Viridans  streptococc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Most common  cause  of  sub- acute bacterial endocarditis  (SB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duce glucagons                   adhere to endocardi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E.g  :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mut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sangu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284720" y="3500280"/>
            <a:ext cx="976320" cy="216000"/>
          </a:xfrm>
          <a:prstGeom prst="rightArrow">
            <a:avLst>
              <a:gd name="adj1" fmla="val 50000"/>
              <a:gd name="adj2" fmla="val 113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4452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faec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faeci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reptococcus  pneumoni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aphylococcus  aureu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cute  endocardit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taphylococcus  epidermid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Prosthetic  heart valv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Brucella  speci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ctinobacillus  actinomycetes comit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Rickettisa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Fung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oxiella burne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andida  albica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ATHOGENE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mation of veget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Fibrin , platelets (thrombi)  , bacteria colonies                     Attached  to heart valv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reak off                  infected emboli              distant organs ( kidney , brain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e  complex  formation causes glomerular  damage               haematuria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alves infection            destruction          heart  failure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rug addicts           tricuspid,pulmonary valves of right  side of heart            lung  emboli           pneumon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556000" y="2924280"/>
            <a:ext cx="1224000" cy="196920"/>
          </a:xfrm>
          <a:prstGeom prst="rightArrow">
            <a:avLst>
              <a:gd name="adj1" fmla="val 50000"/>
              <a:gd name="adj2" fmla="val 15539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3419640" y="4869000"/>
            <a:ext cx="792000" cy="214200"/>
          </a:xfrm>
          <a:prstGeom prst="rightArrow">
            <a:avLst>
              <a:gd name="adj1" fmla="val 50000"/>
              <a:gd name="adj2" fmla="val 924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2987640" y="5805360"/>
            <a:ext cx="614520" cy="216000"/>
          </a:xfrm>
          <a:prstGeom prst="rightArrow">
            <a:avLst>
              <a:gd name="adj1" fmla="val 50000"/>
              <a:gd name="adj2" fmla="val 7112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6227640" y="2924280"/>
            <a:ext cx="976320" cy="260280"/>
          </a:xfrm>
          <a:prstGeom prst="rightArrow">
            <a:avLst>
              <a:gd name="adj1" fmla="val 50000"/>
              <a:gd name="adj2" fmla="val 9377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2411280" y="4292640"/>
            <a:ext cx="976320" cy="270000"/>
          </a:xfrm>
          <a:prstGeom prst="rightArrow">
            <a:avLst>
              <a:gd name="adj1" fmla="val 50000"/>
              <a:gd name="adj2" fmla="val 904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724360" y="580536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6156360" y="4869000"/>
            <a:ext cx="544320" cy="214200"/>
          </a:xfrm>
          <a:prstGeom prst="rightArrow">
            <a:avLst>
              <a:gd name="adj1" fmla="val 50000"/>
              <a:gd name="adj2" fmla="val 6352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CLINICAL 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Onset  is insidious ( SBE) – 3 weeks  after extra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Fever ( mild and prolonged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Malaise  , weight loss , weaknes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Changing murmur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naemia , leucocytos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Microscopic  haematuri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etechia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pleenomega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Splinter haemorrhag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Hypergammaglobulinaemi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ge   young , elder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MORTAL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With antibiotic treatme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3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 mortalit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Virulance of organism or sever infe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esence of underlying diseas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Elderl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nadequate treat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Garamond"/>
              </a:rPr>
              <a:t>poor progn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Candid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Staphylococc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Garamond"/>
              </a:rPr>
              <a:t>Gram-negativ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LABORATORY DIAGNO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A – serial blood culture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( 2-3 sets before antibiotic therapy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erob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Anaerobic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B- serological test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FT ( coxiella burniti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C- sensitivity t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TREAT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isk diffusion test ( not sufficient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IC , MB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Criteria  of  antibiotic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Bactericid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arente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igh d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long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Viridans streptococci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–Benzyl penicillin I.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4 MU I.V. every 4 hrs for 4 wee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penicillin + gentamic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treptococcus faecalis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        ampicillin + gentamicin  I.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Recurrence after cure is common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rug addi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odeficient patients</a:t>
            </a: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DEFINI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fection  or colonization of endocardium , heart  valves , congenital defects by bacteria , rickettsiae , fungi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Low  grade persistent bacteraemia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4716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Garamond"/>
              </a:rPr>
              <a:t>Antimicrobial  prophylaxis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Garamond"/>
              </a:rPr>
              <a:t>(prevention)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r susceptible pati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heumatic valvular or congenital heart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Before tooth extraction , deep scaling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, </a:t>
            </a:r>
            <a:r>
              <a:rPr b="0" i="1" lang="en-GB" sz="3200" spc="-1" strike="noStrike">
                <a:solidFill>
                  <a:srgbClr val="ffffff"/>
                </a:solidFill>
                <a:latin typeface="Garamond"/>
              </a:rPr>
              <a:t>other operations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nzyl-penicillin 2M– I.M 30 mint. before             500mg penicillin V oral – 6 hourly for 2 days afterward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If  patient is allergic to penicillin :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ancomycin  or Erythromycin lactobionate  Ig  I.V. 30 minutes  befor oper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 u="sng">
                <a:solidFill>
                  <a:srgbClr val="ffffff"/>
                </a:solidFill>
                <a:uFillTx/>
                <a:latin typeface="Garamond"/>
              </a:rPr>
              <a:t>Genitourinary  procedu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gentamicin +ampicillin I.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30 minutes before  op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IMPOR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928880"/>
            <a:ext cx="8904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erious diseas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mortality  :  30 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amage  of heart or other org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llow  dental procedures ( tooth extrac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Rheumatic  heart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genital  heart disea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5" descr="http://t3.gstatic.com/images?q=tbn:ANd9GcS3x_ZVVzUxMl5mLGFlWzN0jV0LLg5C1ECWkRSae99e8EvKM2RI"/>
          <p:cNvPicPr/>
          <p:nvPr/>
        </p:nvPicPr>
        <p:blipFill>
          <a:blip r:embed="rId1"/>
          <a:stretch/>
        </p:blipFill>
        <p:spPr>
          <a:xfrm>
            <a:off x="150840" y="-876240"/>
            <a:ext cx="2504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ETIOLOG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SUSCEPTIBLE   PAT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EM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FACTORES  AFFECTING  SEVERITY  AND OUTCO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07280" cy="57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ACTERIAL 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IRU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N. BACTERIA  IN  THE  BL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3534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aramond"/>
              </a:rPr>
              <a:t>HOST  FACTORS 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. FACTORS  INCREASING  SUSCEPTIBIL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LO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CONGINITALOR RHEUMATIC  HEART DISEA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PROSTHETIC  HEART VALV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OTHER  CARDIOVASCULAR  DISEAS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HEART  SURGERY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GENIR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UNDERLYING DISEASE ( DIABETES.M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DRUG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ATROGENIC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IMMUNOSUPPRESSIVE  TREAT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CYTOTOXIC  AGEN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SELF- INFLICTE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LCOHOLIS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aramond"/>
              </a:rPr>
              <a:t>ADDICTION  (INJECTED  DRUGS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PROTECTIVE  FACTO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aramond"/>
              </a:rPr>
              <a:t>ANTIMICROBIAL  CHEMOTHERAP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SOURCES  OF INFE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Dental extraction and other dental proced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rdiac  surgery ( prosthetic valv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ravenous med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v. Drug  addi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ntracardiac or intravenous cathe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Obstetric or gynaecologic procedur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Garamond"/>
              </a:rPr>
              <a:t>PREDISPOSING  FACTO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A- cardiac les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hronic rheumatic valvular disea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Congenital heart disease and defec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therosclero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Prosthetic valv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Immedia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aramond"/>
              </a:rPr>
              <a:t>Delay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Distorted shape causes stasis of blood flow and settee of bacteria on the endocardiu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Virulent bacteria`, staph. aureus  and  strept. Pneumoniae  can  infect  normal  hea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. systemic fact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osuppressive  treat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mmune  defects ( diseas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Alcohol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v. Drug  abus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56-03-02T23:47:54Z</dcterms:created>
  <dc:creator>Administrator</dc:creator>
  <dc:description/>
  <dc:language>en-US</dc:language>
  <cp:lastModifiedBy>JERICA</cp:lastModifiedBy>
  <dcterms:modified xsi:type="dcterms:W3CDTF">2015-03-10T05:27:45Z</dcterms:modified>
  <cp:revision>143</cp:revision>
  <dc:subject/>
  <dc:title>Slide 1</dc:title>
</cp:coreProperties>
</file>