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0255E-E789-481B-B3D6-9AD75E5E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5393-40A6-4117-8EDA-CCC0DAF5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72EFE-139D-4D6D-B77A-CC227512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835F8-1198-4E9D-9A48-0A209330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8FD1-F218-4316-821E-7BD1F33E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AEDF-1048-44EB-BB2C-CEA54384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5CE6-D99C-403B-9FEF-02F5C1FC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8530-F5AF-4F21-91CB-F52C81CA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371F-9834-4C0D-B0C9-5E26E823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09DD-86CB-48DC-865F-7EF1135A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F9DE-9F3B-45C5-851B-7AC338A2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6B892-3C99-474F-8A8F-FFE5A959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91FE-5100-4DF3-9054-1781FF1D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2643-F16C-4892-B8B6-FE121788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C813-95CC-40C4-B2BE-8EB1760A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8D1E-74E4-426B-986D-F7193B38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E50F-3E0B-4063-A675-E84CE677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490A6-EDD0-4D44-B034-13B9EBD7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91E2A-1A96-4042-96E2-848BF9E6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E208F-5EFB-45B2-B47A-607C8EC1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143C0-09CD-4596-9023-9ED03F68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4C069-BE47-4BB3-B09B-031A7F15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013AD-9AE7-49DB-83A3-32FEF8AB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1E690-B24F-4EB6-96EB-EC1F2860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8D3D-59D3-48FE-B0C3-2FBC5A79C48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8919-A9D8-405E-A1B5-79C006D4877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920600"/>
          </a:xfrm>
          <a:prstGeom prst="rect">
            <a:avLst/>
          </a:prstGeom>
          <a:solidFill>
            <a:srgbClr val="00248f"/>
          </a:solidFill>
          <a:ln w="9360">
            <a:solidFill>
              <a:srgbClr val="00248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Garamond"/>
                <a:ea typeface="Andalus"/>
              </a:rPr>
              <a:t>Infective Endocarditi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4" descr="http://www.merckmanuals.com/media/home/figures/MMHE_03_029_01_eps.gif"/>
          <p:cNvPicPr/>
          <p:nvPr/>
        </p:nvPicPr>
        <p:blipFill>
          <a:blip r:embed="rId1"/>
          <a:stretch/>
        </p:blipFill>
        <p:spPr>
          <a:xfrm>
            <a:off x="-3781440" y="333360"/>
            <a:ext cx="2819520" cy="2352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www.merckmanuals.com/media/home/figures/MMHE_03_029_01_eps.gif"/>
          <p:cNvPicPr/>
          <p:nvPr/>
        </p:nvPicPr>
        <p:blipFill>
          <a:blip r:embed="rId2"/>
          <a:stretch/>
        </p:blipFill>
        <p:spPr>
          <a:xfrm>
            <a:off x="150840" y="-1127160"/>
            <a:ext cx="28195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PORTAL OF ENT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ntal  extraction     bleeding       bacteraem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Rocking the tooth in the socket          pumping effect on the vessels of periodontal  ligament , forces bacteria from gingival pockets into blood stream   40 – 80 % bacteraemi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ensitivity of  blood culture techniques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everity of gingival infe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ral  irrigation  dev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NO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acteraemia  may follow  scaling , tooth brushing, endodontic  therapy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ack of clinical effect of many bacteraemia is due to small number or low virulen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hey are rapidly cleared by normal body defence ( leucocytes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trept. Faecalis may cause endocarditis after genitourinary or gut procedur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CAUSATIVE ORGANIS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Viridans  streptococ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Most common  cause  of  sub- acute bacterial endocarditis  (SB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Produce glucagons                   adhere to endocardi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E.g  :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eptococcus  mut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eptococcus  sangu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284720" y="350028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4452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eptococcus  faecal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eptococcus  faeci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eptococcus  pneumonia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aphylococcus  aureu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Acute  endocardit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aphylococcus  epidermidi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Prosthetic  heart valv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Brucella  speci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ctinobacillus  actinomycetes comit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Rickettisa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Fung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oxiella burne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andida  albic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PATHOGENE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rmation of vegeta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Fibrin , platelets (thrombi)  , bacteria colonies                     Attached  to heart val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Break off                  infected emboli              distant organs ( kidney , brain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mmune  complex  formation causes glomerular  damage               haematuria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Valves infection            destruction          heart  failure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rug addicts           tricuspid,pulmonary valves of right  side of heart            lung  emboli           pneumon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2556000" y="2924280"/>
            <a:ext cx="1224000" cy="196920"/>
          </a:xfrm>
          <a:prstGeom prst="rightArrow">
            <a:avLst>
              <a:gd name="adj1" fmla="val 50000"/>
              <a:gd name="adj2" fmla="val 15539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3419640" y="4869000"/>
            <a:ext cx="792000" cy="214200"/>
          </a:xfrm>
          <a:prstGeom prst="rightArrow">
            <a:avLst>
              <a:gd name="adj1" fmla="val 50000"/>
              <a:gd name="adj2" fmla="val 924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2987640" y="5805360"/>
            <a:ext cx="614520" cy="216000"/>
          </a:xfrm>
          <a:prstGeom prst="rightArrow">
            <a:avLst>
              <a:gd name="adj1" fmla="val 50000"/>
              <a:gd name="adj2" fmla="val 7112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6227640" y="2924280"/>
            <a:ext cx="976320" cy="260280"/>
          </a:xfrm>
          <a:prstGeom prst="rightArrow">
            <a:avLst>
              <a:gd name="adj1" fmla="val 50000"/>
              <a:gd name="adj2" fmla="val 9377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2411280" y="4292640"/>
            <a:ext cx="976320" cy="270000"/>
          </a:xfrm>
          <a:prstGeom prst="rightArrow">
            <a:avLst>
              <a:gd name="adj1" fmla="val 50000"/>
              <a:gd name="adj2" fmla="val 904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5724360" y="580536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6156360" y="4869000"/>
            <a:ext cx="544320" cy="214200"/>
          </a:xfrm>
          <a:prstGeom prst="rightArrow">
            <a:avLst>
              <a:gd name="adj1" fmla="val 50000"/>
              <a:gd name="adj2" fmla="val 6352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CLINICAL 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Onset  is insidious ( SBE) – 3 weeks  after extra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Fever ( mild and prolonged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Malaise  , weight loss , weakn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hanging murmur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naemia , leucocytosi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Microscopic  haematuri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etechia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pleenomegal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plinter haemorrhag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Hypergammaglobulinaemi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ge   young , elderl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MORTA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ith antibiotic treatme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3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igh mortalit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irulance of organism or sever infe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resence of underlying diseas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Elder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nadequate treat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Garamond"/>
              </a:rPr>
              <a:t>poor progn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Candid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Staphylococc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Gram-negat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LABORATORY DIAGNO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A – serial blood culture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( 2-3 sets before antibiotic therapy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erobic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naerobic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B- serological tests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FT ( coxiella burniti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C- sensitivity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TREAT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isk diffusion test ( not sufficient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IC , MB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Criteria  of  antibiotic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Bactericid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Parenter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igh d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Prolong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Viridans streptococci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–Benzyl penicillin I.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4 MU I.V. every 4 hrs for 4 wee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enicillin + gentamic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Streptococcus faecalis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     ampicillin + gentamicin  I.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Recurrence after cure is common 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rug addi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mmunodeficient patients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DEFIN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fection  or colonization of endocardium , heart  valves , congenital defects by bacteria , rickettsiae , fung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Low  grade persistent bacteraemia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14716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Garamond"/>
              </a:rPr>
              <a:t>Antimicrobial  prophylaxis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Garamond"/>
              </a:rPr>
              <a:t>(prevention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r susceptible patie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Rheumatic valvular or congenital heart dise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Before tooth extraction , deep scaling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,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other operations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enzyl-penicillin 2M– I.M 30 mint. before             500mg penicillin V oral – 6 hourly for 2 days afterward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If  patient is allergic to penicillin :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Vancomycin  or Erythromycin lactobionate  Ig  I.V. 30 minutes  befor oper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Genitourinary  procedu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gentamicin +ampicillin I.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30 minutes before  op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IMPORT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928880"/>
            <a:ext cx="8904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erious dise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ortality  :  30 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amage  of heart or other orga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llow  dental procedures ( tooth extrac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Rheumatic  heart diseas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ongenital  heart dise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5" descr="http://t3.gstatic.com/images?q=tbn:ANd9GcS3x_ZVVzUxMl5mLGFlWzN0jV0LLg5C1ECWkRSae99e8EvKM2RI"/>
          <p:cNvPicPr/>
          <p:nvPr/>
        </p:nvPicPr>
        <p:blipFill>
          <a:blip r:embed="rId1"/>
          <a:stretch/>
        </p:blipFill>
        <p:spPr>
          <a:xfrm>
            <a:off x="150840" y="-876240"/>
            <a:ext cx="2504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ETI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USCEPTIBLE   PATI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ACTEREM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FACTORES  AFFECTING  SEVERITY  AND OUTCO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07280" cy="57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ACTERIAL  FACT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VIRUL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N. BACTERIA  IN  THE  BL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353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Garamond"/>
              </a:rPr>
              <a:t>HOST  FACTORS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. FACTORS  INCREASING  SUSCEPTIBIL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LO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CONGINITALOR RHEUMATIC  HEART DISEA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PROSTHETIC  HEART VALV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OTHER  CARDIOVASCULAR  DISEA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HEART  SURGER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GENIR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UNDERLYING DISEASE ( DIABETES.M 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DRUG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IATROGENIC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IMMUNOSUPPRESSIVE  TREATM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CYTOTOXIC  AGEN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SELF- INFLICT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ALCOHOLIS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ADDICTION  (INJECTED  DRUGS 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ROTECTIVE  FACT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ANTIMICROBIAL  CHEMOTHERAP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SOURCES  OF INF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ntal extraction and other dental proced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ardiac  surgery ( prosthetic valv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travenous med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v. Drug  addi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tracardiac or intravenous cath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bstetric or gynaecologic procedur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PREDISPOSING  FACTO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A- cardiac le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hronic rheumatic valvular diseas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ongenital heart disease and defec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theroscler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Prosthetic valv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mmedi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Delay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istorted shape causes stasis of blood flow and settee of bacteria on the endocardiu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Virulent bacteria`, staph. aureus  and  strept. Pneumoniae  can  infect  normal  hea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. systemic fact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mmunosuppressive  treat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mmune  defects ( diseas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lcohol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v. Drug  abus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56-03-02T23:47:54Z</dcterms:created>
  <dc:creator>Administrator</dc:creator>
  <dc:description/>
  <dc:language>en-US</dc:language>
  <cp:lastModifiedBy>JERICA</cp:lastModifiedBy>
  <dcterms:modified xsi:type="dcterms:W3CDTF">2015-03-10T05:27:45Z</dcterms:modified>
  <cp:revision>143</cp:revision>
  <dc:subject/>
  <dc:title>Slide 1</dc:title>
</cp:coreProperties>
</file>