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52D0-E0C5-40DB-BF8C-4A5753C55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5096-4C9A-4264-AFBA-1844E0650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FA0F-8842-4223-9428-0B166F92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22E5-95E0-42A7-B5EA-D62DEEF8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1229-5E4B-4007-867B-E9A2A222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9C6-86F6-48B5-86FC-F529769D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2337-CB0A-49F4-8908-ABDDBAC8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B44-312D-4C7B-8420-289C9B82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F2BA-70A1-4DE2-A5FE-D9B31A6C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2FF1-E8E8-4BC1-80E3-88E8B53E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20B-3169-44FB-BC90-2DFF72EB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F866-1FC0-419A-8CCB-E0F0FC45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D8AE-2789-4D34-8EAB-240A08BF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DACA-E4E1-49B6-A537-3D0A62AA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9009-0C8E-4D1A-B7A4-CF0E178B1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:\dad\Student Gray\3. Thorax\F66122-003-f045a.jpg"/>
          <p:cNvPicPr/>
          <p:nvPr/>
        </p:nvPicPr>
        <p:blipFill>
          <a:blip r:embed="rId1"/>
          <a:srcRect l="0" t="0" r="0" b="4998"/>
          <a:stretch/>
        </p:blipFill>
        <p:spPr>
          <a:xfrm>
            <a:off x="1066680" y="457200"/>
            <a:ext cx="7620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user\Desktop\IVC2.jpg"/>
          <p:cNvPicPr/>
          <p:nvPr/>
        </p:nvPicPr>
        <p:blipFill>
          <a:blip r:embed="rId1"/>
          <a:srcRect l="0" t="0" r="0" b="5406"/>
          <a:stretch/>
        </p:blipFill>
        <p:spPr>
          <a:xfrm>
            <a:off x="4500720" y="260280"/>
            <a:ext cx="4257360" cy="538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TextBox 2"/>
          <p:cNvSpPr/>
          <p:nvPr/>
        </p:nvSpPr>
        <p:spPr>
          <a:xfrm>
            <a:off x="5219640" y="134136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5148360" y="1773360"/>
            <a:ext cx="28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7858080" y="1773360"/>
            <a:ext cx="2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611280" y="4000680"/>
            <a:ext cx="295272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ight adrenal v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nal v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ft gonadal v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V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. Common iliac ve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7072200" y="2060640"/>
            <a:ext cx="35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5219640" y="2133720"/>
            <a:ext cx="432000" cy="21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548928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5572080" y="24289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5357880" y="27860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5214960" y="33577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"/>
          <p:cNvSpPr/>
          <p:nvPr/>
        </p:nvSpPr>
        <p:spPr>
          <a:xfrm>
            <a:off x="285840" y="3214800"/>
            <a:ext cx="4000320" cy="2014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                         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Key 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 : left atr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 : coronary sinus/ sulc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C : left ventri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D : pulmonary v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 : Inferior vena c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F :at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user\Desktop\Heart.jpg"/>
          <p:cNvPicPr/>
          <p:nvPr/>
        </p:nvPicPr>
        <p:blipFill>
          <a:blip r:embed="rId1"/>
          <a:stretch/>
        </p:blipFill>
        <p:spPr>
          <a:xfrm>
            <a:off x="4786200" y="500040"/>
            <a:ext cx="4000680" cy="392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TextBox 12"/>
          <p:cNvSpPr/>
          <p:nvPr/>
        </p:nvSpPr>
        <p:spPr>
          <a:xfrm>
            <a:off x="5638680" y="167652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5429160" y="23572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5286240" y="357192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6"/>
          <p:cNvSpPr/>
          <p:nvPr/>
        </p:nvSpPr>
        <p:spPr>
          <a:xfrm>
            <a:off x="7858080" y="192888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7929720" y="28576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6553080" y="213372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E:\dad\Student Gray\3. Thorax\F66122-003-f103.jpg"/>
          <p:cNvPicPr/>
          <p:nvPr/>
        </p:nvPicPr>
        <p:blipFill>
          <a:blip r:embed="rId1"/>
          <a:srcRect l="0" t="2497" r="0" b="3751"/>
          <a:stretch/>
        </p:blipFill>
        <p:spPr>
          <a:xfrm>
            <a:off x="533520" y="304920"/>
            <a:ext cx="8305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E:\dad\Student Gray\3. Thorax\F66122-003-f098b.jpg"/>
          <p:cNvPicPr/>
          <p:nvPr/>
        </p:nvPicPr>
        <p:blipFill>
          <a:blip r:embed="rId1"/>
          <a:stretch/>
        </p:blipFill>
        <p:spPr>
          <a:xfrm>
            <a:off x="91440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E:\dad\Student Gray\3. Thorax\F66122-003-f058.jpg"/>
          <p:cNvPicPr/>
          <p:nvPr/>
        </p:nvPicPr>
        <p:blipFill>
          <a:blip r:embed="rId1"/>
          <a:srcRect l="0" t="0" r="0" b="3846"/>
          <a:stretch/>
        </p:blipFill>
        <p:spPr>
          <a:xfrm>
            <a:off x="457200" y="45720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E:\dad\Student Gray\3. Thorax\F66122-003-f060a.jpg"/>
          <p:cNvPicPr/>
          <p:nvPr/>
        </p:nvPicPr>
        <p:blipFill>
          <a:blip r:embed="rId1"/>
          <a:srcRect l="9805" t="0" r="11764" b="4997"/>
          <a:stretch/>
        </p:blipFill>
        <p:spPr>
          <a:xfrm>
            <a:off x="914400" y="304920"/>
            <a:ext cx="7543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:\dad\Student Gray\3. Thorax\F66122-003-f064.jpg"/>
          <p:cNvPicPr/>
          <p:nvPr/>
        </p:nvPicPr>
        <p:blipFill>
          <a:blip r:embed="rId1"/>
          <a:srcRect l="0" t="0" r="0" b="3706"/>
          <a:stretch/>
        </p:blipFill>
        <p:spPr>
          <a:xfrm>
            <a:off x="533520" y="304920"/>
            <a:ext cx="8153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E:\dad\Student Gray\3. Thorax\F66122-003-f063.jpg"/>
          <p:cNvPicPr/>
          <p:nvPr/>
        </p:nvPicPr>
        <p:blipFill>
          <a:blip r:embed="rId1"/>
          <a:srcRect l="0" t="0" r="-984" b="3846"/>
          <a:stretch/>
        </p:blipFill>
        <p:spPr>
          <a:xfrm>
            <a:off x="990720" y="1522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:\dad\Student Gray\3. Thorax\F66122-003-f073.jpg"/>
          <p:cNvPicPr/>
          <p:nvPr/>
        </p:nvPicPr>
        <p:blipFill>
          <a:blip r:embed="rId1"/>
          <a:srcRect l="0" t="0" r="0" b="3897"/>
          <a:stretch/>
        </p:blipFill>
        <p:spPr>
          <a:xfrm>
            <a:off x="1066680" y="457200"/>
            <a:ext cx="7620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E:\dad\Student Gray\3. Thorax\F66122-003-f085.jpg"/>
          <p:cNvPicPr/>
          <p:nvPr/>
        </p:nvPicPr>
        <p:blipFill>
          <a:blip r:embed="rId1"/>
          <a:srcRect l="10682" t="0" r="11648" b="6416"/>
          <a:stretch/>
        </p:blipFill>
        <p:spPr>
          <a:xfrm>
            <a:off x="1676520" y="380880"/>
            <a:ext cx="6095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user\Desktop\heart-3.jpg"/>
          <p:cNvPicPr/>
          <p:nvPr/>
        </p:nvPicPr>
        <p:blipFill>
          <a:blip r:embed="rId1"/>
          <a:stretch/>
        </p:blipFill>
        <p:spPr>
          <a:xfrm>
            <a:off x="4429080" y="666720"/>
            <a:ext cx="4500720" cy="519120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5143680" y="22860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4929120" y="407196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8429760" y="3429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5072040" y="4643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929280" y="53578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user\Desktop\B9780323068079000089_gr3[1].jpg"/>
          <p:cNvPicPr/>
          <p:nvPr/>
        </p:nvPicPr>
        <p:blipFill>
          <a:blip r:embed="rId1"/>
          <a:stretch/>
        </p:blipFill>
        <p:spPr>
          <a:xfrm>
            <a:off x="4214880" y="1500120"/>
            <a:ext cx="4929120" cy="3657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5143680" y="3429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Straight Arrow Connector 5"/>
          <p:cNvCxnSpPr/>
          <p:nvPr/>
        </p:nvCxnSpPr>
        <p:spPr>
          <a:xfrm flipH="1" flipV="1">
            <a:off x="7000560" y="3571920"/>
            <a:ext cx="100080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Straight Arrow Connector 7"/>
          <p:cNvCxnSpPr/>
          <p:nvPr/>
        </p:nvCxnSpPr>
        <p:spPr>
          <a:xfrm flipH="1" flipV="1">
            <a:off x="6786000" y="4928400"/>
            <a:ext cx="8578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9"/>
          <p:cNvCxnSpPr/>
          <p:nvPr/>
        </p:nvCxnSpPr>
        <p:spPr>
          <a:xfrm flipV="1">
            <a:off x="5571720" y="4785480"/>
            <a:ext cx="857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TextBox 13"/>
          <p:cNvSpPr/>
          <p:nvPr/>
        </p:nvSpPr>
        <p:spPr>
          <a:xfrm>
            <a:off x="8001000" y="40719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5357880" y="48578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7572240" y="47862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611280" y="4000680"/>
            <a:ext cx="2952720" cy="1739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ternal jugular ve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acial ve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bclavian ve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rachiocephal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ertebral ve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5334120" y="388620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0:31:26Z</dcterms:created>
  <dc:creator>saeed1</dc:creator>
  <dc:description/>
  <dc:language>en-US</dc:language>
  <cp:lastModifiedBy>saeed1</cp:lastModifiedBy>
  <dcterms:modified xsi:type="dcterms:W3CDTF">2015-04-12T15:10:32Z</dcterms:modified>
  <cp:revision>10</cp:revision>
  <dc:subject/>
  <dc:title>Cardiopulmonary Block</dc:title>
</cp:coreProperties>
</file>