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463-9EBC-4D79-9F7A-F08F95E4E5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F787-4837-4C08-9449-D1C6DCDA0F1B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7141-EE62-4B92-914D-20AAC806B940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2CFD-CAC1-43FC-92FF-CAA592BA31FB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5732-0C6B-44EC-B6CC-1AAF3F6717D8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hronic hyperlipidemia, particularly hypercholesterolemia, can directly impair EC function by increasing local production of reactive oxygen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52B-AE3C-4783-AC97-7E7157DDAC72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us, non-denuding </a:t>
            </a:r>
            <a:r>
              <a:rPr b="0" i="1" lang="en-CA" sz="1200" spc="-1" strike="noStrike">
                <a:solidFill>
                  <a:srgbClr val="000000"/>
                </a:solidFill>
                <a:latin typeface="Calibri"/>
              </a:rPr>
              <a:t>endothelial dysfunction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underlies human atherosclerosis; in the setting of intact but dysfunctional ECs there is increased endothelial permeability, enhanced leukocyte adhesion, and altered gene expres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2D4F-8859-4CBF-B2B3-633B4DF371A4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5845-ACBD-4A23-AF80-D81ACD51631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te adhere at he site of the inj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with vascular wall cells and macrophages they secr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fac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k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are stored in 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mooth muscle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lammation keep 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4E5C-B7FC-4F74-971C-4E0B67DD379D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202-96CA-4CC0-9FC7-2D915F14A7C4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0A86-6E33-4251-940A-E85212EC68BE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6B7D-93D8-4C85-8842-723EFDBE1D33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mall arterioles within the adventitia (termed </a:t>
            </a:r>
            <a:r>
              <a:rPr b="0" i="1" lang="en-CA" sz="1200" spc="-1" strike="noStrike">
                <a:solidFill>
                  <a:srgbClr val="000000"/>
                </a:solidFill>
                <a:latin typeface="Calibri"/>
              </a:rPr>
              <a:t>vasa vasorum,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literally "vessels of the vessels") supply the outer 50% to 65% of the med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033-B7A3-464C-A953-E9C90C8A7315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A780-4D82-4702-AB9C-2C08BE010CC5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9E89-2AA1-4CA9-B631-FA98528C6C61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315E-BF40-4185-AEB7-A9E709052F17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aques vary from 0.3 to 1.5 cm in diameter but can coalesce to form larger ma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5D63-B610-4F53-9D01-13B7ADFBBD20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fibrous cap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is composed of SMCs and relatively dense collagen. Beneath and to the side of the cap (the "</a:t>
            </a: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shoulder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") is a more cellular area containing macrophages, T cells, and SMCs. Deep to the fibrous cap is a </a:t>
            </a: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necrotic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898F-932D-4773-A69D-67B8AEFEFC86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9F1A-A958-455E-8353-E0FB50D5FDE5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D4B6-7E7C-47A9-9953-933A60D2004D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atty streaks can appear in the aortas of infants younger than 1 year and are present in virtually all children older than 1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83D7-5CFB-4279-ACA6-8AFC0420753F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aques vary from 0.3 to 1.5 cm in diameter but can coalesce to form larger ma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684-CD56-4EF7-8B93-8C38F2B5969B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9A77-B338-4D3F-9AEF-F7CB1D3655AF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3A9-1F17-4C32-87B0-250CB70094E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levations of homocysteine (analogue to AA cysteine) also occur in the rare hereditary disease homocystinuria and in the methylene-tetrahydrofolate-reductase polymorphism genetic traits. The latter is quite common (about 10% of the world population) and it is linked to an increased incidence of thrombosis and cardiovascular disease, which occurs more often in people with above minimal levels of homocyste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C7D9-954F-4B3E-AAA3-EB707DB64C64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nsequently, higher levels of HDL correlate with reduced ris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D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AA6F-FB53-4EA9-BE13-876A9A10086E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D6C-8762-419F-A3B0-058F25F1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83E-92B3-4658-8A39-3F43F93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1A1-70D9-45A0-9062-CF20F25E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2BF-20B4-4B1D-BCF2-630CEA4E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2DE-853B-487F-B629-C8BE14FD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514-C97B-40A2-9D63-D0A74EDD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1B7-9ADE-442B-B41C-D9BECDB2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822-47B4-4DBD-A3A3-A3C3B250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5C5-3D1C-432E-AD2F-AA72C3C3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2EF-6B8F-4C0C-B3C1-71D3F66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8E9-BA82-4C42-8B98-D7CA97E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6BC-3937-49F8-8C69-90483A3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F4F5-CE9E-4FD7-99D2-C75C9D3FFDE7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sham Al Khalid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brous ca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http://www.robbinspathology.com/common/showimage.cfm?type=f&amp;ThisFigFile=S01871-011-f007.jpg"/>
          <p:cNvPicPr/>
          <p:nvPr/>
        </p:nvPicPr>
        <p:blipFill>
          <a:blip r:embed="rId1"/>
          <a:stretch/>
        </p:blipFill>
        <p:spPr>
          <a:xfrm>
            <a:off x="0" y="1857240"/>
            <a:ext cx="9080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in components of a fibrofatty plaqu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pi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racellular matri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lls, Proliferating smooth muscle ce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response-to-injury hypothe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othelial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Not completely understo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Nevertheless, the two most important causes of endothelial dysfunction a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Hemodynamic disturb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Hypercholesterolem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Inflammation is also an important contributo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ooth muscle cell prolif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robbinspathology.com/common/showimage.cfm?type=f&amp;ThisFigFile=S01871-011-f011.jpg"/>
          <p:cNvPicPr/>
          <p:nvPr/>
        </p:nvPicPr>
        <p:blipFill>
          <a:blip r:embed="rId1"/>
          <a:srcRect l="0" t="0" r="0" b="42066"/>
          <a:stretch/>
        </p:blipFill>
        <p:spPr>
          <a:xfrm>
            <a:off x="1643040" y="106200"/>
            <a:ext cx="41432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http://www.robbinspathology.com/common/showimage.cfm?type=f&amp;ThisFigFile=S01871-011-f011.jpg"/>
          <p:cNvPicPr/>
          <p:nvPr/>
        </p:nvPicPr>
        <p:blipFill>
          <a:blip r:embed="rId1"/>
          <a:srcRect l="0" t="55862" r="0" b="0"/>
          <a:stretch/>
        </p:blipFill>
        <p:spPr>
          <a:xfrm>
            <a:off x="1857240" y="0"/>
            <a:ext cx="4948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http://www.robbinspathology.com/common/showimage.cfm?type=f&amp;ThisFigFile=S01871-011-f012.jpg"/>
          <p:cNvPicPr/>
          <p:nvPr/>
        </p:nvPicPr>
        <p:blipFill>
          <a:blip r:embed="rId1"/>
          <a:stretch/>
        </p:blipFill>
        <p:spPr>
          <a:xfrm>
            <a:off x="142920" y="0"/>
            <a:ext cx="869616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Content Placeholder 4" descr="Capture.JPG"/>
          <p:cNvPicPr/>
          <p:nvPr/>
        </p:nvPicPr>
        <p:blipFill>
          <a:blip r:embed="rId1"/>
          <a:stretch/>
        </p:blipFill>
        <p:spPr>
          <a:xfrm>
            <a:off x="530280" y="568440"/>
            <a:ext cx="808344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http://www.robbinspathology.com/common/showimage.cfm?type=f&amp;ThisFigFile=S01871-011-f005.jpg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4602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019960" y="142920"/>
            <a:ext cx="3652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ssel wall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http://www.robbinspathology.com/common/showimage.cfm?type=f&amp;ThisFigFile=S01871-011-f001a.jpg"/>
          <p:cNvPicPr/>
          <p:nvPr/>
        </p:nvPicPr>
        <p:blipFill>
          <a:blip r:embed="rId1"/>
          <a:stretch/>
        </p:blipFill>
        <p:spPr>
          <a:xfrm>
            <a:off x="785880" y="1928880"/>
            <a:ext cx="7469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nical Complic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yocardial infarction (heart attack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erebral infarction (strok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ortic aneury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esentric occlus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eripheral vascular disease (gangrene of the leg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rphological changes that are seen on macro and microscopic levels in atheroscleros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l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rrh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ss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lc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rombo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ovasculariz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l thinnin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olesterol microemboli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eurysmal dilat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4" descr="http://www.robbinspathology.com/common/showimage.cfm?type=f&amp;ThisFigFile=S01871-011-f008a.jpg"/>
          <p:cNvPicPr/>
          <p:nvPr/>
        </p:nvPicPr>
        <p:blipFill>
          <a:blip r:embed="rId1"/>
          <a:stretch/>
        </p:blipFill>
        <p:spPr>
          <a:xfrm>
            <a:off x="1785960" y="0"/>
            <a:ext cx="42148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http://www.robbinspathology.com/common/showimage.cfm?type=f&amp;ThisFigFile=S01871-011-f009a.jpg"/>
          <p:cNvPicPr/>
          <p:nvPr/>
        </p:nvPicPr>
        <p:blipFill>
          <a:blip r:embed="rId1"/>
          <a:stretch/>
        </p:blipFill>
        <p:spPr>
          <a:xfrm>
            <a:off x="0" y="0"/>
            <a:ext cx="4951440" cy="522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robbinspathology.com/common/showimage.cfm?type=f&amp;ThisFigFile=S01871-011-f009c.jpg"/>
          <p:cNvPicPr/>
          <p:nvPr/>
        </p:nvPicPr>
        <p:blipFill>
          <a:blip r:embed="rId2"/>
          <a:stretch/>
        </p:blipFill>
        <p:spPr>
          <a:xfrm>
            <a:off x="5000760" y="0"/>
            <a:ext cx="4143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http://www.robbinspathology.com/common/showimage.cfm?type=f&amp;ThisFigFile=S01871-011-f001b.jpg"/>
          <p:cNvPicPr/>
          <p:nvPr/>
        </p:nvPicPr>
        <p:blipFill>
          <a:blip r:embed="rId1"/>
          <a:stretch/>
        </p:blipFill>
        <p:spPr>
          <a:xfrm>
            <a:off x="785880" y="785880"/>
            <a:ext cx="7432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http://www.pharmacology2000.com/Cardio/Cardio_risk/fatty_streaks1.jpg"/>
          <p:cNvPicPr/>
          <p:nvPr/>
        </p:nvPicPr>
        <p:blipFill>
          <a:blip r:embed="rId1"/>
          <a:stretch/>
        </p:blipFill>
        <p:spPr>
          <a:xfrm>
            <a:off x="714240" y="642960"/>
            <a:ext cx="7793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robbinspathology.com/common/showimage.cfm?type=f&amp;ThisFigFile=S01871-011-f008b.jpg"/>
          <p:cNvPicPr/>
          <p:nvPr/>
        </p:nvPicPr>
        <p:blipFill>
          <a:blip r:embed="rId1"/>
          <a:stretch/>
        </p:blipFill>
        <p:spPr>
          <a:xfrm>
            <a:off x="2000160" y="131760"/>
            <a:ext cx="414360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 type of arterioscle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hronic inflammatory response in the walls of arte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Slowly progress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 build-up of fat (cholesterol) within the artery w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haracterized by intimal lesions called: atheromas, atheromatous or fibrofatty plaq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si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aor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ona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pliteal art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he internal carotid arte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he vessels of the circle of Will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001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DL Vs. HD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LDL cholesterol : deliver cholesterol to peripheral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HDL, "good cholesterol“: mobilizes cholesterol from developing and existing atheromas and transports it to the liver for excretion in the b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15:24Z</dcterms:created>
  <dc:creator>Hisham</dc:creator>
  <dc:description/>
  <dc:language>en-US</dc:language>
  <cp:lastModifiedBy>HISHAM</cp:lastModifiedBy>
  <dcterms:modified xsi:type="dcterms:W3CDTF">2014-03-10T16:41:40Z</dcterms:modified>
  <cp:revision>61</cp:revision>
  <dc:subject/>
  <dc:title>Slide 1</dc:title>
</cp:coreProperties>
</file>