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6B7C5-A070-4DD2-B937-76418FE5D9DE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E4817-2E83-43DE-8633-A7E9431B5769}" type="slidenum">
              <a:rPr b="0" lang="en-C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A5397-4AEA-4671-9B67-46CA49F8F6AF}" type="slidenum">
              <a:rPr b="0" lang="en-C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FD722-DE26-474F-87FE-66A26994A77C}" type="slidenum">
              <a:rPr b="0" lang="en-C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35E35-C29D-4850-8649-7E75EEDF0224}" type="slidenum">
              <a:rPr b="0" lang="en-C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Chronic hyperlipidemia, particularly hypercholesterolemia, can directly impair EC function by increasing local production of reactive oxygen spec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5EBC2-83A6-4A34-96EC-19B1D6D14F4E}" type="slidenum">
              <a:rPr b="0" lang="en-C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Thus, non-denuding </a:t>
            </a:r>
            <a:r>
              <a:rPr b="0" i="1" lang="en-CA" sz="1200" spc="-1" strike="noStrike">
                <a:solidFill>
                  <a:srgbClr val="000000"/>
                </a:solidFill>
                <a:latin typeface="Calibri"/>
              </a:rPr>
              <a:t>endothelial dysfunction</a:t>
            </a: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 underlies human atherosclerosis; in the setting of intact but dysfunctional ECs there is increased endothelial permeability, enhanced leukocyte adhesion, and altered gene express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1C24C-0087-46A8-A60E-5B2B652F0566}" type="slidenum">
              <a:rPr b="0" lang="en-C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2FCB1-D961-42A6-9825-B567CE1E03BE}" type="slidenum">
              <a:rPr b="0" lang="en-C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telte adhere at he site of the inju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gether with vascular wall cells and macrophages they secre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wth fact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ytok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pids</a:t>
            </a: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 are stored in macroph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Smooth muscle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flammation keep go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C82E7-1614-49A7-9F7F-015D97440691}" type="slidenum">
              <a:rPr b="0" lang="en-C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F0F31-D1BB-4FB4-96FA-6DD10F29A8F9}" type="slidenum">
              <a:rPr b="0" lang="en-C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1036B-8040-48B0-BFED-BD2D92BBC6E3}" type="slidenum">
              <a:rPr b="0" lang="en-C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851CB-FDC8-4235-9935-1A0901592505}" type="slidenum">
              <a:rPr b="0" lang="en-C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small arterioles within the adventitia (termed </a:t>
            </a:r>
            <a:r>
              <a:rPr b="0" i="1" lang="en-CA" sz="1200" spc="-1" strike="noStrike">
                <a:solidFill>
                  <a:srgbClr val="000000"/>
                </a:solidFill>
                <a:latin typeface="Calibri"/>
              </a:rPr>
              <a:t>vasa vasorum,</a:t>
            </a: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 literally "vessels of the vessels") supply the outer 50% to 65% of the medi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A8DCA-F3D0-4771-B10B-1F3C5BF50CBB}" type="slidenum">
              <a:rPr b="0" lang="en-C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56047-DEDB-4C87-84D1-218729C60615}" type="slidenum">
              <a:rPr b="0" lang="en-C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29948-A14F-45CE-A582-A06C7A075580}" type="slidenum">
              <a:rPr b="0" lang="en-C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15677-1FEB-4C3E-9B68-D69980297744}" type="slidenum">
              <a:rPr b="0" lang="en-C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Plaques vary from 0.3 to 1.5 cm in diameter but can coalesce to form larger mass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0E6D0-45C4-4823-8048-E423E3170341}" type="slidenum">
              <a:rPr b="0" lang="en-C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00000"/>
                </a:solidFill>
                <a:latin typeface="Calibri"/>
              </a:rPr>
              <a:t>fibrous cap</a:t>
            </a: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 is composed of SMCs and relatively dense collagen. Beneath and to the side of the cap (the "</a:t>
            </a:r>
            <a:r>
              <a:rPr b="1" lang="en-CA" sz="1200" spc="-1" strike="noStrike">
                <a:solidFill>
                  <a:srgbClr val="000000"/>
                </a:solidFill>
                <a:latin typeface="Calibri"/>
              </a:rPr>
              <a:t>shoulder</a:t>
            </a: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") is a more cellular area containing macrophages, T cells, and SMCs. Deep to the fibrous cap is a </a:t>
            </a:r>
            <a:r>
              <a:rPr b="1" lang="en-CA" sz="1200" spc="-1" strike="noStrike">
                <a:solidFill>
                  <a:srgbClr val="000000"/>
                </a:solidFill>
                <a:latin typeface="Calibri"/>
              </a:rPr>
              <a:t>necrotic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87674-6D10-4DFB-8853-55AA7D9E84E9}" type="slidenum">
              <a:rPr b="0" lang="en-C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2558A-ACE4-4972-956A-F6104200588F}" type="slidenum">
              <a:rPr b="0" lang="en-C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CD0FC-0FFB-46A7-9833-877C1720E836}" type="slidenum">
              <a:rPr b="0" lang="en-C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Fatty streaks can appear in the aortas of infants younger than 1 year and are present in virtually all children older than 10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36DAB-C23E-43AB-8FB6-03209A67A562}" type="slidenum">
              <a:rPr b="0" lang="en-C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Plaques vary from 0.3 to 1.5 cm in diameter but can coalesce to form larger mass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8A294-002D-4431-92C9-5BC179139196}" type="slidenum">
              <a:rPr b="0" lang="en-C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CD6B5-AECE-48B5-9585-4D7F7EF3B260}" type="slidenum">
              <a:rPr b="0" lang="en-C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273EB-E415-4FE8-979D-D1478E04CB21}" type="slidenum">
              <a:rPr b="0" lang="en-C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Elevations of homocysteine (analogue to AA cysteine) also occur in the rare hereditary disease homocystinuria and in the methylene-tetrahydrofolate-reductase polymorphism genetic traits. The latter is quite common (about 10% of the world population) and it is linked to an increased incidence of thrombosis and cardiovascular disease, which occurs more often in people with above minimal levels of homocyste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C4832-0283-40FE-AB7B-AE2A11075EAA}" type="slidenum">
              <a:rPr b="0" lang="en-C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Consequently, higher levels of HDL correlate with reduced risk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LD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8C300-8B59-43E9-A3C5-79042CDA0D7A}" type="slidenum">
              <a:rPr b="0" lang="en-C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340D-AAAC-4541-9ED9-8A7952431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F411-EF44-44B6-8DA1-BDAA15FA0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7D71-99E9-4AF7-AB02-1E209BF79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8668-D13D-4861-B714-D4F28BD1D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5256-D6EB-4BB2-B2CA-975AFFE24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78D6-DE03-4771-98FC-45DC84A36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BA33-0C87-4E86-9646-6D93873B4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315B-45CD-4AA4-A697-7747A97A2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8477-C2BA-4D41-9851-A776AB28B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F2D3-D040-46C6-B5F9-91821A4F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23E5-A7DE-4A6C-9789-79B11DEC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2DB8-EACB-43F5-8CB6-37F99600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A2EDE-4113-40A1-8710-6C7DA0E692A6}" type="slidenum">
              <a:rPr b="0" lang="en-C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therosclerosis</a:t>
            </a:r>
            <a:br>
              <a:rPr sz="4400"/>
            </a:b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isham Al Khalid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therosclerosi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ibrous cap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6" name="Picture 2" descr="http://www.robbinspathology.com/common/showimage.cfm?type=f&amp;ThisFigFile=S01871-011-f007.jpg"/>
          <p:cNvPicPr/>
          <p:nvPr/>
        </p:nvPicPr>
        <p:blipFill>
          <a:blip r:embed="rId1"/>
          <a:stretch/>
        </p:blipFill>
        <p:spPr>
          <a:xfrm>
            <a:off x="0" y="1857240"/>
            <a:ext cx="908064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therosclerosi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athogenesi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main components of a fibrofatty plaques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ipid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xtracellular matrix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ells, Proliferating smooth muscle cell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therosclerosis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athogenesi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response-to-injury hypothesi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ndothelial injur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Calibri"/>
              </a:rPr>
              <a:t>Not completely understoo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Calibri"/>
              </a:rPr>
              <a:t>Nevertheless, the two most important causes of endothelial dysfunction are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19960" indent="-2239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Calibri"/>
              </a:rPr>
              <a:t>Hemodynamic disturbanc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19960" indent="-2239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Calibri"/>
              </a:rPr>
              <a:t>Hypercholesterolemi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Calibri"/>
              </a:rPr>
              <a:t>Inflammation is also an important contributor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mooth muscle cell prolife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http://www.robbinspathology.com/common/showimage.cfm?type=f&amp;ThisFigFile=S01871-011-f011.jpg"/>
          <p:cNvPicPr/>
          <p:nvPr/>
        </p:nvPicPr>
        <p:blipFill>
          <a:blip r:embed="rId1"/>
          <a:srcRect l="0" t="0" r="0" b="42066"/>
          <a:stretch/>
        </p:blipFill>
        <p:spPr>
          <a:xfrm>
            <a:off x="1643040" y="106200"/>
            <a:ext cx="4143240" cy="675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4" name="Picture 4" descr="http://www.robbinspathology.com/common/showimage.cfm?type=f&amp;ThisFigFile=S01871-011-f011.jpg"/>
          <p:cNvPicPr/>
          <p:nvPr/>
        </p:nvPicPr>
        <p:blipFill>
          <a:blip r:embed="rId1"/>
          <a:srcRect l="0" t="55862" r="0" b="0"/>
          <a:stretch/>
        </p:blipFill>
        <p:spPr>
          <a:xfrm>
            <a:off x="1857240" y="0"/>
            <a:ext cx="494820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7" name="Picture 2" descr="http://www.robbinspathology.com/common/showimage.cfm?type=f&amp;ThisFigFile=S01871-011-f012.jpg"/>
          <p:cNvPicPr/>
          <p:nvPr/>
        </p:nvPicPr>
        <p:blipFill>
          <a:blip r:embed="rId1"/>
          <a:stretch/>
        </p:blipFill>
        <p:spPr>
          <a:xfrm>
            <a:off x="142920" y="0"/>
            <a:ext cx="8696160" cy="67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1" name="Content Placeholder 4" descr="Capture.JPG"/>
          <p:cNvPicPr/>
          <p:nvPr/>
        </p:nvPicPr>
        <p:blipFill>
          <a:blip r:embed="rId1"/>
          <a:stretch/>
        </p:blipFill>
        <p:spPr>
          <a:xfrm>
            <a:off x="530280" y="568440"/>
            <a:ext cx="8083440" cy="57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3" name="Picture 2" descr="http://www.robbinspathology.com/common/showimage.cfm?type=f&amp;ThisFigFile=S01871-011-f005.jpg"/>
          <p:cNvPicPr/>
          <p:nvPr/>
        </p:nvPicPr>
        <p:blipFill>
          <a:blip r:embed="rId1"/>
          <a:stretch/>
        </p:blipFill>
        <p:spPr>
          <a:xfrm>
            <a:off x="0" y="1857240"/>
            <a:ext cx="9144000" cy="46022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4"/>
          <p:cNvSpPr/>
          <p:nvPr/>
        </p:nvSpPr>
        <p:spPr>
          <a:xfrm>
            <a:off x="2019960" y="142920"/>
            <a:ext cx="36525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heroscleros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equ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Vessel wall structur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2" name="Picture 2" descr="http://www.robbinspathology.com/common/showimage.cfm?type=f&amp;ThisFigFile=S01871-011-f001a.jpg"/>
          <p:cNvPicPr/>
          <p:nvPr/>
        </p:nvPicPr>
        <p:blipFill>
          <a:blip r:embed="rId1"/>
          <a:stretch/>
        </p:blipFill>
        <p:spPr>
          <a:xfrm>
            <a:off x="785880" y="1928880"/>
            <a:ext cx="746928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therosclerosis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nical Complica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Myocardial infarction (heart attack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Cerebral infarction (stroke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Aortic aneurysm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Mesentric occlusion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Peripheral vascular disease (gangrene of the legs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Morphological changes that are seen on macro and microscopic levels in atheroscleros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28760" y="2000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alcification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Hemorrhag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issur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Ulcer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rombosi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Neovascularization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edial thinnin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holesterol microemboli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neurysmal dilatation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3" name="Picture 4" descr="http://www.robbinspathology.com/common/showimage.cfm?type=f&amp;ThisFigFile=S01871-011-f008a.jpg"/>
          <p:cNvPicPr/>
          <p:nvPr/>
        </p:nvPicPr>
        <p:blipFill>
          <a:blip r:embed="rId1"/>
          <a:stretch/>
        </p:blipFill>
        <p:spPr>
          <a:xfrm>
            <a:off x="1785960" y="0"/>
            <a:ext cx="4214880" cy="68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6" name="Picture 2" descr="http://www.robbinspathology.com/common/showimage.cfm?type=f&amp;ThisFigFile=S01871-011-f009a.jpg"/>
          <p:cNvPicPr/>
          <p:nvPr/>
        </p:nvPicPr>
        <p:blipFill>
          <a:blip r:embed="rId1"/>
          <a:stretch/>
        </p:blipFill>
        <p:spPr>
          <a:xfrm>
            <a:off x="0" y="0"/>
            <a:ext cx="4951440" cy="52243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http://www.robbinspathology.com/common/showimage.cfm?type=f&amp;ThisFigFile=S01871-011-f009c.jpg"/>
          <p:cNvPicPr/>
          <p:nvPr/>
        </p:nvPicPr>
        <p:blipFill>
          <a:blip r:embed="rId2"/>
          <a:stretch/>
        </p:blipFill>
        <p:spPr>
          <a:xfrm>
            <a:off x="5000760" y="0"/>
            <a:ext cx="4143240" cy="51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6" descr="http://www.robbinspathology.com/common/showimage.cfm?type=f&amp;ThisFigFile=S01871-011-f001b.jpg"/>
          <p:cNvPicPr/>
          <p:nvPr/>
        </p:nvPicPr>
        <p:blipFill>
          <a:blip r:embed="rId1"/>
          <a:stretch/>
        </p:blipFill>
        <p:spPr>
          <a:xfrm>
            <a:off x="785880" y="785880"/>
            <a:ext cx="743256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0" name="Picture 2" descr="http://www.pharmacology2000.com/Cardio/Cardio_risk/fatty_streaks1.jpg"/>
          <p:cNvPicPr/>
          <p:nvPr/>
        </p:nvPicPr>
        <p:blipFill>
          <a:blip r:embed="rId1"/>
          <a:stretch/>
        </p:blipFill>
        <p:spPr>
          <a:xfrm>
            <a:off x="714240" y="642960"/>
            <a:ext cx="779328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3" name="Picture 2" descr="http://www.robbinspathology.com/common/showimage.cfm?type=f&amp;ThisFigFile=S01871-011-f008b.jpg"/>
          <p:cNvPicPr/>
          <p:nvPr/>
        </p:nvPicPr>
        <p:blipFill>
          <a:blip r:embed="rId1"/>
          <a:stretch/>
        </p:blipFill>
        <p:spPr>
          <a:xfrm>
            <a:off x="2000160" y="131760"/>
            <a:ext cx="4143600" cy="67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therosclerosi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A type of arteriosclerosi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Chronic inflammatory response in the walls of arteri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Slowly progressiv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A build-up of fat (cholesterol) within the artery wal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Characterized by intimal lesions called: atheromas, atheromatous or fibrofatty plaqu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therosclerosis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mmon sit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bdominal aort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ronari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pliteal arter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The internal carotid arteri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The vessels of the circle of Willi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therosclerosis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isk factor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0" y="1785960"/>
            <a:ext cx="9001080" cy="37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LDL Vs. HDL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LDL cholesterol : deliver cholesterol to peripheral tissu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alibri"/>
              </a:rPr>
              <a:t>HDL, "good cholesterol“: mobilizes cholesterol from developing and existing atheromas and transports it to the liver for excretion in the bi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6:15:24Z</dcterms:created>
  <dc:creator>Hisham</dc:creator>
  <dc:description/>
  <dc:language>en-US</dc:language>
  <cp:lastModifiedBy>HISHAM</cp:lastModifiedBy>
  <dcterms:modified xsi:type="dcterms:W3CDTF">2014-03-10T16:41:40Z</dcterms:modified>
  <cp:revision>61</cp:revision>
  <dc:subject/>
  <dc:title>Slide 1</dc:title>
</cp:coreProperties>
</file>