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B1A6-4CFA-44DA-9C5F-0C3EAD412E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Shock_(circulatory)" TargetMode="External"/><Relationship Id="rId2" Type="http://schemas.openxmlformats.org/officeDocument/2006/relationships/hyperlink" Target="http://en.wikipedia.org/wiki/Medical_emergency" TargetMode="External"/><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en.wikipedia.org/wiki/Perspiration" TargetMode="External"/><Relationship Id="rId2" Type="http://schemas.openxmlformats.org/officeDocument/2006/relationships/hyperlink" Target="http://en.wikipedia.org/wiki/Shock_(circulatory)" TargetMode="External"/><Relationship Id="rId3" Type="http://schemas.openxmlformats.org/officeDocument/2006/relationships/hyperlink" Target="http://en.wikipedia.org/wiki/Medical_emergency" TargetMode="External"/><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5F7A-F486-4D9F-84B4-50B66E1532D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672C-60CE-4C1F-B61C-71385729FBD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872B-11E4-4379-BB9E-3778C4FF6FDE}"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7416-9D99-48B6-AAB0-C5DA859E3F12}"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ECB3-A05C-49CD-853A-44943DF9548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a coronary artery develops atherosclerotic occlusion at a sufficiently slow rate, it may be able to stimulate collateral blood flow from other major epicardial vessels; such </a:t>
            </a:r>
            <a:r>
              <a:rPr b="0" i="1" lang="en-CA" sz="1200" spc="-1" strike="noStrike">
                <a:solidFill>
                  <a:srgbClr val="000000"/>
                </a:solidFill>
                <a:latin typeface="Calibri"/>
              </a:rPr>
              <a:t>collateral perfusion</a:t>
            </a:r>
            <a:r>
              <a:rPr b="0" lang="en-CA" sz="1200" spc="-1" strike="noStrike">
                <a:solidFill>
                  <a:srgbClr val="000000"/>
                </a:solidFill>
                <a:latin typeface="Calibri"/>
              </a:rPr>
              <a:t> can then </a:t>
            </a:r>
            <a:r>
              <a:rPr b="1" lang="en-CA" sz="1200" spc="-1" strike="noStrike">
                <a:solidFill>
                  <a:srgbClr val="000000"/>
                </a:solidFill>
                <a:latin typeface="Calibri"/>
              </a:rPr>
              <a:t>protect</a:t>
            </a:r>
            <a:r>
              <a:rPr b="0" lang="en-CA" sz="1200" spc="-1" strike="noStrike">
                <a:solidFill>
                  <a:srgbClr val="000000"/>
                </a:solidFill>
                <a:latin typeface="Calibri"/>
              </a:rPr>
              <a:t> against MI even in the setting of a complete vascular occlusion. Unfortunately, acute coronary occlusions cannot spontaneously recruit collateral flow and will result in infar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luences extrinsic </a:t>
            </a:r>
            <a:r>
              <a:rPr b="1" lang="en-CA" sz="1200" spc="-1" strike="noStrike">
                <a:solidFill>
                  <a:srgbClr val="000000"/>
                </a:solidFill>
                <a:latin typeface="Calibri"/>
              </a:rPr>
              <a:t>to the plaque </a:t>
            </a:r>
            <a:r>
              <a:rPr b="0" lang="en-CA" sz="1200" spc="-1" strike="noStrike">
                <a:solidFill>
                  <a:srgbClr val="000000"/>
                </a:solidFill>
                <a:latin typeface="Calibri"/>
              </a:rPr>
              <a:t>are also important. </a:t>
            </a:r>
            <a:r>
              <a:rPr b="1" lang="en-CA" sz="1200" spc="-1" strike="noStrike">
                <a:solidFill>
                  <a:srgbClr val="000000"/>
                </a:solidFill>
                <a:latin typeface="Calibri"/>
              </a:rPr>
              <a:t>Adrenergic stimulation </a:t>
            </a:r>
            <a:r>
              <a:rPr b="0" lang="en-CA" sz="1200" spc="-1" strike="noStrike">
                <a:solidFill>
                  <a:srgbClr val="000000"/>
                </a:solidFill>
                <a:latin typeface="Calibri"/>
              </a:rPr>
              <a:t>can elevate physical stresses on the plaque through systemic hypertension or local vasospasm. Indeed, the adrenergic stimulation associated with awakening and rising may underlie the known peak incidence (between 6 AM and 12 noon) of acute MIs. Intense emotional stress can also contribute to plaque disruption.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C9F7-4E06-4AB1-A461-F5A45699E0A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ural  , sever coronary atherosclerosis with acute plaque rupture and superimposed thromb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5A93-6F0C-413F-91F5-FA0CEACC594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ly LV, 15% with right ventri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know basic anat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 , posterior part supplied by posterior septal is provided by the dominant artery</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17B4-7AC4-42E8-A95D-F51EEA96B31C}"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5A44-615C-4063-84A6-642B8AF0059E}"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D35F-89D7-4BBC-A8F0-786F94D37F6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C898-9AD2-406D-8305-DA25B5E60503}"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DADB-6C09-445C-9A1E-9D97D4568B9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F8C1-B897-4575-B958-BDB6F770036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CA0A-3D6A-4CB7-9980-BCF1A3A89E3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4496-1D71-48BB-A9AE-72A28E9FD5A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ithin seconds of vascular obstruction, cardiac myocyte aerobic glycolysis ceases, leading to inadequate production of </a:t>
            </a:r>
            <a:r>
              <a:rPr b="0" lang="en-CA" sz="1200" spc="-1" strike="noStrike" u="sng">
                <a:solidFill>
                  <a:srgbClr val="0000ff"/>
                </a:solidFill>
                <a:uFillTx/>
                <a:latin typeface="Calibri"/>
                <a:hlinkClick r:id="rId1"/>
              </a:rPr>
              <a:t>adenosine</a:t>
            </a:r>
            <a:r>
              <a:rPr b="0" lang="en-CA" sz="1200" spc="-1" strike="noStrike">
                <a:solidFill>
                  <a:srgbClr val="000000"/>
                </a:solidFill>
                <a:latin typeface="Calibri"/>
              </a:rPr>
              <a:t> triphosphate (ATP) and accumulation of potentially noxious breakdown products (e.g., </a:t>
            </a:r>
            <a:r>
              <a:rPr b="0" lang="en-CA" sz="1200" spc="-1" strike="noStrike" u="sng">
                <a:solidFill>
                  <a:srgbClr val="0000ff"/>
                </a:solidFill>
                <a:uFillTx/>
                <a:latin typeface="Calibri"/>
                <a:hlinkClick r:id="rId2"/>
              </a:rPr>
              <a:t>lactic acid</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Ischemia to myocardium rapidly (minutes) leads to loss of function and causes necrosis after 20 to 4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5D17-F413-4ED2-BD62-122019815EC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Ospasm and platelet aggregation lead to MI without atherscler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at an infarct usually reaches its full size within 3 to 6 hours. Any intervention in this time frame can potentially limit the final extent of necrosi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9093-78BA-4ED8-8C24-441FC5A4AF7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atient survive thrombi may lyse spontaneous or by r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vasospasm relief , reestablish the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 </a:t>
            </a:r>
            <a:r>
              <a:rPr b="0" i="1" lang="en-CA" sz="1200" spc="-1" strike="noStrike">
                <a:solidFill>
                  <a:srgbClr val="000000"/>
                </a:solidFill>
                <a:latin typeface="Calibri"/>
              </a:rPr>
              <a:t>reperfusion injury</a:t>
            </a:r>
            <a:r>
              <a:rPr b="0" lang="en-CA" sz="1200" spc="-1" strike="noStrike">
                <a:solidFill>
                  <a:srgbClr val="000000"/>
                </a:solidFill>
                <a:latin typeface="Calibri"/>
              </a:rPr>
              <a:t> that can incite </a:t>
            </a:r>
            <a:r>
              <a:rPr b="0" i="1" lang="en-CA" sz="1200" spc="-1" strike="noStrike">
                <a:solidFill>
                  <a:srgbClr val="000000"/>
                </a:solidFill>
                <a:latin typeface="Calibri"/>
              </a:rPr>
              <a:t>greater</a:t>
            </a:r>
            <a:r>
              <a:rPr b="0" lang="en-CA" sz="1200" spc="-1" strike="noStrike">
                <a:solidFill>
                  <a:srgbClr val="000000"/>
                </a:solidFill>
                <a:latin typeface="Calibri"/>
              </a:rPr>
              <a:t> local damage than might have otherwise occurred without rapid restoration of blood flow. reperfusion injury is mediated in part by oxygen free radicals generated by the increased number of infiltrating leukocytes facilitated by reperfusion. Reperfusion-induced microvascular injury causes not only hemorrhage but also endothelial swelling that occludes capillaries and may prevent local blood flow (called </a:t>
            </a:r>
            <a:r>
              <a:rPr b="0" i="1" lang="en-CA" sz="1200" spc="-1" strike="noStrike">
                <a:solidFill>
                  <a:srgbClr val="000000"/>
                </a:solidFill>
                <a:latin typeface="Calibri"/>
              </a:rPr>
              <a:t>no-reflow</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reperfused infarct usually has hemorrhage because the vasculature injured during the period of ischemia is leaky after flow is restored</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0E76-7E54-4EBC-94FB-5BF95E6A574E}"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Diaphoresis</a:t>
            </a:r>
            <a:r>
              <a:rPr b="0" lang="en-CA" sz="1200" spc="-1" strike="noStrike">
                <a:solidFill>
                  <a:srgbClr val="000000"/>
                </a:solidFill>
                <a:latin typeface="Calibri"/>
              </a:rPr>
              <a:t> is excessive </a:t>
            </a:r>
            <a:r>
              <a:rPr b="0" lang="en-CA" sz="1200" spc="-1" strike="noStrike" u="sng">
                <a:solidFill>
                  <a:srgbClr val="0000ff"/>
                </a:solidFill>
                <a:uFillTx/>
                <a:latin typeface="Calibri"/>
                <a:hlinkClick r:id="rId1"/>
              </a:rPr>
              <a:t>sweating</a:t>
            </a:r>
            <a:r>
              <a:rPr b="0" lang="en-CA" sz="1200" spc="-1" strike="noStrike">
                <a:solidFill>
                  <a:srgbClr val="000000"/>
                </a:solidFill>
                <a:latin typeface="Calibri"/>
              </a:rPr>
              <a:t> commonly associated with </a:t>
            </a:r>
            <a:r>
              <a:rPr b="0" lang="en-CA" sz="1200" spc="-1" strike="noStrike" u="sng">
                <a:solidFill>
                  <a:srgbClr val="0000ff"/>
                </a:solidFill>
                <a:uFillTx/>
                <a:latin typeface="Calibri"/>
                <a:hlinkClick r:id="rId2"/>
              </a:rPr>
              <a:t>shock</a:t>
            </a:r>
            <a:r>
              <a:rPr b="0" lang="en-CA" sz="1200" spc="-1" strike="noStrike">
                <a:solidFill>
                  <a:srgbClr val="000000"/>
                </a:solidFill>
                <a:latin typeface="Calibri"/>
              </a:rPr>
              <a:t> and other </a:t>
            </a:r>
            <a:r>
              <a:rPr b="0" lang="en-CA" sz="1200" spc="-1" strike="noStrike" u="sng">
                <a:solidFill>
                  <a:srgbClr val="0000ff"/>
                </a:solidFill>
                <a:uFillTx/>
                <a:latin typeface="Calibri"/>
                <a:hlinkClick r:id="rId3"/>
              </a:rPr>
              <a:t>medical emergency</a:t>
            </a:r>
            <a:r>
              <a:rPr b="0" lang="en-CA" sz="1200" spc="-1" strike="noStrike">
                <a:solidFill>
                  <a:srgbClr val="000000"/>
                </a:solidFill>
                <a:latin typeface="Calibri"/>
              </a:rPr>
              <a:t>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C794-EA7C-47F3-8F4A-F3BDCE759F2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00DF-37F0-4EC0-B145-0B0B1C0190E4}"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cromolecules that leak out of injured myocardial cells through damaged cell membranes</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42E8-0D26-46AC-8663-3C2A9694777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FCE3-1C50-41FD-9F70-A3DE59DFB2A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Ischemia is </a:t>
            </a:r>
            <a:r>
              <a:rPr b="0" lang="en-CA" sz="1200" spc="-1" strike="noStrike">
                <a:solidFill>
                  <a:srgbClr val="000000"/>
                </a:solidFill>
                <a:latin typeface="Calibri"/>
              </a:rPr>
              <a:t>an imbalance between cardiac blood supply (perfusion) and myocardial oxyge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chemia can result from increased demand (e.g., increased heart rate or hypert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iminished oxygen-carrying capacity (e.g., anemia, carbon monoxide poi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661C-C446-44B2-8DB5-41F8DB99208E}"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total CK activity is not a reliable marker of cardiac injury (i.e., it could come from skeletal muscle inju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though cardiac troponin and CK-MB are equally sensitive at early stages of an MI, persistence of elevated troponin levels for approximately 10 days allows the diagnosis of an acute MI long after CK-MB levels have returned to normal.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F559-7C4C-4939-BD9E-74A21233EC4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verall, however, patients with anterior infarcts have a substantially worse clinical course than those with posterior infar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rrhythmia responsible for many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pture will lead to cardiac tamponade, VSD, MR, most common 3-7 days post infarction (granulation t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mbosis due to stasis and endocardial inj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urysm lead to failure, thrombosis ,arrhythmia and no ruptur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C8E8-8E02-4BB0-82B0-D853B5DA5C8B}"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are not very consatant</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3FA1-6DC2-4AAB-A41C-A44AE522FFF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E5EB-5EBC-412B-824B-C5C2E42B551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F541-65F7-4EA2-B334-DE3785FA35A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FF99-7EFA-48C9-9751-9C15EACB725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essler’s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9AE5-C449-42F5-B444-AB40E595AFC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C427-9FF3-4B9B-A874-BA853CB044C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86B7-2658-4CFE-B7E8-6C608F302672}"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0380-372A-481C-B606-FD167BE0C0C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vast majority of cases, IHD is due to a reduction in coronary blood flow caused by obstructive atherosclerotic dis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us, IHD is also frequently called coronary artery disease (C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D6FD-1357-4AAB-955E-A41BB18371AA}"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C6C8-45BC-409A-A63A-2AD5391061C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F323-AAD5-4CCB-8112-F0B3628DB746}"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A8C3-9B2E-428D-B006-4E825E3F863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389D-CDA8-4F15-8814-A48CB9A885D3}"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que disruption= fissure, ulceration or rup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ques with large atheromatous core or those in which the overlying fibrous caps are thin are more likely to rupture and are therefore denoted as </a:t>
            </a:r>
            <a:r>
              <a:rPr b="1" lang="en-CA" sz="1200" spc="-1" strike="noStrike">
                <a:solidFill>
                  <a:srgbClr val="000000"/>
                </a:solidFill>
                <a:latin typeface="Calibri"/>
              </a:rPr>
              <a:t>"vulne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ssures frequently occur at the junction of the fibrous cap and the adjacent normal plaque-free arterial segment, a location at which the mechanical stresses are highest and the fibrous cap is thinnest. Fibrous caps are also continuously remodeling; the balance of collagen synthesis and degradation determines its mechanical strength and thus plaque 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asospasm and/or platelet aggregation can contribute but are infrequently </a:t>
            </a:r>
            <a:r>
              <a:rPr b="1" lang="en-CA" sz="1200" spc="-1" strike="noStrike">
                <a:solidFill>
                  <a:srgbClr val="000000"/>
                </a:solidFill>
                <a:latin typeface="Calibri"/>
              </a:rPr>
              <a:t>the sole </a:t>
            </a:r>
            <a:r>
              <a:rPr b="0" lang="en-CA" sz="1200" spc="-1" strike="noStrike">
                <a:solidFill>
                  <a:srgbClr val="000000"/>
                </a:solidFill>
                <a:latin typeface="Calibri"/>
              </a:rPr>
              <a:t>cause of an occlus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0422-61F1-410B-B510-4A3AF8D3556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C317-F991-4F18-AC85-679B90256D0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AF65-3F37-4908-AE26-818D8A310A6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itroglycerin, by reducing the venous return, large doses-&gt; increase blood to he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ettably, it is presently impossible to reliably predict plaque rupture in any given pat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BCBA-D870-4D5E-96B5-D4C27EE75A63}"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crescendo</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801C-F0C7-475F-BA2B-803713F8A66A}"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2E8A5-C98D-4185-9F9C-D9A15E182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4396-B135-46D1-8AEA-1F0EA02E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692D4-162F-4B5C-B030-3630563E4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F50F-4FC4-4F30-8D0C-844366163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20D0C-39FA-45B1-93C6-5EF49EC6D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75E5-D444-474B-8D58-85FD7B49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B47C-2CC4-4AF4-9123-64418B14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E65C-6775-4696-A58E-F4BCD799B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10609-B1E1-4469-BDE7-8DE1B777C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C83AE-1AAA-4407-8641-C0E0D27B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12B1-696A-4040-9DC7-BE8E1982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B498-65ED-4C72-B956-A0740940D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12BE-FD6B-46E5-9914-0F173433488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br>
              <a:rPr sz="4400"/>
            </a:b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sham Alkhalidi</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Variant angina</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Vessel spasm </a:t>
            </a:r>
            <a:r>
              <a:rPr b="0" i="1" lang="en-CA" sz="3200" spc="-1" strike="noStrike">
                <a:solidFill>
                  <a:srgbClr val="ffffff"/>
                </a:solidFill>
                <a:latin typeface="Calibri"/>
              </a:rPr>
              <a:t>or Prinzmetal angin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ithout fixed atherosclerotic disea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tiology is not cl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ds promptly to vasodilators, such as nitroglycerin and calcium channel blocker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Myocardial infarction</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severity or duration of ischemia is enough to cause cardiac muscle dea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ypically results from acute thromboses that follow plaque disrup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7" name="Picture 2" descr="http://www.robbinspathology.com/common/showimage.cfm?type=f&amp;ThisFigFile=S01871-012-f014.jpg"/>
          <p:cNvPicPr/>
          <p:nvPr/>
        </p:nvPicPr>
        <p:blipFill>
          <a:blip r:embed="rId1"/>
          <a:stretch/>
        </p:blipFill>
        <p:spPr>
          <a:xfrm>
            <a:off x="3808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types</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ransmura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ll thickness (&gt;50% of the wall)</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bendocardia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ner 1/3 of myocardium</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wo mechanisms:</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xed atherosclerosis but with increased demand, vasospasm or hypotension OR</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volving transmural with relieve of the obstruction (often multifoc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common locations</a:t>
            </a:r>
            <a:endParaRPr b="0" lang="en-US" sz="4400" spc="-1" strike="noStrike">
              <a:solidFill>
                <a:srgbClr val="ffffff"/>
              </a:solidFill>
              <a:latin typeface="Calibri"/>
            </a:endParaRPr>
          </a:p>
        </p:txBody>
      </p:sp>
      <p:sp>
        <p:nvSpPr>
          <p:cNvPr id="81" name=""/>
          <p:cNvSpPr txBox="1"/>
          <p:nvPr/>
        </p:nvSpPr>
        <p:spPr>
          <a:xfrm>
            <a:off x="380880" y="1600200"/>
            <a:ext cx="8229600" cy="4525920"/>
          </a:xfrm>
          <a:prstGeom prst="rect">
            <a:avLst/>
          </a:prstGeom>
          <a:noFill/>
          <a:ln w="0">
            <a:noFill/>
          </a:ln>
        </p:spPr>
        <p:txBody>
          <a:bodyPr anchor="t">
            <a:normAutofit fontScale="93000"/>
          </a:bodyPr>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Right dominant </a:t>
            </a:r>
            <a:r>
              <a:rPr b="0" lang="en-CA" sz="2800" spc="-1" strike="noStrike">
                <a:solidFill>
                  <a:srgbClr val="ffffff"/>
                </a:solidFill>
                <a:latin typeface="Calibri"/>
              </a:rPr>
              <a:t>coronary artery heart (90% of population):</a:t>
            </a:r>
            <a:endParaRPr b="0" lang="en-US" sz="28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cm proximal LAD (up to 5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nterior left ventricle</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nterior septum</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pex circumferentially</a:t>
            </a:r>
            <a:endParaRPr b="0" lang="en-US" sz="20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ft circumflex ( up to 2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farct involves lateral left ventricle except the apex</a:t>
            </a:r>
            <a:endParaRPr b="0" lang="en-US" sz="20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en-US" sz="2400" spc="-1" strike="noStrike" baseline="30000">
                <a:solidFill>
                  <a:srgbClr val="ffffff"/>
                </a:solidFill>
                <a:latin typeface="Calibri"/>
              </a:rPr>
              <a:t>st</a:t>
            </a:r>
            <a:r>
              <a:rPr b="0" lang="en-US" sz="2400" spc="-1" strike="noStrike">
                <a:solidFill>
                  <a:srgbClr val="ffffff"/>
                </a:solidFill>
                <a:latin typeface="Calibri"/>
              </a:rPr>
              <a:t> and last thirds of RCA (up to 4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osterior left ventricle</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osterior septum</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right ventricular free wall, sometim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4" name="Picture 2" descr="http://www.robbinspathology.com/common/showimage.cfm?type=f&amp;ThisFigFile=S01871-012-f016a.jpg"/>
          <p:cNvPicPr/>
          <p:nvPr/>
        </p:nvPicPr>
        <p:blipFill>
          <a:blip r:embed="rId1"/>
          <a:stretch/>
        </p:blipFill>
        <p:spPr>
          <a:xfrm>
            <a:off x="1981080" y="1371600"/>
            <a:ext cx="494820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7" name="Picture 2" descr="http://www.robbinspathology.com/common/showimage.cfm?type=f&amp;ThisFigFile=S01871-012-f016b.jpg"/>
          <p:cNvPicPr/>
          <p:nvPr/>
        </p:nvPicPr>
        <p:blipFill>
          <a:blip r:embed="rId1"/>
          <a:stretch/>
        </p:blipFill>
        <p:spPr>
          <a:xfrm>
            <a:off x="838080" y="609480"/>
            <a:ext cx="694872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0" name="Picture 2" descr="http://www.robbinspathology.com/common/showimage.cfm?type=f&amp;ThisFigFile=S01871-012-f016c.jpg"/>
          <p:cNvPicPr/>
          <p:nvPr/>
        </p:nvPicPr>
        <p:blipFill>
          <a:blip r:embed="rId1"/>
          <a:stretch/>
        </p:blipFill>
        <p:spPr>
          <a:xfrm>
            <a:off x="914400" y="914400"/>
            <a:ext cx="714384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3" name="Picture 2" descr="http://www.robbinspathology.com/common/showimage.cfm?type=f&amp;ThisFigFile=S01871-012-f016d.jpg"/>
          <p:cNvPicPr/>
          <p:nvPr/>
        </p:nvPicPr>
        <p:blipFill>
          <a:blip r:embed="rId1"/>
          <a:stretch/>
        </p:blipFill>
        <p:spPr>
          <a:xfrm>
            <a:off x="914400" y="1066680"/>
            <a:ext cx="6904080" cy="495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6" name="Picture 2" descr="http://www.robbinspathology.com/common/showimage.cfm?type=f&amp;ThisFigFile=S01871-012-f016e.jpg"/>
          <p:cNvPicPr/>
          <p:nvPr/>
        </p:nvPicPr>
        <p:blipFill>
          <a:blip r:embed="rId1"/>
          <a:stretch/>
        </p:blipFill>
        <p:spPr>
          <a:xfrm>
            <a:off x="990720" y="838080"/>
            <a:ext cx="6922800" cy="495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pic>
        <p:nvPicPr>
          <p:cNvPr id="99" name="Picture 2" descr=""/>
          <p:cNvPicPr/>
          <p:nvPr/>
        </p:nvPicPr>
        <p:blipFill>
          <a:blip r:embed="rId2"/>
          <a:stretch/>
        </p:blipFill>
        <p:spPr>
          <a:xfrm>
            <a:off x="304920" y="228600"/>
            <a:ext cx="834696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2" name="Picture 2" descr="http://www.robbinspathology.com/common/showimage.cfm?type=f&amp;ThisFigFile=S01871-012-f017.jpg"/>
          <p:cNvPicPr/>
          <p:nvPr/>
        </p:nvPicPr>
        <p:blipFill>
          <a:blip r:embed="rId1"/>
          <a:stretch/>
        </p:blipFill>
        <p:spPr>
          <a:xfrm>
            <a:off x="228600" y="0"/>
            <a:ext cx="8115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schemia to myocardium rapidly (minutes) leads to loss of function and causes necrosis after 20 to 40 minut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7" name="Picture 2" descr="http://www.robbinspathology.com/common/showimage.cfm?type=f&amp;ThisFigFile=S01871-012-f018a.jpg"/>
          <p:cNvPicPr/>
          <p:nvPr/>
        </p:nvPicPr>
        <p:blipFill>
          <a:blip r:embed="rId1"/>
          <a:stretch/>
        </p:blipFill>
        <p:spPr>
          <a:xfrm>
            <a:off x="304920" y="0"/>
            <a:ext cx="8667720" cy="617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Clinical picture of MI</a:t>
            </a:r>
            <a:endParaRPr b="0" lang="en-US" sz="4400" spc="-1" strike="noStrike">
              <a:solidFill>
                <a:srgbClr val="ffffff"/>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Severe, crushing substernal chest pain or discomfort that can radiate to the neck, jaw, epigastrium, or left ar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aphore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use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yspne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n be silent (DM, old a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ECG</a:t>
            </a:r>
            <a:endParaRPr b="0" lang="en-US" sz="4400" spc="-1" strike="noStrike">
              <a:solidFill>
                <a:srgbClr val="ffff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hanges such a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Q waves (indicating transmural infarct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ST-segment abnormaliti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wave inversion </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rrhythmia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ardiac troponins T and I (TnT, TnI)</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reatine kinase (CK, and more specifically the myocardial-specific isoform, CK-MB)</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actate dehydrogena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Myoglobi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Troponins and CK-MB have high specificity and sensitivity for myocardial dama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13">
                                            <p:txEl>
                                              <p:pRg st="0" end="0"/>
                                            </p:txEl>
                                          </p:spTgt>
                                        </p:tgtEl>
                                      </p:cBhvr>
                                    </p:animEffect>
                                    <p:set>
                                      <p:cBhvr>
                                        <p:cTn id="14" dur="1" fill="hold">
                                          <p:stCondLst>
                                            <p:cond delay="499"/>
                                          </p:stCondLst>
                                        </p:cTn>
                                        <p:tgtEl>
                                          <p:spTgt spid="113">
                                            <p:txEl>
                                              <p:pRg st="0" end="0"/>
                                            </p:txEl>
                                          </p:spTgt>
                                        </p:tgtEl>
                                        <p:attrNameLst>
                                          <p:attrName>style.visibility</p:attrName>
                                        </p:attrNameLst>
                                      </p:cBhvr>
                                      <p:to>
                                        <p:strVal val="hidden"/>
                                      </p:to>
                                    </p:set>
                                  </p:childTnLst>
                                </p:cTn>
                              </p:par>
                              <p:par>
                                <p:cTn id="15" nodeType="withEffect" fill="hold" presetClass="exit" presetID="3" presetSubtype="10">
                                  <p:stCondLst>
                                    <p:cond delay="0"/>
                                  </p:stCondLst>
                                  <p:childTnLst>
                                    <p:animEffect filter="blinds(horizontal)" transition="out">
                                      <p:cBhvr additive="repl">
                                        <p:cTn id="16" dur="500"/>
                                        <p:tgtEl>
                                          <p:spTgt spid="113">
                                            <p:txEl>
                                              <p:pRg st="1" end="1"/>
                                            </p:txEl>
                                          </p:spTgt>
                                        </p:tgtEl>
                                      </p:cBhvr>
                                    </p:animEffect>
                                    <p:set>
                                      <p:cBhvr>
                                        <p:cTn id="17" dur="1" fill="hold">
                                          <p:stCondLst>
                                            <p:cond delay="499"/>
                                          </p:stCondLst>
                                        </p:cTn>
                                        <p:tgtEl>
                                          <p:spTgt spid="113">
                                            <p:txEl>
                                              <p:pRg st="1" end="1"/>
                                            </p:txEl>
                                          </p:spTgt>
                                        </p:tgtEl>
                                        <p:attrNameLst>
                                          <p:attrName>style.visibility</p:attrName>
                                        </p:attrNameLst>
                                      </p:cBhvr>
                                      <p:to>
                                        <p:strVal val="hidden"/>
                                      </p:to>
                                    </p:set>
                                  </p:childTnLst>
                                </p:cTn>
                              </p:par>
                              <p:par>
                                <p:cTn id="18" nodeType="withEffect" fill="hold" presetClass="exit" presetID="3" presetSubtype="10">
                                  <p:stCondLst>
                                    <p:cond delay="0"/>
                                  </p:stCondLst>
                                  <p:childTnLst>
                                    <p:animEffect filter="blinds(horizontal)" transition="out">
                                      <p:cBhvr additive="repl">
                                        <p:cTn id="19" dur="500"/>
                                        <p:tgtEl>
                                          <p:spTgt spid="113">
                                            <p:txEl>
                                              <p:pRg st="2" end="2"/>
                                            </p:txEl>
                                          </p:spTgt>
                                        </p:tgtEl>
                                      </p:cBhvr>
                                    </p:animEffect>
                                    <p:set>
                                      <p:cBhvr>
                                        <p:cTn id="20" dur="1" fill="hold">
                                          <p:stCondLst>
                                            <p:cond delay="499"/>
                                          </p:stCondLst>
                                        </p:cTn>
                                        <p:tgtEl>
                                          <p:spTgt spid="113">
                                            <p:txEl>
                                              <p:pRg st="2" end="2"/>
                                            </p:txEl>
                                          </p:spTgt>
                                        </p:tgtEl>
                                        <p:attrNameLst>
                                          <p:attrName>style.visibility</p:attrName>
                                        </p:attrNameLst>
                                      </p:cBhvr>
                                      <p:to>
                                        <p:strVal val="hidden"/>
                                      </p:to>
                                    </p:set>
                                  </p:childTnLst>
                                </p:cTn>
                              </p:par>
                              <p:par>
                                <p:cTn id="21" nodeType="withEffect" fill="hold" presetClass="exit" presetID="3" presetSubtype="10">
                                  <p:stCondLst>
                                    <p:cond delay="0"/>
                                  </p:stCondLst>
                                  <p:childTnLst>
                                    <p:animEffect filter="blinds(horizontal)" transition="out">
                                      <p:cBhvr additive="repl">
                                        <p:cTn id="22" dur="500"/>
                                        <p:tgtEl>
                                          <p:spTgt spid="113">
                                            <p:txEl>
                                              <p:pRg st="3" end="3"/>
                                            </p:txEl>
                                          </p:spTgt>
                                        </p:tgtEl>
                                      </p:cBhvr>
                                    </p:animEffect>
                                    <p:set>
                                      <p:cBhvr>
                                        <p:cTn id="23" dur="1" fill="hold">
                                          <p:stCondLst>
                                            <p:cond delay="499"/>
                                          </p:stCondLst>
                                        </p:cTn>
                                        <p:tgtEl>
                                          <p:spTgt spid="113">
                                            <p:txEl>
                                              <p:pRg st="3" end="3"/>
                                            </p:txEl>
                                          </p:spTgt>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nI and TnT are not normally detectable in the circul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fter acute MI both troponi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ecome detectable after 2 to 4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ak at 48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ir levels remain elevated for 7 to 10 day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Calibri"/>
              </a:rPr>
              <a:t>A group </a:t>
            </a:r>
            <a:r>
              <a:rPr b="1" lang="en-CA" sz="3200" spc="-1" strike="noStrike">
                <a:solidFill>
                  <a:srgbClr val="ffffff"/>
                </a:solidFill>
                <a:latin typeface="Calibri"/>
              </a:rPr>
              <a:t>of related syndromes resulting from myocardial </a:t>
            </a:r>
            <a:r>
              <a:rPr b="1" i="1" lang="en-CA" sz="3200" spc="-1" strike="noStrike">
                <a:solidFill>
                  <a:srgbClr val="ffffff"/>
                </a:solidFill>
                <a:latin typeface="Calibri"/>
              </a:rPr>
              <a:t>ischemi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K-MB is the second best mark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K-MB activit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egins to rise within 2 to 4 hours of M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aks at 24 to 48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eturns to normal within approximately 72 hours</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CA" sz="4400" spc="-1" strike="noStrike">
                <a:solidFill>
                  <a:srgbClr val="ffffff"/>
                </a:solidFill>
                <a:latin typeface="Calibri"/>
              </a:rPr>
              <a:t>Complications of MI</a:t>
            </a:r>
            <a:endParaRPr b="0" lang="en-US" sz="4400" spc="-1" strike="noStrike">
              <a:solidFill>
                <a:srgbClr val="ffffff"/>
              </a:solidFill>
              <a:latin typeface="Calibri"/>
            </a:endParaRPr>
          </a:p>
        </p:txBody>
      </p:sp>
      <p:sp>
        <p:nvSpPr>
          <p:cNvPr id="119" name=""/>
          <p:cNvSpPr txBox="1"/>
          <p:nvPr/>
        </p:nvSpPr>
        <p:spPr>
          <a:xfrm>
            <a:off x="457200" y="13716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t least 80% will suffer:</a:t>
            </a:r>
            <a:endParaRPr b="0" lang="en-US" sz="32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rdiogenic shock (&gt;40%  infarct of LV)</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Congestive heart failureCHF</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rrhythmia</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upture of ventricle, free wall, septum, or papillary muscle</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neurysm formation, </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ural thrombus, potentially source of emboli</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ricardit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death and complications rates</a:t>
            </a:r>
            <a:endParaRPr b="0" lang="en-US" sz="4400" spc="-1" strike="noStrike">
              <a:solidFill>
                <a:srgbClr val="ffffff"/>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5% die, presumably due to arryth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0% of the rest will die within a mon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0-90% will develop complica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all 30% die in the 1</a:t>
            </a:r>
            <a:r>
              <a:rPr b="0" lang="en-US" sz="3200" spc="-1" strike="noStrike" baseline="30000">
                <a:solidFill>
                  <a:srgbClr val="ffffff"/>
                </a:solidFill>
                <a:latin typeface="Calibri"/>
              </a:rPr>
              <a:t>st</a:t>
            </a:r>
            <a:r>
              <a:rPr b="0" lang="en-US" sz="3200" spc="-1" strike="noStrike">
                <a:solidFill>
                  <a:srgbClr val="ffffff"/>
                </a:solidFill>
                <a:latin typeface="Calibri"/>
              </a:rPr>
              <a:t> year and then 10% per ye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24" name="Picture 2" descr="http://www.robbinspathology.com/common/showimage.cfm?type=f&amp;ThisFigFile=S01871-012-f019a.jpg"/>
          <p:cNvPicPr/>
          <p:nvPr/>
        </p:nvPicPr>
        <p:blipFill>
          <a:blip r:embed="rId1"/>
          <a:stretch/>
        </p:blipFill>
        <p:spPr>
          <a:xfrm>
            <a:off x="1600200" y="380880"/>
            <a:ext cx="4114800" cy="655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27" name="Picture 2" descr="http://www.robbinspathology.com/common/showimage.cfm?type=f&amp;ThisFigFile=S01871-012-f019b.jpg"/>
          <p:cNvPicPr/>
          <p:nvPr/>
        </p:nvPicPr>
        <p:blipFill>
          <a:blip r:embed="rId1"/>
          <a:stretch/>
        </p:blipFill>
        <p:spPr>
          <a:xfrm>
            <a:off x="914400" y="685800"/>
            <a:ext cx="6595920" cy="47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0" name="Picture 2" descr="http://www.robbinspathology.com/common/showimage.cfm?type=f&amp;ThisFigFile=S01871-012-f019c.jpg"/>
          <p:cNvPicPr/>
          <p:nvPr/>
        </p:nvPicPr>
        <p:blipFill>
          <a:blip r:embed="rId1"/>
          <a:stretch/>
        </p:blipFill>
        <p:spPr>
          <a:xfrm>
            <a:off x="685800" y="228600"/>
            <a:ext cx="7581960" cy="541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3" name="Picture 2" descr="http://www.robbinspathology.com/common/showimage.cfm?type=f&amp;ThisFigFile=S01871-012-f019d.jpg"/>
          <p:cNvPicPr/>
          <p:nvPr/>
        </p:nvPicPr>
        <p:blipFill>
          <a:blip r:embed="rId1"/>
          <a:stretch/>
        </p:blipFill>
        <p:spPr>
          <a:xfrm>
            <a:off x="1371600" y="380880"/>
            <a:ext cx="4162320" cy="5410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6" name="Picture 2" descr="http://www.robbinspathology.com/common/showimage.cfm?type=f&amp;ThisFigFile=S01871-012-f019e.jpg"/>
          <p:cNvPicPr/>
          <p:nvPr/>
        </p:nvPicPr>
        <p:blipFill>
          <a:blip r:embed="rId1"/>
          <a:stretch/>
        </p:blipFill>
        <p:spPr>
          <a:xfrm>
            <a:off x="1371600" y="685800"/>
            <a:ext cx="6321600" cy="5181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9" name="Picture 2" descr="http://www.robbinspathology.com/common/showimage.cfm?type=f&amp;ThisFigFile=S01871-012-f019f.jpg"/>
          <p:cNvPicPr/>
          <p:nvPr/>
        </p:nvPicPr>
        <p:blipFill>
          <a:blip r:embed="rId1"/>
          <a:stretch/>
        </p:blipFill>
        <p:spPr>
          <a:xfrm>
            <a:off x="1981080" y="304920"/>
            <a:ext cx="42246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4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vast majority of ischemic heart disease is due to coronary artery atherosclerosis</a:t>
            </a: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ess frequent contributions of:</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vasospasm</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  </a:t>
            </a:r>
            <a:r>
              <a:rPr b="0" lang="en-CA" sz="2000" spc="-1" strike="noStrike">
                <a:solidFill>
                  <a:srgbClr val="ffffff"/>
                </a:solidFill>
                <a:latin typeface="Calibri"/>
              </a:rPr>
              <a:t>vasculitis</a:t>
            </a:r>
            <a:r>
              <a:rPr b="0" lang="en-CA" sz="2800" spc="-1" strike="noStrike">
                <a:solidFill>
                  <a:srgbClr val="ffffff"/>
                </a:solidFill>
                <a:latin typeface="Calibri"/>
              </a:rPr>
              <a:t> </a:t>
            </a:r>
            <a:endParaRPr b="0" lang="en-US" sz="2800" spc="-1" strike="noStrike">
              <a:solidFill>
                <a:srgbClr val="ffffff"/>
              </a:solidFill>
              <a:latin typeface="Calibri"/>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it exactly the same as coronary artery disease (CAD)?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requently yes</a:t>
            </a:r>
            <a:endParaRPr b="0" lang="en-US" sz="2800" spc="-1" strike="noStrike">
              <a:solidFill>
                <a:srgbClr val="ffffff"/>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7"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ffff"/>
                </a:solidFill>
                <a:latin typeface="Calibri"/>
              </a:rPr>
              <a:t>Chronic ischemic heart disease</a:t>
            </a:r>
            <a:endParaRPr b="0" lang="en-US" sz="4400" spc="-1" strike="noStrike">
              <a:solidFill>
                <a:srgbClr val="ffffff"/>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rogressive heart failure due to ischemic injury, either from:</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prior infarction(s) (most comm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chronic low-grade ischemi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Sudden cardiac death</a:t>
            </a:r>
            <a:endParaRPr b="0" lang="en-US" sz="4400" spc="-1" strike="noStrike">
              <a:solidFill>
                <a:srgbClr val="ffffff"/>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Unexpected death from cardiac causes either without symptoms or within 1 to 24 hours of symptom onset (different authors use different time poi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Results from a fatal arrhythmia, most commonly in patients with severe coronary artery diseas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Acute coronary syndrom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s applied to three catastrophic manifestations of IH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Unstable angin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Acute M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Sudden cardiac deat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4" dur="500"/>
                                        <p:tgtEl>
                                          <p:spTgt spid="14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9" dur="500"/>
                                        <p:tgtEl>
                                          <p:spTgt spid="14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4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8" name="Picture 2" descr="http://www.robbinspathology.com/common/showimage.cfm?type=f&amp;ThisFigFile=S01871-012-f012.jpg"/>
          <p:cNvPicPr/>
          <p:nvPr/>
        </p:nvPicPr>
        <p:blipFill>
          <a:blip r:embed="rId1"/>
          <a:srcRect l="0" t="0" r="0" b="2327"/>
          <a:stretch/>
        </p:blipFill>
        <p:spPr>
          <a:xfrm>
            <a:off x="1371600" y="0"/>
            <a:ext cx="64785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Angina pectoris</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Chest</a:t>
            </a:r>
            <a:r>
              <a:rPr b="0" lang="en-CA" sz="3200" spc="-1" strike="noStrike">
                <a:solidFill>
                  <a:srgbClr val="ffffff"/>
                </a:solidFill>
                <a:latin typeface="Calibri"/>
              </a:rPr>
              <a:t> </a:t>
            </a:r>
            <a:r>
              <a:rPr b="1" lang="en-CA" sz="3200" spc="-1" strike="noStrike">
                <a:solidFill>
                  <a:srgbClr val="ffffff"/>
                </a:solidFill>
                <a:latin typeface="Calibri"/>
              </a:rPr>
              <a:t>pai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Can radiate down the left arm or to the left jaw </a:t>
            </a:r>
            <a:r>
              <a:rPr b="0" i="1" lang="en-CA" sz="2800" spc="-1" strike="noStrike">
                <a:solidFill>
                  <a:srgbClr val="ffffff"/>
                </a:solidFill>
                <a:latin typeface="Calibri"/>
              </a:rPr>
              <a:t>(referred pai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Due to inadequate perfus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uration and severity is not sufficient for infarc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 </a:t>
            </a:r>
            <a:r>
              <a:rPr b="0" lang="en-US" sz="4400" spc="-1" strike="noStrike">
                <a:solidFill>
                  <a:srgbClr val="ffffff"/>
                </a:solidFill>
                <a:latin typeface="Calibri"/>
              </a:rPr>
              <a:t>Ischemic Heart Disease </a:t>
            </a:r>
            <a:br>
              <a:rPr sz="4400"/>
            </a:br>
            <a:r>
              <a:rPr b="0" i="1" lang="en-US" sz="4400" spc="-1" strike="noStrike">
                <a:solidFill>
                  <a:srgbClr val="ffffff"/>
                </a:solidFill>
                <a:latin typeface="Calibri"/>
              </a:rPr>
              <a:t>Stable angina</a:t>
            </a:r>
            <a:br>
              <a:rPr sz="4400"/>
            </a:b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ccurring reliably after certain levels of exertion</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ypically due to atherosclerotic disease with ≥75% (critical stenosis) fixed chronic stable stenosi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Unstable angina</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Unstable</a:t>
            </a:r>
            <a:r>
              <a:rPr b="0" lang="en-CA" sz="2800" spc="-1" strike="noStrike">
                <a:solidFill>
                  <a:srgbClr val="ffffff"/>
                </a:solidFill>
                <a:latin typeface="Calibri"/>
              </a:rPr>
              <a:t> (occurring with progressively less exertion or even at rest)</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esults from a small fissure or rupture of atherosclerotic plaque triggering:</a:t>
            </a:r>
            <a:endParaRPr b="0" lang="en-US" sz="28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Platelet aggregation</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Vasoconstriction</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Formation of a mural thrombus that may not be occlusive</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ually proceed MI</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isham</dc:creator>
  <dc:description/>
  <dc:language>en-US</dc:language>
  <cp:lastModifiedBy>Hisham</cp:lastModifiedBy>
  <dcterms:modified xsi:type="dcterms:W3CDTF">2012-03-13T20:59:06Z</dcterms:modified>
  <cp:revision>61</cp:revision>
  <dc:subject/>
  <dc:title>test</dc:title>
</cp:coreProperties>
</file>