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19BB-8163-4290-9D84-22393E7E384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tensive systemic plasminogen activation, with degradation of several plasma proteins including fibrinogen, factor V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factor VI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5A84-0AEE-4304-86B3-481994C5CDD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AF63-7888-4626-BBF6-FD2341462B0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nternal bleeding; history of cerebrovascular accident; recent intracranial or intraspinal surgery or trauma; intracranial neoplasm, arteriovenous malformations, or aneurysm; known bleeding diathesis; severe uncontrolled hyper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B6BA-547C-4C34-96B8-D11B937C872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A26E-B53E-4E7D-813A-3064E6105A7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E4D-48D0-4DB4-95F8-C9C85C00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C4D-7693-4C80-8046-036C3E1A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49D-8013-4205-9759-E30242E7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396-520F-4447-A29D-3F7EFD0D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C6D7-4B36-430D-9E3D-10B2BB63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35AC-083D-48A7-BECE-C691F93E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9A0B-C768-4262-B117-339369E6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513C-71E1-4FE8-8225-78DBC894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4F31-9A05-43AF-9835-3A0BF3C6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B7AD-E64B-44FC-92B1-59429671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0ED8-0748-4F47-A9E2-76C5F676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FDE-DD40-4F9A-8ADC-317A1F62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E27C-2E67-418D-B71F-3907141F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D160-008C-4A43-8CFE-6608A774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330A-5967-4062-AE75-7EB8A752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BEBB-F59D-4224-98CE-26A148F6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765A-490C-45C7-B2B4-824EDD31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706-C7FA-41E7-BFF2-42C11450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4C3-FB87-4C39-AA1D-9B443DDD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24E-438C-4C09-8C1D-C1FA5101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9F6-A743-4362-82B4-BE3DBCBC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335-6DC4-48E4-8CD4-1AB5AF44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EF8-667A-4525-B36D-7F71FEA2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55A-2AA8-47CA-B68E-D97A0AFE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C5A5-7920-4E65-A88F-16F78821439E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FBE5-E122-467B-B8E5-FFB54180D8F9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192888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OMBOLYTIC DRUGS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Fibrinolytic drugs)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. Hanan Hagar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95280" y="1484280"/>
            <a:ext cx="4140360" cy="3313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fibrin speci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kin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streplas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643280" y="1484280"/>
            <a:ext cx="4392720" cy="4608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brin speci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plasmin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ors (t-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c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accessmedicine.com/loadBinary.aspx?name=hurs13&amp;filename=%09hurs13_c061f008.gif"/>
          <p:cNvPicPr/>
          <p:nvPr/>
        </p:nvPicPr>
        <p:blipFill>
          <a:blip r:embed="rId1">
            <a:lum bright="-24000"/>
          </a:blip>
          <a:srcRect l="2827" t="3523" r="1414" b="51085"/>
          <a:stretch/>
        </p:blipFill>
        <p:spPr>
          <a:xfrm>
            <a:off x="34920" y="44280"/>
            <a:ext cx="9002880" cy="48261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179280" y="593892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= plasminogen activator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accessmedicine.com/loadBinary.aspx?name=hurs13&amp;filename=%09hurs13_c061f008.gif"/>
          <p:cNvPicPr/>
          <p:nvPr/>
        </p:nvPicPr>
        <p:blipFill>
          <a:blip r:embed="rId1">
            <a:lum bright="-20000"/>
          </a:blip>
          <a:srcRect l="2827" t="49324" r="4241" b="8807"/>
          <a:stretch/>
        </p:blipFill>
        <p:spPr>
          <a:xfrm>
            <a:off x="34920" y="0"/>
            <a:ext cx="8929800" cy="4869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179280" y="522936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= plasminogen activator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9720" y="115920"/>
            <a:ext cx="856944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 fibrin-specific agent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39640" y="1484280"/>
            <a:ext cx="84250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reptokin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istrepla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equally to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rcul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-circul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ino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breakdown of clot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cal fibrinolysi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irculating plasminogen and other plasma proteins thus cause an unwanted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fibrinolysi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ing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eeding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15560"/>
            <a:ext cx="8569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brin-specific agent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39640" y="1484280"/>
            <a:ext cx="842508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issue plaminogen acti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epl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tepl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nec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in action (clot or fibrin speci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preferentially to plasminogen at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surface (non-circulating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her tha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rcula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inogen in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of bleeding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s th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pecific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is enhanced upon binding to fib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58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kinase (S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acterial protein produced by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-hemolytic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reptococci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cts 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rectl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forming plasminogen-streptokinase complex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"activator complex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onverts inactive plasminogen into active plasmi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 is non-fibrin specific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egrade 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clots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ell as 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oge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other plasma protei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streptokin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Streptokin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273320" y="1596960"/>
            <a:ext cx="2520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187280" y="430848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2338560" y="2346480"/>
            <a:ext cx="0" cy="180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22200" y="6021360"/>
            <a:ext cx="13701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140360" y="5705640"/>
            <a:ext cx="309708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degra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2533680" y="371628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2338560" y="4997520"/>
            <a:ext cx="1440" cy="12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1835280" y="634536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40360" y="3324240"/>
            <a:ext cx="4105080" cy="830160"/>
          </a:xfrm>
          <a:prstGeom prst="rect">
            <a:avLst/>
          </a:prstGeom>
          <a:solidFill>
            <a:srgbClr val="f5f5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ctivator com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eptokinase + Plasmin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5219640" y="23115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44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kin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1/2 = less than </a:t>
            </a:r>
            <a:r>
              <a:rPr b="1" lang="en-US" sz="3600" spc="-1" strike="noStrike" u="sng">
                <a:solidFill>
                  <a:srgbClr val="3366ff"/>
                </a:solidFill>
                <a:uFillTx/>
                <a:latin typeface="Times New Roman"/>
              </a:rPr>
              <a:t>20 min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intravenous infu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50,000 U then 100,000 U/h for 24-72 h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least expensiv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venous or arterial thrombos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766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de effects of streptokin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genicit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titer antibodies develop 1 to 2 weeks after use, precluding retreatment until the titer dec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lergic re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ke rashes, fever, 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lee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e to activation of circulating plasminogen (systemic fibrinoly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fibrin specific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44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ca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 in patients with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streptococcal infections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 administration of the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patients may develo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ver, allergic reactions and res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on treatment with streptokinase due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streptococcal anti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OBJECTIV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mechanism of action of thrombolytic 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fferentiate between different types of thrombolytic dru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cribe indications, side effects and contraindications of thrombolytic dru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cognize the mechanisms, uses and side effects of antiplasm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streplase (APSAC)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3901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0033"/>
                </a:solidFill>
                <a:uFillTx/>
                <a:latin typeface="Times New Roman"/>
              </a:rPr>
              <a:t>Anisoylated Plasminogen Streptokinase Activator Complex (APSAC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cylat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minogen combined with strept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rodru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-acylated in circulation into the active plasminogen-streptokinase comp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3200" spc="-1" strike="noStrike" u="sng">
                <a:solidFill>
                  <a:srgbClr val="3366ff"/>
                </a:solidFill>
                <a:uFillTx/>
                <a:latin typeface="Times New Roman"/>
              </a:rPr>
              <a:t>70-12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3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8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02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s a bolus I.V. injection (30 U over 3 - 5 min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er duration of action than streptokin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rombolytic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lot sele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5136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advan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but less than streptokinase alone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ici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eac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fibrin specificit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lys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xpensive than streptokin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kin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enzyme synthesized by the kidne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ed from either urine or cultures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embryonic kidney cell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rec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sminogen activ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travenous infusion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,000U over 10 min then 300,000U/h for 12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kinase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n elimination half-life of 12-20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he lyses of acute massive pulmonary em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aphylaxis (not antigeni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fibrin specif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lysi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cts upon fibrin-bound and circulating plasmino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ts use is now limit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213840"/>
            <a:ext cx="867888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ssue Plasminogen Activators (t - PA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recombinant tissue plasminogen activators (t –PA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recombinant DNA technolog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drugs a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c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331920"/>
            <a:ext cx="8607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t-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rect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y activat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brin-bound plasmino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her than free plasminogen in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action 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hanced by the presence of fibr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inds to fibrin in a thrombus and converts the entrapped plasminogen to plasmin followed by activated local fibrinolysis with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imited systemic fibrino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560" y="331920"/>
            <a:ext cx="8607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of t-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brin-specific drugs (clot specific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ed systemic fibrinoly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risk of ble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-antigenic (Can be used in patients with antistreptococcal antibodi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eplas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 recombinant form of human tP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very short half life (~5 mi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usually administered as an intravenous bolus followed by an infus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60 mg i.v. bolus + 40 mg infusion over 2 h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T-elevation myocardial infarction (STEM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monary embolis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62000" y="259920"/>
            <a:ext cx="88200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epla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variant of recombinant tP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has longer duration than alteplas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(15 min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enhanced fibrin specificit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n as two I.V. bolus injections of 10 U each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U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T-elevation myocardial infarction (STEM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monary embolis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inition of Thrombolytic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rombolytic age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re drugs used to lyse already formed blood clots in clinical settings where ischemia may be fat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necteplase (TNK-tPA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nother modified human t-P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pared by recombinant techn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has half life of more than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30 m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It can be administered as a single IV bolu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more fibrin-specif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longer du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epla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only approved for use in acute myocardial infarc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605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raindications to thromboly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internal bl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al hemorrhagic stro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ovascular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surgery within two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peptic ul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uncontrolled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intracranial trauma or ne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Fibrinolytic Inhibitors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ntiplasmin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hibit plasminogen  activation   and   thus  inhibit  fibrinolysis  and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promote clot stab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Fibrinolytic Inhibitors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ntiplasmin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ff"/>
                </a:solidFill>
                <a:uFillTx/>
                <a:latin typeface="Arial"/>
              </a:rPr>
              <a:t>Aminocaproic Acid &amp; tranexamic 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s by competitive inhibition of plasminogen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or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Aproti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hibits fibrinolysis by blocking the action of plasm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plasmin antagon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en orally or i.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Uses of Fibrinolytic Inhibitors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vant therapy in h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inolytic therapy-induced bleeding (antido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surgica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work like antidotes for fibrinolytic drugs. Similar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amin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dote of the anticoagulant, hepari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dote of the oral anticoagulant warfar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 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hrombolytic therap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773000"/>
            <a:ext cx="807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mbolytic thera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rapid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toration of blood f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occluded vessel by accelerating proteolysis of the throm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mbolytic thera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one part of an overall antithrombotic plan that frequently include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coagul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platelet ag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echanical approaches to rapidly restore flow and prevent re-occl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cations of thromboly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he treatmen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myocardial  infarction (ST elevation,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EM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ischemic stro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artery occl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venous thrombo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mbolis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Rational for use of thrombolytic drugs in AMI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 of ventricular function; reduction of the incidence of congestive heart failure and the reduction of mortality following 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mbolytic drugs need to be give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mediately to the patient after diagnosis of 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lay in administration will be of no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3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common mechanism of action b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ng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lasminogen activation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oge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oenzyme) t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ctive enzyme)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ysis of th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oluble fibrin clot into soluble derivative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3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nonspecific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t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pable of breaking dow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br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well as other circulating proteins, including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brinogen, factor V, and factor V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31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771640" y="15573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771640" y="40053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3924360" y="2349360"/>
            <a:ext cx="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537372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oluble 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5796000" y="5157720"/>
            <a:ext cx="309708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degra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932360" y="2637000"/>
            <a:ext cx="3960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ombo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Plasminogen activ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3995640" y="2997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3924360" y="4653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320364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5:15:36Z</dcterms:created>
  <dc:creator>mahmoud.khattab</dc:creator>
  <dc:description/>
  <dc:language>en-US</dc:language>
  <cp:lastModifiedBy>User</cp:lastModifiedBy>
  <dcterms:modified xsi:type="dcterms:W3CDTF">2015-03-31T11:17:59Z</dcterms:modified>
  <cp:revision>115</cp:revision>
  <dc:subject/>
  <dc:title>THROMBOLYTIC DRUGS</dc:title>
</cp:coreProperties>
</file>