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5FA-01BE-4364-A8F9-02782D84D7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056F-0461-4D7D-BE12-85B8488AF4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0C3A-6F57-4118-B86B-60FD8E24D8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33A-6429-4201-B2DA-A3ED034D13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61DFD-8ADE-4326-BECF-86683B6103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A30-7656-4DEE-B5B9-91F8E77D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908F-F75F-4B3A-8735-AC1601A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762-73D4-4477-8D60-20644DAC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65E-C04D-4C72-8E36-17CFEEEA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E5E1-F2C5-494D-955A-821FB0C5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B4D6-2CD8-4597-8E02-8D4390F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5FEA-9AD4-435F-B91B-3F82EB79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F9FF-DC24-4BA5-A2EF-97FCFFA2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27A8-CA58-4CC6-ABD2-70FAF8DD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9C1FA-4294-481A-BB47-ECF38ACC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F667-8880-497D-B39B-DC5BDC11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8B9-1360-4FF4-A69A-AAB8662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5A51-1A6C-461D-945D-324C195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BFC4-3390-49B1-856E-94D5923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EE2-6507-421B-9946-D9C6D7F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E11C-4C03-498A-9B44-FA4CFCAA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A9CC6-917A-491C-8BE9-66513E5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7C5E-CAF0-43B2-B4E7-F41E430E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B6FB-C53F-42C9-B90D-66598246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216F-66B7-4C76-9BD3-4F4B206E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E9D-712A-4AB2-918C-01C024C25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831-BB8A-4846-B18A-8BD2D51A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7940-3351-42BB-8A56-F75D8ACB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3B72-2B77-4B98-BB19-74A250B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84B-D74C-4331-AD77-B2C2C2F4E29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9F82-0BFE-4755-AA6A-B11DE04178A2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34920" y="44280"/>
            <a:ext cx="9002880" cy="4826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79280" y="593892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0"/>
            <a:ext cx="8929800" cy="48690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179280" y="522936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39640" y="1484280"/>
            <a:ext cx="84250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equally to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-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breakdown of clot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cal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circulating plasminogen and other plasma proteins thus cause an unwanted 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activator comple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 is non-fibrin specifi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273320" y="159696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187280" y="430848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 flipH="1">
            <a:off x="253368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40360" y="3324240"/>
            <a:ext cx="410508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>
            <a:off x="5219640" y="23115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OBJECTIV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8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3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10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213840"/>
            <a:ext cx="86788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 - PA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tissue plasminogen activators (t 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binds to fibrin in a thrombus and converts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-antigenic (Can be used in patients with antistreptococcal antibod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(TNK-tP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773000"/>
            <a:ext cx="80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rapid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vessel by accelerating proteolysis 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 of ventricular function; reduction of the incidence of congestive heart failure and the reduction of mortality following 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User</cp:lastModifiedBy>
  <dcterms:modified xsi:type="dcterms:W3CDTF">2015-03-31T11:17:59Z</dcterms:modified>
  <cp:revision>115</cp:revision>
  <dc:subject/>
  <dc:title>THROMBOLYTIC DRUGS</dc:title>
</cp:coreProperties>
</file>