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20th Century Fon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20th Century Fon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9B47-E848-4F88-8EBC-200586C66F57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1576-820B-468B-B3A0-7ECB6EEC701C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16E0-E5AB-4003-BC6D-301E673A34DC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4753-0864-47C5-8769-B0B32A50159B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95" name="عنصر نائب لرقم الشريحة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8435-E830-45C4-9D77-8D3E8135AB8A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C530-C337-4D9D-997C-5C6B37F45E73}" type="slidenum">
              <a:rPr b="0" lang="en-GB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8E05-9228-4AE9-AFAE-4BDCD7EEBFD9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2109-7127-4974-A863-F907AF2F1FCA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247C-68CE-4F9F-8968-0A6AE1592D8A}" type="slidenum">
              <a:rPr b="0" lang="en-GB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7933-43D7-413B-AAFC-ED5EEED504B3}" type="slidenum">
              <a:rPr b="0" lang="ar-SA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8D6D-936A-4179-9887-F89A8FCA05D0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13" name="عنصر نائب لرقم الشريحة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E079-B345-45F0-AEB3-E3B18C253D88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6F35-7493-4851-99CE-F4506C8AA2C5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F7A1-0004-46E0-B704-656D441F754C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2" name="عنصر نائب لرقم الشريحة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DBE2-5FEC-4B66-B8A2-0147EDB459BD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D9E7-5D76-49DF-A7CA-29806A3EF132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F5F0-4CB3-4992-8699-6D4C9F2CF404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0D0F-8A09-4B91-853D-58AB71DE487F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7C61-A2EB-4500-94CE-63F614F8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614A-ACD0-425B-A698-CA08525C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AB9-DF7B-4595-80AF-2CE62214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8904-5EAB-4C25-BB09-CA41B9A0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FF75-D12B-499E-A68E-1C04B629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3A11-011E-499D-B421-F16E23A7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2733-ADD0-4968-900A-52595B35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8B64-4B88-4534-8890-7118A9FC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5B83-1F74-4BE3-AC44-4F6034BD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2E1E-F7E9-4507-A074-F97562BE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52F3-EFE4-45F0-B3C2-5AA17165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79FE-0EAF-4762-BF9B-CFBE1351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4493-3BC8-472A-9314-59CF82FE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8C07-0C18-41C6-A0D0-D90B39EB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621C-DBB3-42C1-B897-3F32D0F5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74A8-CBDD-428E-B2C1-D4E90BED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6B8A-DF3E-4CBA-B446-EA6D3886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50E-4DC3-428F-A851-49F64097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2B94-F49A-4212-91D1-00F897B3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C7D4-C348-4E8A-A5E7-C87FA1C2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658-FB0E-4400-9E6F-A3DC7BA9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C591-75EA-4148-B36F-63EE0018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CEB-8510-4083-A4CD-7820B2A3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5A2-4F12-464C-BF79-EF425FE2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20th Century Fon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871C-2472-4E7D-9285-4207D350ADAB}" type="slidenum">
              <a:rPr b="0" lang="en-US" sz="1200" spc="-1" strike="noStrike">
                <a:solidFill>
                  <a:srgbClr val="898989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20th Century Fon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20th Century Fon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20th Century Fon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DA3C-8722-48A5-8B7B-1AFD133177BE}" type="slidenum">
              <a:rPr b="0" lang="en-US" sz="1200" spc="-1" strike="noStrike">
                <a:solidFill>
                  <a:srgbClr val="898989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EATMENT OF  HYPER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Antihypertensive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itially consists of lifestyle changes , such 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eight reduction , smoking cessati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duction of salt, saturated fat, , exces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cohol intake , and increased exerci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efore drug therapy. Is initia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1013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Indications for Drug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ustained blood pressure elevations &gt; 140/ 90 mmH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en minimally elevated blood pressure is associated with other cardiovascular risk factors (smoking, diabetes, obesity, hyperlipidemia, genetic predisposi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en end organs are affected by hypertension (heart, kidney , brai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Bernard MT Condensed"/>
                <a:ea typeface="Times New Roman"/>
              </a:rPr>
              <a:t>Drug Management of Hyper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Diur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  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Cardio inhibitory dr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  <a:ea typeface="Arial"/>
              </a:rPr>
              <a:t>    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  <a:ea typeface="Arial"/>
              </a:rPr>
              <a:t>Beta- bloc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81b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Calibri"/>
                <a:ea typeface="Arial"/>
              </a:rPr>
              <a:t>    </a:t>
            </a:r>
            <a:r>
              <a:rPr b="1" lang="en-US" sz="3200" spc="-1" strike="noStrike">
                <a:solidFill>
                  <a:srgbClr val="4f81bd"/>
                </a:solidFill>
                <a:latin typeface="Calibri"/>
                <a:ea typeface="Arial"/>
              </a:rPr>
              <a:t>Calcium –channel bloc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  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Centrally acting sympatholy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  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Vasodilators (</a:t>
            </a:r>
            <a:r>
              <a:rPr b="1" lang="en-US" sz="3200" spc="-1" strike="noStrike">
                <a:solidFill>
                  <a:srgbClr val="00b05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1-antagosits; Hydralaz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Drugs acting on renin-angiotensin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aldosteron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ontent Placeholder 5" descr="antihypertensives.jpg"/>
          <p:cNvPicPr/>
          <p:nvPr/>
        </p:nvPicPr>
        <p:blipFill>
          <a:blip r:embed="rId1"/>
          <a:stretch/>
        </p:blipFill>
        <p:spPr>
          <a:xfrm>
            <a:off x="990720" y="990720"/>
            <a:ext cx="6095880" cy="45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-360" y="380520"/>
            <a:ext cx="103633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Calibri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  <a:ea typeface="Arial"/>
              </a:rPr>
              <a:t>          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Diuretic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  <a:ea typeface="Arial"/>
              </a:rPr>
              <a:t> 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   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- e.g. Thiazides ( hydrochlorothiazi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Courier New"/>
              </a:rPr>
              <a:t>       </a:t>
            </a:r>
            <a:r>
              <a:rPr b="1" lang="en-US" sz="3600" spc="-1" strike="noStrike">
                <a:solidFill>
                  <a:srgbClr val="0d0d0d"/>
                </a:solidFill>
                <a:latin typeface="Courier New"/>
              </a:rPr>
              <a:t>Indapamide (Natrilex</a:t>
            </a:r>
            <a:r>
              <a:rPr b="1" lang="en-US" sz="3600" spc="-1" strike="noStrike" baseline="30000">
                <a:solidFill>
                  <a:srgbClr val="0d0d0d"/>
                </a:solidFill>
                <a:latin typeface="Courier New"/>
              </a:rPr>
              <a:t>R</a:t>
            </a:r>
            <a:r>
              <a:rPr b="1" lang="en-US" sz="3600" spc="-1" strike="noStrike">
                <a:solidFill>
                  <a:srgbClr val="0d0d0d"/>
                </a:solidFill>
                <a:latin typeface="Courier New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  <a:ea typeface="Arial"/>
              </a:rPr>
              <a:t> ►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cause more sodium loss than  water loss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decrease volume of blood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decrease cardiac outp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lower blood pres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Also, Diuretics decrease SVR via decreasing 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sodium</a:t>
            </a:r>
            <a:r>
              <a:rPr b="1" lang="en-US" sz="2800" spc="-1" strike="noStrike">
                <a:solidFill>
                  <a:srgbClr val="0d0d0d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  <a:ea typeface="Arial"/>
              </a:rPr>
              <a:t> ►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diuretics may be adequate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mild to moderate hyperten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292720" y="393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5869080" y="35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4932360" y="44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ote1</a:t>
            </a:r>
            <a:r>
              <a:rPr b="1" lang="en-US" sz="3200" spc="-1" strike="noStrike">
                <a:solidFill>
                  <a:srgbClr val="0d0d0d"/>
                </a:solidFill>
                <a:latin typeface="Arial"/>
                <a:ea typeface="Arial"/>
              </a:rPr>
              <a:t>: Diuretics are the drugs of choice for most hypertensive patients either alone or in comb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ote 2:</a:t>
            </a:r>
            <a:r>
              <a:rPr b="1" lang="en-US" sz="3200" spc="-1" strike="noStrike">
                <a:solidFill>
                  <a:srgbClr val="0d0d0d"/>
                </a:solidFill>
                <a:latin typeface="Arial"/>
                <a:ea typeface="Arial"/>
              </a:rPr>
              <a:t> Black people, elderly and obese patients respond better for diuretics because they are salt-sensi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16135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20th Century Font"/>
              </a:rPr>
              <a:t>B.  Potassium-sparing diuretics</a:t>
            </a:r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20th Century Font"/>
              </a:rPr>
              <a:t>Amiloride</a:t>
            </a:r>
            <a:r>
              <a:rPr b="0" lang="en-US" sz="3600" spc="-1" strike="noStrike">
                <a:solidFill>
                  <a:srgbClr val="000000"/>
                </a:solidFill>
                <a:latin typeface="20th Century Font"/>
              </a:rPr>
              <a:t> as well as </a:t>
            </a:r>
            <a:r>
              <a:rPr b="0" i="1" lang="en-US" sz="3600" spc="-1" strike="noStrike">
                <a:solidFill>
                  <a:srgbClr val="000000"/>
                </a:solidFill>
                <a:latin typeface="20th Century Font"/>
              </a:rPr>
              <a:t>spironolactone</a:t>
            </a:r>
            <a:r>
              <a:rPr b="0" lang="en-US" sz="3600" spc="-1" strike="noStrike">
                <a:solidFill>
                  <a:srgbClr val="000000"/>
                </a:solidFill>
                <a:latin typeface="20th Century Font"/>
              </a:rPr>
              <a:t> reduce potassium loss in the urine. </a:t>
            </a:r>
            <a:r>
              <a:rPr b="0" i="1" lang="en-US" sz="3600" spc="-1" strike="noStrike">
                <a:solidFill>
                  <a:srgbClr val="000000"/>
                </a:solidFill>
                <a:latin typeface="20th Century Font"/>
              </a:rPr>
              <a:t>Spironolactone</a:t>
            </a:r>
            <a:r>
              <a:rPr b="0" lang="en-US" sz="3600" spc="-1" strike="noStrike">
                <a:solidFill>
                  <a:srgbClr val="000000"/>
                </a:solidFill>
                <a:latin typeface="20th Century Font"/>
              </a:rPr>
              <a:t> has the additional benefit of diminishing the cardiac remodeling that occurs in heart failure</a:t>
            </a:r>
            <a:r>
              <a:rPr b="1" lang="en-US" sz="3600" spc="-1" strike="noStrike">
                <a:solidFill>
                  <a:srgbClr val="000000"/>
                </a:solidFill>
                <a:latin typeface="20th Century Font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20th Century Fo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Cardio inhibitory Dru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666699"/>
                </a:solidFill>
                <a:latin typeface="Calibri"/>
                <a:ea typeface="Times New Roman"/>
              </a:rPr>
              <a:t>β</a:t>
            </a:r>
            <a:r>
              <a:rPr b="1" lang="en-US" sz="4400" spc="-1" strike="noStrike">
                <a:solidFill>
                  <a:srgbClr val="666699"/>
                </a:solidFill>
                <a:latin typeface="Calibri"/>
                <a:ea typeface="Times New Roman"/>
              </a:rPr>
              <a:t>- </a:t>
            </a:r>
            <a:r>
              <a:rPr b="0" lang="en-US" sz="4400" spc="-1" strike="noStrike">
                <a:solidFill>
                  <a:srgbClr val="666699"/>
                </a:solidFill>
                <a:latin typeface="Bernard MT Condensed"/>
                <a:ea typeface="Times New Roman"/>
              </a:rPr>
              <a:t>Adrenoceptor –Blocking Ag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666699"/>
                </a:solidFill>
                <a:latin typeface="Calibri"/>
                <a:ea typeface="Arial"/>
              </a:rPr>
              <a:t>β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- adrenoceptor blocking agents  can be used in  mild to moderate hyperten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In severe cases used in combination with other dru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Nadolol   (non cardio selec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Bisoprolol , Atenolol, metoprolol  ( cardio selectiv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Labetalol , carvidalol ( </a:t>
            </a:r>
            <a:r>
              <a:rPr b="1" lang="el-GR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– and </a:t>
            </a:r>
            <a:r>
              <a:rPr b="1" lang="el-GR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adrenergic blockers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Bernard MT Condensed"/>
                <a:ea typeface="Times New Roman"/>
              </a:rPr>
              <a:t>Beta-Adrenoceptor –Blocking Ag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They lower blood pressure  b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          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Decreasing  cardiac outpu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      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  <a:ea typeface="Arial"/>
              </a:rPr>
              <a:t>Decreasing renin  releas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(very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important effect and more related to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clinical respon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0" y="-360"/>
            <a:ext cx="9144000" cy="7010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93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rial"/>
              </a:rPr>
              <a:t>Prof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rial"/>
              </a:rPr>
              <a:t>Abdulqader Alhaider; Azza El-Meda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rial"/>
              </a:rPr>
              <a:t>Department of Pharmacolo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rial"/>
              </a:rPr>
              <a:t>College of Medic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drenoceptor blocke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Prazocin , Terazoc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dded to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lockers for treatment of hypertension of pheochromocyt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the postural hypotension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adrenoceptor blockers are not commonly used for Rx of HT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ALCIUM CHANNEL BLOC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7724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Arial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66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Dihydropyridine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group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ifedipine,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icardipine 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mlodipin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Amlor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) is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more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selective as vasodilator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than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a cardiac depressant. </a:t>
            </a:r>
            <a:r>
              <a:rPr b="1" lang="en-US" sz="3600" spc="-1" strike="noStrike" u="sng">
                <a:solidFill>
                  <a:srgbClr val="666699"/>
                </a:solidFill>
                <a:uFillTx/>
                <a:latin typeface="Calibri"/>
                <a:ea typeface="Arial"/>
              </a:rPr>
              <a:t>This group is used for treatment of hypertens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Verapamil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is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  <a:ea typeface="Arial"/>
              </a:rPr>
              <a:t>more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effective as cardiac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depressant , therefore  it is not used as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antihypertensive agent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Diltiazem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.Used mainly for angi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5092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❏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echanism of Action: (Arteri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lock the influx of calcium through L-type calc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nnels resulting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- Peripheral vasodilatation (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t arterie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- Decrease cardiac contractility &amp; heart rate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th effects lower blood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5092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0000"/>
                </a:solidFill>
                <a:latin typeface="Arial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Pharmacokinetic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iven orally and intravenous inj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ell absorbed from G.I.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verapamil and nifedipine are highly bound to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lasma protiens ( more than 9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ile diltiazem is less ( 70-8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(Cont’d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ff"/>
                </a:solidFill>
                <a:latin typeface="Arial"/>
                <a:ea typeface="Traditional Arab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set of action  --- within 1-3 min  --- after i.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 min – 2 h  --- after or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apamil &amp; diltiazem have active metabolites,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fedipine does n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stained-release preparations of Nifedipine can permit once-daily dos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Clinical u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reatment of chronic hypertension with oral preparation (Nifedipine; Amlodip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ifedipine used for Raynoids phenom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icardipine  can be given by I.V. route &amp; used in hypertensive emerg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ADVERS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3520" y="1219320"/>
          <a:ext cx="8229600" cy="4227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apam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iltiaz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ifedip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ache , Flushing , Hypote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ache, Flushing, Hypote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ache , Flushing, Hypote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pheral edema   (ankle ede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pheral edema   (ankle ede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pheral edema   (ankle ede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depression, A-V block , bradycar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depression , A-V block , bradycar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lex Tachycar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p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03200" y="-1036800"/>
            <a:ext cx="8352000" cy="88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20th Century Fon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20th Century Font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20th Century Font"/>
              </a:rPr>
              <a:t>Centrally acting sympatholytic drugs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20th Century Font"/>
              </a:rPr>
              <a:t>   </a:t>
            </a:r>
            <a:r>
              <a:rPr b="1" i="1" lang="en-US" sz="2800" spc="-1" strike="noStrike">
                <a:solidFill>
                  <a:srgbClr val="0000ff"/>
                </a:solidFill>
                <a:latin typeface="20th Century Font"/>
              </a:rPr>
              <a:t>e.g.     </a:t>
            </a:r>
            <a:r>
              <a:rPr b="1" i="1" lang="en-US" sz="2800" spc="-1" strike="noStrike">
                <a:solidFill>
                  <a:srgbClr val="ff3300"/>
                </a:solidFill>
                <a:latin typeface="20th Century Font"/>
              </a:rPr>
              <a:t>Clonidine   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20th Century Font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-agonist </a:t>
            </a:r>
            <a:endParaRPr b="0" lang="en-US" sz="32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       </a:t>
            </a:r>
            <a:r>
              <a:rPr b="1" lang="en-US" sz="3200" spc="-1" strike="noStrike">
                <a:solidFill>
                  <a:srgbClr val="ff3300"/>
                </a:solidFill>
                <a:latin typeface="20th Century Font"/>
              </a:rPr>
              <a:t>Reduce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 sympathetic outflow  to the   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heart thereby decreasing cardiac 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output (by decreasing heart rate &amp; 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contractility ).</a:t>
            </a:r>
            <a:endParaRPr b="0" lang="en-US" sz="32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20th Century Font"/>
              </a:rPr>
              <a:t>Reduced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 sympathetic output to the 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vasculature, decreases sympathetic 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vascular tone , which causes 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vasodilation &amp; reduced systemic 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vascular resistance, which decreases 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20th Century Font"/>
              </a:rPr>
              <a:t>arterial pressure. </a:t>
            </a:r>
            <a:endParaRPr b="0" lang="en-US" sz="32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el-GR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α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methyl dopa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indir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Arial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agonist is converted to methyl norepinephrine centrally to diminish the adrenergic outflow from the C.N.S. This lead to reduced total peripheral resistance, and a decreased blood pressu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Safely used in  hypertensive pregnant wo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t the end of lectures , the students should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dentify factors that control blood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dentify the pharmacologic classes of drugs used in treatment of 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Know examples of each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  <a:ea typeface="Times New Roman"/>
              </a:rPr>
              <a:t>Side effects of centrally acting sympatholy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ry mouth, nasal m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radycar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mpo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ostural hypo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luid retention &amp; edema with chronic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udden withdrawal of </a:t>
            </a:r>
            <a:r>
              <a:rPr b="1" lang="en-US" sz="3600" spc="-1" strike="noStrike">
                <a:solidFill>
                  <a:srgbClr val="0066ff"/>
                </a:solidFill>
                <a:latin typeface="Calibri"/>
                <a:ea typeface="Arial"/>
              </a:rPr>
              <a:t>clonidin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can lead to rebound 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VASODILATOR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"/>
          <p:cNvSpPr/>
          <p:nvPr/>
        </p:nvSpPr>
        <p:spPr>
          <a:xfrm>
            <a:off x="304920" y="711360"/>
            <a:ext cx="813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20th Century Font"/>
              </a:rPr>
              <a:t>Compensatory Response to Vasodilators</a:t>
            </a:r>
            <a:endParaRPr b="0" lang="en-US" sz="3200" spc="-1" strike="noStrike">
              <a:solidFill>
                <a:srgbClr val="000000"/>
              </a:solidFill>
              <a:latin typeface="20th Century Font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15920" y="1274760"/>
            <a:ext cx="9070920" cy="5564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34800" y="914400"/>
          <a:ext cx="8656920" cy="5664240"/>
        </p:xfrm>
        <a:graphic>
          <a:graphicData uri="http://schemas.openxmlformats.org/drawingml/2006/table">
            <a:tbl>
              <a:tblPr/>
              <a:tblGrid>
                <a:gridCol w="1371600"/>
                <a:gridCol w="1676520"/>
                <a:gridCol w="2133720"/>
                <a:gridCol w="1554120"/>
                <a:gridCol w="1920960"/>
              </a:tblGrid>
              <a:tr h="701640">
                <a:tc gridSpan="5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Vasodilator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ydralaz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inoxid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Diazox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a nitroprus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3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Site of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eriodi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eriodi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eriodi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erio &amp; venodi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91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Mechanism of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ing  of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tassium channel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 smooth muscle membranes by minoxidil sulf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active metabolite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ing of potassium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ease of nitric oxide ( 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39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Route of ad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pid intrave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avenous inf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80880" y="1066680"/>
          <a:ext cx="8686800" cy="5546880"/>
        </p:xfrm>
        <a:graphic>
          <a:graphicData uri="http://schemas.openxmlformats.org/drawingml/2006/table">
            <a:tbl>
              <a:tblPr/>
              <a:tblGrid>
                <a:gridCol w="1447920"/>
                <a:gridCol w="1536840"/>
                <a:gridCol w="123840"/>
                <a:gridCol w="1687320"/>
                <a:gridCol w="2198880"/>
                <a:gridCol w="177480"/>
                <a:gridCol w="15145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i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sodil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ydralaz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oxid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azox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 nitroprus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772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Therapeutic 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Moderate -severe hypertens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severe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Hypertensive emerg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in the past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Hpertensive emerg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Hypertensive pregnant wo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correction of bald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Treatment of hypoglycemia due to insulin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284040" y="838080"/>
          <a:ext cx="8783640" cy="5926320"/>
        </p:xfrm>
        <a:graphic>
          <a:graphicData uri="http://schemas.openxmlformats.org/drawingml/2006/table">
            <a:tbl>
              <a:tblPr/>
              <a:tblGrid>
                <a:gridCol w="1737000"/>
                <a:gridCol w="1726920"/>
                <a:gridCol w="177840"/>
                <a:gridCol w="1544760"/>
                <a:gridCol w="142920"/>
                <a:gridCol w="1595520"/>
                <a:gridCol w="18586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i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sodil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ydralaz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oxid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az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 nitropru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2325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Adverse ef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 gridSpan="5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ension, reflex tachycardia, palpitation, angina, salt and water retention  ( edem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vere hypo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95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Specific adverse ef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pus erythematosus like synd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ertrichos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indicated in fem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hibit insulin release from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cells of the pancreas  causing hyperglycem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indicated in diabe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Methemoglobinduring inf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Cyanide toxi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Thiocyanate toxic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Give reason : Why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lockers &amp;  diuretics are added to vasodilators for treatment of hypertens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tent Placeholder 3" descr="ACE Inhibitors.jpg"/>
          <p:cNvPicPr/>
          <p:nvPr/>
        </p:nvPicPr>
        <p:blipFill>
          <a:blip r:embed="rId1"/>
          <a:stretch/>
        </p:blipFill>
        <p:spPr>
          <a:xfrm>
            <a:off x="1219320" y="990720"/>
            <a:ext cx="58672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44"/>
          <p:cNvGrpSpPr/>
          <p:nvPr/>
        </p:nvGrpSpPr>
        <p:grpSpPr>
          <a:xfrm>
            <a:off x="380880" y="1066680"/>
            <a:ext cx="6705720" cy="4419720"/>
            <a:chOff x="380880" y="1066680"/>
            <a:chExt cx="6705720" cy="4419720"/>
          </a:xfrm>
        </p:grpSpPr>
        <p:pic>
          <p:nvPicPr>
            <p:cNvPr id="154" name="Picture 8" descr="C:\Documents and Settings\DR.OMNIA\My Documents\My Pictures\Ag.png"/>
            <p:cNvPicPr/>
            <p:nvPr/>
          </p:nvPicPr>
          <p:blipFill>
            <a:blip r:embed="rId1"/>
            <a:srcRect l="1113" t="1662" r="1113" b="2078"/>
            <a:stretch/>
          </p:blipFill>
          <p:spPr>
            <a:xfrm>
              <a:off x="380880" y="1066680"/>
              <a:ext cx="670572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25"/>
            <p:cNvSpPr/>
            <p:nvPr/>
          </p:nvSpPr>
          <p:spPr>
            <a:xfrm>
              <a:off x="2119320" y="1135800"/>
              <a:ext cx="247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86129"/>
                  </a:solidFill>
                  <a:latin typeface="20th Century Font"/>
                </a:rPr>
                <a:t>Endothelium, brain &amp;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</p:grpSp>
      <p:sp>
        <p:nvSpPr>
          <p:cNvPr id="156" name="Rounded Rectangle 14"/>
          <p:cNvSpPr/>
          <p:nvPr/>
        </p:nvSpPr>
        <p:spPr>
          <a:xfrm>
            <a:off x="304920" y="2819520"/>
            <a:ext cx="213336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3099960" y="3325680"/>
            <a:ext cx="274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Rounded MT Bold"/>
              </a:rPr>
              <a:t>Other Proteolytic Enzymes </a:t>
            </a:r>
            <a:endParaRPr b="0" lang="en-US" sz="16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58" name="Rounded Rectangle 15"/>
          <p:cNvSpPr/>
          <p:nvPr/>
        </p:nvSpPr>
        <p:spPr>
          <a:xfrm>
            <a:off x="304920" y="2819520"/>
            <a:ext cx="76176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59" name="Rounded Rectangle 16"/>
          <p:cNvSpPr/>
          <p:nvPr/>
        </p:nvSpPr>
        <p:spPr>
          <a:xfrm>
            <a:off x="3135240" y="2819520"/>
            <a:ext cx="762120" cy="533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3429000" y="3564000"/>
            <a:ext cx="19810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cc0000"/>
                </a:solidFill>
                <a:latin typeface="Arial Rounded MT Bold"/>
              </a:rPr>
              <a:t>Chymase</a:t>
            </a:r>
            <a:endParaRPr b="0" lang="en-US" sz="17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cc0000"/>
                </a:solidFill>
                <a:latin typeface="Arial Rounded MT Bold"/>
              </a:rPr>
              <a:t>Endoperoxidase</a:t>
            </a:r>
            <a:endParaRPr b="0" lang="en-US" sz="17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3505320" y="20952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  vasoconstrictor peptide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62" name="TextBox 8"/>
          <p:cNvSpPr/>
          <p:nvPr/>
        </p:nvSpPr>
        <p:spPr>
          <a:xfrm>
            <a:off x="152280" y="609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Berlin Sans FB Demi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pic>
        <p:nvPicPr>
          <p:cNvPr id="163" name="Freeform 9" descr=""/>
          <p:cNvPicPr/>
          <p:nvPr/>
        </p:nvPicPr>
        <p:blipFill>
          <a:blip r:embed="rId2"/>
          <a:stretch/>
        </p:blipFill>
        <p:spPr>
          <a:xfrm>
            <a:off x="-244440" y="-231840"/>
            <a:ext cx="4584600" cy="16765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0"/>
          <p:cNvSpPr/>
          <p:nvPr/>
        </p:nvSpPr>
        <p:spPr>
          <a:xfrm>
            <a:off x="1523880" y="685800"/>
            <a:ext cx="7620120" cy="398880"/>
          </a:xfrm>
          <a:prstGeom prst="rect">
            <a:avLst/>
          </a:prstGeom>
          <a:solidFill>
            <a:srgbClr val="ff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ecursor is </a:t>
            </a: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Angiotensinoge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; a plasm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-globulin synthesized in the liver.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457200" y="5467320"/>
            <a:ext cx="4724280" cy="398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creted by renal juxtaglomerular apparatus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grpSp>
        <p:nvGrpSpPr>
          <p:cNvPr id="166" name="Diamond 26"/>
          <p:cNvGrpSpPr/>
          <p:nvPr/>
        </p:nvGrpSpPr>
        <p:grpSpPr>
          <a:xfrm>
            <a:off x="7186680" y="4479840"/>
            <a:ext cx="1555560" cy="635040"/>
            <a:chOff x="7186680" y="4479840"/>
            <a:chExt cx="1555560" cy="635040"/>
          </a:xfrm>
        </p:grpSpPr>
        <p:pic>
          <p:nvPicPr>
            <p:cNvPr id="167" name="Diamond 26" descr=""/>
            <p:cNvPicPr/>
            <p:nvPr/>
          </p:nvPicPr>
          <p:blipFill>
            <a:blip r:embed="rId3"/>
            <a:stretch/>
          </p:blipFill>
          <p:spPr>
            <a:xfrm>
              <a:off x="7186680" y="4479840"/>
              <a:ext cx="1555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7585200" y="4648320"/>
              <a:ext cx="761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ernard MT Condensed"/>
                </a:rPr>
                <a:t>A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Bernard MT Condensed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</p:grpSp>
      <p:grpSp>
        <p:nvGrpSpPr>
          <p:cNvPr id="169" name="Diamond 27"/>
          <p:cNvGrpSpPr/>
          <p:nvPr/>
        </p:nvGrpSpPr>
        <p:grpSpPr>
          <a:xfrm>
            <a:off x="7143840" y="3565440"/>
            <a:ext cx="1555560" cy="635040"/>
            <a:chOff x="7143840" y="3565440"/>
            <a:chExt cx="1555560" cy="635040"/>
          </a:xfrm>
        </p:grpSpPr>
        <p:pic>
          <p:nvPicPr>
            <p:cNvPr id="170" name="Diamond 27" descr=""/>
            <p:cNvPicPr/>
            <p:nvPr/>
          </p:nvPicPr>
          <p:blipFill>
            <a:blip r:embed="rId4"/>
            <a:stretch/>
          </p:blipFill>
          <p:spPr>
            <a:xfrm>
              <a:off x="7143840" y="3565440"/>
              <a:ext cx="155556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43800" y="3733920"/>
              <a:ext cx="762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ernard MT Condensed"/>
                </a:rPr>
                <a:t>AT</a:t>
              </a:r>
              <a:r>
                <a:rPr b="0" lang="en-US" sz="2000" spc="-1" strike="noStrike" baseline="-25000">
                  <a:solidFill>
                    <a:srgbClr val="ffffff"/>
                  </a:solidFill>
                  <a:latin typeface="Bernard MT Condensed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</p:grpSp>
      <p:sp>
        <p:nvSpPr>
          <p:cNvPr id="172" name="Text Box 6"/>
          <p:cNvSpPr/>
          <p:nvPr/>
        </p:nvSpPr>
        <p:spPr>
          <a:xfrm>
            <a:off x="228600" y="5962680"/>
            <a:ext cx="2209680" cy="36828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Renal SN activation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086280" y="5975280"/>
            <a:ext cx="2323800" cy="64260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Renal Blood flow by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>
              <a:lnSpc>
                <a:spcPts val="21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 Narrow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"/>
              </a:rPr>
              <a:t> agonists &amp; PG</a:t>
            </a:r>
            <a:r>
              <a:rPr b="0" lang="en-US" sz="1800" spc="-1" strike="noStrike">
                <a:solidFill>
                  <a:srgbClr val="000000"/>
                </a:solidFill>
                <a:latin typeface="Elephant"/>
                <a:ea typeface="David Transparent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Elephant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grpSp>
        <p:nvGrpSpPr>
          <p:cNvPr id="174" name="Group 33"/>
          <p:cNvGrpSpPr/>
          <p:nvPr/>
        </p:nvGrpSpPr>
        <p:grpSpPr>
          <a:xfrm>
            <a:off x="2255760" y="5581800"/>
            <a:ext cx="1067040" cy="620640"/>
            <a:chOff x="2255760" y="5581800"/>
            <a:chExt cx="1067040" cy="620640"/>
          </a:xfrm>
        </p:grpSpPr>
        <p:sp>
          <p:nvSpPr>
            <p:cNvPr id="175" name="Arc 31"/>
            <p:cNvSpPr/>
            <p:nvPr/>
          </p:nvSpPr>
          <p:spPr>
            <a:xfrm flipV="1">
              <a:off x="2255760" y="5592600"/>
              <a:ext cx="533520" cy="609840"/>
            </a:xfrm>
            <a:custGeom>
              <a:avLst/>
              <a:gdLst>
                <a:gd name="textAreaLeft" fmla="*/ 266760 w 533520"/>
                <a:gd name="textAreaRight" fmla="*/ 533880 w 533520"/>
                <a:gd name="textAreaTop" fmla="*/ 360 h 609840"/>
                <a:gd name="textAreaBottom" fmla="*/ 305280 h 609840"/>
              </a:gdLst>
              <a:ahLst/>
              <a:rect l="textAreaLeft" t="textAreaTop" r="textAreaRight" b="textAreaBottom"/>
              <a:pathLst>
                <a:path stroke="0" w="533400" h="610054">
                  <a:moveTo>
                    <a:pt x="266700" y="0"/>
                  </a:moveTo>
                  <a:lnTo>
                    <a:pt x="266700" y="0"/>
                  </a:lnTo>
                  <a:arcTo wR="266700" hR="305027" stAng="-5400000" swAng="5400013"/>
                  <a:lnTo>
                    <a:pt x="266700" y="305027"/>
                  </a:lnTo>
                  <a:close/>
                </a:path>
                <a:path fill="none" w="533400" h="610054">
                  <a:moveTo>
                    <a:pt x="266700" y="0"/>
                  </a:moveTo>
                  <a:lnTo>
                    <a:pt x="266700" y="0"/>
                  </a:lnTo>
                  <a:arcTo wR="266700" hR="305027" stAng="-5400000" swAng="5400013"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  <a:effectLst>
              <a:outerShdw dist="38160" dir="10800000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76" name="Arc 32"/>
            <p:cNvSpPr/>
            <p:nvPr/>
          </p:nvSpPr>
          <p:spPr>
            <a:xfrm flipH="1" flipV="1">
              <a:off x="2789280" y="5581800"/>
              <a:ext cx="533520" cy="609840"/>
            </a:xfrm>
            <a:custGeom>
              <a:avLst/>
              <a:gdLst>
                <a:gd name="textAreaLeft" fmla="*/ 266760 w 533520"/>
                <a:gd name="textAreaRight" fmla="*/ 533880 w 533520"/>
                <a:gd name="textAreaTop" fmla="*/ 360 h 609840"/>
                <a:gd name="textAreaBottom" fmla="*/ 305280 h 609840"/>
              </a:gdLst>
              <a:ahLst/>
              <a:rect l="textAreaLeft" t="textAreaTop" r="textAreaRight" b="textAreaBottom"/>
              <a:pathLst>
                <a:path stroke="0" w="533400" h="610054">
                  <a:moveTo>
                    <a:pt x="266700" y="0"/>
                  </a:moveTo>
                  <a:lnTo>
                    <a:pt x="266700" y="0"/>
                  </a:lnTo>
                  <a:arcTo wR="266700" hR="305027" stAng="-5400000" swAng="5400013"/>
                  <a:lnTo>
                    <a:pt x="266700" y="305027"/>
                  </a:lnTo>
                  <a:close/>
                </a:path>
                <a:path fill="none" w="533400" h="610054">
                  <a:moveTo>
                    <a:pt x="266700" y="0"/>
                  </a:moveTo>
                  <a:lnTo>
                    <a:pt x="266700" y="0"/>
                  </a:lnTo>
                  <a:arcTo wR="266700" hR="305027" stAng="-5400000" swAng="5400013"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  <a:effectLst>
              <a:outerShdw dist="38160" dir="0" blurRad="0" rotWithShape="0">
                <a:srgbClr val="00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</p:grpSp>
      <p:grpSp>
        <p:nvGrpSpPr>
          <p:cNvPr id="177" name="Group 38"/>
          <p:cNvGrpSpPr/>
          <p:nvPr/>
        </p:nvGrpSpPr>
        <p:grpSpPr>
          <a:xfrm>
            <a:off x="6781320" y="3809880"/>
            <a:ext cx="621000" cy="1067040"/>
            <a:chOff x="6781320" y="3809880"/>
            <a:chExt cx="621000" cy="1067040"/>
          </a:xfrm>
        </p:grpSpPr>
        <p:sp>
          <p:nvSpPr>
            <p:cNvPr id="178" name="Arc 35"/>
            <p:cNvSpPr/>
            <p:nvPr/>
          </p:nvSpPr>
          <p:spPr>
            <a:xfrm flipH="1" flipV="1" rot="16200000">
              <a:off x="6829920" y="3771360"/>
              <a:ext cx="533520" cy="610200"/>
            </a:xfrm>
            <a:custGeom>
              <a:avLst/>
              <a:gdLst>
                <a:gd name="textAreaLeft" fmla="*/ 266760 w 533520"/>
                <a:gd name="textAreaRight" fmla="*/ 533880 w 533520"/>
                <a:gd name="textAreaTop" fmla="*/ -360 h 610200"/>
                <a:gd name="textAreaBottom" fmla="*/ 304920 h 610200"/>
              </a:gdLst>
              <a:ahLst/>
              <a:rect l="textAreaLeft" t="textAreaTop" r="textAreaRight" b="textAreaBottom"/>
              <a:pathLst>
                <a:path stroke="0" w="533400" h="610053">
                  <a:moveTo>
                    <a:pt x="266700" y="0"/>
                  </a:moveTo>
                  <a:lnTo>
                    <a:pt x="266700" y="0"/>
                  </a:lnTo>
                  <a:arcTo wR="266700" hR="305027" stAng="-5400000" swAng="5400013"/>
                  <a:lnTo>
                    <a:pt x="266700" y="305027"/>
                  </a:lnTo>
                  <a:close/>
                </a:path>
                <a:path fill="none" w="533400" h="610053">
                  <a:moveTo>
                    <a:pt x="266700" y="0"/>
                  </a:moveTo>
                  <a:lnTo>
                    <a:pt x="266700" y="0"/>
                  </a:lnTo>
                  <a:arcTo wR="266700" hR="305027" stAng="-5400000" swAng="5400013"/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  <a:effectLst>
              <a:outerShdw dist="38160" dir="10800000" blurRad="0" rotWithShape="0">
                <a:srgbClr val="00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79" name="Arc 36"/>
            <p:cNvSpPr/>
            <p:nvPr/>
          </p:nvSpPr>
          <p:spPr>
            <a:xfrm flipV="1" rot="16200000">
              <a:off x="6819480" y="4304880"/>
              <a:ext cx="533520" cy="610200"/>
            </a:xfrm>
            <a:custGeom>
              <a:avLst/>
              <a:gdLst>
                <a:gd name="textAreaLeft" fmla="*/ 266760 w 533520"/>
                <a:gd name="textAreaRight" fmla="*/ 533880 w 533520"/>
                <a:gd name="textAreaTop" fmla="*/ -360 h 610200"/>
                <a:gd name="textAreaBottom" fmla="*/ 304920 h 610200"/>
              </a:gdLst>
              <a:ahLst/>
              <a:rect l="textAreaLeft" t="textAreaTop" r="textAreaRight" b="textAreaBottom"/>
              <a:pathLst>
                <a:path stroke="0" w="533400" h="610053">
                  <a:moveTo>
                    <a:pt x="266700" y="0"/>
                  </a:moveTo>
                  <a:lnTo>
                    <a:pt x="266700" y="0"/>
                  </a:lnTo>
                  <a:arcTo wR="266700" hR="305027" stAng="-5400000" swAng="5400013"/>
                  <a:lnTo>
                    <a:pt x="266700" y="305027"/>
                  </a:lnTo>
                  <a:close/>
                </a:path>
                <a:path fill="none" w="533400" h="610053">
                  <a:moveTo>
                    <a:pt x="266700" y="0"/>
                  </a:moveTo>
                  <a:lnTo>
                    <a:pt x="266700" y="0"/>
                  </a:lnTo>
                  <a:arcTo wR="266700" hR="305027" stAng="-5400000" swAng="5400013"/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  <a:effectLst>
              <a:outerShdw dist="38160" dir="0" blurRad="0" rotWithShape="0">
                <a:srgbClr val="ff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</p:grpSp>
      <p:pic>
        <p:nvPicPr>
          <p:cNvPr id="180" name="Rectangle 40" descr=""/>
          <p:cNvPicPr/>
          <p:nvPr/>
        </p:nvPicPr>
        <p:blipFill>
          <a:blip r:embed="rId5"/>
          <a:stretch/>
        </p:blipFill>
        <p:spPr>
          <a:xfrm>
            <a:off x="6662880" y="4956120"/>
            <a:ext cx="1761840" cy="1616040"/>
          </a:xfrm>
          <a:prstGeom prst="rect">
            <a:avLst/>
          </a:prstGeom>
          <a:ln w="0">
            <a:noFill/>
          </a:ln>
        </p:spPr>
      </p:pic>
      <p:pic>
        <p:nvPicPr>
          <p:cNvPr id="181" name="Rectangle 41" descr=""/>
          <p:cNvPicPr/>
          <p:nvPr/>
        </p:nvPicPr>
        <p:blipFill>
          <a:blip r:embed="rId6"/>
          <a:stretch/>
        </p:blipFill>
        <p:spPr>
          <a:xfrm>
            <a:off x="7265880" y="4979880"/>
            <a:ext cx="1822680" cy="1513080"/>
          </a:xfrm>
          <a:prstGeom prst="rect">
            <a:avLst/>
          </a:prstGeom>
          <a:ln w="0">
            <a:noFill/>
          </a:ln>
        </p:spPr>
      </p:pic>
      <p:pic>
        <p:nvPicPr>
          <p:cNvPr id="182" name="Rectangle 42" descr=""/>
          <p:cNvPicPr/>
          <p:nvPr/>
        </p:nvPicPr>
        <p:blipFill>
          <a:blip r:embed="rId7"/>
          <a:stretch/>
        </p:blipFill>
        <p:spPr>
          <a:xfrm>
            <a:off x="7686720" y="4492800"/>
            <a:ext cx="1963800" cy="13651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43"/>
          <p:cNvSpPr/>
          <p:nvPr/>
        </p:nvSpPr>
        <p:spPr>
          <a:xfrm>
            <a:off x="304920" y="6400800"/>
            <a:ext cx="2286000" cy="398880"/>
          </a:xfrm>
          <a:prstGeom prst="rect">
            <a:avLst/>
          </a:prstGeom>
          <a:solidFill>
            <a:srgbClr val="e5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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lood Pressure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2209680" y="3276720"/>
            <a:ext cx="838440" cy="76176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85" name="Oval 45"/>
          <p:cNvSpPr/>
          <p:nvPr/>
        </p:nvSpPr>
        <p:spPr>
          <a:xfrm>
            <a:off x="3886200" y="2286000"/>
            <a:ext cx="838080" cy="76212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blinds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0833 0 E">
                                      <p:cBhvr>
                                        <p:cTn id="21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 0 E">
                                      <p:cBhvr>
                                        <p:cTn id="25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3"/>
          <p:cNvGrpSpPr/>
          <p:nvPr/>
        </p:nvGrpSpPr>
        <p:grpSpPr>
          <a:xfrm>
            <a:off x="2057400" y="1676520"/>
            <a:ext cx="5981040" cy="3889080"/>
            <a:chOff x="2057400" y="1676520"/>
            <a:chExt cx="5981040" cy="3889080"/>
          </a:xfrm>
        </p:grpSpPr>
        <p:sp>
          <p:nvSpPr>
            <p:cNvPr id="187" name="Rectangle 5"/>
            <p:cNvSpPr/>
            <p:nvPr/>
          </p:nvSpPr>
          <p:spPr>
            <a:xfrm>
              <a:off x="4145040" y="2756160"/>
              <a:ext cx="2448000" cy="17287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88" name="Text Box 7"/>
            <p:cNvSpPr/>
            <p:nvPr/>
          </p:nvSpPr>
          <p:spPr>
            <a:xfrm>
              <a:off x="4460400" y="3046680"/>
              <a:ext cx="1780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20th Century Font"/>
                </a:rPr>
                <a:t>angiotensin-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20th Century Font"/>
                </a:rPr>
                <a:t>converting 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20th Century Font"/>
                </a:rPr>
                <a:t>enzyme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89" name="Line 9"/>
            <p:cNvSpPr/>
            <p:nvPr/>
          </p:nvSpPr>
          <p:spPr>
            <a:xfrm>
              <a:off x="4289760" y="2395800"/>
              <a:ext cx="0" cy="24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90" name="Text Box 12"/>
            <p:cNvSpPr/>
            <p:nvPr/>
          </p:nvSpPr>
          <p:spPr>
            <a:xfrm>
              <a:off x="3156840" y="1676520"/>
              <a:ext cx="160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Angiotensin I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(inactive)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91" name="Text Box 13"/>
            <p:cNvSpPr/>
            <p:nvPr/>
          </p:nvSpPr>
          <p:spPr>
            <a:xfrm>
              <a:off x="2571480" y="4923000"/>
              <a:ext cx="265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Angiotensin II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(active vasoconstrictor)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5605920" y="1676520"/>
              <a:ext cx="21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Bradykinin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(active vasodilator)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5681520" y="4916520"/>
              <a:ext cx="235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Inactive metabolites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grpSp>
          <p:nvGrpSpPr>
            <p:cNvPr id="194" name="Group 22"/>
            <p:cNvGrpSpPr/>
            <p:nvPr/>
          </p:nvGrpSpPr>
          <p:grpSpPr>
            <a:xfrm>
              <a:off x="2057400" y="3403800"/>
              <a:ext cx="1800360" cy="431640"/>
              <a:chOff x="2057400" y="3403800"/>
              <a:chExt cx="1800360" cy="431640"/>
            </a:xfrm>
          </p:grpSpPr>
          <p:sp>
            <p:nvSpPr>
              <p:cNvPr id="195" name="Line 17"/>
              <p:cNvSpPr/>
              <p:nvPr/>
            </p:nvSpPr>
            <p:spPr>
              <a:xfrm>
                <a:off x="2057400" y="3619440"/>
                <a:ext cx="1800360" cy="0"/>
              </a:xfrm>
              <a:prstGeom prst="line">
                <a:avLst/>
              </a:prstGeom>
              <a:ln w="12708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20th Century Font"/>
                </a:endParaRPr>
              </a:p>
            </p:txBody>
          </p:sp>
          <p:grpSp>
            <p:nvGrpSpPr>
              <p:cNvPr id="196" name="Group 21"/>
              <p:cNvGrpSpPr/>
              <p:nvPr/>
            </p:nvGrpSpPr>
            <p:grpSpPr>
              <a:xfrm>
                <a:off x="2633760" y="3403800"/>
                <a:ext cx="432000" cy="431640"/>
                <a:chOff x="2633760" y="3403800"/>
                <a:chExt cx="432000" cy="431640"/>
              </a:xfrm>
            </p:grpSpPr>
            <p:sp>
              <p:nvSpPr>
                <p:cNvPr id="197" name="Oval 18"/>
                <p:cNvSpPr/>
                <p:nvPr/>
              </p:nvSpPr>
              <p:spPr>
                <a:xfrm>
                  <a:off x="2633760" y="3403800"/>
                  <a:ext cx="432000" cy="431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20th Century Font"/>
                  </a:endParaRPr>
                </a:p>
              </p:txBody>
            </p:sp>
            <p:sp>
              <p:nvSpPr>
                <p:cNvPr id="198" name="Line 20"/>
                <p:cNvSpPr/>
                <p:nvPr/>
              </p:nvSpPr>
              <p:spPr>
                <a:xfrm>
                  <a:off x="2706840" y="36194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20th Century Font"/>
                  </a:endParaRPr>
                </a:p>
              </p:txBody>
            </p:sp>
          </p:grpSp>
        </p:grpSp>
      </p:grpSp>
      <p:sp>
        <p:nvSpPr>
          <p:cNvPr id="199" name="Text Box 24"/>
          <p:cNvSpPr/>
          <p:nvPr/>
        </p:nvSpPr>
        <p:spPr>
          <a:xfrm>
            <a:off x="306720" y="2997360"/>
            <a:ext cx="1789920" cy="88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20th Century Font"/>
              </a:rPr>
              <a:t>ACE </a:t>
            </a:r>
            <a:endParaRPr b="0" lang="en-US" sz="26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20th Century Font"/>
              </a:rPr>
              <a:t>inhibitors</a:t>
            </a:r>
            <a:endParaRPr b="0" lang="en-US" sz="26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20th Century Font"/>
              </a:rPr>
              <a:t>Mechanism of action of </a:t>
            </a:r>
            <a:r>
              <a:rPr b="1" lang="cs-CZ" sz="2000" spc="-1" strike="noStrike">
                <a:solidFill>
                  <a:srgbClr val="c0504d"/>
                </a:solidFill>
                <a:latin typeface="20th Century Font"/>
              </a:rPr>
              <a:t> Angiotensin-converting enzyme inhibitors (ACEI)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grpSp>
        <p:nvGrpSpPr>
          <p:cNvPr id="201" name="Group 23"/>
          <p:cNvGrpSpPr/>
          <p:nvPr/>
        </p:nvGrpSpPr>
        <p:grpSpPr>
          <a:xfrm>
            <a:off x="2057400" y="1676520"/>
            <a:ext cx="5981040" cy="3889080"/>
            <a:chOff x="2057400" y="1676520"/>
            <a:chExt cx="5981040" cy="3889080"/>
          </a:xfrm>
        </p:grpSpPr>
        <p:sp>
          <p:nvSpPr>
            <p:cNvPr id="202" name="Rectangle 5"/>
            <p:cNvSpPr/>
            <p:nvPr/>
          </p:nvSpPr>
          <p:spPr>
            <a:xfrm>
              <a:off x="4145040" y="2756160"/>
              <a:ext cx="2448000" cy="17287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203" name="Text Box 7"/>
            <p:cNvSpPr/>
            <p:nvPr/>
          </p:nvSpPr>
          <p:spPr>
            <a:xfrm>
              <a:off x="4460400" y="3046680"/>
              <a:ext cx="1780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20th Century Font"/>
                </a:rPr>
                <a:t>angiotensin-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20th Century Font"/>
                </a:rPr>
                <a:t>converting 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20th Century Font"/>
                </a:rPr>
                <a:t>enzyme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204" name="Line 9"/>
            <p:cNvSpPr/>
            <p:nvPr/>
          </p:nvSpPr>
          <p:spPr>
            <a:xfrm>
              <a:off x="4289760" y="2395800"/>
              <a:ext cx="0" cy="24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3156840" y="1676520"/>
              <a:ext cx="160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Angiotensin I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(inactive)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206" name="Text Box 13"/>
            <p:cNvSpPr/>
            <p:nvPr/>
          </p:nvSpPr>
          <p:spPr>
            <a:xfrm>
              <a:off x="2571480" y="4923000"/>
              <a:ext cx="265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Angiotensin II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(active vasoconstrictor)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207" name="Text Box 14"/>
            <p:cNvSpPr/>
            <p:nvPr/>
          </p:nvSpPr>
          <p:spPr>
            <a:xfrm>
              <a:off x="5605920" y="1676520"/>
              <a:ext cx="21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Bradykinin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(active vasodilator)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208" name="Text Box 15"/>
            <p:cNvSpPr/>
            <p:nvPr/>
          </p:nvSpPr>
          <p:spPr>
            <a:xfrm>
              <a:off x="5681520" y="4916520"/>
              <a:ext cx="235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</a:rPr>
                <a:t>Inactive metabolites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grpSp>
          <p:nvGrpSpPr>
            <p:cNvPr id="209" name="Group 22"/>
            <p:cNvGrpSpPr/>
            <p:nvPr/>
          </p:nvGrpSpPr>
          <p:grpSpPr>
            <a:xfrm>
              <a:off x="2057400" y="3403800"/>
              <a:ext cx="1800360" cy="431640"/>
              <a:chOff x="2057400" y="3403800"/>
              <a:chExt cx="1800360" cy="431640"/>
            </a:xfrm>
          </p:grpSpPr>
          <p:sp>
            <p:nvSpPr>
              <p:cNvPr id="210" name="Line 17"/>
              <p:cNvSpPr/>
              <p:nvPr/>
            </p:nvSpPr>
            <p:spPr>
              <a:xfrm>
                <a:off x="2057400" y="3619440"/>
                <a:ext cx="1800360" cy="0"/>
              </a:xfrm>
              <a:prstGeom prst="line">
                <a:avLst/>
              </a:prstGeom>
              <a:ln w="12708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20th Century Font"/>
                </a:endParaRPr>
              </a:p>
            </p:txBody>
          </p:sp>
          <p:grpSp>
            <p:nvGrpSpPr>
              <p:cNvPr id="211" name="Group 21"/>
              <p:cNvGrpSpPr/>
              <p:nvPr/>
            </p:nvGrpSpPr>
            <p:grpSpPr>
              <a:xfrm>
                <a:off x="2633760" y="3403800"/>
                <a:ext cx="432000" cy="431640"/>
                <a:chOff x="2633760" y="3403800"/>
                <a:chExt cx="432000" cy="431640"/>
              </a:xfrm>
            </p:grpSpPr>
            <p:sp>
              <p:nvSpPr>
                <p:cNvPr id="212" name="Oval 18"/>
                <p:cNvSpPr/>
                <p:nvPr/>
              </p:nvSpPr>
              <p:spPr>
                <a:xfrm>
                  <a:off x="2633760" y="3403800"/>
                  <a:ext cx="432000" cy="431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20th Century Font"/>
                  </a:endParaRPr>
                </a:p>
              </p:txBody>
            </p:sp>
            <p:sp>
              <p:nvSpPr>
                <p:cNvPr id="213" name="Line 20"/>
                <p:cNvSpPr/>
                <p:nvPr/>
              </p:nvSpPr>
              <p:spPr>
                <a:xfrm>
                  <a:off x="2706840" y="36194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20th Century Font"/>
                  </a:endParaRPr>
                </a:p>
              </p:txBody>
            </p:sp>
          </p:grpSp>
        </p:grpSp>
      </p:grp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OBJECTIVES ( continu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scribe the mechanism of action , therapeutic uses &amp; common adverse effects of  each class of drugs including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drenoceptor blocking drugs  (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&amp;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  <a:ea typeface="Tahoma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blocking drugs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Diur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Calcium channel blocking dr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Vasodila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684360" y="393120"/>
            <a:ext cx="8135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00"/>
                </a:solidFill>
                <a:latin typeface="20th Century Font"/>
              </a:rPr>
              <a:t>Mechanism of action:</a:t>
            </a:r>
            <a:endParaRPr b="0" lang="en-US" sz="2200" spc="-1" strike="noStrike">
              <a:solidFill>
                <a:srgbClr val="000000"/>
              </a:solidFill>
              <a:latin typeface="20th Century Fon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20th Century Font"/>
              </a:rPr>
              <a:t>Converting enzyme inhibitors lower blood pressure by reducing </a:t>
            </a:r>
            <a:r>
              <a:rPr b="1" lang="cs-CZ" sz="2200" spc="-1" strike="noStrike" u="sng">
                <a:solidFill>
                  <a:srgbClr val="000000"/>
                </a:solidFill>
                <a:uFillTx/>
                <a:latin typeface="20th Century Font"/>
              </a:rPr>
              <a:t>angiotensin II</a:t>
            </a:r>
            <a:r>
              <a:rPr b="0" lang="cs-CZ" sz="2200" spc="-1" strike="noStrike">
                <a:solidFill>
                  <a:srgbClr val="000000"/>
                </a:solidFill>
                <a:latin typeface="20th Century Font"/>
              </a:rPr>
              <a:t>, and also by increasing vasodilator peptides such as bradykinin. </a:t>
            </a:r>
            <a:endParaRPr b="0" lang="en-US" sz="2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330200" y="3830760"/>
            <a:ext cx="7562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 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20th Century Font"/>
              </a:rPr>
              <a:t>reduction of sympathetic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20th Century Font"/>
              </a:rPr>
              <a:t> activity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(use is not associated with reflex tachycardia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despite causing arterioral and venous dilatation)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</a:rPr>
              <a:t>Reduce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the arteriolar and left ventricular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20th Century Font"/>
              </a:rPr>
              <a:t>remodelling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that are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believed to be important in the pathogenesis of human essential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hypertension and post-infarction state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1619280" y="242100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Dilatation of arteriol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reduction of peripheral vascular resistance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</a:rPr>
              <a:t>(</a:t>
            </a:r>
            <a:r>
              <a:rPr b="1" lang="cs-CZ" sz="1800" spc="-1" strike="noStrike">
                <a:solidFill>
                  <a:srgbClr val="ff0000"/>
                </a:solidFill>
                <a:latin typeface="20th Century Font"/>
              </a:rPr>
              <a:t>afterload </a:t>
            </a:r>
            <a:r>
              <a:rPr b="1" lang="en-US" sz="1800" spc="-1" strike="noStrike">
                <a:solidFill>
                  <a:srgbClr val="ff0000"/>
                </a:solidFill>
                <a:latin typeface="20th Century Fon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467720" y="3213000"/>
            <a:ext cx="742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Increase of Na</a:t>
            </a:r>
            <a:r>
              <a:rPr b="0" lang="cs-CZ" sz="1800" spc="-1" strike="noStrike" baseline="30000">
                <a:solidFill>
                  <a:srgbClr val="000000"/>
                </a:solidFill>
                <a:latin typeface="20th Century Font"/>
              </a:rPr>
              <a:t>+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and decrease of K</a:t>
            </a:r>
            <a:r>
              <a:rPr b="0" lang="cs-CZ" sz="1800" spc="-1" strike="noStrike" baseline="30000">
                <a:solidFill>
                  <a:srgbClr val="000000"/>
                </a:solidFill>
                <a:latin typeface="20th Century Font"/>
              </a:rPr>
              <a:t>+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</a:rPr>
              <a:t> excretion in kidney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</a:rPr>
              <a:t> by inhibition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20th Century Font"/>
              </a:rPr>
              <a:t>Aldosterone secretion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8" name="Line 14"/>
          <p:cNvSpPr/>
          <p:nvPr/>
        </p:nvSpPr>
        <p:spPr>
          <a:xfrm>
            <a:off x="611280" y="263700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9" name="Line 15"/>
          <p:cNvSpPr/>
          <p:nvPr/>
        </p:nvSpPr>
        <p:spPr>
          <a:xfrm>
            <a:off x="611280" y="342900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20" name="Line 16"/>
          <p:cNvSpPr/>
          <p:nvPr/>
        </p:nvSpPr>
        <p:spPr>
          <a:xfrm>
            <a:off x="611280" y="407664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21" name="Line 17"/>
          <p:cNvSpPr/>
          <p:nvPr/>
        </p:nvSpPr>
        <p:spPr>
          <a:xfrm>
            <a:off x="611280" y="508464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22" name="Line 18"/>
          <p:cNvSpPr/>
          <p:nvPr/>
        </p:nvSpPr>
        <p:spPr>
          <a:xfrm>
            <a:off x="611280" y="587700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Pharmacoki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Captopril</a:t>
            </a: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, Lisonopril;  </a:t>
            </a:r>
            <a:r>
              <a:rPr b="1" lang="en-US" sz="2800" spc="-1" strike="noStrike">
                <a:solidFill>
                  <a:srgbClr val="339933"/>
                </a:solidFill>
                <a:latin typeface="Calibri"/>
                <a:ea typeface="Arial"/>
              </a:rPr>
              <a:t>Enalapril </a:t>
            </a: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and </a:t>
            </a:r>
            <a:r>
              <a:rPr b="1" lang="en-US" sz="2800" spc="-1" strike="noStrike">
                <a:solidFill>
                  <a:srgbClr val="339933"/>
                </a:solidFill>
                <a:latin typeface="Calibri"/>
                <a:ea typeface="Arial"/>
              </a:rPr>
              <a:t>Ramipril; Fisonopril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All are rapidly absorbed from GIT after oral administ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Food reduce their bioavail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alibri"/>
                <a:ea typeface="Arial"/>
              </a:rPr>
              <a:t>Enalapril , ramipril  </a:t>
            </a: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are prodrugs, converted to the active metabolite in the liv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Have a long half-life &amp; given once daily except Captopr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alibri"/>
                <a:ea typeface="Arial"/>
              </a:rPr>
              <a:t>Enalaprilat</a:t>
            </a: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 is the active metabolite of enalapril given by i.v. route in hypertensive emerg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Phrmacoki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Calibri"/>
                <a:ea typeface="Arial"/>
              </a:rPr>
              <a:t>Captopril   i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s not a prodru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Has a short half-life  &amp; given twice /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All ACEI are distributed to all tissues except C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Clinical 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  </a:t>
            </a: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Treatment  of  hypertension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     </a:t>
            </a: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Treatment of heart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alibri"/>
                <a:ea typeface="Arial"/>
              </a:rPr>
              <a:t>Diabetic nephropathy . How do they wor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25092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DVERSE EFF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ute renal failure, especially in pat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Arial"/>
              </a:rPr>
              <a:t>bilateral renal artery steno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yperkalemia  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Cont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sist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cough 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gioneurotic edema (swelling in the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se , throat, tongue, larynx</a:t>
            </a:r>
            <a:r>
              <a:rPr b="1" lang="en-US" sz="3200" spc="-1" strike="noStrike">
                <a:solidFill>
                  <a:srgbClr val="7f7f7f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5092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Cont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  <a:ea typeface="Arial"/>
              </a:rPr>
              <a:t> </a:t>
            </a:r>
            <a:r>
              <a:rPr b="1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( 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Arial"/>
              </a:rPr>
              <a:t>cough &amp; edema due to  bradykini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 </a:t>
            </a:r>
            <a:r>
              <a:rPr b="1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vere hypotension in hypovolemic patients (due to diuretics, salt restriction or gastrointestinal fluid lo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25092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Cont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ste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kin rash, f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Arial"/>
                <a:ea typeface="Arial"/>
              </a:rPr>
              <a:t>( taste loss.   is due to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ulfhydryl </a:t>
            </a:r>
            <a:r>
              <a:rPr b="1" lang="en-US" sz="2800" spc="-1" strike="noStrike">
                <a:solidFill>
                  <a:srgbClr val="898989"/>
                </a:solidFill>
                <a:latin typeface="Arial"/>
                <a:ea typeface="Arial"/>
              </a:rPr>
              <a:t>group in the molecule of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  <a:ea typeface="Arial"/>
              </a:rPr>
              <a:t>captopril ).</a:t>
            </a:r>
            <a:r>
              <a:rPr b="1" lang="en-US" sz="2800" spc="-1" strike="noStrike">
                <a:solidFill>
                  <a:srgbClr val="89898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Contraind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uring the second and third trimesters of pregnancy due to the risk of : fetal hypotension, anuria, renal failure 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malformation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ilateral renal artery stenosis or stenosis of a renal artery with  solitary kidney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. 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Drug inter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With potassium-sparing diuretics (e.g: Spirinolacton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NSAIDs impair their hypotensiv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       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by blocking bradykinin-mediated                    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vasodilatation.</a:t>
            </a:r>
            <a:r>
              <a:rPr b="0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OBJECTIVES ( 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nverting enzyme inhibi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giotensin receptor block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scribe the advantages of ARBs over AC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1725480" y="609480"/>
            <a:ext cx="5969520" cy="8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0000"/>
                </a:solidFill>
                <a:latin typeface="20th Century Font"/>
              </a:rPr>
              <a:t>   </a:t>
            </a:r>
            <a:r>
              <a:rPr b="1" lang="cs-CZ" sz="2400" spc="-1" strike="noStrike">
                <a:solidFill>
                  <a:srgbClr val="cc0000"/>
                </a:solidFill>
                <a:latin typeface="20th Century Font"/>
              </a:rPr>
              <a:t>BLOCKERS OF AT</a:t>
            </a:r>
            <a:r>
              <a:rPr b="1" lang="cs-CZ" sz="2400" spc="-1" strike="noStrike" baseline="-25000">
                <a:solidFill>
                  <a:srgbClr val="cc0000"/>
                </a:solidFill>
                <a:latin typeface="20th Century Font"/>
              </a:rPr>
              <a:t>1</a:t>
            </a:r>
            <a:r>
              <a:rPr b="1" lang="cs-CZ" sz="2400" spc="-1" strike="noStrike">
                <a:solidFill>
                  <a:srgbClr val="cc0000"/>
                </a:solidFill>
                <a:latin typeface="20th Century Font"/>
              </a:rPr>
              <a:t> RECEPTOR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20th Century Font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20th Century Font"/>
              </a:rPr>
              <a:t>losartan, valosartan, irbesartan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457200" y="1905120"/>
            <a:ext cx="8534520" cy="41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</a:rPr>
              <a:t>- </a:t>
            </a:r>
            <a:r>
              <a:rPr b="1" i="1" lang="cs-CZ" sz="2000" spc="-1" strike="noStrike">
                <a:solidFill>
                  <a:srgbClr val="cc0000"/>
                </a:solidFill>
                <a:latin typeface="20th Century Font"/>
              </a:rPr>
              <a:t>competitively inhibit angiotensin II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</a:rPr>
              <a:t> at its AT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20th Century Font"/>
              </a:rPr>
              <a:t>1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</a:rPr>
              <a:t>receptor site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most of the effects of angiotensin II - including vasoconstriction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and aldosterone release - are mediated by the AT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20th Century Font"/>
                <a:ea typeface="Arial"/>
              </a:rPr>
              <a:t>1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receptor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they influence RAS more effective because of selective blockade  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(angiotensin II synthesis in tissue is not completely dependent only on renin release,  but could be promote by </a:t>
            </a:r>
            <a:r>
              <a:rPr b="1" lang="cs-CZ" sz="2000" spc="-1" strike="noStrike">
                <a:solidFill>
                  <a:srgbClr val="c0504d"/>
                </a:solidFill>
                <a:latin typeface="20th Century Font"/>
                <a:ea typeface="Arial"/>
              </a:rPr>
              <a:t>serin-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504d"/>
                </a:solidFill>
                <a:latin typeface="20th Century Font"/>
                <a:ea typeface="Arial"/>
              </a:rPr>
              <a:t>    </a:t>
            </a:r>
            <a:r>
              <a:rPr b="1" lang="cs-CZ" sz="2000" spc="-1" strike="noStrike">
                <a:solidFill>
                  <a:srgbClr val="c0504d"/>
                </a:solidFill>
                <a:latin typeface="20th Century Font"/>
                <a:ea typeface="Arial"/>
              </a:rPr>
              <a:t>protease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- 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2"/>
          <p:cNvSpPr/>
          <p:nvPr/>
        </p:nvSpPr>
        <p:spPr>
          <a:xfrm>
            <a:off x="2514600" y="1295280"/>
            <a:ext cx="2971800" cy="990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2887200" y="1546200"/>
            <a:ext cx="22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angiote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inogen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2514600" y="3124080"/>
            <a:ext cx="2971800" cy="990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131640" y="33750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angiote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in I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2514600" y="4952880"/>
            <a:ext cx="2971800" cy="990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2953800" y="5203800"/>
            <a:ext cx="19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angiote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in II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4038480" y="23623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2" name="Line 9"/>
          <p:cNvSpPr/>
          <p:nvPr/>
        </p:nvSpPr>
        <p:spPr>
          <a:xfrm>
            <a:off x="3962520" y="41911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100040" y="2403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nin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4025880" y="43084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5" name="Text Box 12"/>
          <p:cNvSpPr/>
          <p:nvPr/>
        </p:nvSpPr>
        <p:spPr>
          <a:xfrm>
            <a:off x="6182280" y="33177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nonrenin prot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ses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cathepsin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t-PA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6" name="Freeform 13"/>
          <p:cNvSpPr/>
          <p:nvPr/>
        </p:nvSpPr>
        <p:spPr>
          <a:xfrm>
            <a:off x="5638680" y="1828800"/>
            <a:ext cx="2006640" cy="152388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1264" h="960">
                <a:moveTo>
                  <a:pt x="0" y="0"/>
                </a:moveTo>
                <a:cubicBezTo>
                  <a:pt x="424" y="40"/>
                  <a:pt x="848" y="80"/>
                  <a:pt x="1056" y="240"/>
                </a:cubicBezTo>
                <a:cubicBezTo>
                  <a:pt x="1264" y="400"/>
                  <a:pt x="1256" y="680"/>
                  <a:pt x="1248" y="96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7" name="Freeform 14"/>
          <p:cNvSpPr/>
          <p:nvPr/>
        </p:nvSpPr>
        <p:spPr>
          <a:xfrm>
            <a:off x="5638680" y="441972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248" h="720">
                <a:moveTo>
                  <a:pt x="0" y="720"/>
                </a:moveTo>
                <a:cubicBezTo>
                  <a:pt x="400" y="708"/>
                  <a:pt x="800" y="696"/>
                  <a:pt x="1008" y="576"/>
                </a:cubicBezTo>
                <a:cubicBezTo>
                  <a:pt x="1216" y="456"/>
                  <a:pt x="1232" y="228"/>
                  <a:pt x="12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8" name="Freeform 15"/>
          <p:cNvSpPr/>
          <p:nvPr/>
        </p:nvSpPr>
        <p:spPr>
          <a:xfrm>
            <a:off x="1384200" y="3581280"/>
            <a:ext cx="1054080" cy="205740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664" h="1296">
                <a:moveTo>
                  <a:pt x="664" y="0"/>
                </a:moveTo>
                <a:cubicBezTo>
                  <a:pt x="448" y="56"/>
                  <a:pt x="232" y="112"/>
                  <a:pt x="136" y="288"/>
                </a:cubicBezTo>
                <a:cubicBezTo>
                  <a:pt x="40" y="464"/>
                  <a:pt x="0" y="888"/>
                  <a:pt x="88" y="1056"/>
                </a:cubicBezTo>
                <a:cubicBezTo>
                  <a:pt x="176" y="1224"/>
                  <a:pt x="420" y="1260"/>
                  <a:pt x="664" y="12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1085400" y="4191120"/>
            <a:ext cx="129924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chym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se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CAGE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Bernard MT Condensed"/>
                <a:ea typeface="Times New Roman"/>
              </a:rPr>
              <a:t>Contin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y have no effect on bradykinin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causing neither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:   cough, wheezin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r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angioedem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Losartan, valsartan , irbesarta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  <a:ea typeface="Times New Roman"/>
              </a:rPr>
              <a:t>Advers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As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ACEI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except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 cough, wheezing, and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angioed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Same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contraindication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as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  <a:ea typeface="Arial"/>
              </a:rPr>
              <a:t> ACE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Drug Combination for Hyper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10820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ydrochlorothiazide (12.5 mg+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Valsart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60 or 80 mg)  (Co-Diova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ydrochlorothiazide (12.5 mg +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osar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50 or 100 m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ydrochlorothiazide (12.5 m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+ Lisinopri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10 or 20 m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Drugs for treatment of hypertensive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abetal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ydralazine (in pregnanc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odium nitroprusside (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li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Arial"/>
              </a:rPr>
              <a:t>General characters of good drug for Cris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ast &amp; short ac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iven by 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recaution in  management of hypertensive emerg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 using short-acting nifedipine because of the risk of rapid, unpredictable hypotension &amp; the possibility of precipitating ischemic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rugs used for management of hypertension in pregnan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yldopa ( the preferred first line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etal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alaz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uretics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THANK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Any Questions 050528120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10" descr="camel"/>
          <p:cNvPicPr/>
          <p:nvPr/>
        </p:nvPicPr>
        <p:blipFill>
          <a:blip r:embed="rId1"/>
          <a:stretch/>
        </p:blipFill>
        <p:spPr>
          <a:xfrm>
            <a:off x="1258920" y="1557360"/>
            <a:ext cx="6899400" cy="4599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8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2189520" y="-25560"/>
            <a:ext cx="51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20th Century Font"/>
              </a:rPr>
              <a:t>FACTORS IN BLOOD PRESSURE CONTROL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Hyperten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98989"/>
                </a:solidFill>
                <a:latin typeface="Calibri"/>
                <a:ea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Calibri"/>
              </a:rPr>
              <a:t>Blood pressure is determined b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- Blood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- Cardiac output ( rate &amp; contractility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- Peripheral re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Blood Pressure.jpg"/>
          <p:cNvPicPr/>
          <p:nvPr/>
        </p:nvPicPr>
        <p:blipFill>
          <a:blip r:embed="rId1"/>
          <a:stretch/>
        </p:blipFill>
        <p:spPr>
          <a:xfrm>
            <a:off x="990720" y="1066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Hyper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s a major risk factor for cerebrovascul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isease, heart failure, renal insu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d myocardial infar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t is often asymptomatic until organ damages reaches a critical 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7:48:01Z</dcterms:created>
  <dc:creator>Christine Staake</dc:creator>
  <dc:description/>
  <dc:language>en-US</dc:language>
  <cp:lastModifiedBy>DR.ALHAIDER</cp:lastModifiedBy>
  <dcterms:modified xsi:type="dcterms:W3CDTF">2015-03-17T20:03:29Z</dcterms:modified>
  <cp:revision>224</cp:revision>
  <dc:subject/>
  <dc:title>Medical Press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368011033</vt:lpwstr>
  </property>
</Properties>
</file>