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0F4-C8E6-403A-B242-B52A7FEB20A8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F21E-652C-49DB-A6DF-4C7B160D6114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D09-53C2-4096-9B95-B42AFAF2F147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FDE9-8016-46A3-B591-F40E333487BB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5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29C-4D91-4533-BE6F-69FC4A44EE73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708-E4E0-48BA-88C5-8BB75FBDE843}" type="slidenum">
              <a:rPr b="0" lang="en-GB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77B-3E2E-41F5-B198-8635C336CE21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BFED-2DB1-4DB1-9736-A850AAAE4112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3225-8A71-442A-A242-95ACBEEC2C6D}" type="slidenum">
              <a:rPr b="0" lang="en-GB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1F6-B46D-4DB2-96A8-AE3F5CFC50CB}" type="slidenum">
              <a:rPr b="0" lang="ar-SA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61E-FE8E-4958-B236-8E37A9ECA7BE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2FE-77F5-4449-BE9A-ED50B24A5F9E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533-1717-4CE4-8BA9-BBBF0512754A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C37-CDDA-4E93-B54D-EF3B9CB1B420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967F-5CC7-4CBD-B7ED-8AE53B0B1FE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3CD-C099-429A-AC79-E4FEE3BAD3C0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E84B-CD71-4264-96B2-E3D6A177F0D0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C18-386A-4452-B990-B5F7CA039DC0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0E3-42A2-4160-995D-F7B1B34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361-9570-496B-B053-7EEDC5F2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2DA-0264-4E35-A772-1B1CC734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BD3-7A1D-466B-B576-64B0916D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D75-1DA6-475C-9133-00CF2667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791A-FE9B-4A49-A70A-A3F997A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048-7A7D-409D-92CC-94DD8BD5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4E9-76F9-41F9-ADFD-158AAD2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615-FA9C-4DB8-9CF9-C03CCE9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24F-E64E-4BBC-99AD-24D372A8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0D1-7B17-4C79-AFAC-5A857B8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0F2-1F6B-4A57-BC49-6A5FE092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DA29-EEC5-441D-835E-257FBC0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53F4-06A2-4F38-8EB2-743AE2E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BE0E-1BCE-4408-A37B-27A83D11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451E-07E6-4284-BA3B-57D3DE54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5DE-50BD-4DA7-AF28-22C0D0E3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93D-2A10-4653-8D98-C5D83AC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5CC-FF02-4565-9551-830E2723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97A-C9A1-4CD0-B617-C3BAA95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926-01D1-4D89-84D8-B9D68E8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01B-B79E-454A-B778-F60DA892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4E1-285A-4978-A2E6-96D6539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65E-40C0-4B8C-B423-EFAD634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37A-9CA5-4E86-A978-A98D5A03147B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9AA4-A9F9-4D6E-8FE6-CEBE4F703644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 HYPER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Antihypertensive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ly consists of lifestyle changes , such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ight reduction , smoking cessa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duction of salt, saturated fat, , exc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 intake , and increased 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efore drug therapy. Is initi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1013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Indications for Drug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stained blood pressure elevations &gt; 140/ 90 mmH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en minimally elevated blood pressure is associated with other cardiovascular risk factors (smoking, diabetes, obesity, hyperlipidemia, genetic predisposi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en end organs are affected by hypertension (heart, kidney , br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Drug Management of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Cardio inhibitory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Beta-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Calcium –channel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Centrally acting sympatholy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Vasodilators (</a:t>
            </a:r>
            <a:r>
              <a:rPr b="1" lang="en-US" sz="32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1-antagosits; Hydr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rugs acting on renin-angiotensin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ldosteron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5" descr="antihypertensives.jpg"/>
          <p:cNvPicPr/>
          <p:nvPr/>
        </p:nvPicPr>
        <p:blipFill>
          <a:blip r:embed="rId1"/>
          <a:stretch/>
        </p:blipFill>
        <p:spPr>
          <a:xfrm>
            <a:off x="990720" y="990720"/>
            <a:ext cx="609588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10363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ure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 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- e.g. Thiazides ( hydrochlorothiazi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       </a:t>
            </a: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Indapamide (Natrilex</a:t>
            </a:r>
            <a:r>
              <a:rPr b="1" lang="en-US" sz="3600" spc="-1" strike="noStrike" baseline="30000">
                <a:solidFill>
                  <a:srgbClr val="0d0d0d"/>
                </a:solidFill>
                <a:latin typeface="Courier New"/>
              </a:rPr>
              <a:t>R</a:t>
            </a: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cause more sodium loss than  water loss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volume of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cardiac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wer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Also, Diuretics decrease SVR via decreasing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sodium</a:t>
            </a: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iuretics may be adequat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mild to moderate 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292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86908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93236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e1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: Diuretics are the drugs of choice for most hypertensive patients either alone or in comb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e 2: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Black people, elderly and obese patients respond better for diuretics because they are salt-sensi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613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20th Century Font"/>
              </a:rPr>
              <a:t>B.  Potassium-sparing diuretics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Amilorid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as well as </a:t>
            </a: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spironolacton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reduce potassium loss in the urine. </a:t>
            </a: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Spironolacton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has the additional benefit of diminishing the cardiac remodeling that occurs in heart failure</a:t>
            </a:r>
            <a:r>
              <a:rPr b="1" lang="en-US" sz="3600" spc="-1" strike="noStrike">
                <a:solidFill>
                  <a:srgbClr val="000000"/>
                </a:solidFill>
                <a:latin typeface="20th Century Fo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Cardio inhibitory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666699"/>
                </a:solidFill>
                <a:latin typeface="Calibri"/>
                <a:ea typeface="Times New Roman"/>
              </a:rPr>
              <a:t>β</a:t>
            </a:r>
            <a:r>
              <a:rPr b="1" lang="en-US" sz="4400" spc="-1" strike="noStrike">
                <a:solidFill>
                  <a:srgbClr val="666699"/>
                </a:solidFill>
                <a:latin typeface="Calibri"/>
                <a:ea typeface="Times New Roman"/>
              </a:rPr>
              <a:t>- </a:t>
            </a: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Adrenoceptor –Blocking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666699"/>
                </a:solidFill>
                <a:latin typeface="Calibri"/>
                <a:ea typeface="Arial"/>
              </a:rPr>
              <a:t>β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- adrenoceptor blocking agents  can be used in  mild to moderate 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In severe cases used in combination with other dr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Nadolol   (non cardio selec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Bisoprolol , Atenolol, metoprolol  ( cardio selec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Labetalol , carvidalol ( </a:t>
            </a:r>
            <a:r>
              <a:rPr b="1" lang="el-GR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– and </a:t>
            </a:r>
            <a:r>
              <a:rPr b="1" lang="el-GR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adrenergic blocker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Beta-Adrenoceptor –Blocking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They lower blood pressure 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Decreasing  cardiac outp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  <a:ea typeface="Arial"/>
              </a:rPr>
              <a:t>Decreasing renin  relea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(ve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important effect and more related to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clinical respon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-360"/>
            <a:ext cx="9144000" cy="7010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Prof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Abdulqader Alhaider; Azza El-Med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Department of Pharmac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College of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ceptor block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azocin , Terazoc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ded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lockers for treatment of hypertension of 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postural hypotensio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adrenoceptor blockers are not commonly used for Rx of H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LCIUM CHANNEL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hydropyrid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group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fedipine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ardipine 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mlodip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Amlo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) 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selective as vasodilator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than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 cardiac depressant. </a:t>
            </a:r>
            <a:r>
              <a:rPr b="1" lang="en-US" sz="3600" spc="-1" strike="noStrike" u="sng">
                <a:solidFill>
                  <a:srgbClr val="666699"/>
                </a:solidFill>
                <a:uFillTx/>
                <a:latin typeface="Calibri"/>
                <a:ea typeface="Arial"/>
              </a:rPr>
              <a:t>This group is used for treatment of hyperten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Verapamil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effective as cardiac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depressant , therefore  it is not used as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ntihypertensive ag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ltiazem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.Used mainly for ang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❏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chanism of Action: (Arter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ock the influx of calcium through L-type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nels resulting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 Peripheral vasodilatation 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t arteri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- Decrease cardiac contractility &amp; heart rat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th effects lower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n orally and intravenous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ll absorbed from G.I.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erapamil and nifedipine are highly bound to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lasma protiens ( more than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ile diltiazem is less ( 70-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Cont’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ff"/>
                </a:solidFill>
                <a:latin typeface="Arial"/>
                <a:ea typeface="Traditional Arab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set of action  --- within 1-3 min  --- after i.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 min – 2 h  --- after or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apamil &amp; diltiazem have active metabolites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fedipine does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stained-release preparations of Nifedipine can permit once-daily do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linical u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eatment of chronic hypertension with oral preparation (Nifedipine; Amlodip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fedipine used for Raynoids pheno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ardipine  can be given by I.V. route &amp; used in hypertensive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121932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apam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ltiaz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ifedip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 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 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x Tach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03200" y="-1036800"/>
            <a:ext cx="835200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Centrally acting sympatholytic drugs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e.g.     </a:t>
            </a:r>
            <a:r>
              <a:rPr b="1" i="1" lang="en-US" sz="2800" spc="-1" strike="noStrike">
                <a:solidFill>
                  <a:srgbClr val="ff3300"/>
                </a:solidFill>
                <a:latin typeface="20th Century Font"/>
              </a:rPr>
              <a:t>Clonidine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20th Century Font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-agonist 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20th Century Font"/>
              </a:rPr>
              <a:t>Reduce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sympathetic outflow  to the  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heart thereby decreasing cardia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output (by decreasing heart rate &amp;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contractility ).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20th Century Font"/>
              </a:rPr>
              <a:t>Reduced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sympathetic output to the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ture, decreases sympatheti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r tone , which causes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odilation &amp; reduced systemi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r resistance, which decreases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arterial pressure. 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methyl dopa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agonist is converted to methyl norepinephrine centrally to diminish the adrenergic outflow from the C.N.S. This lead to reduced total peripheral resistance, and a decreased blood press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afely used in  hypertensive pregnant wo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lectures , the students should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factors that control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the pharmacologic classes of drugs used in treatment of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now examples of each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Times New Roman"/>
              </a:rPr>
              <a:t>Side effects of centrally acting sympatholy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ry mouth, nasal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luid retention &amp; edema with chron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dden withdrawal of </a:t>
            </a:r>
            <a:r>
              <a:rPr b="1" lang="en-US" sz="3600" spc="-1" strike="noStrike">
                <a:solidFill>
                  <a:srgbClr val="0066ff"/>
                </a:solidFill>
                <a:latin typeface="Calibri"/>
                <a:ea typeface="Arial"/>
              </a:rPr>
              <a:t>clonid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an lead to rebou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ASODILA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304920" y="71136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20th Century Font"/>
              </a:rPr>
              <a:t>Compensatory Response to Vasodilator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15920" y="1274760"/>
            <a:ext cx="9070920" cy="556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34800" y="914400"/>
          <a:ext cx="8656920" cy="566424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2133720"/>
                <a:gridCol w="1554120"/>
                <a:gridCol w="1920960"/>
              </a:tblGrid>
              <a:tr h="70164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asodilato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y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iaz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3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 &amp; ven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 of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assium channe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smooth muscle membranes by minoxidil sulf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active metaboli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of potassium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of nitric oxide (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oute of ad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 intrav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venous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1066680"/>
          <a:ext cx="8686800" cy="5546880"/>
        </p:xfrm>
        <a:graphic>
          <a:graphicData uri="http://schemas.openxmlformats.org/drawingml/2006/table">
            <a:tbl>
              <a:tblPr/>
              <a:tblGrid>
                <a:gridCol w="1447920"/>
                <a:gridCol w="1536840"/>
                <a:gridCol w="123840"/>
                <a:gridCol w="1687320"/>
                <a:gridCol w="2198880"/>
                <a:gridCol w="177480"/>
                <a:gridCol w="15145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az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77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Therapeutic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-severe hypertens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severe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y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in the past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Hypertensive pregnant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correction of bal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Treatment of hypoglycemia due to insul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84040" y="838080"/>
          <a:ext cx="8783640" cy="5926320"/>
        </p:xfrm>
        <a:graphic>
          <a:graphicData uri="http://schemas.openxmlformats.org/drawingml/2006/table">
            <a:tbl>
              <a:tblPr/>
              <a:tblGrid>
                <a:gridCol w="1737000"/>
                <a:gridCol w="1726920"/>
                <a:gridCol w="177840"/>
                <a:gridCol w="1544760"/>
                <a:gridCol w="142920"/>
                <a:gridCol w="1595520"/>
                <a:gridCol w="1858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az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32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e hypo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95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pecific 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us erythematosus like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ertricho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fe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ibit insulin release from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ells of the pancreas  causing 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diab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ethemoglobinduring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yanide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Thiocyanate toxic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reason : Why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ckers &amp;  diuretics are added to vasodilators for treatment of hyperten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ACE Inhibitors.jpg"/>
          <p:cNvPicPr/>
          <p:nvPr/>
        </p:nvPicPr>
        <p:blipFill>
          <a:blip r:embed="rId1"/>
          <a:stretch/>
        </p:blipFill>
        <p:spPr>
          <a:xfrm>
            <a:off x="1219320" y="99072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4"/>
          <p:cNvGrpSpPr/>
          <p:nvPr/>
        </p:nvGrpSpPr>
        <p:grpSpPr>
          <a:xfrm>
            <a:off x="380880" y="1066680"/>
            <a:ext cx="6705720" cy="4419720"/>
            <a:chOff x="380880" y="1066680"/>
            <a:chExt cx="6705720" cy="4419720"/>
          </a:xfrm>
        </p:grpSpPr>
        <p:pic>
          <p:nvPicPr>
            <p:cNvPr id="154" name="Picture 8" descr="C:\Documents and Settings\DR.OMNIA\My Documents\My Pictures\Ag.png"/>
            <p:cNvPicPr/>
            <p:nvPr/>
          </p:nvPicPr>
          <p:blipFill>
            <a:blip r:embed="rId1"/>
            <a:srcRect l="1113" t="1662" r="1113" b="2078"/>
            <a:stretch/>
          </p:blipFill>
          <p:spPr>
            <a:xfrm>
              <a:off x="380880" y="1066680"/>
              <a:ext cx="67057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5"/>
            <p:cNvSpPr/>
            <p:nvPr/>
          </p:nvSpPr>
          <p:spPr>
            <a:xfrm>
              <a:off x="2119320" y="1135800"/>
              <a:ext cx="24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86129"/>
                  </a:solidFill>
                  <a:latin typeface="20th Century Font"/>
                </a:rPr>
                <a:t>Endothelium, brain &amp;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sp>
        <p:nvSpPr>
          <p:cNvPr id="156" name="Rounded Rectangle 14"/>
          <p:cNvSpPr/>
          <p:nvPr/>
        </p:nvSpPr>
        <p:spPr>
          <a:xfrm>
            <a:off x="304920" y="2819520"/>
            <a:ext cx="213336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099960" y="33256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 Proteolytic Enzymes 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8" name="Rounded Rectangle 15"/>
          <p:cNvSpPr/>
          <p:nvPr/>
        </p:nvSpPr>
        <p:spPr>
          <a:xfrm>
            <a:off x="304920" y="2819520"/>
            <a:ext cx="76176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9" name="Rounded Rectangle 16"/>
          <p:cNvSpPr/>
          <p:nvPr/>
        </p:nvSpPr>
        <p:spPr>
          <a:xfrm>
            <a:off x="3135240" y="2819520"/>
            <a:ext cx="76212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29000" y="3564000"/>
            <a:ext cx="1981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c0000"/>
                </a:solidFill>
                <a:latin typeface="Arial Rounded MT Bold"/>
              </a:rPr>
              <a:t>Chymase</a:t>
            </a:r>
            <a:endParaRPr b="0" lang="en-US" sz="17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c0000"/>
                </a:solidFill>
                <a:latin typeface="Arial Rounded MT Bold"/>
              </a:rPr>
              <a:t>Endoperoxidase</a:t>
            </a:r>
            <a:endParaRPr b="0" lang="en-US" sz="17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505320" y="2095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 vasoconstrictor peptide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52280" y="609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Berlin Sans FB Dem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63" name="Freeform 9" descr=""/>
          <p:cNvPicPr/>
          <p:nvPr/>
        </p:nvPicPr>
        <p:blipFill>
          <a:blip r:embed="rId2"/>
          <a:stretch/>
        </p:blipFill>
        <p:spPr>
          <a:xfrm>
            <a:off x="-244440" y="-231840"/>
            <a:ext cx="4584600" cy="1676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0"/>
          <p:cNvSpPr/>
          <p:nvPr/>
        </p:nvSpPr>
        <p:spPr>
          <a:xfrm>
            <a:off x="1523880" y="685800"/>
            <a:ext cx="7620120" cy="398880"/>
          </a:xfrm>
          <a:prstGeom prst="rect">
            <a:avLst/>
          </a:prstGeom>
          <a:solidFill>
            <a:srgbClr val="ff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cursor is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giotensinoge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a plas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globulin synthesized in the liver.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7200" y="5467320"/>
            <a:ext cx="47242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reted by renal juxtaglomerular apparatus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166" name="Diamond 26"/>
          <p:cNvGrpSpPr/>
          <p:nvPr/>
        </p:nvGrpSpPr>
        <p:grpSpPr>
          <a:xfrm>
            <a:off x="7186680" y="4479840"/>
            <a:ext cx="1555560" cy="635040"/>
            <a:chOff x="7186680" y="4479840"/>
            <a:chExt cx="1555560" cy="635040"/>
          </a:xfrm>
        </p:grpSpPr>
        <p:pic>
          <p:nvPicPr>
            <p:cNvPr id="167" name="Diamond 26" descr=""/>
            <p:cNvPicPr/>
            <p:nvPr/>
          </p:nvPicPr>
          <p:blipFill>
            <a:blip r:embed="rId3"/>
            <a:stretch/>
          </p:blipFill>
          <p:spPr>
            <a:xfrm>
              <a:off x="7186680" y="4479840"/>
              <a:ext cx="1555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585200" y="4648320"/>
              <a:ext cx="76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A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grpSp>
        <p:nvGrpSpPr>
          <p:cNvPr id="169" name="Diamond 27"/>
          <p:cNvGrpSpPr/>
          <p:nvPr/>
        </p:nvGrpSpPr>
        <p:grpSpPr>
          <a:xfrm>
            <a:off x="7143840" y="3565440"/>
            <a:ext cx="1555560" cy="635040"/>
            <a:chOff x="7143840" y="3565440"/>
            <a:chExt cx="1555560" cy="635040"/>
          </a:xfrm>
        </p:grpSpPr>
        <p:pic>
          <p:nvPicPr>
            <p:cNvPr id="170" name="Diamond 27" descr=""/>
            <p:cNvPicPr/>
            <p:nvPr/>
          </p:nvPicPr>
          <p:blipFill>
            <a:blip r:embed="rId4"/>
            <a:stretch/>
          </p:blipFill>
          <p:spPr>
            <a:xfrm>
              <a:off x="7143840" y="3565440"/>
              <a:ext cx="1555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73392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A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sp>
        <p:nvSpPr>
          <p:cNvPr id="172" name="Text Box 6"/>
          <p:cNvSpPr/>
          <p:nvPr/>
        </p:nvSpPr>
        <p:spPr>
          <a:xfrm>
            <a:off x="228600" y="5962680"/>
            <a:ext cx="2209680" cy="368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enal SN activation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086280" y="5975280"/>
            <a:ext cx="2323800" cy="6426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enal Blood flow b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gonists &amp; PG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  <a:ea typeface="David Transparent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Elephant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174" name="Group 33"/>
          <p:cNvGrpSpPr/>
          <p:nvPr/>
        </p:nvGrpSpPr>
        <p:grpSpPr>
          <a:xfrm>
            <a:off x="2255760" y="5581800"/>
            <a:ext cx="1067040" cy="620640"/>
            <a:chOff x="2255760" y="5581800"/>
            <a:chExt cx="1067040" cy="620640"/>
          </a:xfrm>
        </p:grpSpPr>
        <p:sp>
          <p:nvSpPr>
            <p:cNvPr id="175" name="Arc 31"/>
            <p:cNvSpPr/>
            <p:nvPr/>
          </p:nvSpPr>
          <p:spPr>
            <a:xfrm flipV="1">
              <a:off x="2255760" y="5592600"/>
              <a:ext cx="533520" cy="60984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360 h 609840"/>
                <a:gd name="textAreaBottom" fmla="*/ 305280 h 609840"/>
              </a:gdLst>
              <a:ahLst/>
              <a:rect l="textAreaLeft" t="textAreaTop" r="textAreaRight" b="textAreaBottom"/>
              <a:pathLst>
                <a:path stroke="0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  <a:effectLst>
              <a:outerShdw dist="38160" dir="10800000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76" name="Arc 32"/>
            <p:cNvSpPr/>
            <p:nvPr/>
          </p:nvSpPr>
          <p:spPr>
            <a:xfrm flipH="1" flipV="1">
              <a:off x="2789280" y="5581800"/>
              <a:ext cx="533520" cy="60984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360 h 609840"/>
                <a:gd name="textAreaBottom" fmla="*/ 305280 h 609840"/>
              </a:gdLst>
              <a:ahLst/>
              <a:rect l="textAreaLeft" t="textAreaTop" r="textAreaRight" b="textAreaBottom"/>
              <a:pathLst>
                <a:path stroke="0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  <a:effectLst>
              <a:outerShdw dist="38160" dir="0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grpSp>
        <p:nvGrpSpPr>
          <p:cNvPr id="177" name="Group 38"/>
          <p:cNvGrpSpPr/>
          <p:nvPr/>
        </p:nvGrpSpPr>
        <p:grpSpPr>
          <a:xfrm>
            <a:off x="6781320" y="3809880"/>
            <a:ext cx="621000" cy="1067040"/>
            <a:chOff x="6781320" y="3809880"/>
            <a:chExt cx="621000" cy="1067040"/>
          </a:xfrm>
        </p:grpSpPr>
        <p:sp>
          <p:nvSpPr>
            <p:cNvPr id="178" name="Arc 35"/>
            <p:cNvSpPr/>
            <p:nvPr/>
          </p:nvSpPr>
          <p:spPr>
            <a:xfrm flipH="1" flipV="1" rot="16200000">
              <a:off x="6829920" y="3771360"/>
              <a:ext cx="533520" cy="61020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-360 h 610200"/>
                <a:gd name="textAreaBottom" fmla="*/ 304920 h 610200"/>
              </a:gdLst>
              <a:ahLst/>
              <a:rect l="textAreaLeft" t="textAreaTop" r="textAreaRight" b="textAreaBottom"/>
              <a:pathLst>
                <a:path stroke="0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  <a:effectLst>
              <a:outerShdw dist="38160" dir="108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79" name="Arc 36"/>
            <p:cNvSpPr/>
            <p:nvPr/>
          </p:nvSpPr>
          <p:spPr>
            <a:xfrm flipV="1" rot="16200000">
              <a:off x="6819480" y="4304880"/>
              <a:ext cx="533520" cy="61020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-360 h 610200"/>
                <a:gd name="textAreaBottom" fmla="*/ 304920 h 610200"/>
              </a:gdLst>
              <a:ahLst/>
              <a:rect l="textAreaLeft" t="textAreaTop" r="textAreaRight" b="textAreaBottom"/>
              <a:pathLst>
                <a:path stroke="0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  <a:effectLst>
              <a:outerShdw dist="38160" dir="0" blurRad="0" rotWithShape="0">
                <a:srgbClr val="ff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pic>
        <p:nvPicPr>
          <p:cNvPr id="180" name="Rectangle 40" descr=""/>
          <p:cNvPicPr/>
          <p:nvPr/>
        </p:nvPicPr>
        <p:blipFill>
          <a:blip r:embed="rId5"/>
          <a:stretch/>
        </p:blipFill>
        <p:spPr>
          <a:xfrm>
            <a:off x="6662880" y="4956120"/>
            <a:ext cx="1761840" cy="161604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41" descr=""/>
          <p:cNvPicPr/>
          <p:nvPr/>
        </p:nvPicPr>
        <p:blipFill>
          <a:blip r:embed="rId6"/>
          <a:stretch/>
        </p:blipFill>
        <p:spPr>
          <a:xfrm>
            <a:off x="7265880" y="4979880"/>
            <a:ext cx="1822680" cy="151308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2" descr=""/>
          <p:cNvPicPr/>
          <p:nvPr/>
        </p:nvPicPr>
        <p:blipFill>
          <a:blip r:embed="rId7"/>
          <a:stretch/>
        </p:blipFill>
        <p:spPr>
          <a:xfrm>
            <a:off x="7686720" y="4492800"/>
            <a:ext cx="1963800" cy="136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3"/>
          <p:cNvSpPr/>
          <p:nvPr/>
        </p:nvSpPr>
        <p:spPr>
          <a:xfrm>
            <a:off x="304920" y="6400800"/>
            <a:ext cx="228600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lood Pressure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2209680" y="3276720"/>
            <a:ext cx="838440" cy="761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5" name="Oval 45"/>
          <p:cNvSpPr/>
          <p:nvPr/>
        </p:nvSpPr>
        <p:spPr>
          <a:xfrm>
            <a:off x="3886200" y="2286000"/>
            <a:ext cx="838080" cy="7621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833 0 E">
                                      <p:cBhvr>
                                        <p:cTn id="21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 E">
                                      <p:cBhvr>
                                        <p:cTn id="25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3"/>
          <p:cNvGrpSpPr/>
          <p:nvPr/>
        </p:nvGrpSpPr>
        <p:grpSpPr>
          <a:xfrm>
            <a:off x="2057400" y="1676520"/>
            <a:ext cx="5981040" cy="3889080"/>
            <a:chOff x="2057400" y="1676520"/>
            <a:chExt cx="5981040" cy="3889080"/>
          </a:xfrm>
        </p:grpSpPr>
        <p:sp>
          <p:nvSpPr>
            <p:cNvPr id="187" name="Rectangle 5"/>
            <p:cNvSpPr/>
            <p:nvPr/>
          </p:nvSpPr>
          <p:spPr>
            <a:xfrm>
              <a:off x="4145040" y="275616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4460400" y="304668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289760" y="239580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3156840" y="167652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571480" y="492300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605920" y="167652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5681520" y="491652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194" name="Group 22"/>
            <p:cNvGrpSpPr/>
            <p:nvPr/>
          </p:nvGrpSpPr>
          <p:grpSpPr>
            <a:xfrm>
              <a:off x="2057400" y="3403800"/>
              <a:ext cx="1800360" cy="431640"/>
              <a:chOff x="2057400" y="3403800"/>
              <a:chExt cx="1800360" cy="431640"/>
            </a:xfrm>
          </p:grpSpPr>
          <p:sp>
            <p:nvSpPr>
              <p:cNvPr id="195" name="Line 17"/>
              <p:cNvSpPr/>
              <p:nvPr/>
            </p:nvSpPr>
            <p:spPr>
              <a:xfrm>
                <a:off x="2057400" y="361944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196" name="Group 21"/>
              <p:cNvGrpSpPr/>
              <p:nvPr/>
            </p:nvGrpSpPr>
            <p:grpSpPr>
              <a:xfrm>
                <a:off x="2633760" y="3403800"/>
                <a:ext cx="432000" cy="431640"/>
                <a:chOff x="2633760" y="3403800"/>
                <a:chExt cx="432000" cy="431640"/>
              </a:xfrm>
            </p:grpSpPr>
            <p:sp>
              <p:nvSpPr>
                <p:cNvPr id="197" name="Oval 18"/>
                <p:cNvSpPr/>
                <p:nvPr/>
              </p:nvSpPr>
              <p:spPr>
                <a:xfrm>
                  <a:off x="2633760" y="340380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198" name="Line 20"/>
                <p:cNvSpPr/>
                <p:nvPr/>
              </p:nvSpPr>
              <p:spPr>
                <a:xfrm>
                  <a:off x="2706840" y="3619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  <p:sp>
        <p:nvSpPr>
          <p:cNvPr id="199" name="Text Box 24"/>
          <p:cNvSpPr/>
          <p:nvPr/>
        </p:nvSpPr>
        <p:spPr>
          <a:xfrm>
            <a:off x="306720" y="2997360"/>
            <a:ext cx="1789920" cy="8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</a:rPr>
              <a:t>ACE 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</a:rPr>
              <a:t>inhibitors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20th Century Font"/>
              </a:rPr>
              <a:t>Mechanism of action of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</a:rPr>
              <a:t> Angiotensin-converting enzyme inhibitors (ACEI)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201" name="Group 23"/>
          <p:cNvGrpSpPr/>
          <p:nvPr/>
        </p:nvGrpSpPr>
        <p:grpSpPr>
          <a:xfrm>
            <a:off x="2057400" y="1676520"/>
            <a:ext cx="5981040" cy="3889080"/>
            <a:chOff x="2057400" y="1676520"/>
            <a:chExt cx="5981040" cy="3889080"/>
          </a:xfrm>
        </p:grpSpPr>
        <p:sp>
          <p:nvSpPr>
            <p:cNvPr id="202" name="Rectangle 5"/>
            <p:cNvSpPr/>
            <p:nvPr/>
          </p:nvSpPr>
          <p:spPr>
            <a:xfrm>
              <a:off x="4145040" y="275616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460400" y="304668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4289760" y="239580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3156840" y="167652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2571480" y="492300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5605920" y="167652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5681520" y="491652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209" name="Group 22"/>
            <p:cNvGrpSpPr/>
            <p:nvPr/>
          </p:nvGrpSpPr>
          <p:grpSpPr>
            <a:xfrm>
              <a:off x="2057400" y="3403800"/>
              <a:ext cx="1800360" cy="431640"/>
              <a:chOff x="2057400" y="3403800"/>
              <a:chExt cx="1800360" cy="431640"/>
            </a:xfrm>
          </p:grpSpPr>
          <p:sp>
            <p:nvSpPr>
              <p:cNvPr id="210" name="Line 17"/>
              <p:cNvSpPr/>
              <p:nvPr/>
            </p:nvSpPr>
            <p:spPr>
              <a:xfrm>
                <a:off x="2057400" y="361944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211" name="Group 21"/>
              <p:cNvGrpSpPr/>
              <p:nvPr/>
            </p:nvGrpSpPr>
            <p:grpSpPr>
              <a:xfrm>
                <a:off x="2633760" y="3403800"/>
                <a:ext cx="432000" cy="431640"/>
                <a:chOff x="2633760" y="3403800"/>
                <a:chExt cx="432000" cy="431640"/>
              </a:xfrm>
            </p:grpSpPr>
            <p:sp>
              <p:nvSpPr>
                <p:cNvPr id="212" name="Oval 18"/>
                <p:cNvSpPr/>
                <p:nvPr/>
              </p:nvSpPr>
              <p:spPr>
                <a:xfrm>
                  <a:off x="2633760" y="340380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213" name="Line 20"/>
                <p:cNvSpPr/>
                <p:nvPr/>
              </p:nvSpPr>
              <p:spPr>
                <a:xfrm>
                  <a:off x="2706840" y="3619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mechanism of action , therapeutic uses &amp; common adverse effects of  each class of drugs includ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renoceptor blocking drugs  (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&amp;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blocking drug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lcium channel blocking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Vas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684360" y="393120"/>
            <a:ext cx="81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20th Century Font"/>
              </a:rPr>
              <a:t>Mechanism of action: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20th Century Font"/>
              </a:rPr>
              <a:t>Converting enzyme inhibitors lower blood pressure by reducing </a:t>
            </a:r>
            <a:r>
              <a:rPr b="1" lang="cs-CZ" sz="2200" spc="-1" strike="noStrike" u="sng">
                <a:solidFill>
                  <a:srgbClr val="000000"/>
                </a:solidFill>
                <a:uFillTx/>
                <a:latin typeface="20th Century Font"/>
              </a:rPr>
              <a:t>angiotensin II</a:t>
            </a:r>
            <a:r>
              <a:rPr b="0" lang="cs-CZ" sz="2200" spc="-1" strike="noStrike">
                <a:solidFill>
                  <a:srgbClr val="000000"/>
                </a:solidFill>
                <a:latin typeface="20th Century Font"/>
              </a:rPr>
              <a:t>, and also by increasing vasodilator peptides such as bradykinin. 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30200" y="3830760"/>
            <a:ext cx="756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reduction of sympathet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(use is not associated with reflex tachycardia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despite causing arterioral and venous dilatation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Reduce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the arteriolar and left ventricular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remodelling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that are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believed to be important in the pathogenesis of human essential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hypertension and post-infarction state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619280" y="242100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Dilatation of arterio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reduction of peripheral vascular resistance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(</a:t>
            </a:r>
            <a:r>
              <a:rPr b="1" lang="cs-CZ" sz="1800" spc="-1" strike="noStrike">
                <a:solidFill>
                  <a:srgbClr val="ff0000"/>
                </a:solidFill>
                <a:latin typeface="20th Century Font"/>
              </a:rPr>
              <a:t>afterload </a:t>
            </a:r>
            <a:r>
              <a:rPr b="1" lang="en-US" sz="1800" spc="-1" strike="noStrike">
                <a:solidFill>
                  <a:srgbClr val="ff0000"/>
                </a:solidFill>
                <a:latin typeface="20th Century Fon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467720" y="321300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Increase of N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and decrease of K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excretion in kidney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 by inhibi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Aldosterone secre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611280" y="263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611280" y="3429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611280" y="407664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611280" y="508464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11280" y="587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Pha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Captopril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, Lisonopril; 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nd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Ramipril; Fisonopril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ll are rapidly absorbed from GIT after oral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Food reduce their bioavail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 , ramipril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re prodrugs, converted to the active metabolite in the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Have a long half-life &amp; given once daily except Captopr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at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is the active metabolite of enalapril given by i.v. route in hypertensive emerg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Ph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alibri"/>
                <a:ea typeface="Arial"/>
              </a:rPr>
              <a:t>Captopril   i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s not a prodru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Has a short half-life  &amp; given twice /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ll ACEI are distributed to all tissues except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Treatment  of  hypertens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Treatment of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Diabetic nephropathy . How do they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te renal failure, especially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bilateral renal artery steno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erkalemia 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sist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ugh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ioneurotic edema (swelling in the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se , throat, tongue, larynx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(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ough &amp; edema due to  bradykin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e hypotension in hypovolemic patients (due to diuretics, salt restriction or gastrointestinal fluid lo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in rash,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( taste loss.   is due to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lfhydryl 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group in the molecule of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captopril ).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uring the second and third trimesters of pregnancy due to the risk of : fetal hypotension, anuria, renal failure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alformati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lateral renal artery stenosis or stenosis of a renal artery with  solitary kidney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.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Drug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With potassium-sparing diuretics (e.g: Spirinolacton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NSAIDs impair their hypotensiv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by blocking bradykinin-mediated          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vasodilatation.</a:t>
            </a:r>
            <a:r>
              <a:rPr b="0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 ( 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verting enzyme inhibi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giotensin receptor bloc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advantages of ARBs over AC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725480" y="609480"/>
            <a:ext cx="59695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20th Century Font"/>
              </a:rPr>
              <a:t>   </a:t>
            </a:r>
            <a:r>
              <a:rPr b="1" lang="cs-CZ" sz="2400" spc="-1" strike="noStrike">
                <a:solidFill>
                  <a:srgbClr val="cc0000"/>
                </a:solidFill>
                <a:latin typeface="20th Century Font"/>
              </a:rPr>
              <a:t>BLOCKERS OF AT</a:t>
            </a:r>
            <a:r>
              <a:rPr b="1" lang="cs-CZ" sz="2400" spc="-1" strike="noStrike" baseline="-25000">
                <a:solidFill>
                  <a:srgbClr val="cc0000"/>
                </a:solidFill>
                <a:latin typeface="20th Century Font"/>
              </a:rPr>
              <a:t>1</a:t>
            </a:r>
            <a:r>
              <a:rPr b="1" lang="cs-CZ" sz="2400" spc="-1" strike="noStrike">
                <a:solidFill>
                  <a:srgbClr val="cc0000"/>
                </a:solidFill>
                <a:latin typeface="20th Century Font"/>
              </a:rPr>
              <a:t> RECEPTOR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losartan, valosartan, irbesarta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57200" y="1905120"/>
            <a:ext cx="853452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- </a:t>
            </a:r>
            <a:r>
              <a:rPr b="1" i="1" lang="cs-CZ" sz="2000" spc="-1" strike="noStrike">
                <a:solidFill>
                  <a:srgbClr val="cc0000"/>
                </a:solidFill>
                <a:latin typeface="20th Century Font"/>
              </a:rPr>
              <a:t>competitively inhibit angiotensin II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at its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receptor site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most of the effects of angiotensin II - including vasoconstriction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and aldosterone release - are mediated by the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they influence RAS more effective because of selective blockade 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(angiotensin II synthesis in tissue is not completely dependent only on renin release,  but could be promote by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serin-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protease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2"/>
          <p:cNvSpPr/>
          <p:nvPr/>
        </p:nvSpPr>
        <p:spPr>
          <a:xfrm>
            <a:off x="2514600" y="12952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887200" y="15462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oge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2514600" y="31240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131640" y="337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514600" y="49528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953800" y="520380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I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4038480" y="2362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962520" y="4191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10004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n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4025880" y="43084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6182280" y="33177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onrenin prot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e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atheps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-PA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5638680" y="1828800"/>
            <a:ext cx="2006640" cy="15238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264" h="960">
                <a:moveTo>
                  <a:pt x="0" y="0"/>
                </a:moveTo>
                <a:cubicBezTo>
                  <a:pt x="424" y="40"/>
                  <a:pt x="848" y="80"/>
                  <a:pt x="1056" y="240"/>
                </a:cubicBezTo>
                <a:cubicBezTo>
                  <a:pt x="1264" y="400"/>
                  <a:pt x="1256" y="680"/>
                  <a:pt x="1248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5638680" y="441972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0" y="720"/>
                </a:moveTo>
                <a:cubicBezTo>
                  <a:pt x="400" y="708"/>
                  <a:pt x="800" y="696"/>
                  <a:pt x="1008" y="576"/>
                </a:cubicBezTo>
                <a:cubicBezTo>
                  <a:pt x="1216" y="456"/>
                  <a:pt x="1232" y="228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1384200" y="3581280"/>
            <a:ext cx="1054080" cy="20574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64" h="1296">
                <a:moveTo>
                  <a:pt x="664" y="0"/>
                </a:moveTo>
                <a:cubicBezTo>
                  <a:pt x="448" y="56"/>
                  <a:pt x="232" y="112"/>
                  <a:pt x="136" y="288"/>
                </a:cubicBezTo>
                <a:cubicBezTo>
                  <a:pt x="40" y="464"/>
                  <a:pt x="0" y="888"/>
                  <a:pt x="88" y="1056"/>
                </a:cubicBezTo>
                <a:cubicBezTo>
                  <a:pt x="176" y="1224"/>
                  <a:pt x="420" y="1260"/>
                  <a:pt x="664" y="12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085400" y="4191120"/>
            <a:ext cx="12992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hy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AG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 have no effect on bradykini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ausing neithe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:   cough, wheez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angioede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Losartan, valsartan , irbesart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CE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except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cough, wheezing, and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ngio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contraindication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CE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rug Combination for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1082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lsart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60 or 80 mg)  (Co-Diova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sar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50 or 100 m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+ Lisinopr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0 or 20 m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rugs for treatment of hypertensiv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alazine (in pregna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dium nitroprussid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l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General characters of good drug for Cri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ast &amp; short a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n by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caution in 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using short-acting nifedipine because of the risk of rapid, unpredictable hypotension &amp; the possibility of precipitating ischemic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rugs used for management of hypertension in pregna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( the preferred first lin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uretics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NK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ny Questions 050528120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0" descr="camel"/>
          <p:cNvPicPr/>
          <p:nvPr/>
        </p:nvPicPr>
        <p:blipFill>
          <a:blip r:embed="rId1"/>
          <a:stretch/>
        </p:blipFill>
        <p:spPr>
          <a:xfrm>
            <a:off x="1258920" y="1557360"/>
            <a:ext cx="6899400" cy="459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189520" y="-255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20th Century Font"/>
              </a:rPr>
              <a:t>FACTORS IN BLOOD PRESSURE CONTROL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Hyper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Blood pressure is determin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Blood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Cardiac output ( rate &amp; contractil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Peripheral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lood Pressure.jpg"/>
          <p:cNvPicPr/>
          <p:nvPr/>
        </p:nvPicPr>
        <p:blipFill>
          <a:blip r:embed="rId1"/>
          <a:stretch/>
        </p:blipFill>
        <p:spPr>
          <a:xfrm>
            <a:off x="990720" y="1066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a major risk factor for cerebrovas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sease, heart failure, renal in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myocardial infar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t is often asymptomatic until organ damages reaches a critical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8:01Z</dcterms:created>
  <dc:creator>Christine Staake</dc:creator>
  <dc:description/>
  <dc:language>en-US</dc:language>
  <cp:lastModifiedBy>DR.ALHAIDER</cp:lastModifiedBy>
  <dcterms:modified xsi:type="dcterms:W3CDTF">2015-03-17T20:03:29Z</dcterms:modified>
  <cp:revision>224</cp:revision>
  <dc:subject/>
  <dc:title>Medic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11033</vt:lpwstr>
  </property>
</Properties>
</file>