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879-0C69-4215-8476-096EC3232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FC0-0046-465B-A4A9-FBB3550D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4675-B2B8-4ADC-A443-CF3ECC14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49F-525D-444A-B2FF-CDAF7A2F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09B-5FB7-41B0-BC1E-EEFBCF7F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D836-5E51-471B-BFE6-7ED6BA16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2441-5764-48D8-B407-63188CD3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9F7-9F2A-4EA2-809D-9B9EF708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0DA5-56D6-4E2A-8BA6-FAD624B3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AF6-253A-4963-A1A0-9D1F72BA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CD6A-EF53-40B7-A8D0-0D9E55DC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A33-006E-4F42-9C38-D2CF031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095A-847E-4027-9B5A-43204E86D1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actical renal blo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25909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dad\Student Gray\4. Abdomen\F66122-004-f124.jpg"/>
          <p:cNvPicPr/>
          <p:nvPr/>
        </p:nvPicPr>
        <p:blipFill>
          <a:blip r:embed="rId1"/>
          <a:srcRect l="16981" t="0" r="18869" b="9457"/>
          <a:stretch/>
        </p:blipFill>
        <p:spPr>
          <a:xfrm>
            <a:off x="4419720" y="228600"/>
            <a:ext cx="39621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TextBox 5"/>
          <p:cNvSpPr/>
          <p:nvPr/>
        </p:nvSpPr>
        <p:spPr>
          <a:xfrm>
            <a:off x="4876920" y="1600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029200" y="30481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6019920" y="16765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324480" y="373392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31244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4760"/>
            <a:ext cx="312408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reter is suppli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E:\dad\Student Gray\4. Abdomen\F66122-004-f126.jpg"/>
          <p:cNvPicPr/>
          <p:nvPr/>
        </p:nvPicPr>
        <p:blipFill>
          <a:blip r:embed="rId1"/>
          <a:srcRect l="27943" t="6908" r="11140" b="4691"/>
          <a:stretch/>
        </p:blipFill>
        <p:spPr>
          <a:xfrm>
            <a:off x="5105520" y="380880"/>
            <a:ext cx="35049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ounded Rectangle 5"/>
          <p:cNvSpPr/>
          <p:nvPr/>
        </p:nvSpPr>
        <p:spPr>
          <a:xfrm>
            <a:off x="7848720" y="2438280"/>
            <a:ext cx="7617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77120" y="4800600"/>
            <a:ext cx="838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14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label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E:\dad\Student Gray\5. Pelvis and perineum\F66122-005-f040b.jpg"/>
          <p:cNvPicPr/>
          <p:nvPr/>
        </p:nvPicPr>
        <p:blipFill>
          <a:blip r:embed="rId1"/>
          <a:srcRect l="21821" t="18180" r="18181" b="5458"/>
          <a:stretch/>
        </p:blipFill>
        <p:spPr>
          <a:xfrm>
            <a:off x="3809880" y="838080"/>
            <a:ext cx="4724640" cy="541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TextBox 5"/>
          <p:cNvSpPr/>
          <p:nvPr/>
        </p:nvSpPr>
        <p:spPr>
          <a:xfrm>
            <a:off x="4419720" y="2133720"/>
            <a:ext cx="4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946480" y="274320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943600" y="434340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10280" y="5562720"/>
            <a:ext cx="14479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4648320" y="5562720"/>
            <a:ext cx="7617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867280" y="556272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7315200" y="205740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560" y="1219320"/>
            <a:ext cx="33526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E:\dad\Student Gray\4. Abdomen\F66122-004-f008.jpg"/>
          <p:cNvPicPr/>
          <p:nvPr/>
        </p:nvPicPr>
        <p:blipFill>
          <a:blip r:embed="rId1"/>
          <a:srcRect l="22225" t="0" r="22225" b="3661"/>
          <a:stretch/>
        </p:blipFill>
        <p:spPr>
          <a:xfrm>
            <a:off x="4495680" y="22860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Box 5"/>
          <p:cNvSpPr/>
          <p:nvPr/>
        </p:nvSpPr>
        <p:spPr>
          <a:xfrm>
            <a:off x="5791320" y="37339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486400" y="3124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586728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20040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28240" y="1294920"/>
            <a:ext cx="380988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The renal artery arises from-------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The level of the renal artery is-----------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The renal veins drain into---------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The right renal vein is------ ---than the left ren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dad\Student Gray\4. Abdomen\F66122-004-f095.jpg"/>
          <p:cNvPicPr/>
          <p:nvPr/>
        </p:nvPicPr>
        <p:blipFill>
          <a:blip r:embed="rId1"/>
          <a:srcRect l="22640" t="1881" r="20755" b="4178"/>
          <a:stretch/>
        </p:blipFill>
        <p:spPr>
          <a:xfrm>
            <a:off x="4343400" y="304920"/>
            <a:ext cx="44956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19520" cy="71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Q 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437920"/>
            <a:ext cx="3657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ins drain into the left renal ve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E:\dad\Student Gray\4. Abdomen\F66122-004-f107.jpg"/>
          <p:cNvPicPr/>
          <p:nvPr/>
        </p:nvPicPr>
        <p:blipFill>
          <a:blip r:embed="rId1"/>
          <a:srcRect l="15340" t="10104" r="17440" b="9087"/>
          <a:stretch/>
        </p:blipFill>
        <p:spPr>
          <a:xfrm>
            <a:off x="4800600" y="533520"/>
            <a:ext cx="380988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743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560" y="1600200"/>
            <a:ext cx="2971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4 muscles lie behind the kidney 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E:\dad\Student Gray\4. Abdomen\F66122-004-f115.jpg"/>
          <p:cNvPicPr/>
          <p:nvPr/>
        </p:nvPicPr>
        <p:blipFill>
          <a:blip r:embed="rId1"/>
          <a:srcRect l="16899" t="5627" r="19720" b="12828"/>
          <a:stretch/>
        </p:blipFill>
        <p:spPr>
          <a:xfrm>
            <a:off x="4114800" y="457200"/>
            <a:ext cx="457200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5410080" y="327672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334120" y="205740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4648320" y="213372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30481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E:\dad\Student Gray\4. Abdomen\F66122-004-f121.jpg"/>
          <p:cNvPicPr/>
          <p:nvPr/>
        </p:nvPicPr>
        <p:blipFill>
          <a:blip r:embed="rId1"/>
          <a:srcRect l="49155" t="6781" r="15712" b="5086"/>
          <a:stretch/>
        </p:blipFill>
        <p:spPr>
          <a:xfrm>
            <a:off x="4495680" y="457200"/>
            <a:ext cx="403884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TextBox 5"/>
          <p:cNvSpPr/>
          <p:nvPr/>
        </p:nvSpPr>
        <p:spPr>
          <a:xfrm>
            <a:off x="6629400" y="10666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7010280" y="1752480"/>
            <a:ext cx="4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7924680" y="22096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858000" y="3809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5909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dad\Student Gray\4. Abdomen\F66122-004-f121.jpg"/>
          <p:cNvPicPr/>
          <p:nvPr/>
        </p:nvPicPr>
        <p:blipFill>
          <a:blip r:embed="rId1"/>
          <a:srcRect l="15384" t="13581" r="55388" b="12729"/>
          <a:stretch/>
        </p:blipFill>
        <p:spPr>
          <a:xfrm>
            <a:off x="4724280" y="380880"/>
            <a:ext cx="35053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Box 5"/>
          <p:cNvSpPr/>
          <p:nvPr/>
        </p:nvSpPr>
        <p:spPr>
          <a:xfrm>
            <a:off x="6403320" y="167652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6400800" y="281952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410080" y="2819520"/>
            <a:ext cx="3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6095880" y="4495680"/>
            <a:ext cx="4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895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371240"/>
            <a:ext cx="3124080" cy="475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 related to the marked are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dad\Student Gray\4. Abdomen\F66122-004-f122.jpg"/>
          <p:cNvPicPr/>
          <p:nvPr/>
        </p:nvPicPr>
        <p:blipFill>
          <a:blip r:embed="rId1"/>
          <a:srcRect l="-1579" t="0" r="1585" b="26078"/>
          <a:stretch/>
        </p:blipFill>
        <p:spPr>
          <a:xfrm>
            <a:off x="3657600" y="1143000"/>
            <a:ext cx="5257800" cy="47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5"/>
          <p:cNvSpPr/>
          <p:nvPr/>
        </p:nvSpPr>
        <p:spPr>
          <a:xfrm>
            <a:off x="5257800" y="44197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4876920" y="4343400"/>
            <a:ext cx="4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49568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51460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2895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the struc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E:\dad\Student Gray\4. Abdomen\F66122-004-f123.jpg"/>
          <p:cNvPicPr/>
          <p:nvPr/>
        </p:nvPicPr>
        <p:blipFill>
          <a:blip r:embed="rId1"/>
          <a:srcRect l="15093" t="20826" r="16984" b="8627"/>
          <a:stretch/>
        </p:blipFill>
        <p:spPr>
          <a:xfrm>
            <a:off x="3733920" y="1371600"/>
            <a:ext cx="5105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5"/>
          <p:cNvSpPr/>
          <p:nvPr/>
        </p:nvSpPr>
        <p:spPr>
          <a:xfrm>
            <a:off x="7162920" y="2971800"/>
            <a:ext cx="2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6172200" y="3505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105520" y="236232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6477120" y="327672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05:36:29Z</dcterms:created>
  <dc:creator> </dc:creator>
  <dc:description/>
  <dc:language>en-US</dc:language>
  <cp:lastModifiedBy> saeed abuelmakarem</cp:lastModifiedBy>
  <dcterms:modified xsi:type="dcterms:W3CDTF">2015-05-22T16:43:44Z</dcterms:modified>
  <cp:revision>8</cp:revision>
  <dc:subject/>
  <dc:title>Practical renal block</dc:title>
</cp:coreProperties>
</file>