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CBF-5E07-4D98-9A30-E86259A8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8DF-0C1A-4574-9835-9CD7168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EE6-996B-47D2-B981-36715DAC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D40-7B1C-4464-A729-3B5935D5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99-6479-4261-A696-B36A6FC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BD8-2A8E-4E44-953B-6E962557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FE7-9A2C-4375-BBAF-699D3CC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E26-3807-47AC-AC3A-D14BD22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537-3C04-4A0D-854E-5A987741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8AD-9EE1-4857-9F24-7FC0286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15A-71BA-44E0-85F1-DD9F62D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B44-E190-43DA-BAF5-8534123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89F-E62D-4E16-9C91-0C5E5AF11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1240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219320"/>
            <a:ext cx="33526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-------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------ ---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 saeed abuelmakarem</cp:lastModifiedBy>
  <dcterms:modified xsi:type="dcterms:W3CDTF">2015-05-22T16:43:44Z</dcterms:modified>
  <cp:revision>8</cp:revision>
  <dc:subject/>
  <dc:title>Practical renal block</dc:title>
</cp:coreProperties>
</file>