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B4AF-EE93-4105-B93D-9E4D2AF7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EB90C-8D66-4B87-8CF6-2FBEA6A3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9881A-29A6-40DC-8F70-855E5CF7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22EF4-6734-4476-A02A-DF9AD499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8A1E-F537-4D57-8648-F9F2E769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9009-3C97-4538-939A-E7CC7723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2FB3-BFC0-48A5-9496-59BBC12D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78AA-12EE-4095-89A6-27306681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A33B-6DA9-403F-AB26-5538664E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C91A-F7F4-492D-98BF-771346B1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C5C4-CC8D-464D-8C2C-5195B916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798C1-08ED-49A5-9083-A11A3F64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FAA8-C92A-46FF-BCA8-A3D41BC3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4D58-5508-4DF6-8987-7509F59F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4967-D021-4539-B259-D2258566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520B-53D7-4421-ADD1-DF3C96EA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24AF-CC3D-459C-A925-1B50FA1F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BD516-55DF-4671-8B92-CDE2B8DD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F9BF-F90D-4F0A-987B-A5A7EDE7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58B06-C336-4978-825A-F97CA14F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3A56-30EC-4196-8C5B-CDB63ED1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FC8E-50CB-4952-8575-C2CDD8D6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D3F98-228F-47C4-AFA7-73DC3BAD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4BC4-B240-440C-B122-730F8DD5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372A-BBA5-4078-9603-E1210E4AC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0EDF-C856-4E24-A216-110ACDA6AF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533520" y="3808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80880" y="746280"/>
            <a:ext cx="83822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in the plasma is filtered freely at the glomerulus and secreted by renal tubules (10 % of urinary creatinine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is not reabsorbed by the renal tubu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lasma creatinine is an endogenous substance not affected by die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lasma creatinine remains  fairly constant throughout  adult lif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95280" y="1428840"/>
            <a:ext cx="830736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glomerular filtration rate (GFR) provides a useful index of the number of functioning glomeruli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gives an estimation of the degree of renal impairment by disea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54920" y="833400"/>
            <a:ext cx="440208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ff"/>
                </a:solidFill>
                <a:uFillTx/>
                <a:latin typeface="Arial"/>
              </a:rPr>
              <a:t>Creatinine clearance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380880" y="419040"/>
            <a:ext cx="8458200" cy="61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Accurate measurement of GRF by clearance tests requires determination of the concentration in plasma and urine of a substance that is: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reely filtered at glomerul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ither reabsorbed nor secreted by tubu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s concentration in plasma needs to remains constant throughout  the period of urine collect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tter if the substance is present endogenously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asily measured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reatinine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eets most of these criter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97000" y="804960"/>
            <a:ext cx="85230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clearance is usually about 110 ml/min in the 20-40 year old adul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t falls slowly but progressively to about 70 ml/min  in individuals over 8o years of ag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 children, the GFR should be related to surface area, when this is done, results are similar to those found in young adul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82600" y="696960"/>
            <a:ext cx="861048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learanc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is the volume of plasma cleared from the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ubstanc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excreted in urine per minut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t could be calculated from the following equa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      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learanc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(ml/min) = 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U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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en-GB" sz="2800" spc="-1" strike="noStrike" u="sng">
                <a:solidFill>
                  <a:srgbClr val="99ff33"/>
                </a:solidFill>
                <a:uFillTx/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1" lang="en-GB" sz="2800" spc="-1" strike="noStrike">
                <a:solidFill>
                  <a:srgbClr val="ff00ff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ncentration of creatinine in urine 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l/l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99ff33"/>
                </a:solidFill>
                <a:latin typeface="Arial"/>
              </a:rPr>
              <a:t>V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Volume of urine per m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00ff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= Concentration of creatinine in serum 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l/l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Cockcroft-Gault Formula</a:t>
            </a:r>
            <a:br>
              <a:rPr sz="3600"/>
            </a:b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for Estimation of GFR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4800"/>
            <a:ext cx="84960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indicated above, the creatinine clearance is measured by using a 24-hour urine collection, but this does introduce the potential for errors in terms of completion of the colle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115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lternative and convenient method is to employ various formulae devised to calculate creatinine clearance using parameters such as serum creatinine level, sex, age, and weight of the subjec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xample i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Cockcroft-Gault Formu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140 – age)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ody weigh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F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=           ──────────────────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um creatinine (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l/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a constant that varies with sex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23  for male   &amp;   1.04  for fema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nstan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used as females have a relatively lower muscle mas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should 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be used i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rum creatinine is changing rapid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diet is unusual, e.g., strict vegetari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w muscle mass, e.g., muscle wast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es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Cockcroft-Gault Formula</a:t>
            </a:r>
            <a:br>
              <a:rPr sz="3600"/>
            </a:b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for Estimation of GFR: Limitation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79280" y="290520"/>
            <a:ext cx="8640720" cy="22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Serum  creatinine is a better kidney function test than creatinine clearance  because :</a:t>
            </a:r>
            <a:r>
              <a:rPr b="1" lang="en-GB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•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um creatinine is more accurat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•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um creatinine level is constant throughout adult lif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52280" y="3284640"/>
            <a:ext cx="8763120" cy="31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Creatinine clearance is only recommended in the following conditions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177840" indent="-177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tients with early ( minor ) renal diseas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77840" indent="-177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ssessment of possible kidney dono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177840" indent="-177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tection of renal toxicity of some nephrotoxic drugs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152280"/>
            <a:ext cx="8610480" cy="32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Normal adult reference valu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rinary excretion of creatinine is 0.5 - 2.0 g per 24 hours in a normal adult, varying according to muscular weight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-  Serum creatinine :       55 – 120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mol/L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-  Creatinine clearance:  90 </a:t>
            </a:r>
            <a:r>
              <a:rPr b="1" lang="fr-FR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40 ml/mi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Mal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80 </a:t>
            </a:r>
            <a:r>
              <a:rPr b="1" lang="fr-FR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25 ml/mi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Females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470520" y="3933720"/>
            <a:ext cx="8091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raised serum creatinine is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ood indicator of impaired renal function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ut  normal serum creatini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necessarily indicate normal renal function 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um creatinine may not be elevated until GFR has fall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as much as 50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50920" y="2708280"/>
            <a:ext cx="8893080" cy="156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 Black"/>
              </a:rPr>
              <a:t>Kidney Function Test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r . Rana Hasana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50920" y="404640"/>
            <a:ext cx="8686800" cy="59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3960" indent="-442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Serum Urea ( 2.5-6.6 mmol/L) in adult: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rea is formed in the liver from ammonia</a:t>
            </a: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eleased from deamination of amino acid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rea is increased due to dehyd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As a kidney function test, serum urea is inferior to serum creatinine becaus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gh protein diet increases urea format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y condition of 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proteins catabolism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(Cushing syndrome, diabetes mellitus, starvation, thyrotoxicosis)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urea formation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23960" indent="-442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50 % or more of urea filtered at the glomerulus is passively reabsorbed by the renal tubule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80880" y="16765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0" name="Group 65"/>
          <p:cNvGrpSpPr/>
          <p:nvPr/>
        </p:nvGrpSpPr>
        <p:grpSpPr>
          <a:xfrm>
            <a:off x="539640" y="1268280"/>
            <a:ext cx="8229240" cy="4876920"/>
            <a:chOff x="539640" y="1268280"/>
            <a:chExt cx="8229240" cy="4876920"/>
          </a:xfrm>
        </p:grpSpPr>
        <p:grpSp>
          <p:nvGrpSpPr>
            <p:cNvPr id="131" name="Group 63"/>
            <p:cNvGrpSpPr/>
            <p:nvPr/>
          </p:nvGrpSpPr>
          <p:grpSpPr>
            <a:xfrm>
              <a:off x="547560" y="1271520"/>
              <a:ext cx="8211600" cy="4869720"/>
              <a:chOff x="547560" y="1271520"/>
              <a:chExt cx="8211600" cy="4869720"/>
            </a:xfrm>
          </p:grpSpPr>
          <p:grpSp>
            <p:nvGrpSpPr>
              <p:cNvPr id="132" name="Group 24"/>
              <p:cNvGrpSpPr/>
              <p:nvPr/>
            </p:nvGrpSpPr>
            <p:grpSpPr>
              <a:xfrm>
                <a:off x="547560" y="1271520"/>
                <a:ext cx="4687200" cy="471960"/>
                <a:chOff x="547560" y="1271520"/>
                <a:chExt cx="4687200" cy="471960"/>
              </a:xfrm>
            </p:grpSpPr>
            <p:sp>
              <p:nvSpPr>
                <p:cNvPr id="133" name="Rectangle 3"/>
                <p:cNvSpPr/>
                <p:nvPr/>
              </p:nvSpPr>
              <p:spPr>
                <a:xfrm>
                  <a:off x="663480" y="127152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SODIUM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4" name="Rectangle 23"/>
                <p:cNvSpPr/>
                <p:nvPr/>
              </p:nvSpPr>
              <p:spPr>
                <a:xfrm>
                  <a:off x="547560" y="127152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5" name="Group 26"/>
              <p:cNvGrpSpPr/>
              <p:nvPr/>
            </p:nvGrpSpPr>
            <p:grpSpPr>
              <a:xfrm>
                <a:off x="5235120" y="1271520"/>
                <a:ext cx="3524040" cy="471960"/>
                <a:chOff x="5235120" y="1271520"/>
                <a:chExt cx="3524040" cy="471960"/>
              </a:xfrm>
            </p:grpSpPr>
            <p:sp>
              <p:nvSpPr>
                <p:cNvPr id="136" name="Rectangle 4"/>
                <p:cNvSpPr/>
                <p:nvPr/>
              </p:nvSpPr>
              <p:spPr>
                <a:xfrm>
                  <a:off x="5350320" y="127152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135  to 145  mEq/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37" name="Rectangle 25"/>
                <p:cNvSpPr/>
                <p:nvPr/>
              </p:nvSpPr>
              <p:spPr>
                <a:xfrm>
                  <a:off x="5235120" y="127152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38" name="Group 28"/>
              <p:cNvGrpSpPr/>
              <p:nvPr/>
            </p:nvGrpSpPr>
            <p:grpSpPr>
              <a:xfrm>
                <a:off x="547560" y="1743480"/>
                <a:ext cx="4687200" cy="471960"/>
                <a:chOff x="547560" y="1743480"/>
                <a:chExt cx="4687200" cy="471960"/>
              </a:xfrm>
            </p:grpSpPr>
            <p:sp>
              <p:nvSpPr>
                <p:cNvPr id="139" name="Rectangle 5"/>
                <p:cNvSpPr/>
                <p:nvPr/>
              </p:nvSpPr>
              <p:spPr>
                <a:xfrm>
                  <a:off x="663480" y="174348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POTASSIUM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0" name="Rectangle 27"/>
                <p:cNvSpPr/>
                <p:nvPr/>
              </p:nvSpPr>
              <p:spPr>
                <a:xfrm>
                  <a:off x="547560" y="174348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1" name="Group 30"/>
              <p:cNvGrpSpPr/>
              <p:nvPr/>
            </p:nvGrpSpPr>
            <p:grpSpPr>
              <a:xfrm>
                <a:off x="5235120" y="1743480"/>
                <a:ext cx="3524040" cy="471960"/>
                <a:chOff x="5235120" y="1743480"/>
                <a:chExt cx="3524040" cy="471960"/>
              </a:xfrm>
            </p:grpSpPr>
            <p:sp>
              <p:nvSpPr>
                <p:cNvPr id="142" name="Rectangle 6"/>
                <p:cNvSpPr/>
                <p:nvPr/>
              </p:nvSpPr>
              <p:spPr>
                <a:xfrm>
                  <a:off x="5350320" y="174348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3.5   to 5.5  mEq/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3" name="Rectangle 29"/>
                <p:cNvSpPr/>
                <p:nvPr/>
              </p:nvSpPr>
              <p:spPr>
                <a:xfrm>
                  <a:off x="5235120" y="174348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4" name="Group 32"/>
              <p:cNvGrpSpPr/>
              <p:nvPr/>
            </p:nvGrpSpPr>
            <p:grpSpPr>
              <a:xfrm>
                <a:off x="547560" y="2215440"/>
                <a:ext cx="4687200" cy="471960"/>
                <a:chOff x="547560" y="2215440"/>
                <a:chExt cx="4687200" cy="471960"/>
              </a:xfrm>
            </p:grpSpPr>
            <p:sp>
              <p:nvSpPr>
                <p:cNvPr id="145" name="Rectangle 7"/>
                <p:cNvSpPr/>
                <p:nvPr/>
              </p:nvSpPr>
              <p:spPr>
                <a:xfrm>
                  <a:off x="663480" y="221544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CHLORIDES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6" name="Rectangle 31"/>
                <p:cNvSpPr/>
                <p:nvPr/>
              </p:nvSpPr>
              <p:spPr>
                <a:xfrm>
                  <a:off x="547560" y="221544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47" name="Group 34"/>
              <p:cNvGrpSpPr/>
              <p:nvPr/>
            </p:nvGrpSpPr>
            <p:grpSpPr>
              <a:xfrm>
                <a:off x="5235120" y="2215440"/>
                <a:ext cx="3524040" cy="471960"/>
                <a:chOff x="5235120" y="2215440"/>
                <a:chExt cx="3524040" cy="471960"/>
              </a:xfrm>
            </p:grpSpPr>
            <p:sp>
              <p:nvSpPr>
                <p:cNvPr id="148" name="Rectangle 8"/>
                <p:cNvSpPr/>
                <p:nvPr/>
              </p:nvSpPr>
              <p:spPr>
                <a:xfrm>
                  <a:off x="5350320" y="221544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100  to 110   mEq/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49" name="Rectangle 33"/>
                <p:cNvSpPr/>
                <p:nvPr/>
              </p:nvSpPr>
              <p:spPr>
                <a:xfrm>
                  <a:off x="5235120" y="221544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0" name="Group 36"/>
              <p:cNvGrpSpPr/>
              <p:nvPr/>
            </p:nvGrpSpPr>
            <p:grpSpPr>
              <a:xfrm>
                <a:off x="547560" y="2687400"/>
                <a:ext cx="4687200" cy="471960"/>
                <a:chOff x="547560" y="2687400"/>
                <a:chExt cx="4687200" cy="471960"/>
              </a:xfrm>
            </p:grpSpPr>
            <p:sp>
              <p:nvSpPr>
                <p:cNvPr id="151" name="Rectangle 9"/>
                <p:cNvSpPr/>
                <p:nvPr/>
              </p:nvSpPr>
              <p:spPr>
                <a:xfrm>
                  <a:off x="663480" y="268740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BICARBONATE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2" name="Rectangle 35"/>
                <p:cNvSpPr/>
                <p:nvPr/>
              </p:nvSpPr>
              <p:spPr>
                <a:xfrm>
                  <a:off x="547560" y="268740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3" name="Group 38"/>
              <p:cNvGrpSpPr/>
              <p:nvPr/>
            </p:nvGrpSpPr>
            <p:grpSpPr>
              <a:xfrm>
                <a:off x="5235120" y="2687400"/>
                <a:ext cx="3524040" cy="471960"/>
                <a:chOff x="5235120" y="2687400"/>
                <a:chExt cx="3524040" cy="471960"/>
              </a:xfrm>
            </p:grpSpPr>
            <p:sp>
              <p:nvSpPr>
                <p:cNvPr id="154" name="Rectangle 10"/>
                <p:cNvSpPr/>
                <p:nvPr/>
              </p:nvSpPr>
              <p:spPr>
                <a:xfrm>
                  <a:off x="5350320" y="268740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24  to 26   mEq/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5" name="Rectangle 37"/>
                <p:cNvSpPr/>
                <p:nvPr/>
              </p:nvSpPr>
              <p:spPr>
                <a:xfrm>
                  <a:off x="5235120" y="268740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6" name="Group 40"/>
              <p:cNvGrpSpPr/>
              <p:nvPr/>
            </p:nvGrpSpPr>
            <p:grpSpPr>
              <a:xfrm>
                <a:off x="547560" y="3159720"/>
                <a:ext cx="4687200" cy="471960"/>
                <a:chOff x="547560" y="3159720"/>
                <a:chExt cx="4687200" cy="471960"/>
              </a:xfrm>
            </p:grpSpPr>
            <p:sp>
              <p:nvSpPr>
                <p:cNvPr id="157" name="Rectangle 11"/>
                <p:cNvSpPr/>
                <p:nvPr/>
              </p:nvSpPr>
              <p:spPr>
                <a:xfrm>
                  <a:off x="663480" y="315972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CALCIUM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58" name="Rectangle 39"/>
                <p:cNvSpPr/>
                <p:nvPr/>
              </p:nvSpPr>
              <p:spPr>
                <a:xfrm>
                  <a:off x="547560" y="315972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59" name="Group 42"/>
              <p:cNvGrpSpPr/>
              <p:nvPr/>
            </p:nvGrpSpPr>
            <p:grpSpPr>
              <a:xfrm>
                <a:off x="5235120" y="3159720"/>
                <a:ext cx="3524040" cy="471960"/>
                <a:chOff x="5235120" y="3159720"/>
                <a:chExt cx="3524040" cy="471960"/>
              </a:xfrm>
            </p:grpSpPr>
            <p:sp>
              <p:nvSpPr>
                <p:cNvPr id="160" name="Rectangle 12"/>
                <p:cNvSpPr/>
                <p:nvPr/>
              </p:nvSpPr>
              <p:spPr>
                <a:xfrm>
                  <a:off x="5350320" y="315972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8.6  to 10 mg/d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1" name="Rectangle 41"/>
                <p:cNvSpPr/>
                <p:nvPr/>
              </p:nvSpPr>
              <p:spPr>
                <a:xfrm>
                  <a:off x="5235120" y="315972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2" name="Group 44"/>
              <p:cNvGrpSpPr/>
              <p:nvPr/>
            </p:nvGrpSpPr>
            <p:grpSpPr>
              <a:xfrm>
                <a:off x="547560" y="3631680"/>
                <a:ext cx="4687200" cy="471600"/>
                <a:chOff x="547560" y="3631680"/>
                <a:chExt cx="4687200" cy="471600"/>
              </a:xfrm>
            </p:grpSpPr>
            <p:sp>
              <p:nvSpPr>
                <p:cNvPr id="163" name="Rectangle 13"/>
                <p:cNvSpPr/>
                <p:nvPr/>
              </p:nvSpPr>
              <p:spPr>
                <a:xfrm>
                  <a:off x="663480" y="3631680"/>
                  <a:ext cx="445536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MAGNESIUM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4" name="Rectangle 43"/>
                <p:cNvSpPr/>
                <p:nvPr/>
              </p:nvSpPr>
              <p:spPr>
                <a:xfrm>
                  <a:off x="547560" y="3631680"/>
                  <a:ext cx="468720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5" name="Group 46"/>
              <p:cNvGrpSpPr/>
              <p:nvPr/>
            </p:nvGrpSpPr>
            <p:grpSpPr>
              <a:xfrm>
                <a:off x="5235120" y="3631680"/>
                <a:ext cx="3524040" cy="471600"/>
                <a:chOff x="5235120" y="3631680"/>
                <a:chExt cx="3524040" cy="471600"/>
              </a:xfrm>
            </p:grpSpPr>
            <p:sp>
              <p:nvSpPr>
                <p:cNvPr id="166" name="Rectangle 14"/>
                <p:cNvSpPr/>
                <p:nvPr/>
              </p:nvSpPr>
              <p:spPr>
                <a:xfrm>
                  <a:off x="5350320" y="3631680"/>
                  <a:ext cx="3293280" cy="47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1.6  to 2.4  mg/d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67" name="Rectangle 45"/>
                <p:cNvSpPr/>
                <p:nvPr/>
              </p:nvSpPr>
              <p:spPr>
                <a:xfrm>
                  <a:off x="5235120" y="3631680"/>
                  <a:ext cx="3524040" cy="47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68" name="Group 48"/>
              <p:cNvGrpSpPr/>
              <p:nvPr/>
            </p:nvGrpSpPr>
            <p:grpSpPr>
              <a:xfrm>
                <a:off x="547560" y="4103280"/>
                <a:ext cx="4687200" cy="471960"/>
                <a:chOff x="547560" y="4103280"/>
                <a:chExt cx="4687200" cy="471960"/>
              </a:xfrm>
            </p:grpSpPr>
            <p:sp>
              <p:nvSpPr>
                <p:cNvPr id="169" name="Rectangle 15"/>
                <p:cNvSpPr/>
                <p:nvPr/>
              </p:nvSpPr>
              <p:spPr>
                <a:xfrm>
                  <a:off x="663480" y="410328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PHOSPHORUS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0" name="Rectangle 47"/>
                <p:cNvSpPr/>
                <p:nvPr/>
              </p:nvSpPr>
              <p:spPr>
                <a:xfrm>
                  <a:off x="547560" y="410328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1" name="Group 50"/>
              <p:cNvGrpSpPr/>
              <p:nvPr/>
            </p:nvGrpSpPr>
            <p:grpSpPr>
              <a:xfrm>
                <a:off x="5235120" y="4103280"/>
                <a:ext cx="3524040" cy="471960"/>
                <a:chOff x="5235120" y="4103280"/>
                <a:chExt cx="3524040" cy="471960"/>
              </a:xfrm>
            </p:grpSpPr>
            <p:sp>
              <p:nvSpPr>
                <p:cNvPr id="172" name="Rectangle 16"/>
                <p:cNvSpPr/>
                <p:nvPr/>
              </p:nvSpPr>
              <p:spPr>
                <a:xfrm>
                  <a:off x="5350320" y="410328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3.0  to 5.0  mg/d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3" name="Rectangle 49"/>
                <p:cNvSpPr/>
                <p:nvPr/>
              </p:nvSpPr>
              <p:spPr>
                <a:xfrm>
                  <a:off x="5235120" y="410328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4" name="Group 52"/>
              <p:cNvGrpSpPr/>
              <p:nvPr/>
            </p:nvGrpSpPr>
            <p:grpSpPr>
              <a:xfrm>
                <a:off x="547560" y="4575600"/>
                <a:ext cx="4687200" cy="471960"/>
                <a:chOff x="547560" y="4575600"/>
                <a:chExt cx="4687200" cy="471960"/>
              </a:xfrm>
            </p:grpSpPr>
            <p:sp>
              <p:nvSpPr>
                <p:cNvPr id="175" name="Rectangle 17"/>
                <p:cNvSpPr/>
                <p:nvPr/>
              </p:nvSpPr>
              <p:spPr>
                <a:xfrm>
                  <a:off x="663480" y="457560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URIC ACID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6" name="Rectangle 51"/>
                <p:cNvSpPr/>
                <p:nvPr/>
              </p:nvSpPr>
              <p:spPr>
                <a:xfrm>
                  <a:off x="547560" y="457560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77" name="Group 54"/>
              <p:cNvGrpSpPr/>
              <p:nvPr/>
            </p:nvGrpSpPr>
            <p:grpSpPr>
              <a:xfrm>
                <a:off x="5235120" y="4575600"/>
                <a:ext cx="3524040" cy="471960"/>
                <a:chOff x="5235120" y="4575600"/>
                <a:chExt cx="3524040" cy="471960"/>
              </a:xfrm>
            </p:grpSpPr>
            <p:sp>
              <p:nvSpPr>
                <p:cNvPr id="178" name="Rectangle 18"/>
                <p:cNvSpPr/>
                <p:nvPr/>
              </p:nvSpPr>
              <p:spPr>
                <a:xfrm>
                  <a:off x="5350320" y="457560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2.5  to 6.0  mg/dl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79" name="Rectangle 53"/>
                <p:cNvSpPr/>
                <p:nvPr/>
              </p:nvSpPr>
              <p:spPr>
                <a:xfrm>
                  <a:off x="5235120" y="457560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0" name="Group 56"/>
              <p:cNvGrpSpPr/>
              <p:nvPr/>
            </p:nvGrpSpPr>
            <p:grpSpPr>
              <a:xfrm>
                <a:off x="547560" y="5047560"/>
                <a:ext cx="4687200" cy="471960"/>
                <a:chOff x="547560" y="5047560"/>
                <a:chExt cx="4687200" cy="471960"/>
              </a:xfrm>
            </p:grpSpPr>
            <p:sp>
              <p:nvSpPr>
                <p:cNvPr id="181" name="Rectangle 19"/>
                <p:cNvSpPr/>
                <p:nvPr/>
              </p:nvSpPr>
              <p:spPr>
                <a:xfrm>
                  <a:off x="663480" y="5047560"/>
                  <a:ext cx="445536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pH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2" name="Rectangle 55"/>
                <p:cNvSpPr/>
                <p:nvPr/>
              </p:nvSpPr>
              <p:spPr>
                <a:xfrm>
                  <a:off x="547560" y="5047560"/>
                  <a:ext cx="468720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3" name="Group 58"/>
              <p:cNvGrpSpPr/>
              <p:nvPr/>
            </p:nvGrpSpPr>
            <p:grpSpPr>
              <a:xfrm>
                <a:off x="5235120" y="5047560"/>
                <a:ext cx="3524040" cy="471960"/>
                <a:chOff x="5235120" y="5047560"/>
                <a:chExt cx="3524040" cy="471960"/>
              </a:xfrm>
            </p:grpSpPr>
            <p:sp>
              <p:nvSpPr>
                <p:cNvPr id="184" name="Rectangle 20"/>
                <p:cNvSpPr/>
                <p:nvPr/>
              </p:nvSpPr>
              <p:spPr>
                <a:xfrm>
                  <a:off x="5350320" y="5047560"/>
                  <a:ext cx="32932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 Black"/>
                    </a:rPr>
                    <a:t>7.4</a:t>
                  </a: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5" name="Rectangle 57"/>
                <p:cNvSpPr/>
                <p:nvPr/>
              </p:nvSpPr>
              <p:spPr>
                <a:xfrm>
                  <a:off x="5235120" y="5047560"/>
                  <a:ext cx="3524040" cy="47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6" name="Group 60"/>
              <p:cNvGrpSpPr/>
              <p:nvPr/>
            </p:nvGrpSpPr>
            <p:grpSpPr>
              <a:xfrm>
                <a:off x="547560" y="5519520"/>
                <a:ext cx="4687200" cy="621720"/>
                <a:chOff x="547560" y="5519520"/>
                <a:chExt cx="4687200" cy="621720"/>
              </a:xfrm>
            </p:grpSpPr>
            <p:sp>
              <p:nvSpPr>
                <p:cNvPr id="187" name="Rectangle 21"/>
                <p:cNvSpPr/>
                <p:nvPr/>
              </p:nvSpPr>
              <p:spPr>
                <a:xfrm>
                  <a:off x="663480" y="5519520"/>
                  <a:ext cx="445536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6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CREATININE</a:t>
                  </a:r>
                  <a:br>
                    <a:rPr sz="2000"/>
                  </a:b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88" name="Rectangle 59"/>
                <p:cNvSpPr/>
                <p:nvPr/>
              </p:nvSpPr>
              <p:spPr>
                <a:xfrm>
                  <a:off x="547560" y="5519520"/>
                  <a:ext cx="468720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189" name="Group 62"/>
              <p:cNvGrpSpPr/>
              <p:nvPr/>
            </p:nvGrpSpPr>
            <p:grpSpPr>
              <a:xfrm>
                <a:off x="5235120" y="5519520"/>
                <a:ext cx="3524040" cy="621720"/>
                <a:chOff x="5235120" y="5519520"/>
                <a:chExt cx="3524040" cy="621720"/>
              </a:xfrm>
            </p:grpSpPr>
            <p:sp>
              <p:nvSpPr>
                <p:cNvPr id="190" name="Rectangle 22"/>
                <p:cNvSpPr/>
                <p:nvPr/>
              </p:nvSpPr>
              <p:spPr>
                <a:xfrm>
                  <a:off x="5350320" y="5519520"/>
                  <a:ext cx="3293280" cy="62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6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 Black"/>
                    </a:rPr>
                    <a:t>0.8  to 1.4 mg/dl</a:t>
                  </a:r>
                  <a:br>
                    <a:rPr sz="2000"/>
                  </a:br>
                  <a:endParaRPr b="0" lang="en-US" sz="20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  <p:sp>
              <p:nvSpPr>
                <p:cNvPr id="191" name="Rectangle 61"/>
                <p:cNvSpPr/>
                <p:nvPr/>
              </p:nvSpPr>
              <p:spPr>
                <a:xfrm>
                  <a:off x="5235120" y="5519520"/>
                  <a:ext cx="3524040" cy="62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Garamond"/>
                  </a:endParaRPr>
                </a:p>
              </p:txBody>
            </p:sp>
          </p:grpSp>
        </p:grpSp>
        <p:sp>
          <p:nvSpPr>
            <p:cNvPr id="192" name="Rectangle 64"/>
            <p:cNvSpPr/>
            <p:nvPr/>
          </p:nvSpPr>
          <p:spPr>
            <a:xfrm>
              <a:off x="539640" y="1268280"/>
              <a:ext cx="8229240" cy="4876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93" name="Text Box 66"/>
          <p:cNvSpPr/>
          <p:nvPr/>
        </p:nvSpPr>
        <p:spPr>
          <a:xfrm>
            <a:off x="304920" y="152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Normal values of </a:t>
            </a:r>
            <a:r>
              <a:rPr b="0" lang="en-US" sz="2400" spc="-1" strike="noStrike" u="sng">
                <a:solidFill>
                  <a:srgbClr val="ffccff"/>
                </a:solidFill>
                <a:uFillTx/>
                <a:latin typeface="Arial Black"/>
              </a:rPr>
              <a:t>Internal Chemical Environment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 controlled by the Kidneys</a:t>
            </a:r>
            <a:r>
              <a:rPr b="0" lang="en-US" sz="2400" spc="-1" strike="noStrike">
                <a:solidFill>
                  <a:srgbClr val="ff00ff"/>
                </a:solidFill>
                <a:latin typeface="Arial Black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257800" y="6172200"/>
          <a:ext cx="3505320" cy="457200"/>
        </p:xfrm>
        <a:graphic>
          <a:graphicData uri="http://schemas.openxmlformats.org/drawingml/2006/table">
            <a:tbl>
              <a:tblPr/>
              <a:tblGrid>
                <a:gridCol w="35053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15  to 20 mg/d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33520" y="6172200"/>
          <a:ext cx="4724280" cy="457200"/>
        </p:xfrm>
        <a:graphic>
          <a:graphicData uri="http://schemas.openxmlformats.org/drawingml/2006/table">
            <a:tbl>
              <a:tblPr/>
              <a:tblGrid>
                <a:gridCol w="47242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BUN  (Blood Urea Nitroge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57200" y="333360"/>
            <a:ext cx="8507520" cy="6000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ten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Functional un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Kidney func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nal diseases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outine kidney function tests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erum creatinine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reatinine clear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ckcroft-Gault formula for GFR estimation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85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erum Urea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50920" y="765000"/>
            <a:ext cx="8762760" cy="568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Arial"/>
              </a:rPr>
              <a:t>Functional units</a:t>
            </a: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99ff33"/>
                </a:solidFill>
                <a:uFillTx/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nephr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is the functional unit of the kidne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ch kidney contains about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,000,000 to 1,300,000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phr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nephron is composed of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glomerulu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renal tubule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nephron performs its homeostatic function by ultra filtration at  glomerulus and secretion and reabsorption at renal tubul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27"/>
          <p:cNvSpPr/>
          <p:nvPr/>
        </p:nvSpPr>
        <p:spPr>
          <a:xfrm>
            <a:off x="0" y="6165720"/>
            <a:ext cx="9144000" cy="1169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esentation of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phr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its blood supp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0" y="946080"/>
            <a:ext cx="9144000" cy="57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33360" indent="-6699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egula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of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382428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water and electrolyte bal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382428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acid base balanc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382428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- arterial blood pressur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233360" indent="-6699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xcre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of metabolic waste products and foreign chemica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233360" indent="-6699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rmonal 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: Secretion of erythropoietin &amp; activation of vitamin D and activation of angiotensinogen by ren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1233360" indent="-66996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etabolic 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ite for gluconeogene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98160" y="115920"/>
            <a:ext cx="41659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ff"/>
                </a:solidFill>
                <a:uFillTx/>
                <a:latin typeface="Arial"/>
              </a:rPr>
              <a:t>Kidney functions</a:t>
            </a:r>
            <a:r>
              <a:rPr b="1" lang="en-GB" sz="3600" spc="-1" strike="noStrike">
                <a:solidFill>
                  <a:srgbClr val="ff00ff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28600" y="1649520"/>
            <a:ext cx="85345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ny diseases affect renal func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 some, several functions are affect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 others, there is selective impairment of glomerular function or one or more of tubular  functio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8800" indent="-3888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ost types of renal diseases cause destruction of  complete nephr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03720" y="411120"/>
            <a:ext cx="3637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ff"/>
                </a:solidFill>
                <a:uFillTx/>
                <a:latin typeface="Arial"/>
              </a:rPr>
              <a:t>Renal diseas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28600" y="404640"/>
            <a:ext cx="8839080" cy="61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Routine kidney function test include the measurement of :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um creatinin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clearan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erum urea.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Both serum creatinine and creatinine clearance are used as kidney function tests to :</a:t>
            </a:r>
            <a:r>
              <a:rPr b="1" lang="en-GB" sz="32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firm the diagnosis of renal diseas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 an idea about the severity of the diseas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ollow up the treatmen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04920" y="538200"/>
            <a:ext cx="845820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ff"/>
                </a:solidFill>
                <a:uFillTx/>
                <a:latin typeface="Arial"/>
              </a:rPr>
              <a:t>Serum creatinine</a:t>
            </a:r>
            <a:r>
              <a:rPr b="1" lang="en-GB" sz="32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(55-120 </a:t>
            </a:r>
            <a:r>
              <a:rPr b="1" lang="en-GB" sz="2800" spc="-1" strike="noStrike" u="sng">
                <a:solidFill>
                  <a:srgbClr val="ff00ff"/>
                </a:solidFill>
                <a:uFillTx/>
                <a:latin typeface="Symbol"/>
                <a:ea typeface="Symbol"/>
              </a:rPr>
              <a:t></a:t>
            </a:r>
            <a:r>
              <a:rPr b="1" lang="en-GB" sz="2800" spc="-1" strike="noStrike" u="sng">
                <a:solidFill>
                  <a:srgbClr val="ff00ff"/>
                </a:solidFill>
                <a:uFillTx/>
                <a:latin typeface="Arial"/>
              </a:rPr>
              <a:t>mol/L in adult):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reatinine is the  end product of creatine catabolism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98% of the body creatine is present in the muscles where it functions  as store of high energy in the form of creatine phospha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bout 1-2 % of total muscle creatine or creatine phosphate  pool is converted daily to creatinine through the spontaneous, non enzymatic  loss of water or phosphate.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19:56:18Z</dcterms:created>
  <dc:creator>Dr. Sayed S. Al Esawy</dc:creator>
  <dc:description/>
  <dc:language>en-US</dc:language>
  <cp:lastModifiedBy>RANA</cp:lastModifiedBy>
  <dcterms:modified xsi:type="dcterms:W3CDTF">2015-04-21T05:21:45Z</dcterms:modified>
  <cp:revision>58</cp:revision>
  <dc:subject/>
  <dc:title>عرض تقديمي من PowerPoint</dc:title>
</cp:coreProperties>
</file>