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233D-8FC5-47E8-A385-761D9460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2F17-65EE-48FF-A8A2-E0ADBF53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843E-AAA6-4DB9-BA47-48280D53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B253-7208-4D3B-8121-922EBB5A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E7C6-1CB1-4743-80EA-7D2AFF2D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6D48-D560-4359-8C54-F630A638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C9C5-F330-46EB-AF5B-2EBF154C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9A16-96FC-451F-B284-B3064C71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CDC4-D545-41ED-9405-2D147392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653A-4522-440A-8997-11509A5D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55BC-BD07-4FC0-B333-BFB1D2DE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CFB7-3688-4FAF-8520-06BD515D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D65B-1F3E-455B-9443-F998CED8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0EB5-9F4E-45F4-A8B5-A3C5DE97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AF5B-29BA-4D80-8298-E32BF57F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A6D3-BE09-45D7-AEDF-875A7C15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A737-DEEA-40D7-8493-69FF3F8C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0E5D-C051-4E40-A4C6-22A8199E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2AA9-C7C6-445D-9493-F75EE0D0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31FE-6E50-489C-B9C3-C2C6D53C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BA24-8EC3-4A10-AF9B-DF92EE00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F6558-969C-4F9E-A953-A4A0A8FB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980E-E49C-4C93-8D2D-25965F88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B674-62EF-458D-8F4B-41A5CE7C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177D-32F9-42BD-9C2A-3CEF78951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CBE7-108E-4828-A361-E01F8F171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33520" y="380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0880" y="746280"/>
            <a:ext cx="83822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n the plasma is filtered freely at the glomerulus and secreted by renal tubules (10 % of urinary creatinine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s not reabsorbed by the renal tubu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sma creatinine is an endogenous substance not affected by die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sma creatinine remains  fairly constant throughout  adult lif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1428840"/>
            <a:ext cx="8307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lomerular filtration rate (GFR) provides a useful index of the number of functioning glomeruli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gives an estimation of the degree of renal impairment by disea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54920" y="833400"/>
            <a:ext cx="440208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</a:rPr>
              <a:t>Creatinine clearance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419040"/>
            <a:ext cx="8458200" cy="61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ccurate measurement of GRF by clearance tests requires determination of the concentration in plasma and urine of a substance that is: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reely filtered at glomerul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ither reabsorbed nor secreted by tubu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s concentration in plasma needs to remains constant throughout  the period of urine collec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tter if the substance is present endogenousl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sily measur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reatinin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ets most of these criter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97000" y="804960"/>
            <a:ext cx="8523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clearance is usually about 110 ml/min in the 20-40 year old adul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falls slowly but progressively to about 70 ml/min  in individuals over 8o years of ag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children, the GFR should be related to surface area, when this is done, results are similar to those found in young adul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82600" y="696960"/>
            <a:ext cx="86104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lear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is the volume of plasma cleared from th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bst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excreted in urine per minut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 could be calculated from the following equ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  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lear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(ml/min) = 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U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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99ff33"/>
                </a:solidFill>
                <a:uFillTx/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1" lang="en-GB" sz="2800" spc="-1" strike="noStrike">
                <a:solidFill>
                  <a:srgbClr val="ff00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ncentration of creatinine in urine 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l/l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99ff33"/>
                </a:solidFill>
                <a:latin typeface="Arial"/>
              </a:rPr>
              <a:t>V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Volume of urine per m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ncentration of creatinine in serum 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l/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br>
              <a:rPr sz="3600"/>
            </a:b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for Estimation of GF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4800"/>
            <a:ext cx="8496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indicated above, the creatinine clearance is measured by using a 24-hour urine collection, but this does introduce the potential for errors in terms of completion of the coll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1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lternative and convenient method is to employ various formulae devised to calculate creatinine clearance using parameters such as serum creatinine level, sex, age, and weight of the subjec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ample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140 – age)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ody we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F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=           ──────────────────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um creatinine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l/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 constant that varies with sex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23  for male   &amp;   1.04  for fema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stan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used as females have a relatively lower muscle mas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should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 used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um creatinine is changing rapid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iet is unusual, e.g., strict vegetari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 muscle mass, e.g., muscle wa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e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br>
              <a:rPr sz="3600"/>
            </a:b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for Estimation of GFR: Limitatio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79280" y="290520"/>
            <a:ext cx="864072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Serum  creatinine is a better kidney function test than creatinine clearance  because :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•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 is more accurat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•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 level is constant throughout adult lif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52280" y="3284640"/>
            <a:ext cx="876312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Creatinine clearance is only recommended in the following conditions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tients with early ( minor ) renal diseas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sessment of possible kidney dono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tection of renal toxicity of some nephrotoxic drugs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152280"/>
            <a:ext cx="861048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Normal adult reference valu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rinary excretion of creatinine is 0.5 - 2.0 g per 24 hours in a normal adult, varying according to muscular weigh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-  Serum creatinine :       55 – 120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ol/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  Creatinine clearance:  90 </a:t>
            </a: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40 ml/m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Mal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0 </a:t>
            </a: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25 ml/m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Femal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470520" y="3933720"/>
            <a:ext cx="809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raised serum creatinine 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od indicator of impaired renal functio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ut  normal serum creatin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necessarily indicate normal renal function 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um creatinine may not be elevated until GFR has fall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as much as 50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2708280"/>
            <a:ext cx="8893080" cy="156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Kidney Function Test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r . Rana Hasana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50920" y="404640"/>
            <a:ext cx="868680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Serum Urea ( 2.5-6.6 mmol/L) in adult: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rea is formed in the liver from ammonia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leased from deamination of amino acid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rea is increased due to dehyd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s a kidney function test, serum urea is inferior to serum creatinine becaus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gh protein diet increases urea 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y condition o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proteins catabolism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(Cushing syndrome, diabetes mellitus, starvation, thyrotoxicosis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urea 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% or more of urea filtered at the glomerulus is passively reabsorbed by the renal tubul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80880" y="16765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0" name="Group 65"/>
          <p:cNvGrpSpPr/>
          <p:nvPr/>
        </p:nvGrpSpPr>
        <p:grpSpPr>
          <a:xfrm>
            <a:off x="539640" y="1268280"/>
            <a:ext cx="8229240" cy="4876920"/>
            <a:chOff x="539640" y="1268280"/>
            <a:chExt cx="8229240" cy="4876920"/>
          </a:xfrm>
        </p:grpSpPr>
        <p:grpSp>
          <p:nvGrpSpPr>
            <p:cNvPr id="131" name="Group 63"/>
            <p:cNvGrpSpPr/>
            <p:nvPr/>
          </p:nvGrpSpPr>
          <p:grpSpPr>
            <a:xfrm>
              <a:off x="547560" y="1271520"/>
              <a:ext cx="8211600" cy="4869720"/>
              <a:chOff x="547560" y="1271520"/>
              <a:chExt cx="8211600" cy="4869720"/>
            </a:xfrm>
          </p:grpSpPr>
          <p:grpSp>
            <p:nvGrpSpPr>
              <p:cNvPr id="132" name="Group 24"/>
              <p:cNvGrpSpPr/>
              <p:nvPr/>
            </p:nvGrpSpPr>
            <p:grpSpPr>
              <a:xfrm>
                <a:off x="547560" y="1271520"/>
                <a:ext cx="4687200" cy="471960"/>
                <a:chOff x="547560" y="1271520"/>
                <a:chExt cx="4687200" cy="471960"/>
              </a:xfrm>
            </p:grpSpPr>
            <p:sp>
              <p:nvSpPr>
                <p:cNvPr id="133" name="Rectangle 3"/>
                <p:cNvSpPr/>
                <p:nvPr/>
              </p:nvSpPr>
              <p:spPr>
                <a:xfrm>
                  <a:off x="663480" y="127152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SOD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4" name="Rectangle 23"/>
                <p:cNvSpPr/>
                <p:nvPr/>
              </p:nvSpPr>
              <p:spPr>
                <a:xfrm>
                  <a:off x="547560" y="127152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5" name="Group 26"/>
              <p:cNvGrpSpPr/>
              <p:nvPr/>
            </p:nvGrpSpPr>
            <p:grpSpPr>
              <a:xfrm>
                <a:off x="5235120" y="1271520"/>
                <a:ext cx="3524040" cy="471960"/>
                <a:chOff x="5235120" y="1271520"/>
                <a:chExt cx="3524040" cy="471960"/>
              </a:xfrm>
            </p:grpSpPr>
            <p:sp>
              <p:nvSpPr>
                <p:cNvPr id="136" name="Rectangle 4"/>
                <p:cNvSpPr/>
                <p:nvPr/>
              </p:nvSpPr>
              <p:spPr>
                <a:xfrm>
                  <a:off x="5350320" y="127152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135  to 145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7" name="Rectangle 25"/>
                <p:cNvSpPr/>
                <p:nvPr/>
              </p:nvSpPr>
              <p:spPr>
                <a:xfrm>
                  <a:off x="5235120" y="127152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8" name="Group 28"/>
              <p:cNvGrpSpPr/>
              <p:nvPr/>
            </p:nvGrpSpPr>
            <p:grpSpPr>
              <a:xfrm>
                <a:off x="547560" y="1743480"/>
                <a:ext cx="4687200" cy="471960"/>
                <a:chOff x="547560" y="1743480"/>
                <a:chExt cx="4687200" cy="471960"/>
              </a:xfrm>
            </p:grpSpPr>
            <p:sp>
              <p:nvSpPr>
                <p:cNvPr id="139" name="Rectangle 5"/>
                <p:cNvSpPr/>
                <p:nvPr/>
              </p:nvSpPr>
              <p:spPr>
                <a:xfrm>
                  <a:off x="663480" y="174348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POTASS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0" name="Rectangle 27"/>
                <p:cNvSpPr/>
                <p:nvPr/>
              </p:nvSpPr>
              <p:spPr>
                <a:xfrm>
                  <a:off x="547560" y="174348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1" name="Group 30"/>
              <p:cNvGrpSpPr/>
              <p:nvPr/>
            </p:nvGrpSpPr>
            <p:grpSpPr>
              <a:xfrm>
                <a:off x="5235120" y="1743480"/>
                <a:ext cx="3524040" cy="471960"/>
                <a:chOff x="5235120" y="1743480"/>
                <a:chExt cx="3524040" cy="471960"/>
              </a:xfrm>
            </p:grpSpPr>
            <p:sp>
              <p:nvSpPr>
                <p:cNvPr id="142" name="Rectangle 6"/>
                <p:cNvSpPr/>
                <p:nvPr/>
              </p:nvSpPr>
              <p:spPr>
                <a:xfrm>
                  <a:off x="5350320" y="174348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3.5   to 5.5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3" name="Rectangle 29"/>
                <p:cNvSpPr/>
                <p:nvPr/>
              </p:nvSpPr>
              <p:spPr>
                <a:xfrm>
                  <a:off x="5235120" y="174348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4" name="Group 32"/>
              <p:cNvGrpSpPr/>
              <p:nvPr/>
            </p:nvGrpSpPr>
            <p:grpSpPr>
              <a:xfrm>
                <a:off x="547560" y="2215440"/>
                <a:ext cx="4687200" cy="471960"/>
                <a:chOff x="547560" y="2215440"/>
                <a:chExt cx="4687200" cy="471960"/>
              </a:xfrm>
            </p:grpSpPr>
            <p:sp>
              <p:nvSpPr>
                <p:cNvPr id="145" name="Rectangle 7"/>
                <p:cNvSpPr/>
                <p:nvPr/>
              </p:nvSpPr>
              <p:spPr>
                <a:xfrm>
                  <a:off x="663480" y="221544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CHLORIDES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6" name="Rectangle 31"/>
                <p:cNvSpPr/>
                <p:nvPr/>
              </p:nvSpPr>
              <p:spPr>
                <a:xfrm>
                  <a:off x="547560" y="221544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7" name="Group 34"/>
              <p:cNvGrpSpPr/>
              <p:nvPr/>
            </p:nvGrpSpPr>
            <p:grpSpPr>
              <a:xfrm>
                <a:off x="5235120" y="2215440"/>
                <a:ext cx="3524040" cy="471960"/>
                <a:chOff x="5235120" y="2215440"/>
                <a:chExt cx="3524040" cy="471960"/>
              </a:xfrm>
            </p:grpSpPr>
            <p:sp>
              <p:nvSpPr>
                <p:cNvPr id="148" name="Rectangle 8"/>
                <p:cNvSpPr/>
                <p:nvPr/>
              </p:nvSpPr>
              <p:spPr>
                <a:xfrm>
                  <a:off x="5350320" y="221544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100  to 110 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9" name="Rectangle 33"/>
                <p:cNvSpPr/>
                <p:nvPr/>
              </p:nvSpPr>
              <p:spPr>
                <a:xfrm>
                  <a:off x="5235120" y="221544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0" name="Group 36"/>
              <p:cNvGrpSpPr/>
              <p:nvPr/>
            </p:nvGrpSpPr>
            <p:grpSpPr>
              <a:xfrm>
                <a:off x="547560" y="2687400"/>
                <a:ext cx="4687200" cy="471960"/>
                <a:chOff x="547560" y="2687400"/>
                <a:chExt cx="4687200" cy="471960"/>
              </a:xfrm>
            </p:grpSpPr>
            <p:sp>
              <p:nvSpPr>
                <p:cNvPr id="151" name="Rectangle 9"/>
                <p:cNvSpPr/>
                <p:nvPr/>
              </p:nvSpPr>
              <p:spPr>
                <a:xfrm>
                  <a:off x="663480" y="268740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BICARBONATE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2" name="Rectangle 35"/>
                <p:cNvSpPr/>
                <p:nvPr/>
              </p:nvSpPr>
              <p:spPr>
                <a:xfrm>
                  <a:off x="547560" y="268740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3" name="Group 38"/>
              <p:cNvGrpSpPr/>
              <p:nvPr/>
            </p:nvGrpSpPr>
            <p:grpSpPr>
              <a:xfrm>
                <a:off x="5235120" y="2687400"/>
                <a:ext cx="3524040" cy="471960"/>
                <a:chOff x="5235120" y="2687400"/>
                <a:chExt cx="3524040" cy="471960"/>
              </a:xfrm>
            </p:grpSpPr>
            <p:sp>
              <p:nvSpPr>
                <p:cNvPr id="154" name="Rectangle 10"/>
                <p:cNvSpPr/>
                <p:nvPr/>
              </p:nvSpPr>
              <p:spPr>
                <a:xfrm>
                  <a:off x="5350320" y="268740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24  to 26 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5" name="Rectangle 37"/>
                <p:cNvSpPr/>
                <p:nvPr/>
              </p:nvSpPr>
              <p:spPr>
                <a:xfrm>
                  <a:off x="5235120" y="268740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6" name="Group 40"/>
              <p:cNvGrpSpPr/>
              <p:nvPr/>
            </p:nvGrpSpPr>
            <p:grpSpPr>
              <a:xfrm>
                <a:off x="547560" y="3159720"/>
                <a:ext cx="4687200" cy="471960"/>
                <a:chOff x="547560" y="3159720"/>
                <a:chExt cx="4687200" cy="471960"/>
              </a:xfrm>
            </p:grpSpPr>
            <p:sp>
              <p:nvSpPr>
                <p:cNvPr id="157" name="Rectangle 11"/>
                <p:cNvSpPr/>
                <p:nvPr/>
              </p:nvSpPr>
              <p:spPr>
                <a:xfrm>
                  <a:off x="663480" y="315972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CALC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8" name="Rectangle 39"/>
                <p:cNvSpPr/>
                <p:nvPr/>
              </p:nvSpPr>
              <p:spPr>
                <a:xfrm>
                  <a:off x="547560" y="315972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9" name="Group 42"/>
              <p:cNvGrpSpPr/>
              <p:nvPr/>
            </p:nvGrpSpPr>
            <p:grpSpPr>
              <a:xfrm>
                <a:off x="5235120" y="3159720"/>
                <a:ext cx="3524040" cy="471960"/>
                <a:chOff x="5235120" y="3159720"/>
                <a:chExt cx="3524040" cy="471960"/>
              </a:xfrm>
            </p:grpSpPr>
            <p:sp>
              <p:nvSpPr>
                <p:cNvPr id="160" name="Rectangle 12"/>
                <p:cNvSpPr/>
                <p:nvPr/>
              </p:nvSpPr>
              <p:spPr>
                <a:xfrm>
                  <a:off x="5350320" y="315972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8.6  to 10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1" name="Rectangle 41"/>
                <p:cNvSpPr/>
                <p:nvPr/>
              </p:nvSpPr>
              <p:spPr>
                <a:xfrm>
                  <a:off x="5235120" y="315972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2" name="Group 44"/>
              <p:cNvGrpSpPr/>
              <p:nvPr/>
            </p:nvGrpSpPr>
            <p:grpSpPr>
              <a:xfrm>
                <a:off x="547560" y="3631680"/>
                <a:ext cx="4687200" cy="471600"/>
                <a:chOff x="547560" y="3631680"/>
                <a:chExt cx="4687200" cy="471600"/>
              </a:xfrm>
            </p:grpSpPr>
            <p:sp>
              <p:nvSpPr>
                <p:cNvPr id="163" name="Rectangle 13"/>
                <p:cNvSpPr/>
                <p:nvPr/>
              </p:nvSpPr>
              <p:spPr>
                <a:xfrm>
                  <a:off x="663480" y="3631680"/>
                  <a:ext cx="44553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MAGNES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4" name="Rectangle 43"/>
                <p:cNvSpPr/>
                <p:nvPr/>
              </p:nvSpPr>
              <p:spPr>
                <a:xfrm>
                  <a:off x="547560" y="3631680"/>
                  <a:ext cx="468720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5" name="Group 46"/>
              <p:cNvGrpSpPr/>
              <p:nvPr/>
            </p:nvGrpSpPr>
            <p:grpSpPr>
              <a:xfrm>
                <a:off x="5235120" y="3631680"/>
                <a:ext cx="3524040" cy="471600"/>
                <a:chOff x="5235120" y="3631680"/>
                <a:chExt cx="3524040" cy="471600"/>
              </a:xfrm>
            </p:grpSpPr>
            <p:sp>
              <p:nvSpPr>
                <p:cNvPr id="166" name="Rectangle 14"/>
                <p:cNvSpPr/>
                <p:nvPr/>
              </p:nvSpPr>
              <p:spPr>
                <a:xfrm>
                  <a:off x="5350320" y="3631680"/>
                  <a:ext cx="329328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1.6  to 2.4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7" name="Rectangle 45"/>
                <p:cNvSpPr/>
                <p:nvPr/>
              </p:nvSpPr>
              <p:spPr>
                <a:xfrm>
                  <a:off x="5235120" y="3631680"/>
                  <a:ext cx="35240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8" name="Group 48"/>
              <p:cNvGrpSpPr/>
              <p:nvPr/>
            </p:nvGrpSpPr>
            <p:grpSpPr>
              <a:xfrm>
                <a:off x="547560" y="4103280"/>
                <a:ext cx="4687200" cy="471960"/>
                <a:chOff x="547560" y="4103280"/>
                <a:chExt cx="4687200" cy="471960"/>
              </a:xfrm>
            </p:grpSpPr>
            <p:sp>
              <p:nvSpPr>
                <p:cNvPr id="169" name="Rectangle 15"/>
                <p:cNvSpPr/>
                <p:nvPr/>
              </p:nvSpPr>
              <p:spPr>
                <a:xfrm>
                  <a:off x="663480" y="410328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PHOSPHORUS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0" name="Rectangle 47"/>
                <p:cNvSpPr/>
                <p:nvPr/>
              </p:nvSpPr>
              <p:spPr>
                <a:xfrm>
                  <a:off x="547560" y="410328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1" name="Group 50"/>
              <p:cNvGrpSpPr/>
              <p:nvPr/>
            </p:nvGrpSpPr>
            <p:grpSpPr>
              <a:xfrm>
                <a:off x="5235120" y="4103280"/>
                <a:ext cx="3524040" cy="471960"/>
                <a:chOff x="5235120" y="4103280"/>
                <a:chExt cx="3524040" cy="471960"/>
              </a:xfrm>
            </p:grpSpPr>
            <p:sp>
              <p:nvSpPr>
                <p:cNvPr id="172" name="Rectangle 16"/>
                <p:cNvSpPr/>
                <p:nvPr/>
              </p:nvSpPr>
              <p:spPr>
                <a:xfrm>
                  <a:off x="5350320" y="410328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3.0  to 5.0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3" name="Rectangle 49"/>
                <p:cNvSpPr/>
                <p:nvPr/>
              </p:nvSpPr>
              <p:spPr>
                <a:xfrm>
                  <a:off x="5235120" y="410328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4" name="Group 52"/>
              <p:cNvGrpSpPr/>
              <p:nvPr/>
            </p:nvGrpSpPr>
            <p:grpSpPr>
              <a:xfrm>
                <a:off x="547560" y="4575600"/>
                <a:ext cx="4687200" cy="471960"/>
                <a:chOff x="547560" y="4575600"/>
                <a:chExt cx="4687200" cy="471960"/>
              </a:xfrm>
            </p:grpSpPr>
            <p:sp>
              <p:nvSpPr>
                <p:cNvPr id="175" name="Rectangle 17"/>
                <p:cNvSpPr/>
                <p:nvPr/>
              </p:nvSpPr>
              <p:spPr>
                <a:xfrm>
                  <a:off x="663480" y="457560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URIC ACID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6" name="Rectangle 51"/>
                <p:cNvSpPr/>
                <p:nvPr/>
              </p:nvSpPr>
              <p:spPr>
                <a:xfrm>
                  <a:off x="547560" y="457560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7" name="Group 54"/>
              <p:cNvGrpSpPr/>
              <p:nvPr/>
            </p:nvGrpSpPr>
            <p:grpSpPr>
              <a:xfrm>
                <a:off x="5235120" y="4575600"/>
                <a:ext cx="3524040" cy="471960"/>
                <a:chOff x="5235120" y="4575600"/>
                <a:chExt cx="3524040" cy="471960"/>
              </a:xfrm>
            </p:grpSpPr>
            <p:sp>
              <p:nvSpPr>
                <p:cNvPr id="178" name="Rectangle 18"/>
                <p:cNvSpPr/>
                <p:nvPr/>
              </p:nvSpPr>
              <p:spPr>
                <a:xfrm>
                  <a:off x="5350320" y="457560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2.5  to 6.0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9" name="Rectangle 53"/>
                <p:cNvSpPr/>
                <p:nvPr/>
              </p:nvSpPr>
              <p:spPr>
                <a:xfrm>
                  <a:off x="5235120" y="457560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0" name="Group 56"/>
              <p:cNvGrpSpPr/>
              <p:nvPr/>
            </p:nvGrpSpPr>
            <p:grpSpPr>
              <a:xfrm>
                <a:off x="547560" y="5047560"/>
                <a:ext cx="4687200" cy="471960"/>
                <a:chOff x="547560" y="5047560"/>
                <a:chExt cx="4687200" cy="471960"/>
              </a:xfrm>
            </p:grpSpPr>
            <p:sp>
              <p:nvSpPr>
                <p:cNvPr id="181" name="Rectangle 19"/>
                <p:cNvSpPr/>
                <p:nvPr/>
              </p:nvSpPr>
              <p:spPr>
                <a:xfrm>
                  <a:off x="663480" y="504756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pH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2" name="Rectangle 55"/>
                <p:cNvSpPr/>
                <p:nvPr/>
              </p:nvSpPr>
              <p:spPr>
                <a:xfrm>
                  <a:off x="547560" y="504756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3" name="Group 58"/>
              <p:cNvGrpSpPr/>
              <p:nvPr/>
            </p:nvGrpSpPr>
            <p:grpSpPr>
              <a:xfrm>
                <a:off x="5235120" y="5047560"/>
                <a:ext cx="3524040" cy="471960"/>
                <a:chOff x="5235120" y="5047560"/>
                <a:chExt cx="3524040" cy="471960"/>
              </a:xfrm>
            </p:grpSpPr>
            <p:sp>
              <p:nvSpPr>
                <p:cNvPr id="184" name="Rectangle 20"/>
                <p:cNvSpPr/>
                <p:nvPr/>
              </p:nvSpPr>
              <p:spPr>
                <a:xfrm>
                  <a:off x="5350320" y="504756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7.4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5" name="Rectangle 57"/>
                <p:cNvSpPr/>
                <p:nvPr/>
              </p:nvSpPr>
              <p:spPr>
                <a:xfrm>
                  <a:off x="5235120" y="504756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6" name="Group 60"/>
              <p:cNvGrpSpPr/>
              <p:nvPr/>
            </p:nvGrpSpPr>
            <p:grpSpPr>
              <a:xfrm>
                <a:off x="547560" y="5519520"/>
                <a:ext cx="4687200" cy="621720"/>
                <a:chOff x="547560" y="5519520"/>
                <a:chExt cx="4687200" cy="621720"/>
              </a:xfrm>
            </p:grpSpPr>
            <p:sp>
              <p:nvSpPr>
                <p:cNvPr id="187" name="Rectangle 21"/>
                <p:cNvSpPr/>
                <p:nvPr/>
              </p:nvSpPr>
              <p:spPr>
                <a:xfrm>
                  <a:off x="663480" y="5519520"/>
                  <a:ext cx="445536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CREATININE</a:t>
                  </a:r>
                  <a:br>
                    <a:rPr sz="2000"/>
                  </a:b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8" name="Rectangle 59"/>
                <p:cNvSpPr/>
                <p:nvPr/>
              </p:nvSpPr>
              <p:spPr>
                <a:xfrm>
                  <a:off x="547560" y="5519520"/>
                  <a:ext cx="468720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9" name="Group 62"/>
              <p:cNvGrpSpPr/>
              <p:nvPr/>
            </p:nvGrpSpPr>
            <p:grpSpPr>
              <a:xfrm>
                <a:off x="5235120" y="5519520"/>
                <a:ext cx="3524040" cy="621720"/>
                <a:chOff x="5235120" y="5519520"/>
                <a:chExt cx="3524040" cy="621720"/>
              </a:xfrm>
            </p:grpSpPr>
            <p:sp>
              <p:nvSpPr>
                <p:cNvPr id="190" name="Rectangle 22"/>
                <p:cNvSpPr/>
                <p:nvPr/>
              </p:nvSpPr>
              <p:spPr>
                <a:xfrm>
                  <a:off x="5350320" y="5519520"/>
                  <a:ext cx="329328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0.8  to 1.4 mg/dl</a:t>
                  </a:r>
                  <a:br>
                    <a:rPr sz="2000"/>
                  </a:b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1" name="Rectangle 61"/>
                <p:cNvSpPr/>
                <p:nvPr/>
              </p:nvSpPr>
              <p:spPr>
                <a:xfrm>
                  <a:off x="5235120" y="5519520"/>
                  <a:ext cx="35240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192" name="Rectangle 64"/>
            <p:cNvSpPr/>
            <p:nvPr/>
          </p:nvSpPr>
          <p:spPr>
            <a:xfrm>
              <a:off x="539640" y="1268280"/>
              <a:ext cx="8229240" cy="4876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3" name="Text Box 66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Normal values of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</a:rPr>
              <a:t>Internal Chemical Environment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 controlled by the Kidneys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257800" y="6172200"/>
          <a:ext cx="3505320" cy="4572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15  to 20 mg/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33520" y="6172200"/>
          <a:ext cx="4724280" cy="45720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BUN  (Blood Urea Nitroge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57200" y="333360"/>
            <a:ext cx="8507520" cy="6000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e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unctional un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Kidney fun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nal diseases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outine kidney function tests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erum creatinine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reatinine clea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ckcroft-Gault formula for GFR estimation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erum Urea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765000"/>
            <a:ext cx="8762760" cy="568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</a:rPr>
              <a:t>Functional units</a:t>
            </a: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99ff33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ephr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is the functional unit of the 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ch kidney contains abou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,000,000 to 1,300,000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phr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nephron is composed of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glomerulu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renal tubul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nephron performs its homeostatic function by ultra filtration at  glomerulus and secretion and reabsorption at renal tubu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27"/>
          <p:cNvSpPr/>
          <p:nvPr/>
        </p:nvSpPr>
        <p:spPr>
          <a:xfrm>
            <a:off x="0" y="6165720"/>
            <a:ext cx="9144000" cy="1169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esentation of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phr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its blood supp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0" y="946080"/>
            <a:ext cx="914400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gula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f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water and electrolyte bal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acid base bal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arterial blood pressu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cre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f metabolic waste products and foreign chemic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monal 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: Secretion of erythropoietin &amp; activation of vitamin D and activation of angiotensinogen by ren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etabolic 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ite for gluconeogene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98160" y="115920"/>
            <a:ext cx="41659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</a:rPr>
              <a:t>Kidney functions</a:t>
            </a: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28600" y="1649520"/>
            <a:ext cx="8534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ny diseases affect renal fun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 some, several functions are affect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 others, there is selective impairment of glomerular function or one or more of tubular  func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st types of renal diseases cause destruction of  complete nephr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3720" y="411120"/>
            <a:ext cx="3637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</a:rPr>
              <a:t>Renal diseas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8600" y="404640"/>
            <a:ext cx="883908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Routine kidney function test include the measurement of :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clearan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urea.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Both serum creatinine and creatinine clearance are used as kidney function tests to :</a:t>
            </a:r>
            <a:r>
              <a:rPr b="1" lang="en-GB" sz="32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firm the diagnosis of renal disea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 an idea about the severity of the diseas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llow up the treatm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04920" y="538200"/>
            <a:ext cx="84582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</a:rPr>
              <a:t>Serum creatinine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(55-120 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Symbol"/>
                <a:ea typeface="Symbol"/>
              </a:rPr>
              <a:t>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mol/L in adult):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s the  end product of creatine catabolism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8% of the body creatine is present in the muscles where it functions  as store of high energy in the form of creatine phospha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out 1-2 % of total muscle creatine or creatine phosphate  pool is converted daily to creatinine through the spontaneous, non enzymatic  loss of water or phosphate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19:56:18Z</dcterms:created>
  <dc:creator>Dr. Sayed S. Al Esawy</dc:creator>
  <dc:description/>
  <dc:language>en-US</dc:language>
  <cp:lastModifiedBy>RANA</cp:lastModifiedBy>
  <dcterms:modified xsi:type="dcterms:W3CDTF">2015-04-21T05:21:45Z</dcterms:modified>
  <cp:revision>58</cp:revision>
  <dc:subject/>
  <dc:title>عرض تقديمي من PowerPoint</dc:title>
</cp:coreProperties>
</file>