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7FB3-1D6A-431A-A336-F4DBB09B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CCFF-1AB1-4D91-BDD2-C1EA45B935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477-A998-47DC-BD1C-D49DE20F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47E-DD00-4ED3-B95E-B452BB43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651-B584-405E-8AC8-F5307754A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BC2-58FA-4DDF-8F74-DA4E67E5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02D8-92B5-435F-A21D-5EF243EA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3692-9542-4162-818C-8A5ACB2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6FF5-3BD6-4470-AE1A-0F8F5BE4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8280-B7DD-4C74-951D-AAF2C191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F3B6-2888-41C9-9C95-FE398CF5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1C9F-3F86-4375-BCC0-A7B68489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AD3D-A7D7-4551-B79D-0752578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2BF-095F-4FA1-B380-C32C32F8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D115-ECED-4FEB-80FC-4BA408C8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414A-B63D-4097-87AB-5BD14E5C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4B96-84E4-403E-B267-9A7DE48F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EC4D-8DB1-4E3A-AFF3-06318406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5DB5-804D-41F0-AD77-79BA9DC5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99C0-00D2-40F3-A31E-46A79A25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05500-140B-427C-8691-9BF834A3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3170-6787-4CE9-B227-C7E74881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C4BA9-2758-489A-8ED1-13B9D437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8C0E-A3B2-4D80-B00C-4A27A7E1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DD97-12AE-46B2-81B1-9412100B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B24E-4192-483C-A1EC-7DCB2DFB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DF052-BCC9-4594-AAEC-6DD8BAF4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6294-1966-485E-829A-ED0C419A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DD1D-5CBF-4BBB-885F-B78116AF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C2EC7-20D1-473E-9509-546ABEF8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07469-73B9-4645-9098-4F7F6EDE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3438C-1915-4777-83D6-7613C7E7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FA358-D1B6-4BB6-B1B0-99748C9C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50F1-5A59-449F-B49C-35F054BE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FD37A-3BBD-451D-B0F5-1D518A24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60B-90D5-46B4-B587-AAAC0B21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FBCD-E110-4A7F-9785-8E5155A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1CB50-7251-40A1-B298-2E798865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4E1F-BFD7-4791-B4F1-975178B1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7D336-E1D9-4992-9881-0595DBBF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2FD30-885F-42E5-911D-A2B4361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0E68A-67BA-431D-A782-6870FF80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64641-CDE7-4465-948B-7F5F0273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138DD-B373-4AEE-B46D-0FA32D61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45BF-2BAB-4D23-AF9C-D3EF66AE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2D931-FD8B-4956-A0CB-6D5E29B6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5959-6617-40D3-92AF-CA2AF931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521DD-C879-479C-85A0-6B6D88D1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396A6-5321-4A76-B70F-3D652315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87B42-5D20-4E9E-88EB-AB7DC44C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93E80-76EA-4344-9C48-6CCB871C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2D663-F3B7-4F1B-A824-51768848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1C972-D3A5-4F99-9837-2E0458B4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5D1F8-19B1-4B65-9EAA-4C47533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80273-43B4-40B7-BD62-5F0C8377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AAC3B-3C5C-4B08-8544-E9A95D3C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8F62-E524-4253-81D1-63E2E2B8C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35C-942A-45A7-ADF2-67C6BA60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B2F9C-4B3E-4CA1-9563-027AB923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D3231-D772-422D-B4C0-0EA89744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6ED02-ACD9-4631-B416-AF302466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7B7E5-EBA5-4122-981B-2E8A2A8C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1AF29-7FF7-4FDC-9B34-C1FADC11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74E12-2444-46BB-87C1-97619E8E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30A84-27A0-47F0-89BD-BF8141D7F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6109D-A08B-4607-8F70-A92FF90B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5F856-9DF5-4D2C-B645-8FB1BAF9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2BDDD-97A1-4B88-B8BB-9FB7AC75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D1A-7F77-4811-8A37-662073AC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72802-4A97-48A0-9D78-18352774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8A995-A972-462D-86A7-E36BB94C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D9C33-BF42-4B72-AAC6-A4E9712C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43B7C-2571-40EA-98B0-0EE26077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79A4D-B8AF-42AA-B88E-64330355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1079A-EF7D-477A-BA4A-BB9F68A3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CDEEE-AB59-43C4-9B5F-CDE2224A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427E7-1ED2-4457-9F94-A6EC16C1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65A8C-FA65-415F-80E2-AD83C545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3104C-11F2-45A6-9604-BDD8B516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2CC-7B21-4A0E-A36C-086C01D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37728-FF3F-4169-81D7-1931D50F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330DE-9E1D-4347-8DE3-2F4FA1BD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9BED0-0722-42EE-80BE-9AD750C3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0C41F-4F31-4E93-8AC4-70340352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1731-9B21-40F9-B715-631679C7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AC6-A938-465F-B684-AF438548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C25-9881-49EF-8192-1D445F8A0130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9801-B821-4914-AC29-4BA60737E1F9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CE8-0EBF-445F-B405-CA1BAB7C957C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AFB3-9CAC-4895-BC00-7EC704D45FE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C446-B180-4A1C-B820-4E72E6B38E8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485-899E-4492-834C-B02CB2933C70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0E6E-C6C1-4978-BA1C-55040C4E4D9D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Chemical Examination of Urine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enal Bloc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r  Rana  Hasanato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89" name="Rectangle 4"/>
          <p:cNvSpPr/>
          <p:nvPr/>
        </p:nvSpPr>
        <p:spPr>
          <a:xfrm>
            <a:off x="2557440" y="101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50920" y="57664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: serum protein electrophoresis demonstrating the M compon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: serum and urine immunofixation electrophoresis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179280" y="5094720"/>
            <a:ext cx="882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normal ser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multiple myeloma showing M component in the gamma reg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densitometry tracing of A showing the 5 zones of the high resolution     agarose electrophores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densitometry of the M component of B, termed the M Spik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457200" y="457200"/>
            <a:ext cx="8381880" cy="54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62160" indent="-2779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Calibri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13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ssociated with ren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Glomerular proteinur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High glomer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s filtration of high molecular weight protei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(e.g. glomeruloneph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Tubular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w tubular reabsorption with normal glomer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s excretion of low molecular weight proteins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(e.g. chronic neph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6212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sistent benign protenu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ccurs frequently in young adults due to periods spent in a vertical pos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alibri"/>
              </a:rPr>
              <a:t>Orthostatic (Postural) Proteinuria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920" y="228600"/>
            <a:ext cx="8743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50040" indent="-61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Corbel"/>
              </a:rPr>
              <a:t>Microalbuminuria: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- Presence of 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(20– 200 mg/day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1" lang="en-US" sz="2600" spc="-1" strike="noStrike">
                <a:solidFill>
                  <a:srgbClr val="ffff66"/>
                </a:solidFill>
                <a:latin typeface="Corbel"/>
              </a:rPr>
              <a:t>E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arly indicator of glomerular dysfunction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due to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uncontrolled diabetes mellitus or hypertens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47680" y="-305280"/>
            <a:ext cx="88963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9560" indent="-63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7fd13b"/>
                </a:solidFill>
                <a:uFillTx/>
                <a:latin typeface="Corbel"/>
              </a:rPr>
              <a:t>3 </a:t>
            </a:r>
            <a:r>
              <a:rPr b="1" lang="en-US" sz="3600" spc="-1" strike="noStrike" u="sng">
                <a:solidFill>
                  <a:srgbClr val="7fd13b"/>
                </a:solidFill>
                <a:uFillTx/>
                <a:latin typeface="Corbel"/>
              </a:rPr>
              <a:t>- Post renal proteinuria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Proteins added to the urine as it passes through the structures of the lower urinary tract  (ureters, bladder , urethra, prostate and vagin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- Due to Lower urinary tract  infection, trauma, tumors and ston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609480"/>
            <a:ext cx="91440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alibri"/>
                <a:ea typeface="Arial"/>
              </a:rPr>
              <a:t>Glycosuria : </a:t>
            </a:r>
            <a:r>
              <a:rPr b="1" i="1" lang="en-US" sz="2800" spc="-1" strike="noStrike">
                <a:solidFill>
                  <a:srgbClr val="00ffff"/>
                </a:solidFill>
                <a:latin typeface="Calibri"/>
                <a:ea typeface="Arial"/>
              </a:rPr>
              <a:t>(Presence of sugar in ur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1 -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  <a:ea typeface="Arial"/>
              </a:rPr>
              <a:t>Gluc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resence of detectable amount of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glucose in urine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  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Uncontrolled DM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:The concentration of glucos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in the plasma exceeds the renal threshold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Renal glucosur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Normal plasma glucos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concentration with proximal tubular malfunction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renal threshol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gestational diabetes and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anconi’s syndrom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-360" y="7621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7608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 -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Fruct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resence of  fructose in urine)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imentary cause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fructose intak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tabolic 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 fructokinase or aldolase B in the li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608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7608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Galact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resence of galactose in urine)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imentar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galactose intak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tabolic 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 galactokinase or galactose -1-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hosphate uridyl transferase i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li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0" y="76212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Arial"/>
              </a:rPr>
              <a:t>Ketonuria 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ketones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cetone, acetoacetic acid &amp;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-hydroxybutyric aci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n u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1 – Diabetic ketoacidosi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2 – Sta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3 – Prolonged vom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4 – Unbalanced die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gh fat &amp; Low CHO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5 – Phenylketonuria (inborn error of am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acid metaboli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380880"/>
            <a:ext cx="914400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Choluria :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bile in urine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 –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Bilirubin / Bile sal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Normall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o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 bilirubin is detected in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Bilirubin is detect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epatocellular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 Obstruction of bile du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xtrahepatic  (Sto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ntrahepatic  (hepatic tum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01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Learning objectives:</a:t>
            </a:r>
            <a:r>
              <a:rPr b="1" i="1" lang="en-US" sz="3200" spc="-1" strike="noStrike" u="sng">
                <a:solidFill>
                  <a:srgbClr val="ea157a"/>
                </a:solidFill>
                <a:uFillTx/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. To understand the normal and abnormal chemical composition of urine in relation to renal diseases and condi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 To differentiate between pre-renal, renal and post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nal proteinuria with clinical examples of each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To acquire knowledge on the types of Glycosuria, hematuria and hemoglobinuria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DA4C21FF10"/>
          <p:cNvPicPr/>
          <p:nvPr/>
        </p:nvPicPr>
        <p:blipFill>
          <a:blip r:embed="rId1"/>
          <a:stretch/>
        </p:blipFill>
        <p:spPr>
          <a:xfrm>
            <a:off x="76320" y="838080"/>
            <a:ext cx="6858000" cy="57913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2"/>
          <p:cNvSpPr/>
          <p:nvPr/>
        </p:nvSpPr>
        <p:spPr>
          <a:xfrm>
            <a:off x="-76320" y="60480"/>
            <a:ext cx="7162920" cy="11674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atabolism of he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B = bilirubin;  BG = bilirubin diglucuronide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= urobilinogen;  Ub = urobilin;  S = stercobili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13" descr="DA4C21FF9"/>
          <p:cNvPicPr/>
          <p:nvPr/>
        </p:nvPicPr>
        <p:blipFill>
          <a:blip r:embed="rId2"/>
          <a:stretch/>
        </p:blipFill>
        <p:spPr>
          <a:xfrm>
            <a:off x="7010280" y="380880"/>
            <a:ext cx="2133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0" y="380880"/>
            <a:ext cx="9144000" cy="75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2 - 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  <a:ea typeface="Arial"/>
              </a:rPr>
              <a:t>Urobilinogen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rmally present in trace amounts in urine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gh urobilinogen is found in: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Hemolytic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Hepatocellular da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4572000"/>
            <a:ext cx="91440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Nitrite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ositive nitrite test is significant of bacteria in urine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0" y="533520"/>
            <a:ext cx="95248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Arial"/>
              </a:rPr>
              <a:t>Blood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 -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Arial"/>
              </a:rPr>
              <a:t>Hematuria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detectable amou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lood in ur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Acute and chronic glomerulonephriti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b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 Local disorders of kidney &amp; genito-urinar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trac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Trauma , cystitis , renal calculi and   tum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c –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Bleeding disorder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Hemophil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0" y="-457200"/>
            <a:ext cx="914400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I -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Arial"/>
              </a:rPr>
              <a:t>Hemoglobinuri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 hemolysed blood in ur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 Hemoglobinopathies: 1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Thalassemia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b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en-US" sz="3000" spc="-1" strike="noStrike">
                <a:solidFill>
                  <a:srgbClr val="99ff33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Malaria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P. falciparum)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c –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Transfusion reac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Bl. Incompatib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35000" y="838080"/>
            <a:ext cx="88963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rin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s a fluid excreted by most animals including huma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t is formed in the kidneys (renal glomeruli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fluid undergoes chemical changes before it is excreted as urin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Normal urine excretion by a healthy person is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bout 1.5 L per da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135000" y="0"/>
            <a:ext cx="888516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04920" y="1219320"/>
            <a:ext cx="861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Urine contains organic and inorganic constitu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Major </a:t>
            </a:r>
            <a:r>
              <a:rPr b="1" lang="en-US" sz="3200" spc="-1" strike="noStrike" u="sng">
                <a:solidFill>
                  <a:srgbClr val="00ffff"/>
                </a:solidFill>
                <a:uFillTx/>
                <a:latin typeface="Times New Roman"/>
                <a:ea typeface="Arial"/>
              </a:rPr>
              <a:t>inorganic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 sa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So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Potass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Chlor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Small amounts of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C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Mg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&amp;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phosph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Traces of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F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Cu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Z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I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380880" y="1598760"/>
            <a:ext cx="86108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Major 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  <a:ea typeface="Arial"/>
              </a:rPr>
              <a:t>organic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constituen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Non-protein nitrogen (NPN) compoun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Organic aci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Suga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Traces of proteins, vitamins, hormones, and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pig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35000" y="0"/>
            <a:ext cx="888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Arial"/>
              </a:rPr>
              <a:t>Ab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068480"/>
            <a:ext cx="8562960" cy="72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3477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Protei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rmal urine contains very little protein (&lt; 200 mg/d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than this level leads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ondition called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  <a:ea typeface="Arial"/>
              </a:rPr>
              <a:t>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Causes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Pre-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Post-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34640" y="144792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cc"/>
                </a:solidFill>
                <a:uFillTx/>
                <a:latin typeface="Corbel"/>
              </a:rPr>
              <a:t>Prerenal proteinuria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Some abnormal conditions increase plasma prote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levels before reaching the kidne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auses increased filtration of these proteins in the kidne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This exceeds the normal reabsorptive capacity of renal tubul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Results  in overflow of proteins in the ur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35000" y="228600"/>
            <a:ext cx="888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Arial"/>
              </a:rPr>
              <a:t>Ab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80880" y="304920"/>
            <a:ext cx="85345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myeloma causes pre-renal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 proliferative disorder of the immunoglobulin-producing plasma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he serum contains elevated levels of monoclonal light chains antibodies (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ence-Jones prote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ence-Jones protein is filtered in kidneys in high am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xceeding the tubular reabsorption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ence excreted in the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04920" y="685800"/>
            <a:ext cx="89913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he Bence-Jones protein coagulate at 40–6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issolves at 10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Multiple myeloma cases are diagnosed by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Serum electropho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Immunoelectropho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20:58:34Z</dcterms:created>
  <dc:creator>Usman Ghani</dc:creator>
  <dc:description/>
  <dc:language>en-US</dc:language>
  <cp:lastModifiedBy>Rana Hasanato</cp:lastModifiedBy>
  <dcterms:modified xsi:type="dcterms:W3CDTF">2015-04-22T07:57:14Z</dcterms:modified>
  <cp:revision>137</cp:revision>
  <dc:subject/>
  <dc:title>Urine Chemistry</dc:title>
</cp:coreProperties>
</file>