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BB75-6282-4050-8191-46F17F4D4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43C0-8B04-4F43-9CD5-9081B37A91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269-C7BE-49CB-9D1B-FC2A74F3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B7C-DBD1-4A15-ABD0-73A277A2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C7C-9001-4E55-AF5E-CD5E5904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949-EE06-44D8-8479-566BA4C6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3D13-3E39-4A56-A1C9-8B6F4349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C5DF-E8D4-4E78-A1D4-B7709F93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4579-ED0D-4B6D-A73A-9B66D5E1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F4E0-A163-4A00-814E-1AAD806C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7CF9-D4D4-4BAA-BC1C-F4CA7F6E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AFD1-8E32-4D7C-B4BD-E205AEC8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B1DA-42BE-498B-AAC6-1D928B92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5C0-78D1-479B-B0B9-C86080E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2B37-A7E3-4D46-A15A-C34309F4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ADC1-3B9C-47CC-9191-E0564C9B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28D8-FB63-4171-B9CD-DE41E1CA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D96E-0EB0-49A7-9CBE-FA034FE4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D981-1199-4273-9B97-869D51CD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5690-C1FF-4E65-BF5B-F27B7EB5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1276-1D44-4DC1-9701-F5B86FEB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71EE-DBA7-45D0-9360-6F23056A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5FB8-8D85-4E51-B428-8AC5970F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FE6E-1CFE-4DAD-B70D-68157D4A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D38-F16C-4CB1-8C90-699FFAB6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40C8-DFEF-4B71-90EC-24ECDE68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6277-11B3-4905-B731-99DB1E3A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8255-2254-4CF7-A845-22303A55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3958E-A795-4828-A353-02C94CB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0F04-A910-4C36-932C-43BD3488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B5FA-E4A5-4A73-A494-32E83142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EAE8-486E-47BD-B6ED-C09E7F79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47AC-5424-4603-B480-72918EC2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4D94-08DE-492C-9F8D-2502962E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0781-239B-4997-B7AF-E351E0AF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6D3-E108-474F-824C-B9C04F46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5F0D3-E0B0-4A67-A284-3DBD7709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6805-FE54-4541-B269-5D358015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45A18-75AB-4510-89EA-CD50A11B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4377D-2DE4-4EBE-8251-9ABA3BC0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9E0AB-D495-4903-B965-FA3D421B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E31B5-5D25-45A7-B260-E7C1B689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A9D5-F501-4EB4-932E-9548B583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944A-A436-4519-B323-8C72EF42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662E-8668-4686-845B-29D5C454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BF91A-FB6B-40CD-8918-41A626E6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584-E320-4155-94CF-2FE34DE0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6FFFD-E175-40D6-B1CB-E8FD6045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D3CE8-7027-4E56-9CF3-28F11E18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7054D-392E-4C52-B361-C5115FF4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17DA-F6A8-4DD3-9E49-CE7A912A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54863-0D73-4625-84B6-E139A59B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BB16A-CEC0-413A-B864-236D59B9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26C75-55EC-4BEA-996B-DF24C6FA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E82B9-9FFE-412A-B27B-03CAB043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8AEE1-87B5-4FD8-AEFE-69A9A3A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BD817-2658-4480-AAAE-A7797189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AD6-43F9-4C03-A862-D55EA3EC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8DA32-0DC3-469A-BB6A-A29CB8CC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DC0F4-C0F2-42E2-8627-66646A76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E5969-9D37-4757-815B-82B0ADA9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57884-EBBB-463D-B78D-81D868B2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D2D2C-F5D6-4A64-9076-23598F98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D841D-8A92-4FCE-A072-28589E31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9790-8104-47F1-8D55-8BBF1C06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874EF-318B-44B5-9504-6DFDC60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E3B6-E838-4D67-8E26-74D51B7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D5160-BD0D-46C0-8D7B-C9E146D0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9DF-4410-4B41-A15E-737E6D78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3A7BF-C3B4-48F7-A9B0-028838FD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52BAC-6AD1-48F5-B616-5FB5EBEE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1687-071A-428B-8B4D-66399ACE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12D37-4B89-4D41-8A1A-092E4107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9254C-A586-4673-9377-0BBEAFC2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8BD90-8A49-4562-B187-DF6BA230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4C391-7F99-42AE-A7E8-9B91F5D6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88CA1-4B01-4E4E-92AA-53B46324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4603F-5D7B-41F1-8477-BD61493E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9609F-C614-49E4-B00D-8141F586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110-70A5-47F8-8FC2-A323802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8C172-CBA9-4010-8E0F-4861D858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AABB6-8C66-4512-AADD-BC15B716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F64E2-ADC8-4CF7-8627-8237823D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5A721-AB21-420E-8F0B-E34F9A54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FD6BB-C36B-4D33-AD9E-4A009D4A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36E-D066-4C54-91E7-2ECC016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EF30-3693-4D62-86E3-574F17543CC1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5200-3684-4B35-99DC-AF000F862E53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371B-43A1-4E8E-95C1-FF68DF897E3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2585-6F53-40FD-BDB0-8893AFFD1626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E000-5600-44F3-8782-19B5C399F6B4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00AF-1987-4352-A283-F85EDF49C296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8515-978B-43EE-87EE-8E8D50B2C78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alibri"/>
              </a:rPr>
              <a:t>Chemical Examination of Urine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Renal Bloc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r  Rana  Hasanato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Picture 3" descr="179-6-iline_default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96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89" name="Rectangle 4"/>
          <p:cNvSpPr/>
          <p:nvPr/>
        </p:nvSpPr>
        <p:spPr>
          <a:xfrm>
            <a:off x="2557440" y="1015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ultiple myel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50920" y="576648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: serum protein electrophoresis demonstrating the M compon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: serum and urine immunofixation electrophoresis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179-5-iline_default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49006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179280" y="5094720"/>
            <a:ext cx="882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normal seru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multiple myeloma showing M component in the gamma reg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densitometry tracing of A showing the 5 zones of the high resolution     agarose electrophores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densitometry of the M component of B, termed the M Spik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457200" y="457200"/>
            <a:ext cx="8381880" cy="54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62160" indent="-2779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Calibri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13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ssociated with ren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Glomerular proteinuri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High glomerular perm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auses filtration of high molecular weight protei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(e.g. glomeruloneph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Tubular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w tubular reabsorption with normal glomerular perm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auses excretion of low molecular weight proteins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(e.g. chronic neph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6212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sistent benign protenur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ccurs frequently in young adults due to periods spent in a vertical pos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reased pressure on the renal vein in the vertical position causes orthostatic proteinur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isappears in horizontal pos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alibri"/>
              </a:rPr>
              <a:t>Orthostatic (Postural) Proteinuria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920" y="228600"/>
            <a:ext cx="8743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50040" indent="-61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Corbel"/>
              </a:rPr>
              <a:t>Microalbuminuria: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- Presence of 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small amounts of albumin in the uri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(20– 200 mg/day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Cannot be detected by ordinary urine test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Needs special tests for detec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1" lang="en-US" sz="2600" spc="-1" strike="noStrike">
                <a:solidFill>
                  <a:srgbClr val="ffff66"/>
                </a:solidFill>
                <a:latin typeface="Corbel"/>
              </a:rPr>
              <a:t>E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arly indicator of glomerular dysfunction 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due to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uncontrolled diabetes mellitus or hypertens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47680" y="-305280"/>
            <a:ext cx="88963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9560" indent="-63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7fd13b"/>
                </a:solidFill>
                <a:uFillTx/>
                <a:latin typeface="Corbel"/>
              </a:rPr>
              <a:t>3 </a:t>
            </a:r>
            <a:r>
              <a:rPr b="1" lang="en-US" sz="3600" spc="-1" strike="noStrike" u="sng">
                <a:solidFill>
                  <a:srgbClr val="7fd13b"/>
                </a:solidFill>
                <a:uFillTx/>
                <a:latin typeface="Corbel"/>
              </a:rPr>
              <a:t>- Post renal proteinuria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Proteins added to the urine as it passes through the structures of the lower urinary tract  (ureters, bladder , urethra, prostate and vagina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- Due to Lower urinary tract  infection, trauma, tumors and ston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0" y="609480"/>
            <a:ext cx="91440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alibri"/>
                <a:ea typeface="Arial"/>
              </a:rPr>
              <a:t>Glycosuria : </a:t>
            </a:r>
            <a:r>
              <a:rPr b="1" i="1" lang="en-US" sz="2800" spc="-1" strike="noStrike">
                <a:solidFill>
                  <a:srgbClr val="00ffff"/>
                </a:solidFill>
                <a:latin typeface="Calibri"/>
                <a:ea typeface="Arial"/>
              </a:rPr>
              <a:t>(Presence of sugar in ur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1 -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  <a:ea typeface="Arial"/>
              </a:rPr>
              <a:t>Gluc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resence of detectable amount of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glucose in urine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      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Uncontrolled DM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:The concentration of glucos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in the plasma exceeds the renal threshold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Renal glucosuri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Normal plasma glucos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concentration with proximal tubular malfunction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renal threshol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gestational diabetes and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anconi’s syndrom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-360" y="7621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7608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 -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Fruct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resence of  fructose in urine)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limentary cause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 fructose intak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etabolic :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w fructokinase or aldolase B in the li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608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7608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Galact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resence of galactose in urine)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limentary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 galactose intak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etabolic :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w galactokinase or galactose -1-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hosphate uridyl transferase i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li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0" y="762120"/>
            <a:ext cx="91440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Arial"/>
              </a:rPr>
              <a:t>Ketonuria 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ketones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acetone, acetoacetic acid &amp;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-hydroxybutyric aci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n u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1 – Diabetic ketoacidosi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2 – Sta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3 – Prolonged vom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4 – Unbalanced die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gh fat &amp; Low CHO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5 – Phenylketonuria (inborn error of am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  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acid metabolis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380880"/>
            <a:ext cx="914400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Choluria :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bile in urine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 –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Bilirubin / Bile sal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Normall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no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 bilirubin is detected in 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Bilirubin is detect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epatocellular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 Obstruction of bile du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xtrahepatic  (Sto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ntrahepatic  (hepatic tum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01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Learning objectives:</a:t>
            </a:r>
            <a:r>
              <a:rPr b="1" i="1" lang="en-US" sz="3200" spc="-1" strike="noStrike" u="sng">
                <a:solidFill>
                  <a:srgbClr val="ea157a"/>
                </a:solidFill>
                <a:uFillTx/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. To understand the normal and abnormal chemical composition of urine in relation to renal diseases and condit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. To differentiate between pre-renal, renal and post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nal proteinuria with clinical examples of each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. To acquire knowledge on the types of Glycosuria, hematuria and hemoglobinuria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DA4C21FF10"/>
          <p:cNvPicPr/>
          <p:nvPr/>
        </p:nvPicPr>
        <p:blipFill>
          <a:blip r:embed="rId1"/>
          <a:stretch/>
        </p:blipFill>
        <p:spPr>
          <a:xfrm>
            <a:off x="76320" y="838080"/>
            <a:ext cx="6858000" cy="579132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2"/>
          <p:cNvSpPr/>
          <p:nvPr/>
        </p:nvSpPr>
        <p:spPr>
          <a:xfrm>
            <a:off x="-76320" y="60480"/>
            <a:ext cx="7162920" cy="11674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atabolism of he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B = bilirubin;  BG = bilirubin diglucuronide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U= urobilinogen;  Ub = urobilin;  S = stercobili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Picture 13" descr="DA4C21FF9"/>
          <p:cNvPicPr/>
          <p:nvPr/>
        </p:nvPicPr>
        <p:blipFill>
          <a:blip r:embed="rId2"/>
          <a:stretch/>
        </p:blipFill>
        <p:spPr>
          <a:xfrm>
            <a:off x="7010280" y="380880"/>
            <a:ext cx="2133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0" y="380880"/>
            <a:ext cx="9144000" cy="75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2 - 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  <a:ea typeface="Arial"/>
              </a:rPr>
              <a:t>Urobilinogen: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ormally present in trace amounts in urine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gh urobilinogen is found in: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Hemolytic an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Hepatocellular da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0" y="4572000"/>
            <a:ext cx="91440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Nitrite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ositive nitrite test is significant of bacteria in urine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0" y="533520"/>
            <a:ext cx="952488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Arial"/>
              </a:rPr>
              <a:t>Blood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 -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Arial"/>
              </a:rPr>
              <a:t>Hematuria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detectable amou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blood in ur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a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Acute and chronic glomerulonephriti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b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 Local disorders of kidney &amp; genito-urinar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trac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Trauma , cystitis , renal calculi and   tum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c –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Bleeding disorder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Hemophil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0" y="-457200"/>
            <a:ext cx="914400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I -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Arial"/>
              </a:rPr>
              <a:t>Hemoglobinuri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 hemolysed blood in ur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a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 Hemoglobinopathies: 1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ickle cell a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Thalassemia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b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lang="en-US" sz="3000" spc="-1" strike="noStrike">
                <a:solidFill>
                  <a:srgbClr val="99ff33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Malaria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P. falciparum)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c –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Transfusion reacti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Bl. Incompatibi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35000" y="838080"/>
            <a:ext cx="889632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Urine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s a fluid excreted by most animals including huma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t is formed in the kidneys (renal glomeruli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fluid undergoes chemical changes before it is excreted as urin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Normal urine excretion by a healthy person is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bout 1.5 L per da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2"/>
          <p:cNvSpPr/>
          <p:nvPr/>
        </p:nvSpPr>
        <p:spPr>
          <a:xfrm>
            <a:off x="135000" y="0"/>
            <a:ext cx="888516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04920" y="1219320"/>
            <a:ext cx="861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Urine contains organic and inorganic constitu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Major </a:t>
            </a:r>
            <a:r>
              <a:rPr b="1" lang="en-US" sz="3200" spc="-1" strike="noStrike" u="sng">
                <a:solidFill>
                  <a:srgbClr val="00ffff"/>
                </a:solidFill>
                <a:uFillTx/>
                <a:latin typeface="Times New Roman"/>
                <a:ea typeface="Arial"/>
              </a:rPr>
              <a:t>inorganic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 sa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Sod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Potass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Chlor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Small amounts of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C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Mg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&amp;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phosph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Traces of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F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Cu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Z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I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5"/>
          <p:cNvSpPr/>
          <p:nvPr/>
        </p:nvSpPr>
        <p:spPr>
          <a:xfrm>
            <a:off x="380880" y="1598760"/>
            <a:ext cx="861084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Major </a:t>
            </a: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  <a:ea typeface="Arial"/>
              </a:rPr>
              <a:t>organic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 constituent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Non-protein nitrogen (NPN) compoun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Organic aci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Suga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Traces of proteins, vitamins, hormones, and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pig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35000" y="0"/>
            <a:ext cx="888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  <a:ea typeface="Arial"/>
              </a:rPr>
              <a:t>Ab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57200" y="1068480"/>
            <a:ext cx="8562960" cy="72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3477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Protei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rmal urine contains very little protein (&lt; 200 mg/d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than this level leads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ondition called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  <a:ea typeface="Arial"/>
              </a:rPr>
              <a:t>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Causes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Pre-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Post-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34640" y="144792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ffcc"/>
                </a:solidFill>
                <a:uFillTx/>
                <a:latin typeface="Corbel"/>
              </a:rPr>
              <a:t>Prerenal proteinuria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Some abnormal conditions increase plasma prote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levels before reaching the kidne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Causes increased filtration of these proteins in the kidne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This exceeds the normal reabsorptive capacity of renal tubul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Results  in overflow of proteins in the uri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35000" y="228600"/>
            <a:ext cx="888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  <a:ea typeface="Arial"/>
              </a:rPr>
              <a:t>Ab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380880" y="304920"/>
            <a:ext cx="85345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myeloma causes pre-renal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 proliferative disorder of the immunoglobulin-producing plasma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he serum contains elevated levels of monoclonal light chains antibodies (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ence-Jones prote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Bence-Jones protein is filtered in kidneys in high amo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xceeding the tubular reabsorption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Hence excreted in the 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304920" y="685800"/>
            <a:ext cx="89913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The Bence-Jones protein coagulate at 40–60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Dissolves at 100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Multiple myeloma cases are diagnosed by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Serum electropho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Immunoelectropho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20:58:34Z</dcterms:created>
  <dc:creator>Usman Ghani</dc:creator>
  <dc:description/>
  <dc:language>en-US</dc:language>
  <cp:lastModifiedBy>Rana Hasanato</cp:lastModifiedBy>
  <dcterms:modified xsi:type="dcterms:W3CDTF">2015-04-22T07:57:14Z</dcterms:modified>
  <cp:revision>137</cp:revision>
  <dc:subject/>
  <dc:title>Urine Chemistry</dc:title>
</cp:coreProperties>
</file>