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A203-0B57-4FCD-A23E-BB3C5A29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29C6-CF5E-4283-B669-B12D737C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A02-E7EA-446D-AE6C-61E05457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1824-A14E-4E94-9334-15F0E2BD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68E-E445-416D-B982-588A5520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A7E3-1EA9-472F-A9B5-58DF802A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DA4-9995-495D-B161-56F10269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63AC-BCFC-43F8-9380-68DCCF65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75D-DD49-4F89-8B82-8AAF3FAF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6EC-9115-43ED-A9CD-8C3C1563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83B5-36FC-4A29-8E8F-D336D4B7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BB4C-059D-4434-9BC3-559F1783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B3D2-FE57-4146-BF95-1DFCF772726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google.com.sa/url?sa=i&amp;rct=j&amp;q=&amp;esrc=s&amp;source=images&amp;cd=&amp;cad=rja&amp;uact=8&amp;ved=0CAcQjRw&amp;url=http%3A%2F%2Fwww.ucumberlands.edu%2Facademics%2Fbiology%2Ffaculty%2Fkuss%2Fcourses%2FUrogenital%2FGenitalDevelopment.htm&amp;ei=ywg-VeDPJo_paMKkgPgC&amp;psig=AFQjCNGs3mPMFJaXa3p3X6gQO3-3Rm2slg&amp;ust=1430215063835678" TargetMode="External"/><Relationship Id="rId3" Type="http://schemas.openxmlformats.org/officeDocument/2006/relationships/hyperlink" Target="http://www.google.com.sa/url?sa=i&amp;rct=j&amp;q=&amp;esrc=s&amp;source=images&amp;cd=&amp;cad=rja&amp;uact=8&amp;ved=0CAcQjRw&amp;url=http%3A%2F%2Fwww.ucumberlands.edu%2Facademics%2Fbiology%2Ffaculty%2Fkuss%2Fcourses%2FUrogenital%2FGenitalDevelopment.htm&amp;ei=ywg-VeDPJo_paMKkgPgC&amp;psig=AFQjCNGs3mPMFJaXa3p3X6gQO3-3Rm2slg&amp;ust=1430215063835678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CAcQjRw&amp;url=http%3A%2F%2Fwww.a1-medical-center.com%2Ftreatment%2Fregenerative-medicine%2Ftreatments%2Fdiseases-treated%2Fstem-cell-treatment-for-bladder-exstrophy-incontinence%2F&amp;ei=Mpk6Vb_0OsTUarqLgZgE&amp;psig=AFQjCNHXUGkNiOBNtg9_n7mwep5iDPRvlw&amp;ust=1429990040077666" TargetMode="External"/><Relationship Id="rId2" Type="http://schemas.openxmlformats.org/officeDocument/2006/relationships/hyperlink" Target="http://www.google.com.sa/url?sa=i&amp;rct=j&amp;q=&amp;esrc=s&amp;source=images&amp;cd=&amp;cad=rja&amp;uact=8&amp;ved=0CAcQjRw&amp;url=http%3A%2F%2Fwww.a1-medical-center.com%2Ftreatment%2Fregenerative-medicine%2Ftreatments%2Fdiseases-treated%2Fstem-cell-treatment-for-bladder-exstrophy-incontinence%2F&amp;ei=Mpk6Vb_0OsTUarqLgZgE&amp;psig=AFQjCNHXUGkNiOBNtg9_n7mwep5iDPRvlw&amp;ust=1429990040077666" TargetMode="External"/><Relationship Id="rId3" Type="http://schemas.openxmlformats.org/officeDocument/2006/relationships/hyperlink" Target="http://www.google.com.sa/url?sa=i&amp;rct=j&amp;q=&amp;esrc=s&amp;source=images&amp;cd=&amp;cad=rja&amp;uact=8&amp;ved=0CAcQjRw&amp;url=http%3A%2F%2Fwww.a1-medical-center.com%2Ftreatment%2Fregenerative-medicine%2Ftreatments%2Fdiseases-treated%2Fstem-cell-treatment-for-bladder-exstrophy-incontinence%2F&amp;ei=Y5k6VcLaDY2LaOGXgMgF&amp;psig=AFQjCNHXUGkNiOBNtg9_n7mwep5iDPRvlw&amp;ust=1429990040077666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google.com.sa/url?sa=i&amp;rct=j&amp;q=&amp;esrc=s&amp;source=images&amp;cd=&amp;cad=rja&amp;uact=8&amp;ved=0CAcQjRw&amp;url=http%3A%2F%2Fpixshark.com%2Fepispadias-and-hypospadias.htm&amp;ei=kJw6VdGAKYL6aMPPgdAB&amp;psig=AFQjCNEp8ruAyoe22Xjj1HfUufmPHkx6rw&amp;ust=1429990875948720" TargetMode="External"/><Relationship Id="rId3" Type="http://schemas.openxmlformats.org/officeDocument/2006/relationships/hyperlink" Target="http://www.google.com.sa/url?sa=i&amp;rct=j&amp;q=&amp;esrc=s&amp;source=images&amp;cd=&amp;cad=rja&amp;uact=8&amp;ved=0CAcQjRw&amp;url=http%3A%2F%2Fpixshark.com%2Fepispadias-and-hypospadias.htm&amp;ei=HJ06VcSdJsPWapDFgbgN&amp;psig=AFQjCNEp8ruAyoe22Xjj1HfUufmPHkx6rw&amp;ust=1429990875948720" TargetMode="External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oogle.com.sa/url?sa=i&amp;rct=j&amp;q=&amp;esrc=s&amp;source=images&amp;cd=&amp;cad=rja&amp;uact=8&amp;ved=0CAcQjRw&amp;url=http%3A%2F%2Fbio.sunyorange.edu%2Fupdated2%2Fsummaries%2Fembry.html%2F3%2520digestive.htm&amp;ei=F_k9Vd6eHdbmap_FgPAI&amp;psig=AFQjCNG0pJNPKBZ86GQHdVgZZ9nMa8r2-Q&amp;ust=1430210632666002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achmeanatomy.info/wp-content/uploads/Greater-and-Lesser-Pelvis-Divided-by-the-Pelvic-Brim.pn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Development of the urinary bladder and urethra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radley Hand ITC"/>
              </a:rPr>
              <a:t>Dr. Sanaa  Alsharawi / Dr. Essam Salama</a:t>
            </a:r>
            <a:r>
              <a:rPr b="0" lang="en-US" sz="2700" spc="-1" strike="noStrike">
                <a:solidFill>
                  <a:srgbClr val="898989"/>
                </a:solidFill>
                <a:latin typeface="Bradley Hand ITC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971880" cy="63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emale Ureth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3538440" cy="516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ti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male urethr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rived from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ndoder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elvic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of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genital sin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The external urethral orific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rsal 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glans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litor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Content Placeholder 5" descr="genitalia.jpg"/>
          <p:cNvPicPr/>
          <p:nvPr/>
        </p:nvPicPr>
        <p:blipFill>
          <a:blip r:embed="rId1"/>
          <a:stretch/>
        </p:blipFill>
        <p:spPr>
          <a:xfrm>
            <a:off x="4965840" y="981000"/>
            <a:ext cx="3638520" cy="5543640"/>
          </a:xfrm>
          <a:prstGeom prst="rect">
            <a:avLst/>
          </a:prstGeom>
          <a:ln w="0">
            <a:noFill/>
          </a:ln>
        </p:spPr>
      </p:pic>
      <p:sp>
        <p:nvSpPr>
          <p:cNvPr id="113" name="Frame 4"/>
          <p:cNvSpPr/>
          <p:nvPr/>
        </p:nvSpPr>
        <p:spPr>
          <a:xfrm>
            <a:off x="8143920" y="3071880"/>
            <a:ext cx="571320" cy="357120"/>
          </a:xfrm>
          <a:custGeom>
            <a:avLst/>
            <a:gdLst/>
            <a:ahLst/>
            <a:rect l="l" t="t" r="r" b="b"/>
            <a:pathLst>
              <a:path w="571500" h="357187">
                <a:moveTo>
                  <a:pt x="0" y="0"/>
                </a:moveTo>
                <a:lnTo>
                  <a:pt x="571500" y="0"/>
                </a:lnTo>
                <a:lnTo>
                  <a:pt x="571500" y="357187"/>
                </a:lnTo>
                <a:lnTo>
                  <a:pt x="0" y="357187"/>
                </a:lnTo>
                <a:lnTo>
                  <a:pt x="0" y="0"/>
                </a:lnTo>
                <a:close/>
                <a:moveTo>
                  <a:pt x="44648" y="44648"/>
                </a:moveTo>
                <a:lnTo>
                  <a:pt x="44648" y="312539"/>
                </a:lnTo>
                <a:lnTo>
                  <a:pt x="526852" y="312539"/>
                </a:lnTo>
                <a:lnTo>
                  <a:pt x="526852" y="44648"/>
                </a:lnTo>
                <a:lnTo>
                  <a:pt x="44648" y="4464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ame 5"/>
          <p:cNvSpPr/>
          <p:nvPr/>
        </p:nvSpPr>
        <p:spPr>
          <a:xfrm>
            <a:off x="7858080" y="5000760"/>
            <a:ext cx="428760" cy="285480"/>
          </a:xfrm>
          <a:custGeom>
            <a:avLst/>
            <a:gdLst/>
            <a:ahLst/>
            <a:rect l="l" t="t" r="r" b="b"/>
            <a:pathLst>
              <a:path w="428625" h="285750">
                <a:moveTo>
                  <a:pt x="0" y="0"/>
                </a:moveTo>
                <a:lnTo>
                  <a:pt x="428625" y="0"/>
                </a:lnTo>
                <a:lnTo>
                  <a:pt x="428625" y="285750"/>
                </a:lnTo>
                <a:lnTo>
                  <a:pt x="0" y="285750"/>
                </a:lnTo>
                <a:lnTo>
                  <a:pt x="0" y="0"/>
                </a:lnTo>
                <a:close/>
                <a:moveTo>
                  <a:pt x="35719" y="35719"/>
                </a:moveTo>
                <a:lnTo>
                  <a:pt x="35719" y="250031"/>
                </a:lnTo>
                <a:lnTo>
                  <a:pt x="392906" y="250031"/>
                </a:lnTo>
                <a:lnTo>
                  <a:pt x="392906" y="35719"/>
                </a:lnTo>
                <a:lnTo>
                  <a:pt x="35719" y="357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ame 6"/>
          <p:cNvSpPr/>
          <p:nvPr/>
        </p:nvSpPr>
        <p:spPr>
          <a:xfrm>
            <a:off x="8001000" y="1143000"/>
            <a:ext cx="785880" cy="214200"/>
          </a:xfrm>
          <a:custGeom>
            <a:avLst/>
            <a:gdLst/>
            <a:ahLst/>
            <a:rect l="l" t="t" r="r" b="b"/>
            <a:pathLst>
              <a:path w="785813" h="214313">
                <a:moveTo>
                  <a:pt x="0" y="0"/>
                </a:moveTo>
                <a:lnTo>
                  <a:pt x="785813" y="0"/>
                </a:lnTo>
                <a:lnTo>
                  <a:pt x="785813" y="214313"/>
                </a:lnTo>
                <a:lnTo>
                  <a:pt x="0" y="214313"/>
                </a:lnTo>
                <a:lnTo>
                  <a:pt x="0" y="0"/>
                </a:lnTo>
                <a:close/>
                <a:moveTo>
                  <a:pt x="26789" y="26789"/>
                </a:moveTo>
                <a:lnTo>
                  <a:pt x="26789" y="187524"/>
                </a:lnTo>
                <a:lnTo>
                  <a:pt x="759024" y="187524"/>
                </a:lnTo>
                <a:lnTo>
                  <a:pt x="759024" y="26789"/>
                </a:lnTo>
                <a:lnTo>
                  <a:pt x="26789" y="267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>
            <a:hlinkClick r:id="rId2"/>
          </p:cNvPr>
          <p:cNvSpPr/>
          <p:nvPr/>
        </p:nvSpPr>
        <p:spPr>
          <a:xfrm>
            <a:off x="54000" y="-1812960"/>
            <a:ext cx="541980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>
            <a:hlinkClick r:id="rId3"/>
          </p:cNvPr>
          <p:cNvSpPr/>
          <p:nvPr/>
        </p:nvSpPr>
        <p:spPr>
          <a:xfrm>
            <a:off x="54000" y="-1812960"/>
            <a:ext cx="541980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3" descr="http://www.ucumberlands.edu/academics/biology/faculty/kuss/courses/Urogenital/GenitalDevelopment.jpg"/>
          <p:cNvPicPr/>
          <p:nvPr/>
        </p:nvPicPr>
        <p:blipFill>
          <a:blip r:embed="rId4"/>
          <a:stretch/>
        </p:blipFill>
        <p:spPr>
          <a:xfrm>
            <a:off x="4357800" y="1000080"/>
            <a:ext cx="4572000" cy="550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3467160" cy="85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ale Ureth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3840" y="1143000"/>
            <a:ext cx="4357800" cy="55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he genital tuberc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ongates form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hallu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is the precursor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en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s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le urethra : prostatic, membranous and spongy parts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rived from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ndoder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lvic middle p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genit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distal part of male penile urethra in glans pen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s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ctoderm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id cor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grows towards the root of penis to meet the spongy urethra , later i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nalizes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rcRect l="1255" t="2240" r="1255" b="5823"/>
          <a:stretch/>
        </p:blipFill>
        <p:spPr>
          <a:xfrm>
            <a:off x="4788000" y="3438360"/>
            <a:ext cx="4184640" cy="3159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rcRect l="1039" t="2678" r="1039" b="5081"/>
          <a:stretch/>
        </p:blipFill>
        <p:spPr>
          <a:xfrm>
            <a:off x="4692600" y="333360"/>
            <a:ext cx="4343400" cy="3000240"/>
          </a:xfrm>
          <a:prstGeom prst="rect">
            <a:avLst/>
          </a:prstGeom>
          <a:ln w="0">
            <a:noFill/>
          </a:ln>
        </p:spPr>
      </p:pic>
      <p:sp>
        <p:nvSpPr>
          <p:cNvPr id="123" name="Frame 5"/>
          <p:cNvSpPr/>
          <p:nvPr/>
        </p:nvSpPr>
        <p:spPr>
          <a:xfrm>
            <a:off x="8286840" y="5429160"/>
            <a:ext cx="714240" cy="285840"/>
          </a:xfrm>
          <a:custGeom>
            <a:avLst/>
            <a:gdLst/>
            <a:ahLst/>
            <a:rect l="l" t="t" r="r" b="b"/>
            <a:pathLst>
              <a:path w="714375" h="285750">
                <a:moveTo>
                  <a:pt x="0" y="0"/>
                </a:moveTo>
                <a:lnTo>
                  <a:pt x="714375" y="0"/>
                </a:lnTo>
                <a:lnTo>
                  <a:pt x="714375" y="285750"/>
                </a:lnTo>
                <a:lnTo>
                  <a:pt x="0" y="285750"/>
                </a:lnTo>
                <a:lnTo>
                  <a:pt x="0" y="0"/>
                </a:lnTo>
                <a:close/>
                <a:moveTo>
                  <a:pt x="35719" y="35719"/>
                </a:moveTo>
                <a:lnTo>
                  <a:pt x="35719" y="250031"/>
                </a:lnTo>
                <a:lnTo>
                  <a:pt x="678656" y="250031"/>
                </a:lnTo>
                <a:lnTo>
                  <a:pt x="678656" y="35719"/>
                </a:lnTo>
                <a:lnTo>
                  <a:pt x="35719" y="357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7"/>
          <p:cNvCxnSpPr/>
          <p:nvPr/>
        </p:nvCxnSpPr>
        <p:spPr>
          <a:xfrm flipH="1">
            <a:off x="7714440" y="1285560"/>
            <a:ext cx="786600" cy="786600"/>
          </a:xfrm>
          <a:prstGeom prst="straightConnector1">
            <a:avLst/>
          </a:prstGeom>
          <a:ln w="9360">
            <a:solidFill>
              <a:srgbClr val="6600ff"/>
            </a:solidFill>
            <a:miter/>
            <a:tailEnd len="med" type="arrow" w="med"/>
          </a:ln>
        </p:spPr>
      </p:cxnSp>
      <p:sp>
        <p:nvSpPr>
          <p:cNvPr id="125" name="TextBox 8"/>
          <p:cNvSpPr/>
          <p:nvPr/>
        </p:nvSpPr>
        <p:spPr>
          <a:xfrm>
            <a:off x="8286840" y="928800"/>
            <a:ext cx="714240" cy="3985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ital tub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10"/>
          <p:cNvCxnSpPr/>
          <p:nvPr/>
        </p:nvCxnSpPr>
        <p:spPr>
          <a:xfrm flipH="1">
            <a:off x="8071560" y="4714920"/>
            <a:ext cx="715320" cy="643320"/>
          </a:xfrm>
          <a:prstGeom prst="straightConnector1">
            <a:avLst/>
          </a:prstGeom>
          <a:ln w="9360">
            <a:solidFill>
              <a:srgbClr val="6600ff"/>
            </a:solidFill>
            <a:miter/>
            <a:tailEnd len="med" type="arrow" w="med"/>
          </a:ln>
        </p:spPr>
      </p:cxnSp>
      <p:sp>
        <p:nvSpPr>
          <p:cNvPr id="127" name="TextBox 11"/>
          <p:cNvSpPr/>
          <p:nvPr/>
        </p:nvSpPr>
        <p:spPr>
          <a:xfrm>
            <a:off x="8501040" y="4500720"/>
            <a:ext cx="642960" cy="21564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hall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8072280" y="1714680"/>
            <a:ext cx="928800" cy="369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omali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14200" y="1599840"/>
            <a:ext cx="6072480" cy="454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ff"/>
                </a:solidFill>
                <a:uFillTx/>
                <a:latin typeface="Times New Roman"/>
                <a:ea typeface="Times New Roman"/>
              </a:rPr>
              <a:t>Urachal Anomal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ff"/>
                </a:solidFill>
                <a:uFillTx/>
                <a:latin typeface="Times New Roman"/>
                <a:ea typeface="Times New Roman"/>
              </a:rPr>
              <a:t>Urethral Anomal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trophy of the bladder (Ectopia vesicae); 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xposure of the posterior wall of the bladder</a:t>
            </a:r>
            <a:r>
              <a:rPr b="1" lang="en-US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defec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terior abdominal wal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terior wall  of the b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5">
            <a:hlinkClick r:id="rId1"/>
          </p:cNvPr>
          <p:cNvSpPr/>
          <p:nvPr/>
        </p:nvSpPr>
        <p:spPr>
          <a:xfrm>
            <a:off x="54000" y="-1173240"/>
            <a:ext cx="28573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>
            <a:hlinkClick r:id="rId2"/>
          </p:cNvPr>
          <p:cNvSpPr/>
          <p:nvPr/>
        </p:nvSpPr>
        <p:spPr>
          <a:xfrm>
            <a:off x="54000" y="-1173240"/>
            <a:ext cx="28573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>
            <a:hlinkClick r:id="rId3"/>
          </p:cNvPr>
          <p:cNvSpPr/>
          <p:nvPr/>
        </p:nvSpPr>
        <p:spPr>
          <a:xfrm>
            <a:off x="54000" y="-1173240"/>
            <a:ext cx="28573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bladder exstrophy2"/>
          <p:cNvPicPr/>
          <p:nvPr/>
        </p:nvPicPr>
        <p:blipFill>
          <a:blip r:embed="rId4"/>
          <a:stretch/>
        </p:blipFill>
        <p:spPr>
          <a:xfrm>
            <a:off x="6286680" y="3214800"/>
            <a:ext cx="2857320" cy="24476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7"/>
          <p:cNvSpPr/>
          <p:nvPr/>
        </p:nvSpPr>
        <p:spPr>
          <a:xfrm>
            <a:off x="6357960" y="5715000"/>
            <a:ext cx="2071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ctopia vesic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635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rachal anomal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3898800" cy="366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, Urachal cy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stence or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remnant of epithelial lining of urach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, Urachal sinu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harge serous fluid from the umblic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, Urachal fistula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tire urach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main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t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llows urine to escape from the umbilic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Content Placeholder 4" descr="27B4F603"/>
          <p:cNvPicPr/>
          <p:nvPr/>
        </p:nvPicPr>
        <p:blipFill>
          <a:blip r:embed="rId1"/>
          <a:srcRect l="43172" t="11649" r="27629" b="22223"/>
          <a:stretch/>
        </p:blipFill>
        <p:spPr>
          <a:xfrm>
            <a:off x="4932360" y="190440"/>
            <a:ext cx="3889440" cy="640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" name="Oval 6"/>
          <p:cNvSpPr/>
          <p:nvPr/>
        </p:nvSpPr>
        <p:spPr>
          <a:xfrm>
            <a:off x="5867280" y="907920"/>
            <a:ext cx="79236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5435640" y="549360"/>
            <a:ext cx="7207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5003640" y="3141720"/>
            <a:ext cx="93672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5003640" y="5013360"/>
            <a:ext cx="936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002440" cy="765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rethral Anomal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907920"/>
            <a:ext cx="407016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Hypospadius 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lang="en-GB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most common anomaly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lang="en-GB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complete fusion of the urethral fold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GB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bnormal openings of the urethr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 along the </a:t>
            </a:r>
            <a:r>
              <a:rPr b="0" lang="en-GB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ventral (inferior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ct of </a:t>
            </a:r>
            <a:r>
              <a:rPr b="0" lang="en-GB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the pen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Epispadius 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lang="en-GB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 rare abnormality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which the </a:t>
            </a:r>
            <a:r>
              <a:rPr b="1" lang="en-GB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urethral meat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found on the </a:t>
            </a:r>
            <a:r>
              <a:rPr b="1" lang="en-GB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orsum of pen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 is most often associate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lang="en-GB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extrophy of the blad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Documents and Settings\EssamEldin\Desktop\emb urinary and urethra\imagesCAOS18AR.jpg"/>
          <p:cNvPicPr/>
          <p:nvPr/>
        </p:nvPicPr>
        <p:blipFill>
          <a:blip r:embed="rId1"/>
          <a:stretch/>
        </p:blipFill>
        <p:spPr>
          <a:xfrm>
            <a:off x="4572000" y="1052640"/>
            <a:ext cx="4086360" cy="32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6" name="AutoShape 8">
            <a:hlinkClick r:id="rId2"/>
          </p:cNvPr>
          <p:cNvSpPr/>
          <p:nvPr/>
        </p:nvSpPr>
        <p:spPr>
          <a:xfrm>
            <a:off x="54000" y="-1576440"/>
            <a:ext cx="68389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>
            <a:hlinkClick r:id="rId3"/>
          </p:cNvPr>
          <p:cNvSpPr/>
          <p:nvPr/>
        </p:nvSpPr>
        <p:spPr>
          <a:xfrm>
            <a:off x="54000" y="-1576440"/>
            <a:ext cx="68389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Epispadias And Hypospadias Epispadias And Hypospadias"/>
          <p:cNvPicPr/>
          <p:nvPr/>
        </p:nvPicPr>
        <p:blipFill>
          <a:blip r:embed="rId4"/>
          <a:stretch/>
        </p:blipFill>
        <p:spPr>
          <a:xfrm>
            <a:off x="4572000" y="1071720"/>
            <a:ext cx="4143240" cy="3286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9" name="Picture 7" descr="http://mensolutions.es/wp-content/uploads/2013/12/SJpkbHrcQnXe.RVY2if5Eg_m.png"/>
          <p:cNvPicPr/>
          <p:nvPr/>
        </p:nvPicPr>
        <p:blipFill>
          <a:blip r:embed="rId5"/>
          <a:stretch/>
        </p:blipFill>
        <p:spPr>
          <a:xfrm>
            <a:off x="4929120" y="4500720"/>
            <a:ext cx="3429000" cy="2071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50" name="Picture 6" descr="F2FD6340"/>
          <p:cNvPicPr/>
          <p:nvPr/>
        </p:nvPicPr>
        <p:blipFill>
          <a:blip r:embed="rId6"/>
          <a:srcRect l="13603" t="42522" r="57283" b="29769"/>
          <a:stretch/>
        </p:blipFill>
        <p:spPr>
          <a:xfrm>
            <a:off x="4932360" y="4437000"/>
            <a:ext cx="342576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800" spc="-1" strike="noStrike">
                <a:solidFill>
                  <a:srgbClr val="ff0000"/>
                </a:solidFill>
                <a:latin typeface="Forte"/>
              </a:rPr>
              <a:t>Thank you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642960" y="1714680"/>
            <a:ext cx="7929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The urinary bladder is mainly developed from 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Vesical part of the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Pelvic part of the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Pallic part of the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Allant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Which one of the  following forms the entire female urethra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enital tube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Allant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Vesical part of the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Pelvic part of the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  The trigone of the urinary bladder is developed from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aramesonephric 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nephric 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Allant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Urogenital sinus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 The urethra in glans penis is developed from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The vesical part of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The pelvic part of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The ectod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The splanchnic mesode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571680" y="142920"/>
            <a:ext cx="8143560" cy="14655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Bladder exstroph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s a congenital abnormality that occurs when the skin over the lower abdominal wall does not form properly. The bladder is open and exposed on the outside of the abdomen;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it is associated with epispadi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In epispadia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the </a:t>
            </a:r>
            <a:r>
              <a:rPr b="1" lang="en-GB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urethral meatu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found on the </a:t>
            </a:r>
            <a:r>
              <a:rPr b="1" lang="en-GB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orsum of pen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0" y="1429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.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 the end of the lecture the student is able to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ribe </a:t>
            </a:r>
            <a:r>
              <a:rPr b="1" lang="en-GB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he cloaca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the formation of </a:t>
            </a:r>
            <a:r>
              <a:rPr b="1" lang="en-GB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he </a:t>
            </a:r>
            <a:r>
              <a:rPr b="1" lang="en-US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urogenital sinus.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Discuss </a:t>
            </a:r>
            <a:r>
              <a:rPr b="1" lang="en-US" sz="25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the division of the urogenital sinus </a:t>
            </a:r>
            <a:r>
              <a:rPr b="1" lang="en-US" sz="25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into various parts and name </a:t>
            </a:r>
            <a:r>
              <a:rPr b="1" lang="en-US" sz="25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the adult organs that are derived from each par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cribe </a:t>
            </a: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</a:t>
            </a:r>
            <a:r>
              <a:rPr b="1" lang="en-US" sz="25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the caudal parts of the mesonephric ducts </a:t>
            </a: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e absorbed into the urogenital sinus and the significance of this embryonic event.        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iscuss the position of</a:t>
            </a:r>
            <a:r>
              <a:rPr b="1" lang="en-US" sz="25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 the urachus </a:t>
            </a:r>
            <a:r>
              <a:rPr b="1" lang="en-US" sz="2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nd its significance and f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Describe the various</a:t>
            </a:r>
            <a:r>
              <a:rPr b="1" lang="en-GB" sz="25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 anomalies </a:t>
            </a:r>
            <a:r>
              <a:rPr b="1" lang="en-GB" sz="25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concerned with</a:t>
            </a:r>
            <a:r>
              <a:rPr b="1" lang="en-GB" sz="25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 the urinary bladder and ureth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3857760" cy="78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loaca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560" y="1071720"/>
            <a:ext cx="3708360" cy="5054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oaca is the 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lated terminal par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nd gu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 recei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anto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onephric duc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s flo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losed by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oaca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2" descr="C:\Documents and Settings\EssamEldin\Desktop\emb urinary and urethra\Kidney.jpg"/>
          <p:cNvPicPr/>
          <p:nvPr/>
        </p:nvPicPr>
        <p:blipFill>
          <a:blip r:embed="rId1"/>
          <a:stretch/>
        </p:blipFill>
        <p:spPr>
          <a:xfrm>
            <a:off x="3989520" y="1341360"/>
            <a:ext cx="5037120" cy="388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Oval 4"/>
          <p:cNvSpPr/>
          <p:nvPr/>
        </p:nvSpPr>
        <p:spPr>
          <a:xfrm>
            <a:off x="3995640" y="4149720"/>
            <a:ext cx="57636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995640" y="3860640"/>
            <a:ext cx="64764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5580000" y="4437000"/>
            <a:ext cx="8636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Arrow 8"/>
          <p:cNvSpPr/>
          <p:nvPr/>
        </p:nvSpPr>
        <p:spPr>
          <a:xfrm>
            <a:off x="7143840" y="4286160"/>
            <a:ext cx="35712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4143240" cy="70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Cloaca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4284720" cy="521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esodermal urorectal sept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oac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oacal membra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o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Ventral part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itive urogenital sin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ommunicates with the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llanto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mesonephric du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s flo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urogenital membr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orsal par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orectal can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t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pper part of anal can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s flo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nal membr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6ABD1CE8"/>
          <p:cNvPicPr/>
          <p:nvPr/>
        </p:nvPicPr>
        <p:blipFill>
          <a:blip r:embed="rId1"/>
          <a:srcRect l="20246" t="34687" r="41604" b="38631"/>
          <a:stretch/>
        </p:blipFill>
        <p:spPr>
          <a:xfrm>
            <a:off x="4140360" y="1484280"/>
            <a:ext cx="495108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TextBox 4"/>
          <p:cNvSpPr/>
          <p:nvPr/>
        </p:nvSpPr>
        <p:spPr>
          <a:xfrm>
            <a:off x="5796000" y="3500280"/>
            <a:ext cx="576360" cy="462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214880" y="2643120"/>
            <a:ext cx="576360" cy="46188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6500880" y="3571920"/>
            <a:ext cx="571320" cy="46188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https://encrypted-tbn2.gstatic.com/images?q=tbn:ANd9GcSu8PeUAgHab_QBht8dtDAWxKBJP04dFZsDPrMGui4eoNtwIVq0">
            <a:hlinkClick r:id="rId2"/>
          </p:cNvPr>
          <p:cNvPicPr/>
          <p:nvPr/>
        </p:nvPicPr>
        <p:blipFill>
          <a:blip r:embed="rId3"/>
          <a:srcRect l="0" t="0" r="0" b="11065"/>
          <a:stretch/>
        </p:blipFill>
        <p:spPr>
          <a:xfrm>
            <a:off x="4214880" y="4429080"/>
            <a:ext cx="4929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410080" cy="63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imitive urogenital sin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434960"/>
            <a:ext cx="4033800" cy="38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ivided in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ree part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cranial;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sical p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st of the bladd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inuous with the allanto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middle;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lvic p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s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main part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male urethr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entire female ureth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caudal;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llic pa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s toward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enital tuber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2610BC6D"/>
          <p:cNvPicPr/>
          <p:nvPr/>
        </p:nvPicPr>
        <p:blipFill>
          <a:blip r:embed="rId1"/>
          <a:srcRect l="7974" t="29367" r="44147" b="53110"/>
          <a:stretch/>
        </p:blipFill>
        <p:spPr>
          <a:xfrm>
            <a:off x="4500720" y="1484280"/>
            <a:ext cx="446400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Oval 4"/>
          <p:cNvSpPr/>
          <p:nvPr/>
        </p:nvSpPr>
        <p:spPr>
          <a:xfrm>
            <a:off x="7093080" y="2205000"/>
            <a:ext cx="7189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7020000" y="3213000"/>
            <a:ext cx="7207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7020000" y="3500280"/>
            <a:ext cx="64764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885080" y="2924280"/>
            <a:ext cx="1008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-Point Star 8"/>
          <p:cNvSpPr/>
          <p:nvPr/>
        </p:nvSpPr>
        <p:spPr>
          <a:xfrm>
            <a:off x="5929200" y="2500200"/>
            <a:ext cx="46080" cy="71640"/>
          </a:xfrm>
          <a:custGeom>
            <a:avLst/>
            <a:gdLst/>
            <a:ahLst/>
            <a:rect l="l" t="t" r="r" b="b"/>
            <a:pathLst>
              <a:path w="46037" h="71437">
                <a:moveTo>
                  <a:pt x="0" y="27286"/>
                </a:moveTo>
                <a:lnTo>
                  <a:pt x="17585" y="27287"/>
                </a:lnTo>
                <a:lnTo>
                  <a:pt x="23019" y="0"/>
                </a:lnTo>
                <a:lnTo>
                  <a:pt x="28452" y="27287"/>
                </a:lnTo>
                <a:lnTo>
                  <a:pt x="46037" y="27286"/>
                </a:lnTo>
                <a:lnTo>
                  <a:pt x="31811" y="44150"/>
                </a:lnTo>
                <a:lnTo>
                  <a:pt x="37245" y="71437"/>
                </a:lnTo>
                <a:lnTo>
                  <a:pt x="23019" y="54573"/>
                </a:lnTo>
                <a:lnTo>
                  <a:pt x="8792" y="71437"/>
                </a:lnTo>
                <a:lnTo>
                  <a:pt x="14226" y="44150"/>
                </a:lnTo>
                <a:lnTo>
                  <a:pt x="0" y="2728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-Point Star 9"/>
          <p:cNvSpPr/>
          <p:nvPr/>
        </p:nvSpPr>
        <p:spPr>
          <a:xfrm>
            <a:off x="5857920" y="2857680"/>
            <a:ext cx="46080" cy="71280"/>
          </a:xfrm>
          <a:custGeom>
            <a:avLst/>
            <a:gdLst/>
            <a:ahLst/>
            <a:rect l="l" t="t" r="r" b="b"/>
            <a:pathLst>
              <a:path w="46038" h="71438">
                <a:moveTo>
                  <a:pt x="0" y="27287"/>
                </a:moveTo>
                <a:lnTo>
                  <a:pt x="17585" y="27287"/>
                </a:lnTo>
                <a:lnTo>
                  <a:pt x="23019" y="0"/>
                </a:lnTo>
                <a:lnTo>
                  <a:pt x="28453" y="27287"/>
                </a:lnTo>
                <a:lnTo>
                  <a:pt x="46038" y="27287"/>
                </a:lnTo>
                <a:lnTo>
                  <a:pt x="31811" y="44151"/>
                </a:lnTo>
                <a:lnTo>
                  <a:pt x="37245" y="71438"/>
                </a:lnTo>
                <a:lnTo>
                  <a:pt x="23019" y="54573"/>
                </a:lnTo>
                <a:lnTo>
                  <a:pt x="8793" y="71438"/>
                </a:lnTo>
                <a:lnTo>
                  <a:pt x="14227" y="44151"/>
                </a:lnTo>
                <a:lnTo>
                  <a:pt x="0" y="2728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5-Point Star 10"/>
          <p:cNvSpPr/>
          <p:nvPr/>
        </p:nvSpPr>
        <p:spPr>
          <a:xfrm>
            <a:off x="5572080" y="2928960"/>
            <a:ext cx="71640" cy="46080"/>
          </a:xfrm>
          <a:custGeom>
            <a:avLst/>
            <a:gdLst/>
            <a:ahLst/>
            <a:rect l="l" t="t" r="r" b="b"/>
            <a:pathLst>
              <a:path w="71438" h="46037">
                <a:moveTo>
                  <a:pt x="0" y="17585"/>
                </a:moveTo>
                <a:lnTo>
                  <a:pt x="27287" y="17585"/>
                </a:lnTo>
                <a:lnTo>
                  <a:pt x="35719" y="0"/>
                </a:lnTo>
                <a:lnTo>
                  <a:pt x="44151" y="17585"/>
                </a:lnTo>
                <a:lnTo>
                  <a:pt x="71438" y="17585"/>
                </a:lnTo>
                <a:lnTo>
                  <a:pt x="49362" y="28452"/>
                </a:lnTo>
                <a:lnTo>
                  <a:pt x="57795" y="46037"/>
                </a:lnTo>
                <a:lnTo>
                  <a:pt x="35719" y="35169"/>
                </a:lnTo>
                <a:lnTo>
                  <a:pt x="13643" y="46037"/>
                </a:lnTo>
                <a:lnTo>
                  <a:pt x="22076" y="28452"/>
                </a:lnTo>
                <a:lnTo>
                  <a:pt x="0" y="1758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330800" cy="63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Urinary bladder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3827520" cy="511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evelop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inly</a:t>
            </a: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vesical part of the urogenital sin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g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erived from the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bsorbed caudal en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esonephric du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The epitheliu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oderm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orig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The other lay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derived from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lanchinic mesode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스캔0053"/>
          <p:cNvPicPr/>
          <p:nvPr/>
        </p:nvPicPr>
        <p:blipFill>
          <a:blip r:embed="rId1"/>
          <a:srcRect l="0" t="0" r="3865" b="0"/>
          <a:stretch/>
        </p:blipFill>
        <p:spPr>
          <a:xfrm>
            <a:off x="4643280" y="3789360"/>
            <a:ext cx="4284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6" descr="2610BC6D"/>
          <p:cNvPicPr/>
          <p:nvPr/>
        </p:nvPicPr>
        <p:blipFill>
          <a:blip r:embed="rId2"/>
          <a:srcRect l="7974" t="28938" r="44996" b="53110"/>
          <a:stretch/>
        </p:blipFill>
        <p:spPr>
          <a:xfrm>
            <a:off x="4716360" y="1413000"/>
            <a:ext cx="396108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Oval 5"/>
          <p:cNvSpPr/>
          <p:nvPr/>
        </p:nvSpPr>
        <p:spPr>
          <a:xfrm>
            <a:off x="7524720" y="5157720"/>
            <a:ext cx="136836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7"/>
          <p:cNvSpPr/>
          <p:nvPr/>
        </p:nvSpPr>
        <p:spPr>
          <a:xfrm>
            <a:off x="7020000" y="2205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3"/>
          <a:srcRect l="1255" t="2240" r="1255" b="5823"/>
          <a:stretch/>
        </p:blipFill>
        <p:spPr>
          <a:xfrm>
            <a:off x="4572000" y="500040"/>
            <a:ext cx="4184640" cy="31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13840" y="785880"/>
            <a:ext cx="4573800" cy="521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allanto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t first continues with the bladder , then it becomes a </a:t>
            </a:r>
            <a:r>
              <a:rPr b="1" lang="en-US" sz="2800" spc="-1" strike="noStrike">
                <a:solidFill>
                  <a:srgbClr val="3060c0"/>
                </a:solidFill>
                <a:latin typeface="Times New Roman"/>
                <a:ea typeface="Times New Roman"/>
              </a:rPr>
              <a:t>thick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fibrous cord urachu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extends 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pex of the bladd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mbilicu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 bir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is represented by the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edian umblical liga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absorption of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onephric duc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orm the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trig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n separately in the bladd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스캔0053"/>
          <p:cNvPicPr/>
          <p:nvPr/>
        </p:nvPicPr>
        <p:blipFill>
          <a:blip r:embed="rId1"/>
          <a:srcRect l="0" t="0" r="4438" b="0"/>
          <a:stretch/>
        </p:blipFill>
        <p:spPr>
          <a:xfrm>
            <a:off x="4932360" y="1268280"/>
            <a:ext cx="4032360" cy="262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Frame 5"/>
          <p:cNvSpPr/>
          <p:nvPr/>
        </p:nvSpPr>
        <p:spPr>
          <a:xfrm>
            <a:off x="7643880" y="3143160"/>
            <a:ext cx="642960" cy="214560"/>
          </a:xfrm>
          <a:custGeom>
            <a:avLst/>
            <a:gdLst/>
            <a:ahLst/>
            <a:rect l="l" t="t" r="r" b="b"/>
            <a:pathLst>
              <a:path w="642937" h="214313">
                <a:moveTo>
                  <a:pt x="0" y="0"/>
                </a:moveTo>
                <a:lnTo>
                  <a:pt x="642937" y="0"/>
                </a:lnTo>
                <a:lnTo>
                  <a:pt x="642937" y="214313"/>
                </a:lnTo>
                <a:lnTo>
                  <a:pt x="0" y="214313"/>
                </a:lnTo>
                <a:lnTo>
                  <a:pt x="0" y="0"/>
                </a:lnTo>
                <a:close/>
                <a:moveTo>
                  <a:pt x="26789" y="26789"/>
                </a:moveTo>
                <a:lnTo>
                  <a:pt x="26789" y="187524"/>
                </a:lnTo>
                <a:lnTo>
                  <a:pt x="616148" y="187524"/>
                </a:lnTo>
                <a:lnTo>
                  <a:pt x="616148" y="26789"/>
                </a:lnTo>
                <a:lnTo>
                  <a:pt x="26789" y="267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ame 6"/>
          <p:cNvSpPr/>
          <p:nvPr/>
        </p:nvSpPr>
        <p:spPr>
          <a:xfrm>
            <a:off x="7643880" y="2714760"/>
            <a:ext cx="1357200" cy="214200"/>
          </a:xfrm>
          <a:custGeom>
            <a:avLst/>
            <a:gdLst/>
            <a:ahLst/>
            <a:rect l="l" t="t" r="r" b="b"/>
            <a:pathLst>
              <a:path w="1357312" h="214313">
                <a:moveTo>
                  <a:pt x="0" y="0"/>
                </a:moveTo>
                <a:lnTo>
                  <a:pt x="1357312" y="0"/>
                </a:lnTo>
                <a:lnTo>
                  <a:pt x="1357312" y="214313"/>
                </a:lnTo>
                <a:lnTo>
                  <a:pt x="0" y="214313"/>
                </a:lnTo>
                <a:lnTo>
                  <a:pt x="0" y="0"/>
                </a:lnTo>
                <a:close/>
                <a:moveTo>
                  <a:pt x="26789" y="26789"/>
                </a:moveTo>
                <a:lnTo>
                  <a:pt x="26789" y="187524"/>
                </a:lnTo>
                <a:lnTo>
                  <a:pt x="1330523" y="187524"/>
                </a:lnTo>
                <a:lnTo>
                  <a:pt x="1330523" y="26789"/>
                </a:lnTo>
                <a:lnTo>
                  <a:pt x="26789" y="267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-Point Star 7"/>
          <p:cNvSpPr/>
          <p:nvPr/>
        </p:nvSpPr>
        <p:spPr>
          <a:xfrm flipH="1">
            <a:off x="6000120" y="2428920"/>
            <a:ext cx="142920" cy="71280"/>
          </a:xfrm>
          <a:custGeom>
            <a:avLst/>
            <a:gdLst/>
            <a:ahLst/>
            <a:rect l="l" t="t" r="r" b="b"/>
            <a:pathLst>
              <a:path w="142875" h="71438">
                <a:moveTo>
                  <a:pt x="0" y="27287"/>
                </a:moveTo>
                <a:lnTo>
                  <a:pt x="54574" y="27287"/>
                </a:lnTo>
                <a:lnTo>
                  <a:pt x="71438" y="0"/>
                </a:lnTo>
                <a:lnTo>
                  <a:pt x="88301" y="27287"/>
                </a:lnTo>
                <a:lnTo>
                  <a:pt x="142875" y="27287"/>
                </a:lnTo>
                <a:lnTo>
                  <a:pt x="98724" y="44151"/>
                </a:lnTo>
                <a:lnTo>
                  <a:pt x="115588" y="71438"/>
                </a:lnTo>
                <a:lnTo>
                  <a:pt x="71438" y="54573"/>
                </a:lnTo>
                <a:lnTo>
                  <a:pt x="27287" y="71438"/>
                </a:lnTo>
                <a:lnTo>
                  <a:pt x="44151" y="44151"/>
                </a:lnTo>
                <a:lnTo>
                  <a:pt x="0" y="2728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5-Point Star 8"/>
          <p:cNvSpPr/>
          <p:nvPr/>
        </p:nvSpPr>
        <p:spPr>
          <a:xfrm>
            <a:off x="6429240" y="2571840"/>
            <a:ext cx="71640" cy="71280"/>
          </a:xfrm>
          <a:custGeom>
            <a:avLst/>
            <a:gdLst/>
            <a:ahLst/>
            <a:rect l="l" t="t" r="r" b="b"/>
            <a:pathLst>
              <a:path w="71438" h="71438">
                <a:moveTo>
                  <a:pt x="0" y="27287"/>
                </a:moveTo>
                <a:lnTo>
                  <a:pt x="27287" y="27287"/>
                </a:lnTo>
                <a:lnTo>
                  <a:pt x="35719" y="0"/>
                </a:lnTo>
                <a:lnTo>
                  <a:pt x="44151" y="27287"/>
                </a:lnTo>
                <a:lnTo>
                  <a:pt x="71438" y="27287"/>
                </a:lnTo>
                <a:lnTo>
                  <a:pt x="49362" y="44151"/>
                </a:lnTo>
                <a:lnTo>
                  <a:pt x="57795" y="71438"/>
                </a:lnTo>
                <a:lnTo>
                  <a:pt x="35719" y="54573"/>
                </a:lnTo>
                <a:lnTo>
                  <a:pt x="13643" y="71438"/>
                </a:lnTo>
                <a:lnTo>
                  <a:pt x="22076" y="44151"/>
                </a:lnTo>
                <a:lnTo>
                  <a:pt x="0" y="2728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Documents and Settings\Dr.Essam\My Documents\Downloads\f27-9a_urinary_bladder_c.jpg"/>
          <p:cNvPicPr/>
          <p:nvPr/>
        </p:nvPicPr>
        <p:blipFill>
          <a:blip r:embed="rId2"/>
          <a:srcRect l="0" t="4544" r="46158" b="0"/>
          <a:stretch/>
        </p:blipFill>
        <p:spPr>
          <a:xfrm>
            <a:off x="5076720" y="4005360"/>
            <a:ext cx="3672000" cy="28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5-Point Star 13"/>
          <p:cNvSpPr/>
          <p:nvPr/>
        </p:nvSpPr>
        <p:spPr>
          <a:xfrm>
            <a:off x="7020000" y="5445000"/>
            <a:ext cx="144360" cy="71640"/>
          </a:xfrm>
          <a:custGeom>
            <a:avLst/>
            <a:gdLst/>
            <a:ahLst/>
            <a:rect l="l" t="t" r="r" b="b"/>
            <a:pathLst>
              <a:path w="144463" h="71438">
                <a:moveTo>
                  <a:pt x="0" y="27287"/>
                </a:moveTo>
                <a:lnTo>
                  <a:pt x="55180" y="27287"/>
                </a:lnTo>
                <a:lnTo>
                  <a:pt x="72232" y="0"/>
                </a:lnTo>
                <a:lnTo>
                  <a:pt x="89283" y="27287"/>
                </a:lnTo>
                <a:lnTo>
                  <a:pt x="144463" y="27287"/>
                </a:lnTo>
                <a:lnTo>
                  <a:pt x="99821" y="44151"/>
                </a:lnTo>
                <a:lnTo>
                  <a:pt x="116873" y="71438"/>
                </a:lnTo>
                <a:lnTo>
                  <a:pt x="72232" y="54573"/>
                </a:lnTo>
                <a:lnTo>
                  <a:pt x="27590" y="71438"/>
                </a:lnTo>
                <a:lnTo>
                  <a:pt x="44642" y="44151"/>
                </a:lnTo>
                <a:lnTo>
                  <a:pt x="0" y="2728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Minus 14"/>
          <p:cNvSpPr/>
          <p:nvPr/>
        </p:nvSpPr>
        <p:spPr>
          <a:xfrm>
            <a:off x="5003640" y="5516640"/>
            <a:ext cx="505080" cy="46080"/>
          </a:xfrm>
          <a:custGeom>
            <a:avLst/>
            <a:gdLst/>
            <a:ahLst/>
            <a:rect l="l" t="t" r="r" b="b"/>
            <a:pathLst>
              <a:path w="504825" h="46037">
                <a:moveTo>
                  <a:pt x="66915" y="17605"/>
                </a:moveTo>
                <a:lnTo>
                  <a:pt x="437910" y="17605"/>
                </a:lnTo>
                <a:lnTo>
                  <a:pt x="437910" y="28432"/>
                </a:lnTo>
                <a:lnTo>
                  <a:pt x="66915" y="28432"/>
                </a:lnTo>
                <a:lnTo>
                  <a:pt x="66915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214200" y="0"/>
            <a:ext cx="4573800" cy="78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bladd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-Point Star 11"/>
          <p:cNvSpPr/>
          <p:nvPr/>
        </p:nvSpPr>
        <p:spPr>
          <a:xfrm>
            <a:off x="5643720" y="2071800"/>
            <a:ext cx="71280" cy="71280"/>
          </a:xfrm>
          <a:custGeom>
            <a:avLst/>
            <a:gdLst/>
            <a:ahLst/>
            <a:rect l="l" t="t" r="r" b="b"/>
            <a:pathLst>
              <a:path w="71437" h="71437">
                <a:moveTo>
                  <a:pt x="0" y="27286"/>
                </a:moveTo>
                <a:lnTo>
                  <a:pt x="27287" y="27287"/>
                </a:lnTo>
                <a:lnTo>
                  <a:pt x="35719" y="0"/>
                </a:lnTo>
                <a:lnTo>
                  <a:pt x="44150" y="27287"/>
                </a:lnTo>
                <a:lnTo>
                  <a:pt x="71437" y="27286"/>
                </a:lnTo>
                <a:lnTo>
                  <a:pt x="49362" y="44150"/>
                </a:lnTo>
                <a:lnTo>
                  <a:pt x="57794" y="71437"/>
                </a:lnTo>
                <a:lnTo>
                  <a:pt x="35719" y="54573"/>
                </a:lnTo>
                <a:lnTo>
                  <a:pt x="13643" y="71437"/>
                </a:lnTo>
                <a:lnTo>
                  <a:pt x="22075" y="44150"/>
                </a:lnTo>
                <a:lnTo>
                  <a:pt x="0" y="2728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18"/>
          <p:cNvCxnSpPr>
            <a:endCxn id="86" idx="2"/>
          </p:cNvCxnSpPr>
          <p:nvPr/>
        </p:nvCxnSpPr>
        <p:spPr>
          <a:xfrm>
            <a:off x="5286240" y="2142720"/>
            <a:ext cx="372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TextBox 19"/>
          <p:cNvSpPr/>
          <p:nvPr/>
        </p:nvSpPr>
        <p:spPr>
          <a:xfrm>
            <a:off x="4929120" y="2071800"/>
            <a:ext cx="64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rac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7"/>
          <p:cNvSpPr/>
          <p:nvPr/>
        </p:nvSpPr>
        <p:spPr>
          <a:xfrm>
            <a:off x="6786720" y="5286240"/>
            <a:ext cx="7128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9"/>
          <p:cNvSpPr/>
          <p:nvPr/>
        </p:nvSpPr>
        <p:spPr>
          <a:xfrm>
            <a:off x="7429680" y="5286240"/>
            <a:ext cx="712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1"/>
          <p:cNvSpPr/>
          <p:nvPr/>
        </p:nvSpPr>
        <p:spPr>
          <a:xfrm>
            <a:off x="5076720" y="5407920"/>
            <a:ext cx="852480" cy="20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9" descr="http://image.slidesharecdn.com/developmentofkidneyandureter05-01-12-120105112351-phpapp01/95/development-of-kidney-and-ureter-050112-18-728.jpg?cb=1325785193"/>
          <p:cNvPicPr/>
          <p:nvPr/>
        </p:nvPicPr>
        <p:blipFill>
          <a:blip r:embed="rId3"/>
          <a:srcRect l="3094" t="18960" r="15523" b="0"/>
          <a:stretch/>
        </p:blipFill>
        <p:spPr>
          <a:xfrm>
            <a:off x="4857840" y="714240"/>
            <a:ext cx="4286160" cy="32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57120" y="1500120"/>
            <a:ext cx="7358040" cy="228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b0f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In infants and childr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ladder is 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bdominal org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b0f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It star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 enter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eater pelvis 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t about 6 years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ecome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lvic org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fter puber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4543560" cy="988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Urinary bladder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Fig 1.1- The true pelv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3040" y="4000680"/>
            <a:ext cx="5000760" cy="26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63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Urethr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4114800" cy="487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different stage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ital tuberc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esenchymal elevation) develops a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cranial end of the cloacal membran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wo urethral fol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velop on either side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rogenital membra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ally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wo labioscrot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ds develop on either side of th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urethral fol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urethral folds </a:t>
            </a:r>
            <a:r>
              <a:rPr b="1" lang="en-GB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in male</a:t>
            </a:r>
            <a:r>
              <a:rPr b="0" lang="en-GB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each other to close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nile urethr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urethral folds </a:t>
            </a:r>
            <a:r>
              <a:rPr b="1" lang="en-GB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in female</a:t>
            </a:r>
            <a:r>
              <a:rPr b="0" lang="en-GB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i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 to form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bia mino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7" descr="3EBEB0E2"/>
          <p:cNvPicPr/>
          <p:nvPr/>
        </p:nvPicPr>
        <p:blipFill>
          <a:blip r:embed="rId1"/>
          <a:srcRect l="10230" t="27631" r="50717" b="54143"/>
          <a:stretch/>
        </p:blipFill>
        <p:spPr>
          <a:xfrm>
            <a:off x="4716360" y="2133720"/>
            <a:ext cx="4248360" cy="19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6227640" y="278136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ff"/>
                </a:solidFill>
                <a:uFillTx/>
                <a:latin typeface="Arial"/>
              </a:rPr>
              <a:t>(Labioscrotal fol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8"/>
          <p:cNvCxnSpPr/>
          <p:nvPr/>
        </p:nvCxnSpPr>
        <p:spPr>
          <a:xfrm flipH="1" flipV="1">
            <a:off x="7956360" y="3141360"/>
            <a:ext cx="2880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2" name="Oval 9"/>
          <p:cNvSpPr/>
          <p:nvPr/>
        </p:nvSpPr>
        <p:spPr>
          <a:xfrm>
            <a:off x="8244000" y="2997360"/>
            <a:ext cx="64908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Straight Arrow Connector 10"/>
          <p:cNvCxnSpPr/>
          <p:nvPr/>
        </p:nvCxnSpPr>
        <p:spPr>
          <a:xfrm flipH="1">
            <a:off x="6011280" y="2780280"/>
            <a:ext cx="432360" cy="143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4" name="Oval 11"/>
          <p:cNvSpPr/>
          <p:nvPr/>
        </p:nvSpPr>
        <p:spPr>
          <a:xfrm>
            <a:off x="6300720" y="2637000"/>
            <a:ext cx="1224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2610BC6D"/>
          <p:cNvPicPr/>
          <p:nvPr/>
        </p:nvPicPr>
        <p:blipFill>
          <a:blip r:embed="rId2"/>
          <a:srcRect l="7974" t="29367" r="44147" b="53110"/>
          <a:stretch/>
        </p:blipFill>
        <p:spPr>
          <a:xfrm>
            <a:off x="4714920" y="214200"/>
            <a:ext cx="4249800" cy="18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Frame 14"/>
          <p:cNvSpPr/>
          <p:nvPr/>
        </p:nvSpPr>
        <p:spPr>
          <a:xfrm>
            <a:off x="5357880" y="1857240"/>
            <a:ext cx="1000080" cy="214560"/>
          </a:xfrm>
          <a:custGeom>
            <a:avLst/>
            <a:gdLst/>
            <a:ahLst/>
            <a:rect l="l" t="t" r="r" b="b"/>
            <a:pathLst>
              <a:path w="1000125" h="214313">
                <a:moveTo>
                  <a:pt x="0" y="0"/>
                </a:moveTo>
                <a:lnTo>
                  <a:pt x="1000125" y="0"/>
                </a:lnTo>
                <a:lnTo>
                  <a:pt x="1000125" y="214313"/>
                </a:lnTo>
                <a:lnTo>
                  <a:pt x="0" y="214313"/>
                </a:lnTo>
                <a:lnTo>
                  <a:pt x="0" y="0"/>
                </a:lnTo>
                <a:close/>
                <a:moveTo>
                  <a:pt x="26789" y="26789"/>
                </a:moveTo>
                <a:lnTo>
                  <a:pt x="26789" y="187524"/>
                </a:lnTo>
                <a:lnTo>
                  <a:pt x="973336" y="187524"/>
                </a:lnTo>
                <a:lnTo>
                  <a:pt x="973336" y="26789"/>
                </a:lnTo>
                <a:lnTo>
                  <a:pt x="26789" y="267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ame 15"/>
          <p:cNvSpPr/>
          <p:nvPr/>
        </p:nvSpPr>
        <p:spPr>
          <a:xfrm>
            <a:off x="4714920" y="2500200"/>
            <a:ext cx="785880" cy="285840"/>
          </a:xfrm>
          <a:custGeom>
            <a:avLst/>
            <a:gdLst/>
            <a:ahLst/>
            <a:rect l="l" t="t" r="r" b="b"/>
            <a:pathLst>
              <a:path w="785813" h="285750">
                <a:moveTo>
                  <a:pt x="0" y="0"/>
                </a:moveTo>
                <a:lnTo>
                  <a:pt x="785813" y="0"/>
                </a:lnTo>
                <a:lnTo>
                  <a:pt x="785813" y="285750"/>
                </a:lnTo>
                <a:lnTo>
                  <a:pt x="0" y="285750"/>
                </a:lnTo>
                <a:lnTo>
                  <a:pt x="0" y="0"/>
                </a:lnTo>
                <a:close/>
                <a:moveTo>
                  <a:pt x="35719" y="35719"/>
                </a:moveTo>
                <a:lnTo>
                  <a:pt x="35719" y="250031"/>
                </a:lnTo>
                <a:lnTo>
                  <a:pt x="750094" y="250031"/>
                </a:lnTo>
                <a:lnTo>
                  <a:pt x="750094" y="35719"/>
                </a:lnTo>
                <a:lnTo>
                  <a:pt x="35719" y="357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17"/>
          <p:cNvCxnSpPr/>
          <p:nvPr/>
        </p:nvCxnSpPr>
        <p:spPr>
          <a:xfrm flipH="1" flipV="1">
            <a:off x="7857720" y="3214080"/>
            <a:ext cx="572400" cy="214920"/>
          </a:xfrm>
          <a:prstGeom prst="straightConnector1">
            <a:avLst/>
          </a:prstGeom>
          <a:ln w="9360">
            <a:solidFill>
              <a:srgbClr val="6600ff"/>
            </a:solidFill>
            <a:miter/>
            <a:tailEnd len="med" type="arrow" w="med"/>
          </a:ln>
        </p:spPr>
      </p:cxnSp>
      <p:sp>
        <p:nvSpPr>
          <p:cNvPr id="109" name="Oval 20"/>
          <p:cNvSpPr/>
          <p:nvPr/>
        </p:nvSpPr>
        <p:spPr>
          <a:xfrm>
            <a:off x="8143920" y="3286080"/>
            <a:ext cx="1000080" cy="357120"/>
          </a:xfrm>
          <a:prstGeom prst="ellipse">
            <a:avLst/>
          </a:prstGeom>
          <a:noFill/>
          <a:ln w="255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Urogenital membr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Sanaa Alsharawi</cp:lastModifiedBy>
  <dcterms:modified xsi:type="dcterms:W3CDTF">2015-04-28T04:51:59Z</dcterms:modified>
  <cp:revision>238</cp:revision>
  <dc:subject/>
  <dc:title>Development of the urinary bladder and urethra</dc:title>
</cp:coreProperties>
</file>