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6871-8967-4FAC-A663-F9F7E95FFD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9E4-95A7-47D4-BDEA-8F74C8BF371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C3CB-431C-4A22-94EE-7B9937CFFD2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FE7E-885B-4A9F-ACC5-9926E2A4FA7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DBF3-C0BA-4DC0-8DEF-8835F1E5744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3D24-0D25-48D9-834A-EAEB4EFCF7E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C69F-521F-42A0-B634-E51A04338E2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3BC-4D61-4646-9CC8-83DF297A47C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EFED-AFDD-48EC-B51D-6DD108E71A0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34E-6117-46B4-A2E2-58763494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7DC-CFC4-447A-90F7-841C890C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F5D-8539-49E7-A4AA-13B699B0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F84-53F2-4D2F-B892-029581C0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032C-2E10-4AEC-95B8-4E6BE495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2B83-253A-4410-951B-51869B65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3862-583A-43CA-A119-5E3D00D1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1410-5C56-4B84-B5EE-B68A5014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A182-CB59-4B06-B050-3557829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F016-2407-4342-BE97-FFF3B01A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8ED9-1F2A-44C4-B82C-C53EAE1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370-B1F5-47E1-BE81-DAAB80DE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C572-88CF-46F7-B810-49C5C3E4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1CB2-26E7-4273-A4F0-24E44E89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15E8-2F44-4CD5-BD6E-2783D705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DA0E-3EC6-4462-A6EC-4DF618CF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3DD6-B6AD-4214-A05D-524D755A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009-9B7C-477C-AAEF-44F4190D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3C5-00B0-4BD8-B43B-2197BDCD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3A6-620F-4302-B329-8D6ABDF7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4D8-C258-49B5-89E5-6906B82E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E23-1F33-49E6-AB11-18CE6B45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358-21A4-4070-BD36-C6DDBDA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5AD-7546-4A2C-8D31-54A5D0D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6700-CBF7-4F7B-A5DC-5DD7C7A92E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4144-34B6-4EAD-871F-5179B36576B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سم الله الرحمن الرحيم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urethra is short and lined by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- Epitheli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Transitional epith. Near the bla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Pseudostratified columnar epith.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- Sub-epithelial fibroelastic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contains glands of Littre (mucus-secreting gland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- Smooth musc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gitudinal and outer circular laye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long and is divided into 3 reg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static urethr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d with transitional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mbranous urethra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lined with:          Stratified columnar epith.  with patches of pseudustratified columnar epitheli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nile (spongy) ureth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s lined with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ified columnar epith.  with patches of pseudustratified columnar epithel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 navicular fossa ( enlarged terminal portion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atified squamous non-keratinized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mina propria contains mucus-secreting glands of Lit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EST WISHES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rinary passag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981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be able to describe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The microscopic structure of the Renal pelvis and ur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The microscopic structure of the urinary bladder and male and female 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7C6E7C31"/>
          <p:cNvPicPr/>
          <p:nvPr/>
        </p:nvPicPr>
        <p:blipFill>
          <a:blip r:embed="rId1"/>
          <a:srcRect l="0" t="6889" r="11431" b="54068"/>
          <a:stretch/>
        </p:blipFill>
        <p:spPr>
          <a:xfrm>
            <a:off x="4267080" y="3048120"/>
            <a:ext cx="4876920" cy="3740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4" descr="98BD9F5"/>
          <p:cNvPicPr/>
          <p:nvPr/>
        </p:nvPicPr>
        <p:blipFill>
          <a:blip r:embed="rId2"/>
          <a:srcRect l="49630" t="18337" r="15294" b="28497"/>
          <a:stretch/>
        </p:blipFill>
        <p:spPr>
          <a:xfrm>
            <a:off x="0" y="1708200"/>
            <a:ext cx="419112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3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The macula dens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istal tubule: Tall cells with centrally-placed nuc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Juxtaglomerular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fferent glomerular arteriole (modified smooth muscle of tunica media). Nuclei are round with granular cyt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hey secrete renin, and angiotens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9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-The extraglomer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sangial cell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ly\My Documents\back\Janquira Images\19\F19_21.jpg"/>
          <p:cNvPicPr/>
          <p:nvPr/>
        </p:nvPicPr>
        <p:blipFill>
          <a:blip r:embed="rId1"/>
          <a:stretch/>
        </p:blipFill>
        <p:spPr>
          <a:xfrm>
            <a:off x="5791320" y="37339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ly\My Documents\My Pictures\kidney0221he.jpg"/>
          <p:cNvPicPr/>
          <p:nvPr/>
        </p:nvPicPr>
        <p:blipFill>
          <a:blip r:embed="rId1"/>
          <a:stretch/>
        </p:blipFill>
        <p:spPr>
          <a:xfrm>
            <a:off x="1752480" y="228600"/>
            <a:ext cx="6248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nal Caly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yx accepts urine from the renal papilla of a renal pyram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lined with transitional epith., lamina propria and smooth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calyces merge to form major calyces (with same lining tissue as minor caly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calyces open i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pel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25C78913"/>
          <p:cNvPicPr/>
          <p:nvPr/>
        </p:nvPicPr>
        <p:blipFill>
          <a:blip r:embed="rId1"/>
          <a:srcRect l="30592" t="20588" r="35778" b="49514"/>
          <a:stretch/>
        </p:blipFill>
        <p:spPr>
          <a:xfrm>
            <a:off x="4775040" y="4267080"/>
            <a:ext cx="436896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34080" indent="-334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ormed of transitional epith. and lamina prop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Muscular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scular coat):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2 layers of smooth muscle in the upper  2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 Outer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3001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3 layers of smooth muscle in the lower 1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Middle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   Out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Adventi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ous C.T. covering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ser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AE4A960F"/>
          <p:cNvPicPr/>
          <p:nvPr/>
        </p:nvPicPr>
        <p:blipFill>
          <a:blip r:embed="rId1"/>
          <a:srcRect l="0" t="15719" r="62354" b="38691"/>
          <a:stretch/>
        </p:blipFill>
        <p:spPr>
          <a:xfrm>
            <a:off x="3657600" y="3857760"/>
            <a:ext cx="2895480" cy="23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53080" y="3862440"/>
            <a:ext cx="25909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inary blad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the same structure as the lower third of ur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ficial layer of  transitional epithelium has dome-shaped cells (in empty bladd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3 layers of smooth muscle: inner and outer longitudinal  (thin) and middle circular (thick)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outer covering is adventi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ser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8" descr="D1B010FD"/>
          <p:cNvPicPr/>
          <p:nvPr/>
        </p:nvPicPr>
        <p:blipFill>
          <a:blip r:embed="rId1"/>
          <a:srcRect l="72552" t="34776" r="982" b="39295"/>
          <a:stretch/>
        </p:blipFill>
        <p:spPr>
          <a:xfrm>
            <a:off x="5562720" y="3624120"/>
            <a:ext cx="2646360" cy="323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1B010FD"/>
          <p:cNvPicPr/>
          <p:nvPr/>
        </p:nvPicPr>
        <p:blipFill>
          <a:blip r:embed="rId2"/>
          <a:srcRect l="39295" t="27453" r="23772" b="41181"/>
          <a:stretch/>
        </p:blipFill>
        <p:spPr>
          <a:xfrm>
            <a:off x="1981080" y="4646520"/>
            <a:ext cx="31244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2590920" y="3889440"/>
            <a:ext cx="4138560" cy="281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286000" y="304920"/>
            <a:ext cx="5029200" cy="342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ly Mohamed</cp:lastModifiedBy>
  <dcterms:modified xsi:type="dcterms:W3CDTF">2015-04-15T08:50:35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