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BC91-7C63-4766-80B2-F05D1828541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37C4-3DB8-48A5-9584-822890F5924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CFBC-F335-435A-A3C0-2423F487A05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60DC-CB14-4C21-ACDA-AE481C03B87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4522-FF50-498D-A8C4-BDD49BE9C6C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2C98-293C-440F-A2A4-A342A9A0DE1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36B5-43E7-4FFA-902D-5622A5C05EA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3980-A7A3-4603-BF97-600B7AE67BD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EB9F-0BBC-4F09-92DC-D176038F2F0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2C4-A906-4FE2-BBC4-A35A2AB3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549-6ADC-4BDE-8A26-63374668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93CC-7395-494F-A6F2-CC256DB5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25A-BDD1-449C-A3C5-711FD49B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EBB6-32BC-4301-8314-967124DF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FAC5-613B-4B91-8CBE-E181C985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A6B7-7BFC-4414-949B-3EE5BC62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3C1D-6041-47C8-AB79-A34BB308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8F67-71FA-4542-A490-2F16F825E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A5FA-34B3-4D13-8322-067EEED5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D914-3415-462C-B746-C9C97120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AFD7-9959-416C-8C02-353C87D4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594E-2C63-4F7B-9E22-31D31984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75A2-8D9B-444E-BB4E-5203554E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E566-ED87-44BE-8E55-9757197A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539D-AE68-4407-8681-D6E496F4A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F667-F27C-465B-867D-AA68F23C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C7F4-E3A3-4DD8-A0B7-20AA66D4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BC40-D9F8-470B-A5C7-D190C5E2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991A-99BE-49C9-B8A1-9FF64D5F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4EE4-3F8A-4751-A4EF-AE1CE5C8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6230-98E2-4DE0-AC49-3F26F3A5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ED2F-E5F8-42F8-BD98-2B35C593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8890-C006-4A30-87FF-57E3ACA4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A17A-0E42-4BBF-8325-6A96759B662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F836-2858-4270-B29D-DABC918356E7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بسم الله الرحمن الرحيم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Female Urethr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ale urethra is short and lined by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- Epitheliu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-Transitional epith. Near the blad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- Pseudostratified columnar epith.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- Stratified squamous non-keratinized epi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- Sub-epithelial fibroelastic 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contains glands of Littre (mucus-secreting gland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- Smooth musc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ner longitudinal and outer circular layer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Male Urethr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long and is divided into 3 reg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static urethr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ed with transitional ep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mbranous urethra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lined with:          Stratified columnar epith.  with patches of pseudustratified columnar epitheliu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nile (spongy) urethr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is lined with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ified columnar epith.  with patches of pseudustratified columnar epitheli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.B.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 navicular fossa ( enlarged terminal portion)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ratified squamous non-keratinized epith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.B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lamina propria contains mucus-secreting glands of Litt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BEST WISHES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urinary passage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19810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y the end of this lecture, the student should be able to describe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The microscopic structure of the Renal pelvis and ure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The microscopic structure of the urinary bladder and male and female ureth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7C6E7C31"/>
          <p:cNvPicPr/>
          <p:nvPr/>
        </p:nvPicPr>
        <p:blipFill>
          <a:blip r:embed="rId1"/>
          <a:srcRect l="0" t="6889" r="11431" b="54068"/>
          <a:stretch/>
        </p:blipFill>
        <p:spPr>
          <a:xfrm>
            <a:off x="4267080" y="3048120"/>
            <a:ext cx="4876920" cy="3740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Juxtaglomerular apparatu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Picture 4" descr="98BD9F5"/>
          <p:cNvPicPr/>
          <p:nvPr/>
        </p:nvPicPr>
        <p:blipFill>
          <a:blip r:embed="rId2"/>
          <a:srcRect l="49630" t="18337" r="15294" b="28497"/>
          <a:stretch/>
        </p:blipFill>
        <p:spPr>
          <a:xfrm>
            <a:off x="0" y="1708200"/>
            <a:ext cx="4191120" cy="51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Juxtaglomerular apparatu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has 3 compon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The macula dens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distal tubule: Tall cells with centrally-placed nucl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Juxtaglomerular cell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fferent glomerular arteriole (modified smooth muscle of tunica media). Nuclei are round with granular cytoplas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They secrete renin, and angiotens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9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-The extraglomerul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sangial cell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2" descr="C:\Documents and Settings\Aly\My Documents\back\Janquira Images\19\F19_21.jpg"/>
          <p:cNvPicPr/>
          <p:nvPr/>
        </p:nvPicPr>
        <p:blipFill>
          <a:blip r:embed="rId1"/>
          <a:stretch/>
        </p:blipFill>
        <p:spPr>
          <a:xfrm>
            <a:off x="5791320" y="3733920"/>
            <a:ext cx="33526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Aly\My Documents\My Pictures\kidney0221he.jpg"/>
          <p:cNvPicPr/>
          <p:nvPr/>
        </p:nvPicPr>
        <p:blipFill>
          <a:blip r:embed="rId1"/>
          <a:stretch/>
        </p:blipFill>
        <p:spPr>
          <a:xfrm>
            <a:off x="1752480" y="228600"/>
            <a:ext cx="624852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nal Caly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calyx accepts urine from the renal papilla of a renal pyram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lined with transitional epith., lamina propria and smooth mus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or calyces merge to form major calyces (with same lining tissue as minor calyc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calyces open in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pelv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25C78913"/>
          <p:cNvPicPr/>
          <p:nvPr/>
        </p:nvPicPr>
        <p:blipFill>
          <a:blip r:embed="rId1"/>
          <a:srcRect l="30592" t="20588" r="35778" b="49514"/>
          <a:stretch/>
        </p:blipFill>
        <p:spPr>
          <a:xfrm>
            <a:off x="4775040" y="4267080"/>
            <a:ext cx="4368960" cy="24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Ure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334080" indent="-334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os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formed of transitional epith. and lamina prop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Muscular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muscular coat):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Is formed of 2 layers of smooth muscle in the upper  2/3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-  Inner longitud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-   Outer cir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3001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Is formed of 3 layers of smooth muscle in the lower 1/3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-  Inner longitudinal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-  Middle cir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-   Outer longitud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. Adventi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brous C.T. covering.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.B.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o sero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AE4A960F"/>
          <p:cNvPicPr/>
          <p:nvPr/>
        </p:nvPicPr>
        <p:blipFill>
          <a:blip r:embed="rId1"/>
          <a:srcRect l="0" t="15719" r="62354" b="38691"/>
          <a:stretch/>
        </p:blipFill>
        <p:spPr>
          <a:xfrm>
            <a:off x="3657600" y="3857760"/>
            <a:ext cx="2895480" cy="2363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6553080" y="3862440"/>
            <a:ext cx="2590920" cy="19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Urinary bladd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the same structure as the lower third of ure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erficial layer of  transitional epithelium has dome-shaped cells (in empty bladd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3 layers of smooth muscle: inner and outer longitudinal  (thin) and middle circular (thick) lay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outer covering is adventi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sero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8" descr="D1B010FD"/>
          <p:cNvPicPr/>
          <p:nvPr/>
        </p:nvPicPr>
        <p:blipFill>
          <a:blip r:embed="rId1"/>
          <a:srcRect l="72552" t="34776" r="982" b="39295"/>
          <a:stretch/>
        </p:blipFill>
        <p:spPr>
          <a:xfrm>
            <a:off x="5562720" y="3624120"/>
            <a:ext cx="2646360" cy="3233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D1B010FD"/>
          <p:cNvPicPr/>
          <p:nvPr/>
        </p:nvPicPr>
        <p:blipFill>
          <a:blip r:embed="rId2"/>
          <a:srcRect l="39295" t="27453" r="23772" b="41181"/>
          <a:stretch/>
        </p:blipFill>
        <p:spPr>
          <a:xfrm>
            <a:off x="1981080" y="4646520"/>
            <a:ext cx="312444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9" descr=""/>
          <p:cNvPicPr/>
          <p:nvPr/>
        </p:nvPicPr>
        <p:blipFill>
          <a:blip r:embed="rId1"/>
          <a:stretch/>
        </p:blipFill>
        <p:spPr>
          <a:xfrm>
            <a:off x="2590920" y="3889440"/>
            <a:ext cx="4138560" cy="2816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2286000" y="304920"/>
            <a:ext cx="5029200" cy="3422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ny</dc:creator>
  <dc:description/>
  <dc:language>en-US</dc:language>
  <cp:lastModifiedBy>Aly Mohamed</cp:lastModifiedBy>
  <dcterms:modified xsi:type="dcterms:W3CDTF">2015-04-15T08:50:35Z</dcterms:modified>
  <cp:revision>1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