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32.jpeg" ContentType="image/jpeg"/>
  <Override PartName="/ppt/media/image40.jpeg" ContentType="image/jpe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559B-F117-43E0-A2C9-EE7ACC91D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C61A-E876-4DF8-9982-04B47A83F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7C7-E76B-4B9C-AB89-3C5CDB42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AD1-CC3A-469F-BF43-A5201501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357-EEB2-4BA4-A150-DD0F4355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319-6530-4C10-9B85-5996B246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A52-6796-425E-9626-8BFB7AA4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361-6781-47E7-BBB1-51C71C42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976-3174-40CE-BC92-D48A26D8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B6A-72BD-458E-95CE-06CD08C0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F85-F308-48D8-ABCB-8A5A19A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0F8-ED64-40AA-820E-6758D9E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B39-3625-4104-B671-74E3B216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A7B-AC2E-40FD-ABD9-2BF90DA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B485-BD46-4AB2-BC1E-2EBADDD9E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medlib.med.utah.edu/WebPath/jpeg1/RENAL085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762120" y="3913200"/>
            <a:ext cx="73152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28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7-14 days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haryngitis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4-21 days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(</a:t>
            </a: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skin infectio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brupt onset (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ute nephritic syndr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rep antigens trigger antibodies that cross-react to glomerul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during filtration in the glomerulus deposit  in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activate co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60480" y="96840"/>
            <a:ext cx="8778600" cy="1085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Caused by known streptococcal types called: nephritic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hildren bacterial culture will b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 –streptolysin-O antibody(ASO) will be the only        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-DNAse B titre is a better indicator of          streptococcal skin sepsis than the ASO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holesterol and lipids in skin suppress the ASO antibody response but not the anti-DNAse B antibody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381880" cy="122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ve GN (PG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28600" y="2362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on of glomerular cel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infiltration  of leukocytes  (especially neutroph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80880" y="417996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ypical features of immune complex dise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Hypocomplement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Granular deposits of IgG &amp; complement on G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EB72-5001-4E86-A601-8F2187E98972}" type="slidenum">
              <a:rPr b="1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RENAL086"/>
          <p:cNvPicPr/>
          <p:nvPr/>
        </p:nvPicPr>
        <p:blipFill>
          <a:blip r:embed="rId1"/>
          <a:stretch/>
        </p:blipFill>
        <p:spPr>
          <a:xfrm>
            <a:off x="0" y="3429000"/>
            <a:ext cx="2590920" cy="2411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04920" y="5867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deposits are distribute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 the capillary loops in a granular, bumpy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ttern because of the focal nature of the deposi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ENAL0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2590920" cy="227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ost streptococcal nephritis.jpg"/>
          <p:cNvPicPr/>
          <p:nvPr/>
        </p:nvPicPr>
        <p:blipFill>
          <a:blip r:embed="rId5"/>
          <a:stretch/>
        </p:blipFill>
        <p:spPr>
          <a:xfrm>
            <a:off x="2590920" y="1143000"/>
            <a:ext cx="62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8600" y="1981080"/>
            <a:ext cx="8763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lowly progressiv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form of chronic immune-complex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common between 30 - 50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Memb_illustrationcapillary.jpg"/>
          <p:cNvPicPr/>
          <p:nvPr/>
        </p:nvPicPr>
        <p:blipFill>
          <a:blip r:embed="rId1"/>
          <a:stretch/>
        </p:blipFill>
        <p:spPr>
          <a:xfrm>
            <a:off x="50760" y="609480"/>
            <a:ext cx="904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55440" y="-92160"/>
            <a:ext cx="8710560" cy="12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5228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t is a chronic progressive glomerulonephritis that occur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lder children and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main typ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Type I MPGN</a:t>
            </a:r>
            <a:r>
              <a:rPr b="0" lang="en-US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(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have been ident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in association with hepatitis B&amp;C antigenemi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tra-renal infections  or S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endothelial and mesangial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po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F membranoproliferative I.jpg"/>
          <p:cNvPicPr/>
          <p:nvPr/>
        </p:nvPicPr>
        <p:blipFill>
          <a:blip r:embed="rId2"/>
          <a:stretch/>
        </p:blipFill>
        <p:spPr>
          <a:xfrm>
            <a:off x="5715000" y="2320920"/>
            <a:ext cx="34290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Type II MPGN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lso known a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se deposit diseas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fundamental  abnormality i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cessive complement acti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patients have autoantibod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gainst C3 convertase called: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3 nephritic factor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membranous dense depos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IF MEM PROF II.jpg"/>
          <p:cNvPicPr/>
          <p:nvPr/>
        </p:nvPicPr>
        <p:blipFill>
          <a:blip r:embed="rId1"/>
          <a:stretch/>
        </p:blipFill>
        <p:spPr>
          <a:xfrm>
            <a:off x="5932440" y="3886200"/>
            <a:ext cx="3211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obr4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99" name="Down Arrow 4"/>
          <p:cNvSpPr/>
          <p:nvPr/>
        </p:nvSpPr>
        <p:spPr>
          <a:xfrm>
            <a:off x="6781680" y="2057400"/>
            <a:ext cx="152640" cy="16765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244440" y="3906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5228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 most common from of primary glomerulonephritis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ffects children and you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Begins as an episode of gross hematuria that occurs within 1-2 days of a non specific upper respiratory tract 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nderstand the importance of immun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the pathogenesis of renal inju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earn that immune complexes form in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on and may deposit in different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is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nderstand the dynamics of deposition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which depend on the size and rat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dentify the different types of renal disease based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n the site of deposition of the immune complex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04560" y="15235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athogenic hallmark i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position of IgA &amp; complement C3 in th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sangi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re is evidence of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complement by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 alternativ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thway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serum complement C2 and C4 will b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rm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IgA.jpg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This immunofluorescence pattern demonstrates positivity with antibody to IgA. The pattern is that of mesangial deposition in the glomerulus. This is IgA nephropat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286000" y="152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4a2"/>
                </a:solidFill>
                <a:latin typeface="Calibri"/>
                <a:ea typeface="Arial"/>
              </a:rPr>
              <a:t>IgA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-360" y="1523880"/>
            <a:ext cx="8839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PGN is a clinical syndrome and not a specific form of 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ases the glomerular injury is immunologically med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practical classification divides CrGN  into three groups on the basis of immunologic find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health-writings.com/img/oy/membrane-glomerulonephritis/rapidly_progressive_crescentic_glomerulonephritis_02.jpg"/>
          <p:cNvPicPr/>
          <p:nvPr/>
        </p:nvPicPr>
        <p:blipFill>
          <a:blip r:embed="rId1"/>
          <a:stretch/>
        </p:blipFill>
        <p:spPr>
          <a:xfrm>
            <a:off x="0" y="1003320"/>
            <a:ext cx="8991720" cy="586404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4" descr=""/>
          <p:cNvPicPr/>
          <p:nvPr/>
        </p:nvPicPr>
        <p:blipFill>
          <a:blip r:embed="rId2"/>
          <a:stretch/>
        </p:blipFill>
        <p:spPr>
          <a:xfrm>
            <a:off x="-176040" y="55440"/>
            <a:ext cx="93200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linear deposition of IgG and C3 on the G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Goodpasture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bodies bind also in the pulmonary    alveolar capillary basement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anti gbm1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as a complication of any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complex nephrit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 infect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gA nephropat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stic granular (lumpy-bumpy) pattern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ining of the GBM for immunoglobulin &amp; comple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md_99-08-0054.jpg"/>
          <p:cNvPicPr/>
          <p:nvPr/>
        </p:nvPicPr>
        <p:blipFill>
          <a:blip r:embed="rId1"/>
          <a:stretch/>
        </p:blipFill>
        <p:spPr>
          <a:xfrm>
            <a:off x="228600" y="990720"/>
            <a:ext cx="8705880" cy="586728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4" descr=""/>
          <p:cNvPicPr/>
          <p:nvPr/>
        </p:nvPicPr>
        <p:blipFill>
          <a:blip r:embed="rId2"/>
          <a:stretch/>
        </p:blipFill>
        <p:spPr>
          <a:xfrm>
            <a:off x="-55440" y="23760"/>
            <a:ext cx="904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Defined by the lack of anti-GBM anti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ost cases are  associated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-neutrophil cytoplasmic antibodi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rum (ANCA) and systemic vascul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pauci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093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80880" y="6211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Granular staining (Immune comp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733920" y="6211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Linear s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(Anti-G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6248520" y="6172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No antibody st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(Pauci associated with vasculit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GNspectrumB.gif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04920" y="152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of antibody with various microbial OR  self antigens induce type II or III hypersensitivity reactions in the kidne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086600" y="5105520"/>
            <a:ext cx="1676520" cy="1218960"/>
          </a:xfrm>
          <a:prstGeom prst="rect">
            <a:avLst/>
          </a:prstGeom>
          <a:solidFill>
            <a:srgbClr val="fdea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lam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5029200"/>
            <a:ext cx="160020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jury to renal 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91320" y="3276720"/>
            <a:ext cx="838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09680" y="32767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191120" y="38098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8"/>
          <p:cNvSpPr/>
          <p:nvPr/>
        </p:nvSpPr>
        <p:spPr>
          <a:xfrm>
            <a:off x="6172200" y="3886200"/>
            <a:ext cx="380880" cy="15238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9"/>
          <p:cNvSpPr/>
          <p:nvPr/>
        </p:nvSpPr>
        <p:spPr>
          <a:xfrm>
            <a:off x="4267080" y="4114800"/>
            <a:ext cx="381240" cy="143496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0"/>
          <p:cNvSpPr/>
          <p:nvPr/>
        </p:nvSpPr>
        <p:spPr>
          <a:xfrm>
            <a:off x="2209680" y="3886200"/>
            <a:ext cx="228600" cy="1816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425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underly the pathogenesis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ny of the glomerulo-nephrit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the complement system is an integral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rt of the process, and measurement of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ment proteins help in diagnosis and follow-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p of pati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ofluoresence of renal biopsy demonstrat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resence of immune complexes and confirm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agn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1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52801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384120" y="49320"/>
            <a:ext cx="8534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eeningslide20080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176040" y="128520"/>
            <a:ext cx="8510760" cy="120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accumulate in tissues where filtration of plasma occurs. This explains the high incidenc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lomerulonephritis (deposition in the   kidn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asculitis (deposition in the arteri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thritis (deposition in the synovial j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ntroduction-NIER_01.png"/>
          <p:cNvPicPr/>
          <p:nvPr/>
        </p:nvPicPr>
        <p:blipFill>
          <a:blip r:embed="rId1"/>
          <a:stretch/>
        </p:blipFill>
        <p:spPr>
          <a:xfrm>
            <a:off x="2631960" y="1998720"/>
            <a:ext cx="6512040" cy="48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sCAMCCZKX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stock-photo-scheme-of-a-nephron-dissected-in-which-we-can-see-inside-72413677.jpg"/>
          <p:cNvPicPr/>
          <p:nvPr/>
        </p:nvPicPr>
        <p:blipFill>
          <a:blip r:embed="rId3"/>
          <a:stretch/>
        </p:blipFill>
        <p:spPr>
          <a:xfrm>
            <a:off x="0" y="2666880"/>
            <a:ext cx="26701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048120" y="304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Nephron and glomer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weeningslide200809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ntibody-mediated Inju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mbran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IgA nephropat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embranoproliferative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Post infecti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ntiglomerular basement membrane dise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6:13:51Z</dcterms:created>
  <dc:creator>Dr.Hazem</dc:creator>
  <dc:description/>
  <dc:language>en-US</dc:language>
  <cp:lastModifiedBy>Dr.Hend</cp:lastModifiedBy>
  <dcterms:modified xsi:type="dcterms:W3CDTF">2015-04-29T05:19:17Z</dcterms:modified>
  <cp:revision>116</cp:revision>
  <dc:subject/>
  <dc:title>Immunology of  nephritis.</dc:title>
</cp:coreProperties>
</file>