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32.jpeg" ContentType="image/jpeg"/>
  <Override PartName="/ppt/media/image40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8711-4CF7-4501-B8A0-1DBB4135D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F61C-C491-46AB-878A-3AAB87786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FF6-D958-433D-AF3C-91E6253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56CC-C2BE-4F14-931A-A44BFB3F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82D4-0411-4E74-A85F-BECCD53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710-C12D-48F5-B970-E08691D4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7DC-2DCF-4980-BB4D-A3265E83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DE7-D83E-4368-A0F1-F95F6ECE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9B8-EF02-4413-8B6E-886DC44E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7B9-43EA-4365-B560-EE07942E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63C-1F9C-4697-94A3-CB72F872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D342-450F-4784-AEE1-568A0575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814-1F03-4F4C-B3C3-B48FD501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E99-EC64-4573-8801-28DDD39C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9B11-7500-4C8C-8FBD-EFD36F965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762120" y="3913200"/>
            <a:ext cx="73152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haryngiti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skin infec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 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8088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FE1F-1E08-4D0D-96D1-9E98AA08648A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55440" y="-92160"/>
            <a:ext cx="8710560" cy="12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IF MEM PROF II.jpg"/>
          <p:cNvPicPr/>
          <p:nvPr/>
        </p:nvPicPr>
        <p:blipFill>
          <a:blip r:embed="rId1"/>
          <a:stretch/>
        </p:blipFill>
        <p:spPr>
          <a:xfrm>
            <a:off x="5932440" y="3886200"/>
            <a:ext cx="321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the pathogenesis 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which depend on 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 the site of deposition 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4a2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underly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p 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Dr.Hend</cp:lastModifiedBy>
  <dcterms:modified xsi:type="dcterms:W3CDTF">2015-04-29T05:19:17Z</dcterms:modified>
  <cp:revision>116</cp:revision>
  <dc:subject/>
  <dc:title>Immunology of  nephritis.</dc:title>
</cp:coreProperties>
</file>