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19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37.png" ContentType="image/png"/>
  <Override PartName="/ppt/media/image7.png" ContentType="image/png"/>
  <Override PartName="/ppt/media/image34.jpeg" ContentType="image/jpeg"/>
  <Override PartName="/ppt/media/image3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6F91-7852-49AC-B2E6-D003BEBE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2F46-E4AE-4DD1-911D-ABC546E4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5737-473A-4B42-A105-B747800D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C2CB-DE80-484F-9777-958D3101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6115-6C87-472B-B655-E624B2ED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960D-50E9-4FFD-8144-91249096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4B39-DE68-4AA2-95DF-C70D5885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2CB6-DE11-4B5F-A7AD-788FDECF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3E21-C1AD-420D-BBF1-EBD1B43D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1D8B-11E3-4ED6-8EE8-2E187FE6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D970-96AB-4D50-BF10-F9D2E02E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7597-9028-47F3-B8E2-B22F9D0B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20E8-B8DC-4D94-A055-5AF9F2BE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809B-520C-4642-B4D3-790BCDFC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12F3-1560-4CFF-AFEE-14F2E0FE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513E-9D75-48BD-BE77-6BC3E93C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0D02-E786-4911-8174-86885B1C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D8427-0928-4897-B0CC-38D2E47D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899D8-B54E-4B79-B4C7-7EDDEC3B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6C8C1-69A5-4643-B555-E689D3B7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5CCB9-5EE5-446E-80E7-F5CD8689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53513-A573-40C4-A9A3-1E863C5D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A6ED-C4CC-4495-9AFF-FDAA2476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12950-0340-4226-90C0-4B8F86F9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D4BAD-CF1D-4287-B4E8-831580CA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F869F-3306-4C1B-A03F-1F61B9EB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3E19F-3D6C-4BB4-9A28-DE9E8455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668DC-D60E-4EE4-8390-E5C077A8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33C56-53D4-4973-94D2-B3E8B912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C65C9-F388-49D7-9439-43F11E8E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98EF6-11CA-4B29-A823-0ACD4E6B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8F04C-DFE6-45A5-9B84-40258520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60C92-43C0-4A52-822B-6D55F50E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5E5-F5A1-471E-9A5B-B090C166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06C55-A3C4-4BF2-9BF9-2FFC26DC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1FC05-9A34-41A5-B392-C7E8DD4C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0F562-239E-4703-B346-64BC308B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D0445-408A-43FC-8582-BF706627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49CBF-6211-4162-BA9E-A5082766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CD879-2ED8-48B8-BFC2-4CD79B90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0F8D0-8B01-440A-AB42-7CBD0F23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0DFF5-535D-4446-99E0-30F85AD5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DFD7A-8DC0-41F0-A34E-C7D4E1A1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A0AEC-F874-4228-B8B1-D3EBC2AC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3927-2CA0-4D47-8929-BBEF90C2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D57D6-2878-4D87-BD29-48E3994B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391B4-3431-48EE-BAB4-DE633EE2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2BBC9-D034-4D1A-8A40-6A9962C5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7EACD-5CAF-4B6B-8706-41127472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D4D00-4969-4778-A532-E830182B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58F79-CB17-4D88-A861-D050F44E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C5F26-3583-4EAF-8F1E-49EC3FE5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728C9-59F6-4C64-8FBC-ACCEFFFC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2C933-2B96-4056-B026-51A4490F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BD788-EE39-4C88-A29D-B82CBD1C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4B16-1E58-4C6C-AF95-3E338336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3EE7E-6AC0-43CB-A402-F5C0681D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C1A5D-525C-485B-A423-224F8319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94FDC-2180-454A-82A2-7A70BDFF5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A0953-A534-4854-B831-328FEF72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3F053-C31E-4AF1-8F36-0A5D1F11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C3603-73EC-42F4-8540-0A67D489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CC41D-765B-4549-B175-10F83478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CA481-2BC1-495A-A215-5E5518AA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D1E07-BD3E-4CE6-A333-57050188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F1013-5EAB-4C93-946A-05B13BC7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5DFA-9BEB-4E39-AF50-4BD40137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5A481-2E80-433F-808A-60E2559A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80EE9-98B5-4041-BB18-41D3C7A6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BDA50-9322-4CBD-AEE4-3C05A038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E2948-08B3-4E1D-892A-0191ADDA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0B488-2EE8-46C3-9DF0-9AFA1A36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A4B97-FC9A-4B30-882E-F7AD26CA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B58E1-6D64-4369-8207-AA96B578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1B48C-833B-4A6E-B904-45ACFFFB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64F3A-A00A-4576-A622-41D985BD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B78BA-F041-4C8C-A71A-A1263020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CF9C-664E-4A81-901A-E04B6E61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C01AD-AE99-46BE-B26C-8A9DE193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1B957-82E6-4F0E-885D-B861D6A7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77CCB-36DF-40AE-99F0-87460A9B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02BBE-2E7A-4361-8C01-43831294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20FC0-0A41-4122-BDDE-9F9B7D26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739F1-3C7E-4A12-9E9E-E37AF497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29FCA-1165-477C-A908-0F9B018C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8C93C-F82F-41C0-BCBD-6AC2EC57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FCC89-D7FC-41ED-86F4-C41C6AB0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2FBF6-C400-4C84-BB52-6D86F718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39D5-DA1C-4DF8-9C82-49EB1EF7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605FA-98E8-4906-8104-FD40226F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65B07-5816-46B4-A7B4-036A6274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F68F5-DCFE-4A0B-90D6-DAD05018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D44FE-E92C-4A60-A1C5-899F9D70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59928-A34D-44F8-9083-D3EF04D1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260FA-ED2E-49E0-A24C-E1842FFB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FC4C0-3A16-4D33-8B48-CD6517D8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2A88-DBC5-4FBD-9DEC-DF39734910EB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131E-A883-408B-99B1-54F0DDD607DA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800F-3946-4E90-96D8-918BA32B20B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57DF-01F7-49FC-B139-BB3B3D5FE1D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0601-FB50-4F29-8F12-220710A6EDE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AFAC-F83E-4151-A247-42709E79481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D2DB-F9B8-4DE7-AB2C-CAC91ADA42E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FA5A-FC81-49B9-9D77-BB8EB3351161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rds.yahoo.com/_ylt=A0WTefVU8X9KddYAU3qJzbkF;_ylu=X3oDMTBqaWRlZWhnBHBvcwMxOQRzZWMDc3IEdnRpZAM-/SIG=1hsj07btk/EXP=1249985236/**http%3A//images.search.yahoo.com/images/view%3Fback=http%253A%252F%252Fimages.search.yahoo.com%252Fsearch%252Fimages%253F_adv_prop%253Dimage%2526va%253Durinary%252Btract%2526fr%253Dyfp-t-203%26w=100%26h=100%26imgurl=health.discovery.com%252Fcenters%252Fwomens%252Futi%252Fgallery%252Furinarytractinfect.jpg%26rurl=http%253A%252F%252Fhealth.discovery.com%252Fcenters%252Fwomens%252Futi%252Futi.html%26size=5k%26name=urinarytractinfe...%26p=urinary%2Btract%26oid=f0632d2faa766c5e%26fr2=%26no=19%26tt=20905%26sigr=11nj1c6l2%26sigi=126f690vh%26sigb=12q4sjmgn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rds.yahoo.com/_ylt=A0WTefai839Kq8QA_2mJzbkF;_ylu=X3oDMTBpaWhqZmNtBHBvcwMzBHNlYwNzcgR2dGlkAw--/SIG=1jkbqh9gc/EXP=1249985826/**http%3A//images.search.yahoo.com/images/view%3Fback=http%253A%252F%252Fimages.search.yahoo.com%252Fsearch%252Fimages%253Fp%253DIMAGES%252BOF%252Bpyelonephritis%2526ei%253Dutf-8%2526y%253DSearch%2526fr%253Dyfp-t-203%26w=340%26h=361%26imgurl=www.lifeline.de%252Fimg%252Fll%252F4%252F33763__nierenanatomie_schematisch_f.jpg%26rurl=http%253A%252F%252Fwww.lifeline.de%252Fcda%252Fkrankheit_therapie%252Fkrankheitenlexikon%252Fcontent-131428.html%26size=21k%26name=33763%2Bnierenanat...%26p=IMAGES%2BOF%2Bpyelonephritis%26oid=24680555e299eb18%26fr2=%26no=3%26tt=356%26sigr=12kbh941s%26sigi=120045c0u%26sigb=136l01edg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rds.yahoo.com/_ylt=A0WTefai839Kq8QABWqJzbkF;_ylu=X3oDMTBpdDZuNzZrBHBvcwM5BHNlYwNzcgR2dGlkAw--/SIG=1k9agvj0s/EXP=1249985826/**http%3A//images.search.yahoo.com/images/view%3Fback=http%253A%252F%252Fimages.search.yahoo.com%252Fsearch%252Fimages%253Fp%253DIMAGES%252BOF%252Bpyelonephritis%2526ei%253Dutf-8%2526y%253DSearch%2526fr%253Dyfp-t-203%26w=1093%26h=1950%26imgurl=www.vetmed.wsu.edu%252Fcourses_vm546%252FContent_Links%252FDfDx%252FRenal_Disease%252FKidney.jpg%26rurl=http%253A%252F%252Fwww.vetmed.wsu.edu%252Fcourses_vm546%252FContent_Links%252FDfDx%252FRenal_Disease%252Fpyelonephritis.htm%26size=171k%26name=Kidney%2Bjpg%26p=IMAGES%2BOF%2Bpyelonephritis%26oid=8f8ac242a9960414%26fr2=%26no=9%26tt=356%26sigr=12rim8m3m%26sigi=12cl110m7%26sigb=136l01edg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rds.yahoo.com/_ylt=A0WTbx849H9KOVwAc.2JzbkF;_ylu=X3oDMTBqZDFlYmxzBHBvcwMxNgRzZWMDc3IEdnRpZAM-/SIG=1m5ljtl25/EXP=1249985976/**http%3A//images.search.yahoo.com/images/view%3Fback=http%253A%252F%252Fimages.search.yahoo.com%252Fsearch%252Fimages%253Fp%253DIMAGES%252BOF%252Burethritis%2526ei%253Dutf-8%2526y%253DSearch%2526fr%253Dyfp-t-203%26w=450%26h=303%26imgurl=www.co.hennepin.mn.us%252Ffiles%252FHCInternet%252FStatic%252520Files%252FNGonorrhoeaeGonococci450.jpg%26rurl=http%253A%252F%252Fwww.co.hennepin.mn.us%252Fportal%252Fsite%252FHCInternet%252Fmenuitem.3f94db53874f9b6f68ce1e10b1466498%253Fvgnextoid%253D8d09954fc658e010VgnVCM1000000f094689RCRD%26size=16k%26name=NGonorrhoeaeGono...%26p=IMAGES%2BOF%2Burethritis%26oid=53c2c66a762b5802%26fr2=%26no=16%26tt=260%26sigr=14gcusqhq%26sigi=12icjd42m%26sigb=132ul7ibh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Rw9H9KgxcAHgOJzbkF;_ylu=X3oDMTBqNzBoY2J0BHBvcwMxNARzZWMDc3IEdnRpZAM-/SIG=1hicubc3j/EXP=1249986032/**http%3A//images.search.yahoo.com/images/view%3Fback=http%253A%252F%252Fimages.search.yahoo.com%252Fsearch%252Fimages%253Fp%253DIMAGES%252BOF%252Bvesicoureteral%252Breflux%26w=289%26h=419%26imgurl=www.urologyhealth.org%252Fcommon%252Fimages%252Fanatomy_Vesicoureteral_reflux_GrV.jpg%26rurl=http%253A%252F%252Fwww.urologyhealth.org%252Fpicturepopup.cfm%253Fid%253D40%26size=17k%26name=anatomy%2BVesicour...%26p=IMAGES%2BOF%2Bvesicoureteral%2Breflux%26oid=63a886132f2f0588%26fr2=%26no=14%26tt=178%26sigr=11jke6rh0%26sigi=129sq04ul%26sigb=12eqoaevf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rds.yahoo.com/_ylt=A0WTefRw9H9KgxcAIAOJzbkF;_ylu=X3oDMTBqZDFlYmxzBHBvcwMxNgRzZWMDc3IEdnRpZAM-/SIG=1gok0m0hb/EXP=1249986032/**http%3A//images.search.yahoo.com/images/view%3Fback=http%253A%252F%252Fimages.search.yahoo.com%252Fsearch%252Fimages%253Fp%253DIMAGES%252BOF%252Bvesicoureteral%252Breflux%26w=326%26h=400%26imgurl=urology.jhu.edu%252Fpediatric%252Fdiseases%252Fimg%252Freflux2.jpg%26rurl=http%253A%252F%252Furology.jhu.edu%252Fpediatric%252Fdiseases%252Freflux.php%26size=80k%26name=reflux2%2Bjpg%26p=IMAGES%2BOF%2Bvesicoureteral%2Breflux%26oid=0cbf8b2df6cc48e0%26fr2=%26no=16%26tt=178%26sigr=11kp5csa9%26sigi=11igb208h%26sigb=12eqoaevf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rds.yahoo.com/_ylt=A0WTefgH8n9K6V4Afl6JzbkF;_ylu=X3oDMTBqMjRpazg1BHBvcwMxMARzZWMDc3IEdnRpZAM-/SIG=1kdeliksb/EXP=1249985415/**http%3A//images.search.yahoo.com/images/view%3Fback=http%253A%252F%252Fimages.search.yahoo.com%252Fsearch%252Fimages%253Fp%253DIMAGES%252BOF%252BCATHETER%252BURINE%2526ei%253Dutf-8%2526fr%253Dyfp-t-203%26w=143%26h=150%26imgurl=images.clipartof.com%252Fthumbnails%252F6309-Obese-Man-With-A-Medical-Condition-That-Requires-The-Use-Of-A-Catheter-And-Urine-Bag-Clipart-Picture.jpg%26rurl=http%253A%252F%252Fwww.clipartof.com%252Fdetails%252Fclipart%252F18281.html%26size=8k%26name=Obese%2BMan%2Bwith%2Ba...%26p=IMAGES%2BOF%2BCATHETER%2BURINE%26oid=e8e6c8f92ee9efaa%26fr2=%26no=10%26tt=289%26sigr=11j131ckp%26sigi=14devs4a1%26sigb=12t8dt0lt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gH8n9K6V4Ael6JzbkF;_ylu=X3oDMTBpY2Y5NXNiBHBvcwM2BHNlYwNzcgR2dGlkAw--/SIG=1glgmfm5u/EXP=1249985415/**http%3A//images.search.yahoo.com/images/view%3Fback=http%253A%252F%252Fimages.search.yahoo.com%252Fsearch%252Fimages%253Fp%253DIMAGES%252BOF%252BCATHETER%252BURINE%2526ei%253Dutf-8%2526fr%253Dyfp-t-203%26w=175%26h=221%26imgurl=www.surgicalsindia.com%252Fgifs%252Furine-bags.jpg%26rurl=http%253A%252F%252Fwww.surgicalsindia.com%252Furine-bags.html%26size=11k%26name=urine%2Bbags%2Bjpg%26p=IMAGES%2BOF%2BCATHETER%2BURINE%26oid=58bb0e0e4fc8b318%26fr2=%26no=6%26tt=289%26sigr=11dgqls7h%26sigi=11a1jngv0%26sigb=12t8dt0lt" TargetMode="External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2560" y="1384200"/>
            <a:ext cx="778500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Prof.Hanan Habib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recurrent UTI is related to sexual activity, and episodes recur more than 2 times within 6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single preventive dose taken immediately after intercours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tibiotics include: TMP-SMX, Cephalexin or Ciprofloxac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ptional for patients who do not respond to other measur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Reduces recurrence by up to 95%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ow dose antibiotic taken continuously for 6 months or longer, it includes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TMP-SMX, Nitrofurantoin, or Cephalex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tibiotic taken at bed time more effecti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tients with fever, chills and flank pain ,but they are healthy non-pregnant ,not nauseous or vomiting with no signs of kidney involve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Can be treated at home with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oral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 antibiotics for 14 days with one of the following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Cephalosporins, Amoxicillin-Clavulanate, Ciprofloxacin or TMP-SM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rst dose may be given by inj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urine culture may be obtained within one week of completion of therapy and again after 4 week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28195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Patients need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hospitaliz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tibiotic given by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V route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3-5 days until symptoms relieved for 24-48 h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fever and back pain continue after 72 hrs of antibiotic, 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imaging tes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dicated to exclude abscesses, obstruction or other abnormalit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se patients need long-term antibiotic treatment even during periods when they have no sympto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335268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1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2971800"/>
            <a:ext cx="2743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Pregnant wo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gh risk for UTI and complic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ould be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creene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or U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Antibiotics during pregnancy includes;</a:t>
            </a:r>
            <a:r>
              <a:rPr b="0" lang="en-US" sz="2700" spc="-1" strike="noStrike">
                <a:solidFill>
                  <a:srgbClr val="ffff00"/>
                </a:solidFill>
                <a:latin typeface="Lucida Sans Unicode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moxicillin, Ampicillin, Cephalosporins, and Nitrofurantoi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gnant women should 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ake Quinolo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61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gnant women with 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symptomatic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bacteriuria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( evidence of infection but n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symptoms)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ave 30% risk for acute pyelonephritis in the second or third trimest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creening and 3-5 days antibiotic need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uncomplicated UTI, need 7-10 days antibiotic treat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ve more frequent and more sever UT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eated for 7-14 days with antibiotics even patients with uncomplicated infection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quire 7days regimen of 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Doxycyclin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single dose 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zithromycin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ay be effective but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not recommende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to avoid spread to the prostate gla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Patients should also be tested for accompanying STD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3809880"/>
            <a:ext cx="2286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k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ow the principal goal of management of urinary tract infection (UT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derstand that management of UTI depends on several factor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now that antibiotics are the main treatment of UTI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now the  management/treatment of different conditions of UTI (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cystitis,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yelonephritis, catheter associated UTI ,etc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ually treated with TMP-SMX or Cephalexi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imes given as IV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ntamicin may be recommended as resistance to Cephalexin is increas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mon in children with U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lead to pyelonephritis and kidney damag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Long-term antibiotic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plus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 surgery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to correct VUR and prevent infect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ute kidney infection : us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efixim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Suprax)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2-4 day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entamici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a one daily dose. Oral antibiotic then follows IV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1676520"/>
            <a:ext cx="2286000" cy="32004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1905120"/>
            <a:ext cx="2266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ry comm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ventive measures import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Catheter should not be used unless absolutely necessary and they should be removed as soon as possible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231840" y="139680"/>
            <a:ext cx="8461440" cy="13111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1680" y="37339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447920"/>
            <a:ext cx="2590560" cy="31240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Go to fullsize image"/>
          <p:cNvPicPr/>
          <p:nvPr/>
        </p:nvPicPr>
        <p:blipFill>
          <a:blip r:embed="rId3"/>
          <a:stretch/>
        </p:blipFill>
        <p:spPr>
          <a:xfrm>
            <a:off x="1143000" y="1523880"/>
            <a:ext cx="2590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catheter is required for long periods ,it is best to be used intermittent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y be replaced every 2 weeks to reduce risk of infection and irrigating bladder with antibiotics between replac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Lucida Sans Unicode"/>
              </a:rPr>
              <a:t>Daily hygiene and use of closed system to prevent inf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Catheterized patients who develop UTI with symptoms or at risk for sepsis should be treated for each episode with antibiotics and catheter should be removed, if possib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ssociated organisms are constantly chang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y be multiple species of bacteri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Antibiotic use for prophylaxis is rarely recommended since high bacterial counts present and patients do not develop symptomatic UT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TIBIOTIC THERAPY HAS LITTLE BENEFIT IF THE CATHETER IS TO REMAIN IN PLACE FOR LONG PERIO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incipal goal of management of UTI is to eradicate the offending organisms from the urinary bladder and tissu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ain treatment of UTI is by antibiotic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268200" y="225360"/>
            <a:ext cx="85042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ther infection is complicated or uncomplicat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ther infection is primary or recurr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ype of patient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 pregnant ,child , hospitalized or not, diabetic patient,…..etc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acterial cou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sence of sympto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w-risk patient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woman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recurrent inf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27a8f"/>
                </a:solidFill>
                <a:latin typeface="Lucida Sans Unicode"/>
              </a:rPr>
              <a:t>3 days antibiotic without urine te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re rate 94%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Choice of antibiotic depend on susceptibility pattern of bacteria, it includes 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moxicillin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with or without clavulanat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ephlosporins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first or second generation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luoroquinolone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 ciprofloxacin or norfloxaci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not for pregnant women or children)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 ,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rst choice if other antibiotics are resista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MP-SMX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 trade names: Bactrim, Septra  ,Cotrimoxazol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itrofurantoin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 for long term us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aused by treatment failure or structural abnormalities or abscess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ntibiotics used at the initial inf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reatment for 7-14 day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tients with two or more symptomatic UTIs within 6 months or 3 or more over a ye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Lucida Sans Unicode"/>
              </a:rPr>
              <a:t>Need preventive therap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Lucida Sans Unicode"/>
              </a:rPr>
              <a:t>Antibiotic taken as soon as symptoms develop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infection occurs less than twice a year, 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lean catch urine test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hould be taken for cultu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treated as initial attack for 3 day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f symptoms persi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 change in sympto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regnant wo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ore than 4 infections per ye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mpaired immune syst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revious kidney infe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tructural abnormalities of urinary tra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istory of infection with antibiotic resistant bacteri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9T11:30:51Z</dcterms:created>
  <dc:creator>Dr.Hannan</dc:creator>
  <dc:description/>
  <dc:language>en-US</dc:language>
  <cp:lastModifiedBy>DRHANNAN</cp:lastModifiedBy>
  <dcterms:modified xsi:type="dcterms:W3CDTF">2015-04-02T06:41:29Z</dcterms:modified>
  <cp:revision>24</cp:revision>
  <dc:subject/>
  <dc:title>Treatment of urinary tract infection</dc:title>
</cp:coreProperties>
</file>