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763-2C42-4FD3-8953-61F72F48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A36-FC40-49CA-AE58-DC267A05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229-2F41-45D8-BDE7-37378E1A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189-1206-47BC-8916-0EBB0467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DB28-DC3F-4ED7-A4CA-E40A73E9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4D8-B2FB-49C8-89AA-4CBD6A46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EAE8-CD0E-4AA7-9795-0742696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B64-AB7B-442A-980C-A932ACE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ADA3-5E16-48EA-B80E-30D9EEA8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57AF-848A-4B52-9B5D-A19F44FD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EF1E-A47F-4F6D-9AC1-E797C60C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745-26D1-44E6-B681-C5A9C1EE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5741-61E8-4F94-B29E-C7F06CCD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4734-11A9-44D2-A809-B8A19E3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78A3-C0BD-410B-93DF-C3D50DBB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4167-FB19-4770-A4A9-42F2C90E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AEF4-FD62-4D25-9675-842FD817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C6DD-EDDD-4F00-A7CD-F097E4D9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D3AB-582D-4F8E-A1A2-A954D09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A23E-E676-45D3-B64D-79FE59BF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0B73-98F2-4DB5-8F5D-FDBD9E47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E778-D3FA-496C-892F-174D2016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47D-4B5F-40ED-8CB0-D1DFE5D7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2A35-D52B-4DFF-AC87-868ECC50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7F71-81CB-4FC8-84A3-2A2A2FD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27BB-32A4-4561-AE3A-44F6CCB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EEAB1-D8EF-434B-9EBF-72B7778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FD5D-4CC4-44AA-94FB-58BCB230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30AE-14C0-40C5-BF8F-3EEF1F3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CF44-484C-4845-BFC3-B4A7A27D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262D-33F6-4E74-BBE3-F1CB648D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4C20-1477-4B98-9CAD-5B840C3C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1A2C-CC42-4BE5-A52B-630C26DE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76A-5AE4-4B45-94F0-242CF6EE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7478-4B56-48EC-94F5-03F8B848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8F5C-45B7-4043-BFF5-BBD5691D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116C-408A-4CA7-AC54-367FE176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97A9-C21F-4B9E-8F15-9181B19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C66C-D0DC-407E-BD97-369BC00A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1D3C-44CC-4174-A528-008F261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CAC5-2498-4909-B314-8B7A77CA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D171-FBD8-49B1-B0D3-D5F9B2F0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F740-A576-42CE-8437-8821D3BF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2F9B-809B-4A0C-A2F7-621DE7EF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F4B-DBC8-4D48-8F47-95C6F30D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DDE4-7EF0-459A-B713-3E89A418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B481-04BE-48BE-8334-D7897B8C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836D-78E3-4D4D-AEB5-F55D7E1A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8DBA-1D3E-4021-8AFC-04ED01A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1DBDF-5965-4035-B25A-7A7A0382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7229-F2A6-43E7-B1DD-3B24B97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CC5CD-9C62-43B4-A2BA-AA63EFA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7D3E-7A7F-477D-9286-0057AA8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4CF3-43C9-4652-9168-560E3C61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BDB3-A76B-41BF-8409-D0B720A1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B3B-4A4A-4E78-B4F2-9D9AEBC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12DF-1168-490E-8260-D5FA402E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DD03-579C-4126-B703-C9F7D141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6A4F8-622B-4B7B-9E3E-8138EFA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5CF2-2D5E-408D-A6CE-B0FD9D0C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9C3C6-9B91-4D3F-97B7-10C09F7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8F890-1798-4217-8C07-DFA776F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94BD-AA20-4CDA-BFA4-564AB42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7789C-49A1-4F46-8C84-B88194A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2668B-530C-4113-B569-04F0588E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12CBD-350D-4F9D-8B6D-F7B99F0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C40-45BF-40BE-A216-9D44E89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A328-DACC-4254-9A62-C31CED4B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3C1A-18C8-4FCF-9551-3E08CFC8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4A96-B19C-4D81-B8B6-74272871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A620F-5800-432B-AF55-3E02C821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D2569-4662-461D-8DAA-F2A388BF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3BC1-728A-4786-AB25-E7DC955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9CCC-FEE8-4E74-8EEF-0410B60A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F79F5-317D-4A8F-BD39-0C92769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4649-A5A1-4894-9FF7-2D0B6B10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CF986-3956-40BA-8A89-B5BC81A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721-229E-4F95-8E27-5B1BB7A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A4E31-2775-4568-ADA2-97266B7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0224-93DD-4F03-916C-3201E05B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CB6D-8D8B-4ED5-B613-F5D9DF98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6A2E-E908-4B9F-A9D6-4C2C941D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D332-B1B8-47FC-ACCB-7DABB6E7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7D85-02AB-4C4A-A39E-F3FE4298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539FF-9F3F-45C5-8B60-92AB375F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97F9-11A9-4FC2-A055-ABC4A6D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4E4F-7BDE-4537-A3CB-9EEB77A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F2AE6-6EF1-4C49-8CE5-467AE9B9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081-5616-4C06-88CD-D7F60AB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87AB5-8131-4339-9B4D-C021AD55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6F8A-71CD-4EBF-A60E-AF04C266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13077-9F07-4EB2-8BA4-2830D314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480E0-1ED7-4F04-AD68-DEF3AEF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6D91-349A-4B59-8932-0020C1E1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D84DE-91FA-414B-9C4A-A8526433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7ACF9-1D1A-4515-A841-CC67B6E8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383-49B6-4CEE-879F-AA389B70156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AA78-3A65-47B4-BCE8-D6AD7DD5D6E3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AF64-7D99-48E4-AF70-B6D1D45B0FD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50BA-2D49-440C-B0AD-53E9AB69376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AB0B-2C04-43CF-8D45-06BE01056C7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97D5-4C57-4874-A291-98B2F7FD18B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5C42-FF9A-466C-BB53-64856ACFE96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5FC1-9AEE-4FA9-ADC2-A7C867FF1FE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rds.yahoo.com/_ylt=A0WTefVU8X9KddYAU3qJzbkF;_ylu=X3oDMTBqaWRlZWhnBHBvcwMxOQRzZWMDc3IEdnRpZAM-/SIG=1hsj07btk/EXP=1249985236/**http%3A//images.search.yahoo.com/images/view%3Fback=http%253A%252F%252Fimages.search.yahoo.com%252Fsearch%252Fimages%253F_adv_prop%253Dimage%2526va%253Durinary%252Btract%2526fr%253Dyfp-t-203%26w=100%26h=100%26imgurl=health.discovery.com%252Fcenters%252Fwomens%252Futi%252Fgallery%252Furinarytractinfect.jpg%26rurl=http%253A%252F%252Fhealth.discovery.com%252Fcenters%252Fwomens%252Futi%252Futi.html%26size=5k%26name=urinarytractinfe...%26p=urinary%2Btract%26oid=f0632d2faa766c5e%26fr2=%26no=19%26tt=20905%26sigr=11nj1c6l2%26sigi=126f690vh%26sigb=12q4sjmgn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rds.yahoo.com/_ylt=A0WTefai839Kq8QA_2mJzbkF;_ylu=X3oDMTBpaWhqZmNtBHBvcwMzBHNlYwNzcgR2dGlkAw--/SIG=1jkbqh9gc/EXP=1249985826/**http%3A//images.search.yahoo.com/images/view%3Fback=http%253A%252F%252Fimages.search.yahoo.com%252Fsearch%252Fimages%253Fp%253DIMAGES%252BOF%252Bpyelonephritis%2526ei%253Dutf-8%2526y%253DSearch%2526fr%253Dyfp-t-203%26w=340%26h=361%26imgurl=www.lifeline.de%252Fimg%252Fll%252F4%252F33763__nierenanatomie_schematisch_f.jpg%26rurl=http%253A%252F%252Fwww.lifeline.de%252Fcda%252Fkrankheit_therapie%252Fkrankheitenlexikon%252Fcontent-131428.html%26size=21k%26name=33763%2Bnierenanat...%26p=IMAGES%2BOF%2Bpyelonephritis%26oid=24680555e299eb18%26fr2=%26no=3%26tt=356%26sigr=12kbh941s%26sigi=120045c0u%26sigb=136l01ed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rds.yahoo.com/_ylt=A0WTefai839Kq8QABWqJzbkF;_ylu=X3oDMTBpdDZuNzZrBHBvcwM5BHNlYwNzcgR2dGlkAw--/SIG=1k9agvj0s/EXP=1249985826/**http%3A//images.search.yahoo.com/images/view%3Fback=http%253A%252F%252Fimages.search.yahoo.com%252Fsearch%252Fimages%253Fp%253DIMAGES%252BOF%252Bpyelonephritis%2526ei%253Dutf-8%2526y%253DSearch%2526fr%253Dyfp-t-203%26w=1093%26h=1950%26imgurl=www.vetmed.wsu.edu%252Fcourses_vm546%252FContent_Links%252FDfDx%252FRenal_Disease%252FKidney.jpg%26rurl=http%253A%252F%252Fwww.vetmed.wsu.edu%252Fcourses_vm546%252FContent_Links%252FDfDx%252FRenal_Disease%252Fpyelonephritis.htm%26size=171k%26name=Kidney%2Bjpg%26p=IMAGES%2BOF%2Bpyelonephritis%26oid=8f8ac242a9960414%26fr2=%26no=9%26tt=356%26sigr=12rim8m3m%26sigi=12cl110m7%26sigb=136l01ed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rds.yahoo.com/_ylt=A0WTbx849H9KOVwAc.2JzbkF;_ylu=X3oDMTBqZDFlYmxzBHBvcwMxNgRzZWMDc3IEdnRpZAM-/SIG=1m5ljtl25/EXP=1249985976/**http%3A//images.search.yahoo.com/images/view%3Fback=http%253A%252F%252Fimages.search.yahoo.com%252Fsearch%252Fimages%253Fp%253DIMAGES%252BOF%252Burethritis%2526ei%253Dutf-8%2526y%253DSearch%2526fr%253Dyfp-t-203%26w=450%26h=303%26imgurl=www.co.hennepin.mn.us%252Ffiles%252FHCInternet%252FStatic%252520Files%252FNGonorrhoeaeGonococci450.jpg%26rurl=http%253A%252F%252Fwww.co.hennepin.mn.us%252Fportal%252Fsite%252FHCInternet%252Fmenuitem.3f94db53874f9b6f68ce1e10b1466498%253Fvgnextoid%253D8d09954fc658e010VgnVCM1000000f094689RCRD%26size=16k%26name=NGonorrhoeaeGono...%26p=IMAGES%2BOF%2Burethritis%26oid=53c2c66a762b5802%26fr2=%26no=16%26tt=260%26sigr=14gcusqhq%26sigi=12icjd42m%26sigb=132ul7ibh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Rw9H9KgxcAHgOJzbkF;_ylu=X3oDMTBqNzBoY2J0BHBvcwMxNARzZWMDc3IEdnRpZAM-/SIG=1hicubc3j/EXP=1249986032/**http%3A//images.search.yahoo.com/images/view%3Fback=http%253A%252F%252Fimages.search.yahoo.com%252Fsearch%252Fimages%253Fp%253DIMAGES%252BOF%252Bvesicoureteral%252Breflux%26w=289%26h=419%26imgurl=www.urologyhealth.org%252Fcommon%252Fimages%252Fanatomy_Vesicoureteral_reflux_GrV.jpg%26rurl=http%253A%252F%252Fwww.urologyhealth.org%252Fpicturepopup.cfm%253Fid%253D40%26size=17k%26name=anatomy%2BVesicour...%26p=IMAGES%2BOF%2Bvesicoureteral%2Breflux%26oid=63a886132f2f0588%26fr2=%26no=14%26tt=178%26sigr=11jke6rh0%26sigi=129sq04ul%26sigb=12eqoaevf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rds.yahoo.com/_ylt=A0WTefRw9H9KgxcAIAOJzbkF;_ylu=X3oDMTBqZDFlYmxzBHBvcwMxNgRzZWMDc3IEdnRpZAM-/SIG=1gok0m0hb/EXP=1249986032/**http%3A//images.search.yahoo.com/images/view%3Fback=http%253A%252F%252Fimages.search.yahoo.com%252Fsearch%252Fimages%253Fp%253DIMAGES%252BOF%252Bvesicoureteral%252Breflux%26w=326%26h=400%26imgurl=urology.jhu.edu%252Fpediatric%252Fdiseases%252Fimg%252Freflux2.jpg%26rurl=http%253A%252F%252Furology.jhu.edu%252Fpediatric%252Fdiseases%252Freflux.php%26size=80k%26name=reflux2%2Bjpg%26p=IMAGES%2BOF%2Bvesicoureteral%2Breflux%26oid=0cbf8b2df6cc48e0%26fr2=%26no=16%26tt=178%26sigr=11kp5csa9%26sigi=11igb208h%26sigb=12eqoaevf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rds.yahoo.com/_ylt=A0WTefgH8n9K6V4Afl6JzbkF;_ylu=X3oDMTBqMjRpazg1BHBvcwMxMARzZWMDc3IEdnRpZAM-/SIG=1kdeliksb/EXP=1249985415/**http%3A//images.search.yahoo.com/images/view%3Fback=http%253A%252F%252Fimages.search.yahoo.com%252Fsearch%252Fimages%253Fp%253DIMAGES%252BOF%252BCATHETER%252BURINE%2526ei%253Dutf-8%2526fr%253Dyfp-t-203%26w=143%26h=150%26imgurl=images.clipartof.com%252Fthumbnails%252F6309-Obese-Man-With-A-Medical-Condition-That-Requires-The-Use-Of-A-Catheter-And-Urine-Bag-Clipart-Picture.jpg%26rurl=http%253A%252F%252Fwww.clipartof.com%252Fdetails%252Fclipart%252F18281.html%26size=8k%26name=Obese%2BMan%2Bwith%2Ba...%26p=IMAGES%2BOF%2BCATHETER%2BURINE%26oid=e8e6c8f92ee9efaa%26fr2=%26no=10%26tt=289%26sigr=11j131ckp%26sigi=14devs4a1%26sigb=12t8dt0lt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gH8n9K6V4Ael6JzbkF;_ylu=X3oDMTBpY2Y5NXNiBHBvcwM2BHNlYwNzcgR2dGlkAw--/SIG=1glgmfm5u/EXP=1249985415/**http%3A//images.search.yahoo.com/images/view%3Fback=http%253A%252F%252Fimages.search.yahoo.com%252Fsearch%252Fimages%253Fp%253DIMAGES%252BOF%252BCATHETER%252BURINE%2526ei%253Dutf-8%2526fr%253Dyfp-t-203%26w=175%26h=221%26imgurl=www.surgicalsindia.com%252Fgifs%252Furine-bags.jpg%26rurl=http%253A%252F%252Fwww.surgicalsindia.com%252Furine-bags.html%26size=11k%26name=urine%2Bbags%2Bjpg%26p=IMAGES%2BOF%2BCATHETER%2BURINE%26oid=58bb0e0e4fc8b318%26fr2=%26no=6%26tt=289%26sigr=11dgqls7h%26sigi=11a1jngv0%26sigb=12t8dt0lt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778500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Prof.Hanan Habi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recurrent UTI is related to sexual activity, and episodes recur more than 2 times within 6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single preventive dose taken immediately after intercour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s include: TMP-SMX, Cephalexin or Ciprofloxac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tional for patients who do not respond to other meas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Reduces recurrence by up to 95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w dose antibiotic taken continuously for 6 months or longer, it includ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MP-SMX, Nitrofurantoin, or Cephalex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aken at bed time more effect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fever, chills and flank pain ,but they are healthy non-pregnant ,not nauseous or vomiting with no signs of kidney involv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n be treated at home with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al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 antibiotics for 14 days with one of the following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ephalosporins, Amoxicillin-Clavulanate, Ciprofloxacin or TMP-SM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ose may be given by inj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urine culture may be obtained within one week of completion of therapy and again after 4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819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Patients need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given by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V route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3-5 days until symptoms relieved for 24-48 h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fever and back pain continue after 72 hrs of antibiotic,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imaging tes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dicated to exclude abscesses, obstruction or other abnormal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se patients need long-term antibiotic treatment even during periods when they have no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29718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risk for UTI and co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b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creen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Antibiotics during pregnancy includes;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, Ampicillin, Cephalosporins, and Nitrofurant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should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ke Quinol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with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ymptomat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bacteriuri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( evidence of infection but n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ymptoms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ave 30% risk for acute pyelonephritis in the second or third trimes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eening and 3-5 days antibiotic need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uncomplicated UTI, need 7-10 days antibiotic treat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more frequent and more sever U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ated for 7-14 days with antibiotics even patients with uncomplicated infecti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quire 7days regimen of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Doxycycl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ingle dose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zithromyc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y be effective bu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ot recommend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to avoid spread to the prostate gl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Patients should also be tested for accompanying STD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809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w the principal goal of management of urinary tract infection (U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stand that management of UTI depends on several facto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at antibiotics are the main treatment of UT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e  management/treatment of different conditions of UTI (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ystitis,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yelonephritis, catheter associated UTI ,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treated with TMP-SMX or Cephalex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given a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tamicin may be recommended as resistance to Cephalexin is increas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in children with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lead to pyelonephritis and kidney dam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Long-term antibiotic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lus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surgery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correct VUR and prevent infe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ute kidney infection : u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efixim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Suprax)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2-4 day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ntamic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a one daily dose. Oral antibiotic then follow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6765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1905120"/>
            <a:ext cx="2266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comm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entive measures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 should not be used unless absolutely necessary and they should be removed as soon as possible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37339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4479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Go to fullsize image"/>
          <p:cNvPicPr/>
          <p:nvPr/>
        </p:nvPicPr>
        <p:blipFill>
          <a:blip r:embed="rId3"/>
          <a:stretch/>
        </p:blipFill>
        <p:spPr>
          <a:xfrm>
            <a:off x="1143000" y="1523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atheter is required for long periods ,it is best to be used intermittent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replaced every 2 weeks to reduce risk of infection and irrigating bladder with antibiotics between replac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Daily hygiene and use of closed system to prevent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ized patients who develop UTI with symptoms or at risk for sepsis should be treated for each episode with antibiotics and catheter should be removed, if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sociated organisms are constantly chang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multiple species of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Antibiotic use for prophylaxis is rarely recommended since high bacterial counts present and patients do not develop symptomatic UT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HERAPY HAS LITTLE BENEFIT IF THE CATHETER IS TO REMAIN IN PLACE FOR LONG PERI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incipal goal of management of UTI is to eradicate the offending organisms from the urinary bladder and tis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in treatment of UTI is by antibiot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504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complicated or uncomplica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primary or recurr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 of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pregnant ,child , hospitalized or not, diabetic patient,…..etc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l 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ce of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w-risk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woman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recurrent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27a8f"/>
                </a:solidFill>
                <a:latin typeface="Lucida Sans Unicode"/>
              </a:rPr>
              <a:t>3 days antibiotic without urine t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re rate 94%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hoice of antibiotic depend on susceptibility pattern of bacteria, it includes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with or without clavulanat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phlosporins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rst or second generation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luoroquinolon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ciprofloxacin or norfloxaci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not for pregnant women or children)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choice if other antibiotics are resista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MP-SMX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trade names: Bactrim, Septra  ,Cotrimoxazo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trofuranto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for long term u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aused by treatment failure or structural abnormalities or absces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ntibiotics used at the initial inf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eatment for 7-14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two or more symptomatic UTIs within 6 months or 3 or more over a y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Need preventive therap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Antibiotic taken as soon as symptoms develo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infection occurs less than twice a year,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lean catch urine tes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hould be taken for cultu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reated as initial attack for 3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symptoms pers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change in sympt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ore than 4 infections per y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mpaired immun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vious kidney inf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ructural abnormalities of urinary 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story of infection with antibiotic resistant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1:30:51Z</dcterms:created>
  <dc:creator>Dr.Hannan</dc:creator>
  <dc:description/>
  <dc:language>en-US</dc:language>
  <cp:lastModifiedBy>DRHANNAN</cp:lastModifiedBy>
  <dcterms:modified xsi:type="dcterms:W3CDTF">2015-04-02T06:41:29Z</dcterms:modified>
  <cp:revision>24</cp:revision>
  <dc:subject/>
  <dc:title>Treatment of urinary tract infection</dc:title>
</cp:coreProperties>
</file>