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DD53-E73C-42AE-876D-5FB26E0C2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56FF-C3A3-403C-8FE8-A797A06FF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RD = end stage renal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9FD6-107C-4DAB-A89F-8DA584D72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7179-A96B-4924-A689-9120F72B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0F32-CB8E-4C0F-B78D-E1D2CE7D6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01D6-C713-4264-AD9E-F165DA1F3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C50E-8343-4CA3-84DB-D38EAB36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E76E-12F5-48D4-9CF7-3216058B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C410-E0F1-45B0-A66F-F4E406CC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6F02-C882-4EFA-AD5C-1AED68E5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D523-CE8C-4FA1-A0B7-EFC17909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1A34-FD58-4FA5-A457-C44FCAE8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E944-1D96-4704-A425-2B6E3133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1AAD-AED4-48A7-AB01-2A644AED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1CDC-9006-46EA-9C49-DA68812B187E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FEE4-77A9-44D6-84D7-0CF1AD3FF57C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grpSp>
        <p:nvGrpSpPr>
          <p:cNvPr id="49" name="TextBox 3"/>
          <p:cNvGrpSpPr/>
          <p:nvPr/>
        </p:nvGrpSpPr>
        <p:grpSpPr>
          <a:xfrm>
            <a:off x="706320" y="1847880"/>
            <a:ext cx="7809120" cy="2243160"/>
            <a:chOff x="706320" y="1847880"/>
            <a:chExt cx="7809120" cy="2243160"/>
          </a:xfrm>
        </p:grpSpPr>
        <p:pic>
          <p:nvPicPr>
            <p:cNvPr id="50" name="TextBox 3" descr=""/>
            <p:cNvPicPr/>
            <p:nvPr/>
          </p:nvPicPr>
          <p:blipFill>
            <a:blip r:embed="rId1"/>
            <a:stretch/>
          </p:blipFill>
          <p:spPr>
            <a:xfrm>
              <a:off x="706320" y="1847880"/>
              <a:ext cx="780912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62120" y="2133720"/>
              <a:ext cx="7696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8000" spc="-1" strike="noStrike">
                  <a:solidFill>
                    <a:srgbClr val="ffc000"/>
                  </a:solidFill>
                  <a:latin typeface="Bodoni MT"/>
                </a:rPr>
                <a:t>Pyelonephritis</a:t>
              </a:r>
              <a:endParaRPr b="0" lang="en-US" sz="80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609480"/>
            <a:ext cx="8229600" cy="548640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0504d"/>
                </a:solidFill>
                <a:uFillTx/>
                <a:latin typeface="Bodoni MT"/>
              </a:rPr>
              <a:t>Radiological investigations</a:t>
            </a: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CT sc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IVP=intra venous pyel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Radionucleotide imaging with gallium citrate and indium-111-labeled WB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31D9-0B95-4821-A060-9F15E8B999CE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513400" cy="6629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5486040" y="-360"/>
            <a:ext cx="3429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doni MT"/>
              </a:rPr>
              <a:t>Micturiting cystourethrogram (MCW showing bilateral VUR, grade IV on right and grade III on left-side. There is bilateral ureteral and pelvic dilation with blunting of fornices in the right kid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723F-1DFD-4D80-BD43-F1E30621B710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81480" y="60912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doni MT"/>
              </a:rPr>
              <a:t>Bilateral reflux extending into the pelvicalyceal systems of the kidney without dilatation of the calyces or ureters. (Note catheter in bladd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11015" t="8139" r="43275" b="10466"/>
          <a:stretch/>
        </p:blipFill>
        <p:spPr>
          <a:xfrm>
            <a:off x="457200" y="0"/>
            <a:ext cx="47037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802B-7189-4EC1-B22F-3D92DB51B211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504d"/>
                </a:solidFill>
                <a:uFillTx/>
                <a:latin typeface="Bodoni MT"/>
              </a:rPr>
              <a:t>Medical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80880" y="1294920"/>
            <a:ext cx="8229600" cy="449604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Treated as outpatients if there is no nausea, vomiting or dehydration and other signs and symptoms of sep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Very ill patients and all pregnant women are hospitalized at least for 2 to 3 days for parenteral 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2 weeks cou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Bactri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Ciprofloxac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Gentamicin with or without amoxicill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C2F3-367E-43F6-93E4-58A2FC33A766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Problem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Chronic or recurring symptomless infection persisting for months or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Another 6 weeks course if relap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Follow up urine culture 2 weeks after completion of thera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C25D-88EB-4D6D-A1D8-C02C280E0320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Chronic Pyelonephrit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Repeated bouts of acute pyelonephritis may lead to chronic pyelonephritis that may lead to kidney damage and hypert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Bodoni MT"/>
              </a:rPr>
              <a:t>Clinical manifes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No symptoms of infection unless an acute exacerbation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Fatig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Head a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Poor appet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Polyu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Excessive thir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Weight lo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Progressive scarrin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 renal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8824-3624-4B6C-B530-F4CFDAB8A7AD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28600" y="304560"/>
            <a:ext cx="8229600" cy="609588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504d"/>
                </a:solidFill>
                <a:uFillTx/>
                <a:latin typeface="Bodoni MT"/>
              </a:rPr>
              <a:t>Assessment and diagnostic findings</a:t>
            </a: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IV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Serum creatini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Blood u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Culture and sensi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504d"/>
                </a:solidFill>
                <a:uFillTx/>
                <a:latin typeface="Bodoni MT"/>
              </a:rPr>
              <a:t>Complications</a:t>
            </a: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ESRD=end stage renal 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Hypertens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Kidney st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504d"/>
                </a:solidFill>
                <a:uFillTx/>
                <a:latin typeface="Bodoni MT"/>
              </a:rPr>
              <a:t>Medical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According to C&amp;S resu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Drugs carefully titrated if renal function is impai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43CA-B82C-4607-BF0B-FC7EDA403C6B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33520" y="457200"/>
            <a:ext cx="8229600" cy="495288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504d"/>
                </a:solidFill>
                <a:uFillTx/>
                <a:latin typeface="Bodoni MT"/>
              </a:rPr>
              <a:t>Nursing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Fluid balance – I / O  ch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Fluids encouraged unless contraindi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doni MT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 hourly te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Antibio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Bed 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Teach how to prevent recurrent infections : adequate fluids, emptying the bladder regularly and performing recommended perineal hygiene taking antibiotics as prescrib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9BFC-106D-4ECC-9590-044821C5F7FF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Treatment Guidelin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Acute Uncomplicated Pyelonephr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doni MT"/>
              </a:rPr>
              <a:t>Mild or moderate symptoms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 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Outpatient treatment (total of 7–14 day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oral treat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 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Fluoroquinol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 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TMP/SMX, if uropathogen is known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be suscept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 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If Gram-positive pathogen: amoxicil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or amoxicillin-clavulan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847B-AC45-46CC-BC9A-402D5AA611A2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3152"/>
                </a:solidFill>
                <a:latin typeface="Bodoni MT"/>
              </a:rPr>
              <a:t>Treatment of Pyelonephrit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066680"/>
            <a:ext cx="8229600" cy="548640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Bodoni MT"/>
              </a:rPr>
              <a:t>Eradicate pathogens in kidney and urothelium, and treat/prevent bacter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 </a:t>
            </a:r>
            <a:r>
              <a:rPr b="0" lang="en-US" sz="3200" spc="-1" strike="noStrike">
                <a:solidFill>
                  <a:srgbClr val="ff0000"/>
                </a:solidFill>
                <a:latin typeface="Bodoni MT"/>
              </a:rPr>
              <a:t>Hospitalized patients: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3152"/>
                </a:solidFill>
                <a:latin typeface="Bodoni MT"/>
              </a:rPr>
              <a:t> </a:t>
            </a:r>
            <a:r>
              <a:rPr b="0" lang="en-US" sz="2800" spc="-1" strike="noStrike">
                <a:solidFill>
                  <a:srgbClr val="403152"/>
                </a:solidFill>
                <a:latin typeface="Bodoni MT"/>
              </a:rPr>
              <a:t>IV antibiotic first </a:t>
            </a: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48–72 hours followed by 7 days of oral antibiotic 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Bodoni MT"/>
              </a:rPr>
              <a:t>Fluoroquinolone IV, then P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doni MT"/>
              </a:rPr>
              <a:t>Aminoglycoside ± ampicillin IV, then TMP/SMX P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Third-generation cephalosporin IV, then TMP/SMX 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 </a:t>
            </a:r>
            <a:r>
              <a:rPr b="0" lang="en-US" sz="3200" spc="-1" strike="noStrike">
                <a:solidFill>
                  <a:srgbClr val="ff0000"/>
                </a:solidFill>
                <a:latin typeface="Bodoni MT"/>
              </a:rPr>
              <a:t>Ambulatory patients:  </a:t>
            </a:r>
            <a:r>
              <a:rPr b="0" lang="en-US" sz="3000" spc="-1" strike="noStrike">
                <a:solidFill>
                  <a:srgbClr val="000000"/>
                </a:solidFill>
                <a:latin typeface="Bodoni MT"/>
              </a:rPr>
              <a:t>7–14 days of PO therapy with one of the antimicrobials abo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7272-5DFC-44AA-83F2-8DAFE02209D6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51920"/>
            <a:ext cx="8229600" cy="624852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Bodoni MT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6228"/>
                </a:solidFill>
                <a:latin typeface="Bodoni MT"/>
              </a:rPr>
              <a:t>It is Bacterial infection of the renal pelvis, tubules and interstitial tissue of one or both kidne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Bell MT"/>
              </a:rPr>
              <a:t>potentially organ- and/or life-threatening infection that characteristically causes some scarring of the kidney with each infection and may lead to significant damage to the kidney that m</a:t>
            </a:r>
            <a:r>
              <a:rPr b="0" lang="en-US" sz="2500" spc="-1" strike="noStrike" u="sng">
                <a:solidFill>
                  <a:srgbClr val="00b050"/>
                </a:solidFill>
                <a:uFillTx/>
                <a:latin typeface="Bell MT"/>
              </a:rPr>
              <a:t>ay lead to hypertens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Bodoni MT"/>
              </a:rPr>
              <a:t>Pathophysiology and aeti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Infection usually ascends from the urethra most bacterial causes </a:t>
            </a: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bowel organisms </a:t>
            </a: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eg Ecoli </a:t>
            </a:r>
            <a:r>
              <a:rPr b="0" lang="en-US" sz="2800" spc="-1" strike="noStrike">
                <a:solidFill>
                  <a:srgbClr val="00b0f0"/>
                </a:solidFill>
                <a:latin typeface="Bodoni MT"/>
              </a:rPr>
              <a:t>(70-80%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Hospital-acquired infections may be due to coliforms and enterococc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Haematogenous spread is rare eg Staph aureusand mycobacterial tubercul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Frequently due to ureterovesical reflu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91C6-A5CB-4090-BABD-D6E8B3CF97E8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Scarred and contorted kidney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29C2-8006-4061-AC1F-29F094F8DFB3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7" name="Picture 5" descr="chronic_pyelonephritis"/>
          <p:cNvPicPr/>
          <p:nvPr/>
        </p:nvPicPr>
        <p:blipFill>
          <a:blip r:embed="rId1"/>
          <a:stretch/>
        </p:blipFill>
        <p:spPr>
          <a:xfrm>
            <a:off x="228600" y="701640"/>
            <a:ext cx="85312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truction of approximately 70% of the kidney. Numerous dilated calyces with yellow-brown calculi. The central necrotic areas are surrounded by dense fibro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20C4-64E8-4697-A39E-3E167FEDAA9B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0" name="Picture 5" descr="Kidney_XGP_Gross4"/>
          <p:cNvPicPr/>
          <p:nvPr/>
        </p:nvPicPr>
        <p:blipFill>
          <a:blip r:embed="rId1"/>
          <a:srcRect l="0" t="0" r="0" b="10509"/>
          <a:stretch/>
        </p:blipFill>
        <p:spPr>
          <a:xfrm>
            <a:off x="228600" y="914400"/>
            <a:ext cx="853452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odoni MT"/>
              </a:rPr>
              <a:t>Cas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Bodoni MT"/>
              </a:rPr>
              <a:t>You are contacted by a  resident regarding the use of a FQ[</a:t>
            </a:r>
            <a:r>
              <a:rPr b="0" lang="en-US" sz="2000" spc="-1" strike="noStrike">
                <a:solidFill>
                  <a:srgbClr val="002060"/>
                </a:solidFill>
                <a:latin typeface="Bodoni MT"/>
              </a:rPr>
              <a:t>FLUORQUINOLONES</a:t>
            </a:r>
            <a:r>
              <a:rPr b="0" lang="en-US" sz="2500" spc="-1" strike="noStrike">
                <a:solidFill>
                  <a:srgbClr val="002060"/>
                </a:solidFill>
                <a:latin typeface="Bodoni MT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Bodoni MT"/>
              </a:rPr>
              <a:t>in a 24 year old semi-professional soccer player with a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Bodoni MT"/>
              </a:rPr>
              <a:t>apparent UT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Bodoni MT"/>
              </a:rPr>
              <a:t>he has complained of dysuria and frequency for the last 24 hours. Hi UA is positive for bacteria using a nitra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Bodoni MT"/>
              </a:rPr>
              <a:t>dipstick and WBC’s using a dipstick esterase tes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Bodoni MT"/>
              </a:rPr>
              <a:t>His past medical history is significant for DM. he has n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Bodoni MT"/>
              </a:rPr>
              <a:t>allergies  other than his diabetes there has been n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Bodoni MT"/>
              </a:rPr>
              <a:t>other significant medical problem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2AF9-C842-4707-921F-06890F9C4431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odoni MT"/>
              </a:rPr>
              <a:t>Cas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38098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Bodoni MT"/>
              </a:rPr>
              <a:t>An asymptomatic 84 year old male with hypertrophy of the prostate has an indwelling foleys catheter has a pos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Bodoni MT"/>
              </a:rPr>
              <a:t>urine culture for </a:t>
            </a:r>
            <a:r>
              <a:rPr b="0" i="1" lang="en-US" sz="3200" spc="-1" strike="noStrike">
                <a:solidFill>
                  <a:srgbClr val="17375e"/>
                </a:solidFill>
                <a:latin typeface="Bodoni MT"/>
              </a:rPr>
              <a:t>P. aeruginosa. You have b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Bodoni MT"/>
              </a:rPr>
              <a:t>contacted regarding the appropriate dose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Bodoni MT"/>
              </a:rPr>
              <a:t>interval for ciprofloxacin to begin therap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1605-9C5D-47F2-AB01-853D11045CF0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odoni MT"/>
              </a:rPr>
              <a:t>Case 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7375e"/>
                </a:solidFill>
                <a:latin typeface="Bodoni MT"/>
              </a:rPr>
              <a:t>You have been consulted on a 72 year old fema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7375e"/>
                </a:solidFill>
                <a:latin typeface="Bodoni MT"/>
              </a:rPr>
              <a:t>nursing home patient. She recently was treated fo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7375e"/>
                </a:solidFill>
                <a:latin typeface="Bodoni MT"/>
              </a:rPr>
              <a:t>10 days with ceftriaxone and azithromycin fo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7375e"/>
                </a:solidFill>
                <a:latin typeface="Bodoni MT"/>
              </a:rPr>
              <a:t>presumed CAP. During her hospitalization a fole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7375e"/>
                </a:solidFill>
                <a:latin typeface="Bodoni MT"/>
              </a:rPr>
              <a:t>catheter was placed. She is currently afebrile a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7375e"/>
                </a:solidFill>
                <a:latin typeface="Bodoni MT"/>
              </a:rPr>
              <a:t>asymptomatic of any UTI symptoms but a culture o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7375e"/>
                </a:solidFill>
                <a:latin typeface="Bodoni MT"/>
              </a:rPr>
              <a:t>her urine at the end of her antibiotic therapy had 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7375e"/>
                </a:solidFill>
                <a:latin typeface="Bodoni MT"/>
              </a:rPr>
              <a:t>significant growth of yeast. How should she b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7375e"/>
                </a:solidFill>
                <a:latin typeface="Bodoni MT"/>
              </a:rPr>
              <a:t>managed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03FD-1E54-4B62-A3B5-A97D5F717812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Bodoni MT"/>
              </a:rPr>
              <a:t>Complicated UTI Eti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2133360"/>
            <a:ext cx="404028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doni MT"/>
              </a:rPr>
              <a:t>Escherichia co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doni MT"/>
              </a:rPr>
              <a:t>Klebsiella pneumoni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doni MT"/>
              </a:rPr>
              <a:t>Enterobacter spe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doni MT"/>
              </a:rPr>
              <a:t>Citrobacter spe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doni MT"/>
              </a:rPr>
              <a:t>Proteus mirabil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doni MT"/>
              </a:rPr>
              <a:t>Providencia spe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doni MT"/>
              </a:rPr>
              <a:t>Pseudomonas aerugino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doni MT"/>
              </a:rPr>
              <a:t>Enterococci spe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19360" y="1523880"/>
            <a:ext cx="2438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(%)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21 – 5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1.9 – 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1.9 – 9.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4.7 – 6.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0.9 – 9.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2 – 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6.1 – 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8F0E-CE03-4431-ACAD-80B3C78EEB69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523880"/>
          <a:ext cx="5562720" cy="517680"/>
        </p:xfrm>
        <a:graphic>
          <a:graphicData uri="http://schemas.openxmlformats.org/drawingml/2006/table">
            <a:tbl>
              <a:tblPr/>
              <a:tblGrid>
                <a:gridCol w="5562720"/>
              </a:tblGrid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80880" y="685440"/>
            <a:ext cx="8229600" cy="533412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Pyelonephritis may be acute or chron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	</a:t>
            </a:r>
            <a:r>
              <a:rPr b="0" lang="en-US" sz="3200" spc="-1" strike="noStrike" u="sng">
                <a:solidFill>
                  <a:srgbClr val="c0504d"/>
                </a:solidFill>
                <a:uFillTx/>
                <a:latin typeface="Bodoni MT"/>
              </a:rPr>
              <a:t>Path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Kidneys enlar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Interstitial infiltration of inflammatory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Abscesses on the capsule and at corticomedullary j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Result in destruction of tubules and the glomeru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When chronic, kidneys become scarred, contracted and nonfunctio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984E-8708-4E75-B7A4-A7D55AF732B2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68616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odoni MT"/>
              </a:rPr>
              <a:t>Pathogenes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52280" y="1142640"/>
            <a:ext cx="4724640" cy="475452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Rectal and/or vaginal reservoi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Colonization of perianal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Bacterial migration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perivaginal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Bacteria ascend throug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urethra to blad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Intercourse may contribu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urethral col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and ascending inf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ASB[asymtomatic bacteruria] in 1st trimester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pregnancy may ca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pyelonephritis in 3rd trime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9C44-AA10-4635-9823-83142D30B0C7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5562720" y="228600"/>
            <a:ext cx="2819160" cy="2590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4952880" y="2819520"/>
            <a:ext cx="38484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33160" y="837720"/>
            <a:ext cx="8001000" cy="579132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4a21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1af"/>
                </a:solidFill>
                <a:latin typeface="Bodoni MT"/>
              </a:rPr>
              <a:t>Symptoms develop rapidly (&lt;24 hours) and may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doni MT"/>
              </a:rPr>
              <a:t>Acutely il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doni MT"/>
              </a:rPr>
              <a:t>Chill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doni MT"/>
              </a:rPr>
              <a:t>Fever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&gt;38°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doni MT"/>
              </a:rPr>
              <a:t>Flank pain a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doni MT"/>
              </a:rPr>
              <a:t>Nausea/vomit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doni MT"/>
              </a:rPr>
              <a:t>Renal angle tendernes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  <a:ea typeface="Arabic Transparent"/>
              </a:rPr>
              <a:t>Confusion in elderl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doni MT"/>
              </a:rPr>
              <a:t>Leukocytos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doni MT"/>
              </a:rPr>
              <a:t>Pyur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doni MT"/>
              </a:rPr>
              <a:t>Bacteriur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76092"/>
                </a:solidFill>
                <a:latin typeface="Bodoni MT"/>
              </a:rPr>
              <a:t>In addition symptoms of lower tract involvemen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doni MT"/>
              </a:rPr>
              <a:t>Dysur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doni MT"/>
              </a:rPr>
              <a:t>Frequenc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7626-9419-4848-8B74-90F423880E9B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0" y="30492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	</a:t>
            </a:r>
            <a:r>
              <a:rPr b="0" lang="en-US" sz="2800" spc="-1" strike="noStrike">
                <a:solidFill>
                  <a:srgbClr val="c0504d"/>
                </a:solidFill>
                <a:latin typeface="Bodoni MT"/>
              </a:rPr>
              <a:t>Clinical Manifestations  of acute pyelonephriti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odoni MT"/>
              </a:rPr>
              <a:t>Risk facto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990360"/>
            <a:ext cx="8534520" cy="563868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a21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1af"/>
                </a:solidFill>
                <a:latin typeface="Bodoni MT"/>
              </a:rPr>
              <a:t>Mechanic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n-US" sz="2000" spc="-1" strike="noStrike">
                <a:solidFill>
                  <a:srgbClr val="ff0066"/>
                </a:solidFill>
                <a:latin typeface="Bodoni MT"/>
              </a:rPr>
              <a:t>Structural abnormalities to the kidneys and the urinary tr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vesicoureteral reflux (VUR) especially in young children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calcul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urinary tract catheteris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nephrostom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pregna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neurogenic bladder (e.g. due to spinal cord damage, spina bifida or multiple sclerosis) 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prostate disease (e.g. benign prostatic hyperplasia) in eldery m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bladder tumou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urethral stric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a21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1af"/>
                </a:solidFill>
                <a:latin typeface="Bodoni MT"/>
              </a:rPr>
              <a:t>Constitution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diabetes mellitus, immunocompromised st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ll MT"/>
              </a:rPr>
              <a:t>Diagnosi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Is not always straightforw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A number of studies using immunochemical markers have shown that many women, who initially present with lower tract symptoms, actually have pyelonephr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The extremes of age, the presentation may be so atypicalin the very young (feeding difficulty or fe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In the elderly presentation may be mental status change like confusion or fe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2AAF-9E7E-42E9-83E9-3AD2E71EC677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Bodoni MT"/>
              </a:rPr>
              <a:t>Laboratory Diagnosis of pyelonephriti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Bodoni MT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Bodoni MT"/>
              </a:rPr>
              <a:t>Urinalysi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10 WBC/hpf is the usual upper limit of norm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Positive result on leukocyte esterase dipstic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test correlates well for detecting &gt;10 WBC/hpf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with a specificity of 65%–95%, and sensitiv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of 75%–95%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Positive nitrate dipstick test result fo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bacteriuria[ bactria reduce nitrate to nitrite]is only moderately reliable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false-negative results are comm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Urine culture and sensitiv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Blood culture important as this is asystamic infe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F2CE-001D-4555-9223-CA1DFB0389EA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3:30:40Z</dcterms:created>
  <dc:creator>Kasiviswanathan</dc:creator>
  <dc:description/>
  <dc:language>en-US</dc:language>
  <cp:lastModifiedBy>janett</cp:lastModifiedBy>
  <dcterms:modified xsi:type="dcterms:W3CDTF">2014-05-04T11:57:31Z</dcterms:modified>
  <cp:revision>20</cp:revision>
  <dc:subject/>
  <dc:title>Slide 1</dc:title>
</cp:coreProperties>
</file>