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4B95-D670-4839-B8FA-37DE6220C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D92B-BD9A-43FA-8A30-D7A42CE41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RD = end stage renal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1C2-DAE0-4EB1-92C9-BF27EFAD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879-F75B-4463-831F-76830AA2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7CA-9B6E-416F-86AB-A296E133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C53-D81C-4F0D-90A1-5EB5BB74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B6F3-CB8D-4DC1-ACD8-A7E227C8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DD8-DFE3-42A9-AD7D-4EA0B688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2BC-2C3C-4A84-A47F-B575A5A3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F60-E04E-4013-80D4-D79B9A89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5CD-B6E0-4E94-89E4-D7182BF8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863B-BFBA-4F05-BB38-6FB104F7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B64-D364-440E-BF58-0AFBC7B6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936-EB11-40DA-8535-B5915ACF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06A4-2692-4734-BF10-26E7F97E74A0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A23E-E746-4CF3-AA1F-946E9707F741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49" name="TextBox 3"/>
          <p:cNvGrpSpPr/>
          <p:nvPr/>
        </p:nvGrpSpPr>
        <p:grpSpPr>
          <a:xfrm>
            <a:off x="706320" y="1847880"/>
            <a:ext cx="7809120" cy="2243160"/>
            <a:chOff x="706320" y="1847880"/>
            <a:chExt cx="7809120" cy="2243160"/>
          </a:xfrm>
        </p:grpSpPr>
        <p:pic>
          <p:nvPicPr>
            <p:cNvPr id="50" name="TextBox 3" descr=""/>
            <p:cNvPicPr/>
            <p:nvPr/>
          </p:nvPicPr>
          <p:blipFill>
            <a:blip r:embed="rId1"/>
            <a:stretch/>
          </p:blipFill>
          <p:spPr>
            <a:xfrm>
              <a:off x="706320" y="1847880"/>
              <a:ext cx="78091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62120" y="2133720"/>
              <a:ext cx="7696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8000" spc="-1" strike="noStrike">
                  <a:solidFill>
                    <a:srgbClr val="ffc000"/>
                  </a:solidFill>
                  <a:latin typeface="Bodoni MT"/>
                </a:rPr>
                <a:t>Pyelonephritis</a:t>
              </a:r>
              <a:endParaRPr b="0" lang="en-US" sz="8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0504d"/>
                </a:solidFill>
                <a:uFillTx/>
                <a:latin typeface="Bodoni MT"/>
              </a:rPr>
              <a:t>Radiological investigations</a:t>
            </a: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CT sc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IVP=intra venous pyel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Radionucleotide imaging with gallium citrate and indium-111-labeled WB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C59C-F310-432A-B27A-E20F9905FD98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513400" cy="662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5486040" y="-360"/>
            <a:ext cx="3429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doni MT"/>
              </a:rPr>
              <a:t>Micturiting cystourethrogram (MCW showing bilateral VUR, grade IV on right and grade III on left-side. There is bilateral ureteral and pelvic dilation with blunting of fornices in the right kid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897F-2CD9-4708-9954-C6A40B527CF1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81480" y="609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Bilateral reflux extending into the pelvicalyceal systems of the kidney without dilatation of the calyces or ureters. (Note catheter in blad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11015" t="8139" r="43275" b="10466"/>
          <a:stretch/>
        </p:blipFill>
        <p:spPr>
          <a:xfrm>
            <a:off x="457200" y="0"/>
            <a:ext cx="47037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32BC-477A-4A86-A9DB-0BFCCCDD7DF7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504d"/>
                </a:solidFill>
                <a:uFillTx/>
                <a:latin typeface="Bodoni MT"/>
              </a:rPr>
              <a:t>Medical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880" y="1294920"/>
            <a:ext cx="8229600" cy="449604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Treated as outpatients if there is no nausea, vomiting or dehydration and other signs and symptoms of sep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Very ill patients and all pregnant women are hospitalized at least for 2 to 3 days for parenteral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2 weeks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Bactr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Ciprofloxa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Gentamicin with or without amoxicil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D1EA-18A5-4C71-A8D5-8CA8826DC8C2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Chronic or recurring symptomless infection persisting for months or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Another 6 weeks course if relap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Follow up urine culture 2 weeks after completion of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20D4-D86B-4A6F-8346-3DBDA1831296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Chronic Pyelonephr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Repeated bouts of acute pyelonephritis may lead to chronic pyelonephritis that may lead to kidney damage and hyper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odoni MT"/>
              </a:rPr>
              <a:t>Clinical manife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No symptoms of infection unless an acute exacerbation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ead 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Poor appet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Polyu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Excessive th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Weight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Progressive scarr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renal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393C-7B73-4ABA-A7D7-A93C65AD546E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28600" y="304560"/>
            <a:ext cx="8229600" cy="609588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Bodoni MT"/>
              </a:rPr>
              <a:t>Assessment and diagnostic findings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IV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Serum creatin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Blood u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Culture and sensi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Bodoni MT"/>
              </a:rPr>
              <a:t>Complications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ESRD=end stage renal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yperten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Kidney st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Bodoni MT"/>
              </a:rPr>
              <a:t>Medical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According to C&amp;S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Drugs carefully titrated if renal function is impa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355D-D4E4-4E31-9F60-ACAF118DA390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33520" y="457200"/>
            <a:ext cx="8229600" cy="495288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Bodoni MT"/>
              </a:rPr>
              <a:t>Nursing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luid balance – I / O  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luids encouraged unless contraindi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doni MT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hourly te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Antibio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Bed 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Teach how to prevent recurrent infections : adequate fluids, emptying the bladder regularly and performing recommended perineal hygiene taking antibiotics as prescri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64E7-184E-433F-AB4B-38C7FFB38511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Treatment Guidelin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Acute Uncomplicated Pyelonephr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Mild or moderate symptoms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Outpatient treatment (total of 7–14 day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oral treat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Fluoroquino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TMP/SMX, if uropathogen is known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be suscept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If Gram-positive pathogen: amoxicil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or amoxicillin-clavula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5E8C-6562-4C73-92AC-83360DEB65B5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3152"/>
                </a:solidFill>
                <a:latin typeface="Bodoni MT"/>
              </a:rPr>
              <a:t>Treatment of Pyelonephr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Bodoni MT"/>
              </a:rPr>
              <a:t>Eradicate pathogens in kidney and urothelium, and treat/prevent bacter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Hospitalized patients: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3152"/>
                </a:solidFill>
                <a:latin typeface="Bodoni MT"/>
              </a:rPr>
              <a:t> </a:t>
            </a:r>
            <a:r>
              <a:rPr b="0" lang="en-US" sz="2800" spc="-1" strike="noStrike">
                <a:solidFill>
                  <a:srgbClr val="403152"/>
                </a:solidFill>
                <a:latin typeface="Bodoni MT"/>
              </a:rPr>
              <a:t>IV antibiotic first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48–72 hours followed by 7 days of oral antibiotic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odoni MT"/>
              </a:rPr>
              <a:t>Fluoroquinolone IV, then 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doni MT"/>
              </a:rPr>
              <a:t>Aminoglycoside ± ampicillin IV, then TMP/SMX 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Third-generation cephalosporin IV, then TMP/SMX 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Ambulatory patients:  </a:t>
            </a: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7–14 days of PO therapy with one of the antimicrobials abo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7B45-A314-46B1-BC2B-E45D1BBB5BB6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51920"/>
            <a:ext cx="8229600" cy="62485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odoni MT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Bodoni MT"/>
              </a:rPr>
              <a:t>It is Bacterial infection of the renal pelvis, tubules and interstitial tissue of one or both kidn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Bell MT"/>
              </a:rPr>
              <a:t>potentially organ- and/or life-threatening infection that characteristically causes some scarring of the kidney with each infection and may lead to significant damage to the kidney that m</a:t>
            </a:r>
            <a:r>
              <a:rPr b="0" lang="en-US" sz="2500" spc="-1" strike="noStrike" u="sng">
                <a:solidFill>
                  <a:srgbClr val="00b050"/>
                </a:solidFill>
                <a:uFillTx/>
                <a:latin typeface="Bell MT"/>
              </a:rPr>
              <a:t>ay lead to hyperten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odoni MT"/>
              </a:rPr>
              <a:t>Pathophysiology and aet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Infection usually ascends from the urethra most bacterial causes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bowel organisms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eg Ecoli </a:t>
            </a:r>
            <a:r>
              <a:rPr b="0" lang="en-US" sz="2800" spc="-1" strike="noStrike">
                <a:solidFill>
                  <a:srgbClr val="00b0f0"/>
                </a:solidFill>
                <a:latin typeface="Bodoni MT"/>
              </a:rPr>
              <a:t>(70-80%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ospital-acquired infections may be due to coliforms and enterococ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aematogenous spread is rare eg Staph aureusand mycobacterial tubercu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requently due to ureterovesical refl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4D1D-49AF-46E5-8E9F-32213F10C6DA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Scarred and contorted kidney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AEEF-B156-443E-B11F-C7637FB2DB77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Picture 5" descr="chronic_pyelonephritis"/>
          <p:cNvPicPr/>
          <p:nvPr/>
        </p:nvPicPr>
        <p:blipFill>
          <a:blip r:embed="rId1"/>
          <a:stretch/>
        </p:blipFill>
        <p:spPr>
          <a:xfrm>
            <a:off x="228600" y="701640"/>
            <a:ext cx="8531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truction of approximately 70% of the kidney. Numerous dilated calyces with yellow-brown calculi. The central necrotic areas are surrounded by dense fibro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57FA-B960-4CDC-AE0D-FD7CF3B362CC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0" name="Picture 5" descr="Kidney_XGP_Gross4"/>
          <p:cNvPicPr/>
          <p:nvPr/>
        </p:nvPicPr>
        <p:blipFill>
          <a:blip r:embed="rId1"/>
          <a:srcRect l="0" t="0" r="0" b="10509"/>
          <a:stretch/>
        </p:blipFill>
        <p:spPr>
          <a:xfrm>
            <a:off x="228600" y="914400"/>
            <a:ext cx="853452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Cas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You are contacted by a  resident regarding the use of a FQ[</a:t>
            </a:r>
            <a:r>
              <a:rPr b="0" lang="en-US" sz="2000" spc="-1" strike="noStrike">
                <a:solidFill>
                  <a:srgbClr val="002060"/>
                </a:solidFill>
                <a:latin typeface="Bodoni MT"/>
              </a:rPr>
              <a:t>FLUORQUINOLONES</a:t>
            </a: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in a 24 year old semi-professional soccer player with 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apparent U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he has complained of dysuria and frequency for the last 24 hours. Hi UA is positive for bacteria using a nitr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dipstick and WBC’s using a dipstick esterase tes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His past medical history is significant for DM. he has n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allergies  other than his diabetes there has been n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other significant medical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9D8C-8BAA-469A-B4E3-85CB14AE8935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Cas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Bodoni MT"/>
              </a:rPr>
              <a:t>An asymptomatic 84 year old male with hypertrophy of the prostate has an indwelling foleys catheter has a pos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Bodoni MT"/>
              </a:rPr>
              <a:t>urine culture for </a:t>
            </a:r>
            <a:r>
              <a:rPr b="0" i="1" lang="en-US" sz="3200" spc="-1" strike="noStrike">
                <a:solidFill>
                  <a:srgbClr val="17375e"/>
                </a:solidFill>
                <a:latin typeface="Bodoni MT"/>
              </a:rPr>
              <a:t>P. aeruginosa. You have b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Bodoni MT"/>
              </a:rPr>
              <a:t>contacted regarding the appropriate dose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Bodoni MT"/>
              </a:rPr>
              <a:t>interval for ciprofloxacin to begin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DFD5-31CD-4819-A16F-D163A1B34702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Case 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You have been consulted on a 72 year old fem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nursing home patient. She recently was treated f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10 days with ceftriaxone and azithromycin f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presumed CAP. During her hospitalization a fol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catheter was placed. She is currently afebrile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asymptomatic of any UTI symptoms but a culture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her urine at the end of her antibiotic therapy had 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significant growth of yeast. How should she b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manag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6AEF-0103-46E9-823D-F2675B7AA196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Bodoni MT"/>
              </a:rPr>
              <a:t>Complicated UTI Eti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21333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Klebsiella pneumoni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Enterobacter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Citrobacter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Proteus mirabi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Providencia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Pseudomonas aerugin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Enterococci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19360" y="152388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(%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21 – 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1.9 – 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1.9 – 9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4.7 – 6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0.9 – 9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2 – 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6.1 – 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287C-C0BC-4312-AA3A-E0D4575E06DA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523880"/>
          <a:ext cx="5562720" cy="5176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0880" y="685440"/>
            <a:ext cx="8229600" cy="53341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Pyelonephritis may be acute or chro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	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Bodoni MT"/>
              </a:rPr>
              <a:t>Pa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Kidneys enl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Interstitial infiltration of inflammatory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Abscesses on the capsule and at corticomedullary j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Result in destruction of tubules and the glomer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When chronic, kidneys become scarred, contracted and nonfuncti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203A-95C6-4B0E-9BE0-958B1051A8A8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686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doni MT"/>
              </a:rPr>
              <a:t>Pathogenes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280" y="1142640"/>
            <a:ext cx="4724640" cy="47545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Rectal and/or vaginal reser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Colonization of perianal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Bacterial migration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perivaginal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Bacteria ascend throu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urethra to blad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Intercourse may contrib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urethral col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and ascending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ASB[asymtomatic bacteruria] in 1st trimester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pregnancy may c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pyelonephritis in 3rd trime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61AA-0844-4B72-9AE2-A9C43E4ED6D6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281916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952880" y="2819520"/>
            <a:ext cx="3848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160" y="837720"/>
            <a:ext cx="8001000" cy="57913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4a2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1af"/>
                </a:solidFill>
                <a:latin typeface="Bodoni MT"/>
              </a:rPr>
              <a:t>Symptoms develop rapidly (&lt;24 hours) and may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Acutely il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Chill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Fever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38°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Flank pain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Nausea/vomi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Renal angle tendern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  <a:ea typeface="Arabic Transparent"/>
              </a:rPr>
              <a:t>Confusion in elderl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Leukocyto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Pyu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Bacteriu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76092"/>
                </a:solidFill>
                <a:latin typeface="Bodoni MT"/>
              </a:rPr>
              <a:t>In addition symptoms of lower tract involve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Dysu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Frequenc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8BE0-D6D0-4BC4-8C14-D362E3B732EC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0" y="304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	</a:t>
            </a:r>
            <a:r>
              <a:rPr b="0" lang="en-US" sz="2800" spc="-1" strike="noStrike">
                <a:solidFill>
                  <a:srgbClr val="c0504d"/>
                </a:solidFill>
                <a:latin typeface="Bodoni MT"/>
              </a:rPr>
              <a:t>Clinical Manifestations  of acute pyelonephriti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Risk facto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990360"/>
            <a:ext cx="8534520" cy="563868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a2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1af"/>
                </a:solidFill>
                <a:latin typeface="Bodoni MT"/>
              </a:rPr>
              <a:t>Mechanic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000" spc="-1" strike="noStrike">
                <a:solidFill>
                  <a:srgbClr val="ff0066"/>
                </a:solidFill>
                <a:latin typeface="Bodoni MT"/>
              </a:rPr>
              <a:t>Structural abnormalities to the kidneys and the urinary 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vesicoureteral reflux (VUR) especially in young childr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calcul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urinary tract catheter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nephrosto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pregna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neurogenic bladder (e.g. due to spinal cord damage, spina bifida or multiple sclerosis)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prostate disease (e.g. benign prostatic hyperplasia) in eldery 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bladder tumou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urethral stri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a2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1af"/>
                </a:solidFill>
                <a:latin typeface="Bodoni MT"/>
              </a:rPr>
              <a:t>Constitution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diabetes mellitus, immunocompromised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ll MT"/>
              </a:rPr>
              <a:t>Diagnos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Is not always straight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 number of studies using immunochemical markers have shown that many women, who initially present with lower tract symptoms, actually have pyeloneph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The extremes of age, the presentation may be so atypicalin the very young (feeding difficulty or fe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In the elderly presentation may be mental status change like confusion or f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928E-8CF7-4DCF-9CD4-72F81C4EA289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Bodoni MT"/>
              </a:rPr>
              <a:t>Laboratory Diagnosis of pyelonephriti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Bodoni MT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Bodoni MT"/>
              </a:rPr>
              <a:t>Urinalys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10 WBC/hpf is the usual upper limit of nor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Positive result on leukocyte esterase dipstic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test correlates well for detecting &gt;10 WBC/hpf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with a specificity of 65%–95%, and sensi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of 75%–95%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Positive nitrate dipstick test result f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bacteriuria[ bactria reduce nitrate to nitrite]is only moderately reliable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false-negative results are comm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Urine culture and sensi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Blood culture important as this is asystamic inf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90F4-6C53-49E1-A9DF-3353AB339412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3:30:40Z</dcterms:created>
  <dc:creator>Kasiviswanathan</dc:creator>
  <dc:description/>
  <dc:language>en-US</dc:language>
  <cp:lastModifiedBy>janett</cp:lastModifiedBy>
  <dcterms:modified xsi:type="dcterms:W3CDTF">2014-05-04T11:57:31Z</dcterms:modified>
  <cp:revision>20</cp:revision>
  <dc:subject/>
  <dc:title>Slide 1</dc:title>
</cp:coreProperties>
</file>