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A422-D7B6-435F-9CC4-05BA5DB5E32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485EF-5D88-483A-B687-403F7BBFDB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D22C-03CA-4A61-9393-64DE91BB3EB1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E2B8-371F-471B-AA79-BEB081FE901A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3930-3D70-4478-B601-4E3CFB4B02DA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B773-4D07-4137-B68D-3DFBBD52A31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70E4-F592-4CE9-8671-1402A3EC67D2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385F-4CA7-4C49-9B9F-718A23D227B7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837E-93DB-4A8C-B99A-4878C466726A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F427-BB85-4320-9610-F5F41172B213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ED3C-01D0-4D6B-8CC6-2E2B5B33C388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200-9A96-46BE-B5C2-F8F7805A2FD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AA0-EB85-4F05-903B-6B35C69D30A6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B489-8C00-4BAF-A30D-2651AC5582B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96C3-2F3B-439D-BBF7-00A8C154882F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96D6-CFE6-4F52-B0A3-D22873CA103E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1707-2B88-4A08-9BFF-C1C74F693EF2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6C92-53EE-4663-B96E-498B043504FB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A2DEA-F7CC-4EB2-BF99-BB4AB0EA67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41C7-38F8-4A0F-899D-97B2740231D5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308E-1D58-47C5-AAFF-92FB459E7209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77E-0411-4D82-8066-11E9460A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278-C090-4E06-856F-226AD4BC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29BE-BAEE-46DD-829C-DC26B3DC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419-2912-44EC-B070-41DCF9416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745D-C2C0-46BA-BB8A-28B475E0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0A6E-045B-4490-BFA0-FF329FC6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BD88-A94B-4427-9461-80161A2B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8169-6BFA-446C-B189-1A9B713A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26D1-1D63-4FAF-89D2-3446C79E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7087-6B1A-46C1-8E4A-FF672EF8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03C6-BA82-4220-AC56-AE64FD9F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EF1-233B-4537-B1CC-0388A779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F785-F0BB-4EC2-990A-B47073A9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F166-F9C6-484E-A460-1AC9AEB0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E11-BCA2-4A67-823A-A2AD37F9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58BE-A185-434D-BAB3-6406FE5B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9A83-224F-4F41-A271-B6F7D26F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A22-D15C-4C2C-8E7B-6C7979E0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0F7-C3F7-4E5A-9469-AB536F88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355-67C5-4B79-9E75-7E02E0BA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C86-8638-4D75-A565-12D194EB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BF3-69F8-4E71-8CF5-CC007321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EEE-083E-4B9F-BCFD-97D4E2E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69B-80F1-417E-AB4E-D0430BBF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9371-15DE-422A-8CAE-15B48C6C3224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506E-BA58-43CB-9587-71169AF2A864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84080" y="3429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25092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is filtered across </a:t>
            </a:r>
            <a:r>
              <a:rPr b="0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 semi-permeable membrane into the Bowman’s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iving force for  GF  is hydrostatic pressure of blood flowing in capill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iltrate contains water, glucose, amino acids, sodium bicarbonates, organic solutes and electrolytes (sodium, potassium, chlorid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18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270000"/>
                <a:tab algn="l" pos="727200"/>
                <a:tab algn="l" pos="1184400"/>
                <a:tab algn="l" pos="1641600"/>
                <a:tab algn="l" pos="2098800"/>
                <a:tab algn="l" pos="2556000"/>
                <a:tab algn="l" pos="3013200"/>
                <a:tab algn="l" pos="3470400"/>
                <a:tab algn="l" pos="3927600"/>
                <a:tab algn="l" pos="4384800"/>
                <a:tab algn="l" pos="4842000"/>
                <a:tab algn="l" pos="5299200"/>
                <a:tab algn="l" pos="5756400"/>
                <a:tab algn="l" pos="6213600"/>
                <a:tab algn="l" pos="6670800"/>
                <a:tab algn="l" pos="7128000"/>
                <a:tab algn="l" pos="7585200"/>
                <a:tab algn="l" pos="8042400"/>
                <a:tab algn="l" pos="8499600"/>
                <a:tab algn="l" pos="8956800"/>
                <a:tab algn="l" pos="941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Blood cells, platelets, and plasma proteins are retained in the blood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not filtered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588320" y="189000"/>
            <a:ext cx="55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(GF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o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rugs are filtered through glomerul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Glomerular filtration of drugs occu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Low molecular weight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Water soluble drugs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e.g. aminoglycosides, tubocurarin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Free form of the drugs (not bound to plasma protei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100000"/>
              </a:lnSpc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with low volume of distribution (V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omerular Filtration Rate (GF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amount of blood filtered by the glomeruli in a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GFR = 125 ml/m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sed as a marker or indicator for kidney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FR is determined by creatinine, inulin (inulin is easily filtered by kidney not reabsorb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reatinine clearance (CrCl) is used as a marker instead of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128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Active Tubular Se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ccurs mainly in proximal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It increases drug concentration in the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2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Drugs undergo active secretion have excretion rate values greater than normal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ecretion of ionized drugs into the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e.g.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2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605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acters of active tubular secre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eeds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transports drug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concentration gradients between blood and filt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requires carriers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transporter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t specific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  <a:ea typeface="ＭＳ Ｐゴシック"/>
              </a:rPr>
              <a:t>competition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ay happe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8750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Types of transpor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88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acid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Penicillin, aspirin, sulfonamides, probenec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ransporters for organic base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e.g morphine, catecholamines, atropine,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quinin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578880" indent="-5788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Two drugs can compete for the same carrier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penicil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24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Probenecid &amp; nitrofurant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125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ally similar drug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similar ionic charge and employing the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carrier- mediated proces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cretion enter into competi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rug with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e of excretion wil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ar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excretion of other drug with which it compet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alf life of both drugs is increased since the total sites for active secretion are limi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4920" y="1052280"/>
            <a:ext cx="8497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Beneficia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3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require the same carrier for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competes with or retards renal tubular secre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enicilli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thus less amount of penicillin will be excreted → prolonged duration of action of penicillin &amp; increase in its antibacterial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94920" y="105228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Harmful competition: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 &amp; nitrofuranto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robenecid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hibits renal tubular secretion of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itrofurantoin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thus decreases its efficacy  in urinary tract infections (UTIs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tle 1"/>
          <p:cNvSpPr/>
          <p:nvPr/>
        </p:nvSpPr>
        <p:spPr>
          <a:xfrm>
            <a:off x="108000" y="189000"/>
            <a:ext cx="903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Competitive active tubular secretion of dru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fter glomerular filtration, drugs may be reabsorb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ubular lumen back into systemic blood cir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takes place along all the renal tubu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increases half life of a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absorption may b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factors controlling renal excre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urinary ion trapp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we can prescribe drugs in patients with renal impai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78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nly lipid soluble drugs (non-ionize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dergo passive tubular re-absorption from tubular lumen back into bloo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t excreted in the urine, urinary excretion will be low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onized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ter soluble) are poorly reabsorbed, excreted easily in the urine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excretion will be 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128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471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485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9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1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3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7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3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3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9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1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5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9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re-absorp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occurs with endogenous substances or nutrients that the body needs to conserve. e.g. glucose, electrolytes, amino acids, uric acid, vitam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Probenec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cts as 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uricosuric ag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n the treatment of g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ncreases excretion of uric acid in urin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ＭＳ Ｐゴシック"/>
              </a:rPr>
              <a:t>inhibiting  active tubular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f the endogenous metabolite u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46040" y="836280"/>
            <a:ext cx="84470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ochemical properties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  <a:tab algn="l" pos="601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 charac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factor e.g. 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85000"/>
              <a:buFont typeface="Wingdings" charset="2"/>
              <a:buChar char="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nal blood flow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renal function depends upon renal blood f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e in renal blood flow can decrease excretion of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. aspirin and ibuprofen inhibit the produc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refore reduces renal perfusion and GF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Molecular weight of the drug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r MW drugs are difficult to be excreted than smaller MW especially by 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) Lipid solubility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is inversely related to lipophil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lipid solubility increases volume of distribution of drug and decrease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9280" y="98064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Degree of ionization of drug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ionization of drug increases its water solubility and thus enhances its renal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or water soluble drugs are easily filtered e.g aminoglycosides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) Volume of distribution (vd)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inversely related to volume of distribution of drugs (Vd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poorly excreted in ur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restricted to bloo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vd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er renal excretion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50560" y="980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) Binding characteristics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bound to plasma proteins behave as macromolecules and cannot be filtered through glomerulu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unbound form of dru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 form) appears in glomerular filt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ound drugs have long half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4614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renal excretion of drugs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980640"/>
            <a:ext cx="87138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) Biological factor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can affect renal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reduced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pharmacokinetic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visable otherwise toxicity may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es of Excretion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j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85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inor routes of e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Garamond"/>
              </a:rPr>
              <a:t>Renal Excretion of drugs in neonates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o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body water than adul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me of distribution of water-soluble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ower concentration of dru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the blood coming to the kidneys and decreased rate of drug clearanc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nal blood flow in newbor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erular filtra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Garamond"/>
              </a:rPr>
              <a:t>Effects of Aging on the Kidney (in Elderly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001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functional nephr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bular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lomerular filtration rate (GF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drug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eases stat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irs the elimination of drugs thus may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alf-life (t ½ ) of drug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is may occur du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 and pH of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drugs are weak acids or weak b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Normal urine (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pH 5.3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) 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slightly acidic and favors excretion of </a:t>
            </a:r>
            <a:r>
              <a:rPr b="0" lang="en-US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basic drug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Most of </a:t>
            </a:r>
            <a:r>
              <a:rPr b="0" lang="en-GB" sz="3000" spc="-1" strike="noStrike">
                <a:solidFill>
                  <a:srgbClr val="0000ff"/>
                </a:solidFill>
                <a:latin typeface="Georgia"/>
                <a:ea typeface="ＭＳ Ｐゴシック"/>
              </a:rPr>
              <a:t>acidic drugs</a:t>
            </a:r>
            <a:r>
              <a:rPr b="0" lang="en-GB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will be reabsorbed back into bod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Change pH of urine can inhibit or enhance the passive tubular re-absorp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5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3840" y="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used to enhance renal clearance of drugs during toxi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mmonium chloride (NH4Cl) increases excretion of basic drugs (amphetamine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5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acidic drugs (aspir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52280" y="1031760"/>
            <a:ext cx="8712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ider a barbiturate (weak acidic drug) overdo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4140360" y="184464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619280" y="162864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5.3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50920" y="2852640"/>
            <a:ext cx="856908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More non-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ortion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ess Ionized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780000" y="5037120"/>
            <a:ext cx="0" cy="792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"/>
          <p:cNvSpPr/>
          <p:nvPr/>
        </p:nvSpPr>
        <p:spPr>
          <a:xfrm>
            <a:off x="324000" y="162864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103320" y="6097680"/>
            <a:ext cx="8940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reabsorbed back into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3494160" y="3333600"/>
            <a:ext cx="1584360" cy="935280"/>
          </a:xfrm>
          <a:custGeom>
            <a:avLst/>
            <a:gdLst>
              <a:gd name="textAreaLeft" fmla="*/ 212040 w 1584360"/>
              <a:gd name="textAreaRight" fmla="*/ 1372320 w 1584360"/>
              <a:gd name="textAreaTop" fmla="*/ 163440 h 935280"/>
              <a:gd name="textAreaBottom" fmla="*/ 6782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067280" y="213372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1547640" y="2133720"/>
            <a:ext cx="5473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         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539640" y="3141720"/>
            <a:ext cx="82803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Less Non-ionized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weak acid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ore Io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3203640" y="3933720"/>
            <a:ext cx="22320" cy="1195560"/>
          </a:xfrm>
          <a:prstGeom prst="line">
            <a:avLst/>
          </a:prstGeom>
          <a:ln w="181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250920" y="21337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3635280" y="3284640"/>
            <a:ext cx="1657440" cy="360360"/>
          </a:xfrm>
          <a:custGeom>
            <a:avLst/>
            <a:gdLst>
              <a:gd name="textAreaLeft" fmla="*/ 221760 w 1657440"/>
              <a:gd name="textAreaRight" fmla="*/ 1435680 w 165744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152280" y="1031760"/>
            <a:ext cx="8712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presence of sodium bicarbonate, urine is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alkalin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mo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cretion of acidic drug into u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203040" y="6165720"/>
            <a:ext cx="894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of acidic drug will be eliminated into ur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2"/>
          <p:cNvSpPr/>
          <p:nvPr/>
        </p:nvSpPr>
        <p:spPr>
          <a:xfrm>
            <a:off x="324000" y="22716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Creatinine clearance and drugs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250920" y="981000"/>
            <a:ext cx="864216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rate (CrCl) is the volume of blood that is cleared of creatinine per uni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66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 (CrC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to estimate glomerular filtration rate (GFR) because creatinine is produced from muscle and freely filt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w MW, water soluble, and is not protein boun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075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 [Cp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 : drug concentration in the u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u : volume of urine in 24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:  drug concentration in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143160" y="21430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22200" y="1126800"/>
            <a:ext cx="8642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ckcroft-Gault equa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stimation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male: CrCl  =        0.85 (140 − age) X body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e:    CrCl  =   (140 − age) X body w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um creatinine ×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"/>
          <p:cNvSpPr/>
          <p:nvPr/>
        </p:nvSpPr>
        <p:spPr>
          <a:xfrm>
            <a:off x="324000" y="26028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timation of Creatinine Clear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203640" y="4581360"/>
            <a:ext cx="403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780000" y="2924280"/>
            <a:ext cx="43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le’s loop (Ascending –Descend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clearance of drug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nal clearance is impaired, this may incr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  of drugs and may result into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toxic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especially important for some drugs which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in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3b812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arrow therapeutic 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 lithium, digoxin, warfarin)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179280" y="189000"/>
            <a:ext cx="8640720" cy="61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rugs excreted mainly by the kidney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biotic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nicillins, cephalospori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inoglycoside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lfonam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NSAIDs e.g.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Lithium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Digox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Immunosuppressant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yclosporin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Anticancer drugs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(cisplat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Garamond"/>
              </a:rPr>
              <a:t>Be careful upon prescribing those drugs in: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Renal failure patients – Elderly pati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97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ff0000"/>
                </a:solidFill>
                <a:latin typeface="Garamond"/>
              </a:rPr>
              <a:t>So what should we do in renal impairment?</a:t>
            </a:r>
            <a:r>
              <a:rPr b="0" lang="en-AU" sz="34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drugs is required </a:t>
            </a:r>
            <a:r>
              <a:rPr b="1" i="1" lang="en-A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when 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reatinine clearance is below 60 ml/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usual dose but prolong the dosing interval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gentamicin)</a:t>
            </a:r>
            <a:r>
              <a:rPr b="0" lang="en-A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the dose without changing dosing intervals in case of drugs with narrow therapeutic index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.g. dig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lang="en-A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324000" y="227160"/>
            <a:ext cx="856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atinine clearance and drugs excretio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50920" y="1268280"/>
            <a:ext cx="864216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are primarily excreted by the kidne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dose adju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dose adjustment if CrCl = 30-60 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dose adjustment if CrCl &lt; 15mL/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When dose reduction is not required in renal impairment 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drugs e.g.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eftriaxone, minocyc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excreted mainly into feces (biliary excretion) doesn’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: hananhhagar@yah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j0078711"/>
          <p:cNvPicPr/>
          <p:nvPr/>
        </p:nvPicPr>
        <p:blipFill>
          <a:blip r:embed="rId1"/>
          <a:stretch/>
        </p:blipFill>
        <p:spPr>
          <a:xfrm>
            <a:off x="6084720" y="1268280"/>
            <a:ext cx="2057400" cy="393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9001440" cy="5572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57120" y="76320"/>
            <a:ext cx="8501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unit of kidney i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57120" y="53578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ephr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organ for drug excretion is the kidney.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500880" y="3071880"/>
            <a:ext cx="180000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470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200" spc="-1" strike="noStrike">
                <a:solidFill>
                  <a:srgbClr val="ff0000"/>
                </a:solidFill>
                <a:latin typeface="Garamond"/>
              </a:rPr>
              <a:t>Normal kidney func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3840" y="1052280"/>
            <a:ext cx="882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electrolytes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ldoster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of water balance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diuretic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A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orm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wastes &amp; drug metabolites such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Renal excretion of drug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occurs through three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e or active tubular re-absorp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04-23T04:55:44Z</dcterms:modified>
  <cp:revision>322</cp:revision>
  <dc:subject/>
  <dc:title>GENERAL PHARMACOLOGY</dc:title>
</cp:coreProperties>
</file>