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40A8-42F8-4BF2-9ADB-43C08922A1F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203C3-D676-4790-80BF-7E317B25DC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F515-D46F-47BC-B8D0-82CDE4B75BF4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18F-8923-4F22-B09E-71FC96C74DB7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226B-0410-4864-9B8A-E347AB3AFBE7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971B-4237-43BB-85CC-6A04B1DF687F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3640-878F-4832-83F5-685A06431458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015-1CB3-42CC-83C8-696C482782E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715-4FAD-464D-A399-4338C2F14D1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2C19-BF8F-4216-9CE3-9D7A4D89C226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560-EC16-4494-B944-7F8B442CA8BB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1C4A-69FF-4044-AA3E-176B79E5DEA1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85C9-2DA7-49A1-8C36-D76BF986CD3D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5FBA-84F2-42AC-8CE2-263C86F3EEB6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57C0-AB3C-4C53-A7D1-E55E9FC83F1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6DE8-25B1-4A5B-8F55-A777ACD44632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9F63-45DD-413B-B899-8609E5896B79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0636-585E-47A8-9C82-0819A4A185AD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13550-B5B4-4C12-93CB-5385EF0894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4B4-0E35-4514-AB47-5B2144D45F7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2A7E-14CA-4DC8-8F5B-8E2CB628826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6F9-EDC5-4C80-A494-7B806D57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BE0-753A-4891-ADFE-9C4ADED1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9FD-C0F8-4BF8-8C1E-930E3768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CD4-489F-4CC1-8697-40AA4C74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C170-4169-4810-9A41-C59684B6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D66A-D44C-4C1C-BA95-77E10136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C55F-559A-4E30-B41A-CDC885EE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0D09-1310-475F-BDB9-BBC54C13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CFC4-7A31-402C-8694-C0E1C9D9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3C1F-C339-4D69-B604-24A2B0AD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8183-BCBF-468D-BE93-ADB4527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5A9-58BE-4C58-B575-626A643C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3091-0B57-411F-BFA0-D130624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03C9-5E92-464B-B998-0B1E1FA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6111-C631-418C-A892-15C3CBAF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331A-9405-4265-B28E-69C7DF52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175A-EBB6-45A6-90D1-24BF7368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433-E523-4DD9-B4E2-A93C6679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622-0F94-4D8F-BEA8-3D56E7B7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DB1-ADBC-4D65-8044-30187416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697-EE40-462A-9EC8-4693C8D1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4E4-1F05-44D0-AD0A-C092A91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1F0-30B3-4EF1-A544-C1FECEF5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D84-65F3-41B0-A89A-275B990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1024-0E84-4CBC-BC2A-E7BCCC36B48D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7852-22C1-44D9-90A4-077A828D31FF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84080" y="3429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lood is filtered across </a:t>
            </a:r>
            <a:r>
              <a:rPr b="0" lang="en-US" sz="3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a semi-permeable membrane into the Bowman’s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iving force for  GF  is hydrostatic pressure of blood flowing 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iltrate contains water, glucose, amino acids, sodium bicarbonates, organic solutes and electrolytes (sodium, potassium, chlor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lood cells, platelets, and plasma proteins are retained in the blood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not filtered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88320" y="18900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(GF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ugs are filtered through glomer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Glomerular filtration of drugs occu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Low molecular weight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Water soluble drug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e.g. aminoglycosides, tubocurarin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ree form of the drugs (not bound to plasma protein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ugs with low volume of distribution (V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Rate (GF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mount of blood filtered by the glomeruli in a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GFR = 125 ml/m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FR 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used as a marker or indicator for kidne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FR is determined by creatinine, inulin (inulin is easily filtered by kidney not reabsorb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eatinine clearance (CrCl) is used as a marker instead of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ctive Tubular Se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ccurs mainly in proximal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It increases drug concentration in the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ugs undergo active secretion have excretion rate values greater than normal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ecretion of ionized drugs into the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e.g. 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605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acters of active tubular secre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eeds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ransports drug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concentration gradients between blood and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requires carrier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transporter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ot specific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competition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ay happe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50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Types of transpo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ransporters for organic acid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e.g Penicillin, aspirin, sulfonamides, probenec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ransporters for organic base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e.g morphine, catecholamines, atropine,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inin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wo drugs can compete for the same carrie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benecid &amp;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benecid &amp; nitrofuran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ly similar drug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similar ionic charge and employing th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 carrier- mediated proces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cretion enter into compet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ug with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e of excretion wil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ar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excretion of other drug with which it compet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f life of both drugs is increased since the total sites for active secretion are lim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4920" y="1052280"/>
            <a:ext cx="8497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Beneficia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3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 &amp; 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require the same carrier for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competes with or retards renal tubular secre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nicill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thus less amount of penicillin will be excreted → prolonged duration of action of penicillin &amp; increase in its antibacterial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4920" y="1052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Harmfu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 &amp; nitrofuranto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eneci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hibits renal tubular secretion of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trofurantoi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hus decreases its efficacy  in urinary tract infections (UTIs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glomerular filtration, drugs may be reabsorb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ubular lumen back into systemic blood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place along all the renal tubu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increases half life of a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may b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factors controlling renal excre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urinary ion tra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we can prescribe drugs in patients with renal impai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lipid soluble drugs (non-ioniz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ergo passive tubular re-absorption from tubular lumen back into bloo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ot excreted in the urine, urinary excretion will be low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onized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ater soluble) are poorly reabsorbed, excreted easily in the urine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excretion will be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128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47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47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485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3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7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3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occurs with endogenous substances or nutrients that the body needs to conserve. e.g. glucose, electrolytes, amino acids, uric acid, vitam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cts as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uricosuric ag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n the treatment of g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ncreases excretion of uric acid in urin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ＭＳ Ｐゴシック"/>
              </a:rPr>
              <a:t>inhibiting  active tubular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f the endogenous metabolite u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604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chemical properties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 charac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factor e.g.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l blood flow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renal function depends upon renal bloo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e in renal blood flow can decrease excretion of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. aspirin and ibuprofen inhibit the produc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refore reduces renal perfusion and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Molecular weight of the drug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MW drugs are difficult to be excreted than smaller MW especially by 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) Lipid solubility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is inversely related to lipophil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lipid solubility increases volume of distribution of drug and decrease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Degree of ionization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ionization of drug increases its water solubility and thus enhances it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or water soluble drugs are easily filtered e.g aminoglycosides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Volume of distribution (vd)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inversely related to volume of distribution of drugs (V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oorly excreted in u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restricted to bloo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vd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higher renal excretion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) Binding characteristics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bound to plasma proteins behave as macromolecules and cannot be filtered through glomerulu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unbound form of dru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 form) appears in glomerular fil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ound drugs have long half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61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) Biological factor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can affect renal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reduc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pharmacokinetic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visable otherwise toxicity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s of Excreti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j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Garamond"/>
              </a:rPr>
              <a:t>Renal Excretion of drugs in neonates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body water than adul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me of distribution of water-soluble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ower concentration of dru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blood coming to the kidneys and decreased rate of drug cleara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al blood flow in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erular filtra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Garamond"/>
              </a:rPr>
              <a:t>Effects of Aging on the Kidney (in Elderly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functional neph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ular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merular filtration rate (GF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drug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eases st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s the elimination of drugs thus m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lf-life (t ½ ) of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may occur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genic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renal excre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 (e.g. glomerulonephr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 and pH of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st drugs are weak acids or weak 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ormal urine (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pH 5.3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)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lightly acidic and favors excretion of 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basic drug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st of 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acidic drugs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will be reabsorbed back into bo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hange pH of urine can inhibit or enhance the passive tubular re-absorp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13840" y="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d to enhance renal clearance of drugs during tox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cidifi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mmonium chloride (NH4Cl) increases excretion of basic drugs (amphetamine)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lkaliz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odium bicarbonate NaHCO3 increases excretion of acidic drugs (aspi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52280" y="1031760"/>
            <a:ext cx="871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barbiturate (weak acidic drug) overd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140360" y="184464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619280" y="162864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5.3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50920" y="2852640"/>
            <a:ext cx="856908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More non-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ortion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ess Ionized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780000" y="5037120"/>
            <a:ext cx="0" cy="792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324000" y="162864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103320" y="6097680"/>
            <a:ext cx="894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acidic drug will be reabsorbed back into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494160" y="3333600"/>
            <a:ext cx="1584360" cy="9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067280" y="213372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547640" y="213372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8.0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39640" y="3141720"/>
            <a:ext cx="8280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Less Non-ionized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ore 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203640" y="3933720"/>
            <a:ext cx="22320" cy="1195560"/>
          </a:xfrm>
          <a:prstGeom prst="line">
            <a:avLst/>
          </a:prstGeom>
          <a:ln w="181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250920" y="213372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3635280" y="3284640"/>
            <a:ext cx="1657440" cy="360360"/>
          </a:xfrm>
          <a:custGeom>
            <a:avLst/>
            <a:gdLst>
              <a:gd name="textAreaLeft" fmla="*/ 221760 w 1657440"/>
              <a:gd name="textAreaRight" fmla="*/ 1435680 w 165744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52280" y="1031760"/>
            <a:ext cx="8712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resence of sodium bicarbonate, urine is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alkali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o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retion of acidic drug into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203040" y="6165720"/>
            <a:ext cx="894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acidic drug will be eliminated into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2"/>
          <p:cNvSpPr/>
          <p:nvPr/>
        </p:nvSpPr>
        <p:spPr>
          <a:xfrm>
            <a:off x="324000" y="2271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reatinine clearance and drugs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250920" y="981000"/>
            <a:ext cx="8642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rate (CrCl) is the volume of blood that is cleared of creatinine per uni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(CrC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to estimate glomerular filtration rate (GFR) because creatinine is produced from muscle and freely filt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w MW, water soluble, and is not protein bou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 [Cp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: drug concentration in the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 : volume of urine in 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  drug concentration in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3143160" y="21430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22200" y="112680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ckcroft-Gault equ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stim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: CrCl  =        0.85 (140 − age) X body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:    CrCl  =   (140 − age) X body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324000" y="26028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imation of Creatinine Clea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203640" y="458136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780000" y="2924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le’s loop (Ascending –Desce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 of dru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nal clearance is impaired, this may incr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  of drugs and may result in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especially important for some drugs whic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in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by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rrow therapeutic 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lithium, digoxin, warfarin)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3059280" y="2421000"/>
            <a:ext cx="43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79280" y="189000"/>
            <a:ext cx="864072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rugs excreted mainly by the kidne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biotic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enicillins, cephalospor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inoglycosides (gentamyc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lfonam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NSAIDs e.g.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Lithiu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Digox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Immunosuppressant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yclospori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cancer drug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isplat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aramond"/>
              </a:rPr>
              <a:t>Be careful upon prescribing those drugs in: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Renal failure patients – Elderly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ff0000"/>
                </a:solidFill>
                <a:latin typeface="Garamond"/>
              </a:rPr>
              <a:t>So what should we do in renal impairment?</a:t>
            </a:r>
            <a:r>
              <a:rPr b="0" lang="en-AU" sz="34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of drugs is required </a:t>
            </a:r>
            <a:r>
              <a:rPr b="1" i="1" lang="en-A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when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reatinine clearance is below 60 ml/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usual dose but prolong the dosing interval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.g. gentamicin)</a:t>
            </a:r>
            <a:r>
              <a:rPr b="0" lang="en-A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the dose without changing dosing intervals in case of drugs with narrow therapeutic index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.g. dig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blood levels of drugs </a:t>
            </a:r>
            <a:r>
              <a:rPr b="1" lang="en-A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herapeutic drug monito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324000" y="22716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inine clearance and drugs excre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50920" y="1268280"/>
            <a:ext cx="864216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primarily excreted by the kidn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dose adju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dose adjustment if CrCl = 30-60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dose adjustment if CrCl &lt; 15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When dose reduction is not required in renal impairment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drugs e.g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ftriaxone, minocyc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excreted mainly into feces (biliary excretion) doesn’t need dose adjustment in renal impai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lin and creatinine are used to assess re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for active secretion prolongs half life of some drugs e.g penicillin and probeni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hananhhagar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j0078711"/>
          <p:cNvPicPr/>
          <p:nvPr/>
        </p:nvPicPr>
        <p:blipFill>
          <a:blip r:embed="rId1"/>
          <a:stretch/>
        </p:blipFill>
        <p:spPr>
          <a:xfrm>
            <a:off x="6084720" y="1268280"/>
            <a:ext cx="2057400" cy="393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9001440" cy="5572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57120" y="76320"/>
            <a:ext cx="8501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57120" y="5357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important organ for drug excretion is the kidney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500880" y="3071880"/>
            <a:ext cx="180000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470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ff0000"/>
                </a:solidFill>
                <a:latin typeface="Garamond"/>
              </a:rPr>
              <a:t>Normal kidney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3840" y="1052280"/>
            <a:ext cx="8821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electrolyte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ldo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water balance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-diuretic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wastes &amp; drug metabolites such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Renal excretion of drug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occurs through three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or active tubular re-absorp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5-04-23T04:55:44Z</dcterms:modified>
  <cp:revision>322</cp:revision>
  <dc:subject/>
  <dc:title>GENERAL PHARMACOLOGY</dc:title>
</cp:coreProperties>
</file>