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279C-3320-4616-90DC-E6F1E233FF1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A632-80B6-4911-91DB-4D036F15D94E}" type="slidenum">
              <a:rPr b="0" lang="hu-H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BBB4-3DCE-4857-A146-973B6FF80EA1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DC78-FB58-4CAF-861A-49998A84E5E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7DE4-5A8F-4EE9-875B-37AE42C57E0D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3E2B-1EF3-402E-919E-728752C26271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217B-2BC4-49AD-8EA6-9C4DD413CD2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5682-24D1-4C0E-B42E-60FDA547B29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E47C-92F9-43A1-A228-33273B509520}" type="slidenum">
              <a:rPr b="0" lang="hu-H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F191-9B21-4DB4-B9E6-6AA0698DFBBC}" type="slidenum">
              <a:rPr b="0" lang="hu-H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D4A8-BC2D-4BCF-A762-F1D3B71C6027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2735-D67E-4213-A10D-7C13BFBA3DA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E73A-0B80-4FAA-8CDC-EA6F3FDEE5D5}" type="slidenum">
              <a:rPr b="0" lang="hu-HU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C80B-EE21-48B4-BC38-A2255218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F01-8944-4955-B9FD-7E42B9EC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E28-5061-4FA6-89C9-BF679498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478-AF85-4DAF-A150-858056DE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089ED-2086-4BC4-A2BF-C3828E28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0D11-94FC-4BD0-B010-8F979ADF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5702-D28A-4805-B6CA-B4B30B7C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3925-7F12-4E15-8DE1-2004E06B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3BBA-8864-486F-9C20-62841EBD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8DCA-3D03-4BE4-A5DA-4EB95C5C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A35C-18DD-442F-AAE6-FF1C8263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74B-3935-453A-A5F7-ADDDCE7F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0473-5210-426D-BDB4-5A501E3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176A-3282-49A5-8840-2456ADF5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8880-2D83-44E2-BBF0-7FA50B97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1863-5DEB-45EE-9C58-D5283D6EB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55DD-C709-4BF6-979D-D26EC1F0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426-FBBF-481B-86E1-82BE69F0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31A-0494-4DB0-8277-C5429BFC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0F0-4943-4E1B-8CC9-F86087B6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761-236F-4F9C-85B6-8935C946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122-00C4-4E6F-BC37-C9323F78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34C-A018-48FC-968D-FB42C390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91C-85D1-4C68-A625-BE4E5C19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03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AutoShape 3"/>
            <p:cNvSpPr/>
            <p:nvPr/>
          </p:nvSpPr>
          <p:spPr>
            <a:xfrm rot="20940000">
              <a:off x="6934320" y="5919840"/>
              <a:ext cx="4572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7691400" y="5353200"/>
              <a:ext cx="419040" cy="419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6" y="3826"/>
                  </a:lnTo>
                  <a:lnTo>
                    <a:pt x="5000" y="0"/>
                  </a:lnTo>
                  <a:lnTo>
                    <a:pt x="6174" y="3826"/>
                  </a:lnTo>
                  <a:lnTo>
                    <a:pt x="10000" y="3826"/>
                  </a:lnTo>
                  <a:lnTo>
                    <a:pt x="6894" y="6174"/>
                  </a:lnTo>
                  <a:lnTo>
                    <a:pt x="8106" y="10000"/>
                  </a:lnTo>
                  <a:lnTo>
                    <a:pt x="5000" y="7652"/>
                  </a:lnTo>
                  <a:lnTo>
                    <a:pt x="1894" y="10000"/>
                  </a:lnTo>
                  <a:lnTo>
                    <a:pt x="3106" y="6174"/>
                  </a:lnTo>
                  <a:lnTo>
                    <a:pt x="0" y="3826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rot="1320000">
              <a:off x="8282160" y="5257800"/>
              <a:ext cx="60948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28" y="3828"/>
                  </a:lnTo>
                  <a:lnTo>
                    <a:pt x="5000" y="0"/>
                  </a:lnTo>
                  <a:lnTo>
                    <a:pt x="6172" y="3828"/>
                  </a:lnTo>
                  <a:lnTo>
                    <a:pt x="10000" y="3828"/>
                  </a:lnTo>
                  <a:lnTo>
                    <a:pt x="6901" y="6172"/>
                  </a:lnTo>
                  <a:lnTo>
                    <a:pt x="8099" y="10000"/>
                  </a:lnTo>
                  <a:lnTo>
                    <a:pt x="5000" y="7630"/>
                  </a:lnTo>
                  <a:lnTo>
                    <a:pt x="1901" y="10000"/>
                  </a:lnTo>
                  <a:lnTo>
                    <a:pt x="3099" y="6172"/>
                  </a:lnTo>
                  <a:lnTo>
                    <a:pt x="0" y="3828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20940000">
              <a:off x="7062840" y="6019920"/>
              <a:ext cx="4572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>
              <a:off x="7767720" y="5429160"/>
              <a:ext cx="419040" cy="419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6" y="3826"/>
                  </a:lnTo>
                  <a:lnTo>
                    <a:pt x="5000" y="0"/>
                  </a:lnTo>
                  <a:lnTo>
                    <a:pt x="6174" y="3826"/>
                  </a:lnTo>
                  <a:lnTo>
                    <a:pt x="10000" y="3826"/>
                  </a:lnTo>
                  <a:lnTo>
                    <a:pt x="6894" y="6174"/>
                  </a:lnTo>
                  <a:lnTo>
                    <a:pt x="8106" y="10000"/>
                  </a:lnTo>
                  <a:lnTo>
                    <a:pt x="5000" y="7652"/>
                  </a:lnTo>
                  <a:lnTo>
                    <a:pt x="1894" y="10000"/>
                  </a:lnTo>
                  <a:lnTo>
                    <a:pt x="3106" y="6174"/>
                  </a:lnTo>
                  <a:lnTo>
                    <a:pt x="0" y="382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rot="1320000">
              <a:off x="8358120" y="5409720"/>
              <a:ext cx="609840" cy="60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28" y="3828"/>
                  </a:lnTo>
                  <a:lnTo>
                    <a:pt x="5000" y="0"/>
                  </a:lnTo>
                  <a:lnTo>
                    <a:pt x="6172" y="3828"/>
                  </a:lnTo>
                  <a:lnTo>
                    <a:pt x="10000" y="3828"/>
                  </a:lnTo>
                  <a:lnTo>
                    <a:pt x="6901" y="6172"/>
                  </a:lnTo>
                  <a:lnTo>
                    <a:pt x="8099" y="10000"/>
                  </a:lnTo>
                  <a:lnTo>
                    <a:pt x="5000" y="7630"/>
                  </a:lnTo>
                  <a:lnTo>
                    <a:pt x="1901" y="10000"/>
                  </a:lnTo>
                  <a:lnTo>
                    <a:pt x="3099" y="6172"/>
                  </a:lnTo>
                  <a:lnTo>
                    <a:pt x="0" y="382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EFC3-4016-464D-981A-57C53E26F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2" name="Rectangle 14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140150"/>
              </a:gs>
              <a:gs pos="100000">
                <a:srgbClr val="2b03a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Freeform 18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Freeform 19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03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 rot="1320000">
            <a:off x="396720" y="54900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140150"/>
              </a:gs>
              <a:gs pos="100000">
                <a:srgbClr val="2b03a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AutoShape 3"/>
          <p:cNvSpPr/>
          <p:nvPr/>
        </p:nvSpPr>
        <p:spPr>
          <a:xfrm rot="20940000">
            <a:off x="1828800" y="3049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140150"/>
              </a:gs>
              <a:gs pos="100000">
                <a:srgbClr val="2b03a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261000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140150"/>
              </a:gs>
              <a:gs pos="100000">
                <a:srgbClr val="2b03a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AutoShape 5"/>
          <p:cNvSpPr/>
          <p:nvPr/>
        </p:nvSpPr>
        <p:spPr>
          <a:xfrm rot="20940000">
            <a:off x="175248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2533680" y="1908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Group 7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0" name="AutoShape 8"/>
            <p:cNvSpPr/>
            <p:nvPr/>
          </p:nvSpPr>
          <p:spPr>
            <a:xfrm rot="20940000">
              <a:off x="6934320" y="5843520"/>
              <a:ext cx="4572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AutoShape 9"/>
            <p:cNvSpPr/>
            <p:nvPr/>
          </p:nvSpPr>
          <p:spPr>
            <a:xfrm>
              <a:off x="7691400" y="5276880"/>
              <a:ext cx="419040" cy="419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6" y="3826"/>
                  </a:lnTo>
                  <a:lnTo>
                    <a:pt x="5000" y="0"/>
                  </a:lnTo>
                  <a:lnTo>
                    <a:pt x="6174" y="3826"/>
                  </a:lnTo>
                  <a:lnTo>
                    <a:pt x="10000" y="3826"/>
                  </a:lnTo>
                  <a:lnTo>
                    <a:pt x="6894" y="6174"/>
                  </a:lnTo>
                  <a:lnTo>
                    <a:pt x="8106" y="10000"/>
                  </a:lnTo>
                  <a:lnTo>
                    <a:pt x="5000" y="7652"/>
                  </a:lnTo>
                  <a:lnTo>
                    <a:pt x="1894" y="10000"/>
                  </a:lnTo>
                  <a:lnTo>
                    <a:pt x="3106" y="6174"/>
                  </a:lnTo>
                  <a:lnTo>
                    <a:pt x="0" y="3826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AutoShape 10"/>
            <p:cNvSpPr/>
            <p:nvPr/>
          </p:nvSpPr>
          <p:spPr>
            <a:xfrm rot="1320000">
              <a:off x="8282160" y="5181480"/>
              <a:ext cx="609480" cy="6098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28" y="3828"/>
                  </a:lnTo>
                  <a:lnTo>
                    <a:pt x="5000" y="0"/>
                  </a:lnTo>
                  <a:lnTo>
                    <a:pt x="6172" y="3828"/>
                  </a:lnTo>
                  <a:lnTo>
                    <a:pt x="10000" y="3828"/>
                  </a:lnTo>
                  <a:lnTo>
                    <a:pt x="6901" y="6172"/>
                  </a:lnTo>
                  <a:lnTo>
                    <a:pt x="8099" y="10000"/>
                  </a:lnTo>
                  <a:lnTo>
                    <a:pt x="5000" y="7630"/>
                  </a:lnTo>
                  <a:lnTo>
                    <a:pt x="1901" y="10000"/>
                  </a:lnTo>
                  <a:lnTo>
                    <a:pt x="3099" y="6172"/>
                  </a:lnTo>
                  <a:lnTo>
                    <a:pt x="0" y="3828"/>
                  </a:lnTo>
                  <a:close/>
                </a:path>
              </a:pathLst>
            </a:cu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AutoShape 11"/>
            <p:cNvSpPr/>
            <p:nvPr/>
          </p:nvSpPr>
          <p:spPr>
            <a:xfrm rot="20940000">
              <a:off x="7062840" y="5943600"/>
              <a:ext cx="457200" cy="4572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10" y="6181"/>
                  </a:lnTo>
                  <a:lnTo>
                    <a:pt x="8090" y="10000"/>
                  </a:lnTo>
                  <a:lnTo>
                    <a:pt x="5000" y="7639"/>
                  </a:lnTo>
                  <a:lnTo>
                    <a:pt x="1910" y="10000"/>
                  </a:lnTo>
                  <a:lnTo>
                    <a:pt x="3090" y="6181"/>
                  </a:lnTo>
                  <a:lnTo>
                    <a:pt x="0" y="3819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AutoShape 12"/>
            <p:cNvSpPr/>
            <p:nvPr/>
          </p:nvSpPr>
          <p:spPr>
            <a:xfrm>
              <a:off x="7767720" y="5353200"/>
              <a:ext cx="419040" cy="41904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6"/>
                  </a:moveTo>
                  <a:lnTo>
                    <a:pt x="3826" y="3826"/>
                  </a:lnTo>
                  <a:lnTo>
                    <a:pt x="5000" y="0"/>
                  </a:lnTo>
                  <a:lnTo>
                    <a:pt x="6174" y="3826"/>
                  </a:lnTo>
                  <a:lnTo>
                    <a:pt x="10000" y="3826"/>
                  </a:lnTo>
                  <a:lnTo>
                    <a:pt x="6894" y="6174"/>
                  </a:lnTo>
                  <a:lnTo>
                    <a:pt x="8106" y="10000"/>
                  </a:lnTo>
                  <a:lnTo>
                    <a:pt x="5000" y="7652"/>
                  </a:lnTo>
                  <a:lnTo>
                    <a:pt x="1894" y="10000"/>
                  </a:lnTo>
                  <a:lnTo>
                    <a:pt x="3106" y="6174"/>
                  </a:lnTo>
                  <a:lnTo>
                    <a:pt x="0" y="382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3"/>
            <p:cNvSpPr/>
            <p:nvPr/>
          </p:nvSpPr>
          <p:spPr>
            <a:xfrm rot="1320000">
              <a:off x="8358120" y="5333760"/>
              <a:ext cx="609840" cy="60948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28"/>
                  </a:moveTo>
                  <a:lnTo>
                    <a:pt x="3828" y="3828"/>
                  </a:lnTo>
                  <a:lnTo>
                    <a:pt x="5000" y="0"/>
                  </a:lnTo>
                  <a:lnTo>
                    <a:pt x="6172" y="3828"/>
                  </a:lnTo>
                  <a:lnTo>
                    <a:pt x="10000" y="3828"/>
                  </a:lnTo>
                  <a:lnTo>
                    <a:pt x="6901" y="6172"/>
                  </a:lnTo>
                  <a:lnTo>
                    <a:pt x="8099" y="10000"/>
                  </a:lnTo>
                  <a:lnTo>
                    <a:pt x="5000" y="7630"/>
                  </a:lnTo>
                  <a:lnTo>
                    <a:pt x="1901" y="10000"/>
                  </a:lnTo>
                  <a:lnTo>
                    <a:pt x="3099" y="6172"/>
                  </a:lnTo>
                  <a:lnTo>
                    <a:pt x="0" y="3828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AutoShape 14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68" name="Rectangle 21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65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22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140150"/>
                </a:gs>
                <a:gs pos="100000">
                  <a:srgbClr val="2b03a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8B89-B50A-42E9-A56D-AB95122AB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8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B6FA-2809-4030-9F13-7BF082F176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Treatment of Urinary Tract Infection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066"/>
                </a:solidFill>
                <a:latin typeface="Arial"/>
              </a:rPr>
              <a:t>Treatment of uncomplicated and complicated UTI’s 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Antimicrobial agents: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MP  or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MP/SM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-trimoxazol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trofuranto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nolo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tracyclin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inoglycosid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Arial"/>
              </a:rPr>
              <a:t>β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Lactam antibio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ended spectrum penicill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phalosporins ( 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amp;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. 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AEE0-D4EA-4C65-A85B-B89C8F6435A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lfamethoxazole / Trimethoprim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  (SMX)                   (TMP)   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-trimoxazole ( Bactrim, Septra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agent alone is bacteriosta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gether they are bactericidal     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nergis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ECHANISM OF AC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-Aminobenzoic Ac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hydropteroate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lfonamid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thet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hydrofol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hydrofol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tase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trahydrofol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cleic acid synthesis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492360" y="2060640"/>
            <a:ext cx="0" cy="115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3419640" y="378936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3348000" y="5084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468360" y="2276640"/>
            <a:ext cx="280836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324000" y="3571920"/>
            <a:ext cx="2447640" cy="100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 flipH="1">
            <a:off x="3564000" y="263700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0"/>
          <p:cNvSpPr/>
          <p:nvPr/>
        </p:nvSpPr>
        <p:spPr>
          <a:xfrm flipH="1">
            <a:off x="3564000" y="39337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32360" y="419400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methopr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Ink 13" descr=""/>
          <p:cNvPicPr/>
          <p:nvPr/>
        </p:nvPicPr>
        <p:blipFill>
          <a:blip r:embed="rId1"/>
          <a:stretch/>
        </p:blipFill>
        <p:spPr>
          <a:xfrm>
            <a:off x="6527880" y="4840200"/>
            <a:ext cx="704880" cy="1133640"/>
          </a:xfrm>
          <a:prstGeom prst="rect">
            <a:avLst/>
          </a:prstGeom>
          <a:ln w="0">
            <a:noFill/>
          </a:ln>
        </p:spPr>
      </p:pic>
      <p:pic>
        <p:nvPicPr>
          <p:cNvPr id="154" name="Ink 14" descr=""/>
          <p:cNvPicPr/>
          <p:nvPr/>
        </p:nvPicPr>
        <p:blipFill>
          <a:blip r:embed="rId2"/>
          <a:stretch/>
        </p:blipFill>
        <p:spPr>
          <a:xfrm>
            <a:off x="7564320" y="4759200"/>
            <a:ext cx="552600" cy="874800"/>
          </a:xfrm>
          <a:prstGeom prst="rect">
            <a:avLst/>
          </a:prstGeom>
          <a:ln w="0">
            <a:noFill/>
          </a:ln>
        </p:spPr>
      </p:pic>
      <p:pic>
        <p:nvPicPr>
          <p:cNvPr id="155" name="Ink 15" descr=""/>
          <p:cNvPicPr/>
          <p:nvPr/>
        </p:nvPicPr>
        <p:blipFill>
          <a:blip r:embed="rId3"/>
          <a:stretch/>
        </p:blipFill>
        <p:spPr>
          <a:xfrm>
            <a:off x="7724880" y="5635800"/>
            <a:ext cx="1330200" cy="534960"/>
          </a:xfrm>
          <a:prstGeom prst="rect">
            <a:avLst/>
          </a:prstGeom>
          <a:ln w="0">
            <a:noFill/>
          </a:ln>
        </p:spPr>
      </p:pic>
      <p:pic>
        <p:nvPicPr>
          <p:cNvPr id="156" name="Ink 16" descr=""/>
          <p:cNvPicPr/>
          <p:nvPr/>
        </p:nvPicPr>
        <p:blipFill>
          <a:blip r:embed="rId4"/>
          <a:stretch/>
        </p:blipFill>
        <p:spPr>
          <a:xfrm>
            <a:off x="6402240" y="6162840"/>
            <a:ext cx="857520" cy="347400"/>
          </a:xfrm>
          <a:prstGeom prst="rect">
            <a:avLst/>
          </a:prstGeom>
          <a:ln w="0">
            <a:noFill/>
          </a:ln>
        </p:spPr>
      </p:pic>
      <p:pic>
        <p:nvPicPr>
          <p:cNvPr id="157" name="Ink 17" descr=""/>
          <p:cNvPicPr/>
          <p:nvPr/>
        </p:nvPicPr>
        <p:blipFill>
          <a:blip r:embed="rId5"/>
          <a:stretch/>
        </p:blipFill>
        <p:spPr>
          <a:xfrm>
            <a:off x="7751880" y="6259680"/>
            <a:ext cx="865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1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HARMACOKINETICS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04560" y="1916280"/>
            <a:ext cx="8001000" cy="372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ulfamethoxazo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iven orall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apidly absorbed from stomach and small intestin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dely distributed to tissues and body fluids &amp; crossing the  placenta 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ind to serum protein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tabolized in the liver by the process of acetylation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liminated in the urine, partly as such and partly as acetylated derivative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imethoprim ( TMP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given orall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ell absorbed from the gu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dely distributed in body fluids &amp; tiss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re lipid soluble than SMX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tein bound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60% of TMP or its metabolite is excreted in the uri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MP concentrates in the prostatic fluid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nical u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urinary tract inf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icated urinary tract inf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rrent urinary tract infections especially in femal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statitis  ( acute/ chronic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066"/>
                </a:solidFill>
                <a:latin typeface="Arial"/>
              </a:rPr>
              <a:t>ADVERSE EFFEC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88880"/>
            <a:ext cx="8229600" cy="585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strointestinal ( Nausea, vomiting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matolog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 Acute hemolytic anem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hypersensitvity b) G6PD deficie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MX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 Megaloblastic anemia due to folinic acid deficiency caused by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MP 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rnicterus  ( Jaundice due to Displa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lirubin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inue adverse effec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ystallu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persensitivity rea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B559-2CA7-4B04-BE09-AA72A8DFDCC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INDICA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gnancy  ( cross placent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rsing mother  ( secreted in milk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born Infants  ( encephalopathy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nal or hepatic fail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od disor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77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5" dur="77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77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77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8" dur="77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0" dur="77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77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7" dur="77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9" dur="77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99640" y="1915920"/>
            <a:ext cx="6985080" cy="388908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ROF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AZZ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El-Meda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itrofurantoi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33520" y="25905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Effectiv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ainst E. coli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Gram positive cocci are suscept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 effectiv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ainst  P- aeruginos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echanism of ac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d by bacteria  to an active ag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inhibits various enzymes and dam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27C9-8B6C-4FE8-A740-850A2BA49B3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armacokinetics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39152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bsorbed rapidly and completely from G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000"/>
                </a:solidFill>
                <a:latin typeface="Arial"/>
              </a:rPr>
              <a:t>Well concentrated in the uri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apidly metabolized by the liver , 40 % is  excreted  unchanged into the urine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urns urine to a dark orange- brown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n with foo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ntibacterial activity is higher in an acidic ur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1F9C-AE61-41C8-8DFC-EECABAE7210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dverse effects of nitrofurantoi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T disturbances: nausea, vomiting,  diarrhea &amp;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stric bleeding 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ache and nystagmu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molytic anemia  ( glucose-6-phospha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hydrogenase deficie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lmonary fibrosis  ( on chronic use 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raindica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ients with G 6PD  deficienc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Neonates  (babies up the age of one month)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gnant women ( after 38 weeks of  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egnancy{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ate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egnancy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}   )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atients with decreased renal fun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erapeutic Uses 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28240" y="213372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as urinary antiseptics 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hylaxis &amp; treatment of recurrent urinary tract inf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e: 50-100 mg ( orally four times daily ) for 7 da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tracyclines  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xycyc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nocycl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tracyclines  </a:t>
            </a:r>
            <a:br>
              <a:rPr sz="4000"/>
            </a:b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ad spectrum antibio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teriosta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Mechanism of a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hibit protein synthesis by binding reversibly to 30 s ribosomal subun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DOXYCYCLINE  &amp; Minocycline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armacokine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 acting tetracycl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ually given orally once dai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orption is 90-100 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sorption in the upper s. intest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sorption</a:t>
            </a:r>
            <a:r>
              <a:rPr b="1" lang="en-US" sz="3200" spc="-1" strike="noStrike">
                <a:solidFill>
                  <a:srgbClr val="16015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impaired by</a:t>
            </a:r>
            <a:r>
              <a:rPr b="1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 divalent  cations ( Ca, Mg, Fe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-  milk and its produ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- antacids ( aluminium hydroxide gel,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dium bicarbonat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in binding 40-80 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well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cluding  prostatic t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 placenta and excreted in mil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bolized in liv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xycycline is excreted throug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on renal route  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nocycline is excreted through kidn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dverse effec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usea, vomiting, epigastric pain  and diarrhea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ombophlebitis   ( i.v route 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patic toxicity ( prolonged therapy with high dose 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wn discoloration  &amp; deformity of teeth ( child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ormity or growth inhibition of bones( child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tigo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erinfection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-2989440" y="-369720"/>
            <a:ext cx="228600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deformity of teeth ( childr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orm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Therapeutic U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61760" y="2057400"/>
            <a:ext cx="701028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eatment of UTI’s due t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ycoplasm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lamydi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statiti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raindica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east fee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ldren  ( below 10 years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B13B-7727-4F82-B08D-ACC988BA74A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minoglycosides 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ntamicin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,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bramycin)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tericidal antibio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hibits protein synthesis by binding to 30S  ribosomal subuni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ve against gram negative aerobic organism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orly absorbed or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n I.M,   I.V.,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ss placen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reted  unchanged in ur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active in alkaline mediu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verse effects 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otoxic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phrotoxic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uromuscular blocking effe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Therapeutic u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re  UTIs  caused by gram negative aerobic organisms , gentamicin is effective in treating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seudomonal infections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77004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ontraindications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nal dysfun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ients with hearing problem (Diminished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hea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asthenia grav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  A)  Extended- spectrum penicill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oxicillin / clavulanic aci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peracillin / tazobacta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71629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E77B-D402-498C-B3AE-D29C052EBEE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cc00"/>
                </a:solidFill>
                <a:latin typeface="Arial"/>
              </a:rPr>
              <a:t>β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-Lactam antibiotic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8703-546E-4CEE-9D04-CE42D865B39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Classification of urinary tract infec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-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ymptomatic inf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complicated UT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mainly in women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yst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urethr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urrent cyst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echanism of actions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hibit bacterial cell wall synthe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tericid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B1A6-9479-4D19-B1F3-9DD9CE6937C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iperacilli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ffective against pseudomonas aeruginosa &amp;   Enterobac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nicillinase sensitiv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given in combination with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β-lactamase inhibitors as clavulanic acid 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lbactam, tazobacta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066"/>
                </a:solidFill>
                <a:latin typeface="Arial"/>
              </a:rPr>
              <a:t>(B)      Cephalosporins 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generation : Ceftriaxone  &amp; Ceftazid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ly effective against gm- bacteri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y are given parnteral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n i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re / complicated U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amp; acute prostat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Fluroquinolon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profloxacin ,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vofloxaci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hibits DNA gyrase enzy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Clinical use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solidFill>
            <a:srgbClr val="683afc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TI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d by multidrug resistance organisms as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seudomonas  aerugenos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statitis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dverse effec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N. S manifest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mage growing cartil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ototoxic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85B8-A7D7-45B7-8709-A20F92CBCF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raindica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gna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east feeding mo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olescent up to 18 yea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EA12-DB0E-470E-B2CB-0CD5A76D872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PROSTATITI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305920" cy="484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542"/>
                </a:solidFill>
                <a:latin typeface="Arial"/>
              </a:rPr>
              <a:t>A ) Acute prostatiti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 catheter- or catheter associated usually due to gm- (E.coli or Klebsiella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8542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ff8542"/>
                </a:solidFill>
                <a:latin typeface="Arial"/>
              </a:rPr>
              <a:t>) </a:t>
            </a:r>
            <a:r>
              <a:rPr b="1" lang="en-US" sz="2800" spc="-1" strike="noStrike">
                <a:solidFill>
                  <a:srgbClr val="ff8542"/>
                </a:solidFill>
                <a:latin typeface="Arial"/>
              </a:rPr>
              <a:t>Chronic prostatit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e to E.coli, Klebsiella &amp; Prote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ntibiotics used for treatment of prostatiti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MP/SM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Generation cephalosporin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ceftriaxon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nolones ( ciprofloxacin , levofloxacin 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tracyclines ( Doxycycline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A0F2-46C9-4257-8E85-C6D85444314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2B0E-AA60-42ED-AA69-55320842047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pyelonephr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icated UT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and chronic prostatit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-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symptomatic bacteriu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rinary tract infections(UTI’s)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4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the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st common  infection ( after RTI’s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often associated with some obstruction of the flow of urin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more common in women more than 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idence of UTI increases in old age(10% of men &amp; 20% of women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ntinu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ally urine is sterile. Bacteria comes from digestive tract to opening of the urethr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04DA-1E18-4D06-B7FD-A479204B1A7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91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What are the causes of UTI’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883908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struction of the flow of urine (e.g. kidney sto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largement of prostate gland in men     (common caus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heters placed in urethra and bladd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drinking enough fluid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iting too long to urin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uterus in pregnant wome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toilet habits(wiping back to front for wom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orders that suppress the immune system(diabetes &amp;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cer chemotherapy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Arial"/>
              </a:rPr>
              <a:t>Organisms Causing urinary tract infections 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m  negative  bacteria (most common)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.coli (approx. 80% of cases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teu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lebsiel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seudomona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m positive  bacteria ( less common</a:t>
            </a:r>
            <a:r>
              <a:rPr b="1" lang="en-US" sz="2200" spc="-1" strike="noStrike">
                <a:solidFill>
                  <a:srgbClr val="ff9933"/>
                </a:solidFill>
                <a:latin typeface="Arial"/>
              </a:rPr>
              <a:t>)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aphylococcus speci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lamydia trachomatis  ,Mycoplasma &amp;  N. gonorrhe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2:43Z</dcterms:created>
  <dc:creator>VII Bel</dc:creator>
  <dc:description/>
  <dc:language>en-US</dc:language>
  <cp:lastModifiedBy>Azaa Almedany</cp:lastModifiedBy>
  <dcterms:modified xsi:type="dcterms:W3CDTF">2015-04-26T06:18:49Z</dcterms:modified>
  <cp:revision>235</cp:revision>
  <dc:subject/>
  <dc:title>Nincs diacím</dc:title>
</cp:coreProperties>
</file>