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15A-ECC7-48A5-9E9D-D1EA54E7EDB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240-7684-4CFF-9137-3D01B2ABBB85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BF2-86C4-47A9-9694-0428C731C33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0ACA-F620-406B-A069-CE1DB338C59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828-E945-4F84-ADBC-20C773B4E77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15C-A979-4128-A8DE-E6766EA8E87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DCD5-F2C9-4705-BA42-D8D5E88F095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7035-01D2-47BA-8105-4305E0904DC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BE5-08F9-4BFF-BFD4-AA01C7DFD109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E02-1771-42DD-A890-640F5E440BE7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9C0A-C357-46B1-802B-DBEE78CFDBA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DE93-9A74-4DA4-A14E-1FC31CCF959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FC56-3C00-4E39-889E-AE56D6EC6754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199-8827-471A-8ACA-965C5C25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44E-1D7D-40BA-82CE-CADEF55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5F8-BBA0-4EE5-A438-5673BD06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112-AD15-4B46-90CF-7ACE12EA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DF82-FE57-4A9D-A76C-A6A1C418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2C37-1C5C-4F5C-B9DE-87B36998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404B-27BF-4CB8-BC7D-816CBB4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9586-9ED9-41C7-8FAE-28E0088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A030-D3D2-422B-9E8C-2858A29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3B6-F64F-47EB-894A-CDECDAC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1C1F-B75A-40AB-8F74-0302428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99B-F3BE-4CD2-85F0-CF55102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CA52-A50F-4292-8B8E-E02A7FA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8B9-E924-4D0B-B582-3F41104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40D-172F-4911-9C33-8EDEB4B6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4B3-9ED6-4BF1-9A8E-13C7C1EE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FF20-FFF6-41FB-8E05-29599B4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9FA-8CA3-401C-94A9-40D490E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0E9-E674-4B5F-8FAB-E9F057D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BEE-4ECF-4FE3-95F9-28D0D335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5F8-BDD9-4A1B-B3C6-8C1416EC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80A-8E40-410E-BF47-F17F30AF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E58-4A8B-4D8D-8E32-C4706F3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F2D-623B-44A0-B27A-54A5ACE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03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AutoShape 3"/>
            <p:cNvSpPr/>
            <p:nvPr/>
          </p:nvSpPr>
          <p:spPr>
            <a:xfrm rot="20940000">
              <a:off x="6934320" y="591984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7691400" y="535320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rot="1320000">
              <a:off x="8282160" y="5257800"/>
              <a:ext cx="6094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20940000">
              <a:off x="7062840" y="601992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7767720" y="542916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1320000">
              <a:off x="8358120" y="5409720"/>
              <a:ext cx="60984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FD8-3C0E-471A-96D2-FB6040720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Rectangle 14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18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19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03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1320000">
            <a:off x="396720" y="54900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3"/>
          <p:cNvSpPr/>
          <p:nvPr/>
        </p:nvSpPr>
        <p:spPr>
          <a:xfrm rot="20940000">
            <a:off x="1828800" y="3049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61000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 rot="20940000">
            <a:off x="175248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33680" y="1908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AutoShape 8"/>
            <p:cNvSpPr/>
            <p:nvPr/>
          </p:nvSpPr>
          <p:spPr>
            <a:xfrm rot="20940000">
              <a:off x="6934320" y="584352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7691400" y="527688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10"/>
            <p:cNvSpPr/>
            <p:nvPr/>
          </p:nvSpPr>
          <p:spPr>
            <a:xfrm rot="1320000">
              <a:off x="8282160" y="5181480"/>
              <a:ext cx="60948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 rot="20940000">
              <a:off x="7062840" y="594360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12"/>
            <p:cNvSpPr/>
            <p:nvPr/>
          </p:nvSpPr>
          <p:spPr>
            <a:xfrm>
              <a:off x="7767720" y="535320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3"/>
            <p:cNvSpPr/>
            <p:nvPr/>
          </p:nvSpPr>
          <p:spPr>
            <a:xfrm rot="1320000">
              <a:off x="8358120" y="5333760"/>
              <a:ext cx="60984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AutoShape 14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68" name="Rectangle 21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C59-8139-469F-8DEA-44792E646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8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22AF-162E-4DB3-A4B7-21A65D3A53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Treatment of Urinary Tract Infect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066"/>
                </a:solidFill>
                <a:latin typeface="Arial"/>
              </a:rPr>
              <a:t>Treatment of uncomplicated and complicated UTI’s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Antimicrobial agents: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P  or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MP/SM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-trimoxazo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trofuranto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olo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cycli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inoglycosid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Lactam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ed spectrum penicill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phalosporins (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amp;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. 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308-F0FF-4C9A-BEC0-BCBB923871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lfamethoxazole / Trimethopri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(SMX)                   (TMP)   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-trimoxazole ( Bactrim, Septra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agent alone is bacterio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gether they are bactericidal    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ergi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-Aminobenzoic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pteroate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lfonamid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thet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ase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ic acid synthesis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32360" y="419400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154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155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156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157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RMACOKINETIC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ulfamethoxazo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iven oral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pidly absorbed from stomach and small intestin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dely distributed to tissues and body fluids &amp; crossing the  placenta 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ind to serum protei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abolized in the liver by the process of acetylatio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liminated in the urine, partly as such and partly as acetylated derivativ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methoprim ( TMP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iven oral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ll absorbed from the gu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dely distributed in body fluids &amp; tiss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re lipid soluble than SMX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tein boun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0% of TMP or its metabolite is excreted in the ur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MP concentrates in the prostatic fluid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nical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icated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rrent urinary tract infections especially in femal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 ( acute/ chronic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066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88880"/>
            <a:ext cx="8229600" cy="58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strointestinal ( Nausea, vomi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matolog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Acute hemolytic anem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hypersensitvity b) G6PD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X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Megaloblastic anemia due to folinic acid deficiency caused by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MP 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nicterus  ( Jaundice due to Displa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lirubin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 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ystallu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sensitivity re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E2F-9907-4AEE-8B8F-2DE9F5AAC0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  ( cross placent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rsing mother  ( secreted in mil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born Infants  ( encephalopath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al or hepatic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disor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77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9640" y="1915920"/>
            <a:ext cx="6985080" cy="38890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OF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l-Med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itrofuranto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25905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ffectiv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st E. col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Gram positive cocci are suscept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effectiv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st  P- aeruginos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d by bacteria  to an active ag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inhibits various enzymes and dam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BBB-B8D3-485E-B162-86DC583D53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okinetics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sorbed rapidly and completely from G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Well concentrated in the ur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pidly metabolized by the liver , 40 % is  excreted  unchanged into the urin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urns urine to a dark orange- brow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with foo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ntibacterial activity is higher in an acidic ur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FFAF-AA34-4BEC-985C-9B75CF7433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verse effects of nitrofuranto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T disturbances: nausea, vomiting,  diarrhea &amp;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tric bleeding 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ache and nystagmu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molytic anemia  ( glucose-6-phospha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hydrogenase deficie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lmonary fibrosis  ( on chronic use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G 6PD  deficien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onates  (babies up the age of one month)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gnant women ( after 38 weeks of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gnancy{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ate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egnanc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}   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decreased renal fun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apeutic Uses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as urinary antiseptics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ylaxis &amp; treatment of recurrent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: 50-100 mg ( orally four times daily ) for 7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tracyclines  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xycyc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nocyc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tracyclines  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 spectrum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o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 protein synthesis by binding reversibly to 30 s ribosomal sub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DOXYCYCLINE  &amp; Minocyclin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rmacokine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 acting tetracycl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ually given orally once dai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orption is 90-100 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orption in the upper s. intest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</a:t>
            </a:r>
            <a:r>
              <a:rPr b="1" lang="en-US" sz="3200" spc="-1" strike="noStrike">
                <a:solidFill>
                  <a:srgbClr val="16015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impaired by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 divalent  cations ( Ca, Mg, Fe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  milk and its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 antacids ( aluminium hydroxide gel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dium bicarbon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in binding 40-80 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well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ding  prostatic t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 placenta and excreted in mil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bolized in l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xycycline is excreted throug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 renal route  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nocycline is excreted through kid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usea, vomiting, epigastric pain  and diarrhe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phlebitis   ( i.v route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c toxicity ( prolonged therapy with high dose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wn discoloration  &amp; deformity of teeth ( child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ormity or growth inhibition of bones( child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nfec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-2989440" y="-369720"/>
            <a:ext cx="22860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deformity of teeth ( child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orm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Therapeutic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of UTI’s due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copla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lamydi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st f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dren  ( below 10 years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6D7A-132F-4C5E-AB92-115C39089E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minoglycosides 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tamicin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bramycin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cidal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s protein synthesis by binding to 30S  ribosomal subun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against gram negative aerobic organis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orly absorbed or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I.M,   I.V.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placen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reted  unchanged in ur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active in alkaline med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verse effects 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phr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muscular blocking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Therapeutic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e  UTIs  caused by gram negative aerobic organisms , gentamicin is effective in treat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seudomonal infections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7004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raindications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al dysfun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ients with hearing problem (Diminish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a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asthenia grav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  A)  Extended- spectrum penicill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oxicillin / clavulanic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racillin / tazobacta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E02E-336F-4A9B-913D-9652637616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cc00"/>
                </a:solidFill>
                <a:latin typeface="Arial"/>
              </a:rPr>
              <a:t>β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-Lactam antibiotic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11D-F7E8-4043-9305-EDF29B80AC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assification of urinary tract infe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ymptomatic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complicated UT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inly in wom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ys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urethr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rrent cys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s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 bacterial cell wall synthe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cid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508-F56F-4770-8EB5-A8AC8F65CFC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iperacill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ective against pseudomonas aeruginosa &amp;   Enteroba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icillinase sensitiv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given in combination wi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-lactamase inhibitors as clavulanic acid 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lbactam, tazobacta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066"/>
                </a:solidFill>
                <a:latin typeface="Arial"/>
              </a:rPr>
              <a:t>(B)      Cephalosporins 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generation : Ceftriaxone  &amp; Ceftazid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ly effective against gm- bacteri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re given parnter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re / complicated U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amp; acute prosta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Fluroquinolon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profloxacin 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vofloxac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s DNA gyrase enzy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linical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d by multidrug resistance organisms 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seudomonas  aerugenos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N. S manifes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mage growing cartil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t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832-6BC3-4047-B039-A68830262E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st feeding m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lescent up to 18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6C86-11F9-4534-806F-ADD573BDD0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PROSTATIT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A ) Acute prostatiti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 catheter- or catheter associated usually due to gm- (E.coli or Klebsiell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8542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Chronic prostatit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e to E.coli, Klebsiella &amp; Prot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ntibiotics used for treatment of prostatit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P/SM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eneration cephalosporin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eftriaxon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olones ( ciprofloxacin , levofloxacin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cyclines ( Doxycyclin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808-0B6D-4A86-9159-6E63D52234D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930-04AE-43D4-8BE6-0978B983EF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pyelonephr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icated U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and chronic prosta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symptomatic bacteriu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rinary tract infections(UTI’s)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common  infection ( after RTI’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often associated with some obstruction of the flow of urin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more common in women more than 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idence of UTI increases in old age(10% of men &amp; 20% of women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ly urine is sterile. Bacteria comes from digestive tract to opening of the urethr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E70-DEB4-468E-AD34-AF8A8DC0109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What are the causes of UTI’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truction of the flow of urine (e.g. kidney sto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largement of prostate gland in men     (common caus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heters placed in urethra and blad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drinking enough fluid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ing too long to urin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uterus in pregnant wom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toilet habits(wiping back to front for wom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orders that suppress the immune system(diabetes &amp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r chemotherapy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Organisms Causing urinary tract infections 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m  negative  bacteria (most common)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.coli (approx. 80% of case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m positive  bacteria ( less common</a:t>
            </a: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)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phylococcus speci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lamydia trachomatis  ,Mycoplasma &amp;  N. gonorrhe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2:43Z</dcterms:created>
  <dc:creator>VII Bel</dc:creator>
  <dc:description/>
  <dc:language>en-US</dc:language>
  <cp:lastModifiedBy>Azaa Almedany</cp:lastModifiedBy>
  <dcterms:modified xsi:type="dcterms:W3CDTF">2015-04-26T06:18:49Z</dcterms:modified>
  <cp:revision>235</cp:revision>
  <dc:subject/>
  <dc:title>Nincs diacím</dc:title>
</cp:coreProperties>
</file>