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0F6-BD68-4A71-A86D-0B9302B264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170-27F9-494D-839C-CE054EF10F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9B0-6D5E-4E90-B2F1-6C8F6CAE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9E4-4E17-427D-A6FB-368B39BC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FF8-F472-4FE0-9D97-28156270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91B-6635-4D33-B196-0F80E721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6446-D84C-475A-BFD0-1A286E86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424B-FE64-4303-9D32-4E0B9A41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6733-DEDF-4146-90DD-CE14E0B7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603-093F-47F6-8B19-9B56D5A1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3FE-CFC1-4389-8455-12AB71C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248-00A7-4ED7-AF17-073C908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192-0AE7-4FD1-80A3-C347C02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F9B-D188-41D9-9F15-945B4D0B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7F7-08EA-4E1E-A140-6DC38D1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A978-F782-46E2-BDF9-204BD8A7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103C-2CCC-4EEE-8214-029BC236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FBD-F9A0-4D32-BE96-2F03239E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EA26-09F6-42BA-B0BD-992D7E16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1A7BB-138B-4C2D-9990-3CD61F82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4E8FB-DD64-46A5-9A90-FB1BB2E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E6215-5660-4040-A23B-152F096B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EA3ED-A38C-404A-903A-21247427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EA90D-9882-4437-8AC6-8E0489F6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797-1195-40BE-85BC-C0B3963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9D6A3-C649-4799-B8E2-9A2B5FC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21DE1-13E9-4ED8-B0F9-A6D58D8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42743-36A2-4883-8B1C-C71C54F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8C8F8-A90D-451C-8784-A5A3ED4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F0052-F194-4EE9-AD44-A7775EA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49448-FA6C-4856-BC46-35F5D522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EB78A-9B24-4DCC-BE2C-460ED3A3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9F12-8ACB-420C-A28C-BC5E1D9B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6EC6-937E-4827-8CB2-2A7BED6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C588-CBB9-4071-B093-1B592A31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D81-C1E0-41B3-93B0-1595F39C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30DB-4E29-4C1F-B9BE-A5D2D5A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81700-E4F0-4942-99DB-EB51AE00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7313-A12D-4307-8963-EC72FB3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E0D1-9F4A-4AA2-BB24-7D23978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C5AE-FCF9-4C63-825E-1955B21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2A194-8E82-49D2-A022-27EA6F5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405E-4A1E-41E4-9244-861817A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6E93-045F-46A7-AB67-AF735A3F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A1DD-4250-4FC0-8AE3-C354B0A5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0722B-7F8A-4894-88F1-CFD4EA49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9F6-9247-401C-A05A-08D91269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67F83-C975-4F9F-B409-62575FCA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F11D7-B626-4813-B91A-FBF81AB6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0C20C-57CE-48B6-A5D2-6B9BE05A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1129E-3A29-4758-9168-757C9C5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BAF6C-4093-49D3-A41B-1F16978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268BB-8C23-46F9-8E76-25C4AE6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88552-D60E-4358-B048-0877A94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05F19-6DBB-46CC-B0EE-3A3F65C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BF9B6-0C87-4D1B-A921-47736A3B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1455C-5DC7-4A69-94D9-5F3C4A6A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38B-4BED-416A-8C6B-72CF20C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C7DA4-7FEA-438D-B2E1-6DF94BBF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70EAC-4AA5-48C8-B227-81AFC656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402E5-0C36-47E4-99B8-13C89C48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B1480-6DA2-4F3E-A194-FEBA8A9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F3C3D-B0E5-4F8F-AA7E-A5F8536E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F08AE-B398-486B-B608-442B2F9F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D7C2D-856F-43CF-A886-B3C062F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8E43E-C843-46AC-A959-4FE80E0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78761-DDDD-4B36-8773-B8A75A29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4553C-C5B9-43D3-81D1-CF79DEF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98C-178C-4427-88AC-9AD39D7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DF5F1-1085-4E9B-89B3-9DB111D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CCED4-75F5-4ABB-A442-52DD2799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83F80-7450-45A4-BC7D-5BB2FDCF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B0AD0-6C52-413C-AE49-FC6489BA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B0DAB-E908-49D8-9CAA-E740A25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94D96-883E-44FC-8ED7-D4C44AC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A6012-2CCB-4DE0-BB86-7BC3FDA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167AF-C1DC-4D5C-AE14-E71875B7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EA845-4C1F-47E4-A1BC-48D7D47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A8E59-DA0D-49A5-A417-89CEFA68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00D-A1BB-4A56-88A0-C4709A2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C0287-469C-4D8C-8C31-B46196DA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4410F-053E-4A9B-9502-FE9930E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71879-183A-428B-A467-819E0AF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6C3EE-0585-437C-AB8F-B143B72D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90CFB-202E-4E02-93EE-27BA0B6D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974-5982-435E-9249-2F59A60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0598-468B-44C0-94D6-AC69D1EB3DE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3056-0E32-4F46-9DC4-FC09134153A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913A-EA2B-4FD8-8274-0DB59F7CA30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DF2-4FA0-4956-B6E4-C63C813F859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4E7-FA25-47EB-8D81-64F00DBABD3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28D-E853-4FDC-B468-B07164D61F4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C2F-E40F-4FA7-B19F-4C47929655F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rine" TargetMode="External"/><Relationship Id="rId2" Type="http://schemas.openxmlformats.org/officeDocument/2006/relationships/hyperlink" Target="http://en.wikipedia.org/wiki/Urine" TargetMode="External"/><Relationship Id="rId3" Type="http://schemas.openxmlformats.org/officeDocument/2006/relationships/hyperlink" Target="http://en.wikipedia.org/wiki/Urine" TargetMode="External"/><Relationship Id="rId4" Type="http://schemas.openxmlformats.org/officeDocument/2006/relationships/hyperlink" Target="http://en.wikipedia.org/wiki/Urine" TargetMode="External"/><Relationship Id="rId5" Type="http://schemas.openxmlformats.org/officeDocument/2006/relationships/hyperlink" Target="http://en.wikipedia.org/wiki/Sodium" TargetMode="External"/><Relationship Id="rId6" Type="http://schemas.openxmlformats.org/officeDocument/2006/relationships/hyperlink" Target="http://en.wikipedia.org/wiki/Urine" TargetMode="External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85716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Part 1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7" descr="1101"/>
          <p:cNvPicPr/>
          <p:nvPr/>
        </p:nvPicPr>
        <p:blipFill>
          <a:blip r:embed="rId1"/>
          <a:stretch/>
        </p:blipFill>
        <p:spPr>
          <a:xfrm>
            <a:off x="5676840" y="2957400"/>
            <a:ext cx="33958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35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2920" y="1052280"/>
            <a:ext cx="8964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azolamide – dorzol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nic anhydrase (CA) enzy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 tubules thus interferes wit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HCO3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uses diure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23"/>
          <p:cNvPicPr/>
          <p:nvPr/>
        </p:nvPicPr>
        <p:blipFill>
          <a:blip r:embed="rId1"/>
          <a:srcRect l="0" t="6096" r="0" b="3109"/>
          <a:stretch/>
        </p:blipFill>
        <p:spPr>
          <a:xfrm>
            <a:off x="34920" y="0"/>
            <a:ext cx="899964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611280" y="907920"/>
            <a:ext cx="29527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867280" y="692280"/>
            <a:ext cx="32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2340000" y="1844640"/>
            <a:ext cx="1511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826920" y="260280"/>
            <a:ext cx="180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6443640" y="189000"/>
            <a:ext cx="1873440" cy="1224000"/>
            <a:chOff x="6443640" y="189000"/>
            <a:chExt cx="1873440" cy="1224000"/>
          </a:xfrm>
        </p:grpSpPr>
        <p:sp>
          <p:nvSpPr>
            <p:cNvPr id="386" name="Rectangle 9"/>
            <p:cNvSpPr/>
            <p:nvPr/>
          </p:nvSpPr>
          <p:spPr>
            <a:xfrm>
              <a:off x="6443640" y="189000"/>
              <a:ext cx="1873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0"/>
            <p:cNvSpPr/>
            <p:nvPr/>
          </p:nvSpPr>
          <p:spPr>
            <a:xfrm flipH="1">
              <a:off x="6659640" y="1125360"/>
              <a:ext cx="93672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8"/>
          <p:cNvSpPr/>
          <p:nvPr/>
        </p:nvSpPr>
        <p:spPr>
          <a:xfrm>
            <a:off x="1835280" y="5950080"/>
            <a:ext cx="59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tub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85480" y="356760"/>
            <a:ext cx="83581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nce a day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nset of action is rapid (30 min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uration of action (12 h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secretion in proximal convoluted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duces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lkaline urin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50920" y="260280"/>
            <a:ext cx="8750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of sodium, potassium , bicarbonat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kaline urine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cid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phosphate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K+ excretion by ↑the load of Na+ delivered to the distal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86280" y="117360"/>
            <a:ext cx="3071880" cy="66693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285840" y="142920"/>
            <a:ext cx="550044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o CA inhibitors have weak diuretic propertie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uretic prope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several days as the blood bicarbonate 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79280" y="214200"/>
            <a:ext cx="864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pen angle glauco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carbonic anhydrase inhibitors caus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↓ </a:t>
            </a: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IOP by reducing  aqueous humor formation in ciliary body of ey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prophylactic therapy, in acute mountain sickness 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SF of br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n nightly 5 days before the ascent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↓ weaknes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reathlessness , dizziness, nausea, cerebral &amp; pulmonar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ed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OP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aocular pressure;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SF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79280" y="214200"/>
            <a:ext cx="8640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pilepsy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decrease cerebrospinal fluid, CSF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rinary alkalinization to enhance renal excretion of acidic substances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cysteine in cystinur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phosphatem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9280" y="356760"/>
            <a:ext cx="860760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okalemia (potassium los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nal stone formation (calcium phosphate stone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sensitivity reac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Diuretics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re drugs that increase renal excretion of 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sodium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ater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resulting in increase in urine volume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Diuresis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s the process of excretion of 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 in the 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urin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atriuresi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s the process of excretion of </a:t>
            </a:r>
            <a:r>
              <a:rPr b="0" lang="en-US" sz="32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sodiu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in the </a:t>
            </a:r>
            <a:r>
              <a:rPr b="0" lang="en-US" sz="32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urin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920" y="260280"/>
            <a:ext cx="8642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zolam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s a carbonic anhydrase inhibi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sed topically for treatment of open-angle glaucom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 diuretic or systemic side effect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3"/>
          <p:cNvGraphicFramePr/>
          <p:nvPr/>
        </p:nvGraphicFramePr>
        <p:xfrm>
          <a:off x="609480" y="2057400"/>
          <a:ext cx="648180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4818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Text Box 4"/>
          <p:cNvSpPr/>
          <p:nvPr/>
        </p:nvSpPr>
        <p:spPr>
          <a:xfrm>
            <a:off x="2572560" y="28584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op Diure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7" descr="file"/>
          <p:cNvPicPr/>
          <p:nvPr/>
        </p:nvPicPr>
        <p:blipFill>
          <a:blip r:embed="rId3"/>
          <a:stretch/>
        </p:blipFill>
        <p:spPr>
          <a:xfrm>
            <a:off x="73152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4"/>
          <a:stretch/>
        </p:blipFill>
        <p:spPr>
          <a:xfrm>
            <a:off x="6400800" y="140004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High Ceiling diuretics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1528920"/>
            <a:ext cx="93582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s in </a:t>
            </a:r>
            <a:r>
              <a:rPr b="0" lang="en-US" sz="3200" spc="-1" strike="noStrike">
                <a:solidFill>
                  <a:srgbClr val="0000cc"/>
                </a:solidFill>
                <a:latin typeface="Century Schoolbook"/>
              </a:rPr>
              <a:t>ascending loop of Henl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ost potent diuretic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gh natriuresis as 25-30%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rug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Furosemide - Torsemide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entury Schoolbook"/>
              </a:rPr>
              <a:t>Bumetanide</a:t>
            </a: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 - Ethcrynic  acid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1360" y="214200"/>
            <a:ext cx="7721280" cy="164304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Loop Diuretics</a:t>
            </a: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High Ceiling Diuretics</a:t>
            </a: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Oval 4"/>
          <p:cNvSpPr/>
          <p:nvPr/>
        </p:nvSpPr>
        <p:spPr>
          <a:xfrm>
            <a:off x="5214960" y="2214720"/>
            <a:ext cx="3252600" cy="142848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thacry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tency 0.7, t½ 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5"/>
          <p:cNvSpPr/>
          <p:nvPr/>
        </p:nvSpPr>
        <p:spPr>
          <a:xfrm>
            <a:off x="4857840" y="4214880"/>
            <a:ext cx="3357360" cy="1407960"/>
          </a:xfrm>
          <a:prstGeom prst="ellipse">
            <a:avLst/>
          </a:prstGeom>
          <a:gradFill rotWithShape="0">
            <a:gsLst>
              <a:gs pos="0">
                <a:srgbClr val="ffae87"/>
              </a:gs>
              <a:gs pos="100000">
                <a:srgbClr val="ffe5dc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3, t½  3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857160" y="2286000"/>
            <a:ext cx="3143520" cy="12142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Bumetan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Potency 40 , t½ 0.8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714240" y="4286160"/>
            <a:ext cx="2928960" cy="1143000"/>
          </a:xfrm>
          <a:prstGeom prst="ellipse">
            <a:avLst/>
          </a:prstGeom>
          <a:solidFill>
            <a:srgbClr val="ffc000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o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y 1, t½  1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echanism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K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2 Cl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 the luminal membrane of the thick ascending loop of Henle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TAL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C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re-absorption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214200" y="188640"/>
            <a:ext cx="8715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scending loop of Henl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impermeable to wa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In thick ascending loop of Henle (TAL)</a:t>
            </a: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responsible for active re-absorption of Na, K and Cl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25-30%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is reabsorbed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ia transport system in luminal membrane called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/ 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/ 2C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co-transport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 and Mg are reabsorbed and enter the interstitial fluid via paracellular pathw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AHD0404-10-001"/>
          <p:cNvPicPr/>
          <p:nvPr/>
        </p:nvPicPr>
        <p:blipFill>
          <a:blip r:embed="rId1"/>
          <a:srcRect l="10601" t="7630" r="14534" b="4265"/>
          <a:stretch/>
        </p:blipFill>
        <p:spPr>
          <a:xfrm>
            <a:off x="857160" y="206280"/>
            <a:ext cx="7429680" cy="6485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2556000" y="44280"/>
            <a:ext cx="561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ending loop of Hen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760" y="188640"/>
            <a:ext cx="4619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kin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8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r I. 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fast onset of action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suitable for emergency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short duration of a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tubular secretion of weak acids into uri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nterfere with uric acid secretion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(hyperuricemia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21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7892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of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nal blood fl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Mechanism of actions of diuretic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st diuretics act by interfering with the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normal sodium reabsorption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y the renal tubules resulting into sodium and water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50920" y="260280"/>
            <a:ext cx="84643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re drug of choice for emergency situation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 associated with congestive heart failure, nephrotic syndrom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ulmonary edema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hyperkalaemi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ypercalcem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6215040" y="2143080"/>
            <a:ext cx="2235240" cy="787320"/>
          </a:xfrm>
          <a:prstGeom prst="ellipse">
            <a:avLst/>
          </a:prstGeom>
          <a:solidFill>
            <a:srgbClr val="ef9100"/>
          </a:solidFill>
          <a:ln w="22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O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9280" y="836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volem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natraemia (↓ blood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kalemia (↓ bloo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magnesaemia (↓ blood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calcaemia (↓ bloo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Dietary K supplementation or K-sparing diuretics should be used to avoid hypokalemi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eruricemia </a:t>
            </a:r>
            <a:r>
              <a:rPr b="1" i="1" lang="en-US" sz="2800" spc="-1" strike="noStrike">
                <a:solidFill>
                  <a:srgbClr val="0000cc"/>
                </a:solidFill>
                <a:latin typeface="Century Schoolbook"/>
              </a:rPr>
              <a:t>(increase blood uric acid and gouty attack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otoxicity </a:t>
            </a:r>
            <a:r>
              <a:rPr b="1" i="1" lang="en-US" sz="2800" spc="-1" strike="noStrike">
                <a:solidFill>
                  <a:srgbClr val="0000cc"/>
                </a:solidFill>
                <a:latin typeface="Century Schoolbook"/>
              </a:rPr>
              <a:t>(risk increased if combined with aminoglycosid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llergic reac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21280" cy="57132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9100"/>
                </a:solidFill>
                <a:latin typeface="Century Schoolbook"/>
              </a:rPr>
              <a:t>THIAZIDE DIURE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Oval 4"/>
          <p:cNvSpPr/>
          <p:nvPr/>
        </p:nvSpPr>
        <p:spPr>
          <a:xfrm>
            <a:off x="5429160" y="1285920"/>
            <a:ext cx="3286080" cy="1219320"/>
          </a:xfrm>
          <a:prstGeom prst="ellipse">
            <a:avLst/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thali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y 10, t½ 2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2857680" y="2786040"/>
            <a:ext cx="3500280" cy="1143000"/>
          </a:xfrm>
          <a:prstGeom prst="ellipse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tola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tency 5, t½ 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285840" y="1428840"/>
            <a:ext cx="2921040" cy="137160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Potency 0.1, t½ 2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7"/>
          <p:cNvSpPr/>
          <p:nvPr/>
        </p:nvSpPr>
        <p:spPr>
          <a:xfrm>
            <a:off x="142920" y="4000680"/>
            <a:ext cx="396252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dro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tency 1 , t½  3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5072040" y="4429080"/>
            <a:ext cx="3571920" cy="1143000"/>
          </a:xfrm>
          <a:prstGeom prst="ellipse">
            <a:avLst/>
          </a:prstGeom>
          <a:solidFill>
            <a:srgbClr val="eb6e5a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dapa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20, t½ 1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s via  </a:t>
            </a: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inhibition of Na/Cl           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n the luminal membrane of distal convoluted tubule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oderate natriuresis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s 5-10% of filtered  load of sodium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23"/>
          <p:cNvPicPr/>
          <p:nvPr/>
        </p:nvPicPr>
        <p:blipFill>
          <a:blip r:embed="rId1"/>
          <a:srcRect l="2874" t="9310" r="0" b="12414"/>
          <a:stretch/>
        </p:blipFill>
        <p:spPr>
          <a:xfrm>
            <a:off x="36360" y="27000"/>
            <a:ext cx="9072720" cy="67867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5"/>
          <p:cNvSpPr/>
          <p:nvPr/>
        </p:nvSpPr>
        <p:spPr>
          <a:xfrm>
            <a:off x="34920" y="77760"/>
            <a:ext cx="489744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of thiazide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78920" y="260280"/>
            <a:ext cx="87138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kinetics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ven orally, slow of onset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ng duration of action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re secreted by active tubular secretory system of the kidney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y interfere with uric acid secretion and cause </a:t>
            </a:r>
            <a:r>
              <a:rPr b="1" i="1" lang="en-US" sz="3400" spc="-1" strike="noStrike">
                <a:solidFill>
                  <a:srgbClr val="ff0000"/>
                </a:solidFill>
                <a:latin typeface="Century Schoolbook"/>
              </a:rPr>
              <a:t>hyperuri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836640"/>
            <a:ext cx="9036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Cl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Hypokalemia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magnesium excretion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urinary calcium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lcium re-absorp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cal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Line 6"/>
          <p:cNvSpPr/>
          <p:nvPr/>
        </p:nvSpPr>
        <p:spPr>
          <a:xfrm flipV="1">
            <a:off x="285840" y="8366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7"/>
          <p:cNvSpPr/>
          <p:nvPr/>
        </p:nvSpPr>
        <p:spPr>
          <a:xfrm flipV="1">
            <a:off x="285840" y="15573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8"/>
          <p:cNvSpPr/>
          <p:nvPr/>
        </p:nvSpPr>
        <p:spPr>
          <a:xfrm flipV="1">
            <a:off x="285840" y="24242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"/>
          <p:cNvSpPr/>
          <p:nvPr/>
        </p:nvSpPr>
        <p:spPr>
          <a:xfrm flipV="1">
            <a:off x="285840" y="41385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285840" y="3281400"/>
            <a:ext cx="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79280" y="638280"/>
          <a:ext cx="8750520" cy="6076800"/>
        </p:xfrm>
        <a:graphic>
          <a:graphicData uri="http://schemas.openxmlformats.org/drawingml/2006/table">
            <a:tbl>
              <a:tblPr/>
              <a:tblGrid>
                <a:gridCol w="3875040"/>
                <a:gridCol w="487548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c00000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Picture 5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324000" y="765000"/>
            <a:ext cx="8351640" cy="5832720"/>
          </a:xfrm>
          <a:prstGeom prst="rect">
            <a:avLst/>
          </a:prstGeom>
          <a:ln w="9360">
            <a:solidFill>
              <a:srgbClr val="fe8637">
                <a:alpha val="5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710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essential hypertension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cheap-well tolerat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mild heart failure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to reduce extracellular volume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928440"/>
            <a:ext cx="8785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Calcium nephrolithiasis due to hypercalciuria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300" spc="-1" strike="noStrike">
                <a:solidFill>
                  <a:srgbClr val="c00000"/>
                </a:solidFill>
                <a:latin typeface="Century Schoolbook"/>
              </a:rPr>
              <a:t>(to increase calcium re-absorption and decrease renal calcium stones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Nephrogenic diabetes insipidus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decrease blood volume and GFR)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8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6858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Down Arrow 7"/>
          <p:cNvSpPr/>
          <p:nvPr/>
        </p:nvSpPr>
        <p:spPr>
          <a:xfrm>
            <a:off x="1447920" y="1371600"/>
            <a:ext cx="30456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80880" y="2514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tubular N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68580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Down Arrow 11"/>
          <p:cNvSpPr/>
          <p:nvPr/>
        </p:nvSpPr>
        <p:spPr>
          <a:xfrm>
            <a:off x="1447920" y="327672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Up Arrow 12"/>
          <p:cNvSpPr/>
          <p:nvPr/>
        </p:nvSpPr>
        <p:spPr>
          <a:xfrm>
            <a:off x="533520" y="4267080"/>
            <a:ext cx="15228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3809880" y="57913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ellula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Bent-Up Arrow 19"/>
          <p:cNvSpPr/>
          <p:nvPr/>
        </p:nvSpPr>
        <p:spPr>
          <a:xfrm>
            <a:off x="5791320" y="5562720"/>
            <a:ext cx="1752480" cy="685800"/>
          </a:xfrm>
          <a:custGeom>
            <a:avLst/>
            <a:gdLst/>
            <a:ahLst/>
            <a:rect l="l" t="t" r="r" b="b"/>
            <a:pathLst>
              <a:path w="1752600" h="685800">
                <a:moveTo>
                  <a:pt x="0" y="514350"/>
                </a:moveTo>
                <a:lnTo>
                  <a:pt x="1495425" y="514350"/>
                </a:lnTo>
                <a:lnTo>
                  <a:pt x="1495425" y="171450"/>
                </a:lnTo>
                <a:lnTo>
                  <a:pt x="1409700" y="171450"/>
                </a:lnTo>
                <a:lnTo>
                  <a:pt x="1581150" y="0"/>
                </a:lnTo>
                <a:lnTo>
                  <a:pt x="1752600" y="171450"/>
                </a:lnTo>
                <a:lnTo>
                  <a:pt x="1666875" y="171450"/>
                </a:lnTo>
                <a:lnTo>
                  <a:pt x="1666875" y="685800"/>
                </a:lnTo>
                <a:lnTo>
                  <a:pt x="0" y="685800"/>
                </a:lnTo>
                <a:lnTo>
                  <a:pt x="0" y="51435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-Shape 23"/>
          <p:cNvSpPr/>
          <p:nvPr/>
        </p:nvSpPr>
        <p:spPr>
          <a:xfrm>
            <a:off x="1600200" y="5257800"/>
            <a:ext cx="304920" cy="1066680"/>
          </a:xfrm>
          <a:custGeom>
            <a:avLst/>
            <a:gdLst/>
            <a:ahLst/>
            <a:rect l="l" t="t" r="r" b="b"/>
            <a:pathLst>
              <a:path w="304800" h="1066800">
                <a:moveTo>
                  <a:pt x="0" y="0"/>
                </a:moveTo>
                <a:lnTo>
                  <a:pt x="152400" y="0"/>
                </a:lnTo>
                <a:lnTo>
                  <a:pt x="152400" y="914400"/>
                </a:lnTo>
                <a:lnTo>
                  <a:pt x="304800" y="914400"/>
                </a:lnTo>
                <a:lnTo>
                  <a:pt x="304800" y="1066800"/>
                </a:lnTo>
                <a:lnTo>
                  <a:pt x="0" y="1066800"/>
                </a:lnTo>
                <a:lnTo>
                  <a:pt x="0" y="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ight Arrow 24"/>
          <p:cNvSpPr/>
          <p:nvPr/>
        </p:nvSpPr>
        <p:spPr>
          <a:xfrm>
            <a:off x="1905120" y="609588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26"/>
          <p:cNvSpPr/>
          <p:nvPr/>
        </p:nvSpPr>
        <p:spPr>
          <a:xfrm>
            <a:off x="5791320" y="4114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 Na+ &amp; Water re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Up Arrow 27"/>
          <p:cNvSpPr/>
          <p:nvPr/>
        </p:nvSpPr>
        <p:spPr>
          <a:xfrm>
            <a:off x="5486400" y="4343400"/>
            <a:ext cx="152280" cy="53352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28"/>
          <p:cNvSpPr/>
          <p:nvPr/>
        </p:nvSpPr>
        <p:spPr>
          <a:xfrm>
            <a:off x="5562720" y="2438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delivery of Na+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29"/>
          <p:cNvSpPr/>
          <p:nvPr/>
        </p:nvSpPr>
        <p:spPr>
          <a:xfrm>
            <a:off x="5562720" y="914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Down Arrow 30"/>
          <p:cNvSpPr/>
          <p:nvPr/>
        </p:nvSpPr>
        <p:spPr>
          <a:xfrm>
            <a:off x="5429160" y="928800"/>
            <a:ext cx="95400" cy="6523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Down Arrow 31"/>
          <p:cNvSpPr/>
          <p:nvPr/>
        </p:nvSpPr>
        <p:spPr>
          <a:xfrm>
            <a:off x="5410080" y="2590920"/>
            <a:ext cx="152640" cy="53316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Up Arrow 32"/>
          <p:cNvSpPr/>
          <p:nvPr/>
        </p:nvSpPr>
        <p:spPr>
          <a:xfrm>
            <a:off x="7010280" y="3276720"/>
            <a:ext cx="457200" cy="838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Up Arrow 33"/>
          <p:cNvSpPr/>
          <p:nvPr/>
        </p:nvSpPr>
        <p:spPr>
          <a:xfrm>
            <a:off x="7010280" y="1447920"/>
            <a:ext cx="381240" cy="83808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Down Arrow 34"/>
          <p:cNvSpPr/>
          <p:nvPr/>
        </p:nvSpPr>
        <p:spPr>
          <a:xfrm>
            <a:off x="3505320" y="586728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1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7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Times New Roman"/>
              </a:rPr>
              <a:t>Mechanism of antidiuretic effect of thiazide in diabetes insipi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Down Arrow 35"/>
          <p:cNvSpPr/>
          <p:nvPr/>
        </p:nvSpPr>
        <p:spPr>
          <a:xfrm>
            <a:off x="457200" y="27432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598d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dverse effect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78920" y="92880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Fluid and electrolyte imbalanc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natr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volemia (volume depletion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kal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uricaemia (gout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cc"/>
                </a:solidFill>
                <a:latin typeface="Century Schoolbook"/>
              </a:rPr>
              <a:t>Hypercalcemia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glyca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lipid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7"/>
          <p:cNvSpPr/>
          <p:nvPr/>
        </p:nvSpPr>
        <p:spPr>
          <a:xfrm>
            <a:off x="3214800" y="550080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Object 2"/>
          <p:cNvGraphicFramePr/>
          <p:nvPr/>
        </p:nvGraphicFramePr>
        <p:xfrm>
          <a:off x="685800" y="1066680"/>
          <a:ext cx="802944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02944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Line 7"/>
          <p:cNvSpPr/>
          <p:nvPr/>
        </p:nvSpPr>
        <p:spPr>
          <a:xfrm>
            <a:off x="7338960" y="3740040"/>
            <a:ext cx="590760" cy="46080"/>
          </a:xfrm>
          <a:prstGeom prst="line">
            <a:avLst/>
          </a:prstGeom>
          <a:ln w="2556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8001000" y="3571920"/>
            <a:ext cx="67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249880" y="304920"/>
            <a:ext cx="3394080" cy="204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onolac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mte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4175280" y="4329000"/>
            <a:ext cx="0" cy="160020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994440" y="3262320"/>
            <a:ext cx="0" cy="76212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254880" y="228600"/>
            <a:ext cx="4708440" cy="1739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tassium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aring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56991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3" descr=""/>
          <p:cNvPicPr/>
          <p:nvPr/>
        </p:nvPicPr>
        <p:blipFill>
          <a:blip r:embed="rId3"/>
          <a:stretch/>
        </p:blipFill>
        <p:spPr>
          <a:xfrm>
            <a:off x="214200" y="4143240"/>
            <a:ext cx="2214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181160" y="533520"/>
            <a:ext cx="6849720" cy="76428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ssium-sparing diur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42920" y="4071960"/>
            <a:ext cx="4929120" cy="106920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ldosterone antagon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248440" y="3936960"/>
            <a:ext cx="3538440" cy="247104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channels inhib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7"/>
          <p:cNvSpPr/>
          <p:nvPr/>
        </p:nvSpPr>
        <p:spPr>
          <a:xfrm>
            <a:off x="655308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9"/>
          <p:cNvSpPr/>
          <p:nvPr/>
        </p:nvSpPr>
        <p:spPr>
          <a:xfrm>
            <a:off x="182880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066680" y="2133720"/>
            <a:ext cx="221940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286240" y="2057400"/>
            <a:ext cx="250056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 in collecting tubules and ducts by inhibiting Na re-absorption and K &amp; H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K-sparing effect) by either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ion of Na influx through Na channels in the luminal membrane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(triamterene – amiloride)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مستطيل 3"/>
          <p:cNvSpPr/>
          <p:nvPr/>
        </p:nvSpPr>
        <p:spPr>
          <a:xfrm>
            <a:off x="214200" y="730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pironolacto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duces its diuretic effect by antagonizing cytoplasmic aldosterone receptors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مستطيل 3"/>
          <p:cNvSpPr/>
          <p:nvPr/>
        </p:nvSpPr>
        <p:spPr>
          <a:xfrm>
            <a:off x="142920" y="71280"/>
            <a:ext cx="54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08000" y="549360"/>
          <a:ext cx="8964720" cy="6262560"/>
        </p:xfrm>
        <a:graphic>
          <a:graphicData uri="http://schemas.openxmlformats.org/drawingml/2006/table">
            <a:tbl>
              <a:tblPr/>
              <a:tblGrid>
                <a:gridCol w="2297160"/>
                <a:gridCol w="3778200"/>
                <a:gridCol w="2889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ntidiuret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Century Schoolbook"/>
              </a:rPr>
              <a:t>Normal Sodium Re-absorption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OLLECTED TUBULES (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009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1280" y="1052280"/>
            <a:ext cx="90727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↑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↓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kal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 ↓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H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acidosis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مستطيل 3"/>
          <p:cNvSpPr/>
          <p:nvPr/>
        </p:nvSpPr>
        <p:spPr>
          <a:xfrm>
            <a:off x="169920" y="18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Pharmacodynamic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745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Therapeutic u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reatment of hypertens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o prevent hypokalemia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(combined with thiazide or loop diuretics to correct for hypokalem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rug of choice for patients with hepatic cirrh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econdary hyperaldosteronis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CHF, hepatic cirrhosis, nephrotic syndro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Adverse Effec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50560" y="126828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perkalaemia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ynaecomast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T upset and peptic ulcer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entury Schoolbook"/>
              </a:rPr>
              <a:t>Contraindications: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50920" y="1643040"/>
            <a:ext cx="86421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Hyperkalaemia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in chronic ren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ailure, K+ supplementation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blockers 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E inhibitor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847800" y="6094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094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5"/>
          <p:cNvSpPr/>
          <p:nvPr/>
        </p:nvSpPr>
        <p:spPr>
          <a:xfrm flipV="1">
            <a:off x="327672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763000" y="21477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–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364760" y="380880"/>
            <a:ext cx="55162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motic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8" descr="mannitol-from-mannitol"/>
          <p:cNvPicPr/>
          <p:nvPr/>
        </p:nvPicPr>
        <p:blipFill>
          <a:blip r:embed="rId3"/>
          <a:stretch/>
        </p:blipFill>
        <p:spPr>
          <a:xfrm>
            <a:off x="838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Osmotic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13840" y="1341000"/>
            <a:ext cx="8929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592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oorly absorb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given orally          osmotic diarrhe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intravenousl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 metaboliz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glomerular filtration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ithout being re-absorbed or secreted within 30-60 m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Striped Right Arrow 3"/>
          <p:cNvSpPr/>
          <p:nvPr/>
        </p:nvSpPr>
        <p:spPr>
          <a:xfrm>
            <a:off x="3429000" y="3143160"/>
            <a:ext cx="533520" cy="46080"/>
          </a:xfrm>
          <a:custGeom>
            <a:avLst/>
            <a:gdLst/>
            <a:ahLst/>
            <a:rect l="l" t="t" r="r" b="b"/>
            <a:pathLst>
              <a:path w="533400" h="46038">
                <a:moveTo>
                  <a:pt x="0" y="11510"/>
                </a:moveTo>
                <a:lnTo>
                  <a:pt x="1439" y="11510"/>
                </a:lnTo>
                <a:lnTo>
                  <a:pt x="1439" y="34529"/>
                </a:lnTo>
                <a:lnTo>
                  <a:pt x="0" y="34529"/>
                </a:lnTo>
                <a:lnTo>
                  <a:pt x="0" y="11510"/>
                </a:lnTo>
                <a:close/>
                <a:moveTo>
                  <a:pt x="2877" y="11510"/>
                </a:moveTo>
                <a:lnTo>
                  <a:pt x="5755" y="11510"/>
                </a:lnTo>
                <a:lnTo>
                  <a:pt x="5755" y="34529"/>
                </a:lnTo>
                <a:lnTo>
                  <a:pt x="2877" y="34529"/>
                </a:lnTo>
                <a:lnTo>
                  <a:pt x="2877" y="11510"/>
                </a:lnTo>
                <a:close/>
                <a:moveTo>
                  <a:pt x="7193" y="11510"/>
                </a:moveTo>
                <a:lnTo>
                  <a:pt x="510381" y="11510"/>
                </a:lnTo>
                <a:lnTo>
                  <a:pt x="510381" y="0"/>
                </a:lnTo>
                <a:lnTo>
                  <a:pt x="533400" y="23019"/>
                </a:lnTo>
                <a:lnTo>
                  <a:pt x="510381" y="46038"/>
                </a:lnTo>
                <a:lnTo>
                  <a:pt x="510381" y="34529"/>
                </a:lnTo>
                <a:lnTo>
                  <a:pt x="7193" y="34529"/>
                </a:lnTo>
                <a:lnTo>
                  <a:pt x="7193" y="1151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2560" y="213840"/>
            <a:ext cx="89298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in proximal tubules &amp; descending loop of Henl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output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y osmosi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 water out of cells and into the blood stream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the extracellular fluid volume, decrease blood  viscosity and ↑renal blood fl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excretion with relatively less effect on Na+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water diuresis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2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2" dur="1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1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herapeutic Uses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0920" y="981000"/>
            <a:ext cx="86788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cute renal failure due to shock or traum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maintain urine flow- preserve kidney functio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acute drug poisoning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eliminate drugs that are reabsorbed from the renal tubules e.g. salicylates, barbitura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traocular &amp; intracranial pressure before ophthalmic or brain procedures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erebral ed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4929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Adverse Effect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14200" y="857160"/>
            <a:ext cx="863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nausea, vomit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tracellular volume expansion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es heart failure &amp; pulmonary oede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cessive use</a:t>
            </a:r>
            <a:r>
              <a:rPr b="0" lang="en-US" sz="3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ation &amp; hypernatraemia (Adequate water replacement is required)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24000" y="260280"/>
            <a:ext cx="85341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entury Schoolbook"/>
              </a:rPr>
              <a:t>Sites of action for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How diuretics produce their effects?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arget molecules for diuretics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arriers or transport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in luminal membrane of renal tubular cells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quired for tubular reabsorption of sodium from filtrate back into bloo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Therapeutic applications of diuretic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reatment of hypertens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lone or in combination with beta-blockers at low-dose (fewer side effect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presence of renal failure, loop diuretic is us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Edema Sta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Thiazide diuretic is used in mild edema with normal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used in cases with impair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78920" y="188640"/>
            <a:ext cx="8496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ongestive Heart fail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Mild case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s may be used with well-preserv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Severe case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much preferred especially when GFR is lower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life-threatening </a:t>
            </a: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acute pulmonary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, furosemide is given I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s are used till GFR ≥ 40-50 ml/m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op diuretic are used below given values, with increasing the dose as GFR goes dow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Nephrogenic diabetes inspidu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rge volume(&gt;10 L/day) of dilute ur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 diuretics reduces urine volum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Hepatic cirrhosis with asci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pironolactone is of choic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14200" y="714240"/>
          <a:ext cx="8786880" cy="6072480"/>
        </p:xfrm>
        <a:graphic>
          <a:graphicData uri="http://schemas.openxmlformats.org/drawingml/2006/table">
            <a:tbl>
              <a:tblPr/>
              <a:tblGrid>
                <a:gridCol w="2151000"/>
                <a:gridCol w="3408480"/>
                <a:gridCol w="3227400"/>
              </a:tblGrid>
              <a:tr h="69876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100% glucose and amino acids, 66% Na, K, Ca, Mg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72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08000" y="714240"/>
          <a:ext cx="8821800" cy="60264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592360"/>
                <a:gridCol w="1765440"/>
              </a:tblGrid>
              <a:tr h="6980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66% Na, K, Ca, Mg, 100% glucose and amino acids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, 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6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142920" y="142920"/>
          <a:ext cx="8858160" cy="6624720"/>
        </p:xfrm>
        <a:graphic>
          <a:graphicData uri="http://schemas.openxmlformats.org/drawingml/2006/table">
            <a:tbl>
              <a:tblPr/>
              <a:tblGrid>
                <a:gridCol w="2660760"/>
                <a:gridCol w="2803320"/>
                <a:gridCol w="3394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hibition of NaHCO3 reabsorption 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 HCO3,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effect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P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e ex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TAL the most eff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Ca,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urinary Ca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ypercalcem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etitive antagonist of aldosterone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C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179280" y="189000"/>
          <a:ext cx="8666280" cy="6561000"/>
        </p:xfrm>
        <a:graphic>
          <a:graphicData uri="http://schemas.openxmlformats.org/drawingml/2006/table">
            <a:tbl>
              <a:tblPr/>
              <a:tblGrid>
                <a:gridCol w="3184560"/>
                <a:gridCol w="548172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Uses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(topically) for glau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laucoma, epilep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untain s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hosphat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rebral edema, 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renal failure, drug tox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pulmonary edema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t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kalemia, 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monly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tension, mild heart failure, nephrolithiasis, diabetes inspi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patic cirr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214200" y="142920"/>
          <a:ext cx="8715600" cy="6643800"/>
        </p:xfrm>
        <a:graphic>
          <a:graphicData uri="http://schemas.openxmlformats.org/drawingml/2006/table">
            <a:tbl>
              <a:tblPr/>
              <a:tblGrid>
                <a:gridCol w="2573280"/>
                <a:gridCol w="614232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zolamid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bolic acidosis , 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tracellular water expa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hyd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natr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volemia, hyponatr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cipitate gout, 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 hyponatremia, hypovol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, precipitate g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lipidemia, hypergly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5404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pironolact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ynaecomas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kalaem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Metabolic acido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IT upset and peptic 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ypes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9280" y="836640"/>
          <a:ext cx="8713800" cy="587844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529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Diur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inhib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Loop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hiazide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K-sparing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920" y="126828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1714680" y="714240"/>
            <a:ext cx="2000160" cy="928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Carbonic anhyd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nhib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00720" y="4000680"/>
            <a:ext cx="2357280" cy="428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Loop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5357880" y="1785960"/>
            <a:ext cx="257184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Thiazide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7143840" y="4929120"/>
            <a:ext cx="1714320" cy="571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K-sparing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GCUSER</cp:lastModifiedBy>
  <dcterms:modified xsi:type="dcterms:W3CDTF">2015-05-13T08:57:47Z</dcterms:modified>
  <cp:revision>267</cp:revision>
  <dc:subject/>
  <dc:title>DIURETICS</dc:title>
</cp:coreProperties>
</file>