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7.jpeg" ContentType="image/jpeg"/>
  <Override PartName="/ppt/media/image19.jpeg" ContentType="image/jpeg"/>
  <Override PartName="/ppt/media/image11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C44A-78B4-432F-9763-43C9B6F27C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774A-B4B8-4336-9F7E-EBBDBF993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C13-429D-4918-B829-4FCD1ADD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728-3215-4F31-8664-96B8B1DE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AEB-CEEA-4EC2-8653-86DDD137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B02-8E89-4C52-9351-6FD1B733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EEDA-2755-41D6-8954-1ACA2979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C763-FFBC-456A-B0AA-ED5E7744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67D2-A9C0-4A76-B017-902530E1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FAF7-32BA-4202-B418-7CAAEAD7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76DF-2F61-459A-991D-B0F01E59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7543-ABEC-4115-ADBC-D45E7969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0C76-C455-4A73-9C3E-86F4B68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0307-7E98-4906-A3B9-F86D8D3C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ACB2-94AC-43D0-8A51-CF63A1F7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6676-36D0-4374-B2DC-7B73D82E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1DD2-B47F-4756-801B-DB061B8B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7742-927A-4A90-9D11-7452189E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8645-F0A3-4BD7-A57F-21DB2B98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8977C-C56D-409A-AFE2-1192D91A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B6838-9FAB-4AAF-B2A6-3AEE6CFF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D9CDA-A5F5-471B-A658-3AC86074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37032-C462-428D-80F9-6E6BB85F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139FF-A2AC-458D-8840-3501F26D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E68-6788-43E9-AB60-7B33141E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3D9D9-1FC5-4F05-9C61-CA0F0585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3ED18-EB62-454C-92F8-3F21F3B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C5B45-7E1F-419B-9A89-6E8BAEA4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5C144-4599-4B96-91F1-70C6FEF1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8743A-5285-4FF0-AAF7-B4665CC3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42A30-D98C-4AE0-B3C9-43FAE3FD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F83B8-AEDA-422F-93C4-7194E42A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026C9-5A19-42FB-BB0A-AC5B057A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A19EA-F167-40B4-B391-C300D1C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AB55-6675-4805-BF74-9B334954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6DE-C2E7-4521-8E49-D34DA7C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F7B1-C0F9-48FE-ADEF-7CDAF4C6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E187-B62C-45B1-BD0F-6C07106C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90658-C51E-4522-81FD-7F8C40B9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4AF8-7FF0-47C5-9024-9A7E1064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A735-B083-4F84-B8E9-637AE7D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46EF7-7BAF-4E3F-88D5-18CA22C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2FFA3-D129-48A7-A599-8329D3F0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9206-2449-4113-8FA7-D4F6DC58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F35B9-9AB7-47EA-BDA4-4A3DFFC2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751B3-AC5C-4F97-B544-77C1C707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54B-C218-48EB-97D1-2C20BC49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B8C72-D79F-4552-AC08-1026C823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79A676-980A-4D76-B1FC-9C53ECDD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D4C6B9-155E-4C2B-9A9D-C1AD6CAA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8148F-AF59-4F20-A703-BA0DCF50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A7977D-1644-4AA0-9ACF-04321FD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FCE02-FBCC-4746-9290-13DF9950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2FE102-DEA9-4D55-97EA-49D81253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42261-576B-4FCD-AD3F-9F1ACBDD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27FA9-E325-40A2-AB0D-9EBCC71E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7235A3-61C3-43DC-88DD-BF391113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977-340C-41F2-909C-5996C64E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A62A6-2CC4-4D9F-9425-67F46470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48680-2849-4CBE-AF2F-90C96EF6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53F5C-6FC9-45F8-81D4-B76624D4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10419-1395-4BCF-981F-7B56D033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063B5E-BD79-4F74-9BF1-359D6B59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1BF3F-F71A-45FC-9792-3F342177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F140CC-0700-4964-86AC-E1E8517F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5B580-57EE-4BBF-8C9C-9647C042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34ECBF-439C-4F90-A1EF-BA07A2D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8EB98-FED0-4AB0-88CE-7761119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0F1-29D7-4E41-8A61-B93141FD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72E25-3707-41D2-B1C0-FF292AEA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C49B7-5E4B-44C6-A5E2-10213CB1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4ACA5-E265-4565-96BB-AF733236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05A106-476A-4E6D-82F3-26DFA443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2E6AF-E22B-432A-84B1-36DF0D89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EBDF7-3D6F-46A7-B4B6-016C939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03F32-5130-4B71-9B9C-DEEBA77A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20184-3169-4859-A286-25FF2B0B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73BF02-8CD7-4681-BF09-C8C091F8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7C084-C934-41A2-ABEC-90AC127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8B7-D1E2-4D7C-883F-83902244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C3715-CC4F-44CD-8DC5-51EA52F1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FFBBD-EAA6-4D77-839A-21C39E0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9A5BD-9781-4DEB-96C9-7A079E87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742616-519C-4DD0-A57A-7F23FA8C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EB4ECA-9EEF-49DF-8DD5-24ADD842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1C2-E113-425D-8F53-84C377DE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E404-DC86-4FFB-A034-72C52577EF1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C087-92A8-4122-B2B2-5B7BAAB93D8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368D-2AE7-4C77-BF0A-6117682AF34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347D-27A1-44A2-9C98-8BDDAFB5400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FA18-97FC-4722-88A7-2528BC57DD5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8B04-E675-4E1D-857B-C1D1E053744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5481-5B29-421E-9A4D-785B3787DDB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rine" TargetMode="External"/><Relationship Id="rId2" Type="http://schemas.openxmlformats.org/officeDocument/2006/relationships/hyperlink" Target="http://en.wikipedia.org/wiki/Urine" TargetMode="External"/><Relationship Id="rId3" Type="http://schemas.openxmlformats.org/officeDocument/2006/relationships/hyperlink" Target="http://en.wikipedia.org/wiki/Urine" TargetMode="External"/><Relationship Id="rId4" Type="http://schemas.openxmlformats.org/officeDocument/2006/relationships/hyperlink" Target="http://en.wikipedia.org/wiki/Urine" TargetMode="External"/><Relationship Id="rId5" Type="http://schemas.openxmlformats.org/officeDocument/2006/relationships/hyperlink" Target="http://en.wikipedia.org/wiki/Sodium" TargetMode="External"/><Relationship Id="rId6" Type="http://schemas.openxmlformats.org/officeDocument/2006/relationships/hyperlink" Target="http://en.wikipedia.org/wiki/Urine" TargetMode="External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85716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Part 1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7" descr="1101"/>
          <p:cNvPicPr/>
          <p:nvPr/>
        </p:nvPicPr>
        <p:blipFill>
          <a:blip r:embed="rId1"/>
          <a:stretch/>
        </p:blipFill>
        <p:spPr>
          <a:xfrm>
            <a:off x="5676840" y="2957400"/>
            <a:ext cx="33958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29400" cy="35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2920" y="1052280"/>
            <a:ext cx="8964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azolamide – dorzol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nic anhydrase (CA) enzy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 tubules thus interferes wit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HCO3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uses diure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" descr="23"/>
          <p:cNvPicPr/>
          <p:nvPr/>
        </p:nvPicPr>
        <p:blipFill>
          <a:blip r:embed="rId1"/>
          <a:srcRect l="0" t="6096" r="0" b="3109"/>
          <a:stretch/>
        </p:blipFill>
        <p:spPr>
          <a:xfrm>
            <a:off x="34920" y="0"/>
            <a:ext cx="899964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4"/>
          <p:cNvSpPr/>
          <p:nvPr/>
        </p:nvSpPr>
        <p:spPr>
          <a:xfrm>
            <a:off x="611280" y="907920"/>
            <a:ext cx="295272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5867280" y="692280"/>
            <a:ext cx="327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2340000" y="1844640"/>
            <a:ext cx="151128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826920" y="260280"/>
            <a:ext cx="180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12"/>
          <p:cNvGrpSpPr/>
          <p:nvPr/>
        </p:nvGrpSpPr>
        <p:grpSpPr>
          <a:xfrm>
            <a:off x="6443640" y="189000"/>
            <a:ext cx="1873440" cy="1224000"/>
            <a:chOff x="6443640" y="189000"/>
            <a:chExt cx="1873440" cy="1224000"/>
          </a:xfrm>
        </p:grpSpPr>
        <p:sp>
          <p:nvSpPr>
            <p:cNvPr id="386" name="Rectangle 9"/>
            <p:cNvSpPr/>
            <p:nvPr/>
          </p:nvSpPr>
          <p:spPr>
            <a:xfrm>
              <a:off x="6443640" y="189000"/>
              <a:ext cx="187344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l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0"/>
            <p:cNvSpPr/>
            <p:nvPr/>
          </p:nvSpPr>
          <p:spPr>
            <a:xfrm flipH="1">
              <a:off x="6659640" y="1125360"/>
              <a:ext cx="936720" cy="2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Rectangle 8"/>
          <p:cNvSpPr/>
          <p:nvPr/>
        </p:nvSpPr>
        <p:spPr>
          <a:xfrm>
            <a:off x="1835280" y="5950080"/>
            <a:ext cx="59767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tub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85480" y="356760"/>
            <a:ext cx="83581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nce a day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nset of action is rapid (30 min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uration of action (12 h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secretion in proximal convoluted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duces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alkaline urine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50920" y="260280"/>
            <a:ext cx="8750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of sodium, potassium , bicarbonat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kaline urine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cid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phosphate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K+ excretion by ↑the load of Na+ delivered to the distal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86280" y="117360"/>
            <a:ext cx="3071880" cy="66693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"/>
          <p:cNvSpPr/>
          <p:nvPr/>
        </p:nvSpPr>
        <p:spPr>
          <a:xfrm>
            <a:off x="285840" y="142920"/>
            <a:ext cx="550044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o CA inhibitors have weak diuretic propertie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uretic prope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several days as the blood bicarbonate 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179280" y="214200"/>
            <a:ext cx="8640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pen angle glauco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carbonic anhydrase inhibitors cause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↓ </a:t>
            </a:r>
            <a:r>
              <a:rPr b="0" lang="en-US" sz="2800" spc="-1" strike="noStrike">
                <a:solidFill>
                  <a:srgbClr val="c00000"/>
                </a:solidFill>
                <a:latin typeface="Century Schoolbook"/>
              </a:rPr>
              <a:t>IOP by reducing  aqueous humor formation in ciliary body of ey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prophylactic therapy, in acute mountain sickness 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SF of br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n nightly 5 days before the ascent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↓ weaknes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reathlessness , dizziness, nausea, cerebral &amp; pulmonar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ed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OP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aocular pressure;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SF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3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179280" y="214200"/>
            <a:ext cx="864072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pilepsy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decrease cerebrospinal fluid, CSF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rinary alkalinization to enhance renal excretion of acidic substances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cysteine in cystinur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phosphatem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79280" y="356760"/>
            <a:ext cx="860760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okalemia (potassium los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nal stone formation (calcium phosphate stone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sensitivity reac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Diuretics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re drugs that increase renal excretion of 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sodium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ater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resulting in increase in urine volume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Diuresis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is the process of excretion of 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 in the </a:t>
            </a:r>
            <a:r>
              <a:rPr b="0" lang="en-US" sz="36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urine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atriuresi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s the process of excretion of </a:t>
            </a:r>
            <a:r>
              <a:rPr b="0" lang="en-US" sz="32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sodiu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in the </a:t>
            </a:r>
            <a:r>
              <a:rPr b="0" lang="en-US" sz="3200" spc="-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urin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50920" y="260280"/>
            <a:ext cx="8642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zolam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s a carbonic anhydrase inhibi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sed topically for treatment of open-angle glaucom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 diuretic or systemic side effect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3"/>
          <p:cNvGraphicFramePr/>
          <p:nvPr/>
        </p:nvGraphicFramePr>
        <p:xfrm>
          <a:off x="609480" y="2057400"/>
          <a:ext cx="648180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648180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Text Box 4"/>
          <p:cNvSpPr/>
          <p:nvPr/>
        </p:nvSpPr>
        <p:spPr>
          <a:xfrm>
            <a:off x="2572560" y="285840"/>
            <a:ext cx="405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oop Diuretic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7" descr="file"/>
          <p:cNvPicPr/>
          <p:nvPr/>
        </p:nvPicPr>
        <p:blipFill>
          <a:blip r:embed="rId3"/>
          <a:stretch/>
        </p:blipFill>
        <p:spPr>
          <a:xfrm>
            <a:off x="7315200" y="48006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4"/>
          <a:stretch/>
        </p:blipFill>
        <p:spPr>
          <a:xfrm>
            <a:off x="6400800" y="140004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br>
              <a:rPr sz="3200"/>
            </a:b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High Ceiling diuretics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-360" y="1528920"/>
            <a:ext cx="93582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Acts in </a:t>
            </a:r>
            <a:r>
              <a:rPr b="0" lang="en-US" sz="3200" spc="-1" strike="noStrike">
                <a:solidFill>
                  <a:srgbClr val="0000cc"/>
                </a:solidFill>
                <a:latin typeface="Century Schoolbook"/>
              </a:rPr>
              <a:t>ascending loop of Henl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e most potent diuretic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gh natriuresis as 25-30% 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Drug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Furosemide - Torsemide 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0000"/>
              </a:lnSpc>
              <a:spcBef>
                <a:spcPts val="77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cc"/>
                </a:solidFill>
                <a:latin typeface="Century Schoolbook"/>
              </a:rPr>
              <a:t>Bumetanide</a:t>
            </a:r>
            <a:r>
              <a:rPr b="0" lang="en-US" sz="3100" spc="-1" strike="noStrike">
                <a:solidFill>
                  <a:srgbClr val="000000"/>
                </a:solidFill>
                <a:latin typeface="Century Schoolbook"/>
              </a:rPr>
              <a:t> - Ethcrynic  acid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1360" y="214200"/>
            <a:ext cx="7721280" cy="164304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Loop Diuretics</a:t>
            </a:r>
            <a:br>
              <a:rPr sz="3200"/>
            </a:br>
            <a:r>
              <a:rPr b="0" lang="en-US" sz="3200" spc="-1" strike="noStrike">
                <a:solidFill>
                  <a:srgbClr val="ffe636"/>
                </a:solidFill>
                <a:latin typeface="Century Schoolbook"/>
              </a:rPr>
              <a:t>High Ceiling Diuretics</a:t>
            </a:r>
            <a:br>
              <a:rPr sz="25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Oval 4"/>
          <p:cNvSpPr/>
          <p:nvPr/>
        </p:nvSpPr>
        <p:spPr>
          <a:xfrm>
            <a:off x="5214960" y="2214720"/>
            <a:ext cx="3252600" cy="142848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thacry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tency 0.7, t½ 1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5"/>
          <p:cNvSpPr/>
          <p:nvPr/>
        </p:nvSpPr>
        <p:spPr>
          <a:xfrm>
            <a:off x="4857840" y="4214880"/>
            <a:ext cx="3357360" cy="1407960"/>
          </a:xfrm>
          <a:prstGeom prst="ellipse">
            <a:avLst/>
          </a:prstGeom>
          <a:gradFill rotWithShape="0">
            <a:gsLst>
              <a:gs pos="0">
                <a:srgbClr val="ffae87"/>
              </a:gs>
              <a:gs pos="100000">
                <a:srgbClr val="ffe5dc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cy 3, t½  3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857160" y="2286000"/>
            <a:ext cx="3143520" cy="12142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Bumetan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Potency 40 , t½ 0.8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714240" y="4286160"/>
            <a:ext cx="2928960" cy="1143000"/>
          </a:xfrm>
          <a:prstGeom prst="ellipse">
            <a:avLst/>
          </a:prstGeom>
          <a:solidFill>
            <a:srgbClr val="ffc000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ose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y 1, t½  1.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LOOP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echanism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K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/ 2 Cl</a:t>
            </a:r>
            <a:r>
              <a:rPr b="1" lang="en-US" sz="3400" spc="-1" strike="noStrike" baseline="30000">
                <a:solidFill>
                  <a:srgbClr val="0000ff"/>
                </a:solidFill>
                <a:latin typeface="Century Schoolbook"/>
              </a:rPr>
              <a:t>-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 the luminal membrane of the thick ascending loop of Henle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TAL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 C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re-absorption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214200" y="188640"/>
            <a:ext cx="87156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scending loop of Henle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impermeable to wate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entury Schoolbook"/>
              </a:rPr>
              <a:t>In thick ascending loop of Henle (TAL)</a:t>
            </a: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is responsible for active re-absorption of Na, K and Cl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(25-30%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 is reabsorbed)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via transport system in luminal membrane called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Na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/ K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/ 2Cl</a:t>
            </a:r>
            <a:r>
              <a:rPr b="1" lang="en-US" sz="2800" spc="-1" strike="noStrike" baseline="30000">
                <a:solidFill>
                  <a:srgbClr val="c00000"/>
                </a:solidFill>
                <a:latin typeface="Century Schoolbook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 co-transporter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a and Mg are reabsorbed and enter the interstitial fluid via paracellular pathw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4" descr="AHD0404-10-001"/>
          <p:cNvPicPr/>
          <p:nvPr/>
        </p:nvPicPr>
        <p:blipFill>
          <a:blip r:embed="rId1"/>
          <a:srcRect l="10601" t="7630" r="14534" b="4265"/>
          <a:stretch/>
        </p:blipFill>
        <p:spPr>
          <a:xfrm>
            <a:off x="857160" y="206280"/>
            <a:ext cx="7429680" cy="64850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2556000" y="44280"/>
            <a:ext cx="561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ending loop of Hen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67760" y="188640"/>
            <a:ext cx="461988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kin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78920" y="981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Given orally or I. 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fast onset of action 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(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suitable for emergency</a:t>
            </a: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ave short duration of a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Excreted by active tubular secretion of weak acids into uri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Interfere with uric acid secretion     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(hyperuricemia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217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7892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of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ary excretion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and Mg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+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renal blood fl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6684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1547640" y="2852640"/>
            <a:ext cx="6337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Mechanism of actions of diuretic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st diuretics act by interfering with the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normal sodium reabsorption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y the renal tubules resulting into sodium and water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50920" y="260280"/>
            <a:ext cx="846432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Uses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Century Schoolbook"/>
              </a:rPr>
              <a:t>are drug of choice for emergency situations a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 associated with congestive heart failure, nephrotic syndrome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pulmonary edema 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hyperkalaemia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cute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ypercalcemia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6215040" y="2143080"/>
            <a:ext cx="2235240" cy="787320"/>
          </a:xfrm>
          <a:prstGeom prst="ellipse">
            <a:avLst/>
          </a:prstGeom>
          <a:solidFill>
            <a:srgbClr val="ef9100"/>
          </a:solidFill>
          <a:ln w="2232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Ototox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9280" y="836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volemia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natraemia (↓ blood 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kalemia (↓ blood 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magnesaemia (↓ blood Mg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ocalcaemia (↓ blood C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Schoolbook"/>
              </a:rPr>
              <a:t>2+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Schoolbook"/>
              </a:rPr>
              <a:t>Dietary K supplementation or K-sparing diuretics should be used to avoid hypokalemia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10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4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4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4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2680" y="129960"/>
            <a:ext cx="8401320" cy="63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dverse effects :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9280" y="836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Hyperuricemia </a:t>
            </a:r>
            <a:r>
              <a:rPr b="1" i="1" lang="en-US" sz="2800" spc="-1" strike="noStrike">
                <a:solidFill>
                  <a:srgbClr val="0000cc"/>
                </a:solidFill>
                <a:latin typeface="Century Schoolbook"/>
              </a:rPr>
              <a:t>(increase blood uric acid and gouty attack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Ototoxicity </a:t>
            </a:r>
            <a:r>
              <a:rPr b="1" i="1" lang="en-US" sz="2800" spc="-1" strike="noStrike">
                <a:solidFill>
                  <a:srgbClr val="0000cc"/>
                </a:solidFill>
                <a:latin typeface="Century Schoolbook"/>
              </a:rPr>
              <a:t>(risk increased if combined with aminoglycosides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llergic reaction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21280" cy="57132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9100"/>
                </a:solidFill>
                <a:latin typeface="Century Schoolbook"/>
              </a:rPr>
              <a:t>THIAZIDE DIURE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Oval 4"/>
          <p:cNvSpPr/>
          <p:nvPr/>
        </p:nvSpPr>
        <p:spPr>
          <a:xfrm>
            <a:off x="5429160" y="1285920"/>
            <a:ext cx="3286080" cy="1219320"/>
          </a:xfrm>
          <a:prstGeom prst="ellipse">
            <a:avLst/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thali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y 10, t½ 2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2857680" y="2786040"/>
            <a:ext cx="3500280" cy="1143000"/>
          </a:xfrm>
          <a:prstGeom prst="ellipse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etola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tency 5, t½ 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Oval 6"/>
          <p:cNvSpPr/>
          <p:nvPr/>
        </p:nvSpPr>
        <p:spPr>
          <a:xfrm>
            <a:off x="285840" y="1428840"/>
            <a:ext cx="2921040" cy="137160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Potency 0.1, t½ 2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Oval 7"/>
          <p:cNvSpPr/>
          <p:nvPr/>
        </p:nvSpPr>
        <p:spPr>
          <a:xfrm>
            <a:off x="142920" y="4000680"/>
            <a:ext cx="3962520" cy="114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dro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tency 1 , t½  3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5"/>
          <p:cNvSpPr/>
          <p:nvPr/>
        </p:nvSpPr>
        <p:spPr>
          <a:xfrm>
            <a:off x="5072040" y="4429080"/>
            <a:ext cx="3571920" cy="1143000"/>
          </a:xfrm>
          <a:prstGeom prst="ellipse">
            <a:avLst/>
          </a:prstGeom>
          <a:solidFill>
            <a:srgbClr val="eb6e5a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dapa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20, t½ 1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s via  </a:t>
            </a: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inhibition of Na/Cl            co-transporter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n the luminal membrane of distal convoluted tubule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oderate natriuresis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as 5-10% of filtered  load of sodium is reabsorb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23"/>
          <p:cNvPicPr/>
          <p:nvPr/>
        </p:nvPicPr>
        <p:blipFill>
          <a:blip r:embed="rId1"/>
          <a:srcRect l="2874" t="9310" r="0" b="12414"/>
          <a:stretch/>
        </p:blipFill>
        <p:spPr>
          <a:xfrm>
            <a:off x="36360" y="27000"/>
            <a:ext cx="9072720" cy="678672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5"/>
          <p:cNvSpPr/>
          <p:nvPr/>
        </p:nvSpPr>
        <p:spPr>
          <a:xfrm>
            <a:off x="34920" y="77760"/>
            <a:ext cx="489744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of thiazide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2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58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78920" y="260280"/>
            <a:ext cx="87138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kinetics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ven orally, slow of onset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ng duration of action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re secreted by active tubular secretory system of the kidney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y interfere with uric acid secretion and cause </a:t>
            </a:r>
            <a:r>
              <a:rPr b="1" i="1" lang="en-US" sz="3400" spc="-1" strike="noStrike">
                <a:solidFill>
                  <a:srgbClr val="ff0000"/>
                </a:solidFill>
                <a:latin typeface="Century Schoolbook"/>
              </a:rPr>
              <a:t>hyperuri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0" y="836640"/>
            <a:ext cx="9036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Cl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Hypokalemia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magnesium excretion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urinary calcium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lcium re-absorp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cal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Line 6"/>
          <p:cNvSpPr/>
          <p:nvPr/>
        </p:nvSpPr>
        <p:spPr>
          <a:xfrm flipV="1">
            <a:off x="285840" y="8366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7"/>
          <p:cNvSpPr/>
          <p:nvPr/>
        </p:nvSpPr>
        <p:spPr>
          <a:xfrm flipV="1">
            <a:off x="285840" y="15573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8"/>
          <p:cNvSpPr/>
          <p:nvPr/>
        </p:nvSpPr>
        <p:spPr>
          <a:xfrm flipV="1">
            <a:off x="285840" y="24242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9"/>
          <p:cNvSpPr/>
          <p:nvPr/>
        </p:nvSpPr>
        <p:spPr>
          <a:xfrm flipV="1">
            <a:off x="285840" y="41385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285840" y="3281400"/>
            <a:ext cx="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10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"/>
          <p:cNvGraphicFramePr/>
          <p:nvPr/>
        </p:nvGraphicFramePr>
        <p:xfrm>
          <a:off x="179280" y="638280"/>
          <a:ext cx="8750520" cy="6076800"/>
        </p:xfrm>
        <a:graphic>
          <a:graphicData uri="http://schemas.openxmlformats.org/drawingml/2006/table">
            <a:tbl>
              <a:tblPr/>
              <a:tblGrid>
                <a:gridCol w="3875040"/>
                <a:gridCol w="4875480"/>
              </a:tblGrid>
              <a:tr h="630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c00000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5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8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9" name="Picture 5" descr="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324000" y="765000"/>
            <a:ext cx="8351640" cy="5832720"/>
          </a:xfrm>
          <a:prstGeom prst="rect">
            <a:avLst/>
          </a:prstGeom>
          <a:ln w="9360">
            <a:solidFill>
              <a:srgbClr val="fe8637">
                <a:alpha val="5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710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essential hypertension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cheap-well tolerat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mild heart failure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to reduce extracellular volume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79280" y="928440"/>
            <a:ext cx="87854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Calcium nephrolithiasis due to hypercalciuria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300" spc="-1" strike="noStrike">
                <a:solidFill>
                  <a:srgbClr val="c00000"/>
                </a:solidFill>
                <a:latin typeface="Century Schoolbook"/>
              </a:rPr>
              <a:t>(to increase calcium re-absorption and decrease renal calcium stones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Nephrogenic diabetes insipidus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decrease blood volume and GFR)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8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6858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az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Down Arrow 7"/>
          <p:cNvSpPr/>
          <p:nvPr/>
        </p:nvSpPr>
        <p:spPr>
          <a:xfrm>
            <a:off x="1447920" y="1371600"/>
            <a:ext cx="304560" cy="7621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380880" y="2514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tubular N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0"/>
          <p:cNvSpPr/>
          <p:nvPr/>
        </p:nvSpPr>
        <p:spPr>
          <a:xfrm>
            <a:off x="685800" y="3962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Down Arrow 11"/>
          <p:cNvSpPr/>
          <p:nvPr/>
        </p:nvSpPr>
        <p:spPr>
          <a:xfrm>
            <a:off x="1447920" y="327672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Up Arrow 12"/>
          <p:cNvSpPr/>
          <p:nvPr/>
        </p:nvSpPr>
        <p:spPr>
          <a:xfrm>
            <a:off x="533520" y="4267080"/>
            <a:ext cx="152280" cy="4572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13"/>
          <p:cNvSpPr/>
          <p:nvPr/>
        </p:nvSpPr>
        <p:spPr>
          <a:xfrm>
            <a:off x="3809880" y="57913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cellula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Bent-Up Arrow 19"/>
          <p:cNvSpPr/>
          <p:nvPr/>
        </p:nvSpPr>
        <p:spPr>
          <a:xfrm>
            <a:off x="5791320" y="5562720"/>
            <a:ext cx="1752480" cy="685800"/>
          </a:xfrm>
          <a:custGeom>
            <a:avLst/>
            <a:gdLst/>
            <a:ahLst/>
            <a:rect l="l" t="t" r="r" b="b"/>
            <a:pathLst>
              <a:path w="1752600" h="685800">
                <a:moveTo>
                  <a:pt x="0" y="514350"/>
                </a:moveTo>
                <a:lnTo>
                  <a:pt x="1495425" y="514350"/>
                </a:lnTo>
                <a:lnTo>
                  <a:pt x="1495425" y="171450"/>
                </a:lnTo>
                <a:lnTo>
                  <a:pt x="1409700" y="171450"/>
                </a:lnTo>
                <a:lnTo>
                  <a:pt x="1581150" y="0"/>
                </a:lnTo>
                <a:lnTo>
                  <a:pt x="1752600" y="171450"/>
                </a:lnTo>
                <a:lnTo>
                  <a:pt x="1666875" y="171450"/>
                </a:lnTo>
                <a:lnTo>
                  <a:pt x="1666875" y="685800"/>
                </a:lnTo>
                <a:lnTo>
                  <a:pt x="0" y="685800"/>
                </a:lnTo>
                <a:lnTo>
                  <a:pt x="0" y="51435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-Shape 23"/>
          <p:cNvSpPr/>
          <p:nvPr/>
        </p:nvSpPr>
        <p:spPr>
          <a:xfrm>
            <a:off x="1600200" y="5257800"/>
            <a:ext cx="304920" cy="1066680"/>
          </a:xfrm>
          <a:custGeom>
            <a:avLst/>
            <a:gdLst/>
            <a:ahLst/>
            <a:rect l="l" t="t" r="r" b="b"/>
            <a:pathLst>
              <a:path w="304800" h="1066800">
                <a:moveTo>
                  <a:pt x="0" y="0"/>
                </a:moveTo>
                <a:lnTo>
                  <a:pt x="152400" y="0"/>
                </a:lnTo>
                <a:lnTo>
                  <a:pt x="152400" y="914400"/>
                </a:lnTo>
                <a:lnTo>
                  <a:pt x="304800" y="914400"/>
                </a:lnTo>
                <a:lnTo>
                  <a:pt x="304800" y="1066800"/>
                </a:lnTo>
                <a:lnTo>
                  <a:pt x="0" y="1066800"/>
                </a:lnTo>
                <a:lnTo>
                  <a:pt x="0" y="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ight Arrow 24"/>
          <p:cNvSpPr/>
          <p:nvPr/>
        </p:nvSpPr>
        <p:spPr>
          <a:xfrm>
            <a:off x="1905120" y="609588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26"/>
          <p:cNvSpPr/>
          <p:nvPr/>
        </p:nvSpPr>
        <p:spPr>
          <a:xfrm>
            <a:off x="5791320" y="4114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 Na+ &amp; Water re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Up Arrow 27"/>
          <p:cNvSpPr/>
          <p:nvPr/>
        </p:nvSpPr>
        <p:spPr>
          <a:xfrm>
            <a:off x="5486400" y="4343400"/>
            <a:ext cx="152280" cy="53352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Box 28"/>
          <p:cNvSpPr/>
          <p:nvPr/>
        </p:nvSpPr>
        <p:spPr>
          <a:xfrm>
            <a:off x="5562720" y="2438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delivery of Na+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Box 29"/>
          <p:cNvSpPr/>
          <p:nvPr/>
        </p:nvSpPr>
        <p:spPr>
          <a:xfrm>
            <a:off x="5562720" y="914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Down Arrow 30"/>
          <p:cNvSpPr/>
          <p:nvPr/>
        </p:nvSpPr>
        <p:spPr>
          <a:xfrm>
            <a:off x="5429160" y="928800"/>
            <a:ext cx="95400" cy="6523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Down Arrow 31"/>
          <p:cNvSpPr/>
          <p:nvPr/>
        </p:nvSpPr>
        <p:spPr>
          <a:xfrm>
            <a:off x="5410080" y="2590920"/>
            <a:ext cx="152640" cy="533160"/>
          </a:xfrm>
          <a:prstGeom prst="downArrow">
            <a:avLst>
              <a:gd name="adj1" fmla="val 50000"/>
              <a:gd name="adj2" fmla="val 49903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Up Arrow 32"/>
          <p:cNvSpPr/>
          <p:nvPr/>
        </p:nvSpPr>
        <p:spPr>
          <a:xfrm>
            <a:off x="7010280" y="3276720"/>
            <a:ext cx="457200" cy="83808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Up Arrow 33"/>
          <p:cNvSpPr/>
          <p:nvPr/>
        </p:nvSpPr>
        <p:spPr>
          <a:xfrm>
            <a:off x="7010280" y="1447920"/>
            <a:ext cx="381240" cy="83808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Down Arrow 34"/>
          <p:cNvSpPr/>
          <p:nvPr/>
        </p:nvSpPr>
        <p:spPr>
          <a:xfrm>
            <a:off x="3505320" y="586728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1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37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Times New Roman"/>
              </a:rPr>
              <a:t>Mechanism of antidiuretic effect of thiazide in diabetes insipi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Down Arrow 35"/>
          <p:cNvSpPr/>
          <p:nvPr/>
        </p:nvSpPr>
        <p:spPr>
          <a:xfrm>
            <a:off x="457200" y="27432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598d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dverse effect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78920" y="92880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Fluid and electrolyte imbalanc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natr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volemia (volume depletion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kal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uricaemia (gout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cc"/>
                </a:solidFill>
                <a:latin typeface="Century Schoolbook"/>
              </a:rPr>
              <a:t>Hypercalcemia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glyca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lipid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3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  <a:ea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7"/>
          <p:cNvSpPr/>
          <p:nvPr/>
        </p:nvSpPr>
        <p:spPr>
          <a:xfrm>
            <a:off x="3214800" y="550080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4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Object 2"/>
          <p:cNvGraphicFramePr/>
          <p:nvPr/>
        </p:nvGraphicFramePr>
        <p:xfrm>
          <a:off x="685800" y="1066680"/>
          <a:ext cx="802944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802944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Line 7"/>
          <p:cNvSpPr/>
          <p:nvPr/>
        </p:nvSpPr>
        <p:spPr>
          <a:xfrm>
            <a:off x="7338960" y="3740040"/>
            <a:ext cx="590760" cy="46080"/>
          </a:xfrm>
          <a:prstGeom prst="line">
            <a:avLst/>
          </a:prstGeom>
          <a:ln w="2556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8001000" y="3571920"/>
            <a:ext cx="67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5249880" y="304920"/>
            <a:ext cx="3394080" cy="204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T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onolac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amte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12"/>
          <p:cNvSpPr/>
          <p:nvPr/>
        </p:nvSpPr>
        <p:spPr>
          <a:xfrm>
            <a:off x="4175280" y="4329000"/>
            <a:ext cx="0" cy="160020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3"/>
          <p:cNvSpPr/>
          <p:nvPr/>
        </p:nvSpPr>
        <p:spPr>
          <a:xfrm>
            <a:off x="6994440" y="3262320"/>
            <a:ext cx="0" cy="76212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254880" y="228600"/>
            <a:ext cx="4708440" cy="1739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tassium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aring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25"/>
          <p:cNvSpPr/>
          <p:nvPr/>
        </p:nvSpPr>
        <p:spPr>
          <a:xfrm>
            <a:off x="56991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13" descr=""/>
          <p:cNvPicPr/>
          <p:nvPr/>
        </p:nvPicPr>
        <p:blipFill>
          <a:blip r:embed="rId3"/>
          <a:stretch/>
        </p:blipFill>
        <p:spPr>
          <a:xfrm>
            <a:off x="214200" y="4143240"/>
            <a:ext cx="22147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181160" y="533520"/>
            <a:ext cx="6849720" cy="76428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assium-sparing diur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42920" y="4071960"/>
            <a:ext cx="4929120" cy="106920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ldosterone antagon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5248440" y="3936960"/>
            <a:ext cx="3538440" cy="247104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channels inhib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7"/>
          <p:cNvSpPr/>
          <p:nvPr/>
        </p:nvSpPr>
        <p:spPr>
          <a:xfrm>
            <a:off x="655308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9"/>
          <p:cNvSpPr/>
          <p:nvPr/>
        </p:nvSpPr>
        <p:spPr>
          <a:xfrm>
            <a:off x="182880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1066680" y="2133720"/>
            <a:ext cx="221940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286240" y="2057400"/>
            <a:ext cx="250056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 in collecting tubules and ducts by inhibiting Na re-absorption and K &amp; H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K-sparing effect) by either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ion of Na influx through Na channels in the luminal membrane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(triamterene – amiloride)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مستطيل 3"/>
          <p:cNvSpPr/>
          <p:nvPr/>
        </p:nvSpPr>
        <p:spPr>
          <a:xfrm>
            <a:off x="214200" y="730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pironolactone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produces its diuretic effect by antagonizing cytoplasmic aldosterone receptors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مستطيل 3"/>
          <p:cNvSpPr/>
          <p:nvPr/>
        </p:nvSpPr>
        <p:spPr>
          <a:xfrm>
            <a:off x="142920" y="71280"/>
            <a:ext cx="54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108000" y="549360"/>
          <a:ext cx="8964720" cy="6262560"/>
        </p:xfrm>
        <a:graphic>
          <a:graphicData uri="http://schemas.openxmlformats.org/drawingml/2006/table">
            <a:tbl>
              <a:tblPr/>
              <a:tblGrid>
                <a:gridCol w="2297160"/>
                <a:gridCol w="3778200"/>
                <a:gridCol w="2889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ntidiuret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Century Schoolbook"/>
              </a:rPr>
              <a:t>Normal Sodium Re-absorption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OLLECTED TUBULES (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0096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1280" y="1052280"/>
            <a:ext cx="907272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↑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↓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kal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 ↓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H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acidosis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مستطيل 3"/>
          <p:cNvSpPr/>
          <p:nvPr/>
        </p:nvSpPr>
        <p:spPr>
          <a:xfrm>
            <a:off x="169920" y="1890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Pharmacodynamic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745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Therapeutic u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reatment of hypertension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To prevent hypokalemia </a:t>
            </a: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(combined with thiazide or loop diuretics to correct for hypokalem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rug of choice for patients with hepatic cirrh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Secondary hyperaldosteronism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CHF, hepatic cirrhosis, nephrotic syndrom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1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Adverse Effec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50560" y="126828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perkalaemia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ynaecomast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T upset and peptic ulcer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entury Schoolbook"/>
              </a:rPr>
              <a:t>Contraindications: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50920" y="1643040"/>
            <a:ext cx="86421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Hyperkalaemia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in chronic renal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failure, K+ supplementation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-blockers 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CE inhibitor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847800" y="6094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6094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5"/>
          <p:cNvSpPr/>
          <p:nvPr/>
        </p:nvSpPr>
        <p:spPr>
          <a:xfrm flipV="1">
            <a:off x="327672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2763000" y="21477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–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1364760" y="380880"/>
            <a:ext cx="55162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motic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8" descr="mannitol-from-mannitol"/>
          <p:cNvPicPr/>
          <p:nvPr/>
        </p:nvPicPr>
        <p:blipFill>
          <a:blip r:embed="rId3"/>
          <a:stretch/>
        </p:blipFill>
        <p:spPr>
          <a:xfrm>
            <a:off x="838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Osmotic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13840" y="1341000"/>
            <a:ext cx="8929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5920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oorly absorb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given orally          osmotic diarrhe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intravenousl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 metaboliz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glomerular filtration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ithout being re-absorbed or secreted within 30-60 m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Striped Right Arrow 3"/>
          <p:cNvSpPr/>
          <p:nvPr/>
        </p:nvSpPr>
        <p:spPr>
          <a:xfrm>
            <a:off x="3429000" y="3143160"/>
            <a:ext cx="533520" cy="46080"/>
          </a:xfrm>
          <a:custGeom>
            <a:avLst/>
            <a:gdLst/>
            <a:ahLst/>
            <a:rect l="l" t="t" r="r" b="b"/>
            <a:pathLst>
              <a:path w="533400" h="46038">
                <a:moveTo>
                  <a:pt x="0" y="11510"/>
                </a:moveTo>
                <a:lnTo>
                  <a:pt x="1439" y="11510"/>
                </a:lnTo>
                <a:lnTo>
                  <a:pt x="1439" y="34529"/>
                </a:lnTo>
                <a:lnTo>
                  <a:pt x="0" y="34529"/>
                </a:lnTo>
                <a:lnTo>
                  <a:pt x="0" y="11510"/>
                </a:lnTo>
                <a:close/>
                <a:moveTo>
                  <a:pt x="2877" y="11510"/>
                </a:moveTo>
                <a:lnTo>
                  <a:pt x="5755" y="11510"/>
                </a:lnTo>
                <a:lnTo>
                  <a:pt x="5755" y="34529"/>
                </a:lnTo>
                <a:lnTo>
                  <a:pt x="2877" y="34529"/>
                </a:lnTo>
                <a:lnTo>
                  <a:pt x="2877" y="11510"/>
                </a:lnTo>
                <a:close/>
                <a:moveTo>
                  <a:pt x="7193" y="11510"/>
                </a:moveTo>
                <a:lnTo>
                  <a:pt x="510381" y="11510"/>
                </a:lnTo>
                <a:lnTo>
                  <a:pt x="510381" y="0"/>
                </a:lnTo>
                <a:lnTo>
                  <a:pt x="533400" y="23019"/>
                </a:lnTo>
                <a:lnTo>
                  <a:pt x="510381" y="46038"/>
                </a:lnTo>
                <a:lnTo>
                  <a:pt x="510381" y="34529"/>
                </a:lnTo>
                <a:lnTo>
                  <a:pt x="7193" y="34529"/>
                </a:lnTo>
                <a:lnTo>
                  <a:pt x="7193" y="1151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2560" y="213840"/>
            <a:ext cx="89298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in proximal tubules &amp; descending loop of Henle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output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y osmosis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ing water out of cells and into the blood stream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the extracellular fluid volume, decrease blood  viscosity and ↑renal blood flow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excretion with relatively less effect on Na+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water diuresis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2" dur="1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7" dur="1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2" dur="1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7" dur="10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herapeutic Uses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0920" y="981000"/>
            <a:ext cx="86788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cute renal failure due to shock or traum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maintain urine flow- preserve kidney functio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acute drug poisoning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eliminate drugs that are reabsorbed from the renal tubules e.g. salicylates, barbitura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traocular &amp; intracranial pressure before ophthalmic or brain procedures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erebral edem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4" dur="10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4929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Adverse Effect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14200" y="857160"/>
            <a:ext cx="863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ache, nausea, vomit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tracellular volume expansion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cates heart failure &amp; pulmonary oedema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cessive use</a:t>
            </a:r>
            <a:r>
              <a:rPr b="0" lang="en-US" sz="3000" spc="-1" strike="noStrike">
                <a:solidFill>
                  <a:srgbClr val="0000cc"/>
                </a:solidFill>
                <a:latin typeface="Symbol"/>
                <a:ea typeface="Symbol"/>
              </a:rPr>
              <a:t>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hydration &amp; hypernatraemia (Adequate water replacement is required)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10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10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24000" y="260280"/>
            <a:ext cx="85341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entury Schoolbook"/>
              </a:rPr>
              <a:t>Sites of action for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How diuretics produce their effects?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arget molecules for diuretics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arriers or transport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in luminal membrane of renal tubular cells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quired for tubular reabsorption of sodium from filtrate back into bloo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Therapeutic applications of diuretic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reatment of hypertens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lone or in combination with beta-blockers at low-dose (fewer side effect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presence of renal failure, loop diuretic is us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Edema Sta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Thiazide diuretic is used in mild edema with normal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used in cases with impair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178920" y="188640"/>
            <a:ext cx="849636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ongestive Heart fail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Mild case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s may be used with well-preserv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Severe case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much preferred especially when GFR is lower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800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life-threatening </a:t>
            </a:r>
            <a:r>
              <a:rPr b="1" lang="en-US" sz="3200" spc="-1" strike="noStrike">
                <a:solidFill>
                  <a:srgbClr val="7030a0"/>
                </a:solidFill>
                <a:latin typeface="Century Schoolbook"/>
              </a:rPr>
              <a:t>acute pulmonary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edema, furosemide is given I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s are used till GFR ≥ 40-50 ml/m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op diuretic are used below given values, with increasing the dose as GFR goes dow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Nephrogenic diabetes inspidu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rge volume(&gt;10 L/day) of dilute uri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 diuretics reduces urine volum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Hepatic cirrhosis with asci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pironolactone is of choic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5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5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5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5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5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214200" y="714240"/>
          <a:ext cx="8786880" cy="6072480"/>
        </p:xfrm>
        <a:graphic>
          <a:graphicData uri="http://schemas.openxmlformats.org/drawingml/2006/table">
            <a:tbl>
              <a:tblPr/>
              <a:tblGrid>
                <a:gridCol w="2151000"/>
                <a:gridCol w="3408480"/>
                <a:gridCol w="3227400"/>
              </a:tblGrid>
              <a:tr h="69876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100% glucose and amino acids, 66% Na, K, Ca, Mg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72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8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08000" y="714240"/>
          <a:ext cx="8821800" cy="602640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592360"/>
                <a:gridCol w="1765440"/>
              </a:tblGrid>
              <a:tr h="6980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66% Na, K, Ca, Mg, 100% glucose and amino acids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, 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46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"/>
          <p:cNvGraphicFramePr/>
          <p:nvPr/>
        </p:nvGraphicFramePr>
        <p:xfrm>
          <a:off x="142920" y="142920"/>
          <a:ext cx="8858160" cy="6624720"/>
        </p:xfrm>
        <a:graphic>
          <a:graphicData uri="http://schemas.openxmlformats.org/drawingml/2006/table">
            <a:tbl>
              <a:tblPr/>
              <a:tblGrid>
                <a:gridCol w="2660760"/>
                <a:gridCol w="2803320"/>
                <a:gridCol w="33940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hibition of NaHCO3 reabsorption 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 HCO3,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effect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P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e ex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TAL the most eff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Ca,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U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urinary Ca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ypercalcemi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6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etitive antagonist of aldosterone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C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179280" y="189000"/>
          <a:ext cx="8666280" cy="6561000"/>
        </p:xfrm>
        <a:graphic>
          <a:graphicData uri="http://schemas.openxmlformats.org/drawingml/2006/table">
            <a:tbl>
              <a:tblPr/>
              <a:tblGrid>
                <a:gridCol w="3184560"/>
                <a:gridCol w="548172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Uses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(topically) for glauc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laucoma, epilep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untain s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hosphat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rebral edema, 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renal failure, drug toxi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pulmonary edema 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t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kalemia, 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monly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tension, mild heart failure, nephrolithiasis, diabetes inspi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patic cirr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214200" y="142920"/>
          <a:ext cx="8715600" cy="6643800"/>
        </p:xfrm>
        <a:graphic>
          <a:graphicData uri="http://schemas.openxmlformats.org/drawingml/2006/table">
            <a:tbl>
              <a:tblPr/>
              <a:tblGrid>
                <a:gridCol w="2573280"/>
                <a:gridCol w="614232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zolamid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abolic acidosis , 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tracellular water expa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hyd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natr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volemia, hyponatr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cipitate gout, 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 hyponatremia, hypovol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, precipitate g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lipidemia, hypergly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5404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pironolact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ynaecomas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kalaem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Metabolic acido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IT upset and peptic 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46748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ypes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79280" y="836640"/>
          <a:ext cx="8713800" cy="5878440"/>
        </p:xfrm>
        <a:graphic>
          <a:graphicData uri="http://schemas.openxmlformats.org/drawingml/2006/table">
            <a:tbl>
              <a:tblPr/>
              <a:tblGrid>
                <a:gridCol w="2305080"/>
                <a:gridCol w="2879640"/>
                <a:gridCol w="3529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Diur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inhib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Loop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hiazide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K-sparing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920" y="126828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"/>
          <p:cNvSpPr/>
          <p:nvPr/>
        </p:nvSpPr>
        <p:spPr>
          <a:xfrm>
            <a:off x="1714680" y="714240"/>
            <a:ext cx="2000160" cy="928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Carbonic anhyd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nhib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4500720" y="4000680"/>
            <a:ext cx="2357280" cy="4284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Loop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5357880" y="1785960"/>
            <a:ext cx="257184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Thiazide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7143840" y="4929120"/>
            <a:ext cx="1714320" cy="571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K-sparing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GCUSER</cp:lastModifiedBy>
  <dcterms:modified xsi:type="dcterms:W3CDTF">2015-05-13T08:57:47Z</dcterms:modified>
  <cp:revision>267</cp:revision>
  <dc:subject/>
  <dc:title>DIURETICS</dc:title>
</cp:coreProperties>
</file>