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1.png" ContentType="image/png"/>
  <Override PartName="/ppt/media/image7.jpeg" ContentType="image/jpeg"/>
  <Override PartName="/ppt/media/image6.jpeg" ContentType="image/jpeg"/>
  <Override PartName="/ppt/media/image1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F1DA-239E-493B-963A-9733AE067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33CB-D329-4820-8D96-37649BF01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1A9C1E-CE3A-4652-8D85-D3E44F181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FA99D8-B232-49B5-B1FA-0D3A17EDD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C5A018-D099-4767-9F7C-5AFF95785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6266CB-DA7C-47D4-9D8E-4744BDF5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8C6115-8753-4A37-A013-213AE2BE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023B2F-DE7F-49B2-A65E-8D9F1EB1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1871E3-E099-4072-AD9B-86BF235D1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D94008-2751-4878-9EB2-738574B7F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B3C33E-1749-48C8-A927-1EFAE59E6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1728-1C1D-4282-A86B-4C4CC90C8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306D-4CA6-403E-B957-0AEE8D5AF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11B49-811F-4FA9-A406-91E269073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672E0-7636-4589-B816-A5D080630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EAAAD-826A-4786-9464-35F895A3C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1AFE1-ECC7-4F60-8C71-8F0B45189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0CC45-AFFA-44D2-8008-0D7FD8EA6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55B66-0393-4724-9016-A59DDDD52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67B6A-41CC-4C27-805F-2A002DE6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9501-26EC-4AD0-A008-8C1ACCFCF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88FE9-8008-4D82-8F79-51EE783E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06989-1425-482D-8FC8-12D72F35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D9EAB-457D-4C6F-8DB5-38BF68A98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4A5A9-E93F-4596-A714-E4D407D87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6003E-4F9D-4CEE-9A4B-07CCC207D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7597EC-81A6-4352-A457-310118734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C1CB70-A36F-4984-9327-25E323F8E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1F5F52-2DA1-40D2-8427-47F9D4AC8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F76BA1-6312-425E-A7C7-456BA31A4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26E4F5-0784-4B60-8267-0641ACA23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F4F5-4FC6-45E9-9C13-524E83600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8C1763-CEFF-4336-921E-F46F9E8FD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33E461-706E-4774-87D6-13E2DE18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6507E8-C7C6-465E-A328-2CB62372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DEB518-5B93-4824-BF9E-0A84E708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C5A94D-6E10-4950-8F5D-C945421D1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B1C8DC-BA73-4E4F-8244-AC84B1FAC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26EB19-0529-4997-91C4-9828AE180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886C6B-ADD4-430E-BE30-3DBC060A7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B9FE24-F206-4226-B081-F13E31991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3BE363-2702-4257-8318-D9EF7A970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E05D-5388-4244-8FEF-4E7B17D67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F0EA34-5478-453B-B33F-7D2BAE4A7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383821-1C29-452B-87FA-C61993405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0694C5-A6D6-4664-BF37-DC7534762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2EF20E-F50D-4409-8DD1-933DC689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B7085C-ABC0-4D41-9D82-37013C89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7E2CAB-1403-4A13-97A2-406FECA0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D6C52D-F95A-487E-987E-799982EE8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E1EBE9-D94B-429F-A2D8-A05E0A863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D1F68B-782E-4830-98A9-F4ECE4C64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A3823C-C729-4E62-908E-42BE949B2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A5CD-8220-4DC7-98C2-8E3978499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EFD73D-B9A1-4F41-A99A-69C6A3625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6771BC-1DED-4C57-922E-8218C927B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702B2F-1C3D-49A3-BF53-2DE40714E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2348B0-43E2-481E-98A6-7A19B484C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10A31A-AC8B-400D-A025-45CF8B2CF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6973BD-6A09-40E8-B79B-D9306285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7DC3A8-67F2-4840-8854-BE004A29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71AA59-ED3A-4878-B333-9854097E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D87567-6041-4A70-A152-337B2BD68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F39D5A-0A01-4A4B-814D-0135A1FB8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81E5-D06E-4CE8-A734-E153BD370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DF37AC-1EDB-46B2-B1AA-CBCB97326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9BD91-EC79-4325-8039-F8987EF40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68DFE7-8DCE-4F5F-9093-E4545C1AC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229F1A-3315-4150-99C5-94AE83A4A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CA652-306B-48D3-AC0A-E6461E74D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3AF24-0855-42D3-9B7F-C44F38AA9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14D38-061F-4FE3-B0BF-FE66ED386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1D9664-5FE5-4DA2-9870-7EA00EDC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9E168-F79A-4EA2-97E7-FCBB6E5C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45883-5270-42E0-9B68-16832157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E9F1-F63F-4366-AC73-CEB601EA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35944-190E-406F-B55D-B6619D1C0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35EE3-DC62-45DE-8A44-A7B7865A1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AE374F-43C4-4F38-96C2-1237D2FA4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3E8104-FDFF-42F1-9403-BE927B634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8EF001-C7A0-4774-B255-45F843D0C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564687-BB32-4D8D-9955-084249C99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0D080A-71F4-4579-A471-21D69E1E4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A7216F-4547-413C-AF77-D9BD577A9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4AD7DC-ADC9-4FBC-AA4E-BAB012AC7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32B7DC-835D-4623-B7B8-5C1EDB22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1313-DCD8-4B7B-A970-C74E6BBB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742B35-7479-4CBC-877B-3A9F3B4E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B630EC-9F8D-402E-A044-12F7BE97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066810-9192-4E00-990C-7CBD671C7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DFC4D6-F180-4C93-83CA-4298794DA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E891AF-152F-4F08-B672-E1C90FEF3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463694-BAFD-4F3C-8526-3C42F25FA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416B40-789A-4C49-A7D7-5CACDC8B6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67F332-6507-4DB9-9E0A-7DEF96E1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E3DB08-8555-4F39-AA22-286FB2932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082D73-A74B-4A9B-ACA8-84BEDE1D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EAE2-5079-4614-992A-20FEE586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EF9D1D-B3D3-4DC8-BF53-01E2E7E97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84D903-3E4A-4C2D-808C-D861EC90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BCC74-D3B6-49AC-85E3-9CB3F59B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D9D69F-2412-45D7-8D43-4B135C17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B49028-8B98-49F1-9E93-24F854367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65650-2621-4A69-8E59-1646F7285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9CB149-D4C4-4CF5-8B1E-950475177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38BBAD-D759-4B7F-977F-21BFD5359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52C2DA-502A-421B-A8F6-ABF1B4E16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1F57B2-9766-4328-8BE5-323982CAE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04D98-D8EC-4A93-9746-CC21652E5BC1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AB0E7-8D13-44C5-89E9-F0E2FB331C66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E3272-E88A-4869-8F7F-9B06DBEC20AF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358FF-C225-40EF-9C08-49490080EB6A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0239-6490-4006-AF7F-D4BAE1A6FF9F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43EA5-DDED-441B-BB9B-69D37B05F8A5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D44AA-351C-4A41-81BB-FF43F1316B97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8127A-6779-4F98-BC56-45D76C876403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ED2BF-182A-4EF0-A036-8350380B71A5}" type="slidenum">
              <a:rPr b="1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RENAL FUNCTIONS &amp; GFR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Dr. Eman El Eter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5b22"/>
                </a:solidFill>
                <a:latin typeface="Tw Cen MT"/>
              </a:rPr>
              <a:t>Structure of a nephron, cont……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The renal tubule is divided into different sections with different structural and functional characteristics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Proximal tubules ( in the cortex)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Loop of Henle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Distal tubule (in the renal cortex)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Connecting tubule, cortical collecting, and the cortical collecting ducts, which run downward in the medulla and become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Medullary collecting ducts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5b22"/>
                </a:solidFill>
                <a:latin typeface="Tw Cen MT"/>
              </a:rPr>
              <a:t>Structure of a nephron, cont…..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612360" y="1600200"/>
            <a:ext cx="5830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b95b22"/>
                </a:solidFill>
                <a:latin typeface="Tw Cen MT"/>
              </a:rPr>
              <a:t>Types of nephron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1- Cortical nephrons: (85%)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ir glomeruli in the outer portion of cortex and have short loops of Henl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2-Juxtamedullary nephrons: (15%)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ave long loops extended into the medulla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299520" indent="-299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Maintain salt gradient, helps conserve water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26" name="Picture 3" descr="H:\$$SaladinPowerPoints\Images\Ch-23labeled\0804L.JPG"/>
          <p:cNvPicPr/>
          <p:nvPr/>
        </p:nvPicPr>
        <p:blipFill>
          <a:blip r:embed="rId1"/>
          <a:srcRect l="31265" t="12526" r="37807" b="0"/>
          <a:stretch/>
        </p:blipFill>
        <p:spPr>
          <a:xfrm>
            <a:off x="6629400" y="1523880"/>
            <a:ext cx="25146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2"/>
          <p:cNvSpPr/>
          <p:nvPr/>
        </p:nvSpPr>
        <p:spPr>
          <a:xfrm>
            <a:off x="330984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4"/>
          <p:cNvSpPr/>
          <p:nvPr/>
        </p:nvSpPr>
        <p:spPr>
          <a:xfrm>
            <a:off x="838080" y="2362320"/>
            <a:ext cx="22860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1-2 % Bloo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Flow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Throug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Juxta Medulla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Neph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fImage" descr="showimage"/>
          <p:cNvPicPr/>
          <p:nvPr/>
        </p:nvPicPr>
        <p:blipFill>
          <a:blip r:embed="rId1"/>
          <a:srcRect l="14343" t="0" r="13942" b="4713"/>
          <a:stretch/>
        </p:blipFill>
        <p:spPr>
          <a:xfrm>
            <a:off x="3429000" y="533520"/>
            <a:ext cx="5286240" cy="586728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7"/>
          <p:cNvSpPr/>
          <p:nvPr/>
        </p:nvSpPr>
        <p:spPr>
          <a:xfrm>
            <a:off x="533520" y="609480"/>
            <a:ext cx="2819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Arial"/>
              </a:rPr>
              <a:t>NEPHRON TYPES Cortical and Juxtamedullary Neph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8" descr=""/>
          <p:cNvPicPr/>
          <p:nvPr/>
        </p:nvPicPr>
        <p:blipFill>
          <a:blip r:embed="rId2"/>
          <a:srcRect l="21093" t="8333" r="23438" b="15627"/>
          <a:stretch/>
        </p:blipFill>
        <p:spPr>
          <a:xfrm>
            <a:off x="3352680" y="533520"/>
            <a:ext cx="5410440" cy="586728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9"/>
          <p:cNvSpPr/>
          <p:nvPr/>
        </p:nvSpPr>
        <p:spPr>
          <a:xfrm>
            <a:off x="7391520" y="846000"/>
            <a:ext cx="1523880" cy="75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Arial"/>
                <a:ea typeface="Arial"/>
              </a:rPr>
              <a:t>Originates in outer 2/3 of corte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0"/>
          <p:cNvSpPr/>
          <p:nvPr/>
        </p:nvSpPr>
        <p:spPr>
          <a:xfrm>
            <a:off x="7467480" y="4427640"/>
            <a:ext cx="1524240" cy="75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Arial"/>
                <a:ea typeface="Arial"/>
              </a:rPr>
              <a:t>Originates in inner 1/3 of corte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2060"/>
                </a:solidFill>
                <a:latin typeface="Tw Cen MT"/>
              </a:rPr>
              <a:t>RENAL BLOOD VESSELS</a:t>
            </a:r>
            <a:endParaRPr b="0" lang="en-US" sz="3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90720" y="1980720"/>
            <a:ext cx="7238880" cy="3962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AFFERENT ARTERIOLE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DELIVERS BLOOD INTO THE GLOMERULI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GLOMERULI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CAPILLARY NETWORK THAT PRODUCES FILTRATE THAT ENTERS THE URINARY TUBULE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EFFERENT ARTERIOLE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DELIVERS BLOOD FROM GLOMERULI TO PERITUBULAR CAPILLARIE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PERITUBULAR CAPILLARIES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VASA RECTA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5b22"/>
                </a:solidFill>
                <a:latin typeface="Tw Cen MT"/>
              </a:rPr>
              <a:t>Renal blood flow: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612360" y="1600200"/>
            <a:ext cx="4606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Renal blood flow to the kidney represents 20% of cardiac output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e blood flows to each kidney through a renal artery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95b22"/>
                </a:solidFill>
                <a:latin typeface="Tw Cen MT"/>
              </a:rPr>
              <a:t>Features of renal circulation: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1- High blood flow rate (1200 ml/min)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2- Presence of two capillary beds: glomerular and peritubular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Efferent and afferent arterioles are major sites of renal resistance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438" name="Group 14"/>
          <p:cNvGrpSpPr/>
          <p:nvPr/>
        </p:nvGrpSpPr>
        <p:grpSpPr>
          <a:xfrm>
            <a:off x="5364000" y="1628640"/>
            <a:ext cx="3428640" cy="4251240"/>
            <a:chOff x="5364000" y="1628640"/>
            <a:chExt cx="3428640" cy="4251240"/>
          </a:xfrm>
        </p:grpSpPr>
        <p:pic>
          <p:nvPicPr>
            <p:cNvPr id="439" name="Picture 4" descr="Juxtaglom apparatus"/>
            <p:cNvPicPr/>
            <p:nvPr/>
          </p:nvPicPr>
          <p:blipFill>
            <a:blip r:embed="rId1"/>
            <a:srcRect l="58539" t="0" r="1046" b="0"/>
            <a:stretch/>
          </p:blipFill>
          <p:spPr>
            <a:xfrm>
              <a:off x="5585040" y="1628640"/>
              <a:ext cx="3207600" cy="425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Rectangle 13"/>
            <p:cNvSpPr/>
            <p:nvPr/>
          </p:nvSpPr>
          <p:spPr>
            <a:xfrm>
              <a:off x="5364000" y="2035080"/>
              <a:ext cx="663480" cy="111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2"/>
          <p:cNvSpPr/>
          <p:nvPr/>
        </p:nvSpPr>
        <p:spPr>
          <a:xfrm>
            <a:off x="609480" y="304920"/>
            <a:ext cx="3048120" cy="190476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2060"/>
                </a:solidFill>
                <a:latin typeface="Arial"/>
                <a:ea typeface="Times New Roman"/>
              </a:rPr>
              <a:t>4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 RENAL PROCESSES</a:t>
            </a:r>
            <a:r>
              <a:rPr b="0" lang="en-US" sz="40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Group 3"/>
          <p:cNvGrpSpPr/>
          <p:nvPr/>
        </p:nvGrpSpPr>
        <p:grpSpPr>
          <a:xfrm>
            <a:off x="3352680" y="380880"/>
            <a:ext cx="5140080" cy="5321160"/>
            <a:chOff x="3352680" y="380880"/>
            <a:chExt cx="5140080" cy="5321160"/>
          </a:xfrm>
        </p:grpSpPr>
        <p:sp>
          <p:nvSpPr>
            <p:cNvPr id="443" name="AutoShape 4"/>
            <p:cNvSpPr/>
            <p:nvPr/>
          </p:nvSpPr>
          <p:spPr>
            <a:xfrm rot="2588400">
              <a:off x="6553080" y="3200040"/>
              <a:ext cx="914400" cy="990360"/>
            </a:xfrm>
            <a:custGeom>
              <a:avLst/>
              <a:gdLst>
                <a:gd name="textAreaLeft" fmla="*/ 133200 w 914400"/>
                <a:gd name="textAreaRight" fmla="*/ 781200 w 914400"/>
                <a:gd name="textAreaTop" fmla="*/ 144360 h 990360"/>
                <a:gd name="textAreaBottom" fmla="*/ 84600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6830" y="14032"/>
                  </a:moveTo>
                  <a:cubicBezTo>
                    <a:pt x="17363" y="13038"/>
                    <a:pt x="17642" y="11927"/>
                    <a:pt x="17642" y="10800"/>
                  </a:cubicBezTo>
                  <a:cubicBezTo>
                    <a:pt x="17642" y="7021"/>
                    <a:pt x="14578" y="3958"/>
                    <a:pt x="10800" y="3958"/>
                  </a:cubicBezTo>
                  <a:cubicBezTo>
                    <a:pt x="9672" y="3957"/>
                    <a:pt x="8561" y="4236"/>
                    <a:pt x="7567" y="4769"/>
                  </a:cubicBezTo>
                  <a:close/>
                  <a:moveTo>
                    <a:pt x="4769" y="7567"/>
                  </a:moveTo>
                  <a:cubicBezTo>
                    <a:pt x="4236" y="8561"/>
                    <a:pt x="3958" y="9672"/>
                    <a:pt x="3958" y="10799"/>
                  </a:cubicBezTo>
                  <a:cubicBezTo>
                    <a:pt x="3958" y="14578"/>
                    <a:pt x="7021" y="17642"/>
                    <a:pt x="10800" y="17642"/>
                  </a:cubicBezTo>
                  <a:cubicBezTo>
                    <a:pt x="11927" y="17642"/>
                    <a:pt x="13038" y="17363"/>
                    <a:pt x="14032" y="16830"/>
                  </a:cubicBez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AutoShape 5"/>
            <p:cNvSpPr/>
            <p:nvPr/>
          </p:nvSpPr>
          <p:spPr>
            <a:xfrm flipV="1">
              <a:off x="5257800" y="909360"/>
              <a:ext cx="304920" cy="1224000"/>
            </a:xfrm>
            <a:prstGeom prst="can">
              <a:avLst>
                <a:gd name="adj" fmla="val 9898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AutoShape 6"/>
            <p:cNvSpPr/>
            <p:nvPr/>
          </p:nvSpPr>
          <p:spPr>
            <a:xfrm>
              <a:off x="5105520" y="2590560"/>
              <a:ext cx="609480" cy="2743200"/>
            </a:xfrm>
            <a:prstGeom prst="can">
              <a:avLst>
                <a:gd name="adj" fmla="val 9898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AutoShape 7"/>
            <p:cNvSpPr/>
            <p:nvPr/>
          </p:nvSpPr>
          <p:spPr>
            <a:xfrm flipV="1">
              <a:off x="4343400" y="1370520"/>
              <a:ext cx="2133720" cy="1523880"/>
            </a:xfrm>
            <a:custGeom>
              <a:avLst/>
              <a:gdLst>
                <a:gd name="textAreaLeft" fmla="*/ 0 w 2133720"/>
                <a:gd name="textAreaRight" fmla="*/ 2134080 w 2133720"/>
                <a:gd name="textAreaTop" fmla="*/ 0 h 1523880"/>
                <a:gd name="textAreaBottom" fmla="*/ 14050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421" y="16671"/>
                  </a:moveTo>
                  <a:cubicBezTo>
                    <a:pt x="6029" y="15702"/>
                    <a:pt x="4465" y="13380"/>
                    <a:pt x="4465" y="10800"/>
                  </a:cubicBezTo>
                  <a:cubicBezTo>
                    <a:pt x="4465" y="7301"/>
                    <a:pt x="7301" y="4465"/>
                    <a:pt x="10800" y="4465"/>
                  </a:cubicBezTo>
                  <a:cubicBezTo>
                    <a:pt x="14298" y="4465"/>
                    <a:pt x="17135" y="7301"/>
                    <a:pt x="17135" y="10800"/>
                  </a:cubicBezTo>
                  <a:cubicBezTo>
                    <a:pt x="17135" y="13380"/>
                    <a:pt x="15570" y="15702"/>
                    <a:pt x="13178" y="16671"/>
                  </a:cubicBezTo>
                  <a:lnTo>
                    <a:pt x="14855" y="20809"/>
                  </a:lnTo>
                  <a:cubicBezTo>
                    <a:pt x="18932" y="19157"/>
                    <a:pt x="21600" y="1519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5198"/>
                    <a:pt x="2667" y="19157"/>
                    <a:pt x="6744" y="20809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8"/>
            <p:cNvSpPr/>
            <p:nvPr/>
          </p:nvSpPr>
          <p:spPr>
            <a:xfrm>
              <a:off x="5029200" y="1828800"/>
              <a:ext cx="762120" cy="609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AutoShape 9"/>
            <p:cNvSpPr/>
            <p:nvPr/>
          </p:nvSpPr>
          <p:spPr>
            <a:xfrm>
              <a:off x="3352680" y="833400"/>
              <a:ext cx="1981440" cy="30456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AutoShape 10"/>
            <p:cNvSpPr/>
            <p:nvPr/>
          </p:nvSpPr>
          <p:spPr>
            <a:xfrm>
              <a:off x="5486400" y="833400"/>
              <a:ext cx="1676520" cy="30456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AutoShape 11"/>
            <p:cNvSpPr/>
            <p:nvPr/>
          </p:nvSpPr>
          <p:spPr>
            <a:xfrm>
              <a:off x="6858000" y="833400"/>
              <a:ext cx="304920" cy="267156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2671560"/>
                <a:gd name="textAreaBottom" fmla="*/ 2656800 h 2671560"/>
              </a:gdLst>
              <a:ahLst/>
              <a:rect l="textAreaLeft" t="textAreaTop" r="textAreaRight" b="textAreaBottom"/>
              <a:pathLst>
                <a:path w="21600" h="189051">
                  <a:moveTo>
                    <a:pt x="3600" y="0"/>
                  </a:moveTo>
                  <a:arcTo wR="3600" hR="3600" stAng="16200000" swAng="-5400000"/>
                  <a:lnTo>
                    <a:pt x="0" y="185451"/>
                  </a:lnTo>
                  <a:arcTo wR="3600" hR="3600" stAng="10800000" swAng="-5400000"/>
                  <a:lnTo>
                    <a:pt x="18000" y="1890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AutoShape 12"/>
            <p:cNvSpPr/>
            <p:nvPr/>
          </p:nvSpPr>
          <p:spPr>
            <a:xfrm>
              <a:off x="6858000" y="3962160"/>
              <a:ext cx="304920" cy="160020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1600200"/>
                <a:gd name="textAreaBottom" fmla="*/ 1585440 h 1600200"/>
              </a:gdLst>
              <a:ahLst/>
              <a:rect l="textAreaLeft" t="textAreaTop" r="textAreaRight" b="textAreaBottom"/>
              <a:pathLst>
                <a:path w="21600" h="113247">
                  <a:moveTo>
                    <a:pt x="3600" y="0"/>
                  </a:moveTo>
                  <a:arcTo wR="3600" hR="3600" stAng="16200000" swAng="-5400000"/>
                  <a:lnTo>
                    <a:pt x="0" y="109647"/>
                  </a:lnTo>
                  <a:arcTo wR="3600" hR="3600" stAng="10800000" swAng="-5400000"/>
                  <a:lnTo>
                    <a:pt x="18000" y="1132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7b615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13"/>
            <p:cNvSpPr/>
            <p:nvPr/>
          </p:nvSpPr>
          <p:spPr>
            <a:xfrm>
              <a:off x="4233240" y="380880"/>
              <a:ext cx="22935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002060"/>
                  </a:solidFill>
                  <a:latin typeface="Arial"/>
                </a:rPr>
                <a:t>1. Filtration</a:t>
              </a:r>
              <a:r>
                <a:rPr b="0" lang="en-US" sz="1800" spc="-1" strike="noStrike">
                  <a:solidFill>
                    <a:srgbClr val="00206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Rectangle 14"/>
            <p:cNvSpPr/>
            <p:nvPr/>
          </p:nvSpPr>
          <p:spPr>
            <a:xfrm>
              <a:off x="6177960" y="2514600"/>
              <a:ext cx="1909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060"/>
                  </a:solidFill>
                  <a:latin typeface="Arial"/>
                </a:rPr>
                <a:t>2. Reabsorp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15"/>
            <p:cNvSpPr/>
            <p:nvPr/>
          </p:nvSpPr>
          <p:spPr>
            <a:xfrm>
              <a:off x="7016760" y="4038480"/>
              <a:ext cx="14760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060"/>
                  </a:solidFill>
                  <a:latin typeface="Arial"/>
                </a:rPr>
                <a:t>3. Secre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16"/>
            <p:cNvSpPr/>
            <p:nvPr/>
          </p:nvSpPr>
          <p:spPr>
            <a:xfrm>
              <a:off x="4807080" y="5333760"/>
              <a:ext cx="14760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060"/>
                  </a:solidFill>
                  <a:latin typeface="Arial"/>
                </a:rPr>
                <a:t>4. Excre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AutoShape 17"/>
            <p:cNvSpPr/>
            <p:nvPr/>
          </p:nvSpPr>
          <p:spPr>
            <a:xfrm rot="5400000">
              <a:off x="4530960" y="1711800"/>
              <a:ext cx="1757520" cy="304920"/>
            </a:xfrm>
            <a:prstGeom prst="rightArrow">
              <a:avLst>
                <a:gd name="adj1" fmla="val 35000"/>
                <a:gd name="adj2" fmla="val 1097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AutoShape 18"/>
            <p:cNvSpPr/>
            <p:nvPr/>
          </p:nvSpPr>
          <p:spPr>
            <a:xfrm flipH="1" rot="10800000">
              <a:off x="5562720" y="2895120"/>
              <a:ext cx="1295280" cy="304920"/>
            </a:xfrm>
            <a:prstGeom prst="rightArrow">
              <a:avLst>
                <a:gd name="adj1" fmla="val 35000"/>
                <a:gd name="adj2" fmla="val 8086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AutoShape 19"/>
            <p:cNvSpPr/>
            <p:nvPr/>
          </p:nvSpPr>
          <p:spPr>
            <a:xfrm rot="10800000">
              <a:off x="5638320" y="4114800"/>
              <a:ext cx="1295640" cy="304560"/>
            </a:xfrm>
            <a:prstGeom prst="rightArrow">
              <a:avLst>
                <a:gd name="adj1" fmla="val 35000"/>
                <a:gd name="adj2" fmla="val 8098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AutoShape 20"/>
            <p:cNvSpPr/>
            <p:nvPr/>
          </p:nvSpPr>
          <p:spPr>
            <a:xfrm rot="5400000">
              <a:off x="4762440" y="4457520"/>
              <a:ext cx="1295280" cy="457200"/>
            </a:xfrm>
            <a:prstGeom prst="rightArrow">
              <a:avLst>
                <a:gd name="adj1" fmla="val 35000"/>
                <a:gd name="adj2" fmla="val 5393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Rectangle 21"/>
          <p:cNvSpPr/>
          <p:nvPr/>
        </p:nvSpPr>
        <p:spPr>
          <a:xfrm>
            <a:off x="685800" y="2590920"/>
            <a:ext cx="396252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9200" indent="-349200">
              <a:spcBef>
                <a:spcPts val="9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Filt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901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Reabsorp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901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Secre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901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2060"/>
                </a:solidFill>
                <a:latin typeface="Arial"/>
                <a:ea typeface="Times New Roman"/>
              </a:rPr>
              <a:t>Excretion</a:t>
            </a: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22"/>
          <p:cNvSpPr/>
          <p:nvPr/>
        </p:nvSpPr>
        <p:spPr>
          <a:xfrm>
            <a:off x="304920" y="5791320"/>
            <a:ext cx="8610480" cy="6094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rinary Excretion Rate = Filtration Rate – Reabsorption Rate + Secretion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w Cen MT"/>
              </a:rPr>
              <a:t>Urine Formation Preview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63" name="Picture 3" descr="H:\$$SaladinPowerPoints\Images\Ch-23labeled\0806L.JPG"/>
          <p:cNvPicPr/>
          <p:nvPr/>
        </p:nvPicPr>
        <p:blipFill>
          <a:blip r:embed="rId1"/>
          <a:srcRect l="0" t="11274" r="0" b="0"/>
          <a:stretch/>
        </p:blipFill>
        <p:spPr>
          <a:xfrm>
            <a:off x="533520" y="1447920"/>
            <a:ext cx="8129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95b22"/>
                </a:solidFill>
                <a:latin typeface="Tw Cen MT"/>
              </a:rPr>
              <a:t>Glomerular filtration rate (GFR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first step in urine formation is glomerular filtration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t is the filtration of fluid from the glomerular capillaries into the renal tubul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t contains all substances present in plasma except protein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GFR is normally 125 ml/min = 20% renal plasma flow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at is glomerular membrane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at controls passage of molecules through this membrane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hat are the forces responsible for passage of fluid (filtrate) through this membrane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5b22"/>
                </a:solidFill>
                <a:latin typeface="Tw Cen MT"/>
              </a:rPr>
              <a:t>Glomerular membrane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lood in the glomerulus is separated from the fluid in the Bowman’s space by a filtration barrier (glomerular membrane) consisting of three layer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1- Single layer of capillary endothelium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2- Single epithelial lining of Bowman’s capsule (Podocytes) During filtration the fluid moves between their foot processes (psudopodia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3- Basement membrane between endothelium and epithelium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5b22"/>
                </a:solidFill>
                <a:latin typeface="Tw Cen MT"/>
              </a:rPr>
              <a:t>What are the functions of the kidney?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Regulation of water and electrolyte balance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Regulation of body fluid osmolality &amp; electrolytes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Excretion of waste products (UREA, CREATININE, URIC ACID)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Regulation of arterial blood pressure (RAS, excretion of excess salt and water)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Regulation of acid/base balance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Detoxification and excretion of drugs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w Cen MT"/>
              </a:rPr>
              <a:t>Synthesitic function: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1- active form of vit D (D3)= 1,25 dihydroxycholicalciferol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2- Erythropoietin production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3- Renin formation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4- Synthesis of glucose from amino acids during prolonged fasting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5b22"/>
                </a:solidFill>
                <a:latin typeface="Tw Cen MT"/>
              </a:rPr>
              <a:t>Glomerular membran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71" name="Picture 2" descr=""/>
          <p:cNvPicPr/>
          <p:nvPr/>
        </p:nvPicPr>
        <p:blipFill>
          <a:blip r:embed="rId1"/>
          <a:stretch/>
        </p:blipFill>
        <p:spPr>
          <a:xfrm>
            <a:off x="2268360" y="2914560"/>
            <a:ext cx="3830760" cy="339408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4"/>
          <p:cNvSpPr/>
          <p:nvPr/>
        </p:nvSpPr>
        <p:spPr>
          <a:xfrm>
            <a:off x="4608360" y="141300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re we see a glomerular capillary in longitudinal se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6192720" y="4665600"/>
            <a:ext cx="45720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illa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dotheli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5b22"/>
                </a:solidFill>
                <a:latin typeface="Tw Cen MT"/>
              </a:rPr>
              <a:t>Glomerular membran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75" name="Picture 2" descr=""/>
          <p:cNvPicPr/>
          <p:nvPr/>
        </p:nvPicPr>
        <p:blipFill>
          <a:blip r:embed="rId1"/>
          <a:stretch/>
        </p:blipFill>
        <p:spPr>
          <a:xfrm>
            <a:off x="755640" y="1814400"/>
            <a:ext cx="4537080" cy="4278600"/>
          </a:xfrm>
          <a:prstGeom prst="rect">
            <a:avLst/>
          </a:prstGeom>
          <a:ln w="0">
            <a:noFill/>
          </a:ln>
        </p:spPr>
      </p:pic>
      <p:sp>
        <p:nvSpPr>
          <p:cNvPr id="476" name="Rectangle 5"/>
          <p:cNvSpPr/>
          <p:nvPr/>
        </p:nvSpPr>
        <p:spPr>
          <a:xfrm>
            <a:off x="5329080" y="4162320"/>
            <a:ext cx="45720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illa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dotheli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5b22"/>
                </a:solidFill>
                <a:latin typeface="Tw Cen MT"/>
              </a:rPr>
              <a:t>Glomerular membran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78" name="Picture 2" descr=""/>
          <p:cNvPicPr/>
          <p:nvPr/>
        </p:nvPicPr>
        <p:blipFill>
          <a:blip r:embed="rId1"/>
          <a:stretch/>
        </p:blipFill>
        <p:spPr>
          <a:xfrm>
            <a:off x="395280" y="2390760"/>
            <a:ext cx="5432400" cy="3559320"/>
          </a:xfrm>
          <a:prstGeom prst="rect">
            <a:avLst/>
          </a:prstGeom>
          <a:ln w="0">
            <a:noFill/>
          </a:ln>
        </p:spPr>
      </p:pic>
      <p:sp>
        <p:nvSpPr>
          <p:cNvPr id="479" name="Rectangle 4"/>
          <p:cNvSpPr/>
          <p:nvPr/>
        </p:nvSpPr>
        <p:spPr>
          <a:xfrm>
            <a:off x="5832360" y="4305240"/>
            <a:ext cx="45720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mbra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5b22"/>
                </a:solidFill>
                <a:latin typeface="Tw Cen MT"/>
              </a:rPr>
              <a:t>Glomerular membran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81" name="Picture 2" descr=""/>
          <p:cNvPicPr/>
          <p:nvPr/>
        </p:nvPicPr>
        <p:blipFill>
          <a:blip r:embed="rId1"/>
          <a:stretch/>
        </p:blipFill>
        <p:spPr>
          <a:xfrm>
            <a:off x="755640" y="2390760"/>
            <a:ext cx="4430880" cy="4133880"/>
          </a:xfrm>
          <a:prstGeom prst="rect">
            <a:avLst/>
          </a:prstGeom>
          <a:ln w="0">
            <a:noFill/>
          </a:ln>
        </p:spPr>
      </p:pic>
      <p:sp>
        <p:nvSpPr>
          <p:cNvPr id="482" name="Rectangle 4"/>
          <p:cNvSpPr/>
          <p:nvPr/>
        </p:nvSpPr>
        <p:spPr>
          <a:xfrm>
            <a:off x="5329080" y="4583160"/>
            <a:ext cx="457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ltration sli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5"/>
          <p:cNvSpPr/>
          <p:nvPr/>
        </p:nvSpPr>
        <p:spPr>
          <a:xfrm>
            <a:off x="5184720" y="2967120"/>
            <a:ext cx="457200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docytes (cell bo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 nucleu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Freeform 3"/>
          <p:cNvSpPr/>
          <p:nvPr/>
        </p:nvSpPr>
        <p:spPr>
          <a:xfrm>
            <a:off x="4316400" y="2286000"/>
            <a:ext cx="1017720" cy="2819520"/>
          </a:xfrm>
          <a:custGeom>
            <a:avLst/>
            <a:gdLst>
              <a:gd name="textAreaLeft" fmla="*/ 0 w 1017720"/>
              <a:gd name="textAreaRight" fmla="*/ 1018080 w 1017720"/>
              <a:gd name="textAreaTop" fmla="*/ 0 h 2819520"/>
              <a:gd name="textAreaBottom" fmla="*/ 2819880 h 2819520"/>
            </a:gdLst>
            <a:ahLst/>
            <a:rect l="textAreaLeft" t="textAreaTop" r="textAreaRight" b="textAreaBottom"/>
            <a:pathLst>
              <a:path w="339" h="1600">
                <a:moveTo>
                  <a:pt x="90" y="11"/>
                </a:moveTo>
                <a:cubicBezTo>
                  <a:pt x="123" y="14"/>
                  <a:pt x="157" y="10"/>
                  <a:pt x="188" y="20"/>
                </a:cubicBezTo>
                <a:cubicBezTo>
                  <a:pt x="197" y="23"/>
                  <a:pt x="197" y="37"/>
                  <a:pt x="197" y="46"/>
                </a:cubicBezTo>
                <a:cubicBezTo>
                  <a:pt x="202" y="182"/>
                  <a:pt x="200" y="318"/>
                  <a:pt x="205" y="454"/>
                </a:cubicBezTo>
                <a:cubicBezTo>
                  <a:pt x="207" y="493"/>
                  <a:pt x="225" y="514"/>
                  <a:pt x="259" y="525"/>
                </a:cubicBezTo>
                <a:cubicBezTo>
                  <a:pt x="314" y="609"/>
                  <a:pt x="296" y="571"/>
                  <a:pt x="267" y="773"/>
                </a:cubicBezTo>
                <a:cubicBezTo>
                  <a:pt x="264" y="796"/>
                  <a:pt x="228" y="799"/>
                  <a:pt x="214" y="817"/>
                </a:cubicBezTo>
                <a:cubicBezTo>
                  <a:pt x="201" y="834"/>
                  <a:pt x="179" y="870"/>
                  <a:pt x="179" y="870"/>
                </a:cubicBezTo>
                <a:cubicBezTo>
                  <a:pt x="175" y="1131"/>
                  <a:pt x="339" y="1600"/>
                  <a:pt x="117" y="1446"/>
                </a:cubicBezTo>
                <a:cubicBezTo>
                  <a:pt x="114" y="1414"/>
                  <a:pt x="126" y="1376"/>
                  <a:pt x="108" y="1349"/>
                </a:cubicBezTo>
                <a:cubicBezTo>
                  <a:pt x="96" y="1332"/>
                  <a:pt x="65" y="1349"/>
                  <a:pt x="46" y="1340"/>
                </a:cubicBezTo>
                <a:cubicBezTo>
                  <a:pt x="38" y="1336"/>
                  <a:pt x="40" y="1322"/>
                  <a:pt x="37" y="1313"/>
                </a:cubicBezTo>
                <a:cubicBezTo>
                  <a:pt x="46" y="1307"/>
                  <a:pt x="54" y="1300"/>
                  <a:pt x="64" y="1296"/>
                </a:cubicBezTo>
                <a:cubicBezTo>
                  <a:pt x="78" y="1291"/>
                  <a:pt x="101" y="1300"/>
                  <a:pt x="108" y="1287"/>
                </a:cubicBezTo>
                <a:cubicBezTo>
                  <a:pt x="139" y="1224"/>
                  <a:pt x="95" y="1224"/>
                  <a:pt x="64" y="1216"/>
                </a:cubicBezTo>
                <a:cubicBezTo>
                  <a:pt x="58" y="1207"/>
                  <a:pt x="39" y="1197"/>
                  <a:pt x="46" y="1189"/>
                </a:cubicBezTo>
                <a:cubicBezTo>
                  <a:pt x="58" y="1174"/>
                  <a:pt x="99" y="1172"/>
                  <a:pt x="99" y="1172"/>
                </a:cubicBezTo>
                <a:cubicBezTo>
                  <a:pt x="96" y="1139"/>
                  <a:pt x="105" y="1103"/>
                  <a:pt x="90" y="1074"/>
                </a:cubicBezTo>
                <a:cubicBezTo>
                  <a:pt x="83" y="1061"/>
                  <a:pt x="59" y="1072"/>
                  <a:pt x="46" y="1065"/>
                </a:cubicBezTo>
                <a:cubicBezTo>
                  <a:pt x="37" y="1060"/>
                  <a:pt x="34" y="1048"/>
                  <a:pt x="28" y="1039"/>
                </a:cubicBezTo>
                <a:cubicBezTo>
                  <a:pt x="52" y="1036"/>
                  <a:pt x="85" y="1050"/>
                  <a:pt x="99" y="1030"/>
                </a:cubicBezTo>
                <a:cubicBezTo>
                  <a:pt x="114" y="1008"/>
                  <a:pt x="103" y="974"/>
                  <a:pt x="90" y="950"/>
                </a:cubicBezTo>
                <a:cubicBezTo>
                  <a:pt x="80" y="931"/>
                  <a:pt x="37" y="915"/>
                  <a:pt x="37" y="915"/>
                </a:cubicBezTo>
                <a:cubicBezTo>
                  <a:pt x="58" y="912"/>
                  <a:pt x="89" y="924"/>
                  <a:pt x="99" y="906"/>
                </a:cubicBezTo>
                <a:cubicBezTo>
                  <a:pt x="138" y="833"/>
                  <a:pt x="83" y="805"/>
                  <a:pt x="37" y="791"/>
                </a:cubicBezTo>
                <a:cubicBezTo>
                  <a:pt x="12" y="717"/>
                  <a:pt x="0" y="740"/>
                  <a:pt x="81" y="728"/>
                </a:cubicBezTo>
                <a:cubicBezTo>
                  <a:pt x="78" y="699"/>
                  <a:pt x="82" y="668"/>
                  <a:pt x="73" y="640"/>
                </a:cubicBezTo>
                <a:cubicBezTo>
                  <a:pt x="70" y="630"/>
                  <a:pt x="53" y="630"/>
                  <a:pt x="46" y="622"/>
                </a:cubicBezTo>
                <a:cubicBezTo>
                  <a:pt x="40" y="615"/>
                  <a:pt x="40" y="605"/>
                  <a:pt x="37" y="596"/>
                </a:cubicBezTo>
                <a:cubicBezTo>
                  <a:pt x="57" y="589"/>
                  <a:pt x="94" y="599"/>
                  <a:pt x="99" y="578"/>
                </a:cubicBezTo>
                <a:cubicBezTo>
                  <a:pt x="120" y="490"/>
                  <a:pt x="108" y="491"/>
                  <a:pt x="64" y="463"/>
                </a:cubicBezTo>
                <a:cubicBezTo>
                  <a:pt x="58" y="454"/>
                  <a:pt x="44" y="447"/>
                  <a:pt x="46" y="436"/>
                </a:cubicBezTo>
                <a:cubicBezTo>
                  <a:pt x="48" y="424"/>
                  <a:pt x="90" y="412"/>
                  <a:pt x="99" y="409"/>
                </a:cubicBezTo>
                <a:cubicBezTo>
                  <a:pt x="91" y="364"/>
                  <a:pt x="99" y="336"/>
                  <a:pt x="55" y="321"/>
                </a:cubicBezTo>
                <a:cubicBezTo>
                  <a:pt x="52" y="312"/>
                  <a:pt x="39" y="301"/>
                  <a:pt x="46" y="294"/>
                </a:cubicBezTo>
                <a:cubicBezTo>
                  <a:pt x="56" y="283"/>
                  <a:pt x="85" y="299"/>
                  <a:pt x="90" y="285"/>
                </a:cubicBezTo>
                <a:cubicBezTo>
                  <a:pt x="120" y="202"/>
                  <a:pt x="96" y="202"/>
                  <a:pt x="55" y="188"/>
                </a:cubicBezTo>
                <a:cubicBezTo>
                  <a:pt x="52" y="179"/>
                  <a:pt x="39" y="168"/>
                  <a:pt x="46" y="161"/>
                </a:cubicBezTo>
                <a:cubicBezTo>
                  <a:pt x="56" y="150"/>
                  <a:pt x="83" y="165"/>
                  <a:pt x="90" y="152"/>
                </a:cubicBezTo>
                <a:cubicBezTo>
                  <a:pt x="118" y="103"/>
                  <a:pt x="78" y="98"/>
                  <a:pt x="55" y="90"/>
                </a:cubicBezTo>
                <a:cubicBezTo>
                  <a:pt x="49" y="81"/>
                  <a:pt x="35" y="74"/>
                  <a:pt x="37" y="64"/>
                </a:cubicBezTo>
                <a:cubicBezTo>
                  <a:pt x="39" y="53"/>
                  <a:pt x="57" y="54"/>
                  <a:pt x="64" y="46"/>
                </a:cubicBezTo>
                <a:cubicBezTo>
                  <a:pt x="102" y="0"/>
                  <a:pt x="46" y="34"/>
                  <a:pt x="90" y="11"/>
                </a:cubicBezTo>
                <a:close/>
              </a:path>
            </a:pathLst>
          </a:cu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9360">
            <a:solidFill>
              <a:srgbClr val="94b6d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Freeform 4"/>
          <p:cNvSpPr/>
          <p:nvPr/>
        </p:nvSpPr>
        <p:spPr>
          <a:xfrm>
            <a:off x="4224240" y="2286000"/>
            <a:ext cx="276480" cy="2627280"/>
          </a:xfrm>
          <a:custGeom>
            <a:avLst/>
            <a:gdLst>
              <a:gd name="textAreaLeft" fmla="*/ 0 w 276480"/>
              <a:gd name="textAreaRight" fmla="*/ 276840 w 276480"/>
              <a:gd name="textAreaTop" fmla="*/ 0 h 2627280"/>
              <a:gd name="textAreaBottom" fmla="*/ 2627640 h 2627280"/>
            </a:gdLst>
            <a:ahLst/>
            <a:rect l="textAreaLeft" t="textAreaTop" r="textAreaRight" b="textAreaBottom"/>
            <a:pathLst>
              <a:path w="124" h="1474">
                <a:moveTo>
                  <a:pt x="15" y="0"/>
                </a:moveTo>
                <a:cubicBezTo>
                  <a:pt x="18" y="484"/>
                  <a:pt x="0" y="969"/>
                  <a:pt x="24" y="1453"/>
                </a:cubicBezTo>
                <a:cubicBezTo>
                  <a:pt x="25" y="1474"/>
                  <a:pt x="84" y="1465"/>
                  <a:pt x="86" y="1444"/>
                </a:cubicBezTo>
                <a:cubicBezTo>
                  <a:pt x="124" y="1119"/>
                  <a:pt x="82" y="780"/>
                  <a:pt x="112" y="452"/>
                </a:cubicBezTo>
                <a:cubicBezTo>
                  <a:pt x="109" y="334"/>
                  <a:pt x="108" y="215"/>
                  <a:pt x="103" y="97"/>
                </a:cubicBezTo>
                <a:cubicBezTo>
                  <a:pt x="101" y="53"/>
                  <a:pt x="60" y="0"/>
                  <a:pt x="15" y="0"/>
                </a:cubicBezTo>
                <a:close/>
              </a:path>
            </a:pathLst>
          </a:custGeom>
          <a:solidFill>
            <a:srgbClr val="cc00cc"/>
          </a:solidFill>
          <a:ln w="9360">
            <a:solidFill>
              <a:srgbClr val="775f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Freeform 5"/>
          <p:cNvSpPr/>
          <p:nvPr/>
        </p:nvSpPr>
        <p:spPr>
          <a:xfrm>
            <a:off x="4005360" y="2286000"/>
            <a:ext cx="185760" cy="657360"/>
          </a:xfrm>
          <a:custGeom>
            <a:avLst/>
            <a:gdLst>
              <a:gd name="textAreaLeft" fmla="*/ 0 w 185760"/>
              <a:gd name="textAreaRight" fmla="*/ 186120 w 185760"/>
              <a:gd name="textAreaTop" fmla="*/ 0 h 657360"/>
              <a:gd name="textAreaBottom" fmla="*/ 657720 h 657360"/>
            </a:gdLst>
            <a:ahLst/>
            <a:rect l="textAreaLeft" t="textAreaTop" r="textAreaRight" b="textAreaBottom"/>
            <a:pathLst>
              <a:path w="124" h="1474">
                <a:moveTo>
                  <a:pt x="15" y="0"/>
                </a:moveTo>
                <a:cubicBezTo>
                  <a:pt x="18" y="484"/>
                  <a:pt x="0" y="969"/>
                  <a:pt x="24" y="1453"/>
                </a:cubicBezTo>
                <a:cubicBezTo>
                  <a:pt x="25" y="1474"/>
                  <a:pt x="84" y="1465"/>
                  <a:pt x="86" y="1444"/>
                </a:cubicBezTo>
                <a:cubicBezTo>
                  <a:pt x="124" y="1119"/>
                  <a:pt x="82" y="780"/>
                  <a:pt x="112" y="452"/>
                </a:cubicBezTo>
                <a:cubicBezTo>
                  <a:pt x="109" y="334"/>
                  <a:pt x="108" y="215"/>
                  <a:pt x="103" y="97"/>
                </a:cubicBezTo>
                <a:cubicBezTo>
                  <a:pt x="101" y="53"/>
                  <a:pt x="60" y="0"/>
                  <a:pt x="15" y="0"/>
                </a:cubicBezTo>
                <a:close/>
              </a:path>
            </a:pathLst>
          </a:custGeom>
          <a:solidFill>
            <a:srgbClr val="94b6d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Freeform 6"/>
          <p:cNvSpPr/>
          <p:nvPr/>
        </p:nvSpPr>
        <p:spPr>
          <a:xfrm>
            <a:off x="4005360" y="3025800"/>
            <a:ext cx="185760" cy="655560"/>
          </a:xfrm>
          <a:custGeom>
            <a:avLst/>
            <a:gdLst>
              <a:gd name="textAreaLeft" fmla="*/ 0 w 185760"/>
              <a:gd name="textAreaRight" fmla="*/ 186120 w 185760"/>
              <a:gd name="textAreaTop" fmla="*/ 0 h 655560"/>
              <a:gd name="textAreaBottom" fmla="*/ 655920 h 655560"/>
            </a:gdLst>
            <a:ahLst/>
            <a:rect l="textAreaLeft" t="textAreaTop" r="textAreaRight" b="textAreaBottom"/>
            <a:pathLst>
              <a:path w="124" h="1474">
                <a:moveTo>
                  <a:pt x="15" y="0"/>
                </a:moveTo>
                <a:cubicBezTo>
                  <a:pt x="18" y="484"/>
                  <a:pt x="0" y="969"/>
                  <a:pt x="24" y="1453"/>
                </a:cubicBezTo>
                <a:cubicBezTo>
                  <a:pt x="25" y="1474"/>
                  <a:pt x="84" y="1465"/>
                  <a:pt x="86" y="1444"/>
                </a:cubicBezTo>
                <a:cubicBezTo>
                  <a:pt x="124" y="1119"/>
                  <a:pt x="82" y="780"/>
                  <a:pt x="112" y="452"/>
                </a:cubicBezTo>
                <a:cubicBezTo>
                  <a:pt x="109" y="334"/>
                  <a:pt x="108" y="215"/>
                  <a:pt x="103" y="97"/>
                </a:cubicBezTo>
                <a:cubicBezTo>
                  <a:pt x="101" y="53"/>
                  <a:pt x="60" y="0"/>
                  <a:pt x="15" y="0"/>
                </a:cubicBezTo>
                <a:close/>
              </a:path>
            </a:pathLst>
          </a:custGeom>
          <a:solidFill>
            <a:srgbClr val="94b6d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Freeform 7"/>
          <p:cNvSpPr/>
          <p:nvPr/>
        </p:nvSpPr>
        <p:spPr>
          <a:xfrm>
            <a:off x="4005360" y="3763800"/>
            <a:ext cx="185760" cy="657360"/>
          </a:xfrm>
          <a:custGeom>
            <a:avLst/>
            <a:gdLst>
              <a:gd name="textAreaLeft" fmla="*/ 0 w 185760"/>
              <a:gd name="textAreaRight" fmla="*/ 186120 w 185760"/>
              <a:gd name="textAreaTop" fmla="*/ 0 h 657360"/>
              <a:gd name="textAreaBottom" fmla="*/ 657720 h 657360"/>
            </a:gdLst>
            <a:ahLst/>
            <a:rect l="textAreaLeft" t="textAreaTop" r="textAreaRight" b="textAreaBottom"/>
            <a:pathLst>
              <a:path w="124" h="1474">
                <a:moveTo>
                  <a:pt x="15" y="0"/>
                </a:moveTo>
                <a:cubicBezTo>
                  <a:pt x="18" y="484"/>
                  <a:pt x="0" y="969"/>
                  <a:pt x="24" y="1453"/>
                </a:cubicBezTo>
                <a:cubicBezTo>
                  <a:pt x="25" y="1474"/>
                  <a:pt x="84" y="1465"/>
                  <a:pt x="86" y="1444"/>
                </a:cubicBezTo>
                <a:cubicBezTo>
                  <a:pt x="124" y="1119"/>
                  <a:pt x="82" y="780"/>
                  <a:pt x="112" y="452"/>
                </a:cubicBezTo>
                <a:cubicBezTo>
                  <a:pt x="109" y="334"/>
                  <a:pt x="108" y="215"/>
                  <a:pt x="103" y="97"/>
                </a:cubicBezTo>
                <a:cubicBezTo>
                  <a:pt x="101" y="53"/>
                  <a:pt x="60" y="0"/>
                  <a:pt x="15" y="0"/>
                </a:cubicBezTo>
                <a:close/>
              </a:path>
            </a:pathLst>
          </a:custGeom>
          <a:solidFill>
            <a:srgbClr val="94b6d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reeform 8"/>
          <p:cNvSpPr/>
          <p:nvPr/>
        </p:nvSpPr>
        <p:spPr>
          <a:xfrm>
            <a:off x="4005360" y="4503600"/>
            <a:ext cx="185760" cy="409680"/>
          </a:xfrm>
          <a:custGeom>
            <a:avLst/>
            <a:gdLst>
              <a:gd name="textAreaLeft" fmla="*/ 0 w 185760"/>
              <a:gd name="textAreaRight" fmla="*/ 186120 w 18576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124" h="1474">
                <a:moveTo>
                  <a:pt x="15" y="0"/>
                </a:moveTo>
                <a:cubicBezTo>
                  <a:pt x="18" y="484"/>
                  <a:pt x="0" y="969"/>
                  <a:pt x="24" y="1453"/>
                </a:cubicBezTo>
                <a:cubicBezTo>
                  <a:pt x="25" y="1474"/>
                  <a:pt x="84" y="1465"/>
                  <a:pt x="86" y="1444"/>
                </a:cubicBezTo>
                <a:cubicBezTo>
                  <a:pt x="124" y="1119"/>
                  <a:pt x="82" y="780"/>
                  <a:pt x="112" y="452"/>
                </a:cubicBezTo>
                <a:cubicBezTo>
                  <a:pt x="109" y="334"/>
                  <a:pt x="108" y="215"/>
                  <a:pt x="103" y="97"/>
                </a:cubicBezTo>
                <a:cubicBezTo>
                  <a:pt x="101" y="53"/>
                  <a:pt x="60" y="0"/>
                  <a:pt x="15" y="0"/>
                </a:cubicBezTo>
                <a:close/>
              </a:path>
            </a:pathLst>
          </a:custGeom>
          <a:solidFill>
            <a:srgbClr val="94b6d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Oval 9"/>
          <p:cNvSpPr/>
          <p:nvPr/>
        </p:nvSpPr>
        <p:spPr>
          <a:xfrm>
            <a:off x="4778280" y="3271680"/>
            <a:ext cx="185760" cy="409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11"/>
          <p:cNvSpPr/>
          <p:nvPr/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LTRATION MEMBR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3"/>
          <p:cNvSpPr/>
          <p:nvPr/>
        </p:nvSpPr>
        <p:spPr>
          <a:xfrm>
            <a:off x="3352680" y="3733920"/>
            <a:ext cx="685800" cy="0"/>
          </a:xfrm>
          <a:prstGeom prst="line">
            <a:avLst/>
          </a:prstGeom>
          <a:ln w="442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14"/>
          <p:cNvSpPr/>
          <p:nvPr/>
        </p:nvSpPr>
        <p:spPr>
          <a:xfrm>
            <a:off x="533520" y="3429000"/>
            <a:ext cx="2895480" cy="609480"/>
          </a:xfrm>
          <a:prstGeom prst="rect">
            <a:avLst/>
          </a:prstGeom>
          <a:solidFill>
            <a:srgbClr val="333333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1. Endothel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7"/>
          <p:cNvSpPr/>
          <p:nvPr/>
        </p:nvSpPr>
        <p:spPr>
          <a:xfrm>
            <a:off x="4038480" y="5410080"/>
            <a:ext cx="1371600" cy="304920"/>
          </a:xfrm>
          <a:prstGeom prst="rect">
            <a:avLst/>
          </a:prstGeom>
          <a:solidFill>
            <a:srgbClr val="333333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. Podocy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8"/>
          <p:cNvSpPr/>
          <p:nvPr/>
        </p:nvSpPr>
        <p:spPr>
          <a:xfrm flipV="1">
            <a:off x="4724280" y="4876560"/>
            <a:ext cx="0" cy="533160"/>
          </a:xfrm>
          <a:prstGeom prst="line">
            <a:avLst/>
          </a:prstGeom>
          <a:ln w="442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19"/>
          <p:cNvSpPr/>
          <p:nvPr/>
        </p:nvSpPr>
        <p:spPr>
          <a:xfrm>
            <a:off x="914400" y="4267080"/>
            <a:ext cx="2514600" cy="685800"/>
          </a:xfrm>
          <a:prstGeom prst="rect">
            <a:avLst/>
          </a:prstGeom>
          <a:solidFill>
            <a:srgbClr val="333333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Endothelium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Glomerular Capill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20"/>
          <p:cNvSpPr/>
          <p:nvPr/>
        </p:nvSpPr>
        <p:spPr>
          <a:xfrm>
            <a:off x="3429000" y="4648320"/>
            <a:ext cx="685800" cy="0"/>
          </a:xfrm>
          <a:prstGeom prst="line">
            <a:avLst/>
          </a:prstGeom>
          <a:ln w="442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22"/>
          <p:cNvSpPr/>
          <p:nvPr/>
        </p:nvSpPr>
        <p:spPr>
          <a:xfrm flipH="1">
            <a:off x="4267080" y="2590920"/>
            <a:ext cx="1828800" cy="0"/>
          </a:xfrm>
          <a:prstGeom prst="line">
            <a:avLst/>
          </a:prstGeom>
          <a:ln w="442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23"/>
          <p:cNvSpPr/>
          <p:nvPr/>
        </p:nvSpPr>
        <p:spPr>
          <a:xfrm>
            <a:off x="6019920" y="2209680"/>
            <a:ext cx="2438280" cy="762120"/>
          </a:xfrm>
          <a:prstGeom prst="rect">
            <a:avLst/>
          </a:prstGeom>
          <a:solidFill>
            <a:srgbClr val="333333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. Basement Membr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25"/>
          <p:cNvSpPr/>
          <p:nvPr/>
        </p:nvSpPr>
        <p:spPr>
          <a:xfrm>
            <a:off x="2971800" y="2819520"/>
            <a:ext cx="2666880" cy="533160"/>
          </a:xfrm>
          <a:prstGeom prst="rightArrow">
            <a:avLst>
              <a:gd name="adj1" fmla="val 50000"/>
              <a:gd name="adj2" fmla="val 92699"/>
            </a:avLst>
          </a:prstGeom>
          <a:solidFill>
            <a:srgbClr val="ffffff">
              <a:alpha val="31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27"/>
          <p:cNvSpPr/>
          <p:nvPr/>
        </p:nvSpPr>
        <p:spPr>
          <a:xfrm rot="10800000">
            <a:off x="3962520" y="3885840"/>
            <a:ext cx="372960" cy="1143000"/>
          </a:xfrm>
          <a:custGeom>
            <a:avLst/>
            <a:gdLst>
              <a:gd name="textAreaLeft" fmla="*/ 0 w 372960"/>
              <a:gd name="textAreaRight" fmla="*/ 373320 w 37296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588" h="1782">
                <a:moveTo>
                  <a:pt x="117" y="18"/>
                </a:moveTo>
                <a:cubicBezTo>
                  <a:pt x="180" y="22"/>
                  <a:pt x="244" y="17"/>
                  <a:pt x="302" y="28"/>
                </a:cubicBezTo>
                <a:cubicBezTo>
                  <a:pt x="319" y="32"/>
                  <a:pt x="319" y="47"/>
                  <a:pt x="319" y="57"/>
                </a:cubicBezTo>
                <a:cubicBezTo>
                  <a:pt x="329" y="208"/>
                  <a:pt x="273" y="197"/>
                  <a:pt x="283" y="348"/>
                </a:cubicBezTo>
                <a:cubicBezTo>
                  <a:pt x="286" y="391"/>
                  <a:pt x="200" y="498"/>
                  <a:pt x="265" y="510"/>
                </a:cubicBezTo>
                <a:cubicBezTo>
                  <a:pt x="369" y="603"/>
                  <a:pt x="320" y="637"/>
                  <a:pt x="265" y="861"/>
                </a:cubicBezTo>
                <a:cubicBezTo>
                  <a:pt x="259" y="887"/>
                  <a:pt x="378" y="893"/>
                  <a:pt x="352" y="913"/>
                </a:cubicBezTo>
                <a:cubicBezTo>
                  <a:pt x="327" y="932"/>
                  <a:pt x="285" y="972"/>
                  <a:pt x="285" y="972"/>
                </a:cubicBezTo>
                <a:cubicBezTo>
                  <a:pt x="278" y="1261"/>
                  <a:pt x="588" y="1782"/>
                  <a:pt x="168" y="1611"/>
                </a:cubicBezTo>
                <a:cubicBezTo>
                  <a:pt x="163" y="1576"/>
                  <a:pt x="281" y="1521"/>
                  <a:pt x="247" y="1491"/>
                </a:cubicBezTo>
                <a:cubicBezTo>
                  <a:pt x="225" y="1473"/>
                  <a:pt x="184" y="1483"/>
                  <a:pt x="148" y="1473"/>
                </a:cubicBezTo>
                <a:cubicBezTo>
                  <a:pt x="133" y="1469"/>
                  <a:pt x="23" y="1473"/>
                  <a:pt x="17" y="1463"/>
                </a:cubicBezTo>
                <a:cubicBezTo>
                  <a:pt x="34" y="1457"/>
                  <a:pt x="49" y="1449"/>
                  <a:pt x="68" y="1445"/>
                </a:cubicBezTo>
                <a:cubicBezTo>
                  <a:pt x="94" y="1439"/>
                  <a:pt x="138" y="1449"/>
                  <a:pt x="151" y="1435"/>
                </a:cubicBezTo>
                <a:cubicBezTo>
                  <a:pt x="210" y="1365"/>
                  <a:pt x="127" y="1365"/>
                  <a:pt x="68" y="1356"/>
                </a:cubicBezTo>
                <a:cubicBezTo>
                  <a:pt x="57" y="1346"/>
                  <a:pt x="234" y="1329"/>
                  <a:pt x="247" y="1320"/>
                </a:cubicBezTo>
                <a:cubicBezTo>
                  <a:pt x="270" y="1303"/>
                  <a:pt x="134" y="1307"/>
                  <a:pt x="134" y="1307"/>
                </a:cubicBezTo>
                <a:cubicBezTo>
                  <a:pt x="129" y="1270"/>
                  <a:pt x="146" y="1230"/>
                  <a:pt x="117" y="1198"/>
                </a:cubicBezTo>
                <a:cubicBezTo>
                  <a:pt x="104" y="1184"/>
                  <a:pt x="146" y="1175"/>
                  <a:pt x="121" y="1167"/>
                </a:cubicBezTo>
                <a:cubicBezTo>
                  <a:pt x="104" y="1162"/>
                  <a:pt x="11" y="1169"/>
                  <a:pt x="0" y="1159"/>
                </a:cubicBezTo>
                <a:cubicBezTo>
                  <a:pt x="45" y="1156"/>
                  <a:pt x="108" y="1172"/>
                  <a:pt x="134" y="1149"/>
                </a:cubicBezTo>
                <a:cubicBezTo>
                  <a:pt x="163" y="1125"/>
                  <a:pt x="142" y="1087"/>
                  <a:pt x="117" y="1061"/>
                </a:cubicBezTo>
                <a:cubicBezTo>
                  <a:pt x="98" y="1039"/>
                  <a:pt x="17" y="1022"/>
                  <a:pt x="17" y="1022"/>
                </a:cubicBezTo>
                <a:cubicBezTo>
                  <a:pt x="57" y="1018"/>
                  <a:pt x="115" y="1032"/>
                  <a:pt x="134" y="1012"/>
                </a:cubicBezTo>
                <a:cubicBezTo>
                  <a:pt x="208" y="931"/>
                  <a:pt x="262" y="895"/>
                  <a:pt x="175" y="879"/>
                </a:cubicBezTo>
                <a:cubicBezTo>
                  <a:pt x="154" y="847"/>
                  <a:pt x="151" y="845"/>
                  <a:pt x="139" y="834"/>
                </a:cubicBezTo>
                <a:cubicBezTo>
                  <a:pt x="127" y="823"/>
                  <a:pt x="109" y="834"/>
                  <a:pt x="100" y="814"/>
                </a:cubicBezTo>
                <a:cubicBezTo>
                  <a:pt x="94" y="782"/>
                  <a:pt x="102" y="747"/>
                  <a:pt x="85" y="716"/>
                </a:cubicBezTo>
                <a:cubicBezTo>
                  <a:pt x="79" y="705"/>
                  <a:pt x="179" y="699"/>
                  <a:pt x="166" y="690"/>
                </a:cubicBezTo>
                <a:cubicBezTo>
                  <a:pt x="155" y="683"/>
                  <a:pt x="23" y="678"/>
                  <a:pt x="17" y="668"/>
                </a:cubicBezTo>
                <a:cubicBezTo>
                  <a:pt x="55" y="660"/>
                  <a:pt x="125" y="671"/>
                  <a:pt x="134" y="648"/>
                </a:cubicBezTo>
                <a:cubicBezTo>
                  <a:pt x="174" y="550"/>
                  <a:pt x="151" y="551"/>
                  <a:pt x="68" y="520"/>
                </a:cubicBezTo>
                <a:cubicBezTo>
                  <a:pt x="57" y="510"/>
                  <a:pt x="126" y="486"/>
                  <a:pt x="130" y="474"/>
                </a:cubicBezTo>
                <a:cubicBezTo>
                  <a:pt x="134" y="461"/>
                  <a:pt x="117" y="463"/>
                  <a:pt x="134" y="460"/>
                </a:cubicBezTo>
                <a:cubicBezTo>
                  <a:pt x="119" y="410"/>
                  <a:pt x="134" y="379"/>
                  <a:pt x="51" y="362"/>
                </a:cubicBezTo>
                <a:cubicBezTo>
                  <a:pt x="45" y="352"/>
                  <a:pt x="21" y="340"/>
                  <a:pt x="34" y="332"/>
                </a:cubicBezTo>
                <a:cubicBezTo>
                  <a:pt x="53" y="320"/>
                  <a:pt x="108" y="338"/>
                  <a:pt x="117" y="322"/>
                </a:cubicBezTo>
                <a:cubicBezTo>
                  <a:pt x="174" y="230"/>
                  <a:pt x="129" y="230"/>
                  <a:pt x="51" y="215"/>
                </a:cubicBezTo>
                <a:cubicBezTo>
                  <a:pt x="45" y="205"/>
                  <a:pt x="108" y="166"/>
                  <a:pt x="121" y="159"/>
                </a:cubicBezTo>
                <a:cubicBezTo>
                  <a:pt x="140" y="147"/>
                  <a:pt x="104" y="189"/>
                  <a:pt x="117" y="175"/>
                </a:cubicBezTo>
                <a:cubicBezTo>
                  <a:pt x="170" y="120"/>
                  <a:pt x="94" y="115"/>
                  <a:pt x="51" y="106"/>
                </a:cubicBezTo>
                <a:cubicBezTo>
                  <a:pt x="40" y="96"/>
                  <a:pt x="13" y="88"/>
                  <a:pt x="17" y="77"/>
                </a:cubicBezTo>
                <a:cubicBezTo>
                  <a:pt x="21" y="65"/>
                  <a:pt x="207" y="60"/>
                  <a:pt x="220" y="51"/>
                </a:cubicBezTo>
                <a:cubicBezTo>
                  <a:pt x="292" y="0"/>
                  <a:pt x="34" y="44"/>
                  <a:pt x="117" y="18"/>
                </a:cubicBezTo>
                <a:close/>
              </a:path>
            </a:pathLst>
          </a:custGeom>
          <a:solidFill>
            <a:srgbClr val="99ff33"/>
          </a:solidFill>
          <a:ln w="9360">
            <a:solidFill>
              <a:srgbClr val="94b6d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c5d50"/>
                </a:solidFill>
                <a:latin typeface="Tw Cen MT"/>
              </a:rPr>
              <a:t>Glomerular membran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503" name="rg_hi" descr="http://t1.gstatic.com/images?q=tbn:ANd9GcTc3s3kmMcnLSpYLkLAXZhevJxWDVgSvBbFgwXgBjOnh1dNWo_mFQ"/>
          <p:cNvPicPr/>
          <p:nvPr/>
        </p:nvPicPr>
        <p:blipFill>
          <a:blip r:embed="rId1"/>
          <a:stretch/>
        </p:blipFill>
        <p:spPr>
          <a:xfrm>
            <a:off x="1600200" y="1219320"/>
            <a:ext cx="63244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w Cen MT"/>
              </a:rPr>
              <a:t>Glomerular membran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505" name="Picture 2" descr=""/>
          <p:cNvPicPr/>
          <p:nvPr/>
        </p:nvPicPr>
        <p:blipFill>
          <a:blip r:embed="rId1"/>
          <a:stretch/>
        </p:blipFill>
        <p:spPr>
          <a:xfrm>
            <a:off x="279360" y="2421000"/>
            <a:ext cx="84330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5b22"/>
                </a:solidFill>
                <a:latin typeface="Tw Cen MT"/>
              </a:rPr>
              <a:t>Characteristics of glomerular membrane: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llow passage of molecules up to 70,000 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lbumin does not normally pass as they are repelled by the negative charge of th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glycoproteins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aterial of basement membran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lood cells don not normally pass through the membran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5b22"/>
                </a:solidFill>
                <a:latin typeface="Tw Cen MT"/>
              </a:rPr>
              <a:t>Glomerular Filtration Rate (GFR) 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GFR is determined by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1- the net filtration pressure across the glomerular capillari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2- the glomerular capillary filtration coefficient (Kf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GFR = Kf x Net filtration pressur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= 12.5 X 10 = 125 ml/mi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5b22"/>
                </a:solidFill>
                <a:latin typeface="Tw Cen MT"/>
              </a:rPr>
              <a:t>Glomerular Filtration Rate (GFR)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ltrate formed per minu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ltration coefficient (K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f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) depends on permeability and surface area of filtration barrie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GFR = NFP x K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f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125 ml/min or 180 L/da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GFR = 10 X 12.5 = 125 ml/mi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99% of filtrate reabsorbed, 1 to 2 L urine excrete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95b22"/>
                </a:solidFill>
                <a:latin typeface="Tw Cen MT"/>
              </a:rPr>
              <a:t>Nitrogenous Wast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28240" y="1773360"/>
            <a:ext cx="70866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re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roteins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mino acids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N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removed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forms ammonia, liver converts to urea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ric aci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reatinin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0" name="Picture 4" descr="H:\$$SaladinPowerPoints\Images\Ch-23labeled\0798L.JPG"/>
          <p:cNvPicPr/>
          <p:nvPr/>
        </p:nvPicPr>
        <p:blipFill>
          <a:blip r:embed="rId1"/>
          <a:srcRect l="59385" t="15024" r="15311" b="54987"/>
          <a:stretch/>
        </p:blipFill>
        <p:spPr>
          <a:xfrm>
            <a:off x="7162920" y="1523880"/>
            <a:ext cx="1447560" cy="12877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" descr="H:\$$SaladinPowerPoints\Images\Ch-23labeled\0798L.JPG"/>
          <p:cNvPicPr/>
          <p:nvPr/>
        </p:nvPicPr>
        <p:blipFill>
          <a:blip r:embed="rId2"/>
          <a:srcRect l="11578" t="52519" r="48118" b="2498"/>
          <a:stretch/>
        </p:blipFill>
        <p:spPr>
          <a:xfrm>
            <a:off x="2843280" y="3284640"/>
            <a:ext cx="1828800" cy="15303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6" descr="H:\$$SaladinPowerPoints\Images\Ch-23labeled\0798L.JPG"/>
          <p:cNvPicPr/>
          <p:nvPr/>
        </p:nvPicPr>
        <p:blipFill>
          <a:blip r:embed="rId3"/>
          <a:srcRect l="60324" t="51267" r="10621" b="2498"/>
          <a:stretch/>
        </p:blipFill>
        <p:spPr>
          <a:xfrm>
            <a:off x="4140360" y="5029200"/>
            <a:ext cx="1531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5b22"/>
                </a:solidFill>
                <a:latin typeface="Tw Cen MT"/>
              </a:rPr>
              <a:t>Forces</a:t>
            </a:r>
            <a:r>
              <a:rPr b="0" lang="en-US" sz="3600" spc="-1" strike="noStrike">
                <a:solidFill>
                  <a:srgbClr val="7c5d50"/>
                </a:solidFill>
                <a:latin typeface="Tw Cen MT"/>
              </a:rPr>
              <a:t> </a:t>
            </a:r>
            <a:r>
              <a:rPr b="1" lang="en-US" sz="3600" spc="-1" strike="noStrike">
                <a:solidFill>
                  <a:srgbClr val="b95b22"/>
                </a:solidFill>
                <a:latin typeface="Tw Cen MT"/>
              </a:rPr>
              <a:t>controlling GFR: Starling’s forces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b95b22"/>
                </a:solidFill>
                <a:latin typeface="Tw Cen MT"/>
              </a:rPr>
              <a:t>The net filtration pressure is the sum of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35520" indent="-25992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1. glomerular hydrostatic pressure (= 60 mmHg). It promotes filtration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35520" indent="-25992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2. hydrostatic pressure in Bowman’s capsule (= 18 mmHg). It opposes filtration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35520" indent="-25992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3. colloid osmotic pressure of glomerular plasma proteins  (= 32 mmHg). It opposes filtration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35520" indent="-25992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o, net filtration pressure = 60-18-32= 10 mmHg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Net Filtration Pressure (NFP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515" name="Picture 3" descr="H:\$$SaladinPowerPoints\Images\Ch-23labeled\0808L.JPG"/>
          <p:cNvPicPr/>
          <p:nvPr/>
        </p:nvPicPr>
        <p:blipFill>
          <a:blip r:embed="rId1"/>
          <a:srcRect l="0" t="13772" r="0" b="0"/>
          <a:stretch/>
        </p:blipFill>
        <p:spPr>
          <a:xfrm>
            <a:off x="506520" y="1371600"/>
            <a:ext cx="81295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16292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775f55"/>
                </a:solidFill>
                <a:latin typeface="Tw Cen MT"/>
              </a:rPr>
              <a:t>CONTROL OF GFR</a:t>
            </a:r>
            <a:endParaRPr b="0" lang="en-US" sz="5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533520" y="1447920"/>
            <a:ext cx="8076960" cy="1523880"/>
          </a:xfrm>
          <a:prstGeom prst="rect">
            <a:avLst/>
          </a:prstGeom>
          <a:gradFill rotWithShape="0">
            <a:gsLst>
              <a:gs pos="0">
                <a:srgbClr val="00002a"/>
              </a:gs>
              <a:gs pos="50000">
                <a:srgbClr val="00005a"/>
              </a:gs>
              <a:gs pos="100000">
                <a:srgbClr val="00002a"/>
              </a:gs>
            </a:gsLst>
            <a:lin ang="5400000"/>
          </a:gra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gency FB"/>
              </a:rPr>
              <a:t>GFR = Kf x [(P</a:t>
            </a:r>
            <a:r>
              <a:rPr b="1" lang="en-US" sz="4400" spc="-1" strike="noStrike">
                <a:solidFill>
                  <a:srgbClr val="ffff00"/>
                </a:solidFill>
                <a:latin typeface="Agency FB"/>
              </a:rPr>
              <a:t>G</a:t>
            </a:r>
            <a:r>
              <a:rPr b="1" lang="en-US" sz="6000" spc="-1" strike="noStrike">
                <a:solidFill>
                  <a:srgbClr val="ffff00"/>
                </a:solidFill>
                <a:latin typeface="Agency FB"/>
              </a:rPr>
              <a:t>-P</a:t>
            </a:r>
            <a:r>
              <a:rPr b="1" lang="en-US" sz="4400" spc="-1" strike="noStrike">
                <a:solidFill>
                  <a:srgbClr val="ffff00"/>
                </a:solidFill>
                <a:latin typeface="Agency FB"/>
              </a:rPr>
              <a:t>B</a:t>
            </a:r>
            <a:r>
              <a:rPr b="1" lang="en-US" sz="6000" spc="-1" strike="noStrike">
                <a:solidFill>
                  <a:srgbClr val="ffff00"/>
                </a:solidFill>
                <a:latin typeface="Agency FB"/>
              </a:rPr>
              <a:t>)-(</a:t>
            </a:r>
            <a:r>
              <a:rPr b="1" lang="en-US" sz="60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1" lang="en-US" sz="4400" spc="-1" strike="noStrike">
                <a:solidFill>
                  <a:srgbClr val="ffff00"/>
                </a:solidFill>
                <a:latin typeface="Agency FB"/>
              </a:rPr>
              <a:t>G</a:t>
            </a:r>
            <a:r>
              <a:rPr b="1" lang="en-US" sz="6000" spc="-1" strike="noStrike">
                <a:solidFill>
                  <a:srgbClr val="ffff00"/>
                </a:solidFill>
                <a:latin typeface="Agency FB"/>
              </a:rPr>
              <a:t>- </a:t>
            </a:r>
            <a:r>
              <a:rPr b="1" lang="en-US" sz="60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1" lang="en-US" sz="4400" spc="-1" strike="noStrike">
                <a:solidFill>
                  <a:srgbClr val="ffff00"/>
                </a:solidFill>
                <a:latin typeface="Agency FB"/>
              </a:rPr>
              <a:t>B</a:t>
            </a:r>
            <a:r>
              <a:rPr b="1" lang="en-US" sz="6000" spc="-1" strike="noStrike">
                <a:solidFill>
                  <a:srgbClr val="ffff00"/>
                </a:solidFill>
                <a:latin typeface="Agency FB"/>
              </a:rPr>
              <a:t>)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Arial"/>
              </a:rPr>
              <a:t>GFR = Kf x [(60-18)-(32- 0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609480" y="3245760"/>
            <a:ext cx="79250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ydrostatic pressure inside the glomerular capillaries </a:t>
            </a:r>
            <a:r>
              <a:rPr b="1" lang="en-US" sz="2000" spc="-1" strike="noStrike">
                <a:solidFill>
                  <a:srgbClr val="00b0f0"/>
                </a:solidFill>
                <a:latin typeface="Arial"/>
              </a:rPr>
              <a:t>(glomerular hydrostatic pressure, PG), which promotes filtr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b0f0"/>
                </a:solidFill>
                <a:latin typeface="Arial"/>
              </a:rPr>
              <a:t>hydrostatic pressure in bowman's capsule (PB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side the capillaries, which opposes fil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f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Arial"/>
              </a:rPr>
              <a:t>The colloid osmotic pressure of the glomerular capillary plasma proteins (πg)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ch opposes fil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b0f0"/>
                </a:solidFill>
                <a:latin typeface="Arial"/>
              </a:rPr>
              <a:t>colloid osmotic pressure of the proteins in bowman's capsule (πb)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ch promotes fil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5b22"/>
                </a:solidFill>
                <a:latin typeface="Tw Cen MT"/>
              </a:rPr>
              <a:t>How changes in Forces determining GFR affect GFR?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-39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Increased </a:t>
            </a:r>
            <a:r>
              <a:rPr b="0" lang="en-US" sz="2700" spc="-1" strike="noStrike">
                <a:solidFill>
                  <a:srgbClr val="b95b22"/>
                </a:solidFill>
                <a:latin typeface="Tw Cen MT"/>
              </a:rPr>
              <a:t>Bowman’s capsule pressure 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decreases GFR. It can happen in urinary obstruction e.g.  stones , tumors.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531000" indent="-39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Increased </a:t>
            </a:r>
            <a:r>
              <a:rPr b="0" lang="en-US" sz="2700" spc="-1" strike="noStrike">
                <a:solidFill>
                  <a:srgbClr val="b95b22"/>
                </a:solidFill>
                <a:latin typeface="Tw Cen MT"/>
              </a:rPr>
              <a:t>glomerular capillary colloid 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osmotic pressure decreases  GFR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531000" indent="-39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Increased </a:t>
            </a:r>
            <a:r>
              <a:rPr b="0" lang="en-US" sz="2700" spc="-1" strike="noStrike">
                <a:solidFill>
                  <a:srgbClr val="b95b22"/>
                </a:solidFill>
                <a:latin typeface="Tw Cen MT"/>
              </a:rPr>
              <a:t>glomerular capillary hydrostatic 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pressure increases GFR. This pressure is affected by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531000" indent="-39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ABP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531000" indent="-39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Afferent arteriolar resistance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531000" indent="-39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Efferent arteriolar resistanc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531000" indent="-39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5"/>
          <p:cNvSpPr/>
          <p:nvPr/>
        </p:nvSpPr>
        <p:spPr>
          <a:xfrm>
            <a:off x="90000" y="5238720"/>
            <a:ext cx="9008640" cy="16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120" bIns="51120" anchor="t">
            <a:spAutoFit/>
          </a:bodyPr>
          <a:p>
            <a:pPr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s vasodilation and vasoconstriction of the afferent an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fferent arterioles alter the blood flow through th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glomerular capillaries, there are corresponding altera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n the glomerular filtration rate (GFR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6" descr=""/>
          <p:cNvPicPr/>
          <p:nvPr/>
        </p:nvPicPr>
        <p:blipFill>
          <a:blip r:embed="rId1"/>
          <a:stretch/>
        </p:blipFill>
        <p:spPr>
          <a:xfrm>
            <a:off x="1079640" y="42840"/>
            <a:ext cx="7773840" cy="1332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9" descr="14_09"/>
          <p:cNvPicPr/>
          <p:nvPr/>
        </p:nvPicPr>
        <p:blipFill>
          <a:blip r:embed="rId2"/>
          <a:stretch/>
        </p:blipFill>
        <p:spPr>
          <a:xfrm>
            <a:off x="1541520" y="723960"/>
            <a:ext cx="6249960" cy="45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5b22"/>
                </a:solidFill>
                <a:latin typeface="Tw Cen MT"/>
              </a:rPr>
              <a:t>Factors affecting Renal blood flow and GFR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ympathetic stimulation of renal arterioles decrease GFR &amp; RBF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65040" indent="-2826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orepinephrine decreases GFR &amp; RBF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65040" indent="-2826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ngiotensin II decreases RBF. It constricts efferent arteriole more than afferent 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65040" indent="-2826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igh protein diet increases GFR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65040" indent="-2826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yperglycemia increases GFR &amp; RBF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65040" indent="-2826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ever increases GFR &amp; RBF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65040" indent="-2826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ging decreases RBF &amp; GF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65040" indent="-2826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5b22"/>
                </a:solidFill>
                <a:latin typeface="Tw Cen MT"/>
              </a:rPr>
              <a:t>Urine formation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The primary function of the kidney is to ‘clear’ unneeded substances from the blood to be excreted in urine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Steps of urine formation (basic renal processes)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1- Glomerular filtration: Filtration of fluid from glomerular capillaries into the renal tubules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2- Tubular reabsorption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3- Tubular secretion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4- Excretion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Tw Cen MT"/>
              </a:rPr>
              <a:t>Urinary excretion rate = Filtration rate- reabsorption+secretion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fImage" descr="showimage"/>
          <p:cNvPicPr/>
          <p:nvPr/>
        </p:nvPicPr>
        <p:blipFill>
          <a:blip r:embed="rId1"/>
          <a:stretch/>
        </p:blipFill>
        <p:spPr>
          <a:xfrm>
            <a:off x="1143000" y="2209680"/>
            <a:ext cx="6858000" cy="419112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sp>
        <p:nvSpPr>
          <p:cNvPr id="406" name="Rectangle 10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PHYSIOLOGIC ANATOMY OF KIDN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11"/>
          <p:cNvSpPr/>
          <p:nvPr/>
        </p:nvSpPr>
        <p:spPr>
          <a:xfrm>
            <a:off x="762120" y="1339200"/>
            <a:ext cx="234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ze Clenched F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ight 150 gra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12"/>
          <p:cNvSpPr/>
          <p:nvPr/>
        </p:nvSpPr>
        <p:spPr>
          <a:xfrm flipH="1">
            <a:off x="6095880" y="2590920"/>
            <a:ext cx="4572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5b22"/>
                </a:solidFill>
                <a:latin typeface="Tw Cen MT"/>
              </a:rPr>
              <a:t>What is the functional unit of the kidney?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nephron is the functional and structural unit of the kidney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ach kidney has 1 million nephrons, each nephron is capable of urine formation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95b22"/>
                </a:solidFill>
                <a:latin typeface="Tw Cen MT"/>
              </a:rPr>
              <a:t>Structure of a nephr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612720" y="1600200"/>
            <a:ext cx="4030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The </a:t>
            </a:r>
            <a:r>
              <a:rPr b="0" lang="en-US" sz="2700" spc="-1" strike="noStrike">
                <a:solidFill>
                  <a:srgbClr val="b95b22"/>
                </a:solidFill>
                <a:latin typeface="Tw Cen MT"/>
              </a:rPr>
              <a:t>Glomerulus: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 capillary tuft: in which large amount of fluid is filtered from blood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b95b22"/>
                </a:solidFill>
                <a:latin typeface="Tw Cen MT"/>
              </a:rPr>
              <a:t>Bwaman’s capsule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: Around the glomerulus and receives the filtrate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b95b22"/>
                </a:solidFill>
                <a:latin typeface="Tw Cen MT"/>
              </a:rPr>
              <a:t>Tubules: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 in which filtered fluid eventually is converted into urine.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3" name="Picture 10" descr="https://encrypted-tbn0.gstatic.com/images?q=tbn:ANd9GcTDfiewCBzFVGaze2yLZc-XdAGSOVQQM6CWTCaw3XnzGOkbhhJvsg"/>
          <p:cNvPicPr/>
          <p:nvPr/>
        </p:nvPicPr>
        <p:blipFill>
          <a:blip r:embed="rId1"/>
          <a:stretch/>
        </p:blipFill>
        <p:spPr>
          <a:xfrm>
            <a:off x="4951440" y="1916280"/>
            <a:ext cx="367020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Group 2"/>
          <p:cNvGrpSpPr/>
          <p:nvPr/>
        </p:nvGrpSpPr>
        <p:grpSpPr>
          <a:xfrm>
            <a:off x="506520" y="1341360"/>
            <a:ext cx="8129520" cy="5287680"/>
            <a:chOff x="506520" y="1341360"/>
            <a:chExt cx="8129520" cy="5287680"/>
          </a:xfrm>
        </p:grpSpPr>
        <p:pic>
          <p:nvPicPr>
            <p:cNvPr id="415" name="Picture 3" descr="0805L"/>
            <p:cNvPicPr/>
            <p:nvPr/>
          </p:nvPicPr>
          <p:blipFill>
            <a:blip r:embed="rId1"/>
            <a:srcRect l="0" t="10022" r="0" b="1252"/>
            <a:stretch/>
          </p:blipFill>
          <p:spPr>
            <a:xfrm>
              <a:off x="506520" y="1414800"/>
              <a:ext cx="8129520" cy="52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Rectangle 4"/>
            <p:cNvSpPr/>
            <p:nvPr/>
          </p:nvSpPr>
          <p:spPr>
            <a:xfrm>
              <a:off x="4876920" y="1341360"/>
              <a:ext cx="380880" cy="22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c5d50"/>
                </a:solidFill>
                <a:latin typeface="Tw Cen MT"/>
              </a:rPr>
              <a:t>The Glomerulu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3411360" y="5638320"/>
            <a:ext cx="5275440" cy="838440"/>
          </a:xfrm>
          <a:prstGeom prst="rect">
            <a:avLst/>
          </a:prstGeom>
          <a:noFill/>
          <a:ln w="28440">
            <a:solidFill>
              <a:srgbClr val="cc9900"/>
            </a:solidFill>
            <a:miter/>
          </a:ln>
        </p:spPr>
        <p:txBody>
          <a:bodyPr anchor="t">
            <a:normAutofit fontScale="85000"/>
          </a:bodyPr>
          <a:p>
            <a:pPr marL="465120" indent="-349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Glomerular filtrate collects in capsular space, flows into renal tubule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c5d50"/>
                </a:solidFill>
                <a:latin typeface="Tw Cen MT"/>
              </a:rPr>
              <a:t>Structure of a Nephron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20" name="rg_hi" descr="http://t0.gstatic.com/images?q=tbn:ANd9GcTeUcv4XftpfPvdsc_l9eEJ6KUQgaHjyunEsAFjUk1Zhcf03MXV"/>
          <p:cNvPicPr/>
          <p:nvPr/>
        </p:nvPicPr>
        <p:blipFill>
          <a:blip r:embed="rId1"/>
          <a:stretch/>
        </p:blipFill>
        <p:spPr>
          <a:xfrm>
            <a:off x="1676520" y="1600200"/>
            <a:ext cx="6248160" cy="4114800"/>
          </a:xfrm>
          <a:prstGeom prst="rect">
            <a:avLst/>
          </a:prstGeom>
          <a:ln w="0">
            <a:noFill/>
          </a:ln>
        </p:spPr>
      </p:pic>
      <p:sp>
        <p:nvSpPr>
          <p:cNvPr id="421" name="TextBox 3"/>
          <p:cNvSpPr/>
          <p:nvPr/>
        </p:nvSpPr>
        <p:spPr>
          <a:xfrm>
            <a:off x="5105520" y="5181480"/>
            <a:ext cx="3200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Tw Cen MT"/>
              </a:rPr>
              <a:t>1- Glomer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Tw Cen MT"/>
              </a:rPr>
              <a:t>2- P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Tw Cen MT"/>
              </a:rPr>
              <a:t>3- Loop of Hen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Tw Cen MT"/>
              </a:rPr>
              <a:t>4- D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Tw Cen MT"/>
              </a:rPr>
              <a:t>5- Collecting tubules &amp; ducts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8T03:12:17Z</dcterms:created>
  <dc:creator>user</dc:creator>
  <dc:description/>
  <dc:language>en-US</dc:language>
  <cp:lastModifiedBy>malhakbany</cp:lastModifiedBy>
  <dcterms:modified xsi:type="dcterms:W3CDTF">2015-04-19T12:12:21Z</dcterms:modified>
  <cp:revision>17</cp:revision>
  <dc:subject/>
  <dc:title>Renal functions &amp; GFR</dc:title>
</cp:coreProperties>
</file>