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520-8538-4433-9105-C95F0D1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6C2-1DB7-4B93-A9E7-432F77A1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490A1-E168-43C5-B0B6-E8CBEDF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CB38-43DD-4011-B5A2-D4B4288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777A0-532E-41B6-B6EB-CE8C191E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47F31-6B15-4D49-88CF-5E13404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FF0A3-834E-4212-AC70-BC589DFF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8C523-136A-4577-8BA4-333DA2E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CCBC-6E4D-4D17-962A-E9E8C957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81F9C-E7A1-47F8-AF69-F5F44DB5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867C6-B081-42B0-97B3-EA127E54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73C-4D46-436F-9933-A316E6F3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DC2-F7A3-45F9-8A37-D315132A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260-06FE-436D-9EB9-3CE06324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55EC-48E6-4C13-9DEE-E86A1CD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B73D-9DCF-4A99-A2C1-9B7C805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DCF-97F0-4084-BBFF-87172D82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9F1C-1A03-4A94-85BA-A7B3CE3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B2CA-E1BA-4146-8C05-7FD1265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1A6-B070-4888-B1E2-D7E5AD2D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A37-3862-4FB2-8CEC-89CC74E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FED-3D8E-48FE-B103-53C359C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C662-4B04-4107-8F2D-2738FB1D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B2D-9372-4C5A-9952-3572E4BC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27E-6D0A-4A95-9D4E-75EC2595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3308-6973-43DE-A7B0-83FBB0BA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75986-A8E9-40C6-8E41-83944DBE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495D0-4DCC-4239-AECF-B1DAD2B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4ADB4-FEA4-4618-A8EB-A867B72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2B8B2-4AA3-424F-A86E-3B37B1E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BAB9E-37CA-4071-B6E6-8A1A4018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A5E-41A9-4069-85BF-41615DE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33360-019B-478D-B618-72FB9574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0D8EE-85F8-47C9-A38E-D10252C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43528-EA4E-41F2-89E6-14E4A8E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08371-3A40-426C-9297-DC3C681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C619C-5465-4796-99E9-C6FA8C4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3A098-91F9-4E7F-B839-5559B8A5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83915-9146-4D1A-A506-BC3D7EE0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0CD63-3668-4F47-93C7-BB0E992C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44304-99DB-47C1-B35D-B4ABBAE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9411B-DA84-498A-8625-4BA994D9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867-C22D-4E02-87E1-69F1798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76D7D-EDFD-4458-A31D-9AAB9A4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92513-3A67-425B-9671-4767ACC1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6E718-5F0D-4826-86F0-108B574C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E5B81-AE41-4B3C-8580-BC2BB9D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CF50A-2945-4102-9264-2BF2513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1D3B5-979E-4101-812C-D3C696D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7B07A-0D08-4D28-AEC9-FB587AB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7E2FC-E155-4B24-8B9B-BFF9441D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20243-83E3-466F-BC4E-E44B9EA1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EFADE-8B0A-40FD-B08E-34313ED7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82A-5698-4A7B-AE37-C2C62E5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FD6FA-F1F4-4193-931C-3B021ADB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6CFC8-B833-459F-9225-ADF9EB59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2063E-C43F-41A1-996C-B8E5A26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47C96-78B3-491D-B5E0-55091D42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E5724-6CD5-4079-8842-7F8F930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35079-16BD-4324-A929-0AF9AB4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1598F-2DFF-40DE-AD16-04DE69E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DB355-D923-4B55-B7F8-F6A77C2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59B15-9E2F-4F55-9895-D118401E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541AD-189D-425B-BC77-CC01C048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534-5CF5-46EB-BC8D-342103F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4322C-83FB-4754-A1A3-2D113115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586A-3577-44AC-8A15-C9809AD1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5985F-0F03-4058-B6E3-A6F1520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6204-1AF5-4A51-B479-8E7FB0D2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E097-7889-41E1-A5FB-B370F9E7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4EA2-CA0B-4166-A0A4-6D3AF12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98B5-74C8-410D-84D7-F72AA9F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D98C-7ABB-455C-9662-4A1DDF4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159B2-B3AD-4C95-A79E-ADB8CAB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B43C-C8D0-4554-8E9C-1446287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379-1B08-4B0F-AD91-D24511F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00712-9092-4E09-BBCE-40D7F5EE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6335-1235-4EC4-981D-0F0C0D12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0675B-2084-4D62-ADEE-8544C339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70E08-5F82-44B7-96D9-0660D175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9A077-D631-4CCC-A3A1-01E055A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1802B-658B-49A5-AFF3-BFAF224B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F39E2-E865-469D-B191-B952BA93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44662-2213-40AB-97BE-514BB0B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22C8A-A426-4549-9921-5250B01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C19F2-738A-4B89-B2C8-915C93B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853-19D5-4D92-A913-346A293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6F035-B55A-4FC8-B50B-BF22C18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E0BE6-5C8F-4190-ABC8-A6C03BA7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A4E54-3F51-48E9-BBCF-44FE934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BC280-5B97-4D83-85E9-F035316F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D84C1-CD96-4FDD-AEE0-7A20EEA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8C90-A1BA-44A1-8FC0-E9A64578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0891-9593-4F08-AD63-27854C0D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4A3E-8022-477E-BD12-2BA721AD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73E77-95D4-4E57-A9C5-9415790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B6CAF-760F-452E-9857-CD5B1585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179-6884-49B6-83A7-214A861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C5E0-BFA3-4146-8D57-B5D54B1B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E1D5-162D-4047-B661-154A7E1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7237-6FDB-4FFF-9FD4-1BA9CBE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594D-8623-40B7-A49B-84EDB8A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4489-FDFE-4CA6-81D1-6CC2DA9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6445-04D3-458E-A61A-2E3CB382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AA51-36BC-4DF3-B74F-50F1C070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25988-57FC-4E61-8499-DCCF123B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43A63-D34A-4D7E-B421-263E718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CAD3D-4762-4514-BAE5-E76287F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708F-0476-424F-BD64-66A6B42FFC5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BCD3-4C75-48A1-8CA4-37CA67FAF2A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31B2-34C6-43E2-9861-D71C79B07B5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661-A45F-41D7-AB45-995B1F753A4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3F32-0CDF-4408-8DF8-342B009C04D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737D-C313-440B-8291-A3089BD76E8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38C6-879B-41F3-8397-D0A3BD97B32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A99C-56DD-4070-9AF9-47A72C3D1F2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D29-DEC6-480A-A4FC-6D8C9995B77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FUNCTIONS &amp;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w Cen MT"/>
              </a:rPr>
              <a:t>Structure of a nephr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ubule is divided into different sections with different structural and functional characteristic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ximal tubules ( in the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p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istal tubule (in the renal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necting tubule, cortical collecting, and the cortical collecting ducts, which run downward in the medulla and becom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edullary collecting duc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Structure of a nephron, cont….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360" y="1600200"/>
            <a:ext cx="58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ypes of nephr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Cortical nephrons: (85%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ir glomeruli in the outer portion of cortex and have short loops of Hen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Juxtamedullary nephrons: (15%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ve long loops extended into the medull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intain salt gradient, helps conserve wa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6" name="Picture 3" descr="H:\$$SaladinPowerPoints\Images\Ch-23labeled\0804L.JPG"/>
          <p:cNvPicPr/>
          <p:nvPr/>
        </p:nvPicPr>
        <p:blipFill>
          <a:blip r:embed="rId1"/>
          <a:srcRect l="31265" t="12526" r="37807" b="0"/>
          <a:stretch/>
        </p:blipFill>
        <p:spPr>
          <a:xfrm>
            <a:off x="6629400" y="1523880"/>
            <a:ext cx="2514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330984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38080" y="2362320"/>
            <a:ext cx="2286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1-2 %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r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Juxta Medul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eph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fImage" descr="showimage"/>
          <p:cNvPicPr/>
          <p:nvPr/>
        </p:nvPicPr>
        <p:blipFill>
          <a:blip r:embed="rId1"/>
          <a:srcRect l="14343" t="0" r="13942" b="4713"/>
          <a:stretch/>
        </p:blipFill>
        <p:spPr>
          <a:xfrm>
            <a:off x="3429000" y="533520"/>
            <a:ext cx="5286240" cy="5867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533520" y="60948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EPHRON TYPES Cortical and Juxtamedullary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"/>
          <p:cNvPicPr/>
          <p:nvPr/>
        </p:nvPicPr>
        <p:blipFill>
          <a:blip r:embed="rId2"/>
          <a:srcRect l="21093" t="8333" r="23438" b="15627"/>
          <a:stretch/>
        </p:blipFill>
        <p:spPr>
          <a:xfrm>
            <a:off x="3352680" y="5335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9"/>
          <p:cNvSpPr/>
          <p:nvPr/>
        </p:nvSpPr>
        <p:spPr>
          <a:xfrm>
            <a:off x="7391520" y="846000"/>
            <a:ext cx="152388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outer 2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7467480" y="4427640"/>
            <a:ext cx="152424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inner 1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w Cen MT"/>
              </a:rPr>
              <a:t>RENAL BLOOD VESSEL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238880" cy="396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INTO THE GLOMERUL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LOMERUL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APILLARY NETWORK THAT PRODUCES FILTRATE THAT ENTERS THE URINARY TUBUL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FROM GLOMERULI TO PERITUBULAR CAPILLARI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ERITUBULAR CAPILLAR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ASA REC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blood flow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nal blood flow to the kidney represents 20% of cardiac outp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blood flows to each kidney through a renal arte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w Cen MT"/>
              </a:rPr>
              <a:t>Features of renal circula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High blood flow rate (1200 ml/min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Presence of two capillary beds: glomerular and peritubula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fferent and afferent arterioles are major sites of renal resist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8" name="Group 14"/>
          <p:cNvGrpSpPr/>
          <p:nvPr/>
        </p:nvGrpSpPr>
        <p:grpSpPr>
          <a:xfrm>
            <a:off x="5364000" y="1628640"/>
            <a:ext cx="3428640" cy="4251240"/>
            <a:chOff x="5364000" y="1628640"/>
            <a:chExt cx="3428640" cy="4251240"/>
          </a:xfrm>
        </p:grpSpPr>
        <p:pic>
          <p:nvPicPr>
            <p:cNvPr id="439" name="Picture 4" descr="Juxtaglom apparatus"/>
            <p:cNvPicPr/>
            <p:nvPr/>
          </p:nvPicPr>
          <p:blipFill>
            <a:blip r:embed="rId1"/>
            <a:srcRect l="58539" t="0" r="1046" b="0"/>
            <a:stretch/>
          </p:blipFill>
          <p:spPr>
            <a:xfrm>
              <a:off x="5585040" y="1628640"/>
              <a:ext cx="3207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Rectangle 13"/>
            <p:cNvSpPr/>
            <p:nvPr/>
          </p:nvSpPr>
          <p:spPr>
            <a:xfrm>
              <a:off x="5364000" y="2035080"/>
              <a:ext cx="663480" cy="11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09480" y="304920"/>
            <a:ext cx="3048120" cy="1904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RENAL PROCESSES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3352680" y="380880"/>
            <a:ext cx="5140080" cy="5321160"/>
            <a:chOff x="3352680" y="380880"/>
            <a:chExt cx="5140080" cy="5321160"/>
          </a:xfrm>
        </p:grpSpPr>
        <p:sp>
          <p:nvSpPr>
            <p:cNvPr id="443" name="AutoShape 4"/>
            <p:cNvSpPr/>
            <p:nvPr/>
          </p:nvSpPr>
          <p:spPr>
            <a:xfrm rot="2588400">
              <a:off x="6553080" y="3200040"/>
              <a:ext cx="914400" cy="99036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830" y="14032"/>
                  </a:moveTo>
                  <a:cubicBezTo>
                    <a:pt x="17363" y="13038"/>
                    <a:pt x="17642" y="11927"/>
                    <a:pt x="17642" y="10800"/>
                  </a:cubicBezTo>
                  <a:cubicBezTo>
                    <a:pt x="17642" y="7021"/>
                    <a:pt x="14578" y="3958"/>
                    <a:pt x="10800" y="3958"/>
                  </a:cubicBezTo>
                  <a:cubicBezTo>
                    <a:pt x="9672" y="3957"/>
                    <a:pt x="8561" y="4236"/>
                    <a:pt x="7567" y="4769"/>
                  </a:cubicBezTo>
                  <a:close/>
                  <a:moveTo>
                    <a:pt x="4769" y="7567"/>
                  </a:moveTo>
                  <a:cubicBezTo>
                    <a:pt x="4236" y="8561"/>
                    <a:pt x="3958" y="9672"/>
                    <a:pt x="3958" y="10799"/>
                  </a:cubicBezTo>
                  <a:cubicBezTo>
                    <a:pt x="3958" y="14578"/>
                    <a:pt x="7021" y="17642"/>
                    <a:pt x="10800" y="17642"/>
                  </a:cubicBezTo>
                  <a:cubicBezTo>
                    <a:pt x="11927" y="17642"/>
                    <a:pt x="13038" y="17363"/>
                    <a:pt x="14032" y="1683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"/>
            <p:cNvSpPr/>
            <p:nvPr/>
          </p:nvSpPr>
          <p:spPr>
            <a:xfrm flipV="1">
              <a:off x="5257800" y="909360"/>
              <a:ext cx="304920" cy="1224000"/>
            </a:xfrm>
            <a:prstGeom prst="can">
              <a:avLst>
                <a:gd name="adj" fmla="val 98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6"/>
            <p:cNvSpPr/>
            <p:nvPr/>
          </p:nvSpPr>
          <p:spPr>
            <a:xfrm>
              <a:off x="5105520" y="2590560"/>
              <a:ext cx="609480" cy="2743200"/>
            </a:xfrm>
            <a:prstGeom prst="can">
              <a:avLst>
                <a:gd name="adj" fmla="val 989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7"/>
            <p:cNvSpPr/>
            <p:nvPr/>
          </p:nvSpPr>
          <p:spPr>
            <a:xfrm flipV="1">
              <a:off x="4343400" y="1370520"/>
              <a:ext cx="2133720" cy="15238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23880"/>
                <a:gd name="textAreaBottom" fmla="*/ 1405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21" y="16671"/>
                  </a:moveTo>
                  <a:cubicBezTo>
                    <a:pt x="6029" y="15702"/>
                    <a:pt x="4465" y="13380"/>
                    <a:pt x="4465" y="10800"/>
                  </a:cubicBezTo>
                  <a:cubicBezTo>
                    <a:pt x="4465" y="7301"/>
                    <a:pt x="7301" y="4465"/>
                    <a:pt x="10800" y="4465"/>
                  </a:cubicBezTo>
                  <a:cubicBezTo>
                    <a:pt x="14298" y="4465"/>
                    <a:pt x="17135" y="7301"/>
                    <a:pt x="17135" y="10800"/>
                  </a:cubicBezTo>
                  <a:cubicBezTo>
                    <a:pt x="17135" y="13380"/>
                    <a:pt x="15570" y="15702"/>
                    <a:pt x="13178" y="16671"/>
                  </a:cubicBezTo>
                  <a:lnTo>
                    <a:pt x="14855" y="20809"/>
                  </a:lnTo>
                  <a:cubicBezTo>
                    <a:pt x="18932" y="19157"/>
                    <a:pt x="21600" y="151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198"/>
                    <a:pt x="2667" y="19157"/>
                    <a:pt x="6744" y="2080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5029200" y="182880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>
              <a:off x="3352680" y="833400"/>
              <a:ext cx="198144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>
              <a:off x="5486400" y="833400"/>
              <a:ext cx="167652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>
              <a:off x="6858000" y="833400"/>
              <a:ext cx="304920" cy="26715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671560"/>
                <a:gd name="textAreaBottom" fmla="*/ 2656800 h 2671560"/>
              </a:gdLst>
              <a:ahLst/>
              <a:rect l="textAreaLeft" t="textAreaTop" r="textAreaRight" b="textAreaBottom"/>
              <a:pathLst>
                <a:path w="21600" h="189051">
                  <a:moveTo>
                    <a:pt x="3600" y="0"/>
                  </a:moveTo>
                  <a:arcTo wR="3600" hR="3600" stAng="16200000" swAng="-5400000"/>
                  <a:lnTo>
                    <a:pt x="0" y="185451"/>
                  </a:lnTo>
                  <a:arcTo wR="3600" hR="3600" stAng="10800000" swAng="-5400000"/>
                  <a:lnTo>
                    <a:pt x="18000" y="189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2"/>
            <p:cNvSpPr/>
            <p:nvPr/>
          </p:nvSpPr>
          <p:spPr>
            <a:xfrm>
              <a:off x="6858000" y="3962160"/>
              <a:ext cx="304920" cy="16002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600200"/>
                <a:gd name="textAreaBottom" fmla="*/ 1585440 h 1600200"/>
              </a:gdLst>
              <a:ahLst/>
              <a:rect l="textAreaLeft" t="textAreaTop" r="textAreaRight" b="textAreaBottom"/>
              <a:pathLst>
                <a:path w="21600" h="113247">
                  <a:moveTo>
                    <a:pt x="3600" y="0"/>
                  </a:moveTo>
                  <a:arcTo wR="3600" hR="3600" stAng="16200000" swAng="-5400000"/>
                  <a:lnTo>
                    <a:pt x="0" y="109647"/>
                  </a:lnTo>
                  <a:arcTo wR="3600" hR="3600" stAng="10800000" swAng="-5400000"/>
                  <a:lnTo>
                    <a:pt x="18000" y="11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7b615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3"/>
            <p:cNvSpPr/>
            <p:nvPr/>
          </p:nvSpPr>
          <p:spPr>
            <a:xfrm>
              <a:off x="4233240" y="380880"/>
              <a:ext cx="2293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1. Filtration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4"/>
            <p:cNvSpPr/>
            <p:nvPr/>
          </p:nvSpPr>
          <p:spPr>
            <a:xfrm>
              <a:off x="6177960" y="2514600"/>
              <a:ext cx="1909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2. Reabsor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7016760" y="403848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3. Se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6"/>
            <p:cNvSpPr/>
            <p:nvPr/>
          </p:nvSpPr>
          <p:spPr>
            <a:xfrm>
              <a:off x="4807080" y="533376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4. Ex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7"/>
            <p:cNvSpPr/>
            <p:nvPr/>
          </p:nvSpPr>
          <p:spPr>
            <a:xfrm rot="5400000">
              <a:off x="4530960" y="1711800"/>
              <a:ext cx="1757520" cy="304920"/>
            </a:xfrm>
            <a:prstGeom prst="rightArrow">
              <a:avLst>
                <a:gd name="adj1" fmla="val 35000"/>
                <a:gd name="adj2" fmla="val 109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8"/>
            <p:cNvSpPr/>
            <p:nvPr/>
          </p:nvSpPr>
          <p:spPr>
            <a:xfrm flipH="1" rot="10800000">
              <a:off x="5562720" y="2895120"/>
              <a:ext cx="1295280" cy="304920"/>
            </a:xfrm>
            <a:prstGeom prst="rightArrow">
              <a:avLst>
                <a:gd name="adj1" fmla="val 35000"/>
                <a:gd name="adj2" fmla="val 808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9"/>
            <p:cNvSpPr/>
            <p:nvPr/>
          </p:nvSpPr>
          <p:spPr>
            <a:xfrm rot="10800000">
              <a:off x="5638320" y="4114800"/>
              <a:ext cx="1295640" cy="304560"/>
            </a:xfrm>
            <a:prstGeom prst="rightArrow">
              <a:avLst>
                <a:gd name="adj1" fmla="val 35000"/>
                <a:gd name="adj2" fmla="val 80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0"/>
            <p:cNvSpPr/>
            <p:nvPr/>
          </p:nvSpPr>
          <p:spPr>
            <a:xfrm rot="5400000">
              <a:off x="4762440" y="4457520"/>
              <a:ext cx="1295280" cy="457200"/>
            </a:xfrm>
            <a:prstGeom prst="rightArrow">
              <a:avLst>
                <a:gd name="adj1" fmla="val 35000"/>
                <a:gd name="adj2" fmla="val 539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1"/>
          <p:cNvSpPr/>
          <p:nvPr/>
        </p:nvSpPr>
        <p:spPr>
          <a:xfrm>
            <a:off x="685800" y="25909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ilt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absor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Excretion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304920" y="5791320"/>
            <a:ext cx="86104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inary Excretion Rate = Filtration Rate – Reabsorption Rate + Secre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3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first step in urine formation is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the filtration of fluid from the glomerular capillaries into the renal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contains all substances present in plasma except prote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is normally 125 ml/min = 20% renal plasma flow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glomerular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controls passage of molecules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forces responsible for passage of fluid (filtrate)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in the glomerulus is separated from the fluid in the Bowman’s space by a filtration barrier (glomerular membrane) consisting of three layer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Single layer of capillary endo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Single epithelial lining of Bowman’s capsule (Podocytes) During filtration the fluid moves between their foot processes (psudopodia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- Basement membrane between endothelium and epi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are the functions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water and electrolyt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body fluid osmolality &amp; electrolyt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cretion of waste products (UREA, CREATININE, URIC ACID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rterial blood pressure (RAS, excretion of excess salt and water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cid/bas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toxification and excretion of drug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ynthesitic func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active form of vit D (D3)= 1,25 dihydroxycholicalcifero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Erythropoietin produc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- Renin form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- Synthesis of glucose from amino acids during prolonged fast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268360" y="2914560"/>
            <a:ext cx="3830760" cy="3394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4"/>
          <p:cNvSpPr/>
          <p:nvPr/>
        </p:nvSpPr>
        <p:spPr>
          <a:xfrm>
            <a:off x="4608360" y="141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see a glomerular capillary in longitudinal 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6192720" y="46656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755640" y="1814400"/>
            <a:ext cx="4537080" cy="42786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5329080" y="416232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95280" y="2390760"/>
            <a:ext cx="5432400" cy="35593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5832360" y="430524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430880" cy="41338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4"/>
          <p:cNvSpPr/>
          <p:nvPr/>
        </p:nvSpPr>
        <p:spPr>
          <a:xfrm>
            <a:off x="5329080" y="45831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ration sl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184720" y="2967120"/>
            <a:ext cx="457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ocytes (cell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3"/>
          <p:cNvSpPr/>
          <p:nvPr/>
        </p:nvSpPr>
        <p:spPr>
          <a:xfrm>
            <a:off x="4316400" y="2286000"/>
            <a:ext cx="1017720" cy="2819520"/>
          </a:xfrm>
          <a:custGeom>
            <a:avLst/>
            <a:gdLst>
              <a:gd name="textAreaLeft" fmla="*/ 0 w 1017720"/>
              <a:gd name="textAreaRight" fmla="*/ 1018080 w 10177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339" h="1600">
                <a:moveTo>
                  <a:pt x="90" y="11"/>
                </a:moveTo>
                <a:cubicBezTo>
                  <a:pt x="123" y="14"/>
                  <a:pt x="157" y="10"/>
                  <a:pt x="188" y="20"/>
                </a:cubicBezTo>
                <a:cubicBezTo>
                  <a:pt x="197" y="23"/>
                  <a:pt x="197" y="37"/>
                  <a:pt x="197" y="46"/>
                </a:cubicBezTo>
                <a:cubicBezTo>
                  <a:pt x="202" y="182"/>
                  <a:pt x="200" y="318"/>
                  <a:pt x="205" y="454"/>
                </a:cubicBezTo>
                <a:cubicBezTo>
                  <a:pt x="207" y="493"/>
                  <a:pt x="225" y="514"/>
                  <a:pt x="259" y="525"/>
                </a:cubicBezTo>
                <a:cubicBezTo>
                  <a:pt x="314" y="609"/>
                  <a:pt x="296" y="571"/>
                  <a:pt x="267" y="773"/>
                </a:cubicBezTo>
                <a:cubicBezTo>
                  <a:pt x="264" y="796"/>
                  <a:pt x="228" y="799"/>
                  <a:pt x="214" y="817"/>
                </a:cubicBezTo>
                <a:cubicBezTo>
                  <a:pt x="201" y="834"/>
                  <a:pt x="179" y="870"/>
                  <a:pt x="179" y="870"/>
                </a:cubicBezTo>
                <a:cubicBezTo>
                  <a:pt x="175" y="1131"/>
                  <a:pt x="339" y="1600"/>
                  <a:pt x="117" y="1446"/>
                </a:cubicBezTo>
                <a:cubicBezTo>
                  <a:pt x="114" y="1414"/>
                  <a:pt x="126" y="1376"/>
                  <a:pt x="108" y="1349"/>
                </a:cubicBezTo>
                <a:cubicBezTo>
                  <a:pt x="96" y="1332"/>
                  <a:pt x="65" y="1349"/>
                  <a:pt x="46" y="1340"/>
                </a:cubicBezTo>
                <a:cubicBezTo>
                  <a:pt x="38" y="1336"/>
                  <a:pt x="40" y="1322"/>
                  <a:pt x="37" y="1313"/>
                </a:cubicBezTo>
                <a:cubicBezTo>
                  <a:pt x="46" y="1307"/>
                  <a:pt x="54" y="1300"/>
                  <a:pt x="64" y="1296"/>
                </a:cubicBezTo>
                <a:cubicBezTo>
                  <a:pt x="78" y="1291"/>
                  <a:pt x="101" y="1300"/>
                  <a:pt x="108" y="1287"/>
                </a:cubicBezTo>
                <a:cubicBezTo>
                  <a:pt x="139" y="1224"/>
                  <a:pt x="95" y="1224"/>
                  <a:pt x="64" y="1216"/>
                </a:cubicBezTo>
                <a:cubicBezTo>
                  <a:pt x="58" y="1207"/>
                  <a:pt x="39" y="1197"/>
                  <a:pt x="46" y="1189"/>
                </a:cubicBezTo>
                <a:cubicBezTo>
                  <a:pt x="58" y="1174"/>
                  <a:pt x="99" y="1172"/>
                  <a:pt x="99" y="1172"/>
                </a:cubicBezTo>
                <a:cubicBezTo>
                  <a:pt x="96" y="1139"/>
                  <a:pt x="105" y="1103"/>
                  <a:pt x="90" y="1074"/>
                </a:cubicBezTo>
                <a:cubicBezTo>
                  <a:pt x="83" y="1061"/>
                  <a:pt x="59" y="1072"/>
                  <a:pt x="46" y="1065"/>
                </a:cubicBezTo>
                <a:cubicBezTo>
                  <a:pt x="37" y="1060"/>
                  <a:pt x="34" y="1048"/>
                  <a:pt x="28" y="1039"/>
                </a:cubicBezTo>
                <a:cubicBezTo>
                  <a:pt x="52" y="1036"/>
                  <a:pt x="85" y="1050"/>
                  <a:pt x="99" y="1030"/>
                </a:cubicBezTo>
                <a:cubicBezTo>
                  <a:pt x="114" y="1008"/>
                  <a:pt x="103" y="974"/>
                  <a:pt x="90" y="950"/>
                </a:cubicBezTo>
                <a:cubicBezTo>
                  <a:pt x="80" y="931"/>
                  <a:pt x="37" y="915"/>
                  <a:pt x="37" y="915"/>
                </a:cubicBezTo>
                <a:cubicBezTo>
                  <a:pt x="58" y="912"/>
                  <a:pt x="89" y="924"/>
                  <a:pt x="99" y="906"/>
                </a:cubicBezTo>
                <a:cubicBezTo>
                  <a:pt x="138" y="833"/>
                  <a:pt x="83" y="805"/>
                  <a:pt x="37" y="791"/>
                </a:cubicBezTo>
                <a:cubicBezTo>
                  <a:pt x="12" y="717"/>
                  <a:pt x="0" y="740"/>
                  <a:pt x="81" y="728"/>
                </a:cubicBezTo>
                <a:cubicBezTo>
                  <a:pt x="78" y="699"/>
                  <a:pt x="82" y="668"/>
                  <a:pt x="73" y="640"/>
                </a:cubicBezTo>
                <a:cubicBezTo>
                  <a:pt x="70" y="630"/>
                  <a:pt x="53" y="630"/>
                  <a:pt x="46" y="622"/>
                </a:cubicBezTo>
                <a:cubicBezTo>
                  <a:pt x="40" y="615"/>
                  <a:pt x="40" y="605"/>
                  <a:pt x="37" y="596"/>
                </a:cubicBezTo>
                <a:cubicBezTo>
                  <a:pt x="57" y="589"/>
                  <a:pt x="94" y="599"/>
                  <a:pt x="99" y="578"/>
                </a:cubicBezTo>
                <a:cubicBezTo>
                  <a:pt x="120" y="490"/>
                  <a:pt x="108" y="491"/>
                  <a:pt x="64" y="463"/>
                </a:cubicBezTo>
                <a:cubicBezTo>
                  <a:pt x="58" y="454"/>
                  <a:pt x="44" y="447"/>
                  <a:pt x="46" y="436"/>
                </a:cubicBezTo>
                <a:cubicBezTo>
                  <a:pt x="48" y="424"/>
                  <a:pt x="90" y="412"/>
                  <a:pt x="99" y="409"/>
                </a:cubicBezTo>
                <a:cubicBezTo>
                  <a:pt x="91" y="364"/>
                  <a:pt x="99" y="336"/>
                  <a:pt x="55" y="321"/>
                </a:cubicBezTo>
                <a:cubicBezTo>
                  <a:pt x="52" y="312"/>
                  <a:pt x="39" y="301"/>
                  <a:pt x="46" y="294"/>
                </a:cubicBezTo>
                <a:cubicBezTo>
                  <a:pt x="56" y="283"/>
                  <a:pt x="85" y="299"/>
                  <a:pt x="90" y="285"/>
                </a:cubicBezTo>
                <a:cubicBezTo>
                  <a:pt x="120" y="202"/>
                  <a:pt x="96" y="202"/>
                  <a:pt x="55" y="188"/>
                </a:cubicBezTo>
                <a:cubicBezTo>
                  <a:pt x="52" y="179"/>
                  <a:pt x="39" y="168"/>
                  <a:pt x="46" y="161"/>
                </a:cubicBezTo>
                <a:cubicBezTo>
                  <a:pt x="56" y="150"/>
                  <a:pt x="83" y="165"/>
                  <a:pt x="90" y="152"/>
                </a:cubicBezTo>
                <a:cubicBezTo>
                  <a:pt x="118" y="103"/>
                  <a:pt x="78" y="98"/>
                  <a:pt x="55" y="90"/>
                </a:cubicBezTo>
                <a:cubicBezTo>
                  <a:pt x="49" y="81"/>
                  <a:pt x="35" y="74"/>
                  <a:pt x="37" y="64"/>
                </a:cubicBezTo>
                <a:cubicBezTo>
                  <a:pt x="39" y="53"/>
                  <a:pt x="57" y="54"/>
                  <a:pt x="64" y="46"/>
                </a:cubicBezTo>
                <a:cubicBezTo>
                  <a:pt x="102" y="0"/>
                  <a:pt x="46" y="34"/>
                  <a:pt x="90" y="11"/>
                </a:cubicBez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4"/>
          <p:cNvSpPr/>
          <p:nvPr/>
        </p:nvSpPr>
        <p:spPr>
          <a:xfrm>
            <a:off x="4224240" y="2286000"/>
            <a:ext cx="276480" cy="2627280"/>
          </a:xfrm>
          <a:custGeom>
            <a:avLst/>
            <a:gdLst>
              <a:gd name="textAreaLeft" fmla="*/ 0 w 276480"/>
              <a:gd name="textAreaRight" fmla="*/ 276840 w 27648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775f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"/>
          <p:cNvSpPr/>
          <p:nvPr/>
        </p:nvSpPr>
        <p:spPr>
          <a:xfrm>
            <a:off x="4005360" y="22860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"/>
          <p:cNvSpPr/>
          <p:nvPr/>
        </p:nvSpPr>
        <p:spPr>
          <a:xfrm>
            <a:off x="4005360" y="3025800"/>
            <a:ext cx="185760" cy="6555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7"/>
          <p:cNvSpPr/>
          <p:nvPr/>
        </p:nvSpPr>
        <p:spPr>
          <a:xfrm>
            <a:off x="4005360" y="37638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8"/>
          <p:cNvSpPr/>
          <p:nvPr/>
        </p:nvSpPr>
        <p:spPr>
          <a:xfrm>
            <a:off x="4005360" y="4503600"/>
            <a:ext cx="185760" cy="409680"/>
          </a:xfrm>
          <a:custGeom>
            <a:avLst/>
            <a:gdLst>
              <a:gd name="textAreaLeft" fmla="*/ 0 w 185760"/>
              <a:gd name="textAreaRight" fmla="*/ 186120 w 185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9"/>
          <p:cNvSpPr/>
          <p:nvPr/>
        </p:nvSpPr>
        <p:spPr>
          <a:xfrm>
            <a:off x="4778280" y="3271680"/>
            <a:ext cx="185760" cy="40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RATION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3352680" y="37339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533520" y="3429000"/>
            <a:ext cx="2895480" cy="60948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. Endot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4038480" y="5410080"/>
            <a:ext cx="1371600" cy="3049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. Pod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 flipV="1">
            <a:off x="4724280" y="4876560"/>
            <a:ext cx="0" cy="5331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914400" y="4267080"/>
            <a:ext cx="2514600" cy="68580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ndotheliu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mer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3429000" y="46483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H="1">
            <a:off x="4267080" y="2590920"/>
            <a:ext cx="1828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6019920" y="2209680"/>
            <a:ext cx="2438280" cy="7621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. Basemen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5"/>
          <p:cNvSpPr/>
          <p:nvPr/>
        </p:nvSpPr>
        <p:spPr>
          <a:xfrm>
            <a:off x="2971800" y="2819520"/>
            <a:ext cx="2666880" cy="533160"/>
          </a:xfrm>
          <a:prstGeom prst="rightArrow">
            <a:avLst>
              <a:gd name="adj1" fmla="val 50000"/>
              <a:gd name="adj2" fmla="val 92699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rot="10800000">
            <a:off x="3962520" y="3885840"/>
            <a:ext cx="372960" cy="1143000"/>
          </a:xfrm>
          <a:custGeom>
            <a:avLst/>
            <a:gdLst>
              <a:gd name="textAreaLeft" fmla="*/ 0 w 372960"/>
              <a:gd name="textAreaRight" fmla="*/ 373320 w 372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8" h="1782">
                <a:moveTo>
                  <a:pt x="117" y="18"/>
                </a:moveTo>
                <a:cubicBezTo>
                  <a:pt x="180" y="22"/>
                  <a:pt x="244" y="17"/>
                  <a:pt x="302" y="28"/>
                </a:cubicBezTo>
                <a:cubicBezTo>
                  <a:pt x="319" y="32"/>
                  <a:pt x="319" y="47"/>
                  <a:pt x="319" y="57"/>
                </a:cubicBezTo>
                <a:cubicBezTo>
                  <a:pt x="329" y="208"/>
                  <a:pt x="273" y="197"/>
                  <a:pt x="283" y="348"/>
                </a:cubicBezTo>
                <a:cubicBezTo>
                  <a:pt x="286" y="391"/>
                  <a:pt x="200" y="498"/>
                  <a:pt x="265" y="510"/>
                </a:cubicBezTo>
                <a:cubicBezTo>
                  <a:pt x="369" y="603"/>
                  <a:pt x="320" y="637"/>
                  <a:pt x="265" y="861"/>
                </a:cubicBezTo>
                <a:cubicBezTo>
                  <a:pt x="259" y="887"/>
                  <a:pt x="378" y="893"/>
                  <a:pt x="352" y="913"/>
                </a:cubicBezTo>
                <a:cubicBezTo>
                  <a:pt x="327" y="932"/>
                  <a:pt x="285" y="972"/>
                  <a:pt x="285" y="972"/>
                </a:cubicBezTo>
                <a:cubicBezTo>
                  <a:pt x="278" y="1261"/>
                  <a:pt x="588" y="1782"/>
                  <a:pt x="168" y="1611"/>
                </a:cubicBezTo>
                <a:cubicBezTo>
                  <a:pt x="163" y="1576"/>
                  <a:pt x="281" y="1521"/>
                  <a:pt x="247" y="1491"/>
                </a:cubicBezTo>
                <a:cubicBezTo>
                  <a:pt x="225" y="1473"/>
                  <a:pt x="184" y="1483"/>
                  <a:pt x="148" y="1473"/>
                </a:cubicBezTo>
                <a:cubicBezTo>
                  <a:pt x="133" y="1469"/>
                  <a:pt x="23" y="1473"/>
                  <a:pt x="17" y="1463"/>
                </a:cubicBezTo>
                <a:cubicBezTo>
                  <a:pt x="34" y="1457"/>
                  <a:pt x="49" y="1449"/>
                  <a:pt x="68" y="1445"/>
                </a:cubicBezTo>
                <a:cubicBezTo>
                  <a:pt x="94" y="1439"/>
                  <a:pt x="138" y="1449"/>
                  <a:pt x="151" y="1435"/>
                </a:cubicBezTo>
                <a:cubicBezTo>
                  <a:pt x="210" y="1365"/>
                  <a:pt x="127" y="1365"/>
                  <a:pt x="68" y="1356"/>
                </a:cubicBezTo>
                <a:cubicBezTo>
                  <a:pt x="57" y="1346"/>
                  <a:pt x="234" y="1329"/>
                  <a:pt x="247" y="1320"/>
                </a:cubicBezTo>
                <a:cubicBezTo>
                  <a:pt x="270" y="1303"/>
                  <a:pt x="134" y="1307"/>
                  <a:pt x="134" y="1307"/>
                </a:cubicBezTo>
                <a:cubicBezTo>
                  <a:pt x="129" y="1270"/>
                  <a:pt x="146" y="1230"/>
                  <a:pt x="117" y="1198"/>
                </a:cubicBezTo>
                <a:cubicBezTo>
                  <a:pt x="104" y="1184"/>
                  <a:pt x="146" y="1175"/>
                  <a:pt x="121" y="1167"/>
                </a:cubicBezTo>
                <a:cubicBezTo>
                  <a:pt x="104" y="1162"/>
                  <a:pt x="11" y="1169"/>
                  <a:pt x="0" y="1159"/>
                </a:cubicBezTo>
                <a:cubicBezTo>
                  <a:pt x="45" y="1156"/>
                  <a:pt x="108" y="1172"/>
                  <a:pt x="134" y="1149"/>
                </a:cubicBezTo>
                <a:cubicBezTo>
                  <a:pt x="163" y="1125"/>
                  <a:pt x="142" y="1087"/>
                  <a:pt x="117" y="1061"/>
                </a:cubicBezTo>
                <a:cubicBezTo>
                  <a:pt x="98" y="1039"/>
                  <a:pt x="17" y="1022"/>
                  <a:pt x="17" y="1022"/>
                </a:cubicBezTo>
                <a:cubicBezTo>
                  <a:pt x="57" y="1018"/>
                  <a:pt x="115" y="1032"/>
                  <a:pt x="134" y="1012"/>
                </a:cubicBezTo>
                <a:cubicBezTo>
                  <a:pt x="208" y="931"/>
                  <a:pt x="262" y="895"/>
                  <a:pt x="175" y="879"/>
                </a:cubicBezTo>
                <a:cubicBezTo>
                  <a:pt x="154" y="847"/>
                  <a:pt x="151" y="845"/>
                  <a:pt x="139" y="834"/>
                </a:cubicBezTo>
                <a:cubicBezTo>
                  <a:pt x="127" y="823"/>
                  <a:pt x="109" y="834"/>
                  <a:pt x="100" y="814"/>
                </a:cubicBezTo>
                <a:cubicBezTo>
                  <a:pt x="94" y="782"/>
                  <a:pt x="102" y="747"/>
                  <a:pt x="85" y="716"/>
                </a:cubicBezTo>
                <a:cubicBezTo>
                  <a:pt x="79" y="705"/>
                  <a:pt x="179" y="699"/>
                  <a:pt x="166" y="690"/>
                </a:cubicBezTo>
                <a:cubicBezTo>
                  <a:pt x="155" y="683"/>
                  <a:pt x="23" y="678"/>
                  <a:pt x="17" y="668"/>
                </a:cubicBezTo>
                <a:cubicBezTo>
                  <a:pt x="55" y="660"/>
                  <a:pt x="125" y="671"/>
                  <a:pt x="134" y="648"/>
                </a:cubicBezTo>
                <a:cubicBezTo>
                  <a:pt x="174" y="550"/>
                  <a:pt x="151" y="551"/>
                  <a:pt x="68" y="520"/>
                </a:cubicBezTo>
                <a:cubicBezTo>
                  <a:pt x="57" y="510"/>
                  <a:pt x="126" y="486"/>
                  <a:pt x="130" y="474"/>
                </a:cubicBezTo>
                <a:cubicBezTo>
                  <a:pt x="134" y="461"/>
                  <a:pt x="117" y="463"/>
                  <a:pt x="134" y="460"/>
                </a:cubicBezTo>
                <a:cubicBezTo>
                  <a:pt x="119" y="410"/>
                  <a:pt x="134" y="379"/>
                  <a:pt x="51" y="362"/>
                </a:cubicBezTo>
                <a:cubicBezTo>
                  <a:pt x="45" y="352"/>
                  <a:pt x="21" y="340"/>
                  <a:pt x="34" y="332"/>
                </a:cubicBezTo>
                <a:cubicBezTo>
                  <a:pt x="53" y="320"/>
                  <a:pt x="108" y="338"/>
                  <a:pt x="117" y="322"/>
                </a:cubicBezTo>
                <a:cubicBezTo>
                  <a:pt x="174" y="230"/>
                  <a:pt x="129" y="230"/>
                  <a:pt x="51" y="215"/>
                </a:cubicBezTo>
                <a:cubicBezTo>
                  <a:pt x="45" y="205"/>
                  <a:pt x="108" y="166"/>
                  <a:pt x="121" y="159"/>
                </a:cubicBezTo>
                <a:cubicBezTo>
                  <a:pt x="140" y="147"/>
                  <a:pt x="104" y="189"/>
                  <a:pt x="117" y="175"/>
                </a:cubicBezTo>
                <a:cubicBezTo>
                  <a:pt x="170" y="120"/>
                  <a:pt x="94" y="115"/>
                  <a:pt x="51" y="106"/>
                </a:cubicBezTo>
                <a:cubicBezTo>
                  <a:pt x="40" y="96"/>
                  <a:pt x="13" y="88"/>
                  <a:pt x="17" y="77"/>
                </a:cubicBezTo>
                <a:cubicBezTo>
                  <a:pt x="21" y="65"/>
                  <a:pt x="207" y="60"/>
                  <a:pt x="220" y="51"/>
                </a:cubicBezTo>
                <a:cubicBezTo>
                  <a:pt x="292" y="0"/>
                  <a:pt x="34" y="44"/>
                  <a:pt x="117" y="18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3" name="rg_hi" descr="http://t1.gstatic.com/images?q=tbn:ANd9GcTc3s3kmMcnLSpYLkLAXZhevJxWDVgSvBbFgwXgBjOnh1dNWo_mFQ"/>
          <p:cNvPicPr/>
          <p:nvPr/>
        </p:nvPicPr>
        <p:blipFill>
          <a:blip r:embed="rId1"/>
          <a:stretch/>
        </p:blipFill>
        <p:spPr>
          <a:xfrm>
            <a:off x="1600200" y="12193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9360" y="2421000"/>
            <a:ext cx="8433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haracteristics of glomerular membran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 passage of molecules up to 70,000 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bumin does not normally pass as they are repelled by the negative charge of th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lycoprotein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 of basement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cells don not normally pass through the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FR is determin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net filtration pressure across the glomerular capillar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the glomerular capillary filtration coefficient (K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Kf x Net filtration press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12.5 X 10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e formed per minu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ion coefficient (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 depends on permeability and surface area of filtration barri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NFP x 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125 ml/min or 180 L/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10 X 12.5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99% of filtrate reabsorbed, 1 to 2 L urine excre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Nitrogenous Was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7086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ino aci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remov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s ammonia, liver converts to ure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ic ac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in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4" descr="H:\$$SaladinPowerPoints\Images\Ch-23labeled\0798L.JPG"/>
          <p:cNvPicPr/>
          <p:nvPr/>
        </p:nvPicPr>
        <p:blipFill>
          <a:blip r:embed="rId1"/>
          <a:srcRect l="59385" t="15024" r="15311" b="54987"/>
          <a:stretch/>
        </p:blipFill>
        <p:spPr>
          <a:xfrm>
            <a:off x="7162920" y="1523880"/>
            <a:ext cx="1447560" cy="1287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:\$$SaladinPowerPoints\Images\Ch-23labeled\0798L.JPG"/>
          <p:cNvPicPr/>
          <p:nvPr/>
        </p:nvPicPr>
        <p:blipFill>
          <a:blip r:embed="rId2"/>
          <a:srcRect l="11578" t="52519" r="48118" b="2498"/>
          <a:stretch/>
        </p:blipFill>
        <p:spPr>
          <a:xfrm>
            <a:off x="2843280" y="3284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$$SaladinPowerPoints\Images\Ch-23labeled\0798L.JPG"/>
          <p:cNvPicPr/>
          <p:nvPr/>
        </p:nvPicPr>
        <p:blipFill>
          <a:blip r:embed="rId3"/>
          <a:srcRect l="60324" t="51267" r="10621" b="2498"/>
          <a:stretch/>
        </p:blipFill>
        <p:spPr>
          <a:xfrm>
            <a:off x="4140360" y="5029200"/>
            <a:ext cx="153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Forces</a:t>
            </a:r>
            <a:r>
              <a:rPr b="0" lang="en-US" sz="3600" spc="-1" strike="noStrike">
                <a:solidFill>
                  <a:srgbClr val="7c5d5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ontrolling GFR: Starling’s forc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he net filtration pressure is the sum of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glomerular hydrostatic pressure (= 60 mmHg). It promot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hydrostatic pressure in Bowman’s capsule (= 18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colloid osmotic pressure of glomerular plasma proteins  (= 32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net filtration pressure = 60-18-32= 1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t Filtration Pressure (NF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5" name="Picture 3" descr="H:\$$SaladinPowerPoints\Images\Ch-23labeled\0808L.JPG"/>
          <p:cNvPicPr/>
          <p:nvPr/>
        </p:nvPicPr>
        <p:blipFill>
          <a:blip r:embed="rId1"/>
          <a:srcRect l="0" t="13772" r="0" b="0"/>
          <a:stretch/>
        </p:blipFill>
        <p:spPr>
          <a:xfrm>
            <a:off x="506520" y="1371600"/>
            <a:ext cx="812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162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CONTROL OF GF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1447920"/>
            <a:ext cx="8076960" cy="152388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GFR = Kf x [(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-(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FR = Kf x [(60-18)-(32- 0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609480" y="3245760"/>
            <a:ext cx="792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static pressure inside the glomerular capillaries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(glomerular hydrostatic pressure, PG), which promotes 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hydrostatic pressure in bowman's capsule (P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the capillaries, 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The colloid osmotic pressure of the glomerular capillary plasma proteins (πg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colloid osmotic pressure of the proteins in bowman's capsule (πb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promot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How changes in Forces determining GFR affect GF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owman’s capsule pressur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creases GFR. It can happen in urinary obstruction e.g.  stones , tumors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colloid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smotic pressure decreases  GF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hydrostatic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ssure increases GFR. This pressure is affected b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B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fferent arteriolar resistanc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fferent arteriolar resist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5"/>
          <p:cNvSpPr/>
          <p:nvPr/>
        </p:nvSpPr>
        <p:spPr>
          <a:xfrm>
            <a:off x="90000" y="5238720"/>
            <a:ext cx="9008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 vasodilation and vasoconstriction of the afferen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rent arterioles alter the blood flow through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lomerular capillaries, there are corresponding alt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glomerular filtration rate (GFR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1"/>
          <a:stretch/>
        </p:blipFill>
        <p:spPr>
          <a:xfrm>
            <a:off x="1079640" y="42840"/>
            <a:ext cx="7773840" cy="133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14_09"/>
          <p:cNvPicPr/>
          <p:nvPr/>
        </p:nvPicPr>
        <p:blipFill>
          <a:blip r:embed="rId2"/>
          <a:stretch/>
        </p:blipFill>
        <p:spPr>
          <a:xfrm>
            <a:off x="1541520" y="723960"/>
            <a:ext cx="62499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Factors affecting Renal blood flow and GFR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pathetic stimulation of renal arterioles decrease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epinephrine de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 II decreases RBF. It constricts efferent arteriole more than afferent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protein diet increases 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perglycemia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ver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ing decreases RBF &amp; GF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Urine forma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primary function of the kidney is to ‘clear’ unneeded substances from the blood to be excreted in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eps of urine formation (basic renal processes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Glomerular filtration: Filtration of fluid from glomerular capillaries into the renal tubule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 Tubular reabsorption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3- Tubular 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4- Ex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w Cen MT"/>
              </a:rPr>
              <a:t>Urinary excretion rate = Filtration rate- reabsorption+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fImage" descr="showimage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1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06" name="Rectangle 10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HYSIOLOGIC ANATOMY OF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762120" y="13392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Clenched F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 150 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 flipH="1">
            <a:off x="6095880" y="2590920"/>
            <a:ext cx="457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is the functional unit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phron is the functional and structural unit of the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kidney has 1 million nephrons, each nephron is capable of urine form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Structure of a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u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capillary tuft: in which large amount of fluid is filtered from bloo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waman’s capsul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Around the glomerulus and receives the filtra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ubule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in which filtered fluid eventually is converted into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10" descr="https://encrypted-tbn0.gstatic.com/images?q=tbn:ANd9GcTDfiewCBzFVGaze2yLZc-XdAGSOVQQM6CWTCaw3XnzGOkbhhJvsg"/>
          <p:cNvPicPr/>
          <p:nvPr/>
        </p:nvPicPr>
        <p:blipFill>
          <a:blip r:embed="rId1"/>
          <a:stretch/>
        </p:blipFill>
        <p:spPr>
          <a:xfrm>
            <a:off x="4951440" y="1916280"/>
            <a:ext cx="36702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506520" y="1341360"/>
            <a:ext cx="8129520" cy="5287680"/>
            <a:chOff x="506520" y="1341360"/>
            <a:chExt cx="8129520" cy="5287680"/>
          </a:xfrm>
        </p:grpSpPr>
        <p:pic>
          <p:nvPicPr>
            <p:cNvPr id="415" name="Picture 3" descr="0805L"/>
            <p:cNvPicPr/>
            <p:nvPr/>
          </p:nvPicPr>
          <p:blipFill>
            <a:blip r:embed="rId1"/>
            <a:srcRect l="0" t="10022" r="0" b="1252"/>
            <a:stretch/>
          </p:blipFill>
          <p:spPr>
            <a:xfrm>
              <a:off x="506520" y="1414800"/>
              <a:ext cx="8129520" cy="52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4"/>
            <p:cNvSpPr/>
            <p:nvPr/>
          </p:nvSpPr>
          <p:spPr>
            <a:xfrm>
              <a:off x="4876920" y="1341360"/>
              <a:ext cx="38088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c5d50"/>
                </a:solidFill>
                <a:latin typeface="Tw Cen MT"/>
              </a:rPr>
              <a:t>The Glomerulu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11360" y="5638320"/>
            <a:ext cx="5275440" cy="83844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Glomerular filtrate collects in capsular space, flows into renal tubul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Structure of a Neph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rg_hi" descr="http://t0.gstatic.com/images?q=tbn:ANd9GcTeUcv4XftpfPvdsc_l9eEJ6KUQgaHjyunEsAFjUk1Zhcf03MXV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41148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5105520" y="5181480"/>
            <a:ext cx="320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1-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2-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3- Loop of Hen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4- 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5- Collecting tubules &amp; duct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3:12:17Z</dcterms:created>
  <dc:creator>user</dc:creator>
  <dc:description/>
  <dc:language>en-US</dc:language>
  <cp:lastModifiedBy>malhakbany</cp:lastModifiedBy>
  <dcterms:modified xsi:type="dcterms:W3CDTF">2015-04-19T12:12:21Z</dcterms:modified>
  <cp:revision>17</cp:revision>
  <dc:subject/>
  <dc:title>Renal functions &amp; GFR</dc:title>
</cp:coreProperties>
</file>