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F762-8CCC-4CF5-9C77-8E86C052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21B7-3C69-4B8E-8D7C-F89AC9A5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9A77-1541-4202-8188-28C33594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9105-9858-44A6-9272-2FC67784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F392-CCC9-4896-8263-60B990C1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83E5-840F-45D2-9F54-EE042BBA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9B4D-EE56-4BCA-A87F-F5C51872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238C-F8C7-4E00-BB94-8C64EE75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66F7-7429-45BA-86E7-1B076D76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6457-E3E7-423D-A55F-D83B2065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768E-BDB6-4E7C-A8C7-A5555EB6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C2F1-EE03-4CF0-A7C5-3322C9EC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5B1F-C351-4FA0-8AB7-7B948C6F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02ED-1C8A-4D3E-B512-51D539AA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579F-30DF-4914-BEE1-763556C6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4832-E552-422C-8564-92E2F3D7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BFBD-8771-4033-9FD7-60D566A8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25839-2EA9-401E-ABAC-1EED6DF5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1B793-89D2-41FA-8609-6DF00EF0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94BC5-D301-40AA-AEF9-E727152C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3A080-C3CE-40C5-98BC-6D5B61F9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E131A-D93C-4279-899F-94D97657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D1EE-D978-495D-94AA-556C5B72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28D73-DB1E-49B9-A699-9EA2E373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59377-7D29-4B9F-A9C5-6A3B7338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349AA-39D9-497A-B873-435ACE00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CA4BC-EF12-434B-A670-72416FE9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0AF3C-53B1-4987-B44D-85D18A31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CE331-01F1-4E9D-B22F-4006A1D7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EA9FD-014A-4687-9C12-601B61E3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FC807-3A6F-4138-A424-A2417234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0BEDF-A78E-4CF4-A268-A9147981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A18E9-750E-46FA-9C70-B13B3688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3A3-A866-4CCF-BE81-1FF39AAC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DE6FF-3654-460A-AC02-8729C7CB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C2DA1-9118-4F23-BB83-645F6AC5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C7C72-7C85-4E53-82F3-D56DC2B4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FCCC3-0A09-4243-8267-BEB159C1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E5FD9-85CF-43ED-B912-C8B4BCA1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E25CF-9573-45C8-A32A-8C8B47E5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42E28-5D3C-4DF2-A234-19CB4CED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B7725-B786-4F30-8DC2-2F121D5E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3ED5F-5CCB-4731-9A22-2CFAD599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2951D-B432-4E05-BE6C-56479999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97D2-0525-47AE-85A4-07D3044D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27614-E96C-4979-B70A-AD331607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EB389-7543-45AE-BFA8-C1DF5A3B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85331-3BD3-4FC7-9F25-7B76C2AA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ED4A1-38AB-4800-8204-C7EBDCF7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D91F4-0A0C-4E60-99BA-9CE8D181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259F0-4AC1-4CB9-8A41-07BBBD05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40595-F5D2-402D-BAA9-9BE3F14C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23737-B649-4F12-A8E2-5FB2D423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D4F41-65C0-4303-99F5-D27D9B68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EBC58-22E2-4AC6-9C50-3E26F03C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AC3C-431F-4CDD-B49A-807D9720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51602-A041-457C-A1B7-3F0BEF66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8237-5C0C-414E-B29D-3E3080B9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463D-EDB0-4AF2-A82C-1DBCED93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AD64-C6D7-4511-8E86-AFC40D60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5276880"/>
                <a:gd name="textAreaBottom" fmla="*/ 5277240 h 527688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7580F-6181-4AD6-AAA7-9DFE1A130EA0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8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2782800"/>
                <a:gd name="textAreaBottom" fmla="*/ 2783160 h 2782800"/>
              </a:gdLst>
              <a:ahLst/>
              <a:rect l="textAreaLeft" t="textAreaTop" r="textAreaRight" b="textAreaBottom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2673360"/>
                <a:gd name="textAreaBottom" fmla="*/ 2673720 h 2673360"/>
              </a:gdLst>
              <a:ahLst/>
              <a:rect l="textAreaLeft" t="textAreaTop" r="textAreaRight" b="textAreaBottom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>
                <a:gd name="textAreaLeft" fmla="*/ 0 w 2693880"/>
                <a:gd name="textAreaRight" fmla="*/ 2694240 w 2693880"/>
                <a:gd name="textAreaTop" fmla="*/ 0 h 4275000"/>
                <a:gd name="textAreaBottom" fmla="*/ 4275360 h 4275000"/>
              </a:gdLst>
              <a:ahLst/>
              <a:rect l="textAreaLeft" t="textAreaTop" r="textAreaRight" b="textAreaBottom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>
                <a:gd name="textAreaLeft" fmla="*/ 0 w 3332160"/>
                <a:gd name="textAreaRight" fmla="*/ 3332520 w 3332160"/>
                <a:gd name="textAreaTop" fmla="*/ 0 h 4165560"/>
                <a:gd name="textAreaBottom" fmla="*/ 4165920 h 4165560"/>
              </a:gdLst>
              <a:ahLst/>
              <a:rect l="textAreaLeft" t="textAreaTop" r="textAreaRight" b="textAreaBottom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>
                <a:gd name="textAreaLeft" fmla="*/ 0 w 4576680"/>
                <a:gd name="textAreaRight" fmla="*/ 4577040 w 4576680"/>
                <a:gd name="textAreaTop" fmla="*/ 0 h 4170240"/>
                <a:gd name="textAreaBottom" fmla="*/ 4170600 h 4170240"/>
              </a:gdLst>
              <a:ahLst/>
              <a:rect l="textAreaLeft" t="textAreaTop" r="textAreaRight" b="textAreaBottom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>
                <a:gd name="textAreaLeft" fmla="*/ 0 w 3584520"/>
                <a:gd name="textAreaRight" fmla="*/ 3584880 w 3584520"/>
                <a:gd name="textAreaTop" fmla="*/ 0 h 4280040"/>
                <a:gd name="textAreaBottom" fmla="*/ 4280400 h 4280040"/>
              </a:gdLst>
              <a:ahLst/>
              <a:rect l="textAreaLeft" t="textAreaTop" r="textAreaRight" b="textAreaBottom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28BF1-D0B4-463D-8E11-DAB19BF3DB0E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5276880"/>
                <a:gd name="textAreaBottom" fmla="*/ 5277240 h 527688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09623-F704-4080-B28A-E3D5D8B8D555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5276880"/>
                <a:gd name="textAreaBottom" fmla="*/ 5277240 h 527688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07DB2-2CBB-4607-9A80-55BF6A914AE6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5276880"/>
                <a:gd name="textAreaBottom" fmla="*/ 5277240 h 527688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5B9B0-4B06-410C-B26C-6E00D9EADEDF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enderson&#8211;Hasselbalch_equation#cite_note-Bray1999-3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928600" y="1379160"/>
            <a:ext cx="8574120" cy="261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Physiology of Acid-base balance-2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14760" y="3995280"/>
            <a:ext cx="6988320" cy="13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Dr. Eman El Eter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Corbel"/>
              </a:rPr>
              <a:t>Respiratory Alkalos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128680" y="2133720"/>
            <a:ext cx="94536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nditions that stimulate respiratory center and wash out  CO2 (Hyperventilation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rbel"/>
              </a:rPr>
              <a:t>Oxygen deficiency at high altitud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A5EDD-379D-4A1C-8A52-7E977BCD597A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746280"/>
          </a:xfrm>
          <a:prstGeom prst="rect">
            <a:avLst/>
          </a:prstGeom>
          <a:solidFill>
            <a:srgbClr val="f7dae7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spiratory alkalosis, cont….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484280" y="2214360"/>
            <a:ext cx="10018800" cy="40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-Increase in pH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- Decrease in PaCO2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Compensatio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Renal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: increased renal excretion of HCO3- in an attempt to reduce plasma HCO3- concentration toward normal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Corbel"/>
              </a:rPr>
              <a:t>Metabolic Acidosi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070000" y="2021040"/>
            <a:ext cx="895032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Bicarbonate deficit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lood concentrations of bicarbonate drops below 22mEq/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Caus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rbel"/>
              </a:rPr>
              <a:t>Loss of bicarbonate e.g. severe  diarrhea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rbel"/>
              </a:rPr>
              <a:t>Hypoaldosteronism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rbel"/>
              </a:rPr>
              <a:t>Accumulation of acids e.g: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rbel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Corbel"/>
              </a:rPr>
              <a:t>Diabetic ketosis 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rbel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Corbel"/>
              </a:rPr>
              <a:t>Failure of kidneys to excrete H+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rbel"/>
              </a:rPr>
              <a:t>Drug toxicity e.g. salicylat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CA31E-D093-43D7-A55A-4CC97AE13BB8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57160" y="685440"/>
            <a:ext cx="9359640" cy="685800"/>
          </a:xfrm>
          <a:prstGeom prst="rect">
            <a:avLst/>
          </a:prstGeom>
          <a:solidFill>
            <a:srgbClr val="f7dae7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etabolic acidosis, cont…….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816200" y="2453760"/>
            <a:ext cx="9686880" cy="3489480"/>
          </a:xfrm>
          <a:prstGeom prst="rect">
            <a:avLst/>
          </a:prstGeom>
          <a:solidFill>
            <a:srgbClr val="f7dae7"/>
          </a:solidFill>
          <a:ln w="0">
            <a:noFill/>
          </a:ln>
        </p:spPr>
        <p:txBody>
          <a:bodyPr anchor="ctr">
            <a:normAutofit fontScale="99000"/>
          </a:bodyPr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Characteristic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of metabolic acidosi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- A decrease in pH &amp; a rise in extracellular fluid H+ concentratio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- The primary abnormality is a decrease in plasma HCO3–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Compensation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Respiratory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: increased ventilation rate  reduces PaCO2 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Renal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: adds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new b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carbonate to the extracellular fluid and excretes more H+.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Corbel"/>
              </a:rPr>
              <a:t>Metabolic Alkalosi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Bicarbonate exces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-   concentration in blood is greater than 27 mEq/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12121"/>
                </a:solidFill>
                <a:latin typeface="Corbel"/>
              </a:rPr>
              <a:t>Caus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rbel"/>
              </a:rPr>
              <a:t>Excess vomiting = loss of stomach acid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rbel"/>
              </a:rPr>
              <a:t>Excessive use of alkaline drug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rbel"/>
              </a:rPr>
              <a:t>Certain diuretic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rbel"/>
              </a:rPr>
              <a:t>Endocrine disorders: Hyperaldosteronism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rbel"/>
              </a:rPr>
              <a:t>Severe dehydra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E478B-5FB7-4799-920C-ABECC084417A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493560"/>
            <a:ext cx="9501120" cy="1035360"/>
          </a:xfrm>
          <a:prstGeom prst="rect">
            <a:avLst/>
          </a:prstGeom>
          <a:solidFill>
            <a:srgbClr val="f7dae7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12121"/>
                </a:solidFill>
                <a:latin typeface="Corbel"/>
              </a:rPr>
              <a:t>Metabolic Alkalosis, cont…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484280" y="2666520"/>
            <a:ext cx="10018800" cy="3891240"/>
          </a:xfrm>
          <a:prstGeom prst="rect">
            <a:avLst/>
          </a:prstGeom>
          <a:solidFill>
            <a:srgbClr val="f7dae7"/>
          </a:solidFill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crease in plasma pH and a decrease in H+ concentratio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primary cause  of metabolic alkalosis is a rise in the extracellular fluid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HCO3– concentration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Compensatio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Respiratory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: decrease in ventilation, which raises PaCO2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Renal: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increased renal HCO3- excretio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484280" y="2225520"/>
            <a:ext cx="10018800" cy="3934080"/>
          </a:xfrm>
          <a:prstGeom prst="rect">
            <a:avLst/>
          </a:prstGeom>
          <a:solidFill>
            <a:srgbClr val="f7dae7"/>
          </a:solidFill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patient is in intensive care because he suffered a severe myocardial infarction 3 days ago. The lab reports the following values from an arterial blood sampl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H =7.21, PCO2= 42, HCO3- = 12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List the condition: acidosis or alkalosis, metabolic or respiratory, compensated or uncompensated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etabolic acidosis, uncompensate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E5129-96CC-46AE-8248-AB86E7A2E294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1824120" y="2019240"/>
          <a:ext cx="9651960" cy="3861000"/>
        </p:xfrm>
        <a:graphic>
          <a:graphicData uri="http://schemas.openxmlformats.org/drawingml/2006/table">
            <a:tbl>
              <a:tblPr/>
              <a:tblGrid>
                <a:gridCol w="1379520"/>
                <a:gridCol w="1379520"/>
                <a:gridCol w="1378080"/>
                <a:gridCol w="1379520"/>
                <a:gridCol w="2205000"/>
                <a:gridCol w="1625400"/>
                <a:gridCol w="304920"/>
              </a:tblGrid>
              <a:tr h="82548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aCO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aHCO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om/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sp/meta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Acid/alkal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</a:tr>
              <a:tr h="52056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.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52056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52056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.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36828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36828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36828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36828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</a:tbl>
          </a:graphicData>
        </a:graphic>
      </p:graphicFrame>
      <p:sp>
        <p:nvSpPr>
          <p:cNvPr id="287" name="Slide Number Placeholder 3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2140D-6721-4263-9450-DC04842072BF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https://ak47boyz90.files.wordpress.com/2009/08/picture194.jpg?w=510"/>
          <p:cNvPicPr/>
          <p:nvPr/>
        </p:nvPicPr>
        <p:blipFill>
          <a:blip r:embed="rId1"/>
          <a:stretch/>
        </p:blipFill>
        <p:spPr>
          <a:xfrm>
            <a:off x="2373480" y="1744560"/>
            <a:ext cx="8812080" cy="45957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2"/>
          <p:cNvSpPr/>
          <p:nvPr/>
        </p:nvSpPr>
        <p:spPr>
          <a:xfrm>
            <a:off x="3308400" y="325440"/>
            <a:ext cx="7304040" cy="947160"/>
          </a:xfrm>
          <a:prstGeom prst="rect">
            <a:avLst/>
          </a:prstGeom>
          <a:solidFill>
            <a:srgbClr val="f7da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primary acid-base disturb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10952280" y="588312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1457F-6D17-41E2-87FA-1E0A861CD468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pH flux chart"/>
          <p:cNvPicPr/>
          <p:nvPr/>
        </p:nvPicPr>
        <p:blipFill>
          <a:blip r:embed="rId1"/>
          <a:stretch/>
        </p:blipFill>
        <p:spPr>
          <a:xfrm>
            <a:off x="1170000" y="357120"/>
            <a:ext cx="108378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3"/>
          <p:cNvSpPr/>
          <p:nvPr/>
        </p:nvSpPr>
        <p:spPr>
          <a:xfrm>
            <a:off x="2406600" y="1190520"/>
            <a:ext cx="833760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nderson–Hasselbalch equation can be applied to relate the pH of blood to constituents of the bicarbonate buffer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 H2CO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is the cologarithm of the acid dissociation constant of carbonic acid. It is equal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 is the concentration of bicarbonate in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 is the concentration of carbonic acid in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 \mathrm{pH} = \mathrm{p}K_{\mathrm{a}~\mathrm{H}_2\mathrm{CO}_3} + \log_{10}  \left ( \frac{[\mathrm{HCO}_3^-]}{[\mathrm{H}_2\mathrm{CO}_3]} \right ),"/>
          <p:cNvPicPr/>
          <p:nvPr/>
        </p:nvPicPr>
        <p:blipFill>
          <a:blip r:embed="rId2"/>
          <a:stretch/>
        </p:blipFill>
        <p:spPr>
          <a:xfrm>
            <a:off x="2443320" y="1022400"/>
            <a:ext cx="69339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0"/>
          <p:cNvSpPr/>
          <p:nvPr/>
        </p:nvSpPr>
        <p:spPr>
          <a:xfrm>
            <a:off x="5476320" y="-23760"/>
            <a:ext cx="1239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3800" rIns="0" tIns="31680" bIns="158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equation:</a:t>
            </a:r>
            <a:r>
              <a:rPr b="0" lang="en-US" sz="800" spc="-1" strike="noStrike" u="sng" baseline="30000">
                <a:solidFill>
                  <a:srgbClr val="3085ed"/>
                </a:solidFill>
                <a:uFillTx/>
                <a:latin typeface="Arial"/>
                <a:hlinkClick r:id="rId1"/>
              </a:rPr>
              <a:t>[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252525"/>
                </a:solidFill>
                <a:latin typeface="Arial"/>
                <a:ea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" descr=" [\mathrm{H}_2\mathrm{CO}_3] = k_{\rm H~CO_2}\, \times p_{\mathrm{CO}_2},"/>
          <p:cNvPicPr/>
          <p:nvPr/>
        </p:nvPicPr>
        <p:blipFill>
          <a:blip r:embed="rId2"/>
          <a:stretch/>
        </p:blipFill>
        <p:spPr>
          <a:xfrm>
            <a:off x="2370240" y="1042920"/>
            <a:ext cx="4968720" cy="44928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3"/>
          <p:cNvSpPr/>
          <p:nvPr/>
        </p:nvSpPr>
        <p:spPr>
          <a:xfrm>
            <a:off x="2093760" y="1757520"/>
            <a:ext cx="891540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 is the concentration of carbonic acid in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H CO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is the solubility  constant of carbon dioxide in blood.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H CO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is approximately 0.0307 mmol/(L-tor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is the partial pressure of carbon dioxide in the bl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3" descr=" \mathrm{pH} = 6.1 + \log_{10}  \left ( \frac{[\mathrm{HCO}_3^-]}{0.0307 \times p_{\mathrm{CO}_2}} \right ),"/>
          <p:cNvPicPr/>
          <p:nvPr/>
        </p:nvPicPr>
        <p:blipFill>
          <a:blip r:embed="rId3"/>
          <a:stretch/>
        </p:blipFill>
        <p:spPr>
          <a:xfrm>
            <a:off x="4113360" y="3933720"/>
            <a:ext cx="4340160" cy="6908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6"/>
          <p:cNvSpPr/>
          <p:nvPr/>
        </p:nvSpPr>
        <p:spPr>
          <a:xfrm>
            <a:off x="3452760" y="4932360"/>
            <a:ext cx="549900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 is the acidity in the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H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 is the concentration of bicarbonate in the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is the partial pressure of carbon dioxide in the arterial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1805040" y="2297160"/>
            <a:ext cx="90964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ring to  the HendersonHasselbalch equation, acidosis occurs when the ratio of HCO3– to CO2 in the extracellular fluid decreases, thereby decreasing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f this ratio decreases because of a fall in HCO3–,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os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referred to as metabolic acido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f the pH falls because of an increase in PCO2, the acidosis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red to as respiratory acid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posite occurs in alkal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3718080" y="1190520"/>
            <a:ext cx="6159240" cy="642600"/>
          </a:xfrm>
          <a:prstGeom prst="rect">
            <a:avLst/>
          </a:prstGeom>
          <a:solidFill>
            <a:srgbClr val="f7da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id-base disturb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Corbel"/>
              </a:rPr>
              <a:t>Rates of correctio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004840" y="2280960"/>
            <a:ext cx="906480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uffers function almost instantaneousl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spiratory mechanisms take several minutes to hou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nal mechanisms may take several hours to day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28D47-43A8-4998-B180-41255A9E4A13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aaacidbase10"/>
          <p:cNvPicPr/>
          <p:nvPr/>
        </p:nvPicPr>
        <p:blipFill>
          <a:blip r:embed="rId1"/>
          <a:stretch/>
        </p:blipFill>
        <p:spPr>
          <a:xfrm>
            <a:off x="1630440" y="0"/>
            <a:ext cx="9956880" cy="64897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4619520" y="517680"/>
            <a:ext cx="3116520" cy="36828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id-base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4"/>
          <p:cNvSpPr/>
          <p:nvPr/>
        </p:nvSpPr>
        <p:spPr>
          <a:xfrm>
            <a:off x="2154240" y="5583240"/>
            <a:ext cx="8553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Corbel"/>
              </a:rPr>
              <a:t>Respiratory Acidosi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731960" y="2442960"/>
            <a:ext cx="8902800" cy="39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Carbonic acid excess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aused by blood levels of </a:t>
            </a:r>
            <a:r>
              <a:rPr b="1" lang="en-US" sz="2400" spc="-1" strike="noStrike">
                <a:solidFill>
                  <a:srgbClr val="212121"/>
                </a:solidFill>
                <a:latin typeface="Corbel"/>
              </a:rPr>
              <a:t>CO</a:t>
            </a:r>
            <a:r>
              <a:rPr b="1" lang="en-US" sz="2400" spc="-1" strike="noStrike" baseline="-25000">
                <a:solidFill>
                  <a:srgbClr val="212121"/>
                </a:solidFill>
                <a:latin typeface="Corbe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above 45 mm H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auses of respiratory acidosi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rbel"/>
              </a:rPr>
              <a:t>Depression of  respiratory center in brain by drugs or head traum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rbel"/>
              </a:rPr>
              <a:t>Paralysis of respiratory or chest musc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rbel"/>
              </a:rPr>
              <a:t>Emphysema/COPD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rbel"/>
              </a:rPr>
              <a:t>Pulmonary edema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D9733-5002-4180-91C8-E3A24D45B3A5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96680" y="662040"/>
            <a:ext cx="9721800" cy="541440"/>
          </a:xfrm>
          <a:prstGeom prst="rect">
            <a:avLst/>
          </a:prstGeom>
          <a:solidFill>
            <a:srgbClr val="f7dae7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spiratory acidosis, cont….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484280" y="2238480"/>
            <a:ext cx="10018800" cy="42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Characteristic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-Reduction in blood and ECF pH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- Increase in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PaCO2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, which is the initial cause of the acidosi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Compensation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. Buff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2. Renal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: An increase in plasma HCO3- caused by the addition of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bicarbonate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to the extracellular fluid. The rise in HCO3–counteracts the  increase in PaCO2, thereby returning the plasma pH toward norm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8T06:18:22Z</dcterms:created>
  <dc:creator>DR.EMAN</dc:creator>
  <dc:description/>
  <dc:language>en-US</dc:language>
  <cp:lastModifiedBy>user</cp:lastModifiedBy>
  <dcterms:modified xsi:type="dcterms:W3CDTF">2015-05-10T18:09:10Z</dcterms:modified>
  <cp:revision>82</cp:revision>
  <dc:subject/>
  <dc:title>Glomerular Filtration</dc:title>
</cp:coreProperties>
</file>