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7199-3000-4EF5-847A-D272C6DB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4EB-D7C4-4F09-8823-FC7AD124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F852-84FA-461E-B5B2-9FD7DC3C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361-50CA-4034-97C1-662A33F8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4D93-5D87-4F5F-9B89-15C45F91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5FD8-6470-402B-813A-3C4C3D33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DBB3-2CA0-4FB9-8BF2-5FAC33F0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E0CB-A5BE-4459-87C6-25B22ABB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4FB4-15A3-4603-BA8F-28D648CB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A90E-80CD-49CC-A185-2EA95E52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4138-0E1A-42FB-8884-A042E37B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CDC-CA8F-4C44-A2FA-7A591593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18A6-5D20-4AA1-BA90-9F1C598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00FD-5C93-4504-8AEE-6C9F36A9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3ABF-F8D4-46F3-9BBA-30DCA27A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85E8-E966-4541-8362-1F6BB8D2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C5B0-54D3-4621-876E-5D61541E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9A1B-D6FD-4C1C-996D-DC251A93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AF998-820B-446E-A7A5-81A072F0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732BC-C8B8-40BE-B18B-06ECA9C5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F90A-2D4D-44FB-B4E4-D4C878E8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821F-5724-449C-B424-C9C94D60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22F-88C2-46F7-9E52-9B4F106F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ECF2-F23F-463C-81E6-04B8183D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27B4-27DA-40DC-82A3-FF38929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AE5E5-AC6C-4977-8AB8-AFCB9360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46827-7C23-4B58-86F6-8C2DA929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2E97D-D175-4370-985A-E628231B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79FAC-6F73-447C-81DF-6565FAE6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98D0-5C87-4EB3-A784-1DD509F5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9BF15-7540-4A29-AA87-FAD68546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F4E03-043B-4782-96F0-04F24C06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FF56-CEE3-4D64-85A5-C633A4BB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FB8-515C-4C14-88F5-6A22D84B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79BEF-F165-4CFD-889C-65596419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9367A-2245-4EF6-876F-21387A3C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E473D-B141-40EA-B4BF-12AD75BD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14BE-71F1-4C24-9EFF-AF40218C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D3130-0E2C-40B7-B93E-A83000C8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14FA-3CBC-4DDD-A55C-26804E1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E739-BA7E-4803-A6F2-7E87D60A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2156E-2010-4EBE-8C43-2E561711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FE92C-675A-496E-8921-C34D69BC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1087-BC02-487C-854E-A46926D0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2E37-7E72-45E4-8BD2-E877420A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A4E27-85CD-4898-B622-BBF2CB97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0C0AF-F894-4265-9072-1480A491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343D7-1C29-4D1C-9E9B-D9B223EA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F2E11-335D-4F22-BADB-49515AFE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5581-80BC-4684-B5C2-A373569B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502F5-23B2-4F33-B129-68C90F6C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D26EF-7292-41D9-8B1A-48CB11F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BBDE-DCEB-4767-B3EE-CE5E1870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00487-FC88-4AB3-9155-83ADB014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A89A-CA52-4541-8FBF-0FD7C5604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23CF-1ED6-41D9-A217-29534429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415BB-1F2C-4FC8-B7EB-BCD77C513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5C83-1E65-4514-AB1F-A0041E5C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D8A-C49A-4803-9062-8B38FD02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AE6-BCE9-48FF-A178-E19E3E3A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027B8-E03A-4927-B49C-7FD542DCD971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2673360"/>
                <a:gd name="textAreaBottom" fmla="*/ 2673720 h 2673360"/>
              </a:gdLst>
              <a:ahLst/>
              <a:rect l="textAreaLeft" t="textAreaTop" r="textAreaRight" b="textAreaBottom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>
                <a:gd name="textAreaLeft" fmla="*/ 0 w 2693880"/>
                <a:gd name="textAreaRight" fmla="*/ 2694240 w 2693880"/>
                <a:gd name="textAreaTop" fmla="*/ 0 h 4275000"/>
                <a:gd name="textAreaBottom" fmla="*/ 4275360 h 4275000"/>
              </a:gdLst>
              <a:ahLst/>
              <a:rect l="textAreaLeft" t="textAreaTop" r="textAreaRight" b="textAreaBottom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>
                <a:gd name="textAreaLeft" fmla="*/ 0 w 3332160"/>
                <a:gd name="textAreaRight" fmla="*/ 3332520 w 333216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>
                <a:gd name="textAreaLeft" fmla="*/ 0 w 4576680"/>
                <a:gd name="textAreaRight" fmla="*/ 4577040 w 4576680"/>
                <a:gd name="textAreaTop" fmla="*/ 0 h 4170240"/>
                <a:gd name="textAreaBottom" fmla="*/ 4170600 h 4170240"/>
              </a:gdLst>
              <a:ahLst/>
              <a:rect l="textAreaLeft" t="textAreaTop" r="textAreaRight" b="textAreaBottom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4280040"/>
                <a:gd name="textAreaBottom" fmla="*/ 4280400 h 4280040"/>
              </a:gdLst>
              <a:ahLst/>
              <a:rect l="textAreaLeft" t="textAreaTop" r="textAreaRight" b="textAreaBottom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EA465-1E8B-4A04-A64A-4A467C2C2F43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95379-C17E-41B6-A38A-EE27B3AF317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F44383-F2C8-4D2B-8BE2-66C415311B57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CD97C-FA3A-46A7-9CA7-22A9B22EF218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nderson&#8211;Hasselbalch_equation#cite_note-Bray1999-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hysiology of Acid-base balance-2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14760" y="3995280"/>
            <a:ext cx="698832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Dr. Eman El Et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Respiratory Alkalo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128680" y="2133720"/>
            <a:ext cx="945360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nditions that stimulate respiratory center and wash out  CO2 (Hyperventilation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Oxygen deficiency at high altitu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72DE0-100D-4BAA-83D2-FF4F13F8FED0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74628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piratory alkalosis, cont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484280" y="2214360"/>
            <a:ext cx="1001880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Increase in pH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Decrease in PaCO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ensatio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nal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increased renal excretion of HCO3- in an attempt to reduce plasma HCO3- concentration toward normal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Metabolic Acidosi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070000" y="2021040"/>
            <a:ext cx="895032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Bicarbonate deficit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lood concentrations of bicarbonate drops below 22mEq/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Loss of bicarbonate e.g. severe  diarrh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Hypoaldosteronism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Accumulation of acids e.g: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Diabetic ketosis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Failure of kidneys to excrete H+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rbel"/>
              </a:rPr>
              <a:t>Drug toxicity e.g. salicylat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4221D-C81F-4E75-B996-00D2916F50C9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757160" y="685440"/>
            <a:ext cx="9359640" cy="68580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tabolic acidosis, cont…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16200" y="2453760"/>
            <a:ext cx="9686880" cy="348948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rmAutofit fontScale="99000"/>
          </a:bodyPr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of metabolic acidos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A decrease in pH &amp; a rise in extracellular fluid H+ concentr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The primary abnormality is a decrease in plasma HCO3–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ensation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spiratory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increased ventilation rate  reduces PaCO2 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2960" indent="-2829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nal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adds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new b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carbonate to the extracellular fluid and excretes more H+.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Metabolic Alkalosi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Bicarbonate exces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-   concentration in blood is greater than 27 mEq/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Excess vomiting = loss of stomach aci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Excessive use of alkaline drug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Certain diuretic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Endocrine disorders: Hyperaldosteronis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Severe dehydr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E9149-F6E5-4EEC-9F7C-9DDB4A47B769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493560"/>
            <a:ext cx="9501120" cy="103536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12121"/>
                </a:solidFill>
                <a:latin typeface="Corbel"/>
              </a:rPr>
              <a:t>Metabolic Alkalosis, cont…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84280" y="2666520"/>
            <a:ext cx="10018800" cy="389124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crease in plasma pH and a decrease in H+ concentra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primary cause  of metabolic alkalosis is a rise in the extracellular fluid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HCO3– concentrati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ensation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spiratory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decrease in ventilation, which raises PaCO2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Renal: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increased renal HCO3- excre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484280" y="2225520"/>
            <a:ext cx="10018800" cy="393408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patient is in intensive care because he suffered a severe myocardial infarction 3 days ago. The lab reports the following values from an arterial blood samp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 =7.21, PCO2= 42, HCO3- = 12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ist the condition: acidosis or alkalosis, metabolic or respiratory, compensated or uncompensated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etabolic acidosis, uncompensat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81A3E-4E4F-467E-98C9-A62B50BCE2E1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824120" y="2019240"/>
          <a:ext cx="9651960" cy="3861000"/>
        </p:xfrm>
        <a:graphic>
          <a:graphicData uri="http://schemas.openxmlformats.org/drawingml/2006/table">
            <a:tbl>
              <a:tblPr/>
              <a:tblGrid>
                <a:gridCol w="1379520"/>
                <a:gridCol w="1379520"/>
                <a:gridCol w="1378080"/>
                <a:gridCol w="1379520"/>
                <a:gridCol w="2205000"/>
                <a:gridCol w="1625400"/>
                <a:gridCol w="304920"/>
              </a:tblGrid>
              <a:tr h="8254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a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PaHCO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/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sp/met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cid/alkalo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0acec"/>
                    </a:solidFill>
                  </a:tcPr>
                </a:tc>
              </a:tr>
              <a:tr h="5205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5205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52056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1fb"/>
                    </a:solidFill>
                  </a:tcPr>
                </a:tc>
              </a:tr>
              <a:tr h="368280"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  <a:tc>
                  <a:txBody>
                    <a:bodyPr lIns="122040" rIns="1220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22040" marR="122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3f8"/>
                    </a:solidFill>
                  </a:tcPr>
                </a:tc>
              </a:tr>
            </a:tbl>
          </a:graphicData>
        </a:graphic>
      </p:graphicFrame>
      <p:sp>
        <p:nvSpPr>
          <p:cNvPr id="287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1D792-4062-400B-B1B7-10A5D73680DA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ttps://ak47boyz90.files.wordpress.com/2009/08/picture194.jpg?w=510"/>
          <p:cNvPicPr/>
          <p:nvPr/>
        </p:nvPicPr>
        <p:blipFill>
          <a:blip r:embed="rId1"/>
          <a:stretch/>
        </p:blipFill>
        <p:spPr>
          <a:xfrm>
            <a:off x="2373480" y="1744560"/>
            <a:ext cx="8812080" cy="45957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3308400" y="325440"/>
            <a:ext cx="7304040" cy="94716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primary acid-base disturb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3"/>
          <p:cNvSpPr/>
          <p:nvPr/>
        </p:nvSpPr>
        <p:spPr>
          <a:xfrm>
            <a:off x="10952280" y="588312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3C08E-25EB-4BBB-8563-3086BAB2F8B3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pH flux chart"/>
          <p:cNvPicPr/>
          <p:nvPr/>
        </p:nvPicPr>
        <p:blipFill>
          <a:blip r:embed="rId1"/>
          <a:stretch/>
        </p:blipFill>
        <p:spPr>
          <a:xfrm>
            <a:off x="1170000" y="357120"/>
            <a:ext cx="108378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3"/>
          <p:cNvSpPr/>
          <p:nvPr/>
        </p:nvSpPr>
        <p:spPr>
          <a:xfrm>
            <a:off x="2406600" y="1190520"/>
            <a:ext cx="833760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enderson–Hasselbalch equation can be applied to relate the pH of blood to constituents of the bicarbonate buffer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 H2CO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the cologarithm of the acid dissociation constant of carbonic acid. It is equal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 is the concentration of bicarbonate 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 is the concentration of carbonic aci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 \mathrm{pH} = \mathrm{p}K_{\mathrm{a}~\mathrm{H}_2\mathrm{CO}_3} + \log_{10}  \left ( \frac{[\mathrm{HCO}_3^-]}{[\mathrm{H}_2\mathrm{CO}_3]} \right ),"/>
          <p:cNvPicPr/>
          <p:nvPr/>
        </p:nvPicPr>
        <p:blipFill>
          <a:blip r:embed="rId2"/>
          <a:stretch/>
        </p:blipFill>
        <p:spPr>
          <a:xfrm>
            <a:off x="2443320" y="1022400"/>
            <a:ext cx="69339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0"/>
          <p:cNvSpPr/>
          <p:nvPr/>
        </p:nvSpPr>
        <p:spPr>
          <a:xfrm>
            <a:off x="5476320" y="-23760"/>
            <a:ext cx="1239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53800" rIns="0" tIns="31680" bIns="158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equation:</a:t>
            </a:r>
            <a:r>
              <a:rPr b="0" lang="en-US" sz="800" spc="-1" strike="noStrike" u="sng" baseline="30000">
                <a:solidFill>
                  <a:srgbClr val="3085ed"/>
                </a:solidFill>
                <a:uFillTx/>
                <a:latin typeface="Arial"/>
                <a:hlinkClick r:id="rId1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252525"/>
                </a:solidFill>
                <a:latin typeface="Arial"/>
                <a:ea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 [\mathrm{H}_2\mathrm{CO}_3] = k_{\rm H~CO_2}\, \times p_{\mathrm{CO}_2},"/>
          <p:cNvPicPr/>
          <p:nvPr/>
        </p:nvPicPr>
        <p:blipFill>
          <a:blip r:embed="rId2"/>
          <a:stretch/>
        </p:blipFill>
        <p:spPr>
          <a:xfrm>
            <a:off x="2370240" y="1042920"/>
            <a:ext cx="4968720" cy="4492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3"/>
          <p:cNvSpPr/>
          <p:nvPr/>
        </p:nvSpPr>
        <p:spPr>
          <a:xfrm>
            <a:off x="2093760" y="1757520"/>
            <a:ext cx="891540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 is the concentration of carbonic aci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 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the solubility  constant of carbon dioxide in blood.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H 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approximately 0.0307 mmol/(L-to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is the partial pressure of carbon dioxide in the bl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3" descr=" \mathrm{pH} = 6.1 + \log_{10}  \left ( \frac{[\mathrm{HCO}_3^-]}{0.0307 \times p_{\mathrm{CO}_2}} \right ),"/>
          <p:cNvPicPr/>
          <p:nvPr/>
        </p:nvPicPr>
        <p:blipFill>
          <a:blip r:embed="rId3"/>
          <a:stretch/>
        </p:blipFill>
        <p:spPr>
          <a:xfrm>
            <a:off x="4113360" y="3933720"/>
            <a:ext cx="4340160" cy="6908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6"/>
          <p:cNvSpPr/>
          <p:nvPr/>
        </p:nvSpPr>
        <p:spPr>
          <a:xfrm>
            <a:off x="3452760" y="4932360"/>
            <a:ext cx="549900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 is the acidity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H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 is the concentration of bicarbonate in the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is the partial pressure of carbon dioxide in the arterial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1805040" y="2297160"/>
            <a:ext cx="9096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ing to  the HendersonHasselbalch equation, acidosis occurs when the ratio of HCO3– to CO2 in the extracellular fluid decreases, thereby decreasing 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this ratio decreases because of a fall in HCO3–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o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ferred to as metabolic acido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the pH falls because of an increase in PCO2, the acidosi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as respiratory acid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posite occurs in alka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3718080" y="1190520"/>
            <a:ext cx="6159240" cy="64260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-base disturb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Rates of correction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2004840" y="2280960"/>
            <a:ext cx="90648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uffers function almost instantaneousl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spiratory mechanisms take several minutes to hou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nal mechanisms may take several hours to day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74BCA-8DA7-471D-A846-5116FE32324D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aaacidbase10"/>
          <p:cNvPicPr/>
          <p:nvPr/>
        </p:nvPicPr>
        <p:blipFill>
          <a:blip r:embed="rId1"/>
          <a:stretch/>
        </p:blipFill>
        <p:spPr>
          <a:xfrm>
            <a:off x="1630440" y="0"/>
            <a:ext cx="9956880" cy="64897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4619520" y="517680"/>
            <a:ext cx="3116520" cy="36828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id-base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4"/>
          <p:cNvSpPr/>
          <p:nvPr/>
        </p:nvSpPr>
        <p:spPr>
          <a:xfrm>
            <a:off x="2154240" y="5583240"/>
            <a:ext cx="8553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Respiratory Acidosi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731960" y="2442960"/>
            <a:ext cx="8902800" cy="39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arbonic acid excess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used by blood levels of </a:t>
            </a: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CO</a:t>
            </a:r>
            <a:r>
              <a:rPr b="1" lang="en-US" sz="2400" spc="-1" strike="noStrike" baseline="-25000">
                <a:solidFill>
                  <a:srgbClr val="212121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above 45 mm H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uses of respiratory acidosi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Depression of  respiratory center in brain by drugs or head traum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Paralysis of respiratory or chest musc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Emphysema/COP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rbel"/>
              </a:rPr>
              <a:t>Pulmonary edem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2251A-E37C-4EBF-93B3-8CC43C165897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96680" y="662040"/>
            <a:ext cx="9721800" cy="541440"/>
          </a:xfrm>
          <a:prstGeom prst="rect">
            <a:avLst/>
          </a:prstGeom>
          <a:solidFill>
            <a:srgbClr val="f7dae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piratory acidosis, cont….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484280" y="2238480"/>
            <a:ext cx="10018800" cy="42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Reduction in blood and ECF pH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 Increase in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PaCO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, which is the initial cause of the acidosi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Compensation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Buff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2. Renal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An increase in plasma HCO3- caused by the addition of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bicarbonate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to the extracellular fluid. The rise in HCO3–counteracts the  increase in PaCO2, thereby returning the plasma pH toward norm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06:18:22Z</dcterms:created>
  <dc:creator>DR.EMAN</dc:creator>
  <dc:description/>
  <dc:language>en-US</dc:language>
  <cp:lastModifiedBy>user</cp:lastModifiedBy>
  <dcterms:modified xsi:type="dcterms:W3CDTF">2015-05-10T18:09:10Z</dcterms:modified>
  <cp:revision>82</cp:revision>
  <dc:subject/>
  <dc:title>Glomerular Filtration</dc:title>
</cp:coreProperties>
</file>