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BD19-0928-4B75-8B51-96FC1560D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441D-4BEB-4D4D-ABC7-C173E21ED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495-E62A-44DF-8F2D-8CC5DE33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AAE0-3484-480A-8BB5-DC90D76F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16C-7E9B-4C5F-A97B-4F39E6BA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86F-D0F3-4584-A2AF-318794E8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2456-42B1-45D9-B06F-CA86A777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83B2-D0B7-40D5-8DC5-9D4E6130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CECA-3D9D-4392-ACA7-F72FF6A3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C719-F492-4E51-8A5F-3E9DB35D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1177-D111-4CC5-BF92-3CB945B7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FC19-2B33-459E-A009-63497275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2B96-6A6C-45F5-8FB6-1937955C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CE1-8208-4412-81E6-1CCAAE9A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EB5B-8470-4385-AE73-FCD166FF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1BC7-2F31-4F7F-B920-C6C932BB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39C1-3A8E-4349-8F3E-F99D9349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9100-4C44-434E-9317-4211603F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A132-DFEC-4BB7-998F-DBE49B35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FAC01-4C2E-4A4A-881D-FD22B33A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2877B-CCA6-4A7D-A66C-B4841179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E71BE-A82C-42BF-AE87-AFC4B519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96290-47CD-4923-8D27-DD8675C6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D0447-6BAB-4F6C-8781-1F0D9282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0DC2-52B9-4148-9160-1E07D8F4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1CCB8-E236-4053-8887-241ADBE4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46C10-DEAE-47C7-92E6-931524C1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F19146-0656-4387-B8C3-0FEBD64E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A0144-A3DD-4F34-98AE-73B44C75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352D9-CBF9-4E77-8791-74DBC376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569F7-BDAA-4723-A960-64CE56CD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990C7-641D-424B-9111-1C92C4CF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6646C5-CE88-4E8C-B579-F8FBD008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5F8CE4-F8A1-4956-8B85-84F14E70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6DA94E-12CD-40C9-A4BE-3033FB63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F18-6AA1-474F-941C-9387175F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29F727-547D-46B9-BA90-0B43F417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EC96AE-4FE2-4160-9945-7D4C3B28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971711-C09B-499F-B891-4B72A570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70B1EA-7181-48DD-AA2D-A249A37B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8604B-4746-4FEA-9425-53541852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C0E760-A4E0-46AA-9EA0-DF4044F2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F34AB5-F4A9-44FC-BCB8-DDB97037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FCEA99-9863-4D83-A82F-6CF0A075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0BBB10-9F58-4C4C-8543-8692375A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72821B-F5D2-460D-B2F2-0C2A26CB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0416-854A-4257-820F-99819DE3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03E3A1-90F2-4AD1-B69F-236BF47D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A08243-B67A-4DE3-82BF-62D8B8B8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83E172-CBEC-4770-86FC-DE77A2C6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705C83-FFE3-4534-B838-A8EB0001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A90482-7DE4-4C2B-B7EF-38F71A09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1BFDC9-4680-4C10-9087-A59B084D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2B5AFC-F2AD-4D45-A6D9-7A4F4BED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C2BAA3-05D6-43C1-990D-E6548364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8FC5F6-DE9D-4626-9EB6-E7E98E64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E4F81-7819-4956-B52C-8EC53DC8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973-9EE4-4253-8495-40BCD5B8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2774CF-EF54-494E-B2E1-431F7CC5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E4C71-8589-4BC0-A1D7-FA762FA7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96653-B777-4E0C-8606-5BF630B2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FA03D-82FD-4AEA-8399-570020F2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25F90-A598-4983-AAEB-D0998540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5CE5F-3819-4FAB-8A16-12F3F641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80415-3093-4EE5-9276-CE69F8A8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88C92-A44C-4EE1-A58D-189ED431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DE1C3-512B-4A16-8C1D-2102E4BB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3F119-5C21-4560-BE5D-AB4C792D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1DF-A578-48D0-8AB6-42D18C95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1F582-3ADC-4DC7-844B-26BC6273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1E371-412D-4EB8-88BD-670E894D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9ADFB-5C8C-4669-883E-E391B66D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EEF5E7-4B58-44A6-A9E8-AD3F09F7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8E51D-22E9-4437-AB9C-F25C9862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69809A-CFEC-48B3-997B-290418D2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117D03-BD2B-4348-AA42-128580BA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2A759A-6D0F-4D3B-9CBF-59E1130E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ACD64A-A461-4B0B-AED9-550D5B5C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40AE34-CBD3-4607-9FD8-D36ED28A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1BB-BAEF-4FF6-ABDE-17F466BD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CEBDDA-4859-41C7-B4E0-6EB2FFD2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E01DDD-BBED-45AF-BFCC-91A4E236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22283A-3C0E-4380-A50A-A17AB774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CBB0C7-8A9C-4A8D-9599-3D8DF83D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B2EA4D-5738-44E9-9991-39C5C843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3B016-07F4-4B66-8418-A6A26B31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156FA-0CC3-4884-BCDB-E5463BA0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14317-9580-4DDF-969C-34C4D3F5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6489E-16B5-48CD-A3EC-A5B007D4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1D785-8ABB-40FD-AD4B-557C85F5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9CD-700B-408F-8DA3-274999D9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3AD8A-FF1A-4683-B339-BB1346BE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86545-637A-457E-AC1B-8E699E71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F91AE-5029-4D95-8063-3A111FC9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5E969-56F7-48DE-9C68-5D3229C3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1D3A7-DDDD-495A-93D2-6A0AEDC9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FED7E-7CD5-4B1F-95AB-608A6FA7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55C05-8A8B-42C0-AC58-37B65890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2C48-1260-402B-B9F4-26325E84293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71AD-D803-4431-8459-DEBE611129BE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2AEF-B939-4920-9268-7C8541FB5EC7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D093-3916-4EF5-802C-7407588CEDB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481D-0CE8-42CE-88F1-0974D2A26D7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4780-2226-454B-92E2-F4AF96FFA63A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3FD7-C521-4941-A019-622501B582FF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C700-E882-4276-A979-340A4926502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REGULATION OF GFR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Dr. Eman El Et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chanism of autoreg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Tw Cen MT"/>
              </a:rPr>
              <a:t>Tubuloglomerular feedback mechanis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     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ABP          delivery of NaCl to the macula densa cells, which are capable of sensing this change , this will cause two effect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	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1- a decrease in resistance of the 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</a:rPr>
              <a:t>afferent 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arterioles (i.e. 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</a:rPr>
              <a:t>vasodilatation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)           glomerular hydrostatic pressure to normal leve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	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2- An increase in renin release from JG cells    Ang II        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</a:rPr>
              <a:t>constrict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</a:rPr>
              <a:t>efferent 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arteriole       glomerular hydrostatic pressure &amp; GFR to normal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86" name="Straight Arrow Connector 4"/>
          <p:cNvCxnSpPr/>
          <p:nvPr/>
        </p:nvCxnSpPr>
        <p:spPr>
          <a:xfrm>
            <a:off x="1258560" y="2133720"/>
            <a:ext cx="1080" cy="358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7" name="Straight Arrow Connector 6"/>
          <p:cNvCxnSpPr/>
          <p:nvPr/>
        </p:nvCxnSpPr>
        <p:spPr>
          <a:xfrm>
            <a:off x="2195640" y="2420640"/>
            <a:ext cx="5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Straight Arrow Connector 8"/>
          <p:cNvCxnSpPr/>
          <p:nvPr/>
        </p:nvCxnSpPr>
        <p:spPr>
          <a:xfrm>
            <a:off x="2916000" y="2205000"/>
            <a:ext cx="1080" cy="288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Straight Arrow Connector 10"/>
          <p:cNvCxnSpPr/>
          <p:nvPr/>
        </p:nvCxnSpPr>
        <p:spPr>
          <a:xfrm>
            <a:off x="5651280" y="4292280"/>
            <a:ext cx="6498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Straight Arrow Connector 12"/>
          <p:cNvCxnSpPr/>
          <p:nvPr/>
        </p:nvCxnSpPr>
        <p:spPr>
          <a:xfrm flipV="1">
            <a:off x="6516360" y="4149360"/>
            <a:ext cx="1080" cy="288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Straight Arrow Connector 14"/>
          <p:cNvCxnSpPr/>
          <p:nvPr/>
        </p:nvCxnSpPr>
        <p:spPr>
          <a:xfrm>
            <a:off x="7885080" y="5300280"/>
            <a:ext cx="288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Straight Arrow Connector 16"/>
          <p:cNvCxnSpPr/>
          <p:nvPr/>
        </p:nvCxnSpPr>
        <p:spPr>
          <a:xfrm>
            <a:off x="2050560" y="573228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Straight Arrow Connector 18"/>
          <p:cNvCxnSpPr/>
          <p:nvPr/>
        </p:nvCxnSpPr>
        <p:spPr>
          <a:xfrm>
            <a:off x="6732720" y="5732280"/>
            <a:ext cx="288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4" name="Straight Arrow Connector 20"/>
          <p:cNvCxnSpPr/>
          <p:nvPr/>
        </p:nvCxnSpPr>
        <p:spPr>
          <a:xfrm flipV="1">
            <a:off x="7164000" y="5589000"/>
            <a:ext cx="1080" cy="216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Mechanism of autoregulation, cont…….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900" spc="-1" strike="noStrike">
                <a:solidFill>
                  <a:srgbClr val="c00000"/>
                </a:solidFill>
                <a:latin typeface="Tw Cen MT"/>
              </a:rPr>
              <a:t>Myogenic mechanis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It is the intrinsic capability of blood vessels to constrict when blood pressure is increased. The constriction prevents excess increase in renal blood flow and GFR when blood pressure rise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When blood pressure decreases the myogenic mechanism reduces vascular resistance and the vessel dilat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w Cen MT"/>
              </a:rPr>
              <a:t>Example of autoreg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98" name="Group 5"/>
          <p:cNvGrpSpPr/>
          <p:nvPr/>
        </p:nvGrpSpPr>
        <p:grpSpPr>
          <a:xfrm>
            <a:off x="533520" y="1219320"/>
            <a:ext cx="8129520" cy="5562360"/>
            <a:chOff x="533520" y="1219320"/>
            <a:chExt cx="8129520" cy="5562360"/>
          </a:xfrm>
        </p:grpSpPr>
        <p:pic>
          <p:nvPicPr>
            <p:cNvPr id="399" name="Picture 3" descr="H:\$$SaladinPowerPoints\Images\Ch-23labeled\0810L.JPG"/>
            <p:cNvPicPr/>
            <p:nvPr/>
          </p:nvPicPr>
          <p:blipFill>
            <a:blip r:embed="rId1"/>
            <a:srcRect l="0" t="10022" r="0" b="0"/>
            <a:stretch/>
          </p:blipFill>
          <p:spPr>
            <a:xfrm>
              <a:off x="533520" y="1295280"/>
              <a:ext cx="81295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Rectangle 4"/>
            <p:cNvSpPr/>
            <p:nvPr/>
          </p:nvSpPr>
          <p:spPr>
            <a:xfrm>
              <a:off x="1295280" y="1219320"/>
              <a:ext cx="3812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Hormonal Control of GF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402" name="Group 5"/>
          <p:cNvGrpSpPr/>
          <p:nvPr/>
        </p:nvGrpSpPr>
        <p:grpSpPr>
          <a:xfrm>
            <a:off x="506520" y="1371600"/>
            <a:ext cx="8129520" cy="5410080"/>
            <a:chOff x="506520" y="1371600"/>
            <a:chExt cx="8129520" cy="5410080"/>
          </a:xfrm>
        </p:grpSpPr>
        <p:pic>
          <p:nvPicPr>
            <p:cNvPr id="403" name="Picture 3" descr="H:\$$SaladinPowerPoints\Images\Ch-23labeled\0811L.JPG"/>
            <p:cNvPicPr/>
            <p:nvPr/>
          </p:nvPicPr>
          <p:blipFill>
            <a:blip r:embed="rId1"/>
            <a:srcRect l="0" t="11274" r="0" b="0"/>
            <a:stretch/>
          </p:blipFill>
          <p:spPr>
            <a:xfrm>
              <a:off x="506520" y="1371600"/>
              <a:ext cx="812952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4"/>
            <p:cNvSpPr/>
            <p:nvPr/>
          </p:nvSpPr>
          <p:spPr>
            <a:xfrm>
              <a:off x="4165200" y="5881680"/>
              <a:ext cx="236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-efferent arterio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Effects of Angiotensin II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6" name="Picture 3" descr="H:\$$SaladinPowerPoints\Images\Ch-23labeled\0812L.JPG"/>
          <p:cNvPicPr/>
          <p:nvPr/>
        </p:nvPicPr>
        <p:blipFill>
          <a:blip r:embed="rId1"/>
          <a:srcRect l="25308" t="13772" r="0" b="0"/>
          <a:stretch/>
        </p:blipFill>
        <p:spPr>
          <a:xfrm>
            <a:off x="1828800" y="1295280"/>
            <a:ext cx="6072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w Cen MT"/>
              </a:rPr>
              <a:t>Sympathetic Control of GFR (Extrinsic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en the sympathetic nervous system is at rest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nal blood vessels are maximally dila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utoregulation mechanisms prevai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nder stres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orepinephrine is released by the sympathetic nervous syst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pinephrine is released by the adrenal medull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w Cen MT"/>
              </a:rPr>
              <a:t>Afferent arterioles </a:t>
            </a: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constrict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d filtration is inhibi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ote: during fight or flight blood is shunted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away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rom kidneys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sympathetic nervous system also stimulates the r</a:t>
            </a: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enin-angiotensin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chanism. This induces vasoconstriction of </a:t>
            </a:r>
            <a:r>
              <a:rPr b="0" lang="en-US" sz="2400" spc="-1" strike="noStrike">
                <a:solidFill>
                  <a:srgbClr val="0000cc"/>
                </a:solidFill>
                <a:latin typeface="Tw Cen MT"/>
              </a:rPr>
              <a:t>efferent arterio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lomerular Filtration Rate (GFR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fined as: The volume of filtrate produced by both kidneys per m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verages 125 ml/mi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otals about 180L/day (45 gallon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o most filtered water must be reabsorbed or death would ensue from water lost through urin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GFR is directly proportional to the NFP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n  increase in NFP          GF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 decrease in NFP           GF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Changes in GFR normally result from changes in 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glomerular blood pressure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136440" y="4191120"/>
            <a:ext cx="87789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Straight Arrow Connector 6"/>
          <p:cNvCxnSpPr/>
          <p:nvPr/>
        </p:nvCxnSpPr>
        <p:spPr>
          <a:xfrm>
            <a:off x="3276360" y="4508280"/>
            <a:ext cx="648360" cy="10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63" name="Straight Arrow Connector 8"/>
          <p:cNvCxnSpPr/>
          <p:nvPr/>
        </p:nvCxnSpPr>
        <p:spPr>
          <a:xfrm>
            <a:off x="3131640" y="4868640"/>
            <a:ext cx="793080" cy="10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64" name="Straight Arrow Connector 10"/>
          <p:cNvCxnSpPr/>
          <p:nvPr/>
        </p:nvCxnSpPr>
        <p:spPr>
          <a:xfrm flipV="1">
            <a:off x="3995280" y="4365000"/>
            <a:ext cx="1080" cy="21636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65" name="Straight Arrow Connector 12"/>
          <p:cNvCxnSpPr/>
          <p:nvPr/>
        </p:nvCxnSpPr>
        <p:spPr>
          <a:xfrm>
            <a:off x="3995280" y="4724280"/>
            <a:ext cx="1080" cy="21816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66" name="TextBox 1"/>
          <p:cNvSpPr/>
          <p:nvPr/>
        </p:nvSpPr>
        <p:spPr>
          <a:xfrm>
            <a:off x="684360" y="613260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P = net filtration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228600" y="1294920"/>
            <a:ext cx="844704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Tw Cen MT"/>
              </a:rPr>
              <a:t>Why is it important to have the GFR regulated?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Regulation of GFR</a:t>
            </a:r>
            <a:br>
              <a:rPr sz="40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Glomerular Filtration Rat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w Cen MT"/>
              </a:rPr>
              <a:t>If the GFR is too high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uid flows through tubules too rapidly to be absorb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rine output ri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reates threat of dehydration and electrolyte deple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w Cen MT"/>
              </a:rPr>
              <a:t>If the GFR is too low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uid flows sluggishly through tubul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ubules reabsorb wastes that should be elimina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zotemia develops (high levels of nitrogen-containing substances in the blood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Regulation of GF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FR controlled by adjusting glomerular blood pressure through the following mechanism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Autoregul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Sympathetic contro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Hormonal mechanism: renin and angiotens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w Cen MT"/>
              </a:rPr>
              <a:t>Autoregulation (intrinsic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t is the relative constancy of GFR and renal blood flow in response to changes in blood pressure range from 75 to 160 mmHg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at means in a normal kidneys, a decrease in arterial blood pressure as low as 75 mmHg, or an increase as high as 160 mmHg causes a change in GFR by only a few percentag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owever, autoregulation is not perfect but it prevents potentially great changes in GFR , with changes in blood pressure, therefore, kidney continue to excrete wast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Renal Autoregulation of GF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5" name="Picture 3" descr="H:\$$SaladinPowerPoints\Images\CH_23\0809L.JPG"/>
          <p:cNvPicPr/>
          <p:nvPr/>
        </p:nvPicPr>
        <p:blipFill>
          <a:blip r:embed="rId1"/>
          <a:srcRect l="28452" t="16270" r="26561" b="8746"/>
          <a:stretch/>
        </p:blipFill>
        <p:spPr>
          <a:xfrm>
            <a:off x="0" y="152388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81280" y="1773360"/>
            <a:ext cx="5562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P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constrict afferent arteriole, &amp; dilate efferen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P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dilate afferent arteriole, &amp; constrict effer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able for BP range of 75 to 160 mmHg (systolic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nnot compensate for extreme BP chang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w Cen MT"/>
              </a:rPr>
              <a:t>How autoregulation takes place?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Juxtaglomerular Apparatu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0" name="Picture 3" descr="0809L"/>
          <p:cNvPicPr/>
          <p:nvPr/>
        </p:nvPicPr>
        <p:blipFill>
          <a:blip r:embed="rId1"/>
          <a:srcRect l="0" t="12526" r="0" b="0"/>
          <a:stretch/>
        </p:blipFill>
        <p:spPr>
          <a:xfrm>
            <a:off x="457200" y="990720"/>
            <a:ext cx="8129520" cy="533376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4"/>
          <p:cNvGrpSpPr/>
          <p:nvPr/>
        </p:nvGrpSpPr>
        <p:grpSpPr>
          <a:xfrm>
            <a:off x="6457320" y="4129200"/>
            <a:ext cx="2238480" cy="2501640"/>
            <a:chOff x="6457320" y="4129200"/>
            <a:chExt cx="2238480" cy="2501640"/>
          </a:xfrm>
        </p:grpSpPr>
        <p:sp>
          <p:nvSpPr>
            <p:cNvPr id="382" name="Text Box 5"/>
            <p:cNvSpPr/>
            <p:nvPr/>
          </p:nvSpPr>
          <p:spPr>
            <a:xfrm>
              <a:off x="6457320" y="4129200"/>
              <a:ext cx="223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w Cen MT"/>
                </a:rPr>
                <a:t>-</a:t>
              </a:r>
              <a:r>
                <a:rPr b="0" lang="en-US" sz="2400" spc="-1" strike="noStrike">
                  <a:solidFill>
                    <a:srgbClr val="0000ff"/>
                  </a:solidFill>
                  <a:latin typeface="Tw Cen MT"/>
                </a:rPr>
                <a:t>secrete Ren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6"/>
            <p:cNvSpPr/>
            <p:nvPr/>
          </p:nvSpPr>
          <p:spPr>
            <a:xfrm>
              <a:off x="6471360" y="6110280"/>
              <a:ext cx="22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w Cen MT"/>
                </a:rPr>
                <a:t>- </a:t>
              </a:r>
              <a:r>
                <a:rPr b="1" lang="en-US" sz="1800" spc="-1" strike="noStrike">
                  <a:solidFill>
                    <a:srgbClr val="0000ff"/>
                  </a:solidFill>
                  <a:latin typeface="Tw Cen MT"/>
                </a:rPr>
                <a:t>monitor salin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02:55:36Z</dcterms:created>
  <dc:creator>user</dc:creator>
  <dc:description/>
  <dc:language>en-US</dc:language>
  <cp:lastModifiedBy>Manan</cp:lastModifiedBy>
  <dcterms:modified xsi:type="dcterms:W3CDTF">2015-04-15T09:00:34Z</dcterms:modified>
  <cp:revision>7</cp:revision>
  <dc:subject/>
  <dc:title>Regulation of GFR</dc:title>
</cp:coreProperties>
</file>