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EF19-68B4-44BA-A1BB-42EF75DD6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3F83-5B56-4B85-B398-84D4F1BED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9F2-B004-4AF2-8AE2-8DF67D3B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E18E-813C-40E3-BE20-E2870020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3BD-7F2D-433B-A84C-745D3497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4F1-7467-4DE2-967B-53F3877D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0459-432D-4192-AC13-CA1514D2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DA8A-E6A1-4763-9A77-EA7CE5A0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6A64-29F8-4853-82C5-982275BA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6CFC-1C03-49AF-81A2-58DAF8F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09E0-FAF5-4EE7-BA56-4228C52F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A4BF-1898-42BF-9B54-36369EF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06DF-9D9C-460E-AA77-E5D785E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AF1-9AE8-456A-B0C9-AE222338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84AF-9B6D-4FA3-8A18-AC01BC19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ECB9-D217-4AEC-9A99-59E2309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A8F6-D287-4DF8-9A73-51F3D888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7955-3FEF-4DC3-9348-3D2D542D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7CC3-4A09-4124-876A-2B90D269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1057C-53E0-49EF-A6F7-CD647AB0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535167-E2CC-4A1C-92E7-6A9F0647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C8EF2-D9F5-44B4-98BA-249FBE16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F70ED8-1500-4B0C-9168-AF1DA062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AACD2-9DF8-4FD1-A227-2239E6F0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754-2A5D-4A1B-9F1D-90809236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1CA3D-8668-4E8D-9EAE-84A013E9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17722-CA57-438B-B6E6-7D831ABB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A7B52-3F5B-49FC-8D60-B2636D30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D74E3-C39A-418D-8D0F-0009FC50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5E378-636D-46E1-A54E-09795E87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D9775-6BFE-4DC0-A0D8-88618EA2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712D3-23B2-4E0A-9034-07F945DD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22EDC-E189-48BE-A989-365483D9C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2D55F9-8F70-4BB3-A6D6-7C07DE5D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84A6B-B6A9-4ADE-B2EC-71CF3B84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877C-ABDE-4BDB-85A7-460AEEC6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BA089-01F9-47E0-8EF3-AFABCC45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9501A9-4741-4704-B22D-CE35EFB7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E5142-EB6C-42A7-AB2A-41E96E4B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0A884C-F0B6-42DF-89B3-5A087C25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28A25-CF7F-4782-A777-B4114F8C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D25D51-F1D6-4440-9CE5-C2CBFC85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32C021-FA79-4C81-AE69-073E5A31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012E5-9831-45F5-9E7A-36C38831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77A76-4A7D-470C-BA28-5593797A3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E3546-1A52-4D27-B2E3-0D0894C0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6B3-873B-4414-9BD5-58C67F9B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C01C6-DB11-4A95-97D9-35365891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51F8B-013C-4895-9077-3D96459C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678577-8D10-48B7-B5B5-862F3807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6CE867-67B3-476A-8BC2-929EB258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49232-6CCF-4A5A-9392-7A5B2D91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9E739B-3EB8-45BF-84C6-9C056FDA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0A794-67AF-4BCC-B43E-4E1E7240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95738-A84F-45D3-8E33-8DB96C0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51836-4A76-49BA-BF4E-7C6A8176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B135B6-5673-4485-84D3-BE69F032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D2B-4755-4E26-BC5F-663E3CBA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0B6F34-7EEA-4C56-AFA1-81D4E571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8F962-B3F5-4473-8AD9-9380FC146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0A34C-1259-4A25-8C14-62B32C11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281DA-A841-49D7-95EE-9C090F9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6C484-09A0-4A24-A548-4878D2AA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D8222-9361-434E-917C-87E3760B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9770D-5BE1-4F05-ADCA-F153488B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A9FD2-C9C8-4301-AE4E-F84FEA31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A28F-212D-45D7-8B8F-E45C61F0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D17E3-55F6-4423-ABE8-A8B9B75C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1123-8825-42DE-AE35-B0BE5DB4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089D5-5BD4-4AC4-88BF-0CF31247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4DD1C-A03B-4EAA-9414-CDF585EB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A9039-585D-4207-BAF5-DAAB330A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A9D8F-6AC8-43C1-AC6D-6B4BE2F5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C74E0-0B02-4CAA-9E20-BD998702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BAD6E-CBB6-4762-A0F0-78237997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BEFF4C-005F-46A0-9BA6-69EA522E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2102F9-C49E-444C-9D61-27BB736F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AA58A5-6699-4E27-A2AF-2A8A11E6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2E19F-8233-46BD-9109-4C773089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AEB-8491-4DB5-A84E-FF9D010E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499C8-EB2D-4CB3-B683-CB111A97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8E05BD-F0F0-4D12-8B4E-D43C9E71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55952-A653-4A3E-A152-B2CCF9CB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D7181-51AA-46DA-88E2-F92DB69C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B7CD04-7A9D-4141-A204-9B4A726B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800CB-0F80-488C-96C6-C496BC20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49FBE-AC88-4CBA-8F37-827A89C7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87B20-DEF4-4FF9-99E6-D9D171E9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570BB-9580-43CF-8434-29B1D170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CC054-19A7-4F8E-A83A-88C047C8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A8A-B47A-45DA-B64D-6B8DEAA7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FE74A-AAB5-4B52-85CC-69527B94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E716E-8ACE-49EF-8898-CAE14E50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AF686-A2A3-4662-A663-18A73686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0B828-E35A-4BE3-9EA1-49A9E410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E029-87E2-42FA-BE95-2F4BCD33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389DF-26F8-4334-8CD5-D0911686B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DAA2D-6DBB-440A-BECA-8E5175AC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E95C-E77B-4732-A40E-3E00A52843D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F70B-69D2-4F0E-829B-BD9141F35725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3437-6A10-44EB-8FDD-B26B7309B49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C58D-5F1F-490F-8156-FF0D24BA8D9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8D87-B55A-4541-B4A6-8B042B044E3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5B6B-CD8F-4990-B9C3-D0EB12FBFBD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67E5-9421-416E-8AD5-4DCAB471E07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A3A4-1409-4F17-A3BD-9D69D7D556C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GULATION OF GFR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chanism of autoreg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Tubuloglomerular feedback mechanis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    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BP          delivery of NaCl to the macula densa cells, which are capable of sensing this change , this will cause two effect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1- a decrease in resistance of the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afferent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rterioles (i.e.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vasodilatation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)           glomerular hydrostatic pressure to normal level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2- An increase in renin release from JG cells    Ang II       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constrict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ff0000"/>
                </a:solidFill>
                <a:latin typeface="Tw Cen MT"/>
              </a:rPr>
              <a:t>efferent </a:t>
            </a:r>
            <a:r>
              <a:rPr b="1" lang="en-US" sz="2900" spc="-1" strike="noStrike">
                <a:solidFill>
                  <a:srgbClr val="0000ff"/>
                </a:solidFill>
                <a:latin typeface="Tw Cen MT"/>
              </a:rPr>
              <a:t>arteriole       glomerular hydrostatic pressure &amp; GFR to normal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cxnSp>
        <p:nvCxnSpPr>
          <p:cNvPr id="386" name="Straight Arrow Connector 4"/>
          <p:cNvCxnSpPr/>
          <p:nvPr/>
        </p:nvCxnSpPr>
        <p:spPr>
          <a:xfrm>
            <a:off x="1258560" y="2133720"/>
            <a:ext cx="1080" cy="35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Straight Arrow Connector 6"/>
          <p:cNvCxnSpPr/>
          <p:nvPr/>
        </p:nvCxnSpPr>
        <p:spPr>
          <a:xfrm>
            <a:off x="2195640" y="2420640"/>
            <a:ext cx="505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Straight Arrow Connector 8"/>
          <p:cNvCxnSpPr/>
          <p:nvPr/>
        </p:nvCxnSpPr>
        <p:spPr>
          <a:xfrm>
            <a:off x="2916000" y="220500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Straight Arrow Connector 10"/>
          <p:cNvCxnSpPr/>
          <p:nvPr/>
        </p:nvCxnSpPr>
        <p:spPr>
          <a:xfrm>
            <a:off x="5651280" y="4292280"/>
            <a:ext cx="649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Straight Arrow Connector 12"/>
          <p:cNvCxnSpPr/>
          <p:nvPr/>
        </p:nvCxnSpPr>
        <p:spPr>
          <a:xfrm flipV="1">
            <a:off x="6516360" y="4149360"/>
            <a:ext cx="1080" cy="288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Straight Arrow Connector 14"/>
          <p:cNvCxnSpPr/>
          <p:nvPr/>
        </p:nvCxnSpPr>
        <p:spPr>
          <a:xfrm>
            <a:off x="7885080" y="5300280"/>
            <a:ext cx="28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Straight Arrow Connector 16"/>
          <p:cNvCxnSpPr/>
          <p:nvPr/>
        </p:nvCxnSpPr>
        <p:spPr>
          <a:xfrm>
            <a:off x="2050560" y="5732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Straight Arrow Connector 18"/>
          <p:cNvCxnSpPr/>
          <p:nvPr/>
        </p:nvCxnSpPr>
        <p:spPr>
          <a:xfrm>
            <a:off x="6732720" y="5732280"/>
            <a:ext cx="288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4" name="Straight Arrow Connector 20"/>
          <p:cNvCxnSpPr/>
          <p:nvPr/>
        </p:nvCxnSpPr>
        <p:spPr>
          <a:xfrm flipV="1">
            <a:off x="7164000" y="5589000"/>
            <a:ext cx="1080" cy="216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echanism of autoregulation, cont……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Myogenic mechanism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It is the intrinsic capability of blood vessels to constrict when blood pressure is increased. The constriction prevents excess increase in renal blood flow and GFR when blood pressure ris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ff"/>
                </a:solidFill>
                <a:latin typeface="Tw Cen MT"/>
              </a:rPr>
              <a:t>When blood pressure decreases the myogenic mechanism reduces vascular resistance and the vessel dilat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w Cen MT"/>
              </a:rPr>
              <a:t>Example of autoregul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533520" y="1219320"/>
            <a:ext cx="8129520" cy="5562360"/>
            <a:chOff x="533520" y="1219320"/>
            <a:chExt cx="8129520" cy="5562360"/>
          </a:xfrm>
        </p:grpSpPr>
        <p:pic>
          <p:nvPicPr>
            <p:cNvPr id="399" name="Picture 3" descr="H:\$$SaladinPowerPoints\Images\Ch-23labeled\0810L.JPG"/>
            <p:cNvPicPr/>
            <p:nvPr/>
          </p:nvPicPr>
          <p:blipFill>
            <a:blip r:embed="rId1"/>
            <a:srcRect l="0" t="10022" r="0" b="0"/>
            <a:stretch/>
          </p:blipFill>
          <p:spPr>
            <a:xfrm>
              <a:off x="533520" y="1295280"/>
              <a:ext cx="81295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Rectangle 4"/>
            <p:cNvSpPr/>
            <p:nvPr/>
          </p:nvSpPr>
          <p:spPr>
            <a:xfrm>
              <a:off x="1295280" y="1219320"/>
              <a:ext cx="38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Hormonal Control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402" name="Group 5"/>
          <p:cNvGrpSpPr/>
          <p:nvPr/>
        </p:nvGrpSpPr>
        <p:grpSpPr>
          <a:xfrm>
            <a:off x="506520" y="1371600"/>
            <a:ext cx="8129520" cy="5410080"/>
            <a:chOff x="506520" y="1371600"/>
            <a:chExt cx="8129520" cy="5410080"/>
          </a:xfrm>
        </p:grpSpPr>
        <p:pic>
          <p:nvPicPr>
            <p:cNvPr id="403" name="Picture 3" descr="H:\$$SaladinPowerPoints\Images\Ch-23labeled\0811L.JPG"/>
            <p:cNvPicPr/>
            <p:nvPr/>
          </p:nvPicPr>
          <p:blipFill>
            <a:blip r:embed="rId1"/>
            <a:srcRect l="0" t="11274" r="0" b="0"/>
            <a:stretch/>
          </p:blipFill>
          <p:spPr>
            <a:xfrm>
              <a:off x="506520" y="1371600"/>
              <a:ext cx="812952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4"/>
            <p:cNvSpPr/>
            <p:nvPr/>
          </p:nvSpPr>
          <p:spPr>
            <a:xfrm>
              <a:off x="4165200" y="5881680"/>
              <a:ext cx="236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w Cen MT"/>
                </a:rPr>
                <a:t>-efferent arterio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Effects of Angiotensin II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3" descr="H:\$$SaladinPowerPoints\Images\Ch-23labeled\0812L.JPG"/>
          <p:cNvPicPr/>
          <p:nvPr/>
        </p:nvPicPr>
        <p:blipFill>
          <a:blip r:embed="rId1"/>
          <a:srcRect l="25308" t="13772" r="0" b="0"/>
          <a:stretch/>
        </p:blipFill>
        <p:spPr>
          <a:xfrm>
            <a:off x="1828800" y="1295280"/>
            <a:ext cx="6072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w Cen MT"/>
              </a:rPr>
              <a:t>Sympathetic Control of GFR (Extrinsic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the sympathetic nervous system is at rest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nal blood vessels are maximally dil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utoregulation mechanisms prevai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nder stress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repinephrine is released by the sympathetic nervous syste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pinephrine is released by the adrenal medulla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w Cen MT"/>
              </a:rPr>
              <a:t>Afferent arterioles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constric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filtration is inhibi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ote: during fight or flight blood is shunted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way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rom kidneys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sympathetic nervous system also stimulates the r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enin-angiotensin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chanism. This induces vasoconstriction of </a:t>
            </a:r>
            <a:r>
              <a:rPr b="0" lang="en-US" sz="2400" spc="-1" strike="noStrike">
                <a:solidFill>
                  <a:srgbClr val="0000cc"/>
                </a:solidFill>
                <a:latin typeface="Tw Cen MT"/>
              </a:rPr>
              <a:t>efferent arterio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omerular Filtration Rate (GFR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ed as: The volume of filtrate produced by both kidneys per 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verages 125 ml/mi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otals about 180L/day (45 gallons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o most filtered water must be reabsorbed or death would ensue from water lost through urina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FR is directly proportional to the NFP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n  increase in NFP          GF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A decrease in NFP           GFR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Changes in GFR normally result from changes in  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glomerular blood pressure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136440" y="4191120"/>
            <a:ext cx="87789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6"/>
          <p:cNvCxnSpPr/>
          <p:nvPr/>
        </p:nvCxnSpPr>
        <p:spPr>
          <a:xfrm>
            <a:off x="3276360" y="4508280"/>
            <a:ext cx="64836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3" name="Straight Arrow Connector 8"/>
          <p:cNvCxnSpPr/>
          <p:nvPr/>
        </p:nvCxnSpPr>
        <p:spPr>
          <a:xfrm>
            <a:off x="3131640" y="4868640"/>
            <a:ext cx="793080" cy="108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4" name="Straight Arrow Connector 10"/>
          <p:cNvCxnSpPr/>
          <p:nvPr/>
        </p:nvCxnSpPr>
        <p:spPr>
          <a:xfrm flipV="1">
            <a:off x="3995280" y="4365000"/>
            <a:ext cx="1080" cy="2163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65" name="Straight Arrow Connector 12"/>
          <p:cNvCxnSpPr/>
          <p:nvPr/>
        </p:nvCxnSpPr>
        <p:spPr>
          <a:xfrm>
            <a:off x="3995280" y="4724280"/>
            <a:ext cx="1080" cy="218160"/>
          </a:xfrm>
          <a:prstGeom prst="straightConnector1">
            <a:avLst/>
          </a:prstGeom>
          <a:ln w="1008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66" name="TextBox 1"/>
          <p:cNvSpPr/>
          <p:nvPr/>
        </p:nvSpPr>
        <p:spPr>
          <a:xfrm>
            <a:off x="684360" y="613260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P = net filtration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28600" y="1294920"/>
            <a:ext cx="844704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w Cen MT"/>
              </a:rPr>
              <a:t>Why is it important to have the GFR regulated?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Regulation of GFR</a:t>
            </a:r>
            <a:br>
              <a:rPr sz="4000"/>
            </a:b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Glomerular Filtration Rate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w Cen MT"/>
              </a:rPr>
              <a:t>If the GFR is too high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uid flows through tubules too rapidly to be absorb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rine output ri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reates threat of dehydration and electrolyte deple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w Cen MT"/>
              </a:rPr>
              <a:t>If the GFR is too lo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uid flows sluggishly through tubul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ubules reabsorb wastes that should be eliminat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zotemia develops (high levels of nitrogen-containing substances in the blood)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Regulation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controlled by adjusting glomerular blood pressure through the following mechanis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utoregul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Sympathetic contro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Hormonal mechanism: renin and angiotens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w Cen MT"/>
              </a:rPr>
              <a:t>Autoregulation (intrinsic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t is the relative constancy of GFR and renal blood flow in response to changes in blood pressure range from 75 to 160 mmHg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at means in a normal kidneys, a decrease in arterial blood pressure as low as 75 mmHg, or an increase as high as 160 mmHg causes a change in GFR by only a few percentag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owever, autoregulation is not perfect but it prevents potentially great changes in GFR , with changes in blood pressure, therefore, kidney continue to excrete was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Renal Autoregulation of GF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Picture 3" descr="H:\$$SaladinPowerPoints\Images\CH_23\0809L.JPG"/>
          <p:cNvPicPr/>
          <p:nvPr/>
        </p:nvPicPr>
        <p:blipFill>
          <a:blip r:embed="rId1"/>
          <a:srcRect l="28452" t="16270" r="26561" b="8746"/>
          <a:stretch/>
        </p:blipFill>
        <p:spPr>
          <a:xfrm>
            <a:off x="0" y="152388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81280" y="1773360"/>
            <a:ext cx="5562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P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constrict afferent arteriole, &amp; dilate effer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P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dilate afferent arteriole, &amp; constrict effer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able for BP range of 75 to 160 mmHg (systolic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nnot compensate for extreme BP chang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w Cen MT"/>
              </a:rPr>
              <a:t>How autoregulation takes place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Juxtaglomerular Apparatu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3" descr="0809L"/>
          <p:cNvPicPr/>
          <p:nvPr/>
        </p:nvPicPr>
        <p:blipFill>
          <a:blip r:embed="rId1"/>
          <a:srcRect l="0" t="12526" r="0" b="0"/>
          <a:stretch/>
        </p:blipFill>
        <p:spPr>
          <a:xfrm>
            <a:off x="457200" y="990720"/>
            <a:ext cx="8129520" cy="5333760"/>
          </a:xfrm>
          <a:prstGeom prst="rect">
            <a:avLst/>
          </a:prstGeom>
          <a:ln w="0">
            <a:noFill/>
          </a:ln>
        </p:spPr>
      </p:pic>
      <p:grpSp>
        <p:nvGrpSpPr>
          <p:cNvPr id="381" name="Group 4"/>
          <p:cNvGrpSpPr/>
          <p:nvPr/>
        </p:nvGrpSpPr>
        <p:grpSpPr>
          <a:xfrm>
            <a:off x="6457320" y="4129200"/>
            <a:ext cx="2238480" cy="2501640"/>
            <a:chOff x="6457320" y="4129200"/>
            <a:chExt cx="2238480" cy="2501640"/>
          </a:xfrm>
        </p:grpSpPr>
        <p:sp>
          <p:nvSpPr>
            <p:cNvPr id="382" name="Text Box 5"/>
            <p:cNvSpPr/>
            <p:nvPr/>
          </p:nvSpPr>
          <p:spPr>
            <a:xfrm>
              <a:off x="6457320" y="4129200"/>
              <a:ext cx="223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-</a:t>
              </a:r>
              <a:r>
                <a:rPr b="0" lang="en-US" sz="2400" spc="-1" strike="noStrike">
                  <a:solidFill>
                    <a:srgbClr val="0000ff"/>
                  </a:solidFill>
                  <a:latin typeface="Tw Cen MT"/>
                </a:rPr>
                <a:t>secrete Ren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6471360" y="6110280"/>
              <a:ext cx="222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w Cen MT"/>
                </a:rPr>
                <a:t>- </a:t>
              </a:r>
              <a:r>
                <a:rPr b="1" lang="en-US" sz="1800" spc="-1" strike="noStrike">
                  <a:solidFill>
                    <a:srgbClr val="0000ff"/>
                  </a:solidFill>
                  <a:latin typeface="Tw Cen MT"/>
                </a:rPr>
                <a:t>monitor sali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2:55:36Z</dcterms:created>
  <dc:creator>user</dc:creator>
  <dc:description/>
  <dc:language>en-US</dc:language>
  <cp:lastModifiedBy>Manan</cp:lastModifiedBy>
  <dcterms:modified xsi:type="dcterms:W3CDTF">2015-04-15T09:00:34Z</dcterms:modified>
  <cp:revision>7</cp:revision>
  <dc:subject/>
  <dc:title>Regulation of GFR</dc:title>
</cp:coreProperties>
</file>