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00319-AD3F-4349-894D-F201C6E56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8B7E3-B42B-4632-8856-581DA0E65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0FB28-E3F1-490C-AE95-986C69EB0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E92D1-876B-446D-B86E-44961524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F1E64-C6F6-4961-AFC9-9B0109C53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3DD44-D894-44B7-92D7-A3A327069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8F5B3-8BFF-4EC8-A45F-5EEB6417E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CBC50-5C70-4A77-99BC-BB256FBAA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5F2F0-3F68-4BA7-B43B-99D30D9AF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C75BC-651F-4812-8987-24BAA795B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B8A6C-22AF-415F-BA3B-93F32D791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626E-858A-41D9-A0DC-0D918942F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9E73B-A6C9-4FEE-A206-4884EFAF8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C867F-3B2C-42D2-8D78-891E7C3C8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FCBDE-1B30-43C6-AFCC-8C43F0BF4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0ADB6-5629-4B65-AC76-E1C234F38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AF18D-6527-4BB8-8AF0-09EAB8B2B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A92B9-62AC-4C72-ABA4-382089D7C5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D98DE-B815-422C-AE89-18A469C79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2162A-BF77-41DB-83A5-F95A1EBB8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EB7EA-8DAD-408F-9139-CF6E7EB9B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845AA-2AC9-4392-93FD-31DA82DB7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550C-E190-493D-865E-E488B85CE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9841E-9EA0-44DA-9289-7042E1E10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0E7E5-5FA4-4A1B-A157-D0749B4FB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AB38A-C3EC-4C51-8EE9-9C2594E00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02127-065A-4EC5-83A2-4A5970CBA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C942A-5489-4EAA-A5CC-2F02D5282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4457F5-725C-4032-ABF0-E95790C004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463DB-4D6D-48EF-AA41-40859E3877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568611-59E7-4EB1-B52C-FFF81F9A2C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66C8C-69B6-41E7-87A5-1D4AD87F2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B4E94-64F3-4049-B021-132C32F12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3A49-C305-4F49-A32B-CCB2D9F8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4926ED-4BE7-4291-9798-2C6BA46A4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0FFDB-210E-4B52-8C26-7EB824FBA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8FF06-BD67-43FA-9CC4-13DC65360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1C95E-1EFA-4C52-A89E-53BE417FD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818E8-9EBC-4D13-AEA7-CD0EA7E77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DB0CC-572F-48CE-888C-B03D755F8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980CC-0C15-4305-B8B3-8BAC32C46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DC304A-444C-41B0-ACB1-229560B628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420EC-B9E6-4173-8935-923EA3173E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9541D-39F8-4531-B689-DE9D415C29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57A6-E7A2-4C6E-B5F0-46FF4E97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386C2-C44D-443C-B64E-879C1B2F7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26ECE-CE46-4613-9612-B009518E0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B9FCB-ED43-4787-B96A-FA00C745E5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DB2D1-7B2F-4CCF-9A09-2712ECC23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0EA3E-BF96-4B81-AFCD-0E2D9693F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3926C-D995-4A84-B950-62E56AA6E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85341-1440-4C3C-8D1E-77477E160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83956-4D35-49EA-82ED-3EF639701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C8C038-AB18-47B1-9F1C-87F4D0043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089C2B-C56B-4631-8337-67969A61F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39DE8-B06F-4A82-8182-63299229C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6C9870-3618-451C-B685-7696ECA8E3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2C5339-C943-4AC9-8CFA-CEE3BB7FD2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3AA3E-2CD4-4215-A50E-222D71358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FB9075-C3FA-4B8E-A9D7-B0C1629C2F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C31D87-916F-49B7-A2A7-EB15BBE97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32BD5-61B7-474C-8D20-C717D6492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564A3-9B94-4463-9AD1-FD8B025D4A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5CE84-FE73-446C-B532-6B92913F6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02C2E-25E9-4379-A213-6E2E7F0A4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61EEA-E35D-4CC3-A96A-5FDA1B420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D2AB-7EE8-4F6E-B9AA-F7332D66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E5983-F8D3-4A0E-8F82-D46520F35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F57CCC-DA66-4077-AC6F-5F158AEAA3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343423-6A6F-4D32-A318-4EF71CFD0D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740CA5-4EA2-4519-91E6-1C528A9309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5EAB2-0CBB-4F5C-8D39-542124D1D5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92B4F-6ECE-4C96-8CDF-72BE9201A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79A88-668E-4079-A80B-A067560471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7E408-E119-4BBD-A10A-CBCA97697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38BDD-7D8C-49FA-A1D2-536F096D5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C8445-EED0-4870-A480-E28FC3955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2F16-625C-4B01-B4A2-AC766F6B3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8C364-5351-4697-9994-018D09BB9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8EEE7-BC67-4238-B602-A97087BED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03995A-D1D7-4EC0-92DD-3B39576AD8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A627ED-39B8-46D2-859D-CBBDB050A6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75C1F4-FD5F-4F37-8A49-2C190CD8B4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0F9E-0562-4D73-8B98-12B273AD9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9EA8-8003-4357-9C14-F6E3A5974AF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0F38-8270-4C4E-8180-A8500B45C2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AB38-C700-4F98-8C67-B7A625BD06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8702-90A4-42D9-94AD-81914AD0106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B753-F1FA-4D36-8DD3-D5C774F2D12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5189-7E74-4112-BB17-48651E3C72C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0784-17F1-48DD-B9F7-47DB1365B57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r. Eman El Et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imulus</a:t>
            </a:r>
            <a:r>
              <a:rPr b="0" lang="en-US" sz="1600" spc="-1" strike="noStrike">
                <a:solidFill>
                  <a:srgbClr val="000000"/>
                </a:solidFill>
                <a:latin typeface="Arial"/>
                <a:ea typeface="Arial"/>
              </a:rPr>
              <a:t>: distension of bladder stimulates stretch receptors in bladder wall.</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fferent</a:t>
            </a:r>
            <a:r>
              <a:rPr b="0" lang="en-US" sz="1600" spc="-1" strike="noStrike">
                <a:solidFill>
                  <a:srgbClr val="000000"/>
                </a:solidFill>
                <a:latin typeface="Arial"/>
                <a:ea typeface="Arial"/>
              </a:rPr>
              <a:t>: fibers in the pelvic nerves</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enter:</a:t>
            </a:r>
            <a:r>
              <a:rPr b="0" lang="en-US" sz="1600" spc="-1" strike="noStrike">
                <a:solidFill>
                  <a:srgbClr val="000000"/>
                </a:solidFill>
                <a:latin typeface="Arial"/>
                <a:ea typeface="Arial"/>
              </a:rPr>
              <a:t> sacral segments S2,S3,S4</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fferent:</a:t>
            </a:r>
            <a:r>
              <a:rPr b="0" lang="en-US" sz="1600" spc="-1" strike="noStrike">
                <a:solidFill>
                  <a:srgbClr val="000000"/>
                </a:solidFill>
                <a:latin typeface="Arial"/>
                <a:ea typeface="Arial"/>
              </a:rPr>
              <a:t> Parasympathetic fibers to the bladder.</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ponse:</a:t>
            </a:r>
            <a:r>
              <a:rPr b="0" lang="en-US" sz="1600" spc="-1" strike="noStrike">
                <a:solidFill>
                  <a:srgbClr val="000000"/>
                </a:solidFill>
                <a:latin typeface="Arial"/>
                <a:ea typeface="Arial"/>
              </a:rPr>
              <a:t> relaxation of the sphincters and contraction of bladder wall.</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adults the volume of urine that initiates a reflex contraction is about 300-400 ml.</a:t>
            </a:r>
            <a:endParaRPr b="0" lang="en-US" sz="1600" spc="-1" strike="noStrike">
              <a:solidFill>
                <a:srgbClr val="000000"/>
              </a:solidFill>
              <a:latin typeface="Corbel"/>
            </a:endParaRPr>
          </a:p>
          <a:p>
            <a:pPr marL="438120" indent="-318960">
              <a:lnSpc>
                <a:spcPct val="100000"/>
              </a:lnSpc>
              <a:spcBef>
                <a:spcPts val="100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igher control</a:t>
            </a:r>
            <a:r>
              <a:rPr b="0" lang="en-US" sz="1600" spc="-1" strike="noStrike">
                <a:solidFill>
                  <a:srgbClr val="000000"/>
                </a:solidFill>
                <a:latin typeface="Arial"/>
                <a:ea typeface="Arial"/>
              </a:rPr>
              <a:t>: A facilitatory area in the pontine region and inhibitory area in the midbrain. Efferent impulses from the brain suppress the reflex (a learned reflex) until a decision is made to relax the external sphinctor using voluntary nerves. </a:t>
            </a:r>
            <a:endParaRPr b="0" lang="en-US" sz="1600" spc="-1" strike="noStrike">
              <a:solidFill>
                <a:srgbClr val="000000"/>
              </a:solidFill>
              <a:latin typeface="Corbel"/>
            </a:endParaRPr>
          </a:p>
          <a:p>
            <a:pPr marL="438120" indent="-318960">
              <a:lnSpc>
                <a:spcPct val="100000"/>
              </a:lnSpc>
              <a:spcBef>
                <a:spcPts val="100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iding begins with relaxation of the external sphinctor, then the internal sphinctor.</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luntary contraction of abdominal muscles helps the expulsion of urine by increasing intra-abdominal pressure, but voiding can be initiated with straining.</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https://classconnection.s3.amazonaws.com/754/flashcards/2034754/png/urinary261351003280835.png"/>
          <p:cNvPicPr/>
          <p:nvPr/>
        </p:nvPicPr>
        <p:blipFill>
          <a:blip r:embed="rId1"/>
          <a:stretch/>
        </p:blipFill>
        <p:spPr>
          <a:xfrm>
            <a:off x="2484360" y="0"/>
            <a:ext cx="496116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BladderInnervation"/>
          <p:cNvPicPr/>
          <p:nvPr/>
        </p:nvPicPr>
        <p:blipFill>
          <a:blip r:embed="rId1"/>
          <a:stretch/>
        </p:blipFill>
        <p:spPr>
          <a:xfrm>
            <a:off x="0" y="0"/>
            <a:ext cx="9144000" cy="6161040"/>
          </a:xfrm>
          <a:prstGeom prst="rect">
            <a:avLst/>
          </a:prstGeom>
          <a:ln w="0">
            <a:noFill/>
          </a:ln>
        </p:spPr>
      </p:pic>
      <p:sp>
        <p:nvSpPr>
          <p:cNvPr id="327" name="Line 5"/>
          <p:cNvSpPr/>
          <p:nvPr/>
        </p:nvSpPr>
        <p:spPr>
          <a:xfrm>
            <a:off x="5257800" y="5334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rbel"/>
              </a:rPr>
              <a:t>Effect of spinal cord transec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inal shock: bladder becomes flaccid and unresponsive. It becomes overfilled and urine dribbles through the sphincters (overflow incontinen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fter spinal shock phase has passed, the voiding reflex returns with no voluntary control.</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 descr=""/>
          <p:cNvPicPr/>
          <p:nvPr/>
        </p:nvPicPr>
        <p:blipFill>
          <a:blip r:embed="rId1"/>
          <a:stretch/>
        </p:blipFill>
        <p:spPr>
          <a:xfrm>
            <a:off x="457200" y="1774800"/>
            <a:ext cx="8229600" cy="4626000"/>
          </a:xfrm>
          <a:prstGeom prst="rect">
            <a:avLst/>
          </a:prstGeom>
          <a:ln w="0">
            <a:noFill/>
          </a:ln>
        </p:spPr>
      </p:pic>
      <p:pic>
        <p:nvPicPr>
          <p:cNvPr id="331" name="Picture 2" descr="http://www.rnceus.com/uro/image%20folder/anat.jpg"/>
          <p:cNvPicPr/>
          <p:nvPr/>
        </p:nvPicPr>
        <p:blipFill>
          <a:blip r:embed="rId2"/>
          <a:stretch/>
        </p:blipFill>
        <p:spPr>
          <a:xfrm>
            <a:off x="1179360" y="0"/>
            <a:ext cx="5442120" cy="686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4" descr="http://lh4.ggpht.com/_RIjx_Mg4ZVM/TGu0qOyQaQI/AAAAAAAABjU/exgEPYRRkQ0/image_thumb6.png?imgmax=800"/>
          <p:cNvPicPr/>
          <p:nvPr/>
        </p:nvPicPr>
        <p:blipFill>
          <a:blip r:embed="rId1"/>
          <a:stretch/>
        </p:blipFill>
        <p:spPr>
          <a:xfrm>
            <a:off x="250920" y="228600"/>
            <a:ext cx="8137440" cy="60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finitio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It is a complete autonomic spinal reflex to get urine outside the body, that is facilitated or inhibited by higher brain cente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285840" y="19080"/>
            <a:ext cx="8407440" cy="1395360"/>
          </a:xfrm>
          <a:prstGeom prst="rect">
            <a:avLst/>
          </a:prstGeom>
          <a:ln w="0">
            <a:noFill/>
          </a:ln>
        </p:spPr>
      </p:pic>
      <p:sp>
        <p:nvSpPr>
          <p:cNvPr id="308" name="Rectangle 3"/>
          <p:cNvSpPr/>
          <p:nvPr/>
        </p:nvSpPr>
        <p:spPr>
          <a:xfrm>
            <a:off x="395280" y="1557360"/>
            <a:ext cx="5400720" cy="691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d tubular fluid is dumped by the collecting system into the renal pelvis where it enters the ur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elvis</a:t>
            </a:r>
            <a:r>
              <a:rPr b="0" lang="en-US" sz="2400" spc="-1" strike="noStrike">
                <a:solidFill>
                  <a:srgbClr val="000000"/>
                </a:solidFill>
                <a:latin typeface="Arial"/>
              </a:rPr>
              <a:t>: Collects urine from collecting du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Ureters: </a:t>
            </a:r>
            <a:r>
              <a:rPr b="0" lang="en-US" sz="2400" spc="-1" strike="noStrike">
                <a:solidFill>
                  <a:srgbClr val="000000"/>
                </a:solidFill>
                <a:latin typeface="Arial"/>
              </a:rPr>
              <a:t>conduits that propel urine by peristaltic contractions toward the blad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Bladder:</a:t>
            </a:r>
            <a:r>
              <a:rPr b="0" lang="en-US" sz="2400" spc="-1" strike="noStrike">
                <a:solidFill>
                  <a:srgbClr val="000000"/>
                </a:solidFill>
                <a:latin typeface="Arial"/>
              </a:rPr>
              <a:t> a muscular “bag” that holds urine and forces it by contrac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Urethra:</a:t>
            </a:r>
            <a:r>
              <a:rPr b="0" lang="en-US" sz="2400" spc="-1" strike="noStrike">
                <a:solidFill>
                  <a:srgbClr val="000000"/>
                </a:solidFill>
                <a:latin typeface="Arial"/>
              </a:rPr>
              <a:t> the conduit for urine  from the bladder to the outside</a:t>
            </a:r>
            <a:r>
              <a:rPr b="0" lang="en-US" sz="2400" spc="-1" strike="noStrike">
                <a:solidFill>
                  <a:srgbClr val="000000"/>
                </a:solidFill>
                <a:latin typeface="Tw Cen MT"/>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9" name="Picture 5" descr="http://www.investinlibya.org/wp-content/uploads/2014/09/Genito-urinary-system.jpg"/>
          <p:cNvPicPr/>
          <p:nvPr/>
        </p:nvPicPr>
        <p:blipFill>
          <a:blip r:embed="rId2"/>
          <a:stretch/>
        </p:blipFill>
        <p:spPr>
          <a:xfrm>
            <a:off x="5651640" y="2343240"/>
            <a:ext cx="3492360" cy="34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78000" y="152280"/>
            <a:ext cx="8315280" cy="1262160"/>
          </a:xfrm>
          <a:prstGeom prst="rect">
            <a:avLst/>
          </a:prstGeom>
          <a:ln w="0">
            <a:noFill/>
          </a:ln>
        </p:spPr>
      </p:pic>
      <p:sp>
        <p:nvSpPr>
          <p:cNvPr id="311" name=""/>
          <p:cNvSpPr txBox="1"/>
          <p:nvPr/>
        </p:nvSpPr>
        <p:spPr>
          <a:xfrm>
            <a:off x="250920" y="1628280"/>
            <a:ext cx="5473440" cy="4496040"/>
          </a:xfrm>
          <a:prstGeom prst="rect">
            <a:avLst/>
          </a:prstGeom>
          <a:noFill/>
          <a:ln w="0">
            <a:noFill/>
          </a:ln>
        </p:spPr>
        <p:txBody>
          <a:bodyPr lIns="54720" rIns="90000" tIns="91440" bIns="46800" anchor="t">
            <a:normAutofit/>
          </a:bodyPr>
          <a:p>
            <a:pPr marL="438120" indent="-318960">
              <a:lnSpc>
                <a:spcPct val="100000"/>
              </a:lnSpc>
              <a:spcBef>
                <a:spcPts val="1375"/>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t>
            </a:r>
            <a:r>
              <a:rPr b="1" lang="en-US" sz="2200" spc="-1" strike="noStrike">
                <a:solidFill>
                  <a:srgbClr val="000000"/>
                </a:solidFill>
                <a:latin typeface="Arial"/>
              </a:rPr>
              <a:t>renal pelvis </a:t>
            </a:r>
            <a:r>
              <a:rPr b="0" lang="en-US" sz="2200" spc="-1" strike="noStrike">
                <a:solidFill>
                  <a:srgbClr val="000000"/>
                </a:solidFill>
                <a:latin typeface="Arial"/>
              </a:rPr>
              <a:t>there are “electrical pacemaker” cells that initiate peristaltic waves in the  smooth muscle sheaths of the ureteral wall. (The pelvis to ureter is a functional syncitium).</a:t>
            </a:r>
            <a:endParaRPr b="0" lang="en-US" sz="2200" spc="-1" strike="noStrike">
              <a:solidFill>
                <a:srgbClr val="000000"/>
              </a:solidFill>
              <a:latin typeface="Corbel"/>
            </a:endParaRPr>
          </a:p>
          <a:p>
            <a:pPr marL="438120" indent="-318960">
              <a:lnSpc>
                <a:spcPct val="100000"/>
              </a:lnSpc>
              <a:spcBef>
                <a:spcPts val="1375"/>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cemaker cells seem to be stimulated by the stretch of urine filling the pelvis. </a:t>
            </a:r>
            <a:endParaRPr b="0" lang="en-US" sz="2200" spc="-1" strike="noStrike">
              <a:solidFill>
                <a:srgbClr val="000000"/>
              </a:solidFill>
              <a:latin typeface="Corbel"/>
            </a:endParaRPr>
          </a:p>
          <a:p>
            <a:pPr marL="438120" indent="-318960">
              <a:lnSpc>
                <a:spcPct val="100000"/>
              </a:lnSpc>
              <a:spcBef>
                <a:spcPts val="1375"/>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of the peristaltic wave is about 2-6 cm/sec., traveling from its origin at the pelvis down to the bladder</a:t>
            </a:r>
            <a:endParaRPr b="0" lang="en-US" sz="2200" spc="-1" strike="noStrike">
              <a:solidFill>
                <a:srgbClr val="000000"/>
              </a:solidFill>
              <a:latin typeface="Corbel"/>
            </a:endParaRPr>
          </a:p>
        </p:txBody>
      </p:sp>
      <p:pic>
        <p:nvPicPr>
          <p:cNvPr id="312" name="Picture 6" descr="http://aups.org.au/Proceedings/40/121-128/Figure_1.jpg"/>
          <p:cNvPicPr/>
          <p:nvPr/>
        </p:nvPicPr>
        <p:blipFill>
          <a:blip r:embed="rId2"/>
          <a:stretch/>
        </p:blipFill>
        <p:spPr>
          <a:xfrm>
            <a:off x="5362560" y="1557360"/>
            <a:ext cx="3781440" cy="411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317520" y="152280"/>
            <a:ext cx="8375760" cy="126216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istaltic waves propel the urine along the </a:t>
            </a:r>
            <a:r>
              <a:rPr b="1" lang="en-US" sz="2200" spc="-1" strike="noStrike">
                <a:solidFill>
                  <a:srgbClr val="000000"/>
                </a:solidFill>
                <a:latin typeface="Arial"/>
              </a:rPr>
              <a:t>ureter, </a:t>
            </a:r>
            <a:r>
              <a:rPr b="0" lang="en-US" sz="2200" spc="-1" strike="noStrike">
                <a:solidFill>
                  <a:srgbClr val="000000"/>
                </a:solidFill>
                <a:latin typeface="Arial"/>
              </a:rPr>
              <a:t>generating a pressure head of which changes from a baseline of 2-5 cm H2O up to 20-80 cm H2O. </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peristalsis is independent of nerve input, the action of symapthetic nerves innervating the ureter may modify the rate or force of peristalsis.</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ruption of the flow of urine by an obstruction (such as a kidney stone) stops flow, increases pressure which can back up through the ureter into the pelvis, and increase the nephron and subcapsular hydrostatic pressure. This may result in the condition hydronephrosis.</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utonomic pain fibers in the ureter which account for the acute pain when a kidney stone is formed.</a:t>
            </a:r>
            <a:endParaRPr b="0" lang="en-US" sz="2200" spc="-1" strike="noStrike">
              <a:solidFill>
                <a:srgbClr val="000000"/>
              </a:solidFill>
              <a:latin typeface="Corbel"/>
            </a:endParaRPr>
          </a:p>
          <a:p>
            <a:pPr marL="31896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371520" y="55440"/>
            <a:ext cx="8400960" cy="803520"/>
          </a:xfrm>
          <a:prstGeom prst="rect">
            <a:avLst/>
          </a:prstGeom>
          <a:ln w="0">
            <a:noFill/>
          </a:ln>
        </p:spPr>
      </p:pic>
      <p:pic>
        <p:nvPicPr>
          <p:cNvPr id="316" name="Picture 2" descr="http://physrev.physiology.org/content/84/3/935/F1.large.jpg"/>
          <p:cNvPicPr/>
          <p:nvPr/>
        </p:nvPicPr>
        <p:blipFill>
          <a:blip r:embed="rId2"/>
          <a:stretch/>
        </p:blipFill>
        <p:spPr>
          <a:xfrm>
            <a:off x="468360" y="981000"/>
            <a:ext cx="7859520" cy="569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dder tone is derived from the volume and pressure exerted on the inside of the bladder </a:t>
            </a:r>
            <a:r>
              <a:rPr b="0" lang="en-US" sz="2200" spc="-1" strike="noStrike">
                <a:solidFill>
                  <a:srgbClr val="c00000"/>
                </a:solidFill>
                <a:latin typeface="Arial"/>
              </a:rPr>
              <a:t>(interavesical pressure</a:t>
            </a:r>
            <a:r>
              <a:rPr b="0" lang="en-US" sz="2200" spc="-1" strike="noStrike">
                <a:solidFill>
                  <a:srgbClr val="000000"/>
                </a:solidFill>
                <a:latin typeface="Arial"/>
              </a:rPr>
              <a:t>). </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 bladder volume by 50 ml increases pressure. As volume increases further, the interavesical pressure increases, but not much until you get above 300 ml. then the pressure rises steeply with additional volume. </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ncrease in volume and pressure increases bladder “tone” triggering the mictiurition reflex.</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rigone area is very sensitive to expansion and once stretched to a certain degree, the urinary bladder signals the brain of its need to empty. The signals become stronger as the bladder continues to fill.</a:t>
            </a:r>
            <a:endParaRPr b="0" lang="en-US" sz="2200" spc="-1" strike="noStrike">
              <a:solidFill>
                <a:srgbClr val="000000"/>
              </a:solidFill>
              <a:latin typeface="Corbel"/>
            </a:endParaRPr>
          </a:p>
          <a:p>
            <a:pPr marL="31896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32_014mod"/>
          <p:cNvPicPr/>
          <p:nvPr/>
        </p:nvPicPr>
        <p:blipFill>
          <a:blip r:embed="rId1"/>
          <a:stretch/>
        </p:blipFill>
        <p:spPr>
          <a:xfrm>
            <a:off x="971640" y="593640"/>
            <a:ext cx="7588080" cy="5975280"/>
          </a:xfrm>
          <a:prstGeom prst="rect">
            <a:avLst/>
          </a:prstGeom>
          <a:ln w="0">
            <a:noFill/>
          </a:ln>
        </p:spPr>
      </p:pic>
      <p:sp>
        <p:nvSpPr>
          <p:cNvPr id="320" name="TextBox 2"/>
          <p:cNvSpPr/>
          <p:nvPr/>
        </p:nvSpPr>
        <p:spPr>
          <a:xfrm>
            <a:off x="179280" y="260280"/>
            <a:ext cx="187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Urinary bladder distension reaches the conscious level at urine volume of 150-200 ml</a:t>
            </a:r>
            <a:endParaRPr b="0" lang="en-US" sz="1800" spc="-1" strike="noStrike">
              <a:solidFill>
                <a:srgbClr val="000000"/>
              </a:solidFill>
              <a:latin typeface="Arial"/>
            </a:endParaRPr>
          </a:p>
        </p:txBody>
      </p:sp>
      <p:sp>
        <p:nvSpPr>
          <p:cNvPr id="321" name="TextBox 3"/>
          <p:cNvSpPr/>
          <p:nvPr/>
        </p:nvSpPr>
        <p:spPr>
          <a:xfrm>
            <a:off x="2843280" y="1890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w Cen MT"/>
              </a:rPr>
              <a:t>Cystomet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4"/>
          <p:cNvSpPr/>
          <p:nvPr/>
        </p:nvSpPr>
        <p:spPr>
          <a:xfrm>
            <a:off x="304920" y="533520"/>
            <a:ext cx="8610480" cy="501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he detrussor muscle of the bladder wall contracts in waves (see red lines in previous figure) to expel the uri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ion of the detrussor muscle is the mechanism responsible for the micturition proce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 contraction of the abdominal muscles further contracts the bladder, increasing the void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ladder is empty, we are back down to the “no tone” phase and the sphincters can close agai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micturition, the perineal muscles and external urethral sphincter are relaxed, the detruser muscle contract and urine passes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urination, the female urethra empties by gra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ale urine remaining in the urethra is expelled by several contractions of bulbocavernous mus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9T03:23:28Z</dcterms:created>
  <dc:creator>user</dc:creator>
  <dc:description/>
  <dc:language>en-US</dc:language>
  <cp:lastModifiedBy>user</cp:lastModifiedBy>
  <dcterms:modified xsi:type="dcterms:W3CDTF">2015-04-29T18:37:05Z</dcterms:modified>
  <cp:revision>9</cp:revision>
  <dc:subject/>
  <dc:title>Physiology of Micturition</dc:title>
</cp:coreProperties>
</file>