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6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689-69F9-497D-A3E0-D5A27E639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A0F-1217-42A6-94BB-1F31EE427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F40-7975-4E98-AF99-81A2B3F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8FB-5320-4E09-9986-4D19ABC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9E0C3-759A-441C-9867-C313629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6D512-5B7D-498C-B938-CB863B0F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49B8-3D44-499B-8DED-6654AC2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833DA-AF33-4061-985B-02D800A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67387-662D-4798-8518-9CBB5AC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71307-5B12-48E6-A37A-08857DE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8DE82-01A8-4774-BED8-4E0DBF7F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BB089-3970-4D3E-8858-13A5FB5A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3370-E84B-4C46-BED5-AD260852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179299-5627-45E8-A6FE-90E1FFC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1F3-BD0F-43E5-855B-A334B263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E3A195-6B2F-4B60-BC5D-2F89F7B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260BB-E5C5-4D70-B038-F5F4E2E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A1F158-4815-4CA7-B31F-716EE53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0DE314-7611-4FDE-BFF5-97F630A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90607-F92A-431C-AE50-34123A4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D6A68-A72E-42CE-A4E9-581AADB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BB316-0411-4384-880B-61ED6BC5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E9420-CF6F-4985-847B-AED7CA4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99B8D1-CDDA-4C68-B0DB-1DDCF1D3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1AE343-105B-42A3-83D0-E599FCE7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F5D-851E-4F0C-A887-74CF9FBF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5CE76D-7E07-47FB-9E4B-A0B3D6A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5EF43-ED70-4837-92B7-E1F1FD3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A33D3-F4EC-4D67-8E2F-7A04E53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59A10-936F-4ABA-86D3-BB64C0E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01541-08F5-46B8-A321-EA67B4C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8980D-C867-4B77-9CF7-849C44B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07D8-9D57-4D37-8E27-852D8D5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E6F2B-3756-45F5-9F01-FFDE186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499BA-4786-4910-9F1C-7CA8A941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9D61F-38C4-4C6D-A644-C05716D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2FE-CC7F-45DB-B8D2-736561B5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CF2D1-F6DD-4E9F-8B1B-FD87CE7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FBD5-1243-49FE-A040-1CEF0F76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DA029-FF5E-473B-ABCD-18A59512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8F030-43D2-409D-B192-A00A92B5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EC1D-97DF-44B5-93EE-3FE0EEB1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A4D50-07ED-424B-B509-425430F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6297E-5327-42A0-A48F-20F69FC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14F35-A2BD-4574-9DA3-B42859B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67929-0978-4C31-9D3F-6311964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035CC-283F-4AB0-B36D-5499EC8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134-7C02-4E99-AE02-1462FAB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5A345-DAB1-417F-9A18-917EB74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CA354-5135-43D9-9673-A5AEA757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809B3-D599-43EF-AEAE-1E91250A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5AC53-DEE1-4DCA-9BE9-E1118000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0B518-4ACF-41D9-870E-6990590E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4A4B6-DF3B-485E-AD77-A925437C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A36F4-7250-4097-B093-C43926E2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CDBFB-0213-4D1B-866D-13DDA91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85618-8419-4370-B29D-BA1FB8D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9B92C-1C07-48EB-8BF5-C1D11AB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1CDB-0546-4FB9-B272-ABC978E3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781D0-E1AE-4FF1-8D73-B0FBBE53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23115-A874-43AB-B56C-844C5EE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864DC-8362-4BC9-BB30-B6D9276E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CF0DB-0785-4057-AF13-0C4AA452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7A0CC-5E41-4277-9CA8-6EF82B9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C14AC-34A0-4FB8-B4BE-CB64CCEC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AD02E-4A55-49AC-9B36-3444DE47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78411-2D85-41AD-A850-B3D6451D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BAA69-45FE-4558-98CE-2E34CAAC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FD326-39DD-46CF-81B6-9E9AA08F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825-4A53-4523-9087-6978D02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01086-2790-436B-B1F3-8F2AC8C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C5D26-9D44-4B00-B997-5ADCBE57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099E3-D7AA-448C-B34D-25DEAF90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44DD0-A1CC-4E75-BA83-B98BA27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C98B9-2053-47DE-BD44-D51EF64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CAC36-6613-43C8-8674-B28369E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6430E-D735-4397-9143-52A4ED9F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7D6E9-512D-4E97-B1FE-E9791A80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A1C24-1CB0-40F6-BAE3-8D983041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E6A-00A9-4C26-98B0-E95651E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193-32D2-468D-8335-89F7D9A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1FA-63CE-4F0A-B4E5-AD555C4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35C-A9E0-47C5-A8DF-439122C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CF7F-EE01-4390-9280-5D4E439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5B4-35DD-4231-AFF3-B60975B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6310-0FFB-4995-90EA-42B61346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42F-5286-48EA-A0BE-1F5BAC92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DE9-2EF1-47BB-A207-DE4BB466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5563-4462-44A3-91A0-D3419825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CD0F-7F7B-4240-8E1E-2CF824CC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68F6-467A-44B1-B914-B9192D0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2A30-4FC5-4738-8AA1-DCE8608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AFFF-6EC7-45C1-8AF9-7C493F2F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3E0-C35D-407A-84F0-9F6A5E6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5E5A-C359-4E12-99F7-EA1D46A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D683-DDC9-423F-9246-5C0BCC3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BF3E-26BD-4D4B-B936-1123FD3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68DC-840D-44E9-8B06-F481538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960F-59DA-4D9B-A97A-AEBDBB11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6320-0A1D-439B-9938-6E53D640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665C-E2F7-44DF-8F07-6AF846C3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4C135-B83B-4BDB-93AB-09D0D64C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DBFF7-B847-4E8D-B73D-4F8FFFB6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885C8-CE1E-4F66-8EB3-63CD5F0C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FAA-123E-42CB-B322-A45218F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08B0D-7323-476A-9D3E-52C50D1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E89AC-E7DA-478E-B49B-5F30AE92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0EF99-10A9-4383-BDC4-3847A262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9F5E0-7615-4C09-9016-21926F8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91161-6C81-4420-8FB6-FF75C04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59FD2-4DBB-486D-AC1B-6B870A8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6C523-3699-43AD-8A1A-E9B6D4C7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E4DA1-37EC-406A-B62D-A3143A7C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ED2EE-E9BB-4B04-9CAC-C89955CA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91CA9-2CAA-4B87-9771-18375465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56D-88D5-4968-9AF9-CFFD7DD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09EDA-00C5-4B33-8F2A-E513A01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C7A95-5B56-4DDF-AF79-84247EAA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810C7-F2B1-4154-9DD5-8B77ABA3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F8BB3-CD07-4BB4-90B9-841FB3B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7F453-C56C-419A-B096-B25CA61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6F547-2BD6-4CE8-8F76-8596DF0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FBFD6-6C61-43A9-9B19-E5E1A6E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C41A4-52F9-4896-B28E-E41D245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29398-3DE5-441A-909A-DEADC1E5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84A88-31DD-4E33-86E4-91F22D17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F51-CB34-45CE-8878-5D09FCCF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9470E-BAEC-4283-A6A2-495A118D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F65E9-61A9-485F-B6A2-9D36ABF2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0EC7A-0C27-4D3D-82CB-5B16FB5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C3E98-E77A-4932-93AA-11171C3E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EB9DB-CC1A-4C27-AADD-B3DD4D4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AC48-92E0-4EBD-9739-EC3F593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14030-8A3E-422F-AB05-98353DE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52065-2B74-48F3-93C4-1AC8DCFF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939EE-EDD1-41D4-B39F-9711E34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EA031-8032-41ED-8C07-A0099E7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D78-71E5-4ABD-AFEC-E01AA92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63826-2C70-4D8A-81BC-CDE400B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23C66-6A20-495A-8BCC-5158FE0F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2E11F-53CA-4B63-91AE-32347081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9161-5374-485F-82E7-D5FB02BA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DDB4-FDF2-4604-9BD0-0716839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D27A6-6C58-4316-93A6-1B10709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48FC-8ACE-4227-AC7F-443EFCA0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A8DE-D8D0-412E-A896-EB2F97D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98A24-472F-4A53-A9BE-030F4F4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B9D9-4A70-4AEE-9C97-5127D60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116-1E43-43FE-A180-AD30189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719A-5444-495F-880F-EDF56D1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8190-DC7F-483A-B880-6E89FC2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01B1A-80BB-46BC-B837-90D6F35E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4B5FD-BF2F-4C88-8475-F7A9D9E2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E708-EE1C-4D60-B11D-ED63C619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E57D-13A1-4912-891B-D4FBAC3D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AFB2-AEAC-4933-B0DE-10C3BB4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6503-A27A-48D9-9127-ADE253E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B344-C6C9-4EDF-9EF0-A4DC28C8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6494B-D240-444E-A7CE-74C4A42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F09-9AAF-4D32-91DA-A50B8E9B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35C2-591B-44B3-B5BF-57B978F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808A-81D2-40D5-A596-607C5F8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EE3B-AD5A-4152-810C-FE59CC0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36065-CD3B-4B6A-85C2-1EEF263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7960-84D0-4170-9CB9-3F2A929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BBA9-4948-42B8-9400-66F10734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56BCC-C6B0-427F-A3D5-7512DB41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F21E-4644-4190-B6B8-41DE88A9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A4E73-B607-4505-990A-33FA3003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69CE5-EE90-458F-BA23-6EFEE1B2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314F-F45F-489F-8E31-DBB1908B58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1EE-ED62-4A7D-8DC7-05E745B4753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5D8-6BEB-4BF9-877C-2C5408644DA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747-CB51-4ABD-90E9-EADD25D4AF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F27-4A37-4383-9486-D99700B3A2A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EDBD-0BF8-4EC7-A1E8-A855C63F8ED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E910-4144-4FC6-BC0B-10EEEBDDFE5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AC3-3179-431A-990B-D11053F3A23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F151-6A89-4A53-9BE7-8A87A18516B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8F9B-DBB0-451E-8612-73BF65CD031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8355-DEC3-4B5D-8B4D-757D4D74500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902-F535-49AE-8494-504D24254DA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6DE-D488-4A31-B79F-445FAD36919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936-9D51-475E-891C-6F0DA654548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UBULAR REABSORPTION &amp; SECRE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12760" y="685800"/>
            <a:ext cx="751536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condary active transport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79280" y="1628640"/>
            <a:ext cx="3151440" cy="501336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-K-2Cl trans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thick ascending limb of Hen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p” diuretics as furosemide, inhibits the action of the sodium 2-chloride, potassium cotranspor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9" name="Picture 2" descr="http://www.nature.com/bonekey/knowledgeenvironment/2009/0910/bonekey20090400/images_article/bonekey20090400-f2.jpg"/>
          <p:cNvPicPr/>
          <p:nvPr/>
        </p:nvPicPr>
        <p:blipFill>
          <a:blip r:embed="rId1"/>
          <a:stretch/>
        </p:blipFill>
        <p:spPr>
          <a:xfrm>
            <a:off x="3394080" y="1763640"/>
            <a:ext cx="5699160" cy="395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12760" y="554040"/>
            <a:ext cx="75153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mple diff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51" name="Picture 2" descr="https://classconnection.s3.amazonaws.com/754/flashcards/2034754/png/urinary101350828438034.png"/>
          <p:cNvPicPr/>
          <p:nvPr/>
        </p:nvPicPr>
        <p:blipFill>
          <a:blip r:embed="rId1"/>
          <a:stretch/>
        </p:blipFill>
        <p:spPr>
          <a:xfrm>
            <a:off x="6334200" y="1965240"/>
            <a:ext cx="2809800" cy="21589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4"/>
          <p:cNvSpPr/>
          <p:nvPr/>
        </p:nvSpPr>
        <p:spPr>
          <a:xfrm>
            <a:off x="179280" y="2503440"/>
            <a:ext cx="272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bsorption of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hlor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olutes by Passive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ions such as chloride are trans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g with sodium because of electrical potent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http://resources.med.fsu.edu/gsm/hp/program/section7/7ch06/7ch06img/7c06p09.jpg"/>
          <p:cNvPicPr/>
          <p:nvPr/>
        </p:nvPicPr>
        <p:blipFill>
          <a:blip r:embed="rId2"/>
          <a:stretch/>
        </p:blipFill>
        <p:spPr>
          <a:xfrm>
            <a:off x="2868480" y="1606680"/>
            <a:ext cx="3240360" cy="5251320"/>
          </a:xfrm>
          <a:prstGeom prst="rect">
            <a:avLst/>
          </a:prstGeom>
          <a:ln w="0">
            <a:noFill/>
          </a:ln>
        </p:spPr>
      </p:pic>
      <p:sp>
        <p:nvSpPr>
          <p:cNvPr id="654" name="TextBox 7"/>
          <p:cNvSpPr/>
          <p:nvPr/>
        </p:nvSpPr>
        <p:spPr>
          <a:xfrm>
            <a:off x="6551640" y="4403880"/>
            <a:ext cx="230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modulary 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t, passive urea reabsorption is facilitated by specific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 trans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12760" y="299880"/>
            <a:ext cx="75153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sm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557360"/>
            <a:ext cx="8304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port of solutes out of the tubules by either primary or secondary active transport, makes their concentration inside the cells to decrease  while increase in the renal interstitium. This creates a concentration difference that causes osmosis of water in the same direction that the solutes are transported, from the tubular lumen to the renal interstit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ter reabsorption is mainly coupled to sod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meability differs through  the nephr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ute: Paracellular via tight junc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ect of ADH (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Distal &amp; collecting tubu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port through P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riteria of PC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metabolic cells, rich in mitochond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porter proteins &amp; chann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de surface area of brush border, basolateral membra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tubular reabsorption through PC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23640" y="1628640"/>
            <a:ext cx="8134200" cy="4896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ut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borption 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the proximal tubul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s isosmotic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water follows solute somatically and tubular fluid osmolality remains similar to that of plasma= equal amount of solute and water are reabsorbe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65%-70% of </a:t>
            </a:r>
            <a:r>
              <a:rPr b="0" lang="en-US" sz="2400" spc="-1" strike="noStrike">
                <a:solidFill>
                  <a:srgbClr val="3333cc"/>
                </a:solidFill>
                <a:latin typeface="Tw Cen MT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w Cen MT"/>
              </a:rPr>
              <a:t>sodiu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reabsorption occurs in the proximal tubu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0% of bicarbonate, calcium, K+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00% of glucose &amp; amino acid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ecretion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organic acids and bases such as bile salts, oxalate, urate, and catecholamines, certain drugs, such as penicillin and salicylates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ximal tubules: coarse adjustm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tal tubules: fine adjustment (hormonal control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absorption through P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62" name="Picture 2" descr="http://biobook.nerinxhs.org/bb/systems/excretion/1000px-Reabsorption.svg.png"/>
          <p:cNvPicPr/>
          <p:nvPr/>
        </p:nvPicPr>
        <p:blipFill>
          <a:blip r:embed="rId1"/>
          <a:stretch/>
        </p:blipFill>
        <p:spPr>
          <a:xfrm>
            <a:off x="3132000" y="1484280"/>
            <a:ext cx="3816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Loop of Hen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ponsible for producing a concentrated urine by forming a concentration gradient within the medulla of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ADH is present, water is reabsorbed and urine is concentra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unter-current multipli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E83B-3D63-4DF2-BDF3-27A530B9DAD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692280"/>
            <a:ext cx="81532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Tw Cen MT"/>
              </a:rPr>
              <a:t>Absorption through loop of Henl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De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water permeable and allow absorption of 25% of filtered H2O. It is impermeable to Na-CL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Thin a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impermeable to H2O, but permeable to Na-Cl, where they are absorbed passively in this part 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Thick a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impermeable to H2O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a-K-2Cl co-transport occur in this part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b3d17"/>
                </a:solidFill>
                <a:latin typeface="Tw Cen MT"/>
              </a:rPr>
              <a:t>By the end of ascending limb of loop, the tubular fluid becomes hypo-osmolar to plasm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http://jasn.asnjournals.org/content/13/11/2795/F1.large.jpg"/>
          <p:cNvPicPr/>
          <p:nvPr/>
        </p:nvPicPr>
        <p:blipFill>
          <a:blip r:embed="rId1"/>
          <a:stretch/>
        </p:blipFill>
        <p:spPr>
          <a:xfrm>
            <a:off x="879480" y="1413000"/>
            <a:ext cx="678816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815328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Na+-2Cl-K+ co transport:</a:t>
            </a:r>
            <a:br>
              <a:rPr sz="3200"/>
            </a:b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hick ascending limb of Henle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0" name="Picture 2" descr="http://img.medscape.com/fullsize/migrated/editorial/journalcme/2008/8587/naderi.fig1.gif"/>
          <p:cNvPicPr/>
          <p:nvPr/>
        </p:nvPicPr>
        <p:blipFill>
          <a:blip r:embed="rId1"/>
          <a:stretch/>
        </p:blipFill>
        <p:spPr>
          <a:xfrm>
            <a:off x="1073160" y="1484280"/>
            <a:ext cx="676764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7c36"/>
                </a:solidFill>
                <a:latin typeface="Tw Cen MT"/>
              </a:rPr>
              <a:t>Juxtamedullary nephrons vs Cortical nephron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4" name="Picture 2" descr="http://static.memrise.com/uploads/mems/354428000120311182915.gif"/>
          <p:cNvPicPr/>
          <p:nvPr/>
        </p:nvPicPr>
        <p:blipFill>
          <a:blip r:embed="rId1"/>
          <a:stretch/>
        </p:blipFill>
        <p:spPr>
          <a:xfrm>
            <a:off x="928800" y="1700280"/>
            <a:ext cx="61624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Distal convoluted tubule and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hat happens here depends on hormonal control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Aldosteron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affects Na+ and K+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ADH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– facultative water reabsor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Parathyroid hormon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– increases Ca++ reabsorpti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ine adjustment of tubular filtrate takes place here according to body need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first portion of DCT forms part of JGA, that provides feedback control of GFR and RBF of the same nephr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next early portion has the same characteristics as ascending limb of Henle that is impermeable to water but absorbs solutes. So it is called the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w Cen MT"/>
              </a:rPr>
              <a:t>diluting segment &amp; the osmotic pressure of the fluid ~ 100 mOsm/L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5AEF-9067-406C-A50A-8086AF01393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5" name="Picture 2" descr="http://www.tankonyvtar.hu/en/tartalom/tamop425/0011_1A_Gerontologia_en_book/images/dia35.png"/>
          <p:cNvPicPr/>
          <p:nvPr/>
        </p:nvPicPr>
        <p:blipFill>
          <a:blip r:embed="rId1"/>
          <a:stretch/>
        </p:blipFill>
        <p:spPr>
          <a:xfrm>
            <a:off x="1476360" y="1601640"/>
            <a:ext cx="56595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Late distal tubule&amp; collecting tubul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ve similar functional characteristic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osed of two types of cell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Principal cells: absorb Na+&amp; H2O and secrete K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ntercalated cells: absorb K+ &amp; secrete H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ermeable to U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ter permeability under AD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retion of K+ and reabsorption of Na+ controlled by aldostero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ell types of the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9" name="Picture 2" descr="http://4.bp.blogspot.com/-_4FPDmo1Ec4/UBgulufSJ1I/AAAAAAAABAA/aDxwqYqschA/s1600/Nephron.jpg"/>
          <p:cNvPicPr/>
          <p:nvPr/>
        </p:nvPicPr>
        <p:blipFill>
          <a:blip r:embed="rId1"/>
          <a:stretch/>
        </p:blipFill>
        <p:spPr>
          <a:xfrm>
            <a:off x="1311120" y="1557360"/>
            <a:ext cx="708192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Medullary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bsorb &lt;10% of sodium &amp; H2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al site for processing urine and so determine final urine output of H2O &amp; solu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aracteristic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Under ADH contro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Highly permeable to u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Secretes H+ against conc gradient (role in acid-base balance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Medullary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83" name="Picture 2" descr="http://classconnection.s3.amazonaws.com/975/flashcards/1102975/png/untitled11332339560779.png"/>
          <p:cNvPicPr/>
          <p:nvPr/>
        </p:nvPicPr>
        <p:blipFill>
          <a:blip r:embed="rId1"/>
          <a:stretch/>
        </p:blipFill>
        <p:spPr>
          <a:xfrm>
            <a:off x="922320" y="1557360"/>
            <a:ext cx="7051680" cy="530064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6213600" y="4653000"/>
            <a:ext cx="67464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Nephron structure"/>
          <p:cNvPicPr/>
          <p:nvPr/>
        </p:nvPicPr>
        <p:blipFill>
          <a:blip r:embed="rId1"/>
          <a:stretch/>
        </p:blipFill>
        <p:spPr>
          <a:xfrm>
            <a:off x="1960560" y="260280"/>
            <a:ext cx="5533920" cy="6337440"/>
          </a:xfrm>
          <a:prstGeom prst="rect">
            <a:avLst/>
          </a:prstGeom>
          <a:ln w="0">
            <a:noFill/>
          </a:ln>
        </p:spPr>
      </p:pic>
      <p:sp>
        <p:nvSpPr>
          <p:cNvPr id="686" name="TextBox 4"/>
          <p:cNvSpPr/>
          <p:nvPr/>
        </p:nvSpPr>
        <p:spPr>
          <a:xfrm>
            <a:off x="7541280" y="765000"/>
            <a:ext cx="142740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a+, K+,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7524720" y="3357720"/>
            <a:ext cx="93492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Distal convoluted tubule and collecting duct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ubular secretion to get rid of substances:   K+, H+, urea, ammonia, creatinine and certain drug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ecretion of  H+ helps maintain blood p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(can also reabsorb bicarb and generate new bicarb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4025-EC4A-41F9-A709-5494B717CCE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Na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absorp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 &amp; Cl reabsorption plays a major role in body electrolyte and water metabolis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+ transport is also coupled to the movement of H+, K+, glucose, amino acid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bsorption  occurs by many mechanisms depending on the part of nephro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1- active transport mechanism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.g. Collecting tubules &amp; duc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2- Passive at the thin ascending lim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3- Co-transport: thick ascend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.e. Active all through except thin ascending limb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93" name="Picture 7" descr="14_13"/>
          <p:cNvPicPr/>
          <p:nvPr/>
        </p:nvPicPr>
        <p:blipFill>
          <a:blip r:embed="rId1"/>
          <a:stretch/>
        </p:blipFill>
        <p:spPr>
          <a:xfrm>
            <a:off x="4707000" y="1447920"/>
            <a:ext cx="315288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4" name="Picture 9" descr="14_14"/>
          <p:cNvPicPr/>
          <p:nvPr/>
        </p:nvPicPr>
        <p:blipFill>
          <a:blip r:embed="rId2"/>
          <a:stretch/>
        </p:blipFill>
        <p:spPr>
          <a:xfrm>
            <a:off x="4640400" y="4419720"/>
            <a:ext cx="340488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6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http://o.quizlet.com/W4JV-DpiyAQ2D20G0P.5Lg_m.png"/>
          <p:cNvPicPr/>
          <p:nvPr/>
        </p:nvPicPr>
        <p:blipFill>
          <a:blip r:embed="rId1"/>
          <a:stretch/>
        </p:blipFill>
        <p:spPr>
          <a:xfrm>
            <a:off x="1476360" y="404640"/>
            <a:ext cx="5481720" cy="62643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4"/>
          <p:cNvSpPr/>
          <p:nvPr/>
        </p:nvSpPr>
        <p:spPr>
          <a:xfrm>
            <a:off x="179280" y="1628640"/>
            <a:ext cx="1513080" cy="3660120"/>
          </a:xfrm>
          <a:prstGeom prst="rect">
            <a:avLst/>
          </a:prstGeom>
          <a:solidFill>
            <a:srgbClr val="d3deea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From tubular lumen into tubular cells Na+ moves b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Exch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Co-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It helps reabsorption of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6948360" y="1773360"/>
            <a:ext cx="1800360" cy="1739880"/>
          </a:xfrm>
          <a:prstGeom prst="rect">
            <a:avLst/>
          </a:prstGeom>
          <a:solidFill>
            <a:srgbClr val="94b6d2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Na+ is pumped into the interstitium by Na+-K+ AT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6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Glucose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lucose absorption also relies upon the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gradient. It is absorbed by Na-glucose co-transpor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ost reabsorbed in proximal tubu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t apical membrane, needs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/glucose cotransporter (SGL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osses basolateral membrane via glucose transporters (GLUT’s), which do not rely upon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0" name="Picture 4" descr="S23283-035-f003"/>
          <p:cNvPicPr/>
          <p:nvPr/>
        </p:nvPicPr>
        <p:blipFill>
          <a:blip r:embed="rId1"/>
          <a:stretch/>
        </p:blipFill>
        <p:spPr>
          <a:xfrm>
            <a:off x="3121200" y="1700280"/>
            <a:ext cx="5843520" cy="38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http://courses.washington.edu/conj/bess/polyuria/absorption-kidney-web.png"/>
          <p:cNvPicPr/>
          <p:nvPr/>
        </p:nvPicPr>
        <p:blipFill>
          <a:blip r:embed="rId1"/>
          <a:stretch/>
        </p:blipFill>
        <p:spPr>
          <a:xfrm>
            <a:off x="1187280" y="1630440"/>
            <a:ext cx="5842080" cy="52275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5"/>
          <p:cNvSpPr/>
          <p:nvPr/>
        </p:nvSpPr>
        <p:spPr>
          <a:xfrm>
            <a:off x="246960" y="76500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lucose transport, con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ubular transport maximum for gluco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ssentially all glucose is reabsorbed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mg = 375 mg/min in men and 300 mg/min in wom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hreshold for glucose= 180 mg/d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ndling of glucose is limited by saturation of the transport mechanism i.e. carrier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5" name="Picture 2" descr="http://o.quizlet.com/i/-2HGEk032id7RayYQy2Kxg_m.jpg"/>
          <p:cNvPicPr/>
          <p:nvPr/>
        </p:nvPicPr>
        <p:blipFill>
          <a:blip r:embed="rId1"/>
          <a:stretch/>
        </p:blipFill>
        <p:spPr>
          <a:xfrm>
            <a:off x="4211640" y="1773360"/>
            <a:ext cx="475308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ucose titration curv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deal curve occurs if Tmg in all tubules is identical and if glucose was removed from all tubules 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ctual curve is rounded (dashed line) and deviates from the ideal curve. This deviation is called splay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magnitude of the splay is inversely proportionate to the avidity with which the transport mechanism binds the substance it transport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8" name="Picture 4" descr="http://o.quizlet.com/i/-2HGEk032id7RayYQy2Kxg_m.jpg"/>
          <p:cNvPicPr/>
          <p:nvPr/>
        </p:nvPicPr>
        <p:blipFill>
          <a:blip r:embed="rId1"/>
          <a:stretch/>
        </p:blipFill>
        <p:spPr>
          <a:xfrm>
            <a:off x="4500720" y="1916280"/>
            <a:ext cx="44589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ater reabsorp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CT: 65% of filtered water reabsorb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ending loop of Henle:20-25%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cending limb= zero water reabsorb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tal tubules &amp; collecting tubules: under ADH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2" name="Picture 4" descr="http://faculty.weber.edu/nokazaki/Human_Biology/chp%2015-urinary-system_files/image016.jpg"/>
          <p:cNvPicPr/>
          <p:nvPr/>
        </p:nvPicPr>
        <p:blipFill>
          <a:blip r:embed="rId1"/>
          <a:stretch/>
        </p:blipFill>
        <p:spPr>
          <a:xfrm>
            <a:off x="179280" y="1628640"/>
            <a:ext cx="44532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5" name="Picture 2" descr="http://classconnection.s3.amazonaws.com/704/flashcards/1046704/png/standing_osmotic_gradient_hypothesis_of_water_reabsorption_by_the_proximal_tubule1330984345331.png"/>
          <p:cNvPicPr/>
          <p:nvPr/>
        </p:nvPicPr>
        <p:blipFill>
          <a:blip r:embed="rId1"/>
          <a:stretch/>
        </p:blipFill>
        <p:spPr>
          <a:xfrm>
            <a:off x="485640" y="1484280"/>
            <a:ext cx="840744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gulation of tubular reabsorp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 must be a balance between tubular reapsorption and glomerular filtra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controlled by local , nervous &amp; hormonal mechanis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 you think that water and solutes are dependently regulated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1.Glomerulotubular balance; prevents overloading of distal parts when GFR increas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2. Peritubular capillary reabsorption is regulated by hydrostatic and colloidal pressures through the capillari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3. ABP: if increased it reduces tubular reapsorption: autoregulati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b22"/>
                </a:solidFill>
                <a:latin typeface="Tw Cen MT"/>
              </a:rPr>
              <a:t>Regulation of tubular reabsorpti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Tubuloglomerular feedback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its physiological importanc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b22"/>
                </a:solidFill>
                <a:latin typeface="Tw Cen MT"/>
              </a:rPr>
              <a:t>Regulation of tubular reabsorpti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. Hormonal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- Aldosterone: Na+ Reabsorption, K+&amp;H+ secre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-Ang II.: (+)Aldostero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H (+) H2O2 reabsorp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P: (+)Na+ excretion &amp; diure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rathyroid hormone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reases calcium reabsorption &amp; decreases phosphate reabsorp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rvous: Sympathetic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Increases Na+ reabsorp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Mechanism of aldosterone actio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26" name="Picture 2" descr="http://faculty.swosu.edu/scott.long/phcl/diu4spir.jpg"/>
          <p:cNvPicPr/>
          <p:nvPr/>
        </p:nvPicPr>
        <p:blipFill>
          <a:blip r:embed="rId1"/>
          <a:stretch/>
        </p:blipFill>
        <p:spPr>
          <a:xfrm>
            <a:off x="490680" y="1484280"/>
            <a:ext cx="76183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360" y="1600200"/>
            <a:ext cx="43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Urinary excretion = Glomerul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Filtration –Tubular reabsorption 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ubular secre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ubular secretion mean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he net movement of solutes from peritubular capillaries into the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9" name="Picture 2" descr="http://www.ivy-rose.co.uk/HumanBody-Images/Small/185w_Kidney-Nephron.png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803840" cy="86364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ondary active secre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1628280"/>
            <a:ext cx="5148360" cy="452124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transport is mediated by a specific protein in the brush border of the luminal membran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odium is carried to the interior of the cell, hydrogen ions are forced outward in the opposite direction into the tubular lum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electrochemical gradient is utilized by the exchanger to extrude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from the cell with a 1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: 1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coupling;  Na+-H+ counter trans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9" name="Picture 2" descr="http://apbrwww5.apsu.edu/thompsonj/Anatomy%20&amp;%20Physiology/2020/2020%20Exam%20Reviews/Exam%204/sec.act.transport.antiporter-x.jpg"/>
          <p:cNvPicPr/>
          <p:nvPr/>
        </p:nvPicPr>
        <p:blipFill>
          <a:blip r:embed="rId1"/>
          <a:stretch/>
        </p:blipFill>
        <p:spPr>
          <a:xfrm>
            <a:off x="5450040" y="662040"/>
            <a:ext cx="3519360" cy="6148440"/>
          </a:xfrm>
          <a:prstGeom prst="rect">
            <a:avLst/>
          </a:prstGeom>
          <a:ln w="0">
            <a:noFill/>
          </a:ln>
        </p:spPr>
      </p:pic>
      <p:sp>
        <p:nvSpPr>
          <p:cNvPr id="730" name="TextBox 4"/>
          <p:cNvSpPr/>
          <p:nvPr/>
        </p:nvSpPr>
        <p:spPr>
          <a:xfrm>
            <a:off x="6568920" y="431964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K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is the major cation in cells and its balance is essential for lif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Tw Cen MT"/>
              </a:rPr>
              <a:t>Small change from 4 to 5.5 mmoles/L = hyperkala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0" lang="en-GB" sz="2900" spc="-1" strike="noStrike">
                <a:solidFill>
                  <a:srgbClr val="3333cc"/>
                </a:solidFill>
                <a:latin typeface="Tw Cen MT"/>
              </a:rPr>
              <a:t>reabsorbed at proximal tubule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hanges in 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excretion due to changes in 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900" spc="-1" strike="noStrike">
                <a:solidFill>
                  <a:srgbClr val="3333cc"/>
                </a:solidFill>
                <a:latin typeface="Tw Cen MT"/>
              </a:rPr>
              <a:t>secretion in distal tub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3" name="Picture 4" descr="S23283-036-f006"/>
          <p:cNvPicPr/>
          <p:nvPr/>
        </p:nvPicPr>
        <p:blipFill>
          <a:blip r:embed="rId1"/>
          <a:stretch/>
        </p:blipFill>
        <p:spPr>
          <a:xfrm>
            <a:off x="4756320" y="1600200"/>
            <a:ext cx="3822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K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382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reabsorption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long the </a:t>
            </a:r>
            <a:r>
              <a:rPr b="0" lang="en-GB" sz="2400" spc="-1" strike="noStrike">
                <a:solidFill>
                  <a:srgbClr val="3333cc"/>
                </a:solidFill>
                <a:latin typeface="Tw Cen MT"/>
              </a:rPr>
              <a:t>proximal tubule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s largely </a:t>
            </a:r>
            <a:r>
              <a:rPr b="0" lang="en-GB" sz="2400" spc="-1" strike="noStrike">
                <a:solidFill>
                  <a:srgbClr val="ff0000"/>
                </a:solidFill>
                <a:latin typeface="Tw Cen MT"/>
              </a:rPr>
              <a:t>passive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d follows the movement of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nd flui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secretion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occurs in </a:t>
            </a:r>
            <a:r>
              <a:rPr b="0" lang="en-GB" sz="2400" spc="-1" strike="noStrike">
                <a:solidFill>
                  <a:srgbClr val="3333cc"/>
                </a:solidFill>
                <a:latin typeface="Tw Cen MT"/>
              </a:rPr>
              <a:t>cortical collecting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ubule (principal cells), and relies upon </a:t>
            </a:r>
            <a:r>
              <a:rPr b="0" lang="en-GB" sz="2400" spc="-1" strike="noStrike">
                <a:solidFill>
                  <a:srgbClr val="ff0000"/>
                </a:solidFill>
                <a:latin typeface="Tw Cen MT"/>
              </a:rPr>
              <a:t>active transport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cross basolateral membrane and passive exit across apical membrane into tubular flui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6" name="Picture 4" descr="S23283-036-f007b"/>
          <p:cNvPicPr/>
          <p:nvPr/>
        </p:nvPicPr>
        <p:blipFill>
          <a:blip r:embed="rId1"/>
          <a:srcRect l="45602" t="0" r="0" b="0"/>
          <a:stretch/>
        </p:blipFill>
        <p:spPr>
          <a:xfrm>
            <a:off x="4859280" y="4076640"/>
            <a:ext cx="386568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7" name="Picture 5" descr="S23283-036-f007a"/>
          <p:cNvPicPr/>
          <p:nvPr/>
        </p:nvPicPr>
        <p:blipFill>
          <a:blip r:embed="rId2"/>
          <a:srcRect l="0" t="0" r="40217" b="0"/>
          <a:stretch/>
        </p:blipFill>
        <p:spPr>
          <a:xfrm>
            <a:off x="4500720" y="1413000"/>
            <a:ext cx="4248000" cy="24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absorption of bicarbon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39" name="Picture 2" descr="http://ajpcell.physiology.org/content/ajpcell/305/4/C373/F1.large.jpg"/>
          <p:cNvPicPr/>
          <p:nvPr/>
        </p:nvPicPr>
        <p:blipFill>
          <a:blip r:embed="rId1"/>
          <a:stretch/>
        </p:blipFill>
        <p:spPr>
          <a:xfrm>
            <a:off x="1835280" y="1700280"/>
            <a:ext cx="605772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Summary of events that occurs in the nephron: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41" name="Picture 2" descr="http://craniumcommander.wikispaces.com/file/view/NephronProcesses.jpg/357797586/472x481/NephronProcesses.jpg"/>
          <p:cNvPicPr/>
          <p:nvPr/>
        </p:nvPicPr>
        <p:blipFill>
          <a:blip r:embed="rId1"/>
          <a:stretch/>
        </p:blipFill>
        <p:spPr>
          <a:xfrm>
            <a:off x="1339920" y="1484280"/>
            <a:ext cx="527688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3" name="Picture 2" descr="http://callmethedoctor.co.uk/wp-content/uploads/2012/09/Kidney3.png"/>
          <p:cNvPicPr/>
          <p:nvPr/>
        </p:nvPicPr>
        <p:blipFill>
          <a:blip r:embed="rId1"/>
          <a:stretch/>
        </p:blipFill>
        <p:spPr>
          <a:xfrm>
            <a:off x="173160" y="620640"/>
            <a:ext cx="889452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Introduction, cont….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31" name="Picture 2" descr="http://ajpcell.physiology.org/content/ajpcell/302/9/C1271/F1.large.jpg"/>
          <p:cNvPicPr/>
          <p:nvPr/>
        </p:nvPicPr>
        <p:blipFill>
          <a:blip r:embed="rId1"/>
          <a:stretch/>
        </p:blipFill>
        <p:spPr>
          <a:xfrm>
            <a:off x="1116000" y="1700280"/>
            <a:ext cx="7153200" cy="4010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What are the routes through which a substance enter the tubules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360" y="1600200"/>
            <a:ext cx="554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1-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2- Secretion from the peritubular capillaries which occurs in two step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a. simple diffusion of the substance from peritubular capillaries into renal inerstit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b. movement across the tubular epithelium into the lumen through active or passive transp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4" name="Picture 2" descr="http://people.eku.edu/ritchisong/554images/proximal_tubule.jpg"/>
          <p:cNvPicPr/>
          <p:nvPr/>
        </p:nvPicPr>
        <p:blipFill>
          <a:blip r:embed="rId1"/>
          <a:stretch/>
        </p:blipFill>
        <p:spPr>
          <a:xfrm>
            <a:off x="5867280" y="2133720"/>
            <a:ext cx="3276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815328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Tw Cen MT"/>
              </a:rPr>
              <a:t>Mechanisms of tubular transport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Active transport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imary active transport: e.g. Na-K-pump, H+-pum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ondary active transport : e.g. Na-K-2Cl co-transport, glucose-sodium co-transport, amino acid-sodium co-transport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Passive transport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mple diffusion e.g. Cl, HCO3-, ure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acilitated diffusion glucose at the basal border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Osmosi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us the molecules moves through ion channels, transporters, pumps &amp; exchanger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inocytosis/ exocytosi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139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imary Active transpo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2923920"/>
            <a:ext cx="3673440" cy="360036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dium potassium ATPas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drogen ATPas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drogen potassium ATPase, a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ATPa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9" name="Picture 2" descr="http://163.178.103.176/Temas/Temae5Ren/RenalCG/FisioRena00/LaV/U5Ob2/LECT10/fig271.GIF"/>
          <p:cNvPicPr/>
          <p:nvPr/>
        </p:nvPicPr>
        <p:blipFill>
          <a:blip r:embed="rId1"/>
          <a:stretch/>
        </p:blipFill>
        <p:spPr>
          <a:xfrm>
            <a:off x="4554360" y="1685880"/>
            <a:ext cx="4259520" cy="4462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640" name="TextBox 4"/>
          <p:cNvSpPr/>
          <p:nvPr/>
        </p:nvSpPr>
        <p:spPr>
          <a:xfrm>
            <a:off x="5126040" y="6280200"/>
            <a:ext cx="3176640" cy="368280"/>
          </a:xfrm>
          <a:prstGeom prst="rect">
            <a:avLst/>
          </a:prstGeom>
          <a:solidFill>
            <a:srgbClr val="ed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transport through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6595920" y="4319640"/>
            <a:ext cx="595440" cy="36828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7859880" y="26719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539640" y="1792440"/>
            <a:ext cx="3240360" cy="91692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, direct source of Energy ATP, against electrochemical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12760" y="240840"/>
            <a:ext cx="75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ondary active transp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1503360"/>
            <a:ext cx="4716360" cy="5354640"/>
          </a:xfrm>
          <a:prstGeom prst="rect">
            <a:avLst/>
          </a:prstGeom>
          <a:solidFill>
            <a:srgbClr val="eaf0f6"/>
          </a:solidFill>
          <a:ln w="9360">
            <a:solidFill>
              <a:srgbClr val="94b6d2"/>
            </a:solidFill>
            <a:miter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e of the substances (e.g., sodium) diffuses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own its electrochemical gradie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,the energy released is used to drive another substance (e.g. glucose)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gainst its electrochemical gradient. Both bind to one carrier protein to be transported togeth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us, secondary active transport does no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quire energy directly from AT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000" spc="-1" strike="noStrike">
                <a:solidFill>
                  <a:srgbClr val="c00000"/>
                </a:solidFill>
                <a:latin typeface="Tw Cen MT"/>
              </a:rPr>
              <a:t>direct source of the energy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that liberated by the simultaneous facilitated diffusion of another transported substance down its own electrochemical gradi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electrochemical gradient for Na is maintained by Na/K pump.. 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6" name="Picture 6" descr="http://www.nature.com/ki/journal/v79/n120s/images/ki2010509f4.jpg"/>
          <p:cNvPicPr/>
          <p:nvPr/>
        </p:nvPicPr>
        <p:blipFill>
          <a:blip r:embed="rId1"/>
          <a:stretch/>
        </p:blipFill>
        <p:spPr>
          <a:xfrm>
            <a:off x="4713120" y="1468440"/>
            <a:ext cx="4430880" cy="444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5:19:20Z</dcterms:created>
  <dc:creator>user</dc:creator>
  <dc:description/>
  <dc:language>en-US</dc:language>
  <cp:lastModifiedBy>user</cp:lastModifiedBy>
  <dcterms:modified xsi:type="dcterms:W3CDTF">2015-05-04T04:33:03Z</dcterms:modified>
  <cp:revision>17</cp:revision>
  <dc:subject/>
  <dc:title>Tubular reabsorption</dc:title>
</cp:coreProperties>
</file>