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4.png" ContentType="image/png"/>
  <Override PartName="/ppt/media/image22.png" ContentType="image/png"/>
  <Override PartName="/ppt/media/image21.jpeg" ContentType="image/jpeg"/>
  <Override PartName="/ppt/media/image13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19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6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4467-E810-42C7-AADA-A25CB71FE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F185-EF01-4174-B56B-C13CB2978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59D-9C70-42F6-A28F-C762DBDE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730-A504-4EE5-BEB2-99FE6823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9A0A6-2ABC-43E2-A033-E95D2ECF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299C2-78EA-4BCC-B8B0-B4E524EB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57A73-5BC3-44E3-B3BC-33ACD44D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91F72-A3E9-4B71-9345-F913A8D0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A74CB-38EA-4C26-9168-B6C40594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3E126-FEA7-470E-929F-15874B9F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2871C-765E-470D-9375-DF02C3C9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A63CE-9398-4E06-93B9-33834683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A160D-5D67-4BD6-A2FC-BBFA96A2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32108F-029F-4638-BB0B-57A96B92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E74-C40B-4ADD-96B7-A3E2A482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49189D-343C-443E-817E-4F21429D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0B4DF47-18FD-4415-8404-2F5E4CFE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70657E-4B79-410C-9085-D9E40727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CD693B-713C-44FF-87D2-66A2C67F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93D658-F83A-4E2F-98FA-B71E7748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634FF6-A162-44FA-91E0-9E66AAB1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4F3DB7-74D3-48E3-B707-4BF1991B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CDE1ED-D692-493F-8864-0D50522D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BCB0C2-D97D-416A-B6A8-3E3AC776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5EDA02-A76F-472C-9C21-1498CB7B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F981-DF17-4BE0-8E3B-3C122CED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CC2B82-8704-4DBE-AAE4-03932131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E7938-04AC-42E1-AD7F-CDBC1C1E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2B93F-700F-459F-B9F7-6CCA729F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BB419-06A8-4408-9B10-0003BA23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38838-347C-40E9-B749-18151B64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F526C-546A-4EAA-A382-81595BB2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8F2DE-7D3F-4026-8FD5-F1A0E3D7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E7151-B25A-4795-839A-C7ABA296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8F1FB-CBD8-425D-9652-D3108AAB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CFD2F-4989-4012-9B1A-4DEEEE5A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D82C-034D-4A75-98C6-3321947DD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2EC90-E672-4546-BAA3-2FA75114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919F8-1D39-4711-B483-76231E38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0CF99-E14D-44E6-9218-29A1D2D6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64147-A923-4690-B6AA-9D246F58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82B49-CAAF-49FE-BC68-A93D98F5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FFE15-190D-4F92-90DF-4F96A9FC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B4B76-5AE4-4859-93AD-015C1D40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FEBB6-FCD4-4B7F-B0E4-01ADCECA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13C94-2D17-475E-83B1-859E8A48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11BE2-FC51-4010-9C09-4F3CC5F6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574C-C8B8-408D-B1E6-AB3480F8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E487A-A2CD-47E5-9A5F-5F9DAA77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C976D-28B9-49C5-B5BA-1B109250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547AC-2310-43E5-9120-0412EEF3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3BF93-2A97-4DC7-88FD-BB87BFFA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E5E3D-BEBF-4116-BF5B-FB7AB894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5D79F9-77C6-4879-9660-93ADBDAD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B2453-AEF1-45A1-B3F8-1691C9E7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B9AFE-6D9F-40F8-A2E0-60116EC5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9B60A-A80E-4A50-8988-82D9F9C0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04FD9-226D-4F4B-898C-521220A0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14F4-1F39-4AC6-941C-944C6249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A1709-AAE9-4774-AC09-3A8F808A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BBEF3-179B-4CB8-80A3-7CA8C85C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35D35-011F-4183-B96F-88243463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180F6-F783-4DAA-9C58-12A45BFF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35505-B7EB-499B-BCE4-DBF6DAC4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F1E53-78E7-4350-AFA8-2FBB922A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35CC5-475A-4490-9325-3AF63096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493C39-BEC4-4341-AA8B-A0B45164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C58B9-348F-4912-B6D4-B2AAEBF9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961A3F-A368-4360-963F-43C61657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B2F0-FBE9-4161-8DBF-CCEC0F52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5A867-32A9-4111-A35A-423D9FCA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B79AC8-2278-4298-B72B-AE49A1BE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FD941-0E07-40FC-979E-A4A2C755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60A08-729A-4356-8EA4-58CD6179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BB25E9-C620-4F7D-893C-015DA7E5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B4A230-CEC6-4F44-9AAA-917732D7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B1423-5CFB-4DC1-ACA9-C080719E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795E19-AF47-41BB-BA93-D57F1439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7A7389-010B-4C7D-BF62-53824B13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7820-C5A0-4AE3-A1EA-639B2431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580B-1103-41B7-AFC1-1EEAD162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CE13C-8F1C-4973-92E4-4D75A69E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B8EE-1A6C-4C22-B2A2-ADC447C3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F51D-F356-4C69-9CA0-EC104E77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7EF0-FC0B-4429-851A-E4343B5A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BC86-015C-4C61-BD93-86D73689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9A08-1B5E-43C5-8684-77EB565D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4BE9-3277-417D-963B-FFF76557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BD234-7A0A-47C2-909B-6B77CB6F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6BEBD-450C-41C9-B593-1C3F0510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AF0DE-DD56-45E7-B3E0-85E8A8FE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B77AA-519A-4510-A0C8-C19E9931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EA28B-F982-4A4E-BAB8-400720A8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B01-E8F2-404C-A691-8249C263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10FCC-71FC-474B-A91E-0C3B61A4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19256-578E-4D10-9A50-CA813B5B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DD59A-ABDE-4B51-B8E8-DE9D6C28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2E95B-C246-44FE-9533-E6B5D262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E4FE-D29F-4C8E-9D28-DA66F609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307DE-BD86-450C-88C7-553C4CEC0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A5E6-BD0E-49D6-B55B-204B5D82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C2B936-5877-49DE-8916-0744CA4B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2389AB-7B25-48A3-BE48-8DD73E94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DD90CA-38BC-45D1-8235-B82FAF77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3FF-256D-47B9-B4CF-E8C450BE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E8310-C9A8-475A-9669-5A909F67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8E6929-AC7A-459D-803A-A727E0B9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B4FDA1-1B92-4EB9-BC70-A3A1EACF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DF1646-9A94-4BAD-9820-E3A939E3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241882-89AF-4B12-B6B1-A6C910E8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3DD9C3-30ED-4C83-9A73-22FB8683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9E6B43-C3CC-455A-84C0-8920DFFB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0D6D4-1969-4DEA-9243-74B15964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DEF146-34DF-4D2A-B319-86BC7A9E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187145-4462-4073-AE1F-22A13414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C90-A720-4B0D-8E30-87B7A52D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522E40-1076-408F-A3CE-8EEA0B34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B73CFE-FA5E-43FE-8345-539D91FD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A35F67-62AE-4FC7-A281-DF0507A9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037CD-4DB0-43F9-9F46-2A91EC04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F26965-7A57-47E8-9D22-B2593DD7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F3140C-22BC-49DE-93CC-264F2C22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C264B-F000-4027-86AC-48DA4BF3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5BBDDD-5221-4C68-A1A3-CD72378B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5C3282-851A-442E-AED3-B64CCD17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DEF793-58A3-49CA-A916-39DCFB0C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439-6B19-45B5-ADD1-1EE02338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6CD6B-5EDB-41EB-8317-3C85CFBB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E9BA8E-6D39-4C45-A344-A72D5474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76CE65-9F84-4775-B4EF-A5390588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DDE9BA-460A-4562-B7D5-2EB680A4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0FEDA0-2977-4A00-8827-A5A492F0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4BECF-FA8C-4BFC-888E-75952735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54A98-F997-4D88-A58D-2E603C6D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FB77B-0153-4A31-94D6-2A56DF25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591276-054F-4AF5-A349-9181FD7E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DF1734-EFD3-415C-9D0A-B5C42F4C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123-DA23-4F47-A71D-6F666A24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AF9BDE-6CAE-4869-8A26-FBB7555D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E7FC98-523E-4BC1-BA4F-02B104FE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C6FDB-0B2F-4C1B-A03D-F98BE40C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D438A-D5AF-4E45-A415-A516675F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1C3C0-5A39-403B-B6F2-CC3414DB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C6AB9-4873-47EE-BDC4-F54D3950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DE321-8537-4EA7-B1F9-8B9BB0CD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CAB92-6DA8-4EC6-B028-D865578B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DEF29-9A91-4FC2-AAAA-38760AEF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2491C-F3E2-4316-B7AA-D01472A7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FC2-C769-4DE0-8848-4E638E63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4B793-1143-4696-AD7D-801871FF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B820E-B7E6-4195-BF17-56B96CE8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938E2-D7DC-4C89-92F7-A2FB04E8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1F37A-8350-4F95-8CB1-EABB13B6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20C38-3857-4AA3-9483-C2A570DE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ECC22-8360-4BE9-938A-6CF8B99C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8F3AD-B5AD-4312-A0F7-159A3CFB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B9835-FED5-424E-8721-08BF8017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68759-B2E1-4301-88FA-398280EE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AFEFF-A49D-4161-85E6-08DE6416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5E1-75A1-4641-B60F-8BF87962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E46EF-BDBA-4AF6-A94D-5BF2F72A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292F8-7203-4D90-8DD4-28A873A5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CD417-E337-4E2D-83D7-58E59725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220D7-5C9A-41E1-829E-3E27B659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58D13-C5D7-4B52-96DD-3E014B41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EC567-9D99-435B-98F5-8F4DA5FF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00FD2-9D68-4120-A5B1-69075AE68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4E9E5-C728-405D-B613-BE546F14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398F0-A795-4FBA-88FA-95DEC3DA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4C615-59CC-4A6B-8352-C7A250CB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4887-04BD-4A25-8EFE-90B41EAE2E8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9FD6-A1CE-49F4-A442-5A976F48D768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9F9B-F693-4E9B-9AD0-E374A902D78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4F57-C1C8-4D9A-8E88-6A425771080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8AA5-BA83-4810-B7DB-2D557CADBFB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A9B6-DBD2-414F-BB95-C95E28C9394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30F7-67B5-44AD-B01C-1A10C85732BF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2805-68B9-49D8-9A53-158F808D5E0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D6E8-1030-4B7A-87A8-AB6113191877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816F-2C16-4426-8D8F-0CA501DDB00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F4B7-50C3-4195-8BC1-F804FF9A52F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4F5C-2D12-4779-93D1-63346C9C39D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A351-C8BB-462D-AEFD-91287B699FA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142F-865E-4ED5-8FDD-5A6F07BA424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4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TUBULAR REABSORPTION &amp; SECRET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r. Eman El Et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12760" y="685800"/>
            <a:ext cx="751536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75f55"/>
                </a:solidFill>
                <a:latin typeface="Tw Cen MT"/>
              </a:rPr>
              <a:t>Secondary active transport, cont……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179280" y="1628640"/>
            <a:ext cx="3151440" cy="501336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txBody>
          <a:bodyPr anchor="t">
            <a:normAutofit fontScale="86000"/>
          </a:bodyPr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-K-2Cl transpor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thick ascending limb of Hen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“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oop” diuretics as furosemide, inhibits the action of the sodium 2-chloride, potassium cotransport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49" name="Picture 2" descr="http://www.nature.com/bonekey/knowledgeenvironment/2009/0910/bonekey20090400/images_article/bonekey20090400-f2.jpg"/>
          <p:cNvPicPr/>
          <p:nvPr/>
        </p:nvPicPr>
        <p:blipFill>
          <a:blip r:embed="rId1"/>
          <a:stretch/>
        </p:blipFill>
        <p:spPr>
          <a:xfrm>
            <a:off x="3394080" y="1763640"/>
            <a:ext cx="5699160" cy="3951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12760" y="554040"/>
            <a:ext cx="751536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mple diffu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51" name="Picture 2" descr="https://classconnection.s3.amazonaws.com/754/flashcards/2034754/png/urinary101350828438034.png"/>
          <p:cNvPicPr/>
          <p:nvPr/>
        </p:nvPicPr>
        <p:blipFill>
          <a:blip r:embed="rId1"/>
          <a:stretch/>
        </p:blipFill>
        <p:spPr>
          <a:xfrm>
            <a:off x="6334200" y="1965240"/>
            <a:ext cx="2809800" cy="215892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4"/>
          <p:cNvSpPr/>
          <p:nvPr/>
        </p:nvSpPr>
        <p:spPr>
          <a:xfrm>
            <a:off x="179280" y="2503440"/>
            <a:ext cx="272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bsorption of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Chlor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U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olutes by Passive Dif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ions such as chloride are trans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ong with sodium because of electrical potent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6" descr="http://resources.med.fsu.edu/gsm/hp/program/section7/7ch06/7ch06img/7c06p09.jpg"/>
          <p:cNvPicPr/>
          <p:nvPr/>
        </p:nvPicPr>
        <p:blipFill>
          <a:blip r:embed="rId2"/>
          <a:stretch/>
        </p:blipFill>
        <p:spPr>
          <a:xfrm>
            <a:off x="2868480" y="1606680"/>
            <a:ext cx="3240360" cy="5251320"/>
          </a:xfrm>
          <a:prstGeom prst="rect">
            <a:avLst/>
          </a:prstGeom>
          <a:ln w="0">
            <a:noFill/>
          </a:ln>
        </p:spPr>
      </p:pic>
      <p:sp>
        <p:nvSpPr>
          <p:cNvPr id="654" name="TextBox 7"/>
          <p:cNvSpPr/>
          <p:nvPr/>
        </p:nvSpPr>
        <p:spPr>
          <a:xfrm>
            <a:off x="6551640" y="4403880"/>
            <a:ext cx="2309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U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modulary coll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ct, passive urea reabsorption is facilitated by specific 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urea transpo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12760" y="299880"/>
            <a:ext cx="751536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smo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50560" y="1557360"/>
            <a:ext cx="83041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nsport of solutes out of the tubules by either primary or secondary active transport, makes their concentration inside the cells to decrease  while increase in the renal interstitium. This creates a concentration difference that causes osmosis of water in the same direction that the solutes are transported, from the tubular lumen to the renal interstitiu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ater reabsorption is mainly coupled to sodiu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ermeability differs through  the nephr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oute: Paracellular via tight junction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ffect of ADH (</a:t>
            </a: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Distal &amp; collecting tubul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ansport through PC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riteria of PC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ly metabolic cells, rich in mitochondri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nsporter proteins &amp; channe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ide surface area of brush border, basolateral membra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Renal tubular reabsorption through PCT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23640" y="1628640"/>
            <a:ext cx="8134200" cy="489600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olute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reaborption i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 the proximal tubule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s isosmotic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water follows solute somatically and tubular fluid osmolality remains similar to that of plasma= equal amount of solute and water are reabsorbed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65%-70% of </a:t>
            </a:r>
            <a:r>
              <a:rPr b="0" lang="en-US" sz="2400" spc="-1" strike="noStrike">
                <a:solidFill>
                  <a:srgbClr val="3333cc"/>
                </a:solidFill>
                <a:latin typeface="Tw Cen MT"/>
              </a:rPr>
              <a:t>water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</a:t>
            </a:r>
            <a:r>
              <a:rPr b="0" lang="en-US" sz="2400" spc="-1" strike="noStrike">
                <a:solidFill>
                  <a:srgbClr val="3333cc"/>
                </a:solidFill>
                <a:latin typeface="Tw Cen MT"/>
              </a:rPr>
              <a:t>sodium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reabsorption occurs in the proximal tubu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04720" indent="-229320">
              <a:lnSpc>
                <a:spcPct val="90000"/>
              </a:lnSpc>
              <a:spcBef>
                <a:spcPts val="550"/>
              </a:spcBef>
              <a:buClr>
                <a:srgbClr val="d8b25c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90% of bicarbonate, calcium, K+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04720" indent="-229320">
              <a:lnSpc>
                <a:spcPct val="90000"/>
              </a:lnSpc>
              <a:spcBef>
                <a:spcPts val="550"/>
              </a:spcBef>
              <a:buClr>
                <a:srgbClr val="d8b25c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100% of glucose &amp; amino acid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04720" indent="-229320">
              <a:lnSpc>
                <a:spcPct val="90000"/>
              </a:lnSpc>
              <a:spcBef>
                <a:spcPts val="550"/>
              </a:spcBef>
              <a:buClr>
                <a:srgbClr val="d8b25c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ecretion: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organic acids and bases such as bile salts, oxalate, urate, and catecholamines, certain drugs, such as penicillin and salicylates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oximal tubules: coarse adjustmen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stal tubules: fine adjustment (hormonal control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absorption through PC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62" name="Picture 2" descr="http://biobook.nerinxhs.org/bb/systems/excretion/1000px-Reabsorption.svg.png"/>
          <p:cNvPicPr/>
          <p:nvPr/>
        </p:nvPicPr>
        <p:blipFill>
          <a:blip r:embed="rId1"/>
          <a:stretch/>
        </p:blipFill>
        <p:spPr>
          <a:xfrm>
            <a:off x="3132000" y="1484280"/>
            <a:ext cx="381636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Loop of Henl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ponsible for producing a concentrated urine by forming a concentration gradient within the medulla of kidne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en ADH is present, water is reabsorbed and urine is concentrat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unter-current multiplie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20A6-8E80-4AB4-9F58-D765CD91082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12720" y="692280"/>
            <a:ext cx="815328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5b22"/>
                </a:solidFill>
                <a:latin typeface="Tw Cen MT"/>
              </a:rPr>
              <a:t>Absorption through loop of Henle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Descending limb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: is water permeable and allow absorption of 25% of filtered H2O. It is impermeable to Na-CL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Thin ascending limb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: is impermeable to H2O, but permeable to Na-Cl, where they are absorbed passively in this part 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b95b22"/>
                </a:solidFill>
                <a:latin typeface="Tw Cen MT"/>
              </a:rPr>
              <a:t>Thick ascending limb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: is impermeable to H2O.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Na-K-2Cl co-transport occur in this part.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b3d17"/>
                </a:solidFill>
                <a:latin typeface="Tw Cen MT"/>
              </a:rPr>
              <a:t>By the end of ascending limb of loop, the tubular fluid becomes hypo-osmolar to plasma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2" descr="http://jasn.asnjournals.org/content/13/11/2795/F1.large.jpg"/>
          <p:cNvPicPr/>
          <p:nvPr/>
        </p:nvPicPr>
        <p:blipFill>
          <a:blip r:embed="rId1"/>
          <a:stretch/>
        </p:blipFill>
        <p:spPr>
          <a:xfrm>
            <a:off x="879480" y="1413000"/>
            <a:ext cx="678816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12720" y="620280"/>
            <a:ext cx="815328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Na+-2Cl-K+ co transport:</a:t>
            </a:r>
            <a:br>
              <a:rPr sz="3200"/>
            </a:b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Thick ascending limb of Henle</a:t>
            </a:r>
            <a:br>
              <a:rPr sz="4000"/>
            </a:b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70" name="Picture 2" descr="http://img.medscape.com/fullsize/migrated/editorial/journalcme/2008/8587/naderi.fig1.gif"/>
          <p:cNvPicPr/>
          <p:nvPr/>
        </p:nvPicPr>
        <p:blipFill>
          <a:blip r:embed="rId1"/>
          <a:stretch/>
        </p:blipFill>
        <p:spPr>
          <a:xfrm>
            <a:off x="1073160" y="1484280"/>
            <a:ext cx="676764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17c36"/>
                </a:solidFill>
                <a:latin typeface="Tw Cen MT"/>
              </a:rPr>
              <a:t>Juxtamedullary nephrons vs Cortical nephron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24" name="Picture 2" descr="http://static.memrise.com/uploads/mems/354428000120311182915.gif"/>
          <p:cNvPicPr/>
          <p:nvPr/>
        </p:nvPicPr>
        <p:blipFill>
          <a:blip r:embed="rId1"/>
          <a:stretch/>
        </p:blipFill>
        <p:spPr>
          <a:xfrm>
            <a:off x="928800" y="1700280"/>
            <a:ext cx="616248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Distal convoluted tubule and collecting duc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hat happens here depends on hormonal control: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cc"/>
                </a:solidFill>
                <a:uFillTx/>
                <a:latin typeface="Tw Cen MT"/>
              </a:rPr>
              <a:t>Aldosterone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 affects Na+ and K+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cc"/>
                </a:solidFill>
                <a:uFillTx/>
                <a:latin typeface="Tw Cen MT"/>
              </a:rPr>
              <a:t>ADH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 – facultative water reabsorp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3333cc"/>
                </a:solidFill>
                <a:uFillTx/>
                <a:latin typeface="Tw Cen MT"/>
              </a:rPr>
              <a:t>Parathyroid hormone</a:t>
            </a: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 – increases Ca++ reabsorption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Fine adjustment of tubular filtrate takes place here according to body need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e first portion of DCT forms part of JGA, that provides feedback control of GFR and RBF of the same nephron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e next early portion has the same characteristics as ascending limb of Henle that is impermeable to water but absorbs solutes. So it is called the </a:t>
            </a:r>
            <a:r>
              <a:rPr b="0" lang="en-US" sz="2500" spc="-1" strike="noStrike" u="sng">
                <a:solidFill>
                  <a:srgbClr val="0000ff"/>
                </a:solidFill>
                <a:uFillTx/>
                <a:latin typeface="Tw Cen MT"/>
              </a:rPr>
              <a:t>diluting segment &amp; the osmotic pressure of the fluid ~ 100 mOsm/L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C377-AC47-4FA2-88FF-04EDAF72959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C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75" name="Picture 2" descr="http://www.tankonyvtar.hu/en/tartalom/tamop425/0011_1A_Gerontologia_en_book/images/dia35.png"/>
          <p:cNvPicPr/>
          <p:nvPr/>
        </p:nvPicPr>
        <p:blipFill>
          <a:blip r:embed="rId1"/>
          <a:stretch/>
        </p:blipFill>
        <p:spPr>
          <a:xfrm>
            <a:off x="1476360" y="1601640"/>
            <a:ext cx="565956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Late distal tubule&amp; collecting tubule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ave similar functional characteristic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osed of two types of cell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. Principal cells: absorb Na+&amp; H2O and secrete K+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. Intercalated cells: absorb K+ &amp; secrete H+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mpermeable to Ure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ater permeability under AD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retion of K+ and reabsorption of Na+ controlled by aldosteron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ell types of the nephr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79" name="Picture 2" descr="http://4.bp.blogspot.com/-_4FPDmo1Ec4/UBgulufSJ1I/AAAAAAAABAA/aDxwqYqschA/s1600/Nephron.jpg"/>
          <p:cNvPicPr/>
          <p:nvPr/>
        </p:nvPicPr>
        <p:blipFill>
          <a:blip r:embed="rId1"/>
          <a:stretch/>
        </p:blipFill>
        <p:spPr>
          <a:xfrm>
            <a:off x="1311120" y="1557360"/>
            <a:ext cx="7081920" cy="49672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Medullary collecting duc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absorb &lt;10% of sodium &amp; H2O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nal site for processing urine and so determine final urine output of H2O &amp; solu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95b22"/>
                </a:solidFill>
                <a:latin typeface="Tw Cen MT"/>
              </a:rPr>
              <a:t>Characteristic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Under ADH contro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c00000"/>
                </a:solidFill>
                <a:latin typeface="Tw Cen MT"/>
              </a:rPr>
              <a:t>Highly permeable to ure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Secretes H+ against conc gradient (role in acid-base balance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Medullary collecting duct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83" name="Picture 2" descr="http://classconnection.s3.amazonaws.com/975/flashcards/1102975/png/untitled11332339560779.png"/>
          <p:cNvPicPr/>
          <p:nvPr/>
        </p:nvPicPr>
        <p:blipFill>
          <a:blip r:embed="rId1"/>
          <a:stretch/>
        </p:blipFill>
        <p:spPr>
          <a:xfrm>
            <a:off x="922320" y="1557360"/>
            <a:ext cx="7051680" cy="5300640"/>
          </a:xfrm>
          <a:prstGeom prst="rect">
            <a:avLst/>
          </a:prstGeom>
          <a:ln w="0">
            <a:noFill/>
          </a:ln>
        </p:spPr>
      </p:pic>
      <p:sp>
        <p:nvSpPr>
          <p:cNvPr id="684" name="TextBox 4"/>
          <p:cNvSpPr/>
          <p:nvPr/>
        </p:nvSpPr>
        <p:spPr>
          <a:xfrm>
            <a:off x="6213600" y="4653000"/>
            <a:ext cx="674640" cy="368280"/>
          </a:xfrm>
          <a:prstGeom prst="rect">
            <a:avLst/>
          </a:prstGeom>
          <a:solidFill>
            <a:srgbClr val="cbd9d5"/>
          </a:solidFill>
          <a:ln w="10080">
            <a:solidFill>
              <a:srgbClr val="7ba79d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Nephron structure"/>
          <p:cNvPicPr/>
          <p:nvPr/>
        </p:nvPicPr>
        <p:blipFill>
          <a:blip r:embed="rId1"/>
          <a:stretch/>
        </p:blipFill>
        <p:spPr>
          <a:xfrm>
            <a:off x="1960560" y="260280"/>
            <a:ext cx="5533920" cy="6337440"/>
          </a:xfrm>
          <a:prstGeom prst="rect">
            <a:avLst/>
          </a:prstGeom>
          <a:ln w="0">
            <a:noFill/>
          </a:ln>
        </p:spPr>
      </p:pic>
      <p:sp>
        <p:nvSpPr>
          <p:cNvPr id="686" name="TextBox 4"/>
          <p:cNvSpPr/>
          <p:nvPr/>
        </p:nvSpPr>
        <p:spPr>
          <a:xfrm>
            <a:off x="7541280" y="765000"/>
            <a:ext cx="1427400" cy="368280"/>
          </a:xfrm>
          <a:prstGeom prst="rect">
            <a:avLst/>
          </a:prstGeom>
          <a:solidFill>
            <a:srgbClr val="cbd9d5"/>
          </a:solidFill>
          <a:ln w="10080">
            <a:solidFill>
              <a:srgbClr val="7ba79d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a+, K+,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5"/>
          <p:cNvSpPr/>
          <p:nvPr/>
        </p:nvSpPr>
        <p:spPr>
          <a:xfrm>
            <a:off x="7524720" y="3357720"/>
            <a:ext cx="934920" cy="368280"/>
          </a:xfrm>
          <a:prstGeom prst="rect">
            <a:avLst/>
          </a:prstGeom>
          <a:solidFill>
            <a:srgbClr val="cbd9d5"/>
          </a:solidFill>
          <a:ln w="10080">
            <a:solidFill>
              <a:srgbClr val="7ba79d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Distal convoluted tubule and collecting duct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Tubular secretion to get rid of substances:   K+, H+, urea, ammonia, creatinine and certain drug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Secretion of  H+ helps maintain blood pH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(can also reabsorb bicarb and generate new bicarb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BF1B-5956-4144-95D0-C7E48A24364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w Cen MT"/>
              </a:rPr>
              <a:t>Na</a:t>
            </a:r>
            <a:r>
              <a:rPr b="0" lang="en-GB" sz="4400" spc="-1" strike="noStrike" baseline="30000">
                <a:solidFill>
                  <a:srgbClr val="3333cc"/>
                </a:solidFill>
                <a:latin typeface="Tw Cen MT"/>
              </a:rPr>
              <a:t>+</a:t>
            </a:r>
            <a:r>
              <a:rPr b="0" lang="en-GB" sz="4400" spc="-1" strike="noStrike">
                <a:solidFill>
                  <a:srgbClr val="3333cc"/>
                </a:solidFill>
                <a:latin typeface="Tw Cen MT"/>
              </a:rPr>
              <a:t> absorp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a &amp; Cl reabsorption plays a major role in body electrolyte and water metabolism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a+ transport is also coupled to the movement of H+, K+, glucose, amino acid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absorption  occurs by many mechanisms depending on the part of nephro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1- active transport mechanism: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.g. Collecting tubules &amp; duct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2- Passive at the thin ascending lim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3- Co-transport: thick ascend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.e. Active all through except thin ascending limb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93" name="Picture 7" descr="14_13"/>
          <p:cNvPicPr/>
          <p:nvPr/>
        </p:nvPicPr>
        <p:blipFill>
          <a:blip r:embed="rId1"/>
          <a:stretch/>
        </p:blipFill>
        <p:spPr>
          <a:xfrm>
            <a:off x="4707000" y="1447920"/>
            <a:ext cx="3152880" cy="253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4" name="Picture 9" descr="14_14"/>
          <p:cNvPicPr/>
          <p:nvPr/>
        </p:nvPicPr>
        <p:blipFill>
          <a:blip r:embed="rId2"/>
          <a:stretch/>
        </p:blipFill>
        <p:spPr>
          <a:xfrm>
            <a:off x="4640400" y="4419720"/>
            <a:ext cx="3404880" cy="21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" dur="1" fill="hold"/>
                                  <p:tgtEl>
                                    <p:spTgt spid="69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bddc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http://o.quizlet.com/W4JV-DpiyAQ2D20G0P.5Lg_m.png"/>
          <p:cNvPicPr/>
          <p:nvPr/>
        </p:nvPicPr>
        <p:blipFill>
          <a:blip r:embed="rId1"/>
          <a:stretch/>
        </p:blipFill>
        <p:spPr>
          <a:xfrm>
            <a:off x="1476360" y="404640"/>
            <a:ext cx="5481720" cy="6264360"/>
          </a:xfrm>
          <a:prstGeom prst="rect">
            <a:avLst/>
          </a:prstGeom>
          <a:ln w="0">
            <a:noFill/>
          </a:ln>
        </p:spPr>
      </p:pic>
      <p:sp>
        <p:nvSpPr>
          <p:cNvPr id="696" name="TextBox 4"/>
          <p:cNvSpPr/>
          <p:nvPr/>
        </p:nvSpPr>
        <p:spPr>
          <a:xfrm>
            <a:off x="179280" y="1628640"/>
            <a:ext cx="1513080" cy="3660120"/>
          </a:xfrm>
          <a:prstGeom prst="rect">
            <a:avLst/>
          </a:prstGeom>
          <a:solidFill>
            <a:srgbClr val="d3deea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w Cen MT"/>
              </a:rPr>
              <a:t>From tubular lumen into tubular cells Na+ moves b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w Cen MT"/>
              </a:rPr>
              <a:t>Exch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w Cen MT"/>
              </a:rPr>
              <a:t>Co-trans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w Cen MT"/>
              </a:rPr>
              <a:t>It helps reabsorption of nutr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5"/>
          <p:cNvSpPr/>
          <p:nvPr/>
        </p:nvSpPr>
        <p:spPr>
          <a:xfrm>
            <a:off x="6948360" y="1773360"/>
            <a:ext cx="1800360" cy="1739880"/>
          </a:xfrm>
          <a:prstGeom prst="rect">
            <a:avLst/>
          </a:prstGeom>
          <a:solidFill>
            <a:srgbClr val="94b6d2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w Cen MT"/>
              </a:rPr>
              <a:t>Na+ is pumped into the interstitium by Na+-K+ AT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Urine Formation Pre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26" name="Picture 3" descr="H:\$$SaladinPowerPoints\Images\Ch-23labeled\0806L.JPG"/>
          <p:cNvPicPr/>
          <p:nvPr/>
        </p:nvPicPr>
        <p:blipFill>
          <a:blip r:embed="rId1"/>
          <a:srcRect l="0" t="11274" r="0" b="0"/>
          <a:stretch/>
        </p:blipFill>
        <p:spPr>
          <a:xfrm>
            <a:off x="533520" y="1447920"/>
            <a:ext cx="812952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w Cen MT"/>
              </a:rPr>
              <a:t>Glucose handl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2890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lucose absorption also relies upon the 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gradient. It is absorbed by Na-glucose co-transpor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Most reabsorbed in proximal tubu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t apical membrane, needs 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/glucose cotransporter (SGLT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rosses basolateral membrane via glucose transporters (GLUT’s), which do not rely upon 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00" name="Picture 4" descr="S23283-035-f003"/>
          <p:cNvPicPr/>
          <p:nvPr/>
        </p:nvPicPr>
        <p:blipFill>
          <a:blip r:embed="rId1"/>
          <a:stretch/>
        </p:blipFill>
        <p:spPr>
          <a:xfrm>
            <a:off x="3121200" y="1700280"/>
            <a:ext cx="5843520" cy="38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2" descr="http://courses.washington.edu/conj/bess/polyuria/absorption-kidney-web.png"/>
          <p:cNvPicPr/>
          <p:nvPr/>
        </p:nvPicPr>
        <p:blipFill>
          <a:blip r:embed="rId1"/>
          <a:stretch/>
        </p:blipFill>
        <p:spPr>
          <a:xfrm>
            <a:off x="1187280" y="1630440"/>
            <a:ext cx="5842080" cy="5227560"/>
          </a:xfrm>
          <a:prstGeom prst="rect">
            <a:avLst/>
          </a:prstGeom>
          <a:ln w="0">
            <a:noFill/>
          </a:ln>
        </p:spPr>
      </p:pic>
      <p:sp>
        <p:nvSpPr>
          <p:cNvPr id="702" name="TextBox 5"/>
          <p:cNvSpPr/>
          <p:nvPr/>
        </p:nvSpPr>
        <p:spPr>
          <a:xfrm>
            <a:off x="246960" y="765000"/>
            <a:ext cx="456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lucose transport, cont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ubular transport maximum for gluco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ssentially all glucose is reabsorbed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mg = 375 mg/min in men and 300 mg/min in wome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renal threshold for glucose= 180 mg/d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andling of glucose is limited by saturation of the transport mechanism i.e. carrier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05" name="Picture 2" descr="http://o.quizlet.com/i/-2HGEk032id7RayYQy2Kxg_m.jpg"/>
          <p:cNvPicPr/>
          <p:nvPr/>
        </p:nvPicPr>
        <p:blipFill>
          <a:blip r:embed="rId1"/>
          <a:stretch/>
        </p:blipFill>
        <p:spPr>
          <a:xfrm>
            <a:off x="4211640" y="1773360"/>
            <a:ext cx="4753080" cy="3682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lucose titration curv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Ideal curve occurs if Tmg in all tubules is identical and if glucose was removed from all tubules 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ctual curve is rounded (dashed line) and deviates from the ideal curve. This deviation is called splay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e magnitude of the splay is inversely proportionate to the avidity with which the transport mechanism binds the substance it transport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08" name="Picture 4" descr="http://o.quizlet.com/i/-2HGEk032id7RayYQy2Kxg_m.jpg"/>
          <p:cNvPicPr/>
          <p:nvPr/>
        </p:nvPicPr>
        <p:blipFill>
          <a:blip r:embed="rId1"/>
          <a:stretch/>
        </p:blipFill>
        <p:spPr>
          <a:xfrm>
            <a:off x="4500720" y="1916280"/>
            <a:ext cx="4458960" cy="34574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Water reabsorpti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CT: 65% of filtered water reabsorb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scending loop of Henle:20-25%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cending limb= zero water reabsorb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stal tubules &amp; collecting tubules: under ADH contro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12" name="Picture 4" descr="http://faculty.weber.edu/nokazaki/Human_Biology/chp%2015-urinary-system_files/image016.jpg"/>
          <p:cNvPicPr/>
          <p:nvPr/>
        </p:nvPicPr>
        <p:blipFill>
          <a:blip r:embed="rId1"/>
          <a:stretch/>
        </p:blipFill>
        <p:spPr>
          <a:xfrm>
            <a:off x="179280" y="1628640"/>
            <a:ext cx="445320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15" name="Picture 2" descr="http://classconnection.s3.amazonaws.com/704/flashcards/1046704/png/standing_osmotic_gradient_hypothesis_of_water_reabsorption_by_the_proximal_tubule1330984345331.png"/>
          <p:cNvPicPr/>
          <p:nvPr/>
        </p:nvPicPr>
        <p:blipFill>
          <a:blip r:embed="rId1"/>
          <a:stretch/>
        </p:blipFill>
        <p:spPr>
          <a:xfrm>
            <a:off x="485640" y="1484280"/>
            <a:ext cx="8407440" cy="4984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Regulation of tubular reabsorpti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re must be a balance between tubular reapsorption and glomerular filtra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s is controlled by local , nervous &amp; hormonal mechanism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o you think that water and solutes are dependently regulated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1.Glomerulotubular balance; prevents overloading of distal parts when GFR increase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2. Peritubular capillary reabsorption is regulated by hydrostatic and colloidal pressures through the capillarie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3. ABP: if increased it reduces tubular reapsorption: autoregulation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b22"/>
                </a:solidFill>
                <a:latin typeface="Tw Cen MT"/>
              </a:rPr>
              <a:t>Regulation of tubular reabsorption, cont……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-Tubuloglomerular feedback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its physiological importanc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5b22"/>
                </a:solidFill>
                <a:latin typeface="Tw Cen MT"/>
              </a:rPr>
              <a:t>Regulation of tubular reabsorption, cont……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4. Hormonal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- Aldosterone: Na+ Reabsorption, K+&amp;H+ secre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-Ang II.: (+)Aldosteron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DH (+) H2O2 reabsorp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ANP: (+)Na+ excretion &amp; diures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rathyroid hormone: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Increases calcium reabsorption &amp; decreases phosphate reabsorp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rvous: Sympathetic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Increases Na+ reabsorp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Mechanism of aldosterone action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726" name="Picture 2" descr="http://faculty.swosu.edu/scott.long/phcl/diu4spir.jpg"/>
          <p:cNvPicPr/>
          <p:nvPr/>
        </p:nvPicPr>
        <p:blipFill>
          <a:blip r:embed="rId1"/>
          <a:stretch/>
        </p:blipFill>
        <p:spPr>
          <a:xfrm>
            <a:off x="490680" y="1484280"/>
            <a:ext cx="761832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12360" y="1600200"/>
            <a:ext cx="4390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Urinary excretion = Glomerula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Filtration –Tubular reabsorption +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Tubular secre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Tubular secretion means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the net movement of solutes from peritubular capillaries into the tubu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29" name="Picture 2" descr="http://www.ivy-rose.co.uk/HumanBody-Images/Small/185w_Kidney-Nephron.png"/>
          <p:cNvPicPr/>
          <p:nvPr/>
        </p:nvPicPr>
        <p:blipFill>
          <a:blip r:embed="rId1"/>
          <a:stretch/>
        </p:blipFill>
        <p:spPr>
          <a:xfrm>
            <a:off x="5435640" y="1628640"/>
            <a:ext cx="3457440" cy="338148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4803840" cy="863640"/>
          </a:xfrm>
          <a:prstGeom prst="rect">
            <a:avLst/>
          </a:prstGeom>
          <a:solidFill>
            <a:srgbClr val="f7f0de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condary active secre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-360" y="1628280"/>
            <a:ext cx="5148360" cy="4521240"/>
          </a:xfrm>
          <a:prstGeom prst="rect">
            <a:avLst/>
          </a:prstGeom>
          <a:solidFill>
            <a:srgbClr val="f7f0de"/>
          </a:solidFill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s transport is mediated by a specific protein in the brush border of the luminal membrane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 sodium is carried to the interior of the cell, hydrogen ions are forced outward in the opposite direction into the tubular lumen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electrochemical gradient is utilized by the exchanger to extrude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from the cell with a 1 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: 1 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 coupling;  Na+-H+ counter transpo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29" name="Picture 2" descr="http://apbrwww5.apsu.edu/thompsonj/Anatomy%20&amp;%20Physiology/2020/2020%20Exam%20Reviews/Exam%204/sec.act.transport.antiporter-x.jpg"/>
          <p:cNvPicPr/>
          <p:nvPr/>
        </p:nvPicPr>
        <p:blipFill>
          <a:blip r:embed="rId1"/>
          <a:stretch/>
        </p:blipFill>
        <p:spPr>
          <a:xfrm>
            <a:off x="5450040" y="662040"/>
            <a:ext cx="3519360" cy="6148440"/>
          </a:xfrm>
          <a:prstGeom prst="rect">
            <a:avLst/>
          </a:prstGeom>
          <a:ln w="0">
            <a:noFill/>
          </a:ln>
        </p:spPr>
      </p:pic>
      <p:sp>
        <p:nvSpPr>
          <p:cNvPr id="730" name="TextBox 4"/>
          <p:cNvSpPr/>
          <p:nvPr/>
        </p:nvSpPr>
        <p:spPr>
          <a:xfrm>
            <a:off x="6568920" y="4319640"/>
            <a:ext cx="18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ximal tub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w Cen MT"/>
              </a:rPr>
              <a:t>K</a:t>
            </a:r>
            <a:r>
              <a:rPr b="0" lang="en-GB" sz="4400" spc="-1" strike="noStrike" baseline="30000">
                <a:solidFill>
                  <a:srgbClr val="3333cc"/>
                </a:solidFill>
                <a:latin typeface="Tw Cen MT"/>
              </a:rPr>
              <a:t>+</a:t>
            </a:r>
            <a:r>
              <a:rPr b="0" lang="en-GB" sz="4400" spc="-1" strike="noStrike">
                <a:solidFill>
                  <a:srgbClr val="3333cc"/>
                </a:solidFill>
                <a:latin typeface="Tw Cen MT"/>
              </a:rPr>
              <a:t> handl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en-GB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is the major cation in cells and its balance is essential for lif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c00000"/>
                </a:solidFill>
                <a:latin typeface="Tw Cen MT"/>
              </a:rPr>
              <a:t>Small change from 4 to 5.5 mmoles/L = hyperkalaem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en-GB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is </a:t>
            </a:r>
            <a:r>
              <a:rPr b="0" lang="en-GB" sz="2900" spc="-1" strike="noStrike">
                <a:solidFill>
                  <a:srgbClr val="3333cc"/>
                </a:solidFill>
                <a:latin typeface="Tw Cen MT"/>
              </a:rPr>
              <a:t>reabsorbed at proximal tubule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hanges in K</a:t>
            </a:r>
            <a:r>
              <a:rPr b="0" lang="en-GB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excretion due to changes in K</a:t>
            </a:r>
            <a:r>
              <a:rPr b="0" lang="en-GB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2900" spc="-1" strike="noStrike">
                <a:solidFill>
                  <a:srgbClr val="3333cc"/>
                </a:solidFill>
                <a:latin typeface="Tw Cen MT"/>
              </a:rPr>
              <a:t>secretion in distal tubul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33" name="Picture 4" descr="S23283-036-f006"/>
          <p:cNvPicPr/>
          <p:nvPr/>
        </p:nvPicPr>
        <p:blipFill>
          <a:blip r:embed="rId1"/>
          <a:stretch/>
        </p:blipFill>
        <p:spPr>
          <a:xfrm>
            <a:off x="4756320" y="1600200"/>
            <a:ext cx="382248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omb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Tw Cen MT"/>
              </a:rPr>
              <a:t>K</a:t>
            </a:r>
            <a:r>
              <a:rPr b="0" lang="en-GB" sz="4400" spc="-1" strike="noStrike" baseline="30000">
                <a:solidFill>
                  <a:srgbClr val="3333cc"/>
                </a:solidFill>
                <a:latin typeface="Tw Cen MT"/>
              </a:rPr>
              <a:t>+</a:t>
            </a:r>
            <a:r>
              <a:rPr b="0" lang="en-GB" sz="4400" spc="-1" strike="noStrike">
                <a:solidFill>
                  <a:srgbClr val="3333cc"/>
                </a:solidFill>
                <a:latin typeface="Tw Cen MT"/>
              </a:rPr>
              <a:t> handl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1600200"/>
            <a:ext cx="382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w Cen MT"/>
              </a:rPr>
              <a:t>reabsorption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along the </a:t>
            </a:r>
            <a:r>
              <a:rPr b="0" lang="en-GB" sz="2400" spc="-1" strike="noStrike">
                <a:solidFill>
                  <a:srgbClr val="3333cc"/>
                </a:solidFill>
                <a:latin typeface="Tw Cen MT"/>
              </a:rPr>
              <a:t>proximal tubule 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s largely </a:t>
            </a:r>
            <a:r>
              <a:rPr b="0" lang="en-GB" sz="2400" spc="-1" strike="noStrike">
                <a:solidFill>
                  <a:srgbClr val="ff0000"/>
                </a:solidFill>
                <a:latin typeface="Tw Cen MT"/>
              </a:rPr>
              <a:t>passive 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d follows the movement of N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and fluid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w Cen MT"/>
              </a:rPr>
              <a:t>secretion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occurs in </a:t>
            </a:r>
            <a:r>
              <a:rPr b="0" lang="en-GB" sz="2400" spc="-1" strike="noStrike">
                <a:solidFill>
                  <a:srgbClr val="3333cc"/>
                </a:solidFill>
                <a:latin typeface="Tw Cen MT"/>
              </a:rPr>
              <a:t>cortical collecting 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ubule (principal cells), and relies upon </a:t>
            </a:r>
            <a:r>
              <a:rPr b="0" lang="en-GB" sz="2400" spc="-1" strike="noStrike">
                <a:solidFill>
                  <a:srgbClr val="ff0000"/>
                </a:solidFill>
                <a:latin typeface="Tw Cen MT"/>
              </a:rPr>
              <a:t>active transport 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across basolateral membrane and passive exit across apical membrane into tubular fluid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36" name="Picture 4" descr="S23283-036-f007b"/>
          <p:cNvPicPr/>
          <p:nvPr/>
        </p:nvPicPr>
        <p:blipFill>
          <a:blip r:embed="rId1"/>
          <a:srcRect l="45602" t="0" r="0" b="0"/>
          <a:stretch/>
        </p:blipFill>
        <p:spPr>
          <a:xfrm>
            <a:off x="4859280" y="4076640"/>
            <a:ext cx="3865680" cy="26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7" name="Picture 5" descr="S23283-036-f007a"/>
          <p:cNvPicPr/>
          <p:nvPr/>
        </p:nvPicPr>
        <p:blipFill>
          <a:blip r:embed="rId2"/>
          <a:srcRect l="0" t="0" r="40217" b="0"/>
          <a:stretch/>
        </p:blipFill>
        <p:spPr>
          <a:xfrm>
            <a:off x="4500720" y="1413000"/>
            <a:ext cx="4248000" cy="244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eabsorption of bicarbona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739" name="Picture 2" descr="http://ajpcell.physiology.org/content/ajpcell/305/4/C373/F1.large.jpg"/>
          <p:cNvPicPr/>
          <p:nvPr/>
        </p:nvPicPr>
        <p:blipFill>
          <a:blip r:embed="rId1"/>
          <a:stretch/>
        </p:blipFill>
        <p:spPr>
          <a:xfrm>
            <a:off x="1835280" y="1700280"/>
            <a:ext cx="6057720" cy="4209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Summary of events that occurs in the nephron: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741" name="Picture 2" descr="http://craniumcommander.wikispaces.com/file/view/NephronProcesses.jpg/357797586/472x481/NephronProcesses.jpg"/>
          <p:cNvPicPr/>
          <p:nvPr/>
        </p:nvPicPr>
        <p:blipFill>
          <a:blip r:embed="rId1"/>
          <a:stretch/>
        </p:blipFill>
        <p:spPr>
          <a:xfrm>
            <a:off x="1339920" y="1484280"/>
            <a:ext cx="5276880" cy="5373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743" name="Picture 2" descr="http://callmethedoctor.co.uk/wp-content/uploads/2012/09/Kidney3.png"/>
          <p:cNvPicPr/>
          <p:nvPr/>
        </p:nvPicPr>
        <p:blipFill>
          <a:blip r:embed="rId1"/>
          <a:stretch/>
        </p:blipFill>
        <p:spPr>
          <a:xfrm>
            <a:off x="173160" y="620640"/>
            <a:ext cx="889452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w Cen MT"/>
              </a:rPr>
              <a:t>Introduction, cont…..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631" name="Picture 2" descr="http://ajpcell.physiology.org/content/ajpcell/302/9/C1271/F1.large.jpg"/>
          <p:cNvPicPr/>
          <p:nvPr/>
        </p:nvPicPr>
        <p:blipFill>
          <a:blip r:embed="rId1"/>
          <a:stretch/>
        </p:blipFill>
        <p:spPr>
          <a:xfrm>
            <a:off x="1116000" y="1700280"/>
            <a:ext cx="7153200" cy="401004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What are the routes through which a substance enter the tubules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12360" y="1600200"/>
            <a:ext cx="554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1- Glomerular fil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2- Secretion from the peritubular capillaries which occurs in two step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a. simple diffusion of the substance from peritubular capillaries into renal inerstitiu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b. movement across the tubular epithelium into the lumen through active or passive transpor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34" name="Picture 2" descr="http://people.eku.edu/ritchisong/554images/proximal_tubule.jpg"/>
          <p:cNvPicPr/>
          <p:nvPr/>
        </p:nvPicPr>
        <p:blipFill>
          <a:blip r:embed="rId1"/>
          <a:stretch/>
        </p:blipFill>
        <p:spPr>
          <a:xfrm>
            <a:off x="5867280" y="2133720"/>
            <a:ext cx="3276720" cy="419076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12720" y="620280"/>
            <a:ext cx="815328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5b22"/>
                </a:solidFill>
                <a:latin typeface="Tw Cen MT"/>
              </a:rPr>
              <a:t>Mechanisms of tubular transport: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w Cen MT"/>
              </a:rPr>
              <a:t>Active transport: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rimary active transport: e.g. Na-K-pump, H+-pump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econdary active transport : e.g. Na-K-2Cl co-transport, glucose-sodium co-transport, amino acid-sodium co-transport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w Cen MT"/>
              </a:rPr>
              <a:t>Passive transport: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imple diffusion e.g. Cl, HCO3-, urea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Facilitated diffusion glucose at the basal border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w Cen MT"/>
              </a:rPr>
              <a:t>Osmosis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Thus the molecules moves through ion channels, transporters, pumps &amp; exchanger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Pinocytosis/ exocytosis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1392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rimary Active transport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68360" y="2923920"/>
            <a:ext cx="3673440" cy="360036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xampl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dium potassium ATPase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ydrogen ATPase,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ydrogen potassium ATPase, an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lcium ATPas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39" name="Picture 2" descr="http://163.178.103.176/Temas/Temae5Ren/RenalCG/FisioRena00/LaV/U5Ob2/LECT10/fig271.GIF"/>
          <p:cNvPicPr/>
          <p:nvPr/>
        </p:nvPicPr>
        <p:blipFill>
          <a:blip r:embed="rId1"/>
          <a:stretch/>
        </p:blipFill>
        <p:spPr>
          <a:xfrm>
            <a:off x="4554360" y="1685880"/>
            <a:ext cx="4259520" cy="4462560"/>
          </a:xfrm>
          <a:prstGeom prst="rect">
            <a:avLst/>
          </a:prstGeom>
          <a:ln w="9360">
            <a:solidFill>
              <a:srgbClr val="94b6d2"/>
            </a:solidFill>
            <a:miter/>
          </a:ln>
        </p:spPr>
      </p:pic>
      <p:sp>
        <p:nvSpPr>
          <p:cNvPr id="640" name="TextBox 4"/>
          <p:cNvSpPr/>
          <p:nvPr/>
        </p:nvSpPr>
        <p:spPr>
          <a:xfrm>
            <a:off x="5126040" y="6280200"/>
            <a:ext cx="3176640" cy="368280"/>
          </a:xfrm>
          <a:prstGeom prst="rect">
            <a:avLst/>
          </a:prstGeom>
          <a:solidFill>
            <a:srgbClr val="edee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 transport through P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5"/>
          <p:cNvSpPr/>
          <p:nvPr/>
        </p:nvSpPr>
        <p:spPr>
          <a:xfrm>
            <a:off x="6595920" y="4319640"/>
            <a:ext cx="595440" cy="368280"/>
          </a:xfrm>
          <a:prstGeom prst="rect">
            <a:avLst/>
          </a:prstGeom>
          <a:noFill/>
          <a:ln w="936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6"/>
          <p:cNvSpPr/>
          <p:nvPr/>
        </p:nvSpPr>
        <p:spPr>
          <a:xfrm>
            <a:off x="7859880" y="267192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co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7"/>
          <p:cNvSpPr/>
          <p:nvPr/>
        </p:nvSpPr>
        <p:spPr>
          <a:xfrm>
            <a:off x="539640" y="1792440"/>
            <a:ext cx="3240360" cy="916920"/>
          </a:xfrm>
          <a:prstGeom prst="rect">
            <a:avLst/>
          </a:prstGeom>
          <a:solidFill>
            <a:srgbClr val="f7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ier, direct source of Energy ATP, against electrochemical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12760" y="240840"/>
            <a:ext cx="751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econdary active transpor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-360" y="1503360"/>
            <a:ext cx="4716360" cy="5354640"/>
          </a:xfrm>
          <a:prstGeom prst="rect">
            <a:avLst/>
          </a:prstGeom>
          <a:solidFill>
            <a:srgbClr val="eaf0f6"/>
          </a:solidFill>
          <a:ln w="9360">
            <a:solidFill>
              <a:srgbClr val="94b6d2"/>
            </a:solidFill>
            <a:miter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ne of the substances (e.g., sodium) diffuses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down its electrochemical gradien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,the energy released is used to drive another substance (e.g. glucose) 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against its electrochemical gradient. Both bind to one carrier protein to be transported together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us, secondary active transport does no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quire energy directly from ATP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1" lang="en-US" sz="2000" spc="-1" strike="noStrike">
                <a:solidFill>
                  <a:srgbClr val="c00000"/>
                </a:solidFill>
                <a:latin typeface="Tw Cen MT"/>
              </a:rPr>
              <a:t>direct source of the energy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that liberated by the simultaneous facilitated diffusion of another transported substance down its own electrochemical gradient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e electrochemical gradient for Na is maintained by Na/K pump.. 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46" name="Picture 6" descr="http://www.nature.com/ki/journal/v79/n120s/images/ki2010509f4.jpg"/>
          <p:cNvPicPr/>
          <p:nvPr/>
        </p:nvPicPr>
        <p:blipFill>
          <a:blip r:embed="rId1"/>
          <a:stretch/>
        </p:blipFill>
        <p:spPr>
          <a:xfrm>
            <a:off x="4713120" y="1468440"/>
            <a:ext cx="4430880" cy="4444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4T05:19:20Z</dcterms:created>
  <dc:creator>user</dc:creator>
  <dc:description/>
  <dc:language>en-US</dc:language>
  <cp:lastModifiedBy>user</cp:lastModifiedBy>
  <dcterms:modified xsi:type="dcterms:W3CDTF">2015-05-04T04:33:03Z</dcterms:modified>
  <cp:revision>17</cp:revision>
  <dc:subject/>
  <dc:title>Tubular reabsorption</dc:title>
</cp:coreProperties>
</file>