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98D16-65A6-4343-AF8E-8331D21EF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28E7-6046-4477-B9EB-2F13E6C7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64E7D4F-4A59-4443-AD06-BCFE2E5E02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A11E1EE-BB02-482D-906C-7EABA2D4B1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CC4F06B-4522-4CCC-A40A-CA61D0A808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FAF893-8E81-475D-82DB-48F27887DD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9E08269-49EE-4AA8-AAAA-B05B8FA204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3E4474E-AC42-4ACA-AF4E-0B64168F3C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1CD2B48-34E9-4DD8-9325-1F59B1B52E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C954F64-4F34-4114-8E75-3CDA047FE59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3267379-760A-4D3C-B449-82B71C238FD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744904F-ACE8-4A47-AD28-0E9909667C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3254E-5810-4996-8880-940E7AC85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8C5AF1-F514-451F-A9DE-63D5EB9E0F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85D7C8-846D-41FD-944D-5A217C2E90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A812EEE-232A-46D7-987B-FFF94220CD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362C3FE-E3CB-4BBF-8722-ED5ABE619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90A8917-FA2D-40A4-965A-B47C28CDC3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8A7C5A-B2B5-4B06-9DDB-44629C955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D0D2F91-6AC0-4D4D-A529-78A03D0535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49BD8C-9D0C-45CC-9C45-B12A75527F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5895C0-EFD7-43A3-8BD7-B802251243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DB973E9-949E-442C-8D7C-0627DB759C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994B9-431F-4FAE-9D2C-C6A2F703E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EB37E85-7799-48CE-A0FF-A6393C837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8E6FF1-82EF-49C7-9592-A1FCBCA560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A17930-6874-4CFD-B2B5-057AACC0C0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26684F-3FEF-49DE-888C-84E3FC03FE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5E4369-C4F5-4C1F-80DC-C9116C4A20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D1D813-B24E-4B08-93C2-D8AF9B5BE6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8B8B79-F9F0-4C2C-BEA2-A2EB9DC332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C43C3E-84E6-4040-8F1C-D836986D77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219482-1B50-4381-AFA1-44108CC17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696599-08C7-4E1E-93EE-E6E8E65598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FFAB3-658B-4F8D-88E0-B37A7DC1F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DAC988-72F1-46F0-84A0-07B5C0399E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B8CE79-7B63-40B3-8E1E-53482EACD7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A89432-203D-4838-9065-21DACB043F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96AA5E4-B875-4B58-9225-EFDEA0C075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587E088-D689-4C82-88EA-A6996A53A7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782010F-7322-416C-9A15-1824918AA5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3AC6694-B6F7-4003-9484-B571B178C2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F4DF5CC-F33F-49CA-BDA9-EB7A18865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5511D57-F7A9-46D5-ACBC-D9F32B94EB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49D1976-8974-4AFE-B802-FB04357A3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19A7-96CE-4A1D-A6E5-AC2859111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47A0F5-7F5C-46F5-AB22-9E51784C0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196E5A-BAE7-467F-BB09-9404554CAF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1560A75-EC79-46D7-BA19-E2A186C231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35BB650-0CE2-4267-B71C-1628019851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18528D0-C5A6-4638-97C6-08295FDF5B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A00A-1FA0-4570-99C4-519EC494D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07744-2732-494A-856A-81B2B492C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2E867-D486-43C7-9D1F-4178903CD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8A08B-1312-4822-A8C4-80F8F154A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8DF7F-875A-4945-ABBF-95509FF0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358F6-9CE7-4FE2-91FD-D46F17B4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D21EA-6981-4201-8DA5-B683611B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48E0-4BA3-41F3-89D3-5BAB25F6A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BF980-ACDE-473C-A8BE-7AB33F1CA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4EE6D-8B23-45F6-A800-50743E8B6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59880-D1E3-40C4-B75D-78DCE35B6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6636B7-91A5-46FB-B42F-3B11A9D58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5F117-616B-47F2-802C-43A121EF9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0BC17-0574-4B5D-ACBA-1B7C0DC68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2420E-7411-408D-AD1F-06170BD2A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45E7F-0469-48D4-B839-7FE0DC520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763D-AD42-4D00-A15A-5C021D669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E4A98-F10F-4B73-927A-7AB49AC51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508E6-DB19-4DFE-8DBF-D63112D1D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2D998-1B52-4F22-8279-5E806D2BA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837DA-D538-43DD-98F8-0F9A7F6D0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C6372-9A93-46E4-A7AB-3F0E191D7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3BB2E-3594-4B01-A424-E7710BC7E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46E35E-04CB-4A29-8816-AE9BD95C0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1BA6342-0B24-4A51-A1B8-8197702983E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C706303-087F-4276-A579-870D49CBA4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2CE3438-DAA2-4B7A-B67F-2F5417746E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3E5ED-F35C-4ECB-8D1B-C5052209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3FF3ED1-AB72-4808-B083-9B9AB893AB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83EC1E-EF30-4A10-96C3-630FE0D618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840629A-3E5E-4003-93FE-CE949DB2C1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33C498-EF91-4F92-8212-23EF33CF02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883E32-0993-4B5D-B423-9D1F4D8D05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6BAF99-CFB2-476B-8699-5C1E112A03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FBA3A1-AB8E-46F6-829B-2248A52336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AA01F50-2249-47D4-A0DA-6FE983743FA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E70D6FB-AFC3-4B8A-A6FA-C381DBBFF4B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73DD9D-FF04-4B69-AABB-EEBB993516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1789-9A81-4DEB-BCEC-C1CF7B68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5EFAD-43EC-4340-AB04-5E4398C58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DFBA6-C03E-4B64-B4C1-909EB8A2D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B236A-1A5C-4999-9CC0-CB7D28339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1FE46-8B8E-4876-A396-876864E94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DC04A-1B80-4A8D-803E-DB123861E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DC674-9E05-488B-A9F1-DD82453D9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B15CE-7063-4F85-BBF2-F763E8800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284C1-9AB8-40E9-8203-8452E292B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8225F-FF2E-4759-8237-560324732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696270-4F65-48CA-9F1D-643184CD27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CCA2-A6E6-4EF0-9FD9-C967A51D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0DD42D-0140-4144-88EB-E869BAE12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DE59D-5AA8-42B9-8D88-30EE3AEA4D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3B254-C87E-4621-8F8A-FEEE51F99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D8C21-D046-4B6B-BF6F-E74C9F3CF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D2B60-A28F-4EC3-B955-8286CBE12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B8E1E-B6E0-452B-8F9A-7337ED5B94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F71BE6-17D4-47DE-B604-B8D79DDD3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9CB4E-DB56-4082-9D51-AFD9FAA95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7D036-3208-42CC-8A54-BF3BC17C2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8576C-7214-4C99-BDF3-B1C5D65FC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905D-7495-4592-85AC-F3D68537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993C2-3734-48A6-A7F7-CCD7615B9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FF69A4-7887-4E35-8533-A3CD23EE5A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CFFEEF-7CF1-4CA7-8ECE-6C68C87631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55B0D-3A92-4D92-ACB1-2DDFD6913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F4CC8-4C51-4BFA-82E6-E7D807193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FD761-E165-476D-9760-716F8239E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787CA-BE0D-49D8-9B11-4116073D7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367F2-D236-4691-B53D-CC7E96798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4648C-5697-4B56-BB59-3475434E0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B34B0-3B6C-4804-B3FF-AB3D6A721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F04A-CC7D-4011-A747-AB285FD2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9CAD2-4956-45EC-B37D-2618B3D47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5DC52-73DC-44E1-9554-DE63C37A2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982131-291C-4346-B6C5-D2F6EDAEC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25B1E7-F910-449F-BB01-31DB19AD31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66326C-253E-4452-AE03-B4E2D8C904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A0824C-1E4A-4EF0-86E4-30FE4FAEA2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B62921-155B-4F04-B160-0414BF144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D8266-CFEE-42F3-A47E-04C5717999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CB80D-A1C6-41D4-8EA8-C0E96D20A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784A3-B614-43D2-9FC2-4DE69CF06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55762-727A-4D28-B187-432191EE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1E535-DB84-45E8-BB8B-6F51C5A42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AD968-B668-4CB4-8B3E-BB2728893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B6BF8-29B7-4EFA-A703-9A34C9A6F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5FBE4-88C4-4F7F-B1CD-126DC84B8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72C35-7D81-4596-A0D7-059890D6B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EC7D24-8DFE-4CEB-8517-9FAFB0D8A1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45CBAC-348C-40A3-937A-D56F85A61F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5451415-C3FF-4126-AF24-B86BD391101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5D9C67D-1C75-4D96-B594-07D96C75D06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7DF3050-3CBD-4CD2-8315-7A9DC309476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5B203-CED4-47EE-BC4C-FA8F3354F07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24"/>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26"/>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27"/>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28"/>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Oval 29"/>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Oval 30"/>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31"/>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B3898-3823-40F7-AA11-417924C03F6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C666F-9DFC-4E70-B7C3-33C0EDAA7A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Rectangle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Rectangle 23"/>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Rectangle 26"/>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Straight Connector 27"/>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8"/>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Oval 29"/>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5BAF9-A114-43C0-B6FB-FCDB79568A9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4"/>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Straight Connector 26"/>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7"/>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Oval 28"/>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9"/>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7B52F-186A-4026-81D7-F0B32EF813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6B508-E326-4622-910E-59D87E5794E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24"/>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25"/>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26"/>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27"/>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28"/>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Straight Connector 29"/>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30"/>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31"/>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922B3-A4FE-454D-9BFE-7C15AD2EC77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Straight Connector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C7825-976B-4087-BC85-7511515F92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23"/>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5"/>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Rectangle 26"/>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7"/>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8"/>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9"/>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30"/>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31"/>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2DBCC-E60A-405A-8940-6DBC5416BE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93AD9-AC85-42C2-B9A1-7F01F66CC4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Rectangle 26"/>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C9B00-B504-48AE-806E-B9EBC6D6696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Rectangle 24"/>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Rectangle 26"/>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Rectangle 27"/>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Straight Connector 28"/>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9"/>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30"/>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Rectangle 31"/>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CFE46-1629-40EC-8D15-45700267C2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828440" y="2819520"/>
            <a:ext cx="853452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Georgia"/>
              </a:rPr>
              <a:t>PROF. EMAN EL ETER</a:t>
            </a:r>
            <a:endParaRPr b="0" lang="en-US" sz="4000" spc="-1" strike="noStrike">
              <a:solidFill>
                <a:srgbClr val="000000"/>
              </a:solidFill>
              <a:latin typeface="Georgia"/>
            </a:endParaRPr>
          </a:p>
        </p:txBody>
      </p:sp>
      <p:sp>
        <p:nvSpPr>
          <p:cNvPr id="607" name="PlaceHolder 2"/>
          <p:cNvSpPr>
            <a:spLocks noGrp="1"/>
          </p:cNvSpPr>
          <p:nvPr>
            <p:ph type="title"/>
          </p:nvPr>
        </p:nvSpPr>
        <p:spPr>
          <a:xfrm>
            <a:off x="914040" y="380520"/>
            <a:ext cx="1036332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6349"/>
                </a:solidFill>
                <a:latin typeface="Georgia"/>
              </a:rPr>
              <a:t>Diluting and concentrating mechanisms of the kidney</a:t>
            </a:r>
            <a:endParaRPr b="0" lang="en-US" sz="4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oop of Henle: Countercurrent Mechanism</a:t>
            </a:r>
            <a:endParaRPr b="0" lang="en-US" sz="3300" spc="-1" strike="noStrike">
              <a:solidFill>
                <a:srgbClr val="7b9899"/>
              </a:solidFill>
              <a:latin typeface="Georgia"/>
            </a:endParaRPr>
          </a:p>
        </p:txBody>
      </p:sp>
      <p:sp>
        <p:nvSpPr>
          <p:cNvPr id="626" name="Text Box 3"/>
          <p:cNvSpPr/>
          <p:nvPr/>
        </p:nvSpPr>
        <p:spPr>
          <a:xfrm>
            <a:off x="9753480" y="6507000"/>
            <a:ext cx="2133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cb400"/>
                </a:solidFill>
                <a:latin typeface="Arial"/>
              </a:rPr>
              <a:t>Figure 25.14</a:t>
            </a:r>
            <a:endParaRPr b="0" lang="en-US" sz="1200" spc="-1" strike="noStrike">
              <a:solidFill>
                <a:srgbClr val="000000"/>
              </a:solidFill>
              <a:latin typeface="Arial"/>
            </a:endParaRPr>
          </a:p>
        </p:txBody>
      </p:sp>
      <p:pic>
        <p:nvPicPr>
          <p:cNvPr id="627" name="Picture 4" descr=""/>
          <p:cNvPicPr/>
          <p:nvPr/>
        </p:nvPicPr>
        <p:blipFill>
          <a:blip r:embed="rId1"/>
          <a:srcRect l="727" t="1494" r="897" b="5607"/>
          <a:stretch/>
        </p:blipFill>
        <p:spPr>
          <a:xfrm>
            <a:off x="512640" y="1073160"/>
            <a:ext cx="11166480" cy="5416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84280" y="228240"/>
            <a:ext cx="10018800" cy="101124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rine concentrating mechanisms</a:t>
            </a:r>
            <a:endParaRPr b="0" lang="en-US" sz="3300" spc="-1" strike="noStrike">
              <a:solidFill>
                <a:srgbClr val="7b9899"/>
              </a:solidFill>
              <a:latin typeface="Georgia"/>
            </a:endParaRPr>
          </a:p>
        </p:txBody>
      </p:sp>
      <p:sp>
        <p:nvSpPr>
          <p:cNvPr id="629" name=""/>
          <p:cNvSpPr txBox="1"/>
          <p:nvPr/>
        </p:nvSpPr>
        <p:spPr>
          <a:xfrm>
            <a:off x="769680" y="1587600"/>
            <a:ext cx="11140920" cy="4765680"/>
          </a:xfrm>
          <a:prstGeom prst="rect">
            <a:avLst/>
          </a:prstGeom>
          <a:solidFill>
            <a:srgbClr val="e8e5e2"/>
          </a:solid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The osmolarity of the interstitial fluid in the medulla of the kidney is much higher, increasing progressively to about 1200 to 1400 mOsm/L in the pelvic tip of the medulla. </a:t>
            </a:r>
            <a:r>
              <a:rPr b="0" lang="en-US" sz="2300" spc="-1" strike="noStrike" u="sng">
                <a:solidFill>
                  <a:srgbClr val="000000"/>
                </a:solidFill>
                <a:uFillTx/>
                <a:latin typeface="Georgia"/>
              </a:rPr>
              <a:t>The major factors creating hyperosmolar medulla: </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1. </a:t>
            </a:r>
            <a:r>
              <a:rPr b="1" lang="en-US" sz="2300" spc="-1" strike="noStrike">
                <a:solidFill>
                  <a:srgbClr val="000000"/>
                </a:solidFill>
                <a:latin typeface="Georgia"/>
              </a:rPr>
              <a:t>Passive reabsorption of  NaCl </a:t>
            </a:r>
            <a:r>
              <a:rPr b="0" lang="en-US" sz="2300" spc="-1" strike="noStrike">
                <a:solidFill>
                  <a:srgbClr val="000000"/>
                </a:solidFill>
                <a:latin typeface="Georgia"/>
              </a:rPr>
              <a:t>by the thin acsnding limb of Henle which depends on prior reabsorption of water by the descending limb.</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	</a:t>
            </a:r>
            <a:r>
              <a:rPr b="1" lang="en-US" sz="2300" spc="-1" strike="noStrike">
                <a:solidFill>
                  <a:srgbClr val="000000"/>
                </a:solidFill>
                <a:latin typeface="Georgia"/>
              </a:rPr>
              <a:t>2.Active transport of sodium ions and co-transport </a:t>
            </a:r>
            <a:r>
              <a:rPr b="0" lang="en-US" sz="2300" spc="-1" strike="noStrike">
                <a:solidFill>
                  <a:srgbClr val="000000"/>
                </a:solidFill>
                <a:latin typeface="Georgia"/>
              </a:rPr>
              <a:t>of potassium, chloride in  thick portion of the ascending limb of the loop of Henle into the medullary interstitium.</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3. </a:t>
            </a:r>
            <a:r>
              <a:rPr b="1" lang="en-US" sz="2300" spc="-1" strike="noStrike">
                <a:solidFill>
                  <a:srgbClr val="000000"/>
                </a:solidFill>
                <a:latin typeface="Georgia"/>
              </a:rPr>
              <a:t>Facilitated diffusion of large amounts of urea </a:t>
            </a:r>
            <a:r>
              <a:rPr b="0" lang="en-US" sz="2300" spc="-1" strike="noStrike">
                <a:solidFill>
                  <a:srgbClr val="000000"/>
                </a:solidFill>
                <a:latin typeface="Georgia"/>
              </a:rPr>
              <a:t>from the inner medullary collecting ducts into the medullary interstitium (ADH).</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4. </a:t>
            </a:r>
            <a:r>
              <a:rPr b="1" lang="en-US" sz="2300" spc="-1" strike="noStrike">
                <a:solidFill>
                  <a:srgbClr val="000000"/>
                </a:solidFill>
                <a:latin typeface="Georgia"/>
              </a:rPr>
              <a:t>Active transport of Na from </a:t>
            </a:r>
            <a:r>
              <a:rPr b="0" lang="en-US" sz="2300" spc="-1" strike="noStrike">
                <a:solidFill>
                  <a:srgbClr val="000000"/>
                </a:solidFill>
                <a:latin typeface="Georgia"/>
              </a:rPr>
              <a:t>the collecting ducts into the medullary interstitium and passive electrogenic reabsorption of Cl.</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074600" y="2703600"/>
            <a:ext cx="2764080" cy="31240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800" spc="-1" strike="noStrike">
                <a:solidFill>
                  <a:srgbClr val="000000"/>
                </a:solidFill>
                <a:latin typeface="Georgia"/>
              </a:rPr>
              <a:t>Formation of concentrated urine under ADH</a:t>
            </a:r>
            <a:endParaRPr b="0" lang="en-US" sz="2800" spc="-1" strike="noStrike">
              <a:solidFill>
                <a:srgbClr val="000000"/>
              </a:solidFill>
              <a:latin typeface="Georgia"/>
            </a:endParaRPr>
          </a:p>
        </p:txBody>
      </p:sp>
      <p:pic>
        <p:nvPicPr>
          <p:cNvPr id="631" name="Picture 2" descr="image https://classconnection.s3.amazonaws.com/33/flashcards/602033/jpg/water_anti-diuresis_-_nacl_and_water_reabsorption1316762431406.jpg for term side of card"/>
          <p:cNvPicPr/>
          <p:nvPr/>
        </p:nvPicPr>
        <p:blipFill>
          <a:blip r:embed="rId1"/>
          <a:stretch/>
        </p:blipFill>
        <p:spPr>
          <a:xfrm>
            <a:off x="3483000" y="204840"/>
            <a:ext cx="823896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intenance of hyperosmolar medulla</a:t>
            </a:r>
            <a:endParaRPr b="0" lang="en-US" sz="3300" spc="-1" strike="noStrike">
              <a:solidFill>
                <a:srgbClr val="7b9899"/>
              </a:solidFill>
              <a:latin typeface="Georgia"/>
            </a:endParaRPr>
          </a:p>
        </p:txBody>
      </p:sp>
      <p:sp>
        <p:nvSpPr>
          <p:cNvPr id="633"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mechanism  responsible for maintaining a hyperosmolar medulla acts through  two properties of  medullary blood fl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 The medullary blood flow is very small  (1-2% </a:t>
            </a:r>
            <a:r>
              <a:rPr b="0" lang="en-US" sz="2700" spc="-1" strike="noStrike">
                <a:solidFill>
                  <a:srgbClr val="000000"/>
                </a:solidFill>
                <a:latin typeface="Georgia"/>
              </a:rPr>
              <a:t>of the total blood flow of the kidney). Because of this very small and </a:t>
            </a:r>
            <a:r>
              <a:rPr b="1" lang="en-US" sz="2700" spc="-1" strike="noStrike">
                <a:solidFill>
                  <a:srgbClr val="000000"/>
                </a:solidFill>
                <a:latin typeface="Georgia"/>
              </a:rPr>
              <a:t>sluggish flow</a:t>
            </a:r>
            <a:r>
              <a:rPr b="0" lang="en-US" sz="2700" spc="-1" strike="noStrike">
                <a:solidFill>
                  <a:srgbClr val="000000"/>
                </a:solidFill>
                <a:latin typeface="Georgia"/>
              </a:rPr>
              <a:t>, removal of solutes in minimi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6760" y="325080"/>
            <a:ext cx="10018800" cy="87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Maintenance of hyperosmolar medulla: The counter current exchanger : vasa recta mechanism</a:t>
            </a:r>
            <a:endParaRPr b="0" lang="en-US" sz="2400" spc="-1" strike="noStrike">
              <a:solidFill>
                <a:srgbClr val="7b9899"/>
              </a:solidFill>
              <a:latin typeface="Georgia"/>
            </a:endParaRPr>
          </a:p>
        </p:txBody>
      </p:sp>
      <p:sp>
        <p:nvSpPr>
          <p:cNvPr id="635"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1" lang="en-US" sz="2700" spc="-1" strike="noStrike">
                <a:solidFill>
                  <a:srgbClr val="000000"/>
                </a:solidFill>
                <a:latin typeface="Georgia"/>
              </a:rPr>
              <a:t>2.</a:t>
            </a:r>
            <a:r>
              <a:rPr b="0" lang="en-US" sz="2700" spc="-1" strike="noStrike">
                <a:solidFill>
                  <a:srgbClr val="000000"/>
                </a:solidFill>
                <a:latin typeface="Georgia"/>
              </a:rPr>
              <a:t> </a:t>
            </a:r>
            <a:r>
              <a:rPr b="1" lang="en-US" sz="2700" spc="-1" strike="noStrike">
                <a:solidFill>
                  <a:srgbClr val="000000"/>
                </a:solidFill>
                <a:latin typeface="Georgia"/>
              </a:rPr>
              <a:t>Counter current exchanger (vasa recta mechanism): </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escending vasa recta loose water and gain solute and while ascending, vasa recta gain water and loose solute. The exchange of water and solute between the descending and ascending vasa recta and the surrounding interstitium is called “countercurrent exchange.” This </a:t>
            </a:r>
            <a:r>
              <a:rPr b="1" lang="en-US" sz="2700" spc="-1" strike="noStrike">
                <a:solidFill>
                  <a:srgbClr val="000000"/>
                </a:solidFill>
                <a:latin typeface="Georgia"/>
              </a:rPr>
              <a:t>prevents</a:t>
            </a:r>
            <a:r>
              <a:rPr b="0" lang="en-US" sz="2700" spc="-1" strike="noStrike">
                <a:solidFill>
                  <a:srgbClr val="000000"/>
                </a:solidFill>
                <a:latin typeface="Georgia"/>
              </a:rPr>
              <a:t> </a:t>
            </a:r>
            <a:r>
              <a:rPr b="1" lang="en-US" sz="2700" spc="-1" strike="noStrike">
                <a:solidFill>
                  <a:srgbClr val="000000"/>
                </a:solidFill>
                <a:latin typeface="Georgia"/>
              </a:rPr>
              <a:t>wash out of solutes </a:t>
            </a:r>
            <a:r>
              <a:rPr b="0" lang="en-US" sz="2700" spc="-1" strike="noStrike">
                <a:solidFill>
                  <a:srgbClr val="000000"/>
                </a:solidFill>
                <a:latin typeface="Georgia"/>
              </a:rPr>
              <a:t>from the medulla, thus maintaining its hyperosmolarity.</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6" name="Picture 2" descr="http://www.austincc.edu/apreview/NursingPics/RenalPics/Picture25.jpg"/>
          <p:cNvPicPr/>
          <p:nvPr/>
        </p:nvPicPr>
        <p:blipFill>
          <a:blip r:embed="rId1"/>
          <a:stretch/>
        </p:blipFill>
        <p:spPr>
          <a:xfrm>
            <a:off x="9937800" y="4979880"/>
            <a:ext cx="2082600" cy="16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9" name="Picture 2" descr="http://www.austincc.edu/apreview/NursingPics/RenalPics/Picture25.jpg"/>
          <p:cNvPicPr/>
          <p:nvPr/>
        </p:nvPicPr>
        <p:blipFill>
          <a:blip r:embed="rId1"/>
          <a:stretch/>
        </p:blipFill>
        <p:spPr>
          <a:xfrm>
            <a:off x="1882800" y="0"/>
            <a:ext cx="8537400" cy="671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15800" y="192240"/>
            <a:ext cx="10018440" cy="830160"/>
          </a:xfrm>
          <a:prstGeom prst="rect">
            <a:avLst/>
          </a:prstGeom>
          <a:solidFill>
            <a:srgbClr val="e8e5e2"/>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Counter current exchange, cont…..</a:t>
            </a:r>
            <a:endParaRPr b="0" lang="en-US" sz="2400" spc="-1" strike="noStrike">
              <a:solidFill>
                <a:srgbClr val="7b9899"/>
              </a:solidFill>
              <a:latin typeface="Georgia"/>
            </a:endParaRPr>
          </a:p>
        </p:txBody>
      </p:sp>
      <p:sp>
        <p:nvSpPr>
          <p:cNvPr id="641"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ditions that decrease medullary blood flow, such as volume depletion, improve urine concentrating ability and the efficiency of countercurrent exchange by allowing more time for blood in the ascending vasa recta to loose solute and achieve osmotic equilib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versely, conditions that increase medullary blood flow, such as osmotic diuresis, decrease urine concentrating ability and impair the efficiency of countercurrent exchang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iluting and concentrating mechanisms of the kidney</a:t>
            </a:r>
            <a:endParaRPr b="0" lang="en-US" sz="3300" spc="-1" strike="noStrike">
              <a:solidFill>
                <a:srgbClr val="7b9899"/>
              </a:solidFill>
              <a:latin typeface="Georgia"/>
            </a:endParaRPr>
          </a:p>
        </p:txBody>
      </p:sp>
      <p:sp>
        <p:nvSpPr>
          <p:cNvPr id="609"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Introduction:</a:t>
            </a:r>
            <a:endParaRPr b="0" lang="en-US" sz="28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Urine osmolality varies widely in response to changes in water intake. Following several hours without water intake, such as occurs overnight during sleep, human urine osmolality may rise to ∼1,200 mOsm/kg H</a:t>
            </a:r>
            <a:r>
              <a:rPr b="0" lang="en-US" sz="2700" spc="-1" strike="noStrike" baseline="-25000">
                <a:solidFill>
                  <a:srgbClr val="000000"/>
                </a:solidFill>
                <a:latin typeface="Georgia"/>
              </a:rPr>
              <a:t>2</a:t>
            </a:r>
            <a:r>
              <a:rPr b="0" lang="en-US" sz="2700" spc="-1" strike="noStrike">
                <a:solidFill>
                  <a:srgbClr val="000000"/>
                </a:solidFill>
                <a:latin typeface="Georgia"/>
              </a:rPr>
              <a:t>O, about 4-times plasma osmolality (∼300 mOsm/kg H</a:t>
            </a:r>
            <a:r>
              <a:rPr b="0" lang="en-US" sz="2700" spc="-1" strike="noStrike" baseline="-25000">
                <a:solidFill>
                  <a:srgbClr val="000000"/>
                </a:solidFill>
                <a:latin typeface="Georgia"/>
              </a:rPr>
              <a:t>2</a:t>
            </a:r>
            <a:r>
              <a:rPr b="0" lang="en-US" sz="2700" spc="-1" strike="noStrike">
                <a:solidFill>
                  <a:srgbClr val="000000"/>
                </a:solidFill>
                <a:latin typeface="Georgia"/>
              </a:rPr>
              <a:t>O). Conversely, urine osmolality may decrease rapidly following the ingestion of large quantities of water, such as commonly occurs at breakfast, human (and other mammals) urine osmolality may decrease to ∼50 mOsm/kg H</a:t>
            </a:r>
            <a:r>
              <a:rPr b="0" lang="en-US" sz="2700" spc="-1" strike="noStrike" baseline="-25000">
                <a:solidFill>
                  <a:srgbClr val="000000"/>
                </a:solidFill>
                <a:latin typeface="Georgia"/>
              </a:rPr>
              <a:t>2</a:t>
            </a:r>
            <a:r>
              <a:rPr b="0" lang="en-US" sz="2700" spc="-1" strike="noStrike">
                <a:solidFill>
                  <a:srgbClr val="000000"/>
                </a:solidFill>
                <a:latin typeface="Georgia"/>
              </a:rPr>
              <a:t>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484280" y="685800"/>
            <a:ext cx="10018800" cy="69840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Renal mechanisms for excreting a dilute urine</a:t>
            </a:r>
            <a:endParaRPr b="0" lang="en-US" sz="3600" spc="-1" strike="noStrike">
              <a:solidFill>
                <a:srgbClr val="7b9899"/>
              </a:solidFill>
              <a:latin typeface="Georgia"/>
            </a:endParaRPr>
          </a:p>
        </p:txBody>
      </p:sp>
      <p:sp>
        <p:nvSpPr>
          <p:cNvPr id="611" name=""/>
          <p:cNvSpPr txBox="1"/>
          <p:nvPr/>
        </p:nvSpPr>
        <p:spPr>
          <a:xfrm>
            <a:off x="1484280" y="1876320"/>
            <a:ext cx="10018800" cy="4981680"/>
          </a:xfrm>
          <a:prstGeom prst="rect">
            <a:avLst/>
          </a:prstGeom>
          <a:solidFill>
            <a:srgbClr val="e8e5e2"/>
          </a:solidFill>
          <a:ln w="0">
            <a:noFill/>
          </a:ln>
        </p:spPr>
        <p:txBody>
          <a:bodyPr lIns="90000" rIns="90000" tIns="46800" bIns="46800"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	</a:t>
            </a:r>
            <a:r>
              <a:rPr b="1" lang="en-US" sz="2600" spc="-1" strike="noStrike">
                <a:solidFill>
                  <a:srgbClr val="000000"/>
                </a:solidFill>
                <a:latin typeface="Georgia"/>
              </a:rPr>
              <a:t>Mechanisms:</a:t>
            </a:r>
            <a:endParaRPr b="0" lang="en-US" sz="26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1. </a:t>
            </a:r>
            <a:r>
              <a:rPr b="1" lang="en-US" sz="2500" spc="-1" strike="noStrike">
                <a:solidFill>
                  <a:srgbClr val="000000"/>
                </a:solidFill>
                <a:latin typeface="Georgia"/>
              </a:rPr>
              <a:t>PCT</a:t>
            </a:r>
            <a:r>
              <a:rPr b="0" lang="en-US" sz="2500" spc="-1" strike="noStrike">
                <a:solidFill>
                  <a:srgbClr val="000000"/>
                </a:solidFill>
                <a:latin typeface="Georgia"/>
              </a:rPr>
              <a:t>: Solutes &amp; H2O absorbed in equal proportion (tubular fluid =iso-osmotic with plasma).</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2. </a:t>
            </a:r>
            <a:r>
              <a:rPr b="1" lang="en-US" sz="2500" spc="-1" strike="noStrike">
                <a:solidFill>
                  <a:srgbClr val="000000"/>
                </a:solidFill>
                <a:latin typeface="Georgia"/>
              </a:rPr>
              <a:t>Descending loop</a:t>
            </a:r>
            <a:r>
              <a:rPr b="0" lang="en-US" sz="2500" spc="-1" strike="noStrike">
                <a:solidFill>
                  <a:srgbClr val="000000"/>
                </a:solidFill>
                <a:latin typeface="Georgia"/>
              </a:rPr>
              <a:t>: H2o reabsorbed by osmosis (tubular fluid hypertonic in equilibrium with renal medulla interstitium 1200 mOsm/L).</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1" lang="en-US" sz="2500" spc="-1" strike="noStrike">
                <a:solidFill>
                  <a:srgbClr val="000000"/>
                </a:solidFill>
                <a:latin typeface="Georgia"/>
              </a:rPr>
              <a:t>3.Thick Ascending loop of Henle &amp; early distal</a:t>
            </a:r>
            <a:r>
              <a:rPr b="0" lang="en-US" sz="2500" spc="-1" strike="noStrike">
                <a:solidFill>
                  <a:srgbClr val="000000"/>
                </a:solidFill>
                <a:latin typeface="Georgia"/>
              </a:rPr>
              <a:t>: tubular fluid diluted due to 1Na-1K-2Cl. This segmnet is impermeable to H2O </a:t>
            </a:r>
            <a:r>
              <a:rPr b="1" lang="en-US" sz="2500" spc="-1" strike="noStrike">
                <a:solidFill>
                  <a:srgbClr val="000000"/>
                </a:solidFill>
                <a:latin typeface="Georgia"/>
              </a:rPr>
              <a:t>even in presence of ADH </a:t>
            </a:r>
            <a:r>
              <a:rPr b="0" lang="en-US" sz="2500" spc="-1" strike="noStrike">
                <a:solidFill>
                  <a:srgbClr val="000000"/>
                </a:solidFill>
                <a:latin typeface="Georgia"/>
              </a:rPr>
              <a:t>(tubular fluid osmolality =100 mOsm/L).</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4. </a:t>
            </a:r>
            <a:r>
              <a:rPr b="1" lang="en-US" sz="2500" spc="-1" strike="noStrike">
                <a:solidFill>
                  <a:srgbClr val="000000"/>
                </a:solidFill>
                <a:latin typeface="Georgia"/>
              </a:rPr>
              <a:t>Distal &amp; collecting tubule</a:t>
            </a:r>
            <a:r>
              <a:rPr b="0" lang="en-US" sz="2500" spc="-1" strike="noStrike">
                <a:solidFill>
                  <a:srgbClr val="000000"/>
                </a:solidFill>
                <a:latin typeface="Georgia"/>
              </a:rPr>
              <a:t>: Tubular fluid become further diluted due to absence of ADH + additional absorption of solutes (NaCl). Tubular fluid become more diluted (50 mOsm/L) and a diluted urine will be excreted.</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https://classconnection.s3.amazonaws.com/33/flashcards/602033/jpg/water_diuresis_-_nacl_and_water_reabsorption1316761448487.jpg"/>
          <p:cNvPicPr/>
          <p:nvPr/>
        </p:nvPicPr>
        <p:blipFill>
          <a:blip r:embed="rId1"/>
          <a:stretch/>
        </p:blipFill>
        <p:spPr>
          <a:xfrm>
            <a:off x="3971880" y="168120"/>
            <a:ext cx="7691400" cy="6256440"/>
          </a:xfrm>
          <a:prstGeom prst="rect">
            <a:avLst/>
          </a:prstGeom>
          <a:ln w="0">
            <a:noFill/>
          </a:ln>
        </p:spPr>
      </p:pic>
      <p:sp>
        <p:nvSpPr>
          <p:cNvPr id="613" name="TextBox 13"/>
          <p:cNvSpPr/>
          <p:nvPr/>
        </p:nvSpPr>
        <p:spPr>
          <a:xfrm>
            <a:off x="1022400" y="3236760"/>
            <a:ext cx="287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rine dilution occurs in absence of ADH</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 urine osmolality drops in  inner medullary collecting 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326960" y="144000"/>
            <a:ext cx="10018440" cy="120348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Urinary concentrating mechanisms</a:t>
            </a:r>
            <a:endParaRPr b="0" lang="en-US" sz="3300" spc="-1" strike="noStrike">
              <a:solidFill>
                <a:srgbClr val="7b9899"/>
              </a:solidFill>
              <a:latin typeface="Georgia"/>
            </a:endParaRPr>
          </a:p>
        </p:txBody>
      </p:sp>
      <p:sp>
        <p:nvSpPr>
          <p:cNvPr id="615" name=""/>
          <p:cNvSpPr txBox="1"/>
          <p:nvPr/>
        </p:nvSpPr>
        <p:spPr>
          <a:xfrm>
            <a:off x="401760" y="1527120"/>
            <a:ext cx="11339280" cy="4572000"/>
          </a:xfrm>
          <a:prstGeom prst="rect">
            <a:avLst/>
          </a:prstGeom>
          <a:noFill/>
          <a:ln w="0">
            <a:noFill/>
          </a:ln>
        </p:spPr>
        <p:txBody>
          <a:bodyPr lIns="90000" rIns="90000" tIns="46800" bIns="46800" anchor="t">
            <a:normAutofit fontScale="98000"/>
          </a:bodyPr>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Introduction:</a:t>
            </a:r>
            <a:endParaRPr b="0" lang="en-US" sz="30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 mammalian kidneys maintain an osmotic gradient that increases from the cortico-medullary boundary to the tip of the medulla (papillary tip). This osmotic gradient is sustained even in diuresis, although its magnitude is diminished relative to antidiuresis. </a:t>
            </a:r>
            <a:endParaRPr b="0" lang="en-US" sz="25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aCl is the major constituent of the osmotic gradient in the outer medulla, while NaCl and urea are the major constituents in the inner medulla.</a:t>
            </a:r>
            <a:endParaRPr b="0" lang="en-US" sz="25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cortex is nearly isotonic to plasma, while the inner medullary (papillary) tip is hypertonic to plasma, and has osmolality similar to urine during antidiuresi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rine concentration</a:t>
            </a:r>
            <a:endParaRPr b="0" lang="en-US" sz="3300" spc="-1" strike="noStrike">
              <a:solidFill>
                <a:srgbClr val="7b9899"/>
              </a:solidFill>
              <a:latin typeface="Georgia"/>
            </a:endParaRPr>
          </a:p>
        </p:txBody>
      </p:sp>
      <p:sp>
        <p:nvSpPr>
          <p:cNvPr id="617"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basic requirement to form a concentrated urin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 High levels of ADH.</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High osmolarity of renal medullary interstitial fluid to provide the osmotic gradient needed for H2O reabsorption in the presence of AD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UNTER CURRENT MECHANISM</a:t>
            </a:r>
            <a:endParaRPr b="0" lang="en-US" sz="3300" spc="-1" strike="noStrike">
              <a:solidFill>
                <a:srgbClr val="7b9899"/>
              </a:solidFill>
              <a:latin typeface="Georgia"/>
            </a:endParaRPr>
          </a:p>
        </p:txBody>
      </p:sp>
      <p:sp>
        <p:nvSpPr>
          <p:cNvPr id="619"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OOPS OF HENLE OF JUXTA MEDULLARY NEPHRONS establish hyperosmolality of interstitium of medulla. They are called COUNTER CURRENT MULTIPLIE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VASA RECTA maintain hyperosmolality established by counter current multipliers. They are called COUNTER CURRENT EXCHANG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2" name="Picture 2" descr="http://www.zuniv.net/physiology/book/images/25-14.jpg"/>
          <p:cNvPicPr/>
          <p:nvPr/>
        </p:nvPicPr>
        <p:blipFill>
          <a:blip r:embed="rId1"/>
          <a:stretch/>
        </p:blipFill>
        <p:spPr>
          <a:xfrm>
            <a:off x="1538280" y="144360"/>
            <a:ext cx="9387000" cy="652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84280" y="192240"/>
            <a:ext cx="10018800" cy="128736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ounter current multiplier mechanism</a:t>
            </a:r>
            <a:endParaRPr b="0" lang="en-US" sz="3300" spc="-1" strike="noStrike">
              <a:solidFill>
                <a:srgbClr val="7b9899"/>
              </a:solidFill>
              <a:latin typeface="Georgia"/>
            </a:endParaRPr>
          </a:p>
        </p:txBody>
      </p:sp>
      <p:sp>
        <p:nvSpPr>
          <p:cNvPr id="624" name=""/>
          <p:cNvSpPr txBox="1"/>
          <p:nvPr/>
        </p:nvSpPr>
        <p:spPr>
          <a:xfrm>
            <a:off x="1484280" y="1190160"/>
            <a:ext cx="10018800" cy="56674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1" lang="en-US" sz="2500" spc="-1" strike="noStrike">
                <a:solidFill>
                  <a:srgbClr val="000000"/>
                </a:solidFill>
                <a:latin typeface="Georgia"/>
              </a:rPr>
              <a:t> </a:t>
            </a:r>
            <a:r>
              <a:rPr b="1" lang="en-US" sz="2500" spc="-1" strike="noStrike">
                <a:solidFill>
                  <a:srgbClr val="000000"/>
                </a:solidFill>
                <a:latin typeface="Georgia"/>
              </a:rPr>
              <a:t>Definition</a:t>
            </a:r>
            <a:r>
              <a:rPr b="0" lang="en-US" sz="2500" spc="-1" strike="noStrike">
                <a:solidFill>
                  <a:srgbClr val="000000"/>
                </a:solidFill>
                <a:latin typeface="Georgia"/>
              </a:rPr>
              <a:t>: Countercurrent multiplication refers to the process by which a small osmolality difference (produced by reabsorption of solutes into the medulla), at each level of the outer medulla, between fluid flows in ascending and descending limbs of the loops of Henle, is multiplied by the countercurrent flow configuration to establish a large axial osmolality difference, from 300 mOsm/L by the end of PCT to 1200 mOsm/L at the tip of the loop of Henle.  </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In a  counter current system the in flow is parallel to, close to and opposite to the outflow.</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dding more solutes to medulla in excess of H2O….TRAP SOLUTES IN MEDULLA and multiplies concentration gradient by active pumping out of thick LH.</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06:18:22Z</dcterms:created>
  <dc:creator>DR.EMAN</dc:creator>
  <dc:description/>
  <dc:language>en-US</dc:language>
  <cp:lastModifiedBy>user</cp:lastModifiedBy>
  <dcterms:modified xsi:type="dcterms:W3CDTF">2015-05-04T22:03:50Z</dcterms:modified>
  <cp:revision>63</cp:revision>
  <dc:subject/>
  <dc:title>Glomerular Filtration</dc:title>
</cp:coreProperties>
</file>