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248B-EBD4-4098-97D9-74E583DE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3903-A6A9-4F94-B7D6-DBB5D88D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140F-BF20-4545-A835-1A8DA54E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E6FF-223F-49B9-A46C-5D820C29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88D7-87D3-4D6E-A4CB-EF1B2FFB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B10F-F82F-4548-A586-9C44B710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6796-69D0-48BE-B687-2DBFADE5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CC52-6B16-40CB-858A-7BCC6443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E729-B659-42AA-8789-CCA9CE29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7D69-9FE5-4B10-86BD-E732F410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304A-A523-42F7-A178-B15E4504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04C0-7253-4B1F-A237-DC0F2FB2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735E-74A5-4DD1-8055-6B375362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6F08-8C82-4C46-BBCE-71AD4C7A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A71B-1122-40E0-9732-13E6C531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7FAD-4488-4160-A847-AC6E2EF2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ACD3-10AF-4628-AA64-6A6420D8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CEB24-7B5F-4855-9B9B-207C689DD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5D1FA-C8C1-4E12-A904-15E78FF9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C1BF62-5AF2-4D88-9C20-596B6EFD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F9265A-86B9-488B-AA31-BA05DE0A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F1C577-6FF4-48C5-B897-6ADB78EB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1068-DDEF-4A0C-B170-48419878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BB1B51-FB8D-44EB-864E-B6894385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6B482-7373-4C62-8E7A-C44B90D2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664E82-CAE7-47C0-B822-29F2B0F9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1585F-73E1-4A67-92BC-5A1DAF85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10460C-6A39-4EB9-85B2-B8246F38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86010D-141F-4691-BD9E-7376E6B6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028597-66D7-48AD-BD4A-02BCA523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E3D550-6A13-47C1-81CB-1F2CE0E8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82F624-6167-4B80-8029-B559F348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630EF0-45F1-42A4-9074-A71DE3DC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708F-1DE6-42A7-A7B5-489F8527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0CB017-83FE-4FE8-8501-A7CBA908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C6A844-D36C-432A-A9A0-3C9BEFAB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312A05-61ED-4FA0-A2D2-2ADEA2A0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26FA85-23AD-4902-9AE8-EFE37C18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674C81-5749-44D3-A928-C7A6CDF6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B6A9B8-E8EC-49C9-B506-41110891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54BAC1-2D8A-4C59-9F2A-4AFFB6B0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4EBC12-3BC4-4025-9336-8561B96A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ABE5A6-5E2A-4A28-AF89-4795655B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FEAA5A-D47E-4094-9BDD-2A6FCCCF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817F-A965-449A-A8D0-2DEF192D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54B096-CA77-46C8-A96E-0CEEE305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7B6DF0-7EDA-4D97-B548-63C46E32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A04182-6A0F-4EFC-8B7A-6D7E11F6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389396-DBEF-4DE9-BF38-7498EFE6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260D39-F599-4B86-A1EB-CD278F37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384503-9F72-431B-BFB1-02097B0A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BA0F5C-033F-4C77-8E75-24E4F55A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C443BA-CC29-4699-814F-2736C44C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A252B4-D04C-43A5-A570-D6206078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06E48C-5E84-45FD-9358-248153CA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19B7-0C85-4F75-9528-3FEFAB75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8D7868-2DF7-4FE3-8B33-4923B38E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B8880-EE05-465E-AAAE-D300997D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F4E16-BBCD-4489-A2E4-19D249FF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7B02F-6DCF-4CEF-97B7-67C8A783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DEC70-4149-4C7B-A035-D19BFC59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CE990-3517-40E6-B3F4-21981DD0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6381C-49A3-44E1-8189-970E702B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741E3-5806-4BDA-ABA7-6AE51891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2FE96-92D7-4FA9-A463-9D0C950E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6FA40-2328-4BD3-8A44-E9D8303A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5A68-07BA-45E0-BE1A-31B97EA4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F21BE-317D-42A2-9C27-F35407E9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32147-BFD9-4938-912A-6957968C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E9DB6-E19E-462B-8DAF-8B7B306D7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DAF996-71B3-42E6-8EE5-D0F0F5F9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6826E0-7618-4F92-A201-21CD447B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CBD7A6-4CDB-4F7F-8A87-BA0A7C00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2B140E-1A55-4335-88BA-57423F08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72F1DF-EB31-4C30-9146-49D2FF62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F2ADE9-4368-4CB5-93AC-15890379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E6CD21-B018-431C-8D68-48C38CB1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D10A-B359-416D-91C6-5AA35E96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B1D27D-A8C6-45DA-90C8-6BBB2960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DC86CC-1F3C-4952-8CA8-A4311194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E052E4-21A7-47B9-8B80-873E3095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091BF2-5658-4AB3-8FF5-F7549760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85CD9B-8B2A-466E-BD1A-21664087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7A9BB-BD21-4621-ADD8-F77EBF09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1CE47-E232-4247-86B7-28EE5629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424D2-04D2-4636-B311-50417221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1542A-20A3-4134-9441-C8B11085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81E2B-1B1A-445D-93EB-42DDA538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3C47-76AD-4FDD-8450-55599E14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6384F-4551-4DDD-9704-33423F32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64F17-1D05-4F3E-AE53-EE1FF62C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5A972-A17A-42BE-B7A7-9C96765E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E12B1-4CC7-4966-AEE7-224A4FA4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48DC5-EEC6-461B-B0DD-56B8D786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CB5F3-E372-4853-BB5E-84E240AB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1402E-A836-41C5-9A21-26AAAF96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0895-E624-4778-BF13-00E14DF0729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839B-0525-4B89-88F4-33F71FACA163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592C-B4EF-4181-A6F6-6531D9681186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1901-89C5-4CE0-B5B1-3BA076EADD8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74E9-7FE0-4B61-B9E1-DFD4F10C184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1C86-8091-46EF-AD0D-CB254F900F96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164B-74D9-48B3-862B-EE8492E0A7AB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2E3A-528F-429B-B43A-252F2409BA1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RENAL REGULATION OF BODY FLUID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Dr. Eman El Eter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Osmoreceptor mechanism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0" name="Picture 2" descr="http://i61.photobucket.com/albums/h41/musuq/Physio/ADHaxn.jpg"/>
          <p:cNvPicPr/>
          <p:nvPr/>
        </p:nvPicPr>
        <p:blipFill>
          <a:blip r:embed="rId1"/>
          <a:stretch/>
        </p:blipFill>
        <p:spPr>
          <a:xfrm>
            <a:off x="2943360" y="1628640"/>
            <a:ext cx="6200640" cy="4845240"/>
          </a:xfrm>
          <a:prstGeom prst="rect">
            <a:avLst/>
          </a:prstGeom>
          <a:ln w="0">
            <a:noFill/>
          </a:ln>
        </p:spPr>
      </p:pic>
      <p:sp>
        <p:nvSpPr>
          <p:cNvPr id="371" name="TextBox 4"/>
          <p:cNvSpPr/>
          <p:nvPr/>
        </p:nvSpPr>
        <p:spPr>
          <a:xfrm>
            <a:off x="395280" y="2133720"/>
            <a:ext cx="2448000" cy="146556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Changes in plasma osmolarity can lead to a cascade of events to return it back to nor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What happens if ECF osmolarity increased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CF osmolar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+) osmoreceptors in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t. Hypothalamus &amp;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nd signals to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upraoptic nucleus,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n to posterior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ituitary    (+) ADH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 increase H2O absorp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4" name="Picture 2" descr="http://img.tfd.com/mk/V/X2604-V-07.png"/>
          <p:cNvPicPr/>
          <p:nvPr/>
        </p:nvPicPr>
        <p:blipFill>
          <a:blip r:embed="rId1"/>
          <a:stretch/>
        </p:blipFill>
        <p:spPr>
          <a:xfrm>
            <a:off x="4344840" y="1700280"/>
            <a:ext cx="4799160" cy="3744720"/>
          </a:xfrm>
          <a:prstGeom prst="rect">
            <a:avLst/>
          </a:prstGeom>
          <a:ln w="0">
            <a:noFill/>
          </a:ln>
        </p:spPr>
      </p:pic>
      <p:cxnSp>
        <p:nvCxnSpPr>
          <p:cNvPr id="375" name="Straight Arrow Connector 5"/>
          <p:cNvCxnSpPr/>
          <p:nvPr/>
        </p:nvCxnSpPr>
        <p:spPr>
          <a:xfrm flipV="1">
            <a:off x="971280" y="1699560"/>
            <a:ext cx="1080" cy="36108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6" name="Straight Arrow Connector 9"/>
          <p:cNvCxnSpPr/>
          <p:nvPr/>
        </p:nvCxnSpPr>
        <p:spPr>
          <a:xfrm>
            <a:off x="2123640" y="2060640"/>
            <a:ext cx="1080" cy="21672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7" name="Straight Arrow Connector 14"/>
          <p:cNvCxnSpPr/>
          <p:nvPr/>
        </p:nvCxnSpPr>
        <p:spPr>
          <a:xfrm>
            <a:off x="1979640" y="5157360"/>
            <a:ext cx="289440" cy="108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Where in the brain ADH is formed?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9" name="Picture 2" descr="http://www.rci.rutgers.edu/%7Euzwiak/AnatPhys/PPFall03Lect8_files/image010.jpg"/>
          <p:cNvPicPr/>
          <p:nvPr/>
        </p:nvPicPr>
        <p:blipFill>
          <a:blip r:embed="rId1"/>
          <a:stretch/>
        </p:blipFill>
        <p:spPr>
          <a:xfrm>
            <a:off x="2050920" y="1484280"/>
            <a:ext cx="5496120" cy="5102280"/>
          </a:xfrm>
          <a:prstGeom prst="rect">
            <a:avLst/>
          </a:prstGeom>
          <a:ln w="0">
            <a:noFill/>
          </a:ln>
        </p:spPr>
      </p:pic>
      <p:sp>
        <p:nvSpPr>
          <p:cNvPr id="380" name="TextBox 4"/>
          <p:cNvSpPr/>
          <p:nvPr/>
        </p:nvSpPr>
        <p:spPr>
          <a:xfrm>
            <a:off x="7164360" y="2060640"/>
            <a:ext cx="1584360" cy="9169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ain site for ADH 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5"/>
          <p:cNvSpPr/>
          <p:nvPr/>
        </p:nvSpPr>
        <p:spPr>
          <a:xfrm>
            <a:off x="324000" y="4365720"/>
            <a:ext cx="1584000" cy="119124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DH is stored in posterior pitui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5b22"/>
                </a:solidFill>
                <a:latin typeface="Tw Cen MT"/>
              </a:rPr>
              <a:t>Osmotic vs non-osmotic stimuli; effect on ADH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3" name="Picture 2" descr="http://www.ijem.in/articles/2012/16/2/images/IndianJEndocrMetab_2012_16_2_183_93734_t2.jpg"/>
          <p:cNvPicPr/>
          <p:nvPr/>
        </p:nvPicPr>
        <p:blipFill>
          <a:blip r:embed="rId1"/>
          <a:stretch/>
        </p:blipFill>
        <p:spPr>
          <a:xfrm>
            <a:off x="709560" y="1773360"/>
            <a:ext cx="8148600" cy="482436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7812000" y="2565360"/>
            <a:ext cx="1081080" cy="9169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apid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5"/>
          <p:cNvSpPr/>
          <p:nvPr/>
        </p:nvSpPr>
        <p:spPr>
          <a:xfrm>
            <a:off x="6659640" y="3789360"/>
            <a:ext cx="2016000" cy="9169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VP=arginine vasopressin=A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7" descr="http://www.cvpharmacology.com/uploads/images/AVP.gif"/>
          <p:cNvPicPr/>
          <p:nvPr/>
        </p:nvPicPr>
        <p:blipFill>
          <a:blip r:embed="rId2"/>
          <a:stretch/>
        </p:blipFill>
        <p:spPr>
          <a:xfrm>
            <a:off x="6281640" y="4446720"/>
            <a:ext cx="28576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ummary of actions &amp; stimuli of AD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8" name="Picture 2" descr="http://cvphysiology.com/Blood%20Pressure/BP016%20ADH.png"/>
          <p:cNvPicPr/>
          <p:nvPr/>
        </p:nvPicPr>
        <p:blipFill>
          <a:blip r:embed="rId1"/>
          <a:stretch/>
        </p:blipFill>
        <p:spPr>
          <a:xfrm>
            <a:off x="2124000" y="1844640"/>
            <a:ext cx="443556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5b22"/>
                </a:solidFill>
                <a:latin typeface="Tw Cen MT"/>
              </a:rPr>
              <a:t>Non-osmotic stimuli releasing ADH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rterial baroreceptor reflex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hemoreceptor reflex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enever BP &amp; blood volume reduced, ADH is released           water retention by the kidney to restore BP to norma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ay-to-day regulation of ADH secretion is effected mainly by changes in plasma osmolarit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391" name="Straight Arrow Connector 4"/>
          <p:cNvCxnSpPr/>
          <p:nvPr/>
        </p:nvCxnSpPr>
        <p:spPr>
          <a:xfrm>
            <a:off x="2556000" y="3428640"/>
            <a:ext cx="721440" cy="108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ole of Ang II &amp; aldostero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y do not normally play a major role in controlling ECF osmolarity and Na+ concentr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ir major role is to absorb sodium through distal convoluted tubules, leading to greater extracellular fluid volume and sodium quantit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ake home messag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H-thirst is the most powerful feedback system in the body for controlling extracellular fluid osmolarity and volum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5b22"/>
                </a:solidFill>
                <a:latin typeface="Tw Cen MT"/>
              </a:rPr>
              <a:t>What is the impact of the following on your body fluid volume and osmolarity?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happens when you are exposed to hot weather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if you have a stomach bug and excessive diarrhea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if you drink 2 liters of fluid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6" name="Picture 2" descr="http://image.slidesharecdn.com/bodyfluids-new-101020230204-phpapp02/95/body-fluids-new-5-728.jpg?cb=1287615794"/>
          <p:cNvPicPr/>
          <p:nvPr/>
        </p:nvPicPr>
        <p:blipFill>
          <a:blip r:embed="rId1"/>
          <a:stretch/>
        </p:blipFill>
        <p:spPr>
          <a:xfrm>
            <a:off x="1187280" y="1268280"/>
            <a:ext cx="693432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CF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stant concentration of electrolytes &amp; solu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y create the osmolarity of ECF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a+, Cl- most abundant osmostic molecu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smolality is determined by the amount of extracellular NaCl and water which depends upon balance between intake and excretion of these substanc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rmal plasma Na+ = 140-145 mEq/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smolarity = 300 mOsm/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o stay in a state of fluid balance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TextBox 2"/>
          <p:cNvSpPr/>
          <p:nvPr/>
        </p:nvSpPr>
        <p:spPr>
          <a:xfrm>
            <a:off x="1547640" y="2060640"/>
            <a:ext cx="280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=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= 1500 ml/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2O &amp; fluid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= 1500 ml/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iration (water vap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ea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5b22"/>
                </a:solidFill>
                <a:latin typeface="Tw Cen MT"/>
              </a:rPr>
              <a:t>Control of ECF volume &amp;osmolarity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gulation of inpu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smoreceptors/Thirst mechanism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gulation of output: Renal regul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H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giotensin/Aldosteron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irst mechanis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4" name="Picture 2" descr="http://apbrwww5.apsu.edu/thompsonj/Anatomy%20&amp;%20Physiology/2020/2020%20Exam%20Reviews/Exam%204/thirst%20regulation%20figure.jpg"/>
          <p:cNvPicPr/>
          <p:nvPr/>
        </p:nvPicPr>
        <p:blipFill>
          <a:blip r:embed="rId1"/>
          <a:stretch/>
        </p:blipFill>
        <p:spPr>
          <a:xfrm>
            <a:off x="255600" y="2133720"/>
            <a:ext cx="84279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5b22"/>
                </a:solidFill>
                <a:latin typeface="Tw Cen MT"/>
              </a:rPr>
              <a:t>Role of thirst in controlling ECF osmolarity &amp; fluid volume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o stay in balance water intake = water los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Fluid intake is regulated by thirst mechanism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w Cen MT"/>
              </a:rPr>
              <a:t>Stimuli of thirst mechanism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w Cen MT"/>
              </a:rPr>
              <a:t>A</a:t>
            </a:r>
            <a:r>
              <a:rPr b="0" lang="en-US" sz="2500" spc="-1" strike="noStrike" u="sng">
                <a:solidFill>
                  <a:srgbClr val="b95b22"/>
                </a:solidFill>
                <a:uFillTx/>
                <a:latin typeface="Tw Cen MT"/>
              </a:rPr>
              <a:t>. </a:t>
            </a:r>
            <a:r>
              <a:rPr b="1" lang="en-US" sz="2500" spc="-1" strike="noStrike" u="sng">
                <a:solidFill>
                  <a:srgbClr val="b95b22"/>
                </a:solidFill>
                <a:uFillTx/>
                <a:latin typeface="Tw Cen MT"/>
              </a:rPr>
              <a:t>Increase thirst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95b22"/>
                </a:solidFill>
                <a:latin typeface="Tw Cen MT"/>
              </a:rPr>
              <a:t>	</a:t>
            </a:r>
            <a:r>
              <a:rPr b="1" lang="en-US" sz="2500" spc="-1" strike="noStrike">
                <a:solidFill>
                  <a:srgbClr val="b95b22"/>
                </a:solidFill>
                <a:latin typeface="Tw Cen MT"/>
              </a:rPr>
              <a:t>Increased osmolarity ECF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95b22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b95b22"/>
                </a:solidFill>
                <a:latin typeface="Tw Cen MT"/>
              </a:rPr>
              <a:t>Decreased ECF volume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Decreased blood pressure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95b22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b95b22"/>
                </a:solidFill>
                <a:latin typeface="Tw Cen MT"/>
              </a:rPr>
              <a:t>Angiotensin II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Dryness of the mouth.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w Cen MT"/>
              </a:rPr>
              <a:t>B. </a:t>
            </a:r>
            <a:r>
              <a:rPr b="1" lang="en-US" sz="2500" spc="-1" strike="noStrike" u="sng">
                <a:solidFill>
                  <a:srgbClr val="b95b22"/>
                </a:solidFill>
                <a:uFillTx/>
                <a:latin typeface="Tw Cen MT"/>
              </a:rPr>
              <a:t>Decrease thirst?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95b22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b95b22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b95b22"/>
                </a:solidFill>
                <a:latin typeface="Tw Cen MT"/>
              </a:rPr>
              <a:t>Gastric distention decreases thirst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5b22"/>
                </a:solidFill>
                <a:latin typeface="Tw Cen MT"/>
              </a:rPr>
              <a:t>Role of thirst in controlling ECF osmolarity &amp; Na+ concentration, cont….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desire to thirst is completely satisfied whe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lasma osmolarity,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lood volume,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r both return to norm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5T21:48:04Z</dcterms:created>
  <dc:creator>user</dc:creator>
  <dc:description/>
  <dc:language>en-US</dc:language>
  <cp:lastModifiedBy>GCUSER</cp:lastModifiedBy>
  <dcterms:modified xsi:type="dcterms:W3CDTF">2015-05-05T10:59:18Z</dcterms:modified>
  <cp:revision>13</cp:revision>
  <dc:subject/>
  <dc:title>Renal regulation of body fluid</dc:title>
</cp:coreProperties>
</file>