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FCA-E00E-4F0E-92E4-376DB3C9C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ED90-34C0-4B8B-94DE-BB70743E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F0E-9E72-47C4-AA87-78964A7D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22C1-A2EB-4569-852B-ACDCE9A5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F6E3-86F8-49DF-A3B3-6718BA92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579F-8091-4991-9FA0-521C2495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D044-C4F0-4770-99F4-5884EB4F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048F-1390-48B0-8B0C-41E2B778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A3D8-D74E-423C-8A2C-E652469C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F3BF-307F-4532-8045-F0A3B8A3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46A4-15C4-4CE4-ADBC-97B73DA5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B49F-A0F6-4A4D-8558-B1B3CF0E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5AD0-2338-428A-95F7-2CFD0EBC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0245-F392-41CF-8570-2A434B48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526A-03FC-4EC6-A521-17588C29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38F8-0B33-4344-9A1D-A33E2723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0504-81A0-40DF-8C9F-8B59E4E8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1F2F68-57D9-4218-891D-A2DEADD4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BEFD03-8AE0-4BD4-9380-0509F704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82458-7B88-440D-B605-598410F1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D328C-D026-4350-A477-8C4C0176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560C6-BDFB-4516-8E7C-BF0758A7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DCA-CB5F-479F-8895-25907AF9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B71F3-43B7-41A7-9A10-2A06E541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FEA4F4-69AC-40EC-8173-E57DCB0A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102ECB-BCC6-415C-9DEF-60635AFE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03D1A-9CBB-450C-8DE8-9F43A855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5183A-7885-448C-9010-B1C12F43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D9127-7A40-4322-9081-9113931B0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4B434-E48F-4A4E-9116-CC4A9B85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78AE87-522F-4F41-B077-985D8E09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266FA5-5091-41AD-8883-D8865CA3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921FDB-31DB-4E3C-8219-72601269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900-5A7A-4E5E-9B7C-6B0E79F4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873F20-DAA7-476E-A55D-A8434C98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DE4B33-D0AB-4B4D-9B02-16BD855D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71E500-B8F6-42EE-AAE4-505D1920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E9898D-B52A-4A79-99E2-0CDF7750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5E1420-3EDC-4B5E-A196-2A329398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B6A19A-5328-4A42-AA79-9B79241A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8A0D11-3BC6-419C-ABE3-FEF647FB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A0E518-F3AD-4E1D-AEA9-F1CAEF10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D968A5-C7FD-40EF-8154-44B2E9CF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57F4EE-E273-4C0D-ADA0-BFE060EE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32F-7562-44E4-8BD8-2CBCE9FC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AC8F3A-060D-4212-A7C7-3A462702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7F9074-9DEA-427F-810D-2EE7221E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00254E-ABCF-43E0-B143-8ED6D6AC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A036B0-A980-44EE-A077-24BCC5C7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1E3F46-347C-4ECA-80FA-64182489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072BEF-0944-48E1-800B-D73D40E5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472756-C22F-4986-8461-30ACF755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A1039B-E787-4E75-8A41-9C41CD10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C181DA-9C97-4B6F-B02D-5FA602B6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3D06C6-AA4E-4CE5-B00E-82E3B146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D0E6-136C-4B17-9CB3-CF9FD298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0BC6BE-AE68-4FEA-BAFA-52F9CC01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88827-52D6-4642-B0B1-0560DF16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33695-34DE-4618-9FAF-A090E892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11372-4AD4-4213-96DD-3723A789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29CBC-F04E-4264-906F-BD74CDFF0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573A9-2502-413A-BCA4-DB4537AD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557EA-D640-44D9-8280-C8612A15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C7B40-E924-485A-8E14-66533B8F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904A9-5EE3-46F2-8682-A4BE2F28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2A4C5-CF02-4050-ABFA-F5D6718F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F163-503D-4163-9F12-05413989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55812-A256-4A60-AD0A-BD313F29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A880C-32A9-4E12-835C-011DB374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26D22-401E-457A-B462-E1C476F1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574F47-7A5E-423D-96E3-C868338D6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46AF98-336C-4CCF-A15A-77C3C7C1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85D03B-3ABF-4212-9F83-828FF52A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70FE3F-79BC-4C40-857F-3D941F32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406A4A-3B91-4D80-A58E-FEA739E9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80CD1B-30FB-462F-AAF1-52381A40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3DE953-369C-403A-9863-7E80E61B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0628-4D99-4956-9BDA-F5FF3056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4A9C50-C089-483F-813B-BFB49AC8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7F55C7-1FDC-4C3E-ACB4-D4A532F3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247F39-8649-4EFB-9170-C43C77B6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C57494-9248-4012-8913-F33FBBC0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B07640-2E6A-4F1D-B193-7CC8ADFB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FAF3A-E6FA-402C-BB70-7AC99D388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469B1-D9C1-4161-ADD3-4F2B99D8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88B6E-F3F3-4E32-AC4A-824589C9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F5857-B9EA-4A96-8B54-0B413428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8CDDF-BACB-4EA6-96D5-5069E5E7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52B-1333-4F51-AFA4-43D1C00C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8018D-432D-44A2-A795-030F9289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C36E4-BC45-47EF-A8AD-3B7C2247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B00CA-4D07-4E5A-A91B-73E46E5C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BD57D-7754-49DE-8C66-5A22F13E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4C797-A871-4FE3-9A6F-E7769786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294FD-A916-4E6F-981C-B5E279F8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5CDC8-F70F-4520-AC39-29A0ABB3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EA99-ECFA-4565-964D-3FB67450835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CF96-835C-4A76-A522-0C10A8EB150E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4029-49FC-43D1-ACF1-2A0B22A099C3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BFC0-8B43-461D-9AAF-176A44C2D11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B7E2-08DE-4845-8A7E-3F02B2716D5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038C-8962-4834-A1F2-F69079F605AE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EC9A-07C4-4798-8848-379FA3D97095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15CB-8CAA-46BF-8BD4-4755ACA6DF2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RENAL REGULATION OF BODY FLUID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Dr. Eman El Ete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Osmoreceptor mechanism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2" descr="http://i61.photobucket.com/albums/h41/musuq/Physio/ADHaxn.jpg"/>
          <p:cNvPicPr/>
          <p:nvPr/>
        </p:nvPicPr>
        <p:blipFill>
          <a:blip r:embed="rId1"/>
          <a:stretch/>
        </p:blipFill>
        <p:spPr>
          <a:xfrm>
            <a:off x="2943360" y="1628640"/>
            <a:ext cx="6200640" cy="4845240"/>
          </a:xfrm>
          <a:prstGeom prst="rect">
            <a:avLst/>
          </a:prstGeom>
          <a:ln w="0">
            <a:noFill/>
          </a:ln>
        </p:spPr>
      </p:pic>
      <p:sp>
        <p:nvSpPr>
          <p:cNvPr id="371" name="TextBox 4"/>
          <p:cNvSpPr/>
          <p:nvPr/>
        </p:nvSpPr>
        <p:spPr>
          <a:xfrm>
            <a:off x="395280" y="2133720"/>
            <a:ext cx="2448000" cy="146556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Changes in plasma osmolarity can lead to a cascade of events to return it back to 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What happens if ECF osmolarity increased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CF osmolar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+) osmoreceptors in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t. Hypothalamus &amp;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nd signals to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upraoptic nucleus,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n to posterior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ituitary    (+) AD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o increase H2O absorp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4" name="Picture 2" descr="http://img.tfd.com/mk/V/X2604-V-07.png"/>
          <p:cNvPicPr/>
          <p:nvPr/>
        </p:nvPicPr>
        <p:blipFill>
          <a:blip r:embed="rId1"/>
          <a:stretch/>
        </p:blipFill>
        <p:spPr>
          <a:xfrm>
            <a:off x="4344840" y="1700280"/>
            <a:ext cx="4799160" cy="3744720"/>
          </a:xfrm>
          <a:prstGeom prst="rect">
            <a:avLst/>
          </a:prstGeom>
          <a:ln w="0">
            <a:noFill/>
          </a:ln>
        </p:spPr>
      </p:pic>
      <p:cxnSp>
        <p:nvCxnSpPr>
          <p:cNvPr id="375" name="Straight Arrow Connector 5"/>
          <p:cNvCxnSpPr/>
          <p:nvPr/>
        </p:nvCxnSpPr>
        <p:spPr>
          <a:xfrm flipV="1">
            <a:off x="971280" y="1699560"/>
            <a:ext cx="1080" cy="3610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6" name="Straight Arrow Connector 9"/>
          <p:cNvCxnSpPr/>
          <p:nvPr/>
        </p:nvCxnSpPr>
        <p:spPr>
          <a:xfrm>
            <a:off x="2123640" y="2060640"/>
            <a:ext cx="1080" cy="21672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7" name="Straight Arrow Connector 14"/>
          <p:cNvCxnSpPr/>
          <p:nvPr/>
        </p:nvCxnSpPr>
        <p:spPr>
          <a:xfrm>
            <a:off x="1979640" y="5157360"/>
            <a:ext cx="289440" cy="10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Where in the brain ADH is formed?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9" name="Picture 2" descr="http://www.rci.rutgers.edu/%7Euzwiak/AnatPhys/PPFall03Lect8_files/image010.jpg"/>
          <p:cNvPicPr/>
          <p:nvPr/>
        </p:nvPicPr>
        <p:blipFill>
          <a:blip r:embed="rId1"/>
          <a:stretch/>
        </p:blipFill>
        <p:spPr>
          <a:xfrm>
            <a:off x="2050920" y="1484280"/>
            <a:ext cx="5496120" cy="510228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>
            <a:off x="7164360" y="2060640"/>
            <a:ext cx="1584360" cy="9169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ain site for ADH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324000" y="4365720"/>
            <a:ext cx="1584000" cy="119124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DH is stored in posterior pitui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5b22"/>
                </a:solidFill>
                <a:latin typeface="Tw Cen MT"/>
              </a:rPr>
              <a:t>Osmotic vs non-osmotic stimuli; effect on ADH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3" name="Picture 2" descr="http://www.ijem.in/articles/2012/16/2/images/IndianJEndocrMetab_2012_16_2_183_93734_t2.jpg"/>
          <p:cNvPicPr/>
          <p:nvPr/>
        </p:nvPicPr>
        <p:blipFill>
          <a:blip r:embed="rId1"/>
          <a:stretch/>
        </p:blipFill>
        <p:spPr>
          <a:xfrm>
            <a:off x="709560" y="1773360"/>
            <a:ext cx="8148600" cy="4824360"/>
          </a:xfrm>
          <a:prstGeom prst="rect">
            <a:avLst/>
          </a:prstGeom>
          <a:ln w="0">
            <a:noFill/>
          </a:ln>
        </p:spPr>
      </p:pic>
      <p:sp>
        <p:nvSpPr>
          <p:cNvPr id="384" name="TextBox 4"/>
          <p:cNvSpPr/>
          <p:nvPr/>
        </p:nvSpPr>
        <p:spPr>
          <a:xfrm>
            <a:off x="7812000" y="2565360"/>
            <a:ext cx="1081080" cy="9169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apid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6659640" y="3789360"/>
            <a:ext cx="2016000" cy="9169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AVP=arginine vasopressin=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7" descr="http://www.cvpharmacology.com/uploads/images/AVP.gif"/>
          <p:cNvPicPr/>
          <p:nvPr/>
        </p:nvPicPr>
        <p:blipFill>
          <a:blip r:embed="rId2"/>
          <a:stretch/>
        </p:blipFill>
        <p:spPr>
          <a:xfrm>
            <a:off x="6281640" y="4446720"/>
            <a:ext cx="28576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ummary of actions &amp; stimuli of AD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8" name="Picture 2" descr="http://cvphysiology.com/Blood%20Pressure/BP016%20ADH.png"/>
          <p:cNvPicPr/>
          <p:nvPr/>
        </p:nvPicPr>
        <p:blipFill>
          <a:blip r:embed="rId1"/>
          <a:stretch/>
        </p:blipFill>
        <p:spPr>
          <a:xfrm>
            <a:off x="2124000" y="1844640"/>
            <a:ext cx="443556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5b22"/>
                </a:solidFill>
                <a:latin typeface="Tw Cen MT"/>
              </a:rPr>
              <a:t>Non-osmotic stimuli releasing ADH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rterial baroreceptor reflex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hemoreceptor reflex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enever BP &amp; blood volume reduced, ADH is released           water retention by the kidney to restore BP to norma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ay-to-day regulation of ADH secretion is effected mainly by changes in plasma osmolarit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91" name="Straight Arrow Connector 4"/>
          <p:cNvCxnSpPr/>
          <p:nvPr/>
        </p:nvCxnSpPr>
        <p:spPr>
          <a:xfrm>
            <a:off x="2556000" y="3428640"/>
            <a:ext cx="721440" cy="10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ole of Ang II &amp; aldostero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y do not normally play a major role in controlling ECF osmolarity and Na+ concentr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ir major role is to absorb sodium through distal convoluted tubules, leading to greater extracellular fluid volume and sodium quantit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ake home messa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H-thirst is the most powerful feedback system in the body for controlling extracellular fluid osmolarity and volum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5b22"/>
                </a:solidFill>
                <a:latin typeface="Tw Cen MT"/>
              </a:rPr>
              <a:t>What is the impact of the following on your body fluid volume and osmolarity?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happens when you are exposed to hot weather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f you have a stomach bug and excessive diarrhea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f you drink 2 liters of fluid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2" descr="http://image.slidesharecdn.com/bodyfluids-new-101020230204-phpapp02/95/body-fluids-new-5-728.jpg?cb=1287615794"/>
          <p:cNvPicPr/>
          <p:nvPr/>
        </p:nvPicPr>
        <p:blipFill>
          <a:blip r:embed="rId1"/>
          <a:stretch/>
        </p:blipFill>
        <p:spPr>
          <a:xfrm>
            <a:off x="1187280" y="1268280"/>
            <a:ext cx="693432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CF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stant concentration of electrolytes &amp; solu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y create the osmolarity of ECF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a+, Cl- most abundant osmostic molecu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smolality is determined by the amount of extracellular NaCl and water which depends upon balance between intake and excretion of these substanc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rmal plasma Na+ = 140-145 mEq/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smolarity = 300 mOsm/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o stay in a state of fluid balance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TextBox 2"/>
          <p:cNvSpPr/>
          <p:nvPr/>
        </p:nvSpPr>
        <p:spPr>
          <a:xfrm>
            <a:off x="1547640" y="2060640"/>
            <a:ext cx="280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=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= 1500 ml/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2O &amp; fluid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= 1500 ml/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iration (water vap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ea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5b22"/>
                </a:solidFill>
                <a:latin typeface="Tw Cen MT"/>
              </a:rPr>
              <a:t>Control of ECF volume &amp;osmolarity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gulation of inpu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smoreceptors/Thirst mechanism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gulation of output: Renal regul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H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giotensin/Aldosteron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irst mechanis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4" name="Picture 2" descr="http://apbrwww5.apsu.edu/thompsonj/Anatomy%20&amp;%20Physiology/2020/2020%20Exam%20Reviews/Exam%204/thirst%20regulation%20figure.jpg"/>
          <p:cNvPicPr/>
          <p:nvPr/>
        </p:nvPicPr>
        <p:blipFill>
          <a:blip r:embed="rId1"/>
          <a:stretch/>
        </p:blipFill>
        <p:spPr>
          <a:xfrm>
            <a:off x="255600" y="2133720"/>
            <a:ext cx="84279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5b22"/>
                </a:solidFill>
                <a:latin typeface="Tw Cen MT"/>
              </a:rPr>
              <a:t>Role of thirst in controlling ECF osmolarity &amp; fluid volume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o stay in balance water intake = water los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Fluid intake is regulated by thirst mechanism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w Cen MT"/>
              </a:rPr>
              <a:t>Stimuli of thirst mechanism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w Cen MT"/>
              </a:rPr>
              <a:t>A</a:t>
            </a:r>
            <a:r>
              <a:rPr b="0" lang="en-US" sz="2500" spc="-1" strike="noStrike" u="sng">
                <a:solidFill>
                  <a:srgbClr val="b95b22"/>
                </a:solidFill>
                <a:uFillTx/>
                <a:latin typeface="Tw Cen MT"/>
              </a:rPr>
              <a:t>. </a:t>
            </a:r>
            <a:r>
              <a:rPr b="1" lang="en-US" sz="2500" spc="-1" strike="noStrike" u="sng">
                <a:solidFill>
                  <a:srgbClr val="b95b22"/>
                </a:solidFill>
                <a:uFillTx/>
                <a:latin typeface="Tw Cen MT"/>
              </a:rPr>
              <a:t>Increase thirst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b95b22"/>
                </a:solidFill>
                <a:latin typeface="Tw Cen MT"/>
              </a:rPr>
              <a:t>	</a:t>
            </a:r>
            <a:r>
              <a:rPr b="1" lang="en-US" sz="2500" spc="-1" strike="noStrike">
                <a:solidFill>
                  <a:srgbClr val="b95b22"/>
                </a:solidFill>
                <a:latin typeface="Tw Cen MT"/>
              </a:rPr>
              <a:t>Increased osmolarity ECF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95b22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b95b22"/>
                </a:solidFill>
                <a:latin typeface="Tw Cen MT"/>
              </a:rPr>
              <a:t>Decreased ECF volume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Decreased blood pressure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95b22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b95b22"/>
                </a:solidFill>
                <a:latin typeface="Tw Cen MT"/>
              </a:rPr>
              <a:t>Angiotensin II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Dryness of the mouth.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w Cen MT"/>
              </a:rPr>
              <a:t>B. </a:t>
            </a:r>
            <a:r>
              <a:rPr b="1" lang="en-US" sz="2500" spc="-1" strike="noStrike" u="sng">
                <a:solidFill>
                  <a:srgbClr val="b95b22"/>
                </a:solidFill>
                <a:uFillTx/>
                <a:latin typeface="Tw Cen MT"/>
              </a:rPr>
              <a:t>Decrease thirst?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95b22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b95b22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b95b22"/>
                </a:solidFill>
                <a:latin typeface="Tw Cen MT"/>
              </a:rPr>
              <a:t>Gastric distention decreases thirst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5b22"/>
                </a:solidFill>
                <a:latin typeface="Tw Cen MT"/>
              </a:rPr>
              <a:t>Role of thirst in controlling ECF osmolarity &amp; Na+ concentration, cont….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desire to thirst is completely satisfied whe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lasma osmolarity,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lood volume,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r both return to norma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5T21:48:04Z</dcterms:created>
  <dc:creator>user</dc:creator>
  <dc:description/>
  <dc:language>en-US</dc:language>
  <cp:lastModifiedBy>GCUSER</cp:lastModifiedBy>
  <dcterms:modified xsi:type="dcterms:W3CDTF">2015-05-05T10:59:18Z</dcterms:modified>
  <cp:revision>13</cp:revision>
  <dc:subject/>
  <dc:title>Renal regulation of body fluid</dc:title>
</cp:coreProperties>
</file>