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B123-F4F8-4AAF-BE4E-1DB6D2A8D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A8EF-7BE0-4A53-A400-53F6ECB4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77FE-F080-4445-8488-D71CC969F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3F1A-5845-4E37-B523-505E0F061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91BD-39B0-4B83-9987-44A5BB0EB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89A3F-13DA-4DBD-9D31-040EF89B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D059-AE01-4DCD-A6B8-051C2CA2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3617-DC65-48DC-8F2F-8262B4AA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379E-C5F4-4362-B9B6-52CD36FF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FE43-B7E3-4E64-9D0D-983C7C62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17A52-52D5-4EE3-A8DF-34484541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2B57-5C92-4A77-8A03-0954DAB7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8971-F028-4CFD-87C6-2327A1E8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2E5E-1913-4621-9F34-EE376743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F908-F7C0-43A6-9E97-D854847D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3FA9-B118-4E93-B450-1F94097BC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C5937-A8FD-4B34-8BB8-CC0785390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10FA3-F425-4146-B2E8-EAC5C8848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8B1BB-60CD-4C1F-B1D8-F4009B6E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58919-C222-47FB-BB53-50082DE0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D66C7-E93D-4D41-AB25-4F20124A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09AC3-0138-45D5-9098-3CA2F8E6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005C-824B-4FD9-B957-C45CC4B2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BEB04-7445-4B09-B603-1CA6FDCD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30216-D43D-4517-A1BB-3710DA0D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B71F9-3EF3-40FA-BD49-8273419B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CF5D0-8F61-4CE7-AD62-466390DD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8E083-2BD9-4F50-A3B7-CC1DFBD0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B52CF-3199-4C10-BA85-595ED21CD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9F2D3-0E46-428C-8175-8F8AED91E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1B03C-F0F8-40FC-9E6F-0ACC66F1D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97258-88B1-4A74-8566-D6FD29ED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F73F3-5FF9-430E-B91A-90C8E461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99EF-7032-45C6-B766-6E140350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9BD14-EAE0-48BB-9B9A-F6637AEC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42445-02FF-42B3-A59B-57E4EC17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458F9-2003-4E53-89E0-E11B3193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FA01B-769E-4F5F-A3E0-9CA5951D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C2654-58EC-4954-9811-67C7325A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0EDC6-375B-41D3-8C75-93E8E892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B8435-9DFE-4D89-AB11-8DDC5A95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04C26-DBEA-45C0-AAC3-99544C3F4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FFF01-FB81-4FA4-BA13-A2145B4DD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F41D7-1BFD-4C47-B380-A24230F84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43A0-EDFA-481E-9FE8-00C64B39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96153-FD89-4DC5-B3FE-2BFE3EAA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4A388-2B95-4F96-B308-0244A40C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A15B8-5C4E-417A-8398-0C67022F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0DCF8-DA85-4E69-90F3-6FFD5466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0072D-FCC6-4804-BF7F-6851EBEB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5CED0-81E3-4B1C-A9CB-CD1DA54C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8E717-8F6F-4854-A248-199627E3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78C75-E1A7-4153-8DE9-79BC8833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08600-9575-4B3E-A2F6-F2AA90DA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66064-EB5D-45D8-A34E-6E5F3D912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3725-B8DD-45B9-8370-A263E4D0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BEC83-ED55-4573-BE40-B96C20027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0001-4DE4-4E59-AC20-6CE64FF6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AB14-A12B-4226-867B-9AE44C79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441A-330A-4C1B-B418-98513A84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5329440"/>
                <a:gd name="textAreaBottom" fmla="*/ 5329440 h 532944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>
                <a:gd name="textAreaLeft" fmla="*/ 0 w 1117440"/>
                <a:gd name="textAreaRight" fmla="*/ 1117800 w 1117440"/>
                <a:gd name="textAreaTop" fmla="*/ 0 h 5276880"/>
                <a:gd name="textAreaBottom" fmla="*/ 5277240 h 5276880"/>
              </a:gdLst>
              <a:ahLst/>
              <a:rect l="textAreaLeft" t="textAreaTop" r="textAreaRight" b="textAreaBottom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>
                <a:gd name="textAreaLeft" fmla="*/ 0 w 1228680"/>
                <a:gd name="textAreaRight" fmla="*/ 1229040 w 122868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>
                <a:gd name="textAreaLeft" fmla="*/ 0 w 1495440"/>
                <a:gd name="textAreaRight" fmla="*/ 1495800 w 1495440"/>
                <a:gd name="textAreaTop" fmla="*/ 0 h 1566720"/>
                <a:gd name="textAreaBottom" fmla="*/ 1567080 h 1566720"/>
              </a:gdLst>
              <a:ahLst/>
              <a:rect l="textAreaLeft" t="textAreaTop" r="textAreaRight" b="textAreaBottom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>
                <a:gd name="textAreaLeft" fmla="*/ 0 w 2130480"/>
                <a:gd name="textAreaRight" fmla="*/ 2130840 w 2130480"/>
                <a:gd name="textAreaTop" fmla="*/ 0 h 1571400"/>
                <a:gd name="textAreaBottom" fmla="*/ 1571760 h 1571400"/>
              </a:gdLst>
              <a:ahLst/>
              <a:rect l="textAreaLeft" t="textAreaTop" r="textAreaRight" b="textAreaBottom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6B2741-6EFC-4F7B-A76E-0F50CB3A9F4F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8"/>
          <p:cNvGrpSpPr/>
          <p:nvPr/>
        </p:nvGrpSpPr>
        <p:grpSpPr>
          <a:xfrm>
            <a:off x="546120" y="-4680"/>
            <a:ext cx="5014800" cy="6862680"/>
            <a:chOff x="546120" y="-4680"/>
            <a:chExt cx="5014800" cy="6862680"/>
          </a:xfrm>
        </p:grpSpPr>
        <p:sp>
          <p:nvSpPr>
            <p:cNvPr id="49" name="Freeform 6"/>
            <p:cNvSpPr/>
            <p:nvPr/>
          </p:nvSpPr>
          <p:spPr>
            <a:xfrm>
              <a:off x="984240" y="-4680"/>
              <a:ext cx="1063440" cy="2782800"/>
            </a:xfrm>
            <a:custGeom>
              <a:avLst/>
              <a:gdLst>
                <a:gd name="textAreaLeft" fmla="*/ 0 w 1063440"/>
                <a:gd name="textAreaRight" fmla="*/ 1063800 w 1063440"/>
                <a:gd name="textAreaTop" fmla="*/ 0 h 2782800"/>
                <a:gd name="textAreaBottom" fmla="*/ 2783160 h 2782800"/>
              </a:gdLst>
              <a:ahLst/>
              <a:rect l="textAreaLeft" t="textAreaTop" r="textAreaRight" b="textAreaBottom"/>
              <a:pathLst>
                <a:path w="670" h="1753">
                  <a:moveTo>
                    <a:pt x="0" y="1696"/>
                  </a:moveTo>
                  <a:lnTo>
                    <a:pt x="225" y="1753"/>
                  </a:lnTo>
                  <a:lnTo>
                    <a:pt x="670" y="0"/>
                  </a:lnTo>
                  <a:lnTo>
                    <a:pt x="430" y="0"/>
                  </a:lnTo>
                  <a:lnTo>
                    <a:pt x="0" y="1696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546120" y="-4680"/>
              <a:ext cx="1035000" cy="2673360"/>
            </a:xfrm>
            <a:custGeom>
              <a:avLst/>
              <a:gdLst>
                <a:gd name="textAreaLeft" fmla="*/ 0 w 1035000"/>
                <a:gd name="textAreaRight" fmla="*/ 1035360 w 1035000"/>
                <a:gd name="textAreaTop" fmla="*/ 0 h 2673360"/>
                <a:gd name="textAreaBottom" fmla="*/ 2673720 h 2673360"/>
              </a:gdLst>
              <a:ahLst/>
              <a:rect l="textAreaLeft" t="textAreaTop" r="textAreaRight" b="textAreaBottom"/>
              <a:pathLst>
                <a:path w="652" h="1684">
                  <a:moveTo>
                    <a:pt x="225" y="1684"/>
                  </a:moveTo>
                  <a:lnTo>
                    <a:pt x="652" y="0"/>
                  </a:lnTo>
                  <a:lnTo>
                    <a:pt x="411" y="0"/>
                  </a:lnTo>
                  <a:lnTo>
                    <a:pt x="0" y="1627"/>
                  </a:lnTo>
                  <a:lnTo>
                    <a:pt x="219" y="1681"/>
                  </a:lnTo>
                  <a:lnTo>
                    <a:pt x="225" y="1684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9"/>
            <p:cNvSpPr/>
            <p:nvPr/>
          </p:nvSpPr>
          <p:spPr>
            <a:xfrm>
              <a:off x="546120" y="2583000"/>
              <a:ext cx="2693880" cy="4275000"/>
            </a:xfrm>
            <a:custGeom>
              <a:avLst/>
              <a:gdLst>
                <a:gd name="textAreaLeft" fmla="*/ 0 w 2693880"/>
                <a:gd name="textAreaRight" fmla="*/ 2694240 w 2693880"/>
                <a:gd name="textAreaTop" fmla="*/ 0 h 4275000"/>
                <a:gd name="textAreaBottom" fmla="*/ 4275360 h 4275000"/>
              </a:gdLst>
              <a:ahLst/>
              <a:rect l="textAreaLeft" t="textAreaTop" r="textAreaRight" b="textAreaBottom"/>
              <a:pathLst>
                <a:path w="1697" h="2693">
                  <a:moveTo>
                    <a:pt x="0" y="0"/>
                  </a:moveTo>
                  <a:lnTo>
                    <a:pt x="1622" y="2693"/>
                  </a:lnTo>
                  <a:lnTo>
                    <a:pt x="1697" y="26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0"/>
            <p:cNvSpPr/>
            <p:nvPr/>
          </p:nvSpPr>
          <p:spPr>
            <a:xfrm>
              <a:off x="988920" y="2692440"/>
              <a:ext cx="3332160" cy="4165560"/>
            </a:xfrm>
            <a:custGeom>
              <a:avLst/>
              <a:gdLst>
                <a:gd name="textAreaLeft" fmla="*/ 0 w 3332160"/>
                <a:gd name="textAreaRight" fmla="*/ 3332520 w 3332160"/>
                <a:gd name="textAreaTop" fmla="*/ 0 h 4165560"/>
                <a:gd name="textAreaBottom" fmla="*/ 4165920 h 4165560"/>
              </a:gdLst>
              <a:ahLst/>
              <a:rect l="textAreaLeft" t="textAreaTop" r="textAreaRight" b="textAreaBottom"/>
              <a:pathLst>
                <a:path w="2099" h="2624">
                  <a:moveTo>
                    <a:pt x="2099" y="2624"/>
                  </a:moveTo>
                  <a:lnTo>
                    <a:pt x="0" y="0"/>
                  </a:lnTo>
                  <a:lnTo>
                    <a:pt x="2021" y="2624"/>
                  </a:lnTo>
                  <a:lnTo>
                    <a:pt x="2099" y="2624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1"/>
            <p:cNvSpPr/>
            <p:nvPr/>
          </p:nvSpPr>
          <p:spPr>
            <a:xfrm>
              <a:off x="984240" y="2687760"/>
              <a:ext cx="4576680" cy="4170240"/>
            </a:xfrm>
            <a:custGeom>
              <a:avLst/>
              <a:gdLst>
                <a:gd name="textAreaLeft" fmla="*/ 0 w 4576680"/>
                <a:gd name="textAreaRight" fmla="*/ 4577040 w 4576680"/>
                <a:gd name="textAreaTop" fmla="*/ 0 h 4170240"/>
                <a:gd name="textAreaBottom" fmla="*/ 4170600 h 4170240"/>
              </a:gdLst>
              <a:ahLst/>
              <a:rect l="textAreaLeft" t="textAreaTop" r="textAreaRight" b="textAreaBottom"/>
              <a:pathLst>
                <a:path w="2883" h="2627">
                  <a:moveTo>
                    <a:pt x="0" y="0"/>
                  </a:moveTo>
                  <a:lnTo>
                    <a:pt x="3" y="3"/>
                  </a:lnTo>
                  <a:lnTo>
                    <a:pt x="2102" y="2627"/>
                  </a:lnTo>
                  <a:lnTo>
                    <a:pt x="2883" y="2627"/>
                  </a:lnTo>
                  <a:lnTo>
                    <a:pt x="225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2"/>
            <p:cNvSpPr/>
            <p:nvPr/>
          </p:nvSpPr>
          <p:spPr>
            <a:xfrm>
              <a:off x="546120" y="2577960"/>
              <a:ext cx="3584520" cy="4280040"/>
            </a:xfrm>
            <a:custGeom>
              <a:avLst/>
              <a:gdLst>
                <a:gd name="textAreaLeft" fmla="*/ 0 w 3584520"/>
                <a:gd name="textAreaRight" fmla="*/ 3584880 w 3584520"/>
                <a:gd name="textAreaTop" fmla="*/ 0 h 4280040"/>
                <a:gd name="textAreaBottom" fmla="*/ 4280400 h 4280040"/>
              </a:gdLst>
              <a:ahLst/>
              <a:rect l="textAreaLeft" t="textAreaTop" r="textAreaRight" b="textAreaBottom"/>
              <a:pathLst>
                <a:path w="2258" h="2696">
                  <a:moveTo>
                    <a:pt x="2258" y="2696"/>
                  </a:moveTo>
                  <a:lnTo>
                    <a:pt x="264" y="111"/>
                  </a:lnTo>
                  <a:lnTo>
                    <a:pt x="228" y="60"/>
                  </a:lnTo>
                  <a:lnTo>
                    <a:pt x="225" y="57"/>
                  </a:lnTo>
                  <a:lnTo>
                    <a:pt x="0" y="0"/>
                  </a:lnTo>
                  <a:lnTo>
                    <a:pt x="0" y="3"/>
                  </a:lnTo>
                  <a:lnTo>
                    <a:pt x="1697" y="2696"/>
                  </a:lnTo>
                  <a:lnTo>
                    <a:pt x="2258" y="269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5332320" y="5882760"/>
            <a:ext cx="43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739020-1FF4-46C2-8346-692B1BB00AAE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97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5329440"/>
                <a:gd name="textAreaBottom" fmla="*/ 5329440 h 532944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>
                <a:gd name="textAreaLeft" fmla="*/ 0 w 1117440"/>
                <a:gd name="textAreaRight" fmla="*/ 1117800 w 1117440"/>
                <a:gd name="textAreaTop" fmla="*/ 0 h 5276880"/>
                <a:gd name="textAreaBottom" fmla="*/ 5277240 h 5276880"/>
              </a:gdLst>
              <a:ahLst/>
              <a:rect l="textAreaLeft" t="textAreaTop" r="textAreaRight" b="textAreaBottom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>
                <a:gd name="textAreaLeft" fmla="*/ 0 w 1228680"/>
                <a:gd name="textAreaRight" fmla="*/ 1229040 w 122868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>
                <a:gd name="textAreaLeft" fmla="*/ 0 w 1495440"/>
                <a:gd name="textAreaRight" fmla="*/ 1495800 w 1495440"/>
                <a:gd name="textAreaTop" fmla="*/ 0 h 1566720"/>
                <a:gd name="textAreaBottom" fmla="*/ 1567080 h 1566720"/>
              </a:gdLst>
              <a:ahLst/>
              <a:rect l="textAreaLeft" t="textAreaTop" r="textAreaRight" b="textAreaBottom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>
                <a:gd name="textAreaLeft" fmla="*/ 0 w 2130480"/>
                <a:gd name="textAreaRight" fmla="*/ 2130840 w 2130480"/>
                <a:gd name="textAreaTop" fmla="*/ 0 h 1571400"/>
                <a:gd name="textAreaBottom" fmla="*/ 1571760 h 1571400"/>
              </a:gdLst>
              <a:ahLst/>
              <a:rect l="textAreaLeft" t="textAreaTop" r="textAreaRight" b="textAreaBottom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10952280" y="586692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7F0A11-39B8-4C6B-BD4D-873F4AC3A002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45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5329440"/>
                <a:gd name="textAreaBottom" fmla="*/ 5329440 h 532944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>
                <a:gd name="textAreaLeft" fmla="*/ 0 w 1117440"/>
                <a:gd name="textAreaRight" fmla="*/ 1117800 w 1117440"/>
                <a:gd name="textAreaTop" fmla="*/ 0 h 5276880"/>
                <a:gd name="textAreaBottom" fmla="*/ 5277240 h 5276880"/>
              </a:gdLst>
              <a:ahLst/>
              <a:rect l="textAreaLeft" t="textAreaTop" r="textAreaRight" b="textAreaBottom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>
                <a:gd name="textAreaLeft" fmla="*/ 0 w 1228680"/>
                <a:gd name="textAreaRight" fmla="*/ 1229040 w 122868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>
                <a:gd name="textAreaLeft" fmla="*/ 0 w 1495440"/>
                <a:gd name="textAreaRight" fmla="*/ 1495800 w 1495440"/>
                <a:gd name="textAreaTop" fmla="*/ 0 h 1566720"/>
                <a:gd name="textAreaBottom" fmla="*/ 1567080 h 1566720"/>
              </a:gdLst>
              <a:ahLst/>
              <a:rect l="textAreaLeft" t="textAreaTop" r="textAreaRight" b="textAreaBottom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>
                <a:gd name="textAreaLeft" fmla="*/ 0 w 2130480"/>
                <a:gd name="textAreaRight" fmla="*/ 2130840 w 2130480"/>
                <a:gd name="textAreaTop" fmla="*/ 0 h 1571400"/>
                <a:gd name="textAreaBottom" fmla="*/ 1571760 h 1571400"/>
              </a:gdLst>
              <a:ahLst/>
              <a:rect l="textAreaLeft" t="textAreaTop" r="textAreaRight" b="textAreaBottom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TextBox 13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FFDF7E-9DE1-4BD3-BAFE-D037C7CCF183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95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5329440"/>
                <a:gd name="textAreaBottom" fmla="*/ 5329440 h 532944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>
                <a:gd name="textAreaLeft" fmla="*/ 0 w 1117440"/>
                <a:gd name="textAreaRight" fmla="*/ 1117800 w 1117440"/>
                <a:gd name="textAreaTop" fmla="*/ 0 h 5276880"/>
                <a:gd name="textAreaBottom" fmla="*/ 5277240 h 5276880"/>
              </a:gdLst>
              <a:ahLst/>
              <a:rect l="textAreaLeft" t="textAreaTop" r="textAreaRight" b="textAreaBottom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>
                <a:gd name="textAreaLeft" fmla="*/ 0 w 1228680"/>
                <a:gd name="textAreaRight" fmla="*/ 1229040 w 122868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>
                <a:gd name="textAreaLeft" fmla="*/ 0 w 1495440"/>
                <a:gd name="textAreaRight" fmla="*/ 1495800 w 1495440"/>
                <a:gd name="textAreaTop" fmla="*/ 0 h 1566720"/>
                <a:gd name="textAreaBottom" fmla="*/ 1567080 h 1566720"/>
              </a:gdLst>
              <a:ahLst/>
              <a:rect l="textAreaLeft" t="textAreaTop" r="textAreaRight" b="textAreaBottom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>
                <a:gd name="textAreaLeft" fmla="*/ 0 w 2130480"/>
                <a:gd name="textAreaRight" fmla="*/ 2130840 w 2130480"/>
                <a:gd name="textAreaTop" fmla="*/ 0 h 1571400"/>
                <a:gd name="textAreaBottom" fmla="*/ 1571760 h 1571400"/>
              </a:gdLst>
              <a:ahLst/>
              <a:rect l="textAreaLeft" t="textAreaTop" r="textAreaRight" b="textAreaBottom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Box 13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4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BA3160-D749-4BE2-AD74-EB9239ACD146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928600" y="1379160"/>
            <a:ext cx="8574120" cy="261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Physiology of Acid-base balance-I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14760" y="3995280"/>
            <a:ext cx="6988320" cy="13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1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rbel"/>
              </a:rPr>
              <a:t>Dr. Eman El Eter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033640" y="480960"/>
            <a:ext cx="9299520" cy="758880"/>
          </a:xfrm>
          <a:prstGeom prst="rect">
            <a:avLst/>
          </a:prstGeom>
          <a:solidFill>
            <a:srgbClr val="f7db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Corbel"/>
              </a:rPr>
              <a:t>1- Bicarbonate buffer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883880" y="2044800"/>
            <a:ext cx="9651960" cy="462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82600">
              <a:spcBef>
                <a:spcPts val="799"/>
              </a:spcBef>
              <a:buClr>
                <a:srgbClr val="1287c3"/>
              </a:buClr>
              <a:buSzPct val="14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Sodium Bicarbonate (NaH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rbe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) and a weak (acid carbonic acid (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rbe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799"/>
              </a:spcBef>
              <a:buClr>
                <a:srgbClr val="1287c3"/>
              </a:buClr>
              <a:buSzPct val="14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It acts both </a:t>
            </a:r>
            <a:r>
              <a:rPr b="1" lang="en-US" sz="3200" spc="-1" strike="noStrike">
                <a:solidFill>
                  <a:srgbClr val="212121"/>
                </a:solidFill>
                <a:latin typeface="Corbel"/>
              </a:rPr>
              <a:t>extracellular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 and </a:t>
            </a:r>
            <a:r>
              <a:rPr b="1" lang="en-US" sz="3200" spc="-1" strike="noStrike">
                <a:solidFill>
                  <a:srgbClr val="212121"/>
                </a:solidFill>
                <a:latin typeface="Corbel"/>
              </a:rPr>
              <a:t>intracellular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799"/>
              </a:spcBef>
              <a:buClr>
                <a:srgbClr val="1287c3"/>
              </a:buClr>
              <a:buSzPct val="14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212121"/>
                </a:solidFill>
                <a:latin typeface="Corbel"/>
              </a:rPr>
              <a:t>It is the most abundant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799"/>
              </a:spcBef>
              <a:buClr>
                <a:srgbClr val="1287c3"/>
              </a:buClr>
              <a:buSzPct val="14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212121"/>
                </a:solidFill>
                <a:latin typeface="Corbel"/>
              </a:rPr>
              <a:t>Most important extracellular buffer: the two components are regulated as: CO2 by the lungs, HCO3- by the kidney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Slide Number Placeholder 5"/>
          <p:cNvSpPr/>
          <p:nvPr/>
        </p:nvSpPr>
        <p:spPr>
          <a:xfrm>
            <a:off x="10952280" y="5867280"/>
            <a:ext cx="55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29E530-2257-4898-B083-6046E8711BEB}" type="slidenum">
              <a:rPr b="0" lang="ar-SA" sz="1000" spc="-1" strike="noStrike">
                <a:solidFill>
                  <a:srgbClr val="000000"/>
                </a:solidFill>
                <a:latin typeface="Corbel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84280" y="685440"/>
            <a:ext cx="10018800" cy="1035000"/>
          </a:xfrm>
          <a:prstGeom prst="rect">
            <a:avLst/>
          </a:prstGeom>
          <a:solidFill>
            <a:srgbClr val="f7dbd8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icarbonate buffer, cont,…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484280" y="2666520"/>
            <a:ext cx="10018800" cy="389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marL="331920" indent="-257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ts concentration in blood = </a:t>
            </a:r>
            <a:r>
              <a:rPr b="1" lang="en-US" sz="3200" spc="-1" strike="noStrike">
                <a:solidFill>
                  <a:srgbClr val="212121"/>
                </a:solidFill>
                <a:latin typeface="Corbel"/>
              </a:rPr>
              <a:t>27mEq/L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and is called alkali reserv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intain a 20:1 ratio : 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rbe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rbel"/>
              </a:rPr>
              <a:t>-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: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rbe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799"/>
              </a:spcBef>
              <a:buClr>
                <a:srgbClr val="1287c3"/>
              </a:buClr>
              <a:buSzPct val="14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1287c3"/>
              </a:buClr>
              <a:buSzPct val="14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HCl + NaH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rbe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Arial"/>
              </a:rPr>
              <a:t>↔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rbe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+ NaC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NaOH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rbe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Arial"/>
              </a:rPr>
              <a:t>↔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NaH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rbe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2" name="Picture 2" descr="http://3.bp.blogspot.com/-xS65GlyTXLA/UqzA_bRZnsI/AAAAAAAAAzk/XBNalRZXkQg/s1600/carbonic+anhydrase.jpg"/>
          <p:cNvPicPr/>
          <p:nvPr/>
        </p:nvPicPr>
        <p:blipFill>
          <a:blip r:embed="rId1"/>
          <a:stretch/>
        </p:blipFill>
        <p:spPr>
          <a:xfrm>
            <a:off x="6116760" y="4824360"/>
            <a:ext cx="557028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2080" y="685800"/>
            <a:ext cx="9566280" cy="782640"/>
          </a:xfrm>
          <a:prstGeom prst="rect">
            <a:avLst/>
          </a:prstGeom>
          <a:solidFill>
            <a:srgbClr val="f7db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Corbel"/>
              </a:rPr>
              <a:t>2- Phosphate buffer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431720" y="2230560"/>
            <a:ext cx="10310760" cy="40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7000"/>
          </a:bodyPr>
          <a:p>
            <a:pPr marL="248400" indent="-24840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ajor </a:t>
            </a:r>
            <a:r>
              <a:rPr b="1" lang="en-US" sz="2800" spc="-1" strike="noStrike">
                <a:solidFill>
                  <a:srgbClr val="212121"/>
                </a:solidFill>
                <a:latin typeface="Corbel"/>
              </a:rPr>
              <a:t>intracellular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uffer as its concentration is high intracellularl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48400" indent="-24840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t is an important buffer in renal tubules, why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48400" indent="-24840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rbel"/>
              </a:rPr>
              <a:t>Two reasons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48400" indent="-24840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1. becomes concentrated in the tubular fluid, so become powerfu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48400" indent="-24840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2. its pKa = 6.8, which close to the pH in the tubular fluid of the distal nephro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48400" indent="-24840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rbe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+ H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rbe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rbel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Arial"/>
              </a:rPr>
              <a:t>↔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O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rbe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48400" indent="-24840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rbe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rbe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rbe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Arial"/>
              </a:rPr>
              <a:t>↔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O + H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rbe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rbel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Slide Number Placeholder 5"/>
          <p:cNvSpPr/>
          <p:nvPr/>
        </p:nvSpPr>
        <p:spPr>
          <a:xfrm>
            <a:off x="10952280" y="5867280"/>
            <a:ext cx="55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210170-8806-4266-9CBC-605E6B0148FC}" type="slidenum">
              <a:rPr b="0" lang="ar-SA" sz="1000" spc="-1" strike="noStrike">
                <a:solidFill>
                  <a:srgbClr val="000000"/>
                </a:solidFill>
                <a:latin typeface="Corbel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36800" y="733320"/>
            <a:ext cx="8964720" cy="843120"/>
          </a:xfrm>
          <a:prstGeom prst="rect">
            <a:avLst/>
          </a:prstGeom>
          <a:solidFill>
            <a:srgbClr val="f7db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Corbel"/>
              </a:rPr>
              <a:t>3- Protein Buffers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2828880" y="2133720"/>
            <a:ext cx="7291440" cy="39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bundant  buffers especially intracellula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clude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2800" spc="-1" strike="noStrike">
                <a:solidFill>
                  <a:srgbClr val="212121"/>
                </a:solidFill>
                <a:latin typeface="Corbel"/>
              </a:rPr>
              <a:t>hemoglobin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, work in red blood cells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212121"/>
                </a:solidFill>
                <a:latin typeface="Corbel"/>
              </a:rPr>
              <a:t> </a:t>
            </a:r>
            <a:r>
              <a:rPr b="1" lang="en-US" sz="2800" spc="-1" strike="noStrike">
                <a:solidFill>
                  <a:srgbClr val="212121"/>
                </a:solidFill>
                <a:latin typeface="Corbel"/>
              </a:rPr>
              <a:t>Plasma protein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2800" spc="-1" strike="noStrike">
                <a:solidFill>
                  <a:srgbClr val="212121"/>
                </a:solidFill>
                <a:latin typeface="Corbel"/>
              </a:rPr>
              <a:t>Intracellular protein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Slide Number Placeholder 5"/>
          <p:cNvSpPr/>
          <p:nvPr/>
        </p:nvSpPr>
        <p:spPr>
          <a:xfrm>
            <a:off x="10952280" y="5867280"/>
            <a:ext cx="55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584207-26C0-4AA4-B0D3-A96FDABDA7E4}" type="slidenum">
              <a:rPr b="0" lang="ar-SA" sz="1000" spc="-1" strike="noStrike">
                <a:solidFill>
                  <a:srgbClr val="000000"/>
                </a:solidFill>
                <a:latin typeface="Corbel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84280" y="480600"/>
            <a:ext cx="10018800" cy="903240"/>
          </a:xfrm>
          <a:prstGeom prst="rect">
            <a:avLst/>
          </a:prstGeom>
          <a:solidFill>
            <a:srgbClr val="f7db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Corbel"/>
              </a:rPr>
              <a:t>b. Respiratory System: the lungs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4000"/>
          </a:bodyPr>
          <a:p>
            <a:pPr marL="233280" indent="-180720">
              <a:spcBef>
                <a:spcPts val="799"/>
              </a:spcBef>
              <a:buClr>
                <a:srgbClr val="1287c3"/>
              </a:buClr>
              <a:buSzPct val="14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halation of carbon dioxid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33280" indent="-180720">
              <a:spcBef>
                <a:spcPts val="799"/>
              </a:spcBef>
              <a:buClr>
                <a:srgbClr val="1287c3"/>
              </a:buClr>
              <a:buSzPct val="14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owerful, but only works with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volatile acid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33280" indent="-180720">
              <a:spcBef>
                <a:spcPts val="799"/>
              </a:spcBef>
              <a:buClr>
                <a:srgbClr val="1287c3"/>
              </a:buClr>
              <a:buSzPct val="14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oesn’t affect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fixed acids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like lactic aci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33280" indent="-180720">
              <a:spcBef>
                <a:spcPts val="799"/>
              </a:spcBef>
              <a:buClr>
                <a:srgbClr val="1287c3"/>
              </a:buClr>
              <a:buSzPct val="14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rbe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+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0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Arial"/>
              </a:rPr>
              <a:t>↔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rbe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Arial"/>
              </a:rPr>
              <a:t>↔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rbe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+ 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rbe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rbe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33280" indent="-180720">
              <a:spcBef>
                <a:spcPts val="799"/>
              </a:spcBef>
              <a:buClr>
                <a:srgbClr val="1287c3"/>
              </a:buClr>
              <a:buSzPct val="14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ody pH can be adjusted by changing rate and depth of breathing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33280" indent="-180720">
              <a:spcBef>
                <a:spcPts val="799"/>
              </a:spcBef>
              <a:buClr>
                <a:srgbClr val="1287c3"/>
              </a:buClr>
              <a:buSzPct val="14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yperventilation wash out excess CO2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33280" indent="-180720">
              <a:spcBef>
                <a:spcPts val="799"/>
              </a:spcBef>
              <a:buClr>
                <a:srgbClr val="1287c3"/>
              </a:buClr>
              <a:buSzPct val="14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ypoventilation retain CO2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33280" indent="-180720">
              <a:spcBef>
                <a:spcPts val="799"/>
              </a:spcBef>
              <a:buClr>
                <a:srgbClr val="1287c3"/>
              </a:buClr>
              <a:buSzPct val="14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s process is controlled by chemoreceptor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Slide Number Placeholder 5"/>
          <p:cNvSpPr/>
          <p:nvPr/>
        </p:nvSpPr>
        <p:spPr>
          <a:xfrm>
            <a:off x="10952280" y="5867280"/>
            <a:ext cx="55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2FC5B3-9897-47CD-A603-362AFBBB523F}" type="slidenum">
              <a:rPr b="0" lang="ar-SA" sz="1000" spc="-1" strike="noStrike">
                <a:solidFill>
                  <a:srgbClr val="000000"/>
                </a:solidFill>
                <a:latin typeface="Corbel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http://droualb.faculty.mjc.edu/Course%20Materials/Physiology%20101/Chapter%20Notes/Fall%202007/figure_19_24_labeled.jpg"/>
          <p:cNvPicPr/>
          <p:nvPr/>
        </p:nvPicPr>
        <p:blipFill>
          <a:blip r:embed="rId1"/>
          <a:stretch/>
        </p:blipFill>
        <p:spPr>
          <a:xfrm>
            <a:off x="2508120" y="214200"/>
            <a:ext cx="9050400" cy="634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http://sleep.sharepoint.com/siteimages/Chapter%203.png"/>
          <p:cNvPicPr/>
          <p:nvPr/>
        </p:nvPicPr>
        <p:blipFill>
          <a:blip r:embed="rId1"/>
          <a:stretch/>
        </p:blipFill>
        <p:spPr>
          <a:xfrm>
            <a:off x="3081240" y="0"/>
            <a:ext cx="618336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TextBox 4"/>
          <p:cNvSpPr/>
          <p:nvPr/>
        </p:nvSpPr>
        <p:spPr>
          <a:xfrm flipV="1">
            <a:off x="3308400" y="5626800"/>
            <a:ext cx="30211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5"/>
          <p:cNvSpPr/>
          <p:nvPr/>
        </p:nvSpPr>
        <p:spPr>
          <a:xfrm>
            <a:off x="7640640" y="3778200"/>
            <a:ext cx="14670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6"/>
          <p:cNvSpPr/>
          <p:nvPr/>
        </p:nvSpPr>
        <p:spPr>
          <a:xfrm>
            <a:off x="6905520" y="3873600"/>
            <a:ext cx="77004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7"/>
          <p:cNvSpPr/>
          <p:nvPr/>
        </p:nvSpPr>
        <p:spPr>
          <a:xfrm>
            <a:off x="5678640" y="4235400"/>
            <a:ext cx="40932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8"/>
          <p:cNvSpPr/>
          <p:nvPr/>
        </p:nvSpPr>
        <p:spPr>
          <a:xfrm>
            <a:off x="9817200" y="3200400"/>
            <a:ext cx="207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 chemorecept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d to  changes in 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9"/>
          <p:cNvSpPr/>
          <p:nvPr/>
        </p:nvSpPr>
        <p:spPr>
          <a:xfrm>
            <a:off x="4487760" y="3873600"/>
            <a:ext cx="98604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lide Number Placeholder 3"/>
          <p:cNvSpPr/>
          <p:nvPr/>
        </p:nvSpPr>
        <p:spPr>
          <a:xfrm>
            <a:off x="10952280" y="5883120"/>
            <a:ext cx="55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FD6F5A-1066-4DB4-83B3-E957D8C36988}" type="slidenum">
              <a:rPr b="0" lang="ar-SA" sz="1000" spc="-1" strike="noStrike">
                <a:solidFill>
                  <a:srgbClr val="000000"/>
                </a:solidFill>
                <a:latin typeface="Corbel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2" descr="A02801-04-008"/>
          <p:cNvPicPr/>
          <p:nvPr/>
        </p:nvPicPr>
        <p:blipFill>
          <a:blip r:embed="rId1"/>
          <a:stretch/>
        </p:blipFill>
        <p:spPr>
          <a:xfrm>
            <a:off x="2616120" y="228600"/>
            <a:ext cx="86583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Corbel"/>
              </a:rPr>
              <a:t>C. Kidney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2138040" y="2188800"/>
            <a:ext cx="8545320" cy="439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Eliminates large amounts of acid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an excrete base when in exces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an conserve and produce bicarbonate ion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Most effective regulator of pH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f kidneys fail, pH balance fail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Slide Number Placeholder 5"/>
          <p:cNvSpPr/>
          <p:nvPr/>
        </p:nvSpPr>
        <p:spPr>
          <a:xfrm>
            <a:off x="10952280" y="5867280"/>
            <a:ext cx="55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C95137-2026-498B-8814-7D4B9630FD04}" type="slidenum">
              <a:rPr b="0" lang="ar-SA" sz="1000" spc="-1" strike="noStrike">
                <a:solidFill>
                  <a:srgbClr val="000000"/>
                </a:solidFill>
                <a:latin typeface="Corbel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http://www.ivyroses.com/Images/Linking_Images/Link_Kidney_180w.jpg"/>
          <p:cNvPicPr/>
          <p:nvPr/>
        </p:nvPicPr>
        <p:blipFill>
          <a:blip r:embed="rId1"/>
          <a:stretch/>
        </p:blipFill>
        <p:spPr>
          <a:xfrm>
            <a:off x="8288280" y="1550880"/>
            <a:ext cx="21067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179360"/>
          </a:xfrm>
          <a:prstGeom prst="rect">
            <a:avLst/>
          </a:prstGeom>
          <a:solidFill>
            <a:srgbClr val="f7db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Corbel"/>
              </a:rPr>
              <a:t>How the kidney regulates blood pH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004840" y="2021040"/>
            <a:ext cx="9652320" cy="462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Three main processe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spcBef>
                <a:spcPts val="601"/>
              </a:spcBef>
              <a:buClr>
                <a:srgbClr val="1287c3"/>
              </a:buClr>
              <a:buSzPct val="145000"/>
              <a:buFont typeface="Wingdings 2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Reabsorption of filtered bicarbonat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spcBef>
                <a:spcPts val="601"/>
              </a:spcBef>
              <a:buClr>
                <a:srgbClr val="1287c3"/>
              </a:buClr>
              <a:buSzPct val="145000"/>
              <a:buFont typeface="Wingdings 2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Generation of  new bicarbonat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spcBef>
                <a:spcPts val="601"/>
              </a:spcBef>
              <a:buClr>
                <a:srgbClr val="1287c3"/>
              </a:buClr>
              <a:buSzPct val="145000"/>
              <a:buFont typeface="Wingdings 2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Excretion of H+ and urine acidification as low as pH of urine =5.0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10952280" y="5867280"/>
            <a:ext cx="55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F12107-E1CA-40E7-BEEF-107E7A68E51D}" type="slidenum">
              <a:rPr b="0" lang="ar-SA" sz="1000" spc="-1" strike="noStrike">
                <a:solidFill>
                  <a:srgbClr val="000000"/>
                </a:solidFill>
                <a:latin typeface="Corbel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2" descr="http://www.ivyroses.com/Images/Linking_Images/Link_Kidney_180w.jpg"/>
          <p:cNvPicPr/>
          <p:nvPr/>
        </p:nvPicPr>
        <p:blipFill>
          <a:blip r:embed="rId1"/>
          <a:stretch/>
        </p:blipFill>
        <p:spPr>
          <a:xfrm>
            <a:off x="9023400" y="2077920"/>
            <a:ext cx="17143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94040" y="693360"/>
            <a:ext cx="8991360" cy="1143000"/>
          </a:xfrm>
          <a:prstGeom prst="rect">
            <a:avLst/>
          </a:prstGeom>
          <a:solidFill>
            <a:srgbClr val="f7db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pH Review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marL="259920" indent="-259920"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pH = - log [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orbe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59920" indent="-259920"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orbel"/>
              </a:rPr>
              <a:t>+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 is really a prot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59920" indent="-259920"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Range is from 0 - 1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59920" indent="-259920"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If [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orbe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] is high, the solution is acidic; pH &lt; 7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59920" indent="-259920"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If [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orbe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] is low, the solution is basic or alkaline ; pH &gt; 7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Slide Number Placeholder 5"/>
          <p:cNvSpPr/>
          <p:nvPr/>
        </p:nvSpPr>
        <p:spPr>
          <a:xfrm>
            <a:off x="10952280" y="5867280"/>
            <a:ext cx="55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04FABF-7937-4D27-9672-FA81471BDAA1}" type="slidenum">
              <a:rPr b="0" lang="ar-SA" sz="1000" spc="-1" strike="noStrike">
                <a:solidFill>
                  <a:srgbClr val="000000"/>
                </a:solidFill>
                <a:latin typeface="Corbel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84280" y="685440"/>
            <a:ext cx="10018800" cy="878040"/>
          </a:xfrm>
          <a:prstGeom prst="rect">
            <a:avLst/>
          </a:prstGeom>
          <a:solidFill>
            <a:srgbClr val="f7dbd8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ole of the kidney in pH regulation, cont…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r the kidney to continue excretion of acidic urine, the </a:t>
            </a:r>
            <a:r>
              <a:rPr b="1" lang="en-US" sz="2400" spc="-1" strike="noStrike">
                <a:solidFill>
                  <a:srgbClr val="212121"/>
                </a:solidFill>
                <a:latin typeface="Corbel"/>
              </a:rPr>
              <a:t>excreted H+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has to be buffered by two buffer systems in the renal tubule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. </a:t>
            </a:r>
            <a:r>
              <a:rPr b="1" lang="en-US" sz="2400" spc="-1" strike="noStrike">
                <a:solidFill>
                  <a:srgbClr val="212121"/>
                </a:solidFill>
                <a:latin typeface="Corbel"/>
              </a:rPr>
              <a:t>Ammonia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which binds the secreted H+ and forms ammonium to finally binds CL to give ammonium-CL which is excreted in urin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b. </a:t>
            </a:r>
            <a:r>
              <a:rPr b="1" lang="en-US" sz="2400" spc="-1" strike="noStrike">
                <a:solidFill>
                  <a:srgbClr val="212121"/>
                </a:solidFill>
                <a:latin typeface="Corbel"/>
              </a:rPr>
              <a:t>Phosphate buffer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: which binds H+ and gives sodium di-hydrogen phosphat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4" descr="aaacidbase03"/>
          <p:cNvPicPr/>
          <p:nvPr/>
        </p:nvPicPr>
        <p:blipFill>
          <a:blip r:embed="rId1"/>
          <a:stretch/>
        </p:blipFill>
        <p:spPr>
          <a:xfrm>
            <a:off x="1660680" y="266760"/>
            <a:ext cx="8326440" cy="6591240"/>
          </a:xfrm>
          <a:prstGeom prst="rect">
            <a:avLst/>
          </a:prstGeom>
          <a:ln w="0">
            <a:noFill/>
          </a:ln>
        </p:spPr>
      </p:pic>
      <p:sp>
        <p:nvSpPr>
          <p:cNvPr id="303" name="TextBox 4"/>
          <p:cNvSpPr/>
          <p:nvPr/>
        </p:nvSpPr>
        <p:spPr>
          <a:xfrm>
            <a:off x="10263240" y="2948040"/>
            <a:ext cx="1928880" cy="1465560"/>
          </a:xfrm>
          <a:prstGeom prst="rect">
            <a:avLst/>
          </a:prstGeom>
          <a:solidFill>
            <a:srgbClr val="f7dbd8"/>
          </a:solidFill>
          <a:ln w="9360">
            <a:solidFill>
              <a:srgbClr val="30ac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bsorption of Bicarbonate in different segments of the neph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144000" y="299520"/>
            <a:ext cx="3381480" cy="6558120"/>
          </a:xfrm>
          <a:prstGeom prst="rect">
            <a:avLst/>
          </a:prstGeom>
          <a:solidFill>
            <a:srgbClr val="f7dbd8"/>
          </a:solidFill>
          <a:ln w="0">
            <a:noFill/>
          </a:ln>
        </p:spPr>
        <p:txBody>
          <a:bodyPr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-Reabsorption of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filtered HCO3- (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n PCT &amp; diluting segment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5680" indent="-2656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-H+ secretion occurs in exchange with Na and essential for HCO3- reabsorption. Energy for H+ transport against concentration gradient, is derived  from Na+ gradient developed by Na-K pump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5680" indent="-2656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&gt;90% of bicarbonate reabsorbed in this way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5" name="Picture 4" descr="aaacidbase04"/>
          <p:cNvPicPr/>
          <p:nvPr/>
        </p:nvPicPr>
        <p:blipFill>
          <a:blip r:embed="rId1"/>
          <a:stretch/>
        </p:blipFill>
        <p:spPr>
          <a:xfrm>
            <a:off x="3657600" y="0"/>
            <a:ext cx="828216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TextBox 4"/>
          <p:cNvSpPr/>
          <p:nvPr/>
        </p:nvSpPr>
        <p:spPr>
          <a:xfrm>
            <a:off x="8182080" y="6340320"/>
            <a:ext cx="346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, thick ascending &amp; early distal    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tub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84280" y="685440"/>
            <a:ext cx="10018800" cy="444600"/>
          </a:xfrm>
          <a:prstGeom prst="rect">
            <a:avLst/>
          </a:prstGeom>
          <a:solidFill>
            <a:srgbClr val="f7dbd8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Reabsorption of filtered bicarbonate, cont……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484280" y="2666880"/>
            <a:ext cx="1001880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5000"/>
          </a:bodyPr>
          <a:p>
            <a:pPr marL="242640" indent="-2426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r each secreted H+ one molecule of HCO3- is reabsorbed back to the bloo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42640" indent="-2426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e reabsorption of HCO3-  in this segment of the nephron (PCT &amp; diluting segment) does not lead to net secretion of H+ because the secreted H+ binds with the filtered HCO3-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42640" indent="-2426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lso the secreted H+ in this segment does not lead to a significant drop in tubular  pH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42640" indent="-2426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e transport of HCO3- at the basolateral membrane is facilitated by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19880" indent="-242640"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1. Na-HCO3- cotransport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019880" indent="-242640"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2. Cl- HCO3- exchange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42640" indent="-2426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Marked acidity is reported in the collecting tubules &amp; ducts where there is actual H+ secretio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42640" indent="-2426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42640" indent="-2426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84280" y="685440"/>
            <a:ext cx="10018800" cy="1190520"/>
          </a:xfrm>
          <a:prstGeom prst="rect">
            <a:avLst/>
          </a:prstGeom>
          <a:solidFill>
            <a:srgbClr val="f7db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imary active secretion of H+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 the intercalated cells of distal &amp; collecting tubules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484280" y="2766960"/>
            <a:ext cx="10018800" cy="376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marL="245520" indent="-2455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s rids the body of 80 mEq of H+ per day which comes from the metabolism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45520" indent="-2455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Most of this H+ is secreted in combination with urinary buffers; phosphate &amp; ammonia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45520" indent="-2455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H+ is secreted by primary active transport (H+ ATPase). The energy required comes from the breakdown of ATP at the luminal bord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45520" indent="-2455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s secretion can decrease pH of tubular fluid to 4.5, which is the lowest pH achieved in normal kidney. It is responsible for urine acidity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45520" indent="-2455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r each H+ molecule secreted in this segment one HCO3- molecule is formed and reabsorbe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45520" indent="-2455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9180360" y="3032280"/>
            <a:ext cx="2864160" cy="2117520"/>
          </a:xfrm>
          <a:prstGeom prst="rect">
            <a:avLst/>
          </a:prstGeom>
          <a:solidFill>
            <a:srgbClr val="f7dbd8"/>
          </a:solidFill>
          <a:ln w="0">
            <a:noFill/>
          </a:ln>
        </p:spPr>
        <p:txBody>
          <a:bodyPr anchor="ctr">
            <a:normAutofit fontScale="88000"/>
          </a:bodyPr>
          <a:p>
            <a:pPr marL="251280" indent="-2512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rimary Active H+ secretion (H+ATPase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51280" indent="-2512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by the distal tubule &amp; collecting tubul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2" name="Picture 4" descr="aaacidbase06"/>
          <p:cNvPicPr/>
          <p:nvPr/>
        </p:nvPicPr>
        <p:blipFill>
          <a:blip r:embed="rId1"/>
          <a:stretch/>
        </p:blipFill>
        <p:spPr>
          <a:xfrm>
            <a:off x="936720" y="299880"/>
            <a:ext cx="8099280" cy="6558120"/>
          </a:xfrm>
          <a:prstGeom prst="rect">
            <a:avLst/>
          </a:prstGeom>
          <a:ln w="0">
            <a:noFill/>
          </a:ln>
        </p:spPr>
      </p:pic>
      <p:sp>
        <p:nvSpPr>
          <p:cNvPr id="313" name="TextBox 4"/>
          <p:cNvSpPr/>
          <p:nvPr/>
        </p:nvSpPr>
        <p:spPr>
          <a:xfrm>
            <a:off x="3621240" y="1035000"/>
            <a:ext cx="2393640" cy="368280"/>
          </a:xfrm>
          <a:prstGeom prst="rect">
            <a:avLst/>
          </a:prstGeom>
          <a:solidFill>
            <a:srgbClr val="f7db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calated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300320"/>
          </a:xfrm>
          <a:prstGeom prst="rect">
            <a:avLst/>
          </a:prstGeom>
          <a:solidFill>
            <a:srgbClr val="f7db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eneration of new HCO3- :H+ buffering by ammonia &amp; phosphat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When H+ is secreted in excess of HCO3-,only small part of H+ can be excreted in the ionic form (H+)in urin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e lower limit of tubular fluid pH that allows H+ secretion is 4.5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o continue secretion of H+, the excess H+ has to be buffered (phosphate &amp; ammonia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t the same time new molecules of HCO3- will be formed and pass into the blood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484280" y="685440"/>
            <a:ext cx="10018800" cy="1082520"/>
          </a:xfrm>
          <a:prstGeom prst="rect">
            <a:avLst/>
          </a:prstGeom>
          <a:solidFill>
            <a:srgbClr val="f7db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eneration of new HCO3- :H+ buffering by ammonia &amp; phosphat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O, when there is excess H+ in the extracellular fluid, the kidney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1. Absorb all filtered HCO3-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2. Secrete excess H+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3. Generate new HCO3-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9384840" y="2666520"/>
            <a:ext cx="2538360" cy="3124440"/>
          </a:xfrm>
          <a:prstGeom prst="rect">
            <a:avLst/>
          </a:prstGeom>
          <a:solidFill>
            <a:srgbClr val="f7dbd8"/>
          </a:solidFill>
          <a:ln w="0">
            <a:noFill/>
          </a:ln>
        </p:spPr>
        <p:txBody>
          <a:bodyPr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Buffering of H+ by phosphate. Secretion of H+ results in de-novo formation of one molecule of HCO-3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9" name="Picture 4" descr="aaacidbase07"/>
          <p:cNvPicPr/>
          <p:nvPr/>
        </p:nvPicPr>
        <p:blipFill>
          <a:blip r:embed="rId1"/>
          <a:stretch/>
        </p:blipFill>
        <p:spPr>
          <a:xfrm>
            <a:off x="1130400" y="-22320"/>
            <a:ext cx="8256600" cy="663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843120"/>
          </a:xfrm>
          <a:prstGeom prst="rect">
            <a:avLst/>
          </a:prstGeom>
          <a:solidFill>
            <a:srgbClr val="f7dbd8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hosphate buffer , cont……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hosphate works well in tubular fluid for many reason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1. it is concentrated in tubular fluid due to H2O and low permeability to phosphat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2. pH of tubular fluid close to pKa of phosphat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HCO3- formed by this mechanism represent a net gain not replacement of filtered molecul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487160" y="1985760"/>
            <a:ext cx="9867960" cy="426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Acids are 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rbel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donor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Bases are 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rbel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acceptors, or give up O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rbe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 in solutio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Acids and bases can be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Strong – dissociate completely in solution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200240" indent="-28584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Examples: HCl, NaOH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Weak – dissociate only partially in solu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200240" indent="-28584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Examples: Lactic acid, carbonic aci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10952280" y="5867280"/>
            <a:ext cx="55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5679A5-B92F-4D2D-B862-E00705CC9504}" type="slidenum">
              <a:rPr b="0" lang="ar-SA" sz="1000" spc="-1" strike="noStrike">
                <a:solidFill>
                  <a:srgbClr val="000000"/>
                </a:solidFill>
                <a:latin typeface="Corbel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3"/>
          <p:cNvSpPr/>
          <p:nvPr/>
        </p:nvSpPr>
        <p:spPr>
          <a:xfrm>
            <a:off x="1986120" y="577800"/>
            <a:ext cx="6279840" cy="459720"/>
          </a:xfrm>
          <a:prstGeom prst="rect">
            <a:avLst/>
          </a:prstGeom>
          <a:solidFill>
            <a:srgbClr val="f7db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Review, cont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130400"/>
          </a:xfrm>
          <a:prstGeom prst="rect">
            <a:avLst/>
          </a:prstGeom>
          <a:solidFill>
            <a:srgbClr val="f7db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eneration of new HCO3- and secretion of H+: role of ammoni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mmonia (NH3) and Ammonium (NH+4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8831160" y="2666520"/>
            <a:ext cx="2671920" cy="2194200"/>
          </a:xfrm>
          <a:prstGeom prst="rect">
            <a:avLst/>
          </a:prstGeom>
          <a:solidFill>
            <a:srgbClr val="f7dbd8"/>
          </a:solidFill>
          <a:ln w="0">
            <a:noFill/>
          </a:ln>
        </p:spPr>
        <p:txBody>
          <a:bodyPr anchor="ctr">
            <a:normAutofit fontScale="95000"/>
          </a:bodyPr>
          <a:p>
            <a:pPr marL="271440" indent="-271440"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Formation of ammonium (NH4+)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Picture 4" descr="aaacidbase08"/>
          <p:cNvPicPr/>
          <p:nvPr/>
        </p:nvPicPr>
        <p:blipFill>
          <a:blip r:embed="rId1"/>
          <a:stretch/>
        </p:blipFill>
        <p:spPr>
          <a:xfrm>
            <a:off x="0" y="304920"/>
            <a:ext cx="8290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4" descr="aaacidbase09"/>
          <p:cNvPicPr/>
          <p:nvPr/>
        </p:nvPicPr>
        <p:blipFill>
          <a:blip r:embed="rId1"/>
          <a:stretch/>
        </p:blipFill>
        <p:spPr>
          <a:xfrm>
            <a:off x="0" y="566640"/>
            <a:ext cx="9144000" cy="629136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6"/>
          <p:cNvSpPr/>
          <p:nvPr/>
        </p:nvSpPr>
        <p:spPr>
          <a:xfrm>
            <a:off x="9047160" y="533520"/>
            <a:ext cx="3144960" cy="3878280"/>
          </a:xfrm>
          <a:prstGeom prst="rect">
            <a:avLst/>
          </a:prstGeom>
          <a:solidFill>
            <a:srgbClr val="f7db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reted H+ combines with N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freely diffuses into the lumen from cells to complex with H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lumen to form N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which is trapped in the lumen and excreted. Again, the loss of a 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the cell creates de-novo synthesis of a H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lecule to be reabsorb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7"/>
          <p:cNvSpPr/>
          <p:nvPr/>
        </p:nvSpPr>
        <p:spPr>
          <a:xfrm>
            <a:off x="1219320" y="4114800"/>
            <a:ext cx="2031840" cy="457200"/>
          </a:xfrm>
          <a:prstGeom prst="line">
            <a:avLst/>
          </a:prstGeom>
          <a:ln w="936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8"/>
          <p:cNvSpPr/>
          <p:nvPr/>
        </p:nvSpPr>
        <p:spPr>
          <a:xfrm>
            <a:off x="4572000" y="3048120"/>
            <a:ext cx="812880" cy="7596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82480" y="320400"/>
            <a:ext cx="7878600" cy="1143000"/>
          </a:xfrm>
          <a:prstGeom prst="rect">
            <a:avLst/>
          </a:prstGeom>
          <a:solidFill>
            <a:srgbClr val="f7db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The Body and pH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536840" y="1531800"/>
            <a:ext cx="9725040" cy="467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Homeostasis of pH is tightly controlle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Extracellular fluid pH= 7.4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Arterial Blood pH= 7.35 – 7.45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Venous blood is more acidic than arterial?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Because it contains more CO2 than arterial bloo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&lt; 6.8 or &gt; 8.0 death occur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Acidosis : below 7.35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Alkalosis : above 7.45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Slide Number Placeholder 5"/>
          <p:cNvSpPr/>
          <p:nvPr/>
        </p:nvSpPr>
        <p:spPr>
          <a:xfrm>
            <a:off x="10952280" y="5867280"/>
            <a:ext cx="55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D9084F-2C75-4731-9A84-0F20BBB8164B}" type="slidenum">
              <a:rPr b="0" lang="ar-SA" sz="1000" spc="-1" strike="noStrike">
                <a:solidFill>
                  <a:srgbClr val="000000"/>
                </a:solidFill>
                <a:latin typeface="Corbel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3"/>
          <p:cNvSpPr/>
          <p:nvPr/>
        </p:nvSpPr>
        <p:spPr>
          <a:xfrm>
            <a:off x="10952280" y="5883120"/>
            <a:ext cx="55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0F778A-2E24-49A1-BEC6-95AB0AAA37B3}" type="slidenum">
              <a:rPr b="0" lang="ar-SA" sz="1000" spc="-1" strike="noStrike">
                <a:solidFill>
                  <a:srgbClr val="000000"/>
                </a:solidFill>
                <a:latin typeface="Corbel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pH chart"/>
          <p:cNvPicPr/>
          <p:nvPr/>
        </p:nvPicPr>
        <p:blipFill>
          <a:blip r:embed="rId1"/>
          <a:stretch/>
        </p:blipFill>
        <p:spPr>
          <a:xfrm>
            <a:off x="1852560" y="662040"/>
            <a:ext cx="997416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33200" y="777600"/>
            <a:ext cx="9651960" cy="1143000"/>
          </a:xfrm>
          <a:prstGeom prst="rect">
            <a:avLst/>
          </a:prstGeom>
          <a:solidFill>
            <a:srgbClr val="f7db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Why is it important to maintain pH of blood within normal range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marL="277200" indent="-277200"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ost enzymes function only with narrow pH rang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cid-base balance can affect electrolytes (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rbe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, 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rbe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, Cl, Ca++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rbe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H affect hormon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 maintain normal function of synapses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Slide Number Placeholder 5"/>
          <p:cNvSpPr/>
          <p:nvPr/>
        </p:nvSpPr>
        <p:spPr>
          <a:xfrm>
            <a:off x="10952280" y="5867280"/>
            <a:ext cx="55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1902BE-AE5D-48F8-8346-8518B215BCB6}" type="slidenum">
              <a:rPr b="0" lang="ar-SA" sz="1000" spc="-1" strike="noStrike">
                <a:solidFill>
                  <a:srgbClr val="000000"/>
                </a:solidFill>
                <a:latin typeface="Corbel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71400" y="607680"/>
            <a:ext cx="9651960" cy="1143000"/>
          </a:xfrm>
          <a:prstGeom prst="rect">
            <a:avLst/>
          </a:prstGeom>
          <a:solidFill>
            <a:srgbClr val="f7db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The body produces more acids than bases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212121"/>
                </a:solidFill>
                <a:latin typeface="Corbel"/>
              </a:rPr>
              <a:t>Sources of acids threats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cids taken in with food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cids produced by metabolism of lipids and protein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ellular metabolism produces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(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rbe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+ 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0 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Arial"/>
              </a:rPr>
              <a:t>↔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rbe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Arial"/>
              </a:rPr>
              <a:t>↔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  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rbe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 + H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rbe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rbe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Slide Number Placeholder 5"/>
          <p:cNvSpPr/>
          <p:nvPr/>
        </p:nvSpPr>
        <p:spPr>
          <a:xfrm>
            <a:off x="10952280" y="5867280"/>
            <a:ext cx="55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54AF3C-DFA8-4F78-A13A-A4689A2C5BE0}" type="slidenum">
              <a:rPr b="0" lang="ar-SA" sz="1000" spc="-1" strike="noStrike">
                <a:solidFill>
                  <a:srgbClr val="000000"/>
                </a:solidFill>
                <a:latin typeface="Corbel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16040" y="2611080"/>
            <a:ext cx="10018800" cy="1166760"/>
          </a:xfrm>
          <a:prstGeom prst="rect">
            <a:avLst/>
          </a:prstGeom>
          <a:solidFill>
            <a:srgbClr val="f7db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212121"/>
                </a:solidFill>
                <a:latin typeface="Corbel"/>
              </a:rPr>
              <a:t>Body defense against changes in pH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10952280" y="5867280"/>
            <a:ext cx="55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276809-DBA7-4762-B214-4A82031B6814}" type="slidenum">
              <a:rPr b="0" lang="ar-SA" sz="1000" spc="-1" strike="noStrike">
                <a:solidFill>
                  <a:srgbClr val="000000"/>
                </a:solidFill>
                <a:latin typeface="Corbel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3"/>
          <p:cNvSpPr/>
          <p:nvPr/>
        </p:nvSpPr>
        <p:spPr>
          <a:xfrm>
            <a:off x="10952280" y="5883120"/>
            <a:ext cx="55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A90EFC-2BFC-4E6A-9B4A-F59D1CB047F6}" type="slidenum">
              <a:rPr b="0" lang="ar-SA" sz="1000" spc="-1" strike="noStrike">
                <a:solidFill>
                  <a:srgbClr val="000000"/>
                </a:solidFill>
                <a:latin typeface="Corbel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defenses"/>
          <p:cNvPicPr/>
          <p:nvPr/>
        </p:nvPicPr>
        <p:blipFill>
          <a:blip r:embed="rId1"/>
          <a:stretch/>
        </p:blipFill>
        <p:spPr>
          <a:xfrm>
            <a:off x="1353960" y="368280"/>
            <a:ext cx="1083816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8T06:18:22Z</dcterms:created>
  <dc:creator>DR.EMAN</dc:creator>
  <dc:description/>
  <dc:language>en-US</dc:language>
  <cp:lastModifiedBy>user</cp:lastModifiedBy>
  <dcterms:modified xsi:type="dcterms:W3CDTF">2015-05-10T04:38:47Z</dcterms:modified>
  <cp:revision>80</cp:revision>
  <dc:subject/>
  <dc:title>Glomerular Filtration</dc:title>
</cp:coreProperties>
</file>