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6104-D383-4E22-91AD-B110A3A8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136-DF94-4F47-A637-9A4EE958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8CCF-E236-4AD2-8D99-A04593C9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DCA-9866-478D-8CD8-13A7DC7A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1114-F541-4C5E-9C3E-F7A2A4D13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5822-CDE1-4E83-875B-51DF93EF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30F0-3B6F-4CBE-BC34-8A65596B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A131-1126-43A0-8F2D-F997CC84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C776-AD30-4055-804F-515387E6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2783-71D4-4B79-B846-56A7B27B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7645-C644-4449-802D-C8C09F79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D044-B25A-4AA2-BB85-8D41D25E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DD1B-9123-477E-8EBB-C0F9CF8C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987F-796A-474B-8762-3950EDCF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96B5-FA94-4847-A5E9-E3A6E40A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2D65-A6F7-417D-9425-C1DD9FE3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BE22-4FE0-4152-9AC5-EB9FB5EE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7BF0-89B9-4B62-8A3D-556D5AF9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AF5FC-AEC2-4AA9-8308-6EA6EE72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89231-BF4B-437B-8D5E-89A00572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E6E1-2583-4D58-AD30-45ED5197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765CA-58AA-4158-969D-24D37DD2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F4B-8C3E-4368-83BE-BDA8C77F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E1618-8C0A-41B0-B458-69CB3BA2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220AE-B827-4ED1-BD7F-68AD7091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991CC-FD34-4B68-9C95-0E5622D5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F7092-9020-43A2-A7D0-1E7976CB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EDA98-4326-40D4-882A-2349DEAF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FA7F0-99D3-4F18-8E8C-E706285B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64D60-B3E3-411B-AA90-F6F05925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A703C-AEFF-419C-B468-26EEDF45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ABF02-C11F-46EF-8FC1-E5A00A65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5D562-1B92-4104-AB6D-D197B0E7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52F-57DF-4267-A834-0A6A0B2E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391BC-62DD-40B6-A87A-F82B9D70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F4849-0CD2-4590-91B5-D73FC986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C7104-7F61-4E7B-8357-B6C9D1CD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1CDD2-63A8-4446-B43C-231F006F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7684-5685-4EFC-962B-A648D4F7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5DA8-6D5C-4D19-99AA-4862BB41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F7982-D805-4E02-B9AF-D341B614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BADB9-1BFF-4C0C-B54F-4389E95F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9D2B1-4925-48CA-A9F0-4441D4AB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4C31D-09A9-4B9C-9003-1D24003F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8FE-137D-4750-803B-9D231E4D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1DF82-C593-4FD3-98D3-27D72179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9D7F6-668B-4B9B-97E3-57445C93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0D75C-27ED-469C-8AD9-74B2FBF6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A77E8-C588-4A10-97C2-42C265FE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76301-9BDA-4DAF-A37C-1FE45D14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CEAA0-50BC-4FAB-B75E-BB6F5B93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45517-7D04-4B97-9BFC-73D75203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B2648-4687-4BE1-ABB9-D9771CA8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E5C24-F5E7-492F-9E9A-2D96DC5F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A66CC-0ECA-4BEE-84B9-E5BA0DF8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354B-57C7-434D-A8A6-7865A4C6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0C4A1-1AD5-48AA-86DB-7E0D395D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695-A812-4B94-B81A-3937DF0D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51A-3DE9-4774-BAE5-7A22B581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F5B7-4419-4731-9070-BFA86326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38992-0719-4E85-9B16-9F95AE106691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8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>
                <a:gd name="textAreaLeft" fmla="*/ 0 w 1063440"/>
                <a:gd name="textAreaRight" fmla="*/ 1063800 w 1063440"/>
                <a:gd name="textAreaTop" fmla="*/ 0 h 2782800"/>
                <a:gd name="textAreaBottom" fmla="*/ 2783160 h 2782800"/>
              </a:gdLst>
              <a:ahLst/>
              <a:rect l="textAreaLeft" t="textAreaTop" r="textAreaRight" b="textAreaBottom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2673360"/>
                <a:gd name="textAreaBottom" fmla="*/ 2673720 h 2673360"/>
              </a:gdLst>
              <a:ahLst/>
              <a:rect l="textAreaLeft" t="textAreaTop" r="textAreaRight" b="textAreaBottom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>
                <a:gd name="textAreaLeft" fmla="*/ 0 w 2693880"/>
                <a:gd name="textAreaRight" fmla="*/ 2694240 w 2693880"/>
                <a:gd name="textAreaTop" fmla="*/ 0 h 4275000"/>
                <a:gd name="textAreaBottom" fmla="*/ 4275360 h 4275000"/>
              </a:gdLst>
              <a:ahLst/>
              <a:rect l="textAreaLeft" t="textAreaTop" r="textAreaRight" b="textAreaBottom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>
                <a:gd name="textAreaLeft" fmla="*/ 0 w 3332160"/>
                <a:gd name="textAreaRight" fmla="*/ 3332520 w 3332160"/>
                <a:gd name="textAreaTop" fmla="*/ 0 h 4165560"/>
                <a:gd name="textAreaBottom" fmla="*/ 4165920 h 4165560"/>
              </a:gdLst>
              <a:ahLst/>
              <a:rect l="textAreaLeft" t="textAreaTop" r="textAreaRight" b="textAreaBottom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>
                <a:gd name="textAreaLeft" fmla="*/ 0 w 4576680"/>
                <a:gd name="textAreaRight" fmla="*/ 4577040 w 4576680"/>
                <a:gd name="textAreaTop" fmla="*/ 0 h 4170240"/>
                <a:gd name="textAreaBottom" fmla="*/ 4170600 h 4170240"/>
              </a:gdLst>
              <a:ahLst/>
              <a:rect l="textAreaLeft" t="textAreaTop" r="textAreaRight" b="textAreaBottom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>
                <a:gd name="textAreaLeft" fmla="*/ 0 w 3584520"/>
                <a:gd name="textAreaRight" fmla="*/ 3584880 w 3584520"/>
                <a:gd name="textAreaTop" fmla="*/ 0 h 4280040"/>
                <a:gd name="textAreaBottom" fmla="*/ 4280400 h 4280040"/>
              </a:gdLst>
              <a:ahLst/>
              <a:rect l="textAreaLeft" t="textAreaTop" r="textAreaRight" b="textAreaBottom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F5016-14B2-446B-A84D-34BA6A28128A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C9D22-380B-4867-8CEC-12E80B66BD9F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AE439-BE67-4150-920A-4B9C3F4C47AA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>
                <a:gd name="textAreaLeft" fmla="*/ 0 w 1122480"/>
                <a:gd name="textAreaRight" fmla="*/ 1122840 w 1122480"/>
                <a:gd name="textAreaTop" fmla="*/ 0 h 5329440"/>
                <a:gd name="textAreaBottom" fmla="*/ 5329440 h 5329440"/>
              </a:gdLst>
              <a:ahLst/>
              <a:rect l="textAreaLeft" t="textAreaTop" r="textAreaRight" b="textAreaBottom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30a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5276880"/>
                <a:gd name="textAreaBottom" fmla="*/ 5277240 h 5276880"/>
              </a:gdLst>
              <a:ahLst/>
              <a:rect l="textAreaLeft" t="textAreaTop" r="textAreaRight" b="textAreaBottom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>
                <a:gd name="textAreaLeft" fmla="*/ 0 w 1228680"/>
                <a:gd name="textAreaRight" fmla="*/ 1229040 w 122868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>
                <a:gd name="textAreaLeft" fmla="*/ 0 w 1495440"/>
                <a:gd name="textAreaRight" fmla="*/ 1495800 w 149544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c5a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>
                <a:gd name="textAreaLeft" fmla="*/ 0 w 2130480"/>
                <a:gd name="textAreaRight" fmla="*/ 2130840 w 2130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287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B0E32-1791-47F7-914B-78845673C4DA}" type="slidenum">
              <a:rPr b="0" lang="en-US" sz="10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928600" y="1379160"/>
            <a:ext cx="8574120" cy="26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Physiology of Acid-base balance-I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14760" y="3995280"/>
            <a:ext cx="698832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rbel"/>
              </a:rPr>
              <a:t>Dr. Eman El Eter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033640" y="480960"/>
            <a:ext cx="9299520" cy="75888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1- Bicarbonate buff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883880" y="2044800"/>
            <a:ext cx="9651960" cy="46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8260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Sodium Bicarbonate (NaH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) and a weak (acid carbonic acid (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It acts both </a:t>
            </a:r>
            <a:r>
              <a:rPr b="1" lang="en-US" sz="3200" spc="-1" strike="noStrike">
                <a:solidFill>
                  <a:srgbClr val="212121"/>
                </a:solidFill>
                <a:latin typeface="Corbel"/>
              </a:rPr>
              <a:t>extracellular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1" lang="en-US" sz="3200" spc="-1" strike="noStrike">
                <a:solidFill>
                  <a:srgbClr val="212121"/>
                </a:solidFill>
                <a:latin typeface="Corbel"/>
              </a:rPr>
              <a:t>intracellula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12121"/>
                </a:solidFill>
                <a:latin typeface="Corbel"/>
              </a:rPr>
              <a:t>It is the most abundan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12121"/>
                </a:solidFill>
                <a:latin typeface="Corbel"/>
              </a:rPr>
              <a:t>Most important extracellular buffer: the two components are regulated as: CO2 by the lungs, HCO3- by the kidne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5FFFE6-A647-4020-845F-8D0A7A8B52C5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10350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icarbonate buffer, cont,…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484280" y="2666520"/>
            <a:ext cx="10018800" cy="389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331920" indent="-257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ts concentration in blood = </a:t>
            </a:r>
            <a:r>
              <a:rPr b="1" lang="en-US" sz="3200" spc="-1" strike="noStrike">
                <a:solidFill>
                  <a:srgbClr val="212121"/>
                </a:solidFill>
                <a:latin typeface="Corbel"/>
              </a:rPr>
              <a:t>27mEq/L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nd is called alkali reserv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intain a 20:1 ratio :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-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: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Cl +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↔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+ NaC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aOH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↔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2" name="Picture 2" descr="http://3.bp.blogspot.com/-xS65GlyTXLA/UqzA_bRZnsI/AAAAAAAAAzk/XBNalRZXkQg/s1600/carbonic+anhydrase.jpg"/>
          <p:cNvPicPr/>
          <p:nvPr/>
        </p:nvPicPr>
        <p:blipFill>
          <a:blip r:embed="rId1"/>
          <a:stretch/>
        </p:blipFill>
        <p:spPr>
          <a:xfrm>
            <a:off x="6116760" y="4824360"/>
            <a:ext cx="557028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080" y="685800"/>
            <a:ext cx="9566280" cy="78264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2- Phosphate buff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31720" y="2230560"/>
            <a:ext cx="10310760" cy="40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248400" indent="-24840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jor </a:t>
            </a:r>
            <a:r>
              <a:rPr b="1" lang="en-US" sz="2800" spc="-1" strike="noStrike">
                <a:solidFill>
                  <a:srgbClr val="212121"/>
                </a:solidFill>
                <a:latin typeface="Corbel"/>
              </a:rPr>
              <a:t>intracellular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uffer as its concentration is high intracellularl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8400" indent="-24840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 is an important buffer in renal tubules, why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8400" indent="-24840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Two reason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8400" indent="-24840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1. becomes concentrated in the tubular fluid, so become powerfu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8400" indent="-24840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2. its pKa = 6.8, which close to the pH in the tubular fluid of the distal nephr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8400" indent="-24840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+ H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Arial"/>
              </a:rPr>
              <a:t>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O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48400" indent="-24840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Arial"/>
              </a:rPr>
              <a:t>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O + H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rbel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69A5D-F6F7-4955-BD2E-CD86AD24D3B9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36800" y="733320"/>
            <a:ext cx="8964720" cy="8431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3- Protein Buff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828880" y="2133720"/>
            <a:ext cx="729144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bundant  buffers especially intracellul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clud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212121"/>
                </a:solidFill>
                <a:latin typeface="Corbel"/>
              </a:rPr>
              <a:t>hemoglobin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work in red blood cells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12121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212121"/>
                </a:solidFill>
                <a:latin typeface="Corbel"/>
              </a:rPr>
              <a:t>Plasma protei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212121"/>
                </a:solidFill>
                <a:latin typeface="Corbel"/>
              </a:rPr>
              <a:t>Intracellular protein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2BF3F-E571-4266-B054-C1829A5BC811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84280" y="480600"/>
            <a:ext cx="10018800" cy="90324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b. Respiratory System: the lung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4000"/>
          </a:bodyPr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halation of carbon dioxid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owerful, but only works with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volatile aci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oesn’t affect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fixed acid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like lactic aci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+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0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↔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Arial"/>
              </a:rPr>
              <a:t>↔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+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ody pH can be adjusted by changing rate and depth of breathing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yperventilation wash out excess CO2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ypoventilation retain CO2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33280" indent="-180720">
              <a:spcBef>
                <a:spcPts val="799"/>
              </a:spcBef>
              <a:buClr>
                <a:srgbClr val="1287c3"/>
              </a:buClr>
              <a:buSzPct val="145000"/>
              <a:buFont typeface="Wingdings 2" charset="2"/>
              <a:buChar char="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s process is controlled by chemoreceptor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0F413E-D688-43A3-8379-C4E5AD4F9184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http://droualb.faculty.mjc.edu/Course%20Materials/Physiology%20101/Chapter%20Notes/Fall%202007/figure_19_24_labeled.jpg"/>
          <p:cNvPicPr/>
          <p:nvPr/>
        </p:nvPicPr>
        <p:blipFill>
          <a:blip r:embed="rId1"/>
          <a:stretch/>
        </p:blipFill>
        <p:spPr>
          <a:xfrm>
            <a:off x="2508120" y="214200"/>
            <a:ext cx="905040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http://sleep.sharepoint.com/siteimages/Chapter%203.png"/>
          <p:cNvPicPr/>
          <p:nvPr/>
        </p:nvPicPr>
        <p:blipFill>
          <a:blip r:embed="rId1"/>
          <a:stretch/>
        </p:blipFill>
        <p:spPr>
          <a:xfrm>
            <a:off x="3081240" y="0"/>
            <a:ext cx="618336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4"/>
          <p:cNvSpPr/>
          <p:nvPr/>
        </p:nvSpPr>
        <p:spPr>
          <a:xfrm flipV="1">
            <a:off x="3308400" y="5626800"/>
            <a:ext cx="3021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"/>
          <p:cNvSpPr/>
          <p:nvPr/>
        </p:nvSpPr>
        <p:spPr>
          <a:xfrm>
            <a:off x="7640640" y="3778200"/>
            <a:ext cx="1467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6"/>
          <p:cNvSpPr/>
          <p:nvPr/>
        </p:nvSpPr>
        <p:spPr>
          <a:xfrm>
            <a:off x="6905520" y="3873600"/>
            <a:ext cx="7700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5678640" y="4235400"/>
            <a:ext cx="40932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8"/>
          <p:cNvSpPr/>
          <p:nvPr/>
        </p:nvSpPr>
        <p:spPr>
          <a:xfrm>
            <a:off x="9817200" y="3200400"/>
            <a:ext cx="20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chemorecep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 to  changes in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9"/>
          <p:cNvSpPr/>
          <p:nvPr/>
        </p:nvSpPr>
        <p:spPr>
          <a:xfrm>
            <a:off x="4487760" y="3873600"/>
            <a:ext cx="9860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10952280" y="588312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331A2-6EFC-49FF-A2F8-F9314CF201B5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A02801-04-008"/>
          <p:cNvPicPr/>
          <p:nvPr/>
        </p:nvPicPr>
        <p:blipFill>
          <a:blip r:embed="rId1"/>
          <a:stretch/>
        </p:blipFill>
        <p:spPr>
          <a:xfrm>
            <a:off x="2616120" y="228600"/>
            <a:ext cx="86583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C. Kidney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138040" y="2188800"/>
            <a:ext cx="8545320" cy="43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liminates large amounts of aci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an excrete base when in exces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an conserve and produce bicarbonate 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ost effective regulator of pH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kidneys fail, pH balance fail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933D3-1ECD-473B-B2DD-9B978F954278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http://www.ivyroses.com/Images/Linking_Images/Link_Kidney_180w.jpg"/>
          <p:cNvPicPr/>
          <p:nvPr/>
        </p:nvPicPr>
        <p:blipFill>
          <a:blip r:embed="rId1"/>
          <a:stretch/>
        </p:blipFill>
        <p:spPr>
          <a:xfrm>
            <a:off x="8288280" y="1550880"/>
            <a:ext cx="2106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17936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12121"/>
                </a:solidFill>
                <a:latin typeface="Corbel"/>
              </a:rPr>
              <a:t>How the kidney regulates blood pH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004840" y="2021040"/>
            <a:ext cx="9652320" cy="46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Three main proces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1287c3"/>
              </a:buClr>
              <a:buSzPct val="145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absorption of filtered bicarbona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1287c3"/>
              </a:buClr>
              <a:buSzPct val="145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eneration of  new bicarbona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buClr>
                <a:srgbClr val="1287c3"/>
              </a:buClr>
              <a:buSzPct val="145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cretion of H+ and urine acidification as low as pH of urine =5.0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2915DA-D3E6-4FE0-B483-BDDF38318DD1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http://www.ivyroses.com/Images/Linking_Images/Link_Kidney_180w.jpg"/>
          <p:cNvPicPr/>
          <p:nvPr/>
        </p:nvPicPr>
        <p:blipFill>
          <a:blip r:embed="rId1"/>
          <a:stretch/>
        </p:blipFill>
        <p:spPr>
          <a:xfrm>
            <a:off x="9023400" y="2077920"/>
            <a:ext cx="17143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94040" y="693360"/>
            <a:ext cx="8991360" cy="11430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rbel"/>
              </a:rPr>
              <a:t>pH Review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marL="259920" indent="-2599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pH = - log [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+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 is really a prot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Range is from 0 - 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If [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] is high, the solution is acidic; pH &lt;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59920" indent="-25992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If [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] is low, the solution is basic or alkaline ; pH &gt; 7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E1444-BE37-478D-8B7C-1B17F631B451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87804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ole of the kidney in pH regulation, cont…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r the kidney to continue excretion of acidic urine, the </a:t>
            </a:r>
            <a:r>
              <a:rPr b="1" lang="en-US" sz="2400" spc="-1" strike="noStrike">
                <a:solidFill>
                  <a:srgbClr val="212121"/>
                </a:solidFill>
                <a:latin typeface="Corbel"/>
              </a:rPr>
              <a:t>excreted H+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has to be buffered by two buffer systems in the renal tubul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. </a:t>
            </a:r>
            <a:r>
              <a:rPr b="1" lang="en-US" sz="2400" spc="-1" strike="noStrike">
                <a:solidFill>
                  <a:srgbClr val="212121"/>
                </a:solidFill>
                <a:latin typeface="Corbel"/>
              </a:rPr>
              <a:t>Ammonia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which binds the secreted H+ and forms ammonium to finally binds CL to give ammonium-CL which is excreted in urin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. </a:t>
            </a:r>
            <a:r>
              <a:rPr b="1" lang="en-US" sz="2400" spc="-1" strike="noStrike">
                <a:solidFill>
                  <a:srgbClr val="212121"/>
                </a:solidFill>
                <a:latin typeface="Corbel"/>
              </a:rPr>
              <a:t>Phosphate buffer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: which binds H+ and gives sodium di-hydrogen phospha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aaacidbase03"/>
          <p:cNvPicPr/>
          <p:nvPr/>
        </p:nvPicPr>
        <p:blipFill>
          <a:blip r:embed="rId1"/>
          <a:stretch/>
        </p:blipFill>
        <p:spPr>
          <a:xfrm>
            <a:off x="1660680" y="266760"/>
            <a:ext cx="8326440" cy="659124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10263240" y="2948040"/>
            <a:ext cx="1928880" cy="1465560"/>
          </a:xfrm>
          <a:prstGeom prst="rect">
            <a:avLst/>
          </a:prstGeom>
          <a:solidFill>
            <a:srgbClr val="f7dbd8"/>
          </a:solidFill>
          <a:ln w="9360">
            <a:solidFill>
              <a:srgbClr val="30ac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bsorption of Bicarbonate in different segments of the neph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44000" y="299520"/>
            <a:ext cx="3381480" cy="65581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Reabsorption of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filtered HCO3- (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 PCT &amp; diluting segment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H+ secretion occurs in exchange with Na and essential for HCO3- reabsorption. Energy for H+ transport against concentration gradient, is derived  from Na+ gradient developed by Na-K pump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65680" indent="-2656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&gt;90% of bicarbonate reabsorbed in this way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4" descr="aaacidbase04"/>
          <p:cNvPicPr/>
          <p:nvPr/>
        </p:nvPicPr>
        <p:blipFill>
          <a:blip r:embed="rId1"/>
          <a:stretch/>
        </p:blipFill>
        <p:spPr>
          <a:xfrm>
            <a:off x="3657600" y="0"/>
            <a:ext cx="828216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4"/>
          <p:cNvSpPr/>
          <p:nvPr/>
        </p:nvSpPr>
        <p:spPr>
          <a:xfrm>
            <a:off x="8182080" y="6340320"/>
            <a:ext cx="34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, thick ascending &amp; early distal    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ub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4446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absorption of filtered bicarbonate, cont……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484280" y="2666880"/>
            <a:ext cx="100188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marL="242640" indent="-2426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r each secreted H+ one molecule of HCO3- is reabsorbed back to the bloo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2640" indent="-2426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reabsorption of HCO3-  in this segment of the nephron (PCT &amp; diluting segment) does not lead to net secretion of H+ because the secreted H+ binds with the filtered HCO3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2640" indent="-2426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lso the secreted H+ in this segment does not lead to a significant drop in tubular  pH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2640" indent="-2426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transport of HCO3- at the basolateral membrane is facilitated by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19880" indent="-2426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1. Na-HCO3- cotranspor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019880" indent="-242640">
              <a:spcBef>
                <a:spcPts val="4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2. Cl- HCO3- exchange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42640" indent="-2426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arked acidity is reported in the collecting tubules &amp; ducts where there is actual H+ secretio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2640" indent="-2426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2640" indent="-2426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11905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imary active secretion of H+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the intercalated cells of distal &amp; collecting tubule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484280" y="2766960"/>
            <a:ext cx="10018800" cy="376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6000"/>
          </a:bodyPr>
          <a:p>
            <a:pPr marL="245520" indent="-245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s rids the body of 80 mEq of H+ per day which comes from the metabolism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5520" indent="-245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ost of this H+ is secreted in combination with urinary buffers; phosphate &amp; ammonia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5520" indent="-245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+ is secreted by primary active transport (H+ ATPase). The energy required comes from the breakdown of ATP at the luminal bord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5520" indent="-245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s secretion can decrease pH of tubular fluid to 4.5, which is the lowest pH achieved in normal kidney. It is responsible for urine acidity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5520" indent="-245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r each H+ molecule secreted in this segment one HCO3- molecule is formed and reabsorbe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45520" indent="-24552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9180360" y="3032280"/>
            <a:ext cx="2864160" cy="21175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rmAutofit fontScale="88000"/>
          </a:bodyPr>
          <a:p>
            <a:pPr marL="251280" indent="-25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imary Active H+ secretion (H+ATPase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51280" indent="-2512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y the distal tubule &amp; collecting tubu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4" descr="aaacidbase06"/>
          <p:cNvPicPr/>
          <p:nvPr/>
        </p:nvPicPr>
        <p:blipFill>
          <a:blip r:embed="rId1"/>
          <a:stretch/>
        </p:blipFill>
        <p:spPr>
          <a:xfrm>
            <a:off x="936720" y="299880"/>
            <a:ext cx="8099280" cy="655812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3621240" y="1035000"/>
            <a:ext cx="2393640" cy="36828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alated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3003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tion of new HCO3- :H+ buffering by ammonia &amp; phosph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H+ is secreted in excess of HCO3-,only small part of H+ can be excreted in the ionic form (H+)in urin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lower limit of tubular fluid pH that allows H+ secretion is 4.5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o continue secretion of H+, the excess H+ has to be buffered (phosphate &amp; ammonia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t the same time new molecules of HCO3- will be formed and pass into the blood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84280" y="685440"/>
            <a:ext cx="10018800" cy="10825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tion of new HCO3- :H+ buffering by ammonia &amp; phosph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O, when there is excess H+ in the extracellular fluid, the kidney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. Absorb all filtered HCO3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. Secrete excess H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3. Generate new HCO3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384840" y="2666520"/>
            <a:ext cx="2538360" cy="312444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rmAutofit fontScale="93000"/>
          </a:bodyPr>
          <a:p>
            <a:pPr marL="265680" indent="-26568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uffering of H+ by phosphate. Secretion of H+ results in de-novo formation of one molecule of HCO-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4" descr="aaacidbase07"/>
          <p:cNvPicPr/>
          <p:nvPr/>
        </p:nvPicPr>
        <p:blipFill>
          <a:blip r:embed="rId1"/>
          <a:stretch/>
        </p:blipFill>
        <p:spPr>
          <a:xfrm>
            <a:off x="1130400" y="-22320"/>
            <a:ext cx="825660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8431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hosphate buffer , cont……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hosphate works well in tubular fluid for many reason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. it is concentrated in tubular fluid due to H2O and low permeability to phospha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. pH of tubular fluid close to pKa of phospha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HCO3- formed by this mechanism represent a net gain not replacement of filtered molecu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487160" y="1985760"/>
            <a:ext cx="9867960" cy="42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cids ar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rbe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donor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Bases are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rbe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cceptors, or give up 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rbe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in solutio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cids and bases can b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Strong – dissociate completely in solution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Examples: HCl, NaO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Weak – dissociate only partially in solu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Examples: Lactic acid, carbonic aci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B7E48-F315-4CAF-8FEA-B6A8179538F1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1986120" y="577800"/>
            <a:ext cx="6279840" cy="45972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Review, cont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1304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tion of new HCO3- and secretion of H+: role of ammoni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mmonia (NH3) and Ammonium (NH+4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831160" y="2666520"/>
            <a:ext cx="2671920" cy="21942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rmAutofit fontScale="95000"/>
          </a:bodyPr>
          <a:p>
            <a:pPr marL="271440" indent="-271440"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Formation of ammonium (NH4+)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4" descr="aaacidbase08"/>
          <p:cNvPicPr/>
          <p:nvPr/>
        </p:nvPicPr>
        <p:blipFill>
          <a:blip r:embed="rId1"/>
          <a:stretch/>
        </p:blipFill>
        <p:spPr>
          <a:xfrm>
            <a:off x="0" y="304920"/>
            <a:ext cx="8290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aaacidbase09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62913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6"/>
          <p:cNvSpPr/>
          <p:nvPr/>
        </p:nvSpPr>
        <p:spPr>
          <a:xfrm>
            <a:off x="9047160" y="533520"/>
            <a:ext cx="3144960" cy="387828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ed H+ combines with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freely diffuses into the lumen from cells to complex with H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umen to form 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which is trapped in the lumen and excreted. Again, the loss of a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the cell creates de-novo synthesis of a 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lecule to be reabsor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1219320" y="4114800"/>
            <a:ext cx="2031840" cy="457200"/>
          </a:xfrm>
          <a:prstGeom prst="line">
            <a:avLst/>
          </a:prstGeom>
          <a:ln w="936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4572000" y="3048120"/>
            <a:ext cx="812880" cy="759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82480" y="320400"/>
            <a:ext cx="7878600" cy="11430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The Body and pH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36840" y="1531800"/>
            <a:ext cx="9725040" cy="467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Homeostasis of pH is tightly controll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Extracellular fluid pH= 7.4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rterial Blood pH= 7.35 – 7.4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Venous blood is more acidic than arterial?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Because it contains more CO2 than arterial bloo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&lt; 6.8 or &gt; 8.0 death occu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cidosis : below 7.3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lkalosis : above 7.45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376B9-BF65-41D0-A19A-FEA37C5FA81E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3"/>
          <p:cNvSpPr/>
          <p:nvPr/>
        </p:nvSpPr>
        <p:spPr>
          <a:xfrm>
            <a:off x="10952280" y="588312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5F82B-B061-4E7F-98C8-701345463D16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pH chart"/>
          <p:cNvPicPr/>
          <p:nvPr/>
        </p:nvPicPr>
        <p:blipFill>
          <a:blip r:embed="rId1"/>
          <a:stretch/>
        </p:blipFill>
        <p:spPr>
          <a:xfrm>
            <a:off x="1852560" y="662040"/>
            <a:ext cx="997416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33200" y="777600"/>
            <a:ext cx="9651960" cy="11430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Why is it important to maintain pH of blood within normal range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st enzymes function only with narrow pH rang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id-base balance can affect electrolytes (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Cl, Ca+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spcBef>
                <a:spcPts val="799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H affect hormon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maintain normal function of synapses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3397DA-0EFD-480A-9C44-9460CB5C713D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71400" y="607680"/>
            <a:ext cx="9651960" cy="114300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The body produces more acids than base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12121"/>
                </a:solidFill>
                <a:latin typeface="Corbel"/>
              </a:rPr>
              <a:t>Sources of acids threat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cids taken in with foo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cids produced by metabolism of lipids and protei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ellular metabolism produces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1287c3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+ 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0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↔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Arial"/>
              </a:rPr>
              <a:t>↔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rbe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 +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rbe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CBFC8-3A2B-4B5F-928D-9579DFEA6F08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16040" y="2611080"/>
            <a:ext cx="10018800" cy="1166760"/>
          </a:xfrm>
          <a:prstGeom prst="rect">
            <a:avLst/>
          </a:prstGeom>
          <a:solidFill>
            <a:srgbClr val="f7db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12121"/>
                </a:solidFill>
                <a:latin typeface="Corbel"/>
              </a:rPr>
              <a:t>Body defense against changes in pH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10952280" y="586728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7A933-E9B9-40A6-8C1C-6B144DBF3ACF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3"/>
          <p:cNvSpPr/>
          <p:nvPr/>
        </p:nvSpPr>
        <p:spPr>
          <a:xfrm>
            <a:off x="10952280" y="5883120"/>
            <a:ext cx="55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DFA83-8F4D-4774-80F0-DC7302816103}" type="slidenum">
              <a:rPr b="0" lang="ar-SA" sz="1000" spc="-1" strike="noStrike">
                <a:solidFill>
                  <a:srgbClr val="000000"/>
                </a:solidFill>
                <a:latin typeface="Corbel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defenses"/>
          <p:cNvPicPr/>
          <p:nvPr/>
        </p:nvPicPr>
        <p:blipFill>
          <a:blip r:embed="rId1"/>
          <a:stretch/>
        </p:blipFill>
        <p:spPr>
          <a:xfrm>
            <a:off x="1353960" y="368280"/>
            <a:ext cx="10838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06:18:22Z</dcterms:created>
  <dc:creator>DR.EMAN</dc:creator>
  <dc:description/>
  <dc:language>en-US</dc:language>
  <cp:lastModifiedBy>user</cp:lastModifiedBy>
  <dcterms:modified xsi:type="dcterms:W3CDTF">2015-05-10T04:38:47Z</dcterms:modified>
  <cp:revision>80</cp:revision>
  <dc:subject/>
  <dc:title>Glomerular Filtration</dc:title>
</cp:coreProperties>
</file>