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BF2-79DF-40FC-91BA-849004AA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DF9-5269-4FDC-85E5-DF3331AB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B15-566A-409E-87DC-0B30523A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968-6B87-4B69-A944-D1569A38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469-CE88-4DA2-9212-5C7AEFC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3E1-C720-43EC-B8EA-0969851D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EDF-5FD5-4391-B6EB-E70025B3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9C2-FDF0-475B-9BAE-FE0C7863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AFB-5326-482E-A747-1A3AF01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5F4-D944-449A-B372-8C3932A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BAA-6139-49A1-AA2E-1C6B9EE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03E-2B0A-49CC-BA17-92AC5E7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F215-C839-4428-91D6-DAB422595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renal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17280"/>
            <a:ext cx="32004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Renal Cor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Renal Pyrami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minor Caly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Major Caly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dad\Student Gray\4. Abdomen\F66122-004-f124.jpg"/>
          <p:cNvPicPr/>
          <p:nvPr/>
        </p:nvPicPr>
        <p:blipFill>
          <a:blip r:embed="rId1"/>
          <a:srcRect l="16981" t="0" r="18869" b="9457"/>
          <a:stretch/>
        </p:blipFill>
        <p:spPr>
          <a:xfrm>
            <a:off x="4419720" y="228600"/>
            <a:ext cx="39621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4876920" y="1600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029200" y="30481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16765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32448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3124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37339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reter is suppli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Renal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Gonadal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Common illiac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Superior Vesical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internal iliac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E:\dad\Student Gray\4. Abdomen\F66122-004-f126.jpg"/>
          <p:cNvPicPr/>
          <p:nvPr/>
        </p:nvPicPr>
        <p:blipFill>
          <a:blip r:embed="rId1"/>
          <a:srcRect l="27943" t="6908" r="11140" b="4691"/>
          <a:stretch/>
        </p:blipFill>
        <p:spPr>
          <a:xfrm>
            <a:off x="5105520" y="380880"/>
            <a:ext cx="35049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ounded Rectangle 5"/>
          <p:cNvSpPr/>
          <p:nvPr/>
        </p:nvSpPr>
        <p:spPr>
          <a:xfrm>
            <a:off x="7848720" y="2438280"/>
            <a:ext cx="7617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77120" y="48006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600200"/>
            <a:ext cx="32004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bel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eteric orif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1" i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g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urethral ori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ureth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E:\dad\Student Gray\5. Pelvis and perineum\F66122-005-f040b.jpg"/>
          <p:cNvPicPr/>
          <p:nvPr/>
        </p:nvPicPr>
        <p:blipFill>
          <a:blip r:embed="rId1"/>
          <a:srcRect l="21821" t="18180" r="18181" b="5458"/>
          <a:stretch/>
        </p:blipFill>
        <p:spPr>
          <a:xfrm>
            <a:off x="3809880" y="838080"/>
            <a:ext cx="472464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4419720" y="21337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46480" y="274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943600" y="434340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10280" y="5562720"/>
            <a:ext cx="1447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48320" y="55627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867280" y="556272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315200" y="2057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1341000"/>
            <a:ext cx="3353040" cy="490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Psoas 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Quadratus lambor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Diaphrag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dad\Student Gray\4. Abdomen\F66122-004-f008.jpg"/>
          <p:cNvPicPr/>
          <p:nvPr/>
        </p:nvPicPr>
        <p:blipFill>
          <a:blip r:embed="rId1"/>
          <a:srcRect l="22225" t="0" r="22225" b="3661"/>
          <a:stretch/>
        </p:blipFill>
        <p:spPr>
          <a:xfrm>
            <a:off x="4495680" y="22860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5"/>
          <p:cNvSpPr/>
          <p:nvPr/>
        </p:nvSpPr>
        <p:spPr>
          <a:xfrm>
            <a:off x="579132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48640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8672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294920"/>
            <a:ext cx="380988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The renal artery arises from abdominal aor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The level of the renal artery is L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he renal veins drain into inferior vena ca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The right renal vein is shorter than the left ren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dad\Student Gray\4. Abdomen\F66122-004-f095.jpg"/>
          <p:cNvPicPr/>
          <p:nvPr/>
        </p:nvPicPr>
        <p:blipFill>
          <a:blip r:embed="rId1"/>
          <a:srcRect l="22640" t="1881" r="20755" b="4178"/>
          <a:stretch/>
        </p:blipFill>
        <p:spPr>
          <a:xfrm>
            <a:off x="4343400" y="304920"/>
            <a:ext cx="44956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3657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ins drain into the left renal ve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left suprarenal ve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left gonadal ve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dad\Student Gray\4. Abdomen\F66122-004-f107.jpg"/>
          <p:cNvPicPr/>
          <p:nvPr/>
        </p:nvPicPr>
        <p:blipFill>
          <a:blip r:embed="rId1"/>
          <a:srcRect l="15340" t="10104" r="17440" b="9087"/>
          <a:stretch/>
        </p:blipFill>
        <p:spPr>
          <a:xfrm>
            <a:off x="4800600" y="533520"/>
            <a:ext cx="3809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00200"/>
            <a:ext cx="2971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4 muscles lie behind the kidney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Psoas major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Quadratus lamborum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ransversus abdominis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Diaphrag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dad\Student Gray\4. Abdomen\F66122-004-f115.jpg"/>
          <p:cNvPicPr/>
          <p:nvPr/>
        </p:nvPicPr>
        <p:blipFill>
          <a:blip r:embed="rId1"/>
          <a:srcRect l="16899" t="5627" r="19720" b="12828"/>
          <a:stretch/>
        </p:blipFill>
        <p:spPr>
          <a:xfrm>
            <a:off x="4114800" y="457200"/>
            <a:ext cx="45720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5410080" y="32767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334120" y="20574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8320" y="21337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33526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stoma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descending col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Coils of jeju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dad\Student Gray\4. Abdomen\F66122-004-f121.jpg"/>
          <p:cNvPicPr/>
          <p:nvPr/>
        </p:nvPicPr>
        <p:blipFill>
          <a:blip r:embed="rId1"/>
          <a:srcRect l="49155" t="6781" r="15712" b="5086"/>
          <a:stretch/>
        </p:blipFill>
        <p:spPr>
          <a:xfrm>
            <a:off x="4495680" y="457200"/>
            <a:ext cx="403884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6629400" y="10666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010280" y="175248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7924680" y="2209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858000" y="3809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90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160" y="1725480"/>
            <a:ext cx="32763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Second  part of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oden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Right colic flex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ls of 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dad\Student Gray\4. Abdomen\F66122-004-f121.jpg"/>
          <p:cNvPicPr/>
          <p:nvPr/>
        </p:nvPicPr>
        <p:blipFill>
          <a:blip r:embed="rId1"/>
          <a:srcRect l="15384" t="13581" r="55388" b="12729"/>
          <a:stretch/>
        </p:blipFill>
        <p:spPr>
          <a:xfrm>
            <a:off x="4724280" y="380880"/>
            <a:ext cx="3505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6403320" y="1676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400800" y="28195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410080" y="281952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95880" y="449568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371240"/>
            <a:ext cx="3124080" cy="47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Psoas major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Quadratus lamborum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ransversus abdominis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dad\Student Gray\4. Abdomen\F66122-004-f122.jpg"/>
          <p:cNvPicPr/>
          <p:nvPr/>
        </p:nvPicPr>
        <p:blipFill>
          <a:blip r:embed="rId1"/>
          <a:srcRect l="-1579" t="0" r="1585" b="26078"/>
          <a:stretch/>
        </p:blipFill>
        <p:spPr>
          <a:xfrm>
            <a:off x="3657600" y="1143000"/>
            <a:ext cx="5257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5257800" y="4419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876920" y="434340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4956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Psoas major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Quadratus lamborum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renal f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Pararenal f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ad\Student Gray\4. Abdomen\F66122-004-f123.jpg"/>
          <p:cNvPicPr/>
          <p:nvPr/>
        </p:nvPicPr>
        <p:blipFill>
          <a:blip r:embed="rId1"/>
          <a:srcRect l="15093" t="20826" r="16984" b="8627"/>
          <a:stretch/>
        </p:blipFill>
        <p:spPr>
          <a:xfrm>
            <a:off x="3733920" y="1371600"/>
            <a:ext cx="5105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7162920" y="29718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172200" y="3505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2362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771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5:36:29Z</dcterms:created>
  <dc:creator> </dc:creator>
  <dc:description/>
  <dc:language>en-US</dc:language>
  <cp:lastModifiedBy>ma100914</cp:lastModifiedBy>
  <dcterms:modified xsi:type="dcterms:W3CDTF">2015-05-14T16:32:50Z</dcterms:modified>
  <cp:revision>15</cp:revision>
  <dc:subject/>
  <dc:title>Practical renal block</dc:title>
</cp:coreProperties>
</file>