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04F-51A1-41ED-9F58-67E441EE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969-9022-4B7B-B33B-BF18D461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7D3-9F02-4028-8B75-C8F9541C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692-19B7-4B17-A310-AD451E86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358-360A-4973-B728-9DB227EA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70F-F745-4827-93F9-210CEE18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8A1-2F70-4962-884F-E1C0BB19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815-D440-4AA5-9AFE-6D48523E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350-5A11-4D1E-B721-D9EB0253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A01-8062-4683-930C-5338D0D8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C2A0-7E26-426B-B0CC-ECADC8A0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EDC1-DA56-4BE7-8753-CE21EC4E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A29C-091F-4FFC-A41A-3DF6D86B5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al renal bl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362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600200"/>
            <a:ext cx="25909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E:\dad\Student Gray\4. Abdomen\F66122-004-f124.jpg"/>
          <p:cNvPicPr/>
          <p:nvPr/>
        </p:nvPicPr>
        <p:blipFill>
          <a:blip r:embed="rId1"/>
          <a:srcRect l="16981" t="0" r="18869" b="9457"/>
          <a:stretch/>
        </p:blipFill>
        <p:spPr>
          <a:xfrm>
            <a:off x="4419720" y="228600"/>
            <a:ext cx="39621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TextBox 5"/>
          <p:cNvSpPr/>
          <p:nvPr/>
        </p:nvSpPr>
        <p:spPr>
          <a:xfrm>
            <a:off x="4876920" y="1600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029200" y="30481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019920" y="16765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324480" y="37339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31244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312408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reter is suppli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E:\dad\Student Gray\4. Abdomen\F66122-004-f126.jpg"/>
          <p:cNvPicPr/>
          <p:nvPr/>
        </p:nvPicPr>
        <p:blipFill>
          <a:blip r:embed="rId1"/>
          <a:srcRect l="27943" t="6908" r="11140" b="4691"/>
          <a:stretch/>
        </p:blipFill>
        <p:spPr>
          <a:xfrm>
            <a:off x="5105520" y="380880"/>
            <a:ext cx="35049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ounded Rectangle 5"/>
          <p:cNvSpPr/>
          <p:nvPr/>
        </p:nvSpPr>
        <p:spPr>
          <a:xfrm>
            <a:off x="7848720" y="2438280"/>
            <a:ext cx="76176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77120" y="480060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514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 label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E:\dad\Student Gray\5. Pelvis and perineum\F66122-005-f040b.jpg"/>
          <p:cNvPicPr/>
          <p:nvPr/>
        </p:nvPicPr>
        <p:blipFill>
          <a:blip r:embed="rId1"/>
          <a:srcRect l="21821" t="18180" r="18181" b="5458"/>
          <a:stretch/>
        </p:blipFill>
        <p:spPr>
          <a:xfrm>
            <a:off x="3809880" y="838080"/>
            <a:ext cx="4724640" cy="541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TextBox 5"/>
          <p:cNvSpPr/>
          <p:nvPr/>
        </p:nvSpPr>
        <p:spPr>
          <a:xfrm>
            <a:off x="4419720" y="213372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946480" y="274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943600" y="4343400"/>
            <a:ext cx="3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10280" y="5562720"/>
            <a:ext cx="1447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648320" y="5562720"/>
            <a:ext cx="761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867280" y="5562720"/>
            <a:ext cx="4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7315200" y="20574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89548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560" y="1219320"/>
            <a:ext cx="3352680" cy="490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musc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E:\dad\Student Gray\4. Abdomen\F66122-004-f008.jpg"/>
          <p:cNvPicPr/>
          <p:nvPr/>
        </p:nvPicPr>
        <p:blipFill>
          <a:blip r:embed="rId1"/>
          <a:srcRect l="22225" t="0" r="22225" b="3661"/>
          <a:stretch/>
        </p:blipFill>
        <p:spPr>
          <a:xfrm>
            <a:off x="4495680" y="228600"/>
            <a:ext cx="4191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Box 5"/>
          <p:cNvSpPr/>
          <p:nvPr/>
        </p:nvSpPr>
        <p:spPr>
          <a:xfrm>
            <a:off x="5791320" y="37339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486400" y="3124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86728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20040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240" y="1294920"/>
            <a:ext cx="3809880" cy="483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The renal artery arises from-------------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The level of the renal artery is------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The renal veins drain into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 The right renal vein is------ ---than the left renal ve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E:\dad\Student Gray\4. Abdomen\F66122-004-f095.jpg"/>
          <p:cNvPicPr/>
          <p:nvPr/>
        </p:nvPicPr>
        <p:blipFill>
          <a:blip r:embed="rId1"/>
          <a:srcRect l="22640" t="1881" r="20755" b="4178"/>
          <a:stretch/>
        </p:blipFill>
        <p:spPr>
          <a:xfrm>
            <a:off x="4343400" y="304920"/>
            <a:ext cx="449568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7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437920"/>
            <a:ext cx="3657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ins drain into the left renal ve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E:\dad\Student Gray\4. Abdomen\F66122-004-f107.jpg"/>
          <p:cNvPicPr/>
          <p:nvPr/>
        </p:nvPicPr>
        <p:blipFill>
          <a:blip r:embed="rId1"/>
          <a:srcRect l="15340" t="10104" r="17440" b="9087"/>
          <a:stretch/>
        </p:blipFill>
        <p:spPr>
          <a:xfrm>
            <a:off x="4800600" y="533520"/>
            <a:ext cx="3809880" cy="59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432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560" y="1600200"/>
            <a:ext cx="2971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4 muscles lie behind the kidney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E:\dad\Student Gray\4. Abdomen\F66122-004-f115.jpg"/>
          <p:cNvPicPr/>
          <p:nvPr/>
        </p:nvPicPr>
        <p:blipFill>
          <a:blip r:embed="rId1"/>
          <a:srcRect l="16899" t="5627" r="19720" b="12828"/>
          <a:stretch/>
        </p:blipFill>
        <p:spPr>
          <a:xfrm>
            <a:off x="4114800" y="457200"/>
            <a:ext cx="45720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Box 5"/>
          <p:cNvSpPr/>
          <p:nvPr/>
        </p:nvSpPr>
        <p:spPr>
          <a:xfrm>
            <a:off x="5410080" y="327672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5334120" y="205740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648320" y="21337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71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E:\dad\Student Gray\4. Abdomen\F66122-004-f121.jpg"/>
          <p:cNvPicPr/>
          <p:nvPr/>
        </p:nvPicPr>
        <p:blipFill>
          <a:blip r:embed="rId1"/>
          <a:srcRect l="49155" t="6781" r="15712" b="5086"/>
          <a:stretch/>
        </p:blipFill>
        <p:spPr>
          <a:xfrm>
            <a:off x="4495680" y="457200"/>
            <a:ext cx="403884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TextBox 5"/>
          <p:cNvSpPr/>
          <p:nvPr/>
        </p:nvSpPr>
        <p:spPr>
          <a:xfrm>
            <a:off x="6629400" y="106668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7010280" y="1752480"/>
            <a:ext cx="4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7924680" y="22096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858000" y="38098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5909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:\dad\Student Gray\4. Abdomen\F66122-004-f121.jpg"/>
          <p:cNvPicPr/>
          <p:nvPr/>
        </p:nvPicPr>
        <p:blipFill>
          <a:blip r:embed="rId1"/>
          <a:srcRect l="15384" t="13581" r="55388" b="12729"/>
          <a:stretch/>
        </p:blipFill>
        <p:spPr>
          <a:xfrm>
            <a:off x="4724280" y="380880"/>
            <a:ext cx="350532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TextBox 5"/>
          <p:cNvSpPr/>
          <p:nvPr/>
        </p:nvSpPr>
        <p:spPr>
          <a:xfrm>
            <a:off x="6403320" y="16765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400800" y="28195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5410080" y="281952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6095880" y="4495680"/>
            <a:ext cx="4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8954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1371240"/>
            <a:ext cx="3124080" cy="475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E:\dad\Student Gray\4. Abdomen\F66122-004-f122.jpg"/>
          <p:cNvPicPr/>
          <p:nvPr/>
        </p:nvPicPr>
        <p:blipFill>
          <a:blip r:embed="rId1"/>
          <a:srcRect l="-1579" t="0" r="1585" b="26078"/>
          <a:stretch/>
        </p:blipFill>
        <p:spPr>
          <a:xfrm>
            <a:off x="3657600" y="1143000"/>
            <a:ext cx="525780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TextBox 5"/>
          <p:cNvSpPr/>
          <p:nvPr/>
        </p:nvSpPr>
        <p:spPr>
          <a:xfrm>
            <a:off x="5257800" y="4419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4876920" y="4343400"/>
            <a:ext cx="4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4956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51460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struct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E:\dad\Student Gray\4. Abdomen\F66122-004-f123.jpg"/>
          <p:cNvPicPr/>
          <p:nvPr/>
        </p:nvPicPr>
        <p:blipFill>
          <a:blip r:embed="rId1"/>
          <a:srcRect l="15093" t="20826" r="16984" b="8627"/>
          <a:stretch/>
        </p:blipFill>
        <p:spPr>
          <a:xfrm>
            <a:off x="3733920" y="1371600"/>
            <a:ext cx="51051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TextBox 5"/>
          <p:cNvSpPr/>
          <p:nvPr/>
        </p:nvSpPr>
        <p:spPr>
          <a:xfrm>
            <a:off x="7162920" y="29718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6172200" y="35053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105520" y="23623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6477120" y="32767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5:36:29Z</dcterms:created>
  <dc:creator> </dc:creator>
  <dc:description/>
  <dc:language>en-US</dc:language>
  <cp:lastModifiedBy> saeed abuelmakarem</cp:lastModifiedBy>
  <dcterms:modified xsi:type="dcterms:W3CDTF">2015-05-22T16:43:44Z</dcterms:modified>
  <cp:revision>8</cp:revision>
  <dc:subject/>
  <dc:title>Practical renal block</dc:title>
</cp:coreProperties>
</file>