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9F8-F7C8-4F12-9113-27BB6842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DACF-F0EE-4D2D-8EBE-0A5F8CF4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7744-6F2C-46E0-B16D-8247A968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8F1-C4C4-46FB-B264-02616FB1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0143-F5DE-48DB-B6B9-8EBE4A03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5C5-0C18-4F94-B481-776D8CD0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90C-9798-445F-A12A-B20F193F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B79B-6890-4AB9-A469-5063726F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76A-D3C7-4595-B80E-B63901D6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3F2-875D-4CF2-B1DB-2BCEA8CA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65D-DF45-49B9-A064-1D66178D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4FC-4B57-458E-A8D9-BF6DFFBD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D9CB-9F61-4CA2-B5B4-054220FD1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al renal bl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362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600200"/>
            <a:ext cx="25909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mark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E:\dad\Student Gray\4. Abdomen\F66122-004-f124.jpg"/>
          <p:cNvPicPr/>
          <p:nvPr/>
        </p:nvPicPr>
        <p:blipFill>
          <a:blip r:embed="rId1"/>
          <a:srcRect l="16981" t="0" r="18869" b="9457"/>
          <a:stretch/>
        </p:blipFill>
        <p:spPr>
          <a:xfrm>
            <a:off x="4419720" y="228600"/>
            <a:ext cx="39621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TextBox 5"/>
          <p:cNvSpPr/>
          <p:nvPr/>
        </p:nvSpPr>
        <p:spPr>
          <a:xfrm>
            <a:off x="4876920" y="1600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5029200" y="304812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6019920" y="16765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324480" y="37339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31244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312408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reter is supplied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E:\dad\Student Gray\4. Abdomen\F66122-004-f126.jpg"/>
          <p:cNvPicPr/>
          <p:nvPr/>
        </p:nvPicPr>
        <p:blipFill>
          <a:blip r:embed="rId1"/>
          <a:srcRect l="27943" t="6908" r="11140" b="4691"/>
          <a:stretch/>
        </p:blipFill>
        <p:spPr>
          <a:xfrm>
            <a:off x="5105520" y="380880"/>
            <a:ext cx="350496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ounded Rectangle 5"/>
          <p:cNvSpPr/>
          <p:nvPr/>
        </p:nvSpPr>
        <p:spPr>
          <a:xfrm>
            <a:off x="7848720" y="2438280"/>
            <a:ext cx="76176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477120" y="480060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514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e label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E:\dad\Student Gray\5. Pelvis and perineum\F66122-005-f040b.jpg"/>
          <p:cNvPicPr/>
          <p:nvPr/>
        </p:nvPicPr>
        <p:blipFill>
          <a:blip r:embed="rId1"/>
          <a:srcRect l="21821" t="18180" r="18181" b="5458"/>
          <a:stretch/>
        </p:blipFill>
        <p:spPr>
          <a:xfrm>
            <a:off x="3809880" y="838080"/>
            <a:ext cx="4724640" cy="541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TextBox 5"/>
          <p:cNvSpPr/>
          <p:nvPr/>
        </p:nvSpPr>
        <p:spPr>
          <a:xfrm>
            <a:off x="4419720" y="213372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946480" y="274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943600" y="4343400"/>
            <a:ext cx="3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10280" y="5562720"/>
            <a:ext cx="14479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648320" y="5562720"/>
            <a:ext cx="761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867280" y="5562720"/>
            <a:ext cx="4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7315200" y="205740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895480" cy="8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560" y="1219320"/>
            <a:ext cx="3352680" cy="490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musc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E:\dad\Student Gray\4. Abdomen\F66122-004-f008.jpg"/>
          <p:cNvPicPr/>
          <p:nvPr/>
        </p:nvPicPr>
        <p:blipFill>
          <a:blip r:embed="rId1"/>
          <a:srcRect l="22225" t="0" r="22225" b="3661"/>
          <a:stretch/>
        </p:blipFill>
        <p:spPr>
          <a:xfrm>
            <a:off x="4495680" y="228600"/>
            <a:ext cx="419112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TextBox 5"/>
          <p:cNvSpPr/>
          <p:nvPr/>
        </p:nvSpPr>
        <p:spPr>
          <a:xfrm>
            <a:off x="5791320" y="37339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486400" y="3124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86728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200400" cy="8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8240" y="1294920"/>
            <a:ext cx="3809880" cy="483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The renal artery arises from--------------------------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The level of the renal artery is-------------------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The renal veins drain into--------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 The right renal vein is------ ---than the left renal ve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E:\dad\Student Gray\4. Abdomen\F66122-004-f095.jpg"/>
          <p:cNvPicPr/>
          <p:nvPr/>
        </p:nvPicPr>
        <p:blipFill>
          <a:blip r:embed="rId1"/>
          <a:srcRect l="22640" t="1881" r="20755" b="4178"/>
          <a:stretch/>
        </p:blipFill>
        <p:spPr>
          <a:xfrm>
            <a:off x="4343400" y="304920"/>
            <a:ext cx="449568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9520" cy="71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Q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437920"/>
            <a:ext cx="365760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eins drain into the left renal ve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E:\dad\Student Gray\4. Abdomen\F66122-004-f107.jpg"/>
          <p:cNvPicPr/>
          <p:nvPr/>
        </p:nvPicPr>
        <p:blipFill>
          <a:blip r:embed="rId1"/>
          <a:srcRect l="15340" t="10104" r="17440" b="9087"/>
          <a:stretch/>
        </p:blipFill>
        <p:spPr>
          <a:xfrm>
            <a:off x="4800600" y="533520"/>
            <a:ext cx="3809880" cy="594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432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560" y="1600200"/>
            <a:ext cx="2971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4 muscles lie behind the kidney 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E:\dad\Student Gray\4. Abdomen\F66122-004-f115.jpg"/>
          <p:cNvPicPr/>
          <p:nvPr/>
        </p:nvPicPr>
        <p:blipFill>
          <a:blip r:embed="rId1"/>
          <a:srcRect l="16899" t="5627" r="19720" b="12828"/>
          <a:stretch/>
        </p:blipFill>
        <p:spPr>
          <a:xfrm>
            <a:off x="4114800" y="457200"/>
            <a:ext cx="45720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TextBox 5"/>
          <p:cNvSpPr/>
          <p:nvPr/>
        </p:nvSpPr>
        <p:spPr>
          <a:xfrm>
            <a:off x="5410080" y="327672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5334120" y="205740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648320" y="213372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971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30481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e structures related to the mark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E:\dad\Student Gray\4. Abdomen\F66122-004-f121.jpg"/>
          <p:cNvPicPr/>
          <p:nvPr/>
        </p:nvPicPr>
        <p:blipFill>
          <a:blip r:embed="rId1"/>
          <a:srcRect l="49155" t="6781" r="15712" b="5086"/>
          <a:stretch/>
        </p:blipFill>
        <p:spPr>
          <a:xfrm>
            <a:off x="4495680" y="457200"/>
            <a:ext cx="403884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TextBox 5"/>
          <p:cNvSpPr/>
          <p:nvPr/>
        </p:nvSpPr>
        <p:spPr>
          <a:xfrm>
            <a:off x="6629400" y="1066680"/>
            <a:ext cx="4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7010280" y="1752480"/>
            <a:ext cx="4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7924680" y="22096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6858000" y="380988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5909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32767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structures related to the mark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E:\dad\Student Gray\4. Abdomen\F66122-004-f121.jpg"/>
          <p:cNvPicPr/>
          <p:nvPr/>
        </p:nvPicPr>
        <p:blipFill>
          <a:blip r:embed="rId1"/>
          <a:srcRect l="15384" t="13581" r="55388" b="12729"/>
          <a:stretch/>
        </p:blipFill>
        <p:spPr>
          <a:xfrm>
            <a:off x="4724280" y="380880"/>
            <a:ext cx="3505320" cy="57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TextBox 5"/>
          <p:cNvSpPr/>
          <p:nvPr/>
        </p:nvSpPr>
        <p:spPr>
          <a:xfrm>
            <a:off x="6403320" y="16765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400800" y="281952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5410080" y="281952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6095880" y="4495680"/>
            <a:ext cx="4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8954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1371240"/>
            <a:ext cx="3124080" cy="475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structures related to the mark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E:\dad\Student Gray\4. Abdomen\F66122-004-f122.jpg"/>
          <p:cNvPicPr/>
          <p:nvPr/>
        </p:nvPicPr>
        <p:blipFill>
          <a:blip r:embed="rId1"/>
          <a:srcRect l="-1579" t="0" r="1585" b="26078"/>
          <a:stretch/>
        </p:blipFill>
        <p:spPr>
          <a:xfrm>
            <a:off x="3657600" y="1143000"/>
            <a:ext cx="525780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TextBox 5"/>
          <p:cNvSpPr/>
          <p:nvPr/>
        </p:nvSpPr>
        <p:spPr>
          <a:xfrm>
            <a:off x="5257800" y="44197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4876920" y="4343400"/>
            <a:ext cx="4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49568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51460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structur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E:\dad\Student Gray\4. Abdomen\F66122-004-f123.jpg"/>
          <p:cNvPicPr/>
          <p:nvPr/>
        </p:nvPicPr>
        <p:blipFill>
          <a:blip r:embed="rId1"/>
          <a:srcRect l="15093" t="20826" r="16984" b="8627"/>
          <a:stretch/>
        </p:blipFill>
        <p:spPr>
          <a:xfrm>
            <a:off x="3733920" y="1371600"/>
            <a:ext cx="51051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TextBox 5"/>
          <p:cNvSpPr/>
          <p:nvPr/>
        </p:nvSpPr>
        <p:spPr>
          <a:xfrm>
            <a:off x="7162920" y="29718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6172200" y="35053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105520" y="23623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6477120" y="32767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5:36:29Z</dcterms:created>
  <dc:creator> </dc:creator>
  <dc:description/>
  <dc:language>en-US</dc:language>
  <cp:lastModifiedBy> saeed abuelmakarem</cp:lastModifiedBy>
  <dcterms:modified xsi:type="dcterms:W3CDTF">2015-05-22T16:43:44Z</dcterms:modified>
  <cp:revision>8</cp:revision>
  <dc:subject/>
  <dc:title>Practical renal block</dc:title>
</cp:coreProperties>
</file>