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69C5A-CD2F-4C14-A9FD-25F726FF8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F3A45-7303-4A18-98FF-F9E3FC411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4662D-10CB-4A6D-A497-F5DC533FD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88773-0083-45AA-95B6-BCCEA132C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D36C5-839C-47E9-ADB7-D530F7041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E6D3A-8343-48E9-B54E-4C6F145D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DAB65-03F4-4961-B24E-83A9EB00E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EA447-FF0E-4BF8-9E4F-E51DC63D1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96FDF-AB25-45C8-A2D4-094459C22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11AE6-33F9-4B48-A8FA-77C37E978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4A317-7A21-47B9-90B8-05E9D367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EAB1D-FF21-4E37-A4B5-4A19C4B38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57C8D-E004-41BD-B30F-0B25FEFD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F9D06-BBD8-4BE2-9880-B0D37AB2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DE4AA-99E4-4768-975B-5102B1D9D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C9FEC-DD09-46BA-BA58-DAD065079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91D3D-252C-45BB-A615-F48738FEF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CBD94-B9AD-434D-BB74-48337F349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BCB68-1E52-4710-8C9F-211901526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E3008-F221-4672-9864-3E0667B5C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52B4A-896F-4FAD-995B-D29E619FE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6A5CD-3919-422F-A44A-AA56C105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309F8-8CA1-4D0F-8A1A-F881B915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655AA-81CE-4208-B8B7-CEEB6001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12B89-4EE4-401B-A106-4841F3742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97412-4ECE-462C-9964-83728133692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250920" y="2708280"/>
            <a:ext cx="8610480" cy="21686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51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 Black"/>
              </a:rPr>
              <a:t>Kidney Function Test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395280" y="1428840"/>
            <a:ext cx="8307360" cy="35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glomerular filtration rate (GFR) provides a useful index of the number of functioning glomeruli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 gives an estimation of the degree of renal impairment by diseas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754920" y="833400"/>
            <a:ext cx="440208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51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00ff"/>
                </a:solidFill>
                <a:uFillTx/>
                <a:latin typeface="Arial"/>
                <a:ea typeface="Arial"/>
              </a:rPr>
              <a:t>Creatinine clearance 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380880" y="419040"/>
            <a:ext cx="8458200" cy="61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Accurate measurement of GRF by clearance tests requires determination of the concentration in plasma and urine of a substance that is: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 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reely filtered at glomeruli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either reabsorbed nor secreted by tubul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s concentration in plasma needs to remains constant throughout  the period of urine collection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etter if the substance is present endogenously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asily measured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reatinine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eets most of these criteria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297000" y="804960"/>
            <a:ext cx="85230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reatinine clearance is usually about 110 ml/min in the 20-40 year old adult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 falls slowly but progressively to about 70 ml/min  in individuals over 8o years of age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 children, the GFR should be related to surface area, when this is done, results are similar to those found in young adults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282600" y="696960"/>
            <a:ext cx="8610480" cy="49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learance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is the volume of plasma cleared from the </a:t>
            </a: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substance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excreted in urine per minut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t could be calculated from the following equation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     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learance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(ml/min) =  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</a:rPr>
              <a:t>U</a:t>
            </a: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</a:t>
            </a: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r>
              <a:rPr b="1" lang="en-GB" sz="2800" spc="-1" strike="noStrike" u="sng">
                <a:solidFill>
                  <a:srgbClr val="99ff33"/>
                </a:solidFill>
                <a:uFillTx/>
                <a:latin typeface="Arial"/>
              </a:rPr>
              <a:t>V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</a:t>
            </a:r>
            <a:r>
              <a:rPr b="1" lang="en-GB" sz="2800" spc="-1" strike="noStrike">
                <a:solidFill>
                  <a:srgbClr val="ff00ff"/>
                </a:solidFill>
                <a:latin typeface="Arial"/>
              </a:rPr>
              <a:t>P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Concentration of creatinine in urine  </a:t>
            </a:r>
            <a:r>
              <a:rPr b="1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ol/l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99ff33"/>
                </a:solidFill>
                <a:latin typeface="Arial"/>
              </a:rPr>
              <a:t>V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Volume of urine per m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ff00ff"/>
                </a:solidFill>
                <a:latin typeface="Arial"/>
              </a:rPr>
              <a:t>P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Concentration of creatinine in serum  </a:t>
            </a:r>
            <a:r>
              <a:rPr b="1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ol/l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514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Cockcroft-Gault Formula</a:t>
            </a:r>
            <a:br>
              <a:rPr sz="3600"/>
            </a:b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for Estimation of GFR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1774800"/>
            <a:ext cx="84960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 indicated above, the creatinine clearance is measured by using a 24-hour urine collection, but this does introduce the potential for errors in terms of completion of the collec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15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alternative and convenient method is to employ various formulae devised to calculate creatinine clearance using parameters such as serum creatinine level, sex, age, and weight of the subjec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95280" y="1196640"/>
            <a:ext cx="8353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example i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Cockcroft-Gault Formul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(140 – age)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Body weigh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F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=           ──────────────────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rum creatinine (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l/L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re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s a constant that varies with sex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23  for male   &amp;   1.04  for femal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constant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s used as females have a relatively lower muscle mas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t should 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be used i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rum creatinine is changing rapid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diet is unusual, e.g., strict vegetaria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w muscle mass, e.g., muscle wast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bes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514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Cockcroft-Gault Formula</a:t>
            </a:r>
            <a:br>
              <a:rPr sz="3600"/>
            </a:b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for Estimation of GFR: Limitation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179280" y="290520"/>
            <a:ext cx="8640720" cy="22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</a:rPr>
              <a:t>Serum  creatinine is a better kidney function test than creatinine clearance  because :</a:t>
            </a:r>
            <a:r>
              <a:rPr b="1" lang="en-GB" sz="1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•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erum creatinine is more accurate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•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erum creatinine level is constant throughout adult lif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152280" y="3284640"/>
            <a:ext cx="8763120" cy="31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</a:rPr>
              <a:t>Creatinine clearance is only recommended in the following conditions</a:t>
            </a:r>
            <a:r>
              <a:rPr b="1" lang="en-GB" sz="3200" spc="-1" strike="noStrike" u="sng">
                <a:solidFill>
                  <a:srgbClr val="ffff00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77840" indent="-177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atients with early ( minor ) renal disease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177840" indent="-177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 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ssessment of possible kidney donor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177840" indent="-177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 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etection of renal toxicity of some nephrotoxic drugs.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304920" y="152280"/>
            <a:ext cx="8610480" cy="32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</a:rPr>
              <a:t>Normal adult reference value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rinary excretion of creatinine is 0.5 - 2.0 g per 24 hours in a normal adult, varying according to muscular weigh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-  Serum creatinine :       55 – 120 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mol/L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-  Creatinine clearance:  90 </a:t>
            </a:r>
            <a:r>
              <a:rPr b="1" lang="fr-FR" sz="2000" spc="-1" strike="noStrike">
                <a:solidFill>
                  <a:srgbClr val="ffffff"/>
                </a:solidFill>
                <a:latin typeface="Garamond"/>
              </a:rPr>
              <a:t>–</a:t>
            </a:r>
            <a:r>
              <a:rPr b="0" lang="en-GB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40 ml/min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(Males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80 </a:t>
            </a:r>
            <a:r>
              <a:rPr b="1" lang="fr-FR" sz="2000" spc="-1" strike="noStrike">
                <a:solidFill>
                  <a:srgbClr val="ffffff"/>
                </a:solidFill>
                <a:latin typeface="Garamond"/>
              </a:rPr>
              <a:t>–</a:t>
            </a:r>
            <a:r>
              <a:rPr b="0" lang="en-GB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25 ml/min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(Females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TextBox 2"/>
          <p:cNvSpPr/>
          <p:nvPr/>
        </p:nvSpPr>
        <p:spPr>
          <a:xfrm>
            <a:off x="470520" y="3933720"/>
            <a:ext cx="8091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 raised serum creatinine is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good indicator of impaired renal function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ut  normal serum creatinin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es not necessarily indicate normal renal function 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um creatinine may not be elevated until GFR has fall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y as much as 50%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250920" y="404640"/>
            <a:ext cx="8686800" cy="59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3960" indent="-442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ff"/>
                </a:solidFill>
                <a:uFillTx/>
                <a:latin typeface="Arial"/>
              </a:rPr>
              <a:t>Serum Urea ( 2.5-6.6 mmol/L) in adult: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23960" indent="-442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rea is formed in the liver from ammonia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leased from deamination of amino acids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23960" indent="-442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s a kidney function test, serum urea is inferior to serum creatinine becaus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23960" indent="-442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Marlett"/>
              </a:rPr>
              <a:t>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igh protein diet increases urea formation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723960" indent="-442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Marlett"/>
              </a:rPr>
              <a:t>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y condition of </a:t>
            </a:r>
            <a:r>
              <a:rPr b="1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proteins catabolism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(Cushing syndrome, diabetes mellitus, starvation, thyrotoxicosis)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urea formation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723960" indent="-442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GB" sz="2400" spc="-1" strike="noStrike">
                <a:solidFill>
                  <a:srgbClr val="ffffff"/>
                </a:solidFill>
                <a:latin typeface="Marlett"/>
              </a:rPr>
              <a:t>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50 % or more of urea filtered at the glomerulus is passively reabsorbed by the renal tubules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457200" y="333360"/>
            <a:ext cx="8507520" cy="6000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51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ntent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>
              <a:lnSpc>
                <a:spcPct val="85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Functional uni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>
              <a:lnSpc>
                <a:spcPct val="85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Kidney func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>
              <a:lnSpc>
                <a:spcPct val="85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Renal diseases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>
              <a:lnSpc>
                <a:spcPct val="85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Routine kidney function tests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>
              <a:lnSpc>
                <a:spcPct val="85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Serum creatinine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 </a:t>
            </a:r>
            <a:r>
              <a:rPr b="0" lang="en-GB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>
              <a:lnSpc>
                <a:spcPct val="85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Creatinine cleara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>
              <a:lnSpc>
                <a:spcPct val="85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Cockcroft-Gault formula for GFR estimation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>
              <a:lnSpc>
                <a:spcPct val="85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Serum Urea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380880" y="16765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28" name="Group 65"/>
          <p:cNvGrpSpPr/>
          <p:nvPr/>
        </p:nvGrpSpPr>
        <p:grpSpPr>
          <a:xfrm>
            <a:off x="539640" y="1268280"/>
            <a:ext cx="8229240" cy="4876920"/>
            <a:chOff x="539640" y="1268280"/>
            <a:chExt cx="8229240" cy="4876920"/>
          </a:xfrm>
        </p:grpSpPr>
        <p:grpSp>
          <p:nvGrpSpPr>
            <p:cNvPr id="129" name="Group 63"/>
            <p:cNvGrpSpPr/>
            <p:nvPr/>
          </p:nvGrpSpPr>
          <p:grpSpPr>
            <a:xfrm>
              <a:off x="547560" y="1271520"/>
              <a:ext cx="8211600" cy="4869720"/>
              <a:chOff x="547560" y="1271520"/>
              <a:chExt cx="8211600" cy="4869720"/>
            </a:xfrm>
          </p:grpSpPr>
          <p:grpSp>
            <p:nvGrpSpPr>
              <p:cNvPr id="130" name="Group 24"/>
              <p:cNvGrpSpPr/>
              <p:nvPr/>
            </p:nvGrpSpPr>
            <p:grpSpPr>
              <a:xfrm>
                <a:off x="547560" y="1271520"/>
                <a:ext cx="4687200" cy="471960"/>
                <a:chOff x="547560" y="1271520"/>
                <a:chExt cx="4687200" cy="471960"/>
              </a:xfrm>
            </p:grpSpPr>
            <p:sp>
              <p:nvSpPr>
                <p:cNvPr id="131" name="Rectangle 3"/>
                <p:cNvSpPr/>
                <p:nvPr/>
              </p:nvSpPr>
              <p:spPr>
                <a:xfrm>
                  <a:off x="663480" y="1271520"/>
                  <a:ext cx="4455360" cy="47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Arial Black"/>
                    </a:rPr>
                    <a:t>SODIUM</a:t>
                  </a: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32" name="Rectangle 23"/>
                <p:cNvSpPr/>
                <p:nvPr/>
              </p:nvSpPr>
              <p:spPr>
                <a:xfrm>
                  <a:off x="547560" y="1271520"/>
                  <a:ext cx="4687200" cy="47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33" name="Group 26"/>
              <p:cNvGrpSpPr/>
              <p:nvPr/>
            </p:nvGrpSpPr>
            <p:grpSpPr>
              <a:xfrm>
                <a:off x="5235120" y="1271520"/>
                <a:ext cx="3524040" cy="471960"/>
                <a:chOff x="5235120" y="1271520"/>
                <a:chExt cx="3524040" cy="471960"/>
              </a:xfrm>
            </p:grpSpPr>
            <p:sp>
              <p:nvSpPr>
                <p:cNvPr id="134" name="Rectangle 4"/>
                <p:cNvSpPr/>
                <p:nvPr/>
              </p:nvSpPr>
              <p:spPr>
                <a:xfrm>
                  <a:off x="5350320" y="1271520"/>
                  <a:ext cx="3293280" cy="47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Arial Black"/>
                    </a:rPr>
                    <a:t>135  to 145  mEq/L</a:t>
                  </a: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35" name="Rectangle 25"/>
                <p:cNvSpPr/>
                <p:nvPr/>
              </p:nvSpPr>
              <p:spPr>
                <a:xfrm>
                  <a:off x="5235120" y="1271520"/>
                  <a:ext cx="3524040" cy="47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36" name="Group 28"/>
              <p:cNvGrpSpPr/>
              <p:nvPr/>
            </p:nvGrpSpPr>
            <p:grpSpPr>
              <a:xfrm>
                <a:off x="547560" y="1743480"/>
                <a:ext cx="4687200" cy="471960"/>
                <a:chOff x="547560" y="1743480"/>
                <a:chExt cx="4687200" cy="471960"/>
              </a:xfrm>
            </p:grpSpPr>
            <p:sp>
              <p:nvSpPr>
                <p:cNvPr id="137" name="Rectangle 5"/>
                <p:cNvSpPr/>
                <p:nvPr/>
              </p:nvSpPr>
              <p:spPr>
                <a:xfrm>
                  <a:off x="663480" y="1743480"/>
                  <a:ext cx="4455360" cy="47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 Black"/>
                    </a:rPr>
                    <a:t>POTASSIUM</a:t>
                  </a: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38" name="Rectangle 27"/>
                <p:cNvSpPr/>
                <p:nvPr/>
              </p:nvSpPr>
              <p:spPr>
                <a:xfrm>
                  <a:off x="547560" y="1743480"/>
                  <a:ext cx="4687200" cy="47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39" name="Group 30"/>
              <p:cNvGrpSpPr/>
              <p:nvPr/>
            </p:nvGrpSpPr>
            <p:grpSpPr>
              <a:xfrm>
                <a:off x="5235120" y="1743480"/>
                <a:ext cx="3524040" cy="471960"/>
                <a:chOff x="5235120" y="1743480"/>
                <a:chExt cx="3524040" cy="471960"/>
              </a:xfrm>
            </p:grpSpPr>
            <p:sp>
              <p:nvSpPr>
                <p:cNvPr id="140" name="Rectangle 6"/>
                <p:cNvSpPr/>
                <p:nvPr/>
              </p:nvSpPr>
              <p:spPr>
                <a:xfrm>
                  <a:off x="5350320" y="1743480"/>
                  <a:ext cx="3293280" cy="47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 Black"/>
                    </a:rPr>
                    <a:t>3.5   to 5.5  mEq/L</a:t>
                  </a: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41" name="Rectangle 29"/>
                <p:cNvSpPr/>
                <p:nvPr/>
              </p:nvSpPr>
              <p:spPr>
                <a:xfrm>
                  <a:off x="5235120" y="1743480"/>
                  <a:ext cx="3524040" cy="47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42" name="Group 32"/>
              <p:cNvGrpSpPr/>
              <p:nvPr/>
            </p:nvGrpSpPr>
            <p:grpSpPr>
              <a:xfrm>
                <a:off x="547560" y="2215440"/>
                <a:ext cx="4687200" cy="471960"/>
                <a:chOff x="547560" y="2215440"/>
                <a:chExt cx="4687200" cy="471960"/>
              </a:xfrm>
            </p:grpSpPr>
            <p:sp>
              <p:nvSpPr>
                <p:cNvPr id="143" name="Rectangle 7"/>
                <p:cNvSpPr/>
                <p:nvPr/>
              </p:nvSpPr>
              <p:spPr>
                <a:xfrm>
                  <a:off x="663480" y="2215440"/>
                  <a:ext cx="4455360" cy="47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Arial Black"/>
                    </a:rPr>
                    <a:t>CHLORIDES</a:t>
                  </a: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44" name="Rectangle 31"/>
                <p:cNvSpPr/>
                <p:nvPr/>
              </p:nvSpPr>
              <p:spPr>
                <a:xfrm>
                  <a:off x="547560" y="2215440"/>
                  <a:ext cx="4687200" cy="47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45" name="Group 34"/>
              <p:cNvGrpSpPr/>
              <p:nvPr/>
            </p:nvGrpSpPr>
            <p:grpSpPr>
              <a:xfrm>
                <a:off x="5235120" y="2215440"/>
                <a:ext cx="3524040" cy="471960"/>
                <a:chOff x="5235120" y="2215440"/>
                <a:chExt cx="3524040" cy="471960"/>
              </a:xfrm>
            </p:grpSpPr>
            <p:sp>
              <p:nvSpPr>
                <p:cNvPr id="146" name="Rectangle 8"/>
                <p:cNvSpPr/>
                <p:nvPr/>
              </p:nvSpPr>
              <p:spPr>
                <a:xfrm>
                  <a:off x="5350320" y="2215440"/>
                  <a:ext cx="3293280" cy="47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Arial Black"/>
                    </a:rPr>
                    <a:t>100  to 110   mEq/L</a:t>
                  </a: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47" name="Rectangle 33"/>
                <p:cNvSpPr/>
                <p:nvPr/>
              </p:nvSpPr>
              <p:spPr>
                <a:xfrm>
                  <a:off x="5235120" y="2215440"/>
                  <a:ext cx="3524040" cy="47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48" name="Group 36"/>
              <p:cNvGrpSpPr/>
              <p:nvPr/>
            </p:nvGrpSpPr>
            <p:grpSpPr>
              <a:xfrm>
                <a:off x="547560" y="2687400"/>
                <a:ext cx="4687200" cy="471960"/>
                <a:chOff x="547560" y="2687400"/>
                <a:chExt cx="4687200" cy="471960"/>
              </a:xfrm>
            </p:grpSpPr>
            <p:sp>
              <p:nvSpPr>
                <p:cNvPr id="149" name="Rectangle 9"/>
                <p:cNvSpPr/>
                <p:nvPr/>
              </p:nvSpPr>
              <p:spPr>
                <a:xfrm>
                  <a:off x="663480" y="2687400"/>
                  <a:ext cx="4455360" cy="47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 Black"/>
                    </a:rPr>
                    <a:t>BICARBONATE</a:t>
                  </a: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50" name="Rectangle 35"/>
                <p:cNvSpPr/>
                <p:nvPr/>
              </p:nvSpPr>
              <p:spPr>
                <a:xfrm>
                  <a:off x="547560" y="2687400"/>
                  <a:ext cx="4687200" cy="47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51" name="Group 38"/>
              <p:cNvGrpSpPr/>
              <p:nvPr/>
            </p:nvGrpSpPr>
            <p:grpSpPr>
              <a:xfrm>
                <a:off x="5235120" y="2687400"/>
                <a:ext cx="3524040" cy="471960"/>
                <a:chOff x="5235120" y="2687400"/>
                <a:chExt cx="3524040" cy="471960"/>
              </a:xfrm>
            </p:grpSpPr>
            <p:sp>
              <p:nvSpPr>
                <p:cNvPr id="152" name="Rectangle 10"/>
                <p:cNvSpPr/>
                <p:nvPr/>
              </p:nvSpPr>
              <p:spPr>
                <a:xfrm>
                  <a:off x="5350320" y="2687400"/>
                  <a:ext cx="3293280" cy="47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 Black"/>
                    </a:rPr>
                    <a:t>24  to 26   mEq/L</a:t>
                  </a: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53" name="Rectangle 37"/>
                <p:cNvSpPr/>
                <p:nvPr/>
              </p:nvSpPr>
              <p:spPr>
                <a:xfrm>
                  <a:off x="5235120" y="2687400"/>
                  <a:ext cx="3524040" cy="47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54" name="Group 40"/>
              <p:cNvGrpSpPr/>
              <p:nvPr/>
            </p:nvGrpSpPr>
            <p:grpSpPr>
              <a:xfrm>
                <a:off x="547560" y="3159720"/>
                <a:ext cx="4687200" cy="471960"/>
                <a:chOff x="547560" y="3159720"/>
                <a:chExt cx="4687200" cy="471960"/>
              </a:xfrm>
            </p:grpSpPr>
            <p:sp>
              <p:nvSpPr>
                <p:cNvPr id="155" name="Rectangle 11"/>
                <p:cNvSpPr/>
                <p:nvPr/>
              </p:nvSpPr>
              <p:spPr>
                <a:xfrm>
                  <a:off x="663480" y="3159720"/>
                  <a:ext cx="4455360" cy="47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Arial Black"/>
                    </a:rPr>
                    <a:t>CALCIUM</a:t>
                  </a: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56" name="Rectangle 39"/>
                <p:cNvSpPr/>
                <p:nvPr/>
              </p:nvSpPr>
              <p:spPr>
                <a:xfrm>
                  <a:off x="547560" y="3159720"/>
                  <a:ext cx="4687200" cy="47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57" name="Group 42"/>
              <p:cNvGrpSpPr/>
              <p:nvPr/>
            </p:nvGrpSpPr>
            <p:grpSpPr>
              <a:xfrm>
                <a:off x="5235120" y="3159720"/>
                <a:ext cx="3524040" cy="471960"/>
                <a:chOff x="5235120" y="3159720"/>
                <a:chExt cx="3524040" cy="471960"/>
              </a:xfrm>
            </p:grpSpPr>
            <p:sp>
              <p:nvSpPr>
                <p:cNvPr id="158" name="Rectangle 12"/>
                <p:cNvSpPr/>
                <p:nvPr/>
              </p:nvSpPr>
              <p:spPr>
                <a:xfrm>
                  <a:off x="5350320" y="3159720"/>
                  <a:ext cx="3293280" cy="47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Arial Black"/>
                    </a:rPr>
                    <a:t>8.6  to 10 mg/dl</a:t>
                  </a: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59" name="Rectangle 41"/>
                <p:cNvSpPr/>
                <p:nvPr/>
              </p:nvSpPr>
              <p:spPr>
                <a:xfrm>
                  <a:off x="5235120" y="3159720"/>
                  <a:ext cx="3524040" cy="47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60" name="Group 44"/>
              <p:cNvGrpSpPr/>
              <p:nvPr/>
            </p:nvGrpSpPr>
            <p:grpSpPr>
              <a:xfrm>
                <a:off x="547560" y="3631680"/>
                <a:ext cx="4687200" cy="471600"/>
                <a:chOff x="547560" y="3631680"/>
                <a:chExt cx="4687200" cy="471600"/>
              </a:xfrm>
            </p:grpSpPr>
            <p:sp>
              <p:nvSpPr>
                <p:cNvPr id="161" name="Rectangle 13"/>
                <p:cNvSpPr/>
                <p:nvPr/>
              </p:nvSpPr>
              <p:spPr>
                <a:xfrm>
                  <a:off x="663480" y="3631680"/>
                  <a:ext cx="4455360" cy="47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 Black"/>
                    </a:rPr>
                    <a:t>MAGNESIUM</a:t>
                  </a: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62" name="Rectangle 43"/>
                <p:cNvSpPr/>
                <p:nvPr/>
              </p:nvSpPr>
              <p:spPr>
                <a:xfrm>
                  <a:off x="547560" y="3631680"/>
                  <a:ext cx="4687200" cy="47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63" name="Group 46"/>
              <p:cNvGrpSpPr/>
              <p:nvPr/>
            </p:nvGrpSpPr>
            <p:grpSpPr>
              <a:xfrm>
                <a:off x="5235120" y="3631680"/>
                <a:ext cx="3524040" cy="471600"/>
                <a:chOff x="5235120" y="3631680"/>
                <a:chExt cx="3524040" cy="471600"/>
              </a:xfrm>
            </p:grpSpPr>
            <p:sp>
              <p:nvSpPr>
                <p:cNvPr id="164" name="Rectangle 14"/>
                <p:cNvSpPr/>
                <p:nvPr/>
              </p:nvSpPr>
              <p:spPr>
                <a:xfrm>
                  <a:off x="5350320" y="3631680"/>
                  <a:ext cx="3293280" cy="47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 Black"/>
                    </a:rPr>
                    <a:t>1.6  to 2.4  mg/dl</a:t>
                  </a: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65" name="Rectangle 45"/>
                <p:cNvSpPr/>
                <p:nvPr/>
              </p:nvSpPr>
              <p:spPr>
                <a:xfrm>
                  <a:off x="5235120" y="3631680"/>
                  <a:ext cx="3524040" cy="47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66" name="Group 48"/>
              <p:cNvGrpSpPr/>
              <p:nvPr/>
            </p:nvGrpSpPr>
            <p:grpSpPr>
              <a:xfrm>
                <a:off x="547560" y="4103280"/>
                <a:ext cx="4687200" cy="471960"/>
                <a:chOff x="547560" y="4103280"/>
                <a:chExt cx="4687200" cy="471960"/>
              </a:xfrm>
            </p:grpSpPr>
            <p:sp>
              <p:nvSpPr>
                <p:cNvPr id="167" name="Rectangle 15"/>
                <p:cNvSpPr/>
                <p:nvPr/>
              </p:nvSpPr>
              <p:spPr>
                <a:xfrm>
                  <a:off x="663480" y="4103280"/>
                  <a:ext cx="4455360" cy="47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Arial Black"/>
                    </a:rPr>
                    <a:t>PHOSPHORUS</a:t>
                  </a: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68" name="Rectangle 47"/>
                <p:cNvSpPr/>
                <p:nvPr/>
              </p:nvSpPr>
              <p:spPr>
                <a:xfrm>
                  <a:off x="547560" y="4103280"/>
                  <a:ext cx="4687200" cy="47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69" name="Group 50"/>
              <p:cNvGrpSpPr/>
              <p:nvPr/>
            </p:nvGrpSpPr>
            <p:grpSpPr>
              <a:xfrm>
                <a:off x="5235120" y="4103280"/>
                <a:ext cx="3524040" cy="471960"/>
                <a:chOff x="5235120" y="4103280"/>
                <a:chExt cx="3524040" cy="471960"/>
              </a:xfrm>
            </p:grpSpPr>
            <p:sp>
              <p:nvSpPr>
                <p:cNvPr id="170" name="Rectangle 16"/>
                <p:cNvSpPr/>
                <p:nvPr/>
              </p:nvSpPr>
              <p:spPr>
                <a:xfrm>
                  <a:off x="5350320" y="4103280"/>
                  <a:ext cx="3293280" cy="47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Arial Black"/>
                    </a:rPr>
                    <a:t>3.0  to 5.0  mg/dl</a:t>
                  </a: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71" name="Rectangle 49"/>
                <p:cNvSpPr/>
                <p:nvPr/>
              </p:nvSpPr>
              <p:spPr>
                <a:xfrm>
                  <a:off x="5235120" y="4103280"/>
                  <a:ext cx="3524040" cy="47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72" name="Group 52"/>
              <p:cNvGrpSpPr/>
              <p:nvPr/>
            </p:nvGrpSpPr>
            <p:grpSpPr>
              <a:xfrm>
                <a:off x="547560" y="4575600"/>
                <a:ext cx="4687200" cy="471960"/>
                <a:chOff x="547560" y="4575600"/>
                <a:chExt cx="4687200" cy="471960"/>
              </a:xfrm>
            </p:grpSpPr>
            <p:sp>
              <p:nvSpPr>
                <p:cNvPr id="173" name="Rectangle 17"/>
                <p:cNvSpPr/>
                <p:nvPr/>
              </p:nvSpPr>
              <p:spPr>
                <a:xfrm>
                  <a:off x="663480" y="4575600"/>
                  <a:ext cx="4455360" cy="47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 Black"/>
                    </a:rPr>
                    <a:t>URIC ACID</a:t>
                  </a: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74" name="Rectangle 51"/>
                <p:cNvSpPr/>
                <p:nvPr/>
              </p:nvSpPr>
              <p:spPr>
                <a:xfrm>
                  <a:off x="547560" y="4575600"/>
                  <a:ext cx="4687200" cy="47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75" name="Group 54"/>
              <p:cNvGrpSpPr/>
              <p:nvPr/>
            </p:nvGrpSpPr>
            <p:grpSpPr>
              <a:xfrm>
                <a:off x="5235120" y="4575600"/>
                <a:ext cx="3524040" cy="471960"/>
                <a:chOff x="5235120" y="4575600"/>
                <a:chExt cx="3524040" cy="471960"/>
              </a:xfrm>
            </p:grpSpPr>
            <p:sp>
              <p:nvSpPr>
                <p:cNvPr id="176" name="Rectangle 18"/>
                <p:cNvSpPr/>
                <p:nvPr/>
              </p:nvSpPr>
              <p:spPr>
                <a:xfrm>
                  <a:off x="5350320" y="4575600"/>
                  <a:ext cx="3293280" cy="47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 Black"/>
                    </a:rPr>
                    <a:t>2.5  to 6.0  mg/dl</a:t>
                  </a: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77" name="Rectangle 53"/>
                <p:cNvSpPr/>
                <p:nvPr/>
              </p:nvSpPr>
              <p:spPr>
                <a:xfrm>
                  <a:off x="5235120" y="4575600"/>
                  <a:ext cx="3524040" cy="47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78" name="Group 56"/>
              <p:cNvGrpSpPr/>
              <p:nvPr/>
            </p:nvGrpSpPr>
            <p:grpSpPr>
              <a:xfrm>
                <a:off x="547560" y="5047560"/>
                <a:ext cx="4687200" cy="471960"/>
                <a:chOff x="547560" y="5047560"/>
                <a:chExt cx="4687200" cy="471960"/>
              </a:xfrm>
            </p:grpSpPr>
            <p:sp>
              <p:nvSpPr>
                <p:cNvPr id="179" name="Rectangle 19"/>
                <p:cNvSpPr/>
                <p:nvPr/>
              </p:nvSpPr>
              <p:spPr>
                <a:xfrm>
                  <a:off x="663480" y="5047560"/>
                  <a:ext cx="4455360" cy="47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Arial Black"/>
                    </a:rPr>
                    <a:t>pH</a:t>
                  </a: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80" name="Rectangle 55"/>
                <p:cNvSpPr/>
                <p:nvPr/>
              </p:nvSpPr>
              <p:spPr>
                <a:xfrm>
                  <a:off x="547560" y="5047560"/>
                  <a:ext cx="4687200" cy="47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81" name="Group 58"/>
              <p:cNvGrpSpPr/>
              <p:nvPr/>
            </p:nvGrpSpPr>
            <p:grpSpPr>
              <a:xfrm>
                <a:off x="5235120" y="5047560"/>
                <a:ext cx="3524040" cy="471960"/>
                <a:chOff x="5235120" y="5047560"/>
                <a:chExt cx="3524040" cy="471960"/>
              </a:xfrm>
            </p:grpSpPr>
            <p:sp>
              <p:nvSpPr>
                <p:cNvPr id="182" name="Rectangle 20"/>
                <p:cNvSpPr/>
                <p:nvPr/>
              </p:nvSpPr>
              <p:spPr>
                <a:xfrm>
                  <a:off x="5350320" y="5047560"/>
                  <a:ext cx="3293280" cy="47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Arial Black"/>
                    </a:rPr>
                    <a:t>7.4</a:t>
                  </a: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83" name="Rectangle 57"/>
                <p:cNvSpPr/>
                <p:nvPr/>
              </p:nvSpPr>
              <p:spPr>
                <a:xfrm>
                  <a:off x="5235120" y="5047560"/>
                  <a:ext cx="3524040" cy="47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84" name="Group 60"/>
              <p:cNvGrpSpPr/>
              <p:nvPr/>
            </p:nvGrpSpPr>
            <p:grpSpPr>
              <a:xfrm>
                <a:off x="547560" y="5519520"/>
                <a:ext cx="4687200" cy="621720"/>
                <a:chOff x="547560" y="5519520"/>
                <a:chExt cx="4687200" cy="621720"/>
              </a:xfrm>
            </p:grpSpPr>
            <p:sp>
              <p:nvSpPr>
                <p:cNvPr id="185" name="Rectangle 21"/>
                <p:cNvSpPr/>
                <p:nvPr/>
              </p:nvSpPr>
              <p:spPr>
                <a:xfrm>
                  <a:off x="663480" y="5519520"/>
                  <a:ext cx="4455360" cy="62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 Black"/>
                    </a:rPr>
                    <a:t>CREATININE</a:t>
                  </a:r>
                  <a:br>
                    <a:rPr sz="2000"/>
                  </a:b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86" name="Rectangle 59"/>
                <p:cNvSpPr/>
                <p:nvPr/>
              </p:nvSpPr>
              <p:spPr>
                <a:xfrm>
                  <a:off x="547560" y="5519520"/>
                  <a:ext cx="4687200" cy="62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87" name="Group 62"/>
              <p:cNvGrpSpPr/>
              <p:nvPr/>
            </p:nvGrpSpPr>
            <p:grpSpPr>
              <a:xfrm>
                <a:off x="5235120" y="5519520"/>
                <a:ext cx="3524040" cy="621720"/>
                <a:chOff x="5235120" y="5519520"/>
                <a:chExt cx="3524040" cy="621720"/>
              </a:xfrm>
            </p:grpSpPr>
            <p:sp>
              <p:nvSpPr>
                <p:cNvPr id="188" name="Rectangle 22"/>
                <p:cNvSpPr/>
                <p:nvPr/>
              </p:nvSpPr>
              <p:spPr>
                <a:xfrm>
                  <a:off x="5350320" y="5519520"/>
                  <a:ext cx="3293280" cy="62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 Black"/>
                    </a:rPr>
                    <a:t>0.8  to 1.4 mg/dl</a:t>
                  </a:r>
                  <a:br>
                    <a:rPr sz="2000"/>
                  </a:b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89" name="Rectangle 61"/>
                <p:cNvSpPr/>
                <p:nvPr/>
              </p:nvSpPr>
              <p:spPr>
                <a:xfrm>
                  <a:off x="5235120" y="5519520"/>
                  <a:ext cx="3524040" cy="62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</p:grpSp>
        <p:sp>
          <p:nvSpPr>
            <p:cNvPr id="190" name="Rectangle 64"/>
            <p:cNvSpPr/>
            <p:nvPr/>
          </p:nvSpPr>
          <p:spPr>
            <a:xfrm>
              <a:off x="539640" y="1268280"/>
              <a:ext cx="8229240" cy="4876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91" name="Text Box 66"/>
          <p:cNvSpPr/>
          <p:nvPr/>
        </p:nvSpPr>
        <p:spPr>
          <a:xfrm>
            <a:off x="304920" y="15228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 Black"/>
              </a:rPr>
              <a:t>Normal values of </a:t>
            </a:r>
            <a:r>
              <a:rPr b="0" lang="en-US" sz="2400" spc="-1" strike="noStrike" u="sng">
                <a:solidFill>
                  <a:srgbClr val="ffccff"/>
                </a:solidFill>
                <a:uFillTx/>
                <a:latin typeface="Arial Black"/>
              </a:rPr>
              <a:t>Internal Chemical Environment</a:t>
            </a:r>
            <a:r>
              <a:rPr b="0" lang="en-US" sz="2400" spc="-1" strike="noStrike">
                <a:solidFill>
                  <a:srgbClr val="ff00ff"/>
                </a:solidFill>
                <a:latin typeface="Arial Black"/>
              </a:rPr>
              <a:t> controlled by the Kidneys</a:t>
            </a:r>
            <a:r>
              <a:rPr b="0" lang="en-US" sz="2400" spc="-1" strike="noStrike">
                <a:solidFill>
                  <a:srgbClr val="ff00ff"/>
                </a:solidFill>
                <a:latin typeface="Arial Black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5257800" y="6172200"/>
          <a:ext cx="3505320" cy="457200"/>
        </p:xfrm>
        <a:graphic>
          <a:graphicData uri="http://schemas.openxmlformats.org/drawingml/2006/table">
            <a:tbl>
              <a:tblPr/>
              <a:tblGrid>
                <a:gridCol w="350532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 Black"/>
                          <a:ea typeface="Arial"/>
                        </a:rPr>
                        <a:t>15  to 20 mg/d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533520" y="6172200"/>
          <a:ext cx="4724280" cy="457200"/>
        </p:xfrm>
        <a:graphic>
          <a:graphicData uri="http://schemas.openxmlformats.org/drawingml/2006/table">
            <a:tbl>
              <a:tblPr/>
              <a:tblGrid>
                <a:gridCol w="472428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 Black"/>
                          <a:ea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 Black"/>
                          <a:ea typeface="Arial"/>
                        </a:rPr>
                        <a:t>BUN  (Blood Urea Nitrogen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250920" y="765000"/>
            <a:ext cx="8762760" cy="5685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51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00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GB" sz="3200" spc="-1" strike="noStrike" u="sng">
                <a:solidFill>
                  <a:srgbClr val="ff00ff"/>
                </a:solidFill>
                <a:uFillTx/>
                <a:latin typeface="Arial"/>
                <a:ea typeface="Arial"/>
              </a:rPr>
              <a:t>Functional units</a:t>
            </a:r>
            <a:r>
              <a:rPr b="1" lang="en-GB" sz="3200" spc="-1" strike="noStrike">
                <a:solidFill>
                  <a:srgbClr val="ff00ff"/>
                </a:solidFill>
                <a:latin typeface="Arial"/>
                <a:ea typeface="Arial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The </a:t>
            </a: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ephron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 is the functional unit of the kidne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Each kidney contains about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1,000,000 to 1,300,000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nephron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The nephron is composed of </a:t>
            </a: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glomerulus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 and </a:t>
            </a: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renal tubules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The nephron performs its homeostatic function by ultra filtration at  glomerulus and secretion and reabsorption at renal tubule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02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027"/>
          <p:cNvSpPr/>
          <p:nvPr/>
        </p:nvSpPr>
        <p:spPr>
          <a:xfrm>
            <a:off x="0" y="6165720"/>
            <a:ext cx="9144000" cy="11692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esentation of a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ephr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nd its blood supp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3"/>
          <p:cNvSpPr/>
          <p:nvPr/>
        </p:nvSpPr>
        <p:spPr>
          <a:xfrm>
            <a:off x="0" y="946080"/>
            <a:ext cx="9144000" cy="57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33360" indent="-66996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gulation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of 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4" marL="382428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- water and electrolyte balanc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4" marL="382428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- acid base balanc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4" marL="382428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- arterial blood pressur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1233360" indent="-66996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cretion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of metabolic waste products and foreign chemical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1233360" indent="-66996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Hormonal Function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: Secretion of erythropoietin &amp; activation of vitamin D and activation of angiotensinogen by reni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1233360" indent="-66996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Metabolic Function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site for gluconeogenes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398160" y="115920"/>
            <a:ext cx="416592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51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00ff"/>
                </a:solidFill>
                <a:uFillTx/>
                <a:latin typeface="Arial"/>
                <a:ea typeface="Arial"/>
              </a:rPr>
              <a:t>Kidney functions</a:t>
            </a:r>
            <a:r>
              <a:rPr b="1" lang="en-GB" sz="3600" spc="-1" strike="noStrike">
                <a:solidFill>
                  <a:srgbClr val="ff00ff"/>
                </a:solidFill>
                <a:latin typeface="Arial"/>
                <a:ea typeface="Arial"/>
              </a:rPr>
              <a:t> 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228600" y="1649520"/>
            <a:ext cx="853452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any diseases affect renal function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 some, several functions are affected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 others, there is selective impairment of glomerular function or one or more of tubular  function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ost types of renal diseases cause destruction of  complete nephron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603720" y="411120"/>
            <a:ext cx="363708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51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00ff"/>
                </a:solidFill>
                <a:uFillTx/>
                <a:latin typeface="Arial"/>
                <a:ea typeface="Arial"/>
              </a:rPr>
              <a:t>Renal disease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228600" y="404640"/>
            <a:ext cx="8839080" cy="61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ff"/>
                </a:solidFill>
                <a:uFillTx/>
                <a:latin typeface="Arial"/>
              </a:rPr>
              <a:t>Routine kidney function test include the measurement of :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erum creatinine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reatinine clearanc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erum urea.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ff"/>
                </a:solidFill>
                <a:uFillTx/>
                <a:latin typeface="Arial"/>
              </a:rPr>
              <a:t>Both serum creatinine and creatinine clearance are used as kidney function tests to :</a:t>
            </a:r>
            <a:r>
              <a:rPr b="1" lang="en-GB" sz="32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firm the diagnosis of renal diseas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ive an idea about the severity of the disease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llow up the treatment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304920" y="538200"/>
            <a:ext cx="8458200" cy="57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00ff"/>
                </a:solidFill>
                <a:uFillTx/>
                <a:latin typeface="Arial"/>
              </a:rPr>
              <a:t>Serum creatinine</a:t>
            </a:r>
            <a:r>
              <a:rPr b="1" lang="en-GB" sz="3200" spc="-1" strike="noStrike" u="sng">
                <a:solidFill>
                  <a:srgbClr val="ff00ff"/>
                </a:solidFill>
                <a:uFillTx/>
                <a:latin typeface="Arial"/>
              </a:rPr>
              <a:t> </a:t>
            </a:r>
            <a:r>
              <a:rPr b="1" lang="en-GB" sz="2800" spc="-1" strike="noStrike" u="sng">
                <a:solidFill>
                  <a:srgbClr val="ff00ff"/>
                </a:solidFill>
                <a:uFillTx/>
                <a:latin typeface="Arial"/>
              </a:rPr>
              <a:t>(55-120 </a:t>
            </a:r>
            <a:r>
              <a:rPr b="1" lang="en-GB" sz="2800" spc="-1" strike="noStrike" u="sng">
                <a:solidFill>
                  <a:srgbClr val="ff00ff"/>
                </a:solidFill>
                <a:uFillTx/>
                <a:latin typeface="Symbol"/>
                <a:ea typeface="Symbol"/>
              </a:rPr>
              <a:t></a:t>
            </a:r>
            <a:r>
              <a:rPr b="1" lang="en-GB" sz="2800" spc="-1" strike="noStrike" u="sng">
                <a:solidFill>
                  <a:srgbClr val="ff00ff"/>
                </a:solidFill>
                <a:uFillTx/>
                <a:latin typeface="Arial"/>
              </a:rPr>
              <a:t>mol/L in adult):</a:t>
            </a:r>
            <a:r>
              <a:rPr b="1" lang="en-GB" sz="1800" spc="-1" strike="noStrike" u="sng">
                <a:solidFill>
                  <a:srgbClr val="ff00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reatinine is the  end product of creatine catabolism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98% of the body creatine is present in the muscles where it functions  as store of high energy in the form of creatine phosphat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bout 1-2 % of total muscle creatine or creatine phosphate  pool is converted daily to creatinine through the spontaneous, non enzymatic  loss of water or phosphate.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380880" y="746280"/>
            <a:ext cx="838224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reatinine in the plasma is filtered freely at the glomerulus and secreted by renal tubules (10 % of urinary creatinine)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reatinine is not reabsorbed by the renal tubul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lasma creatinine is an endogenous substance not affected by diet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lasma creatinine remains  fairly constant throughout  adult lif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2T19:56:18Z</dcterms:created>
  <dc:creator>Dr. Sayed S. Al Esawy</dc:creator>
  <dc:description/>
  <dc:language>en-US</dc:language>
  <cp:lastModifiedBy>Ahmed</cp:lastModifiedBy>
  <dcterms:modified xsi:type="dcterms:W3CDTF">2015-04-19T17:55:22Z</dcterms:modified>
  <cp:revision>59</cp:revision>
  <dc:subject/>
  <dc:title>عرض تقديمي من PowerPoint</dc:title>
</cp:coreProperties>
</file>