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F48B-4C4C-4699-BEDC-8E90FBE358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F260-281F-4416-886F-4179AE97A3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DF07-7FF1-4929-B02E-88A60FB875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F0F4-6412-45AD-BC18-3F5D57DD1D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BFBC-29BD-4881-8C94-51D3F1C0F48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05C0-750E-4CB2-BD3F-D75748198B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4E04-D9F3-46C7-94EC-E4AD37EA4B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60F1-0900-4567-9C06-70D2E4F3F86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5D3C-7436-4762-A2BF-58293F61AF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F01C-DAD3-4056-9C79-01708E24C3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408B-3C09-4900-A245-30EA7F8E73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DE72-E2E1-4FD0-9E0A-789F8D83D9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5EE-147F-43C5-B783-A0478717EE0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8189-74F5-429E-8565-DB9F7532DF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B7B3-737F-4E00-BB73-079A34AFDEA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74CA-A3F8-461E-96C1-B9773CAC06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959B-877B-490C-B2DB-3085D52A71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878D-4F18-4826-B91E-F50C3E54EE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0A5B-6B56-4D09-808F-7E4085B1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9579-137E-467F-8C51-2A48D506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4E4-E8F6-4C3E-AF84-FA77ECFC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58A-47D7-45AC-9A08-CA8CD0A0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C07B-4428-4AD7-86E7-ABC491AD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CC2-C664-4A57-A81E-2CC6BA4F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2FEC-8D3C-4738-83A5-61A967C5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FA5B-EF4D-4EE4-A6C5-311699F6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946E-D094-40F0-A806-811669F4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EB7B-4EA1-4C80-9123-8438EC9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CB24-A2F1-4FD1-A8A0-ED5436CE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217-8AAE-491C-9765-ED5B8B2C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2AA3-8645-4C4F-9C9D-EF95F69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E57C-D8AA-457C-8ABF-7759D3E0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D227-0DF0-45BC-A307-812DCCF7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9086-8925-460F-9EAA-F7DEA2E5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83F8-63D3-4E05-9E37-78A0CB90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751291-D099-49E3-AE87-46F8ED15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84706-A5DF-4C3D-8315-7C46BCD1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B7EF5-9658-4B3C-8A63-D578AAFF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B573CD-38BD-4199-A82D-87CF825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860A9-EB7B-41CA-842D-19E6D9B0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8BD-8E2F-4EDA-B8C2-964705B6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440A4-EE33-4E54-B0DB-6D9CB3B1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74B3D-3B49-4A21-8CAE-8B4ECE61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AC68CF-8BD6-4C49-A203-D0C0ECBC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475CC-6283-4848-A5E7-925AB4E9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D2D97-5EB9-484C-9529-EC03C29E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C10611-FE42-4724-9943-1D5FB7C2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6BDE9-5A58-402B-8654-CF63492D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D2CCD-1268-45EE-98D9-5E2C3160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CF65-7ACF-4A8D-92AD-F2978F6E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23AF-8F4B-4619-99BC-9C365248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3F4-AC36-49D3-B9E5-B158EA48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A8DFB-3A95-4933-9687-05CFC150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40B91-F73D-4278-B784-CCB558DC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B8BDD-12BB-477C-ABC7-964DF2BB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9C2B4-B185-4080-B887-BE21A03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1B243-D346-44EC-BFD4-EEB84BD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A1C2D-8807-4BE0-8A27-2446B1EA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5D474-8C73-495C-9342-F459D6AD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1A93-18B8-45CD-8287-9AD4F381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88AC7-5923-43E8-9ECF-C08749F0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BEE8D8-0F52-4086-A3CB-111B4709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C5E-6209-4DB5-9686-2FC8021B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708481-AB8F-4987-B242-DEE29EE6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DFFBB1-0E3E-46DE-AA4B-88751CBF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5A89D9-CADA-4067-B5C1-1BB6C4E2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7D4C97-DD86-4C21-9FB3-00230F8E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6ECE67-0F61-4487-BA00-804F28AE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6D8AF6-46E9-4CF8-84C7-871AC2B7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85641-22C0-43A6-8596-57309C08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EAA389-0C59-475D-A1E1-E8EF9494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7A856A-5104-4816-B24D-816F8669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7AA20D-C5C8-4293-8D26-A74472D3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593-6491-4E3A-882F-DCF4093A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3C514A-C1D7-4C7C-A49E-E18CA69C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19B9-9F9A-44EF-9566-FFF7D6A5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779-E670-4A58-832A-3586AB9F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240-EB84-4887-AE18-ABE8817D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01B8-0EE2-4D05-BB76-B6EFDBD25AE1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3F9D-16CA-4875-B2C7-57AF88EA123A}" type="slidenum">
              <a:rPr b="0" lang="ar-SA" sz="1200" spc="-1" strike="noStrike">
                <a:solidFill>
                  <a:srgbClr val="d6ec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traight Connector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80808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4594-89E6-4267-A547-C5EA441B811B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d26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44d26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10EF-CE7D-4B05-99D2-BD1837A14D07}" type="slidenum">
              <a:rPr b="0" lang="en-US" sz="1600" spc="-1" strike="noStrike">
                <a:solidFill>
                  <a:srgbClr val="444d26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Straight Connector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A6D9-08C0-4FBD-8ADB-F1F8A497BF50}" type="slidenum">
              <a:rPr b="0" lang="en-US" sz="1600" spc="-1" strike="noStrike">
                <a:solidFill>
                  <a:srgbClr val="fefac9"/>
                </a:solidFill>
                <a:latin typeface="Constantia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 Block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1 Lectur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r. </a:t>
            </a:r>
            <a:r>
              <a:rPr b="0" lang="en-GB" sz="2400" spc="-1" strike="noStrike">
                <a:solidFill>
                  <a:srgbClr val="fefac9"/>
                </a:solidFill>
                <a:latin typeface="Constantia"/>
              </a:rPr>
              <a:t>Ahmed H. Mujamammi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37520" y="2362320"/>
            <a:ext cx="70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  <a:ea typeface="Arial"/>
              </a:rPr>
              <a:t>Chemical Examina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sociated with renal disea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omer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glomerular permeability causes filtration of high molecular weight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glomerulo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Tubular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w tubular reabsorption with normal glomerular permeabil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excretion of low mol. wt. prote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xample: chronic nephrit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Orthostatic (postural) 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form of benign or physiologic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ccurs frequently in young adults due to periods spent in a vertical posture (body position) or during muscular exerci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Microalbum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20–200 mg/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arly indicator of glomerular dysfunction 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controlled diabetes mellitu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83280" indent="-2628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ypertens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82520" y="380880"/>
            <a:ext cx="40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 are added to the urine after kidney filtr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le passing through the lower urinary tract (ureters, bladder, urethra, prostate, vagin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er urinary tract infe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05600" indent="-271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ton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56600" y="380880"/>
            <a:ext cx="50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ost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sugar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luc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gluc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diabetes mellitu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lasma glucose level exceeds the renal threshold                       </a:t>
            </a: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renal disease (renal glucosuria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rmal plasma glucose level with proximal tubular malfunc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Decreased renal threshold as observed in gestational diabetes and Fanconi’s syndrom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Fru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fru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igh fructose intak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fructokinase or aldolase B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Galactos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galactose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utritional cause: high galactose inta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etabolic caus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13160" indent="-27432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Low galactokinase or galactose -1-PO4 uridyl transferase in the liver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66400" y="380880"/>
            <a:ext cx="25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Glycos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ketones, acetone, acetoacetic acid and </a:t>
            </a:r>
            <a:r>
              <a:rPr b="0" lang="en-US" sz="26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-hydroxybutyric aci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abetic ketoacidos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rv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etary imbalance: high fat and low CHO die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henylketonuria (PKU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380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Keto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bile, bilirubin and bile salts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Bilirubi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no billirubin is detecte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detecte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bstruction of bile duct due to stones (extrahepatic) and hepatic tumors (intrahepatic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Urobilinogen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normally present in trace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urobilinogen is found 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lytic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20720" indent="-277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patocellular damag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Nitrit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itive nitrite test indicates bacteria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301320" y="3808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Chol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detectable amount of blood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ute / chronic glomerulonephrit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ocal disorders of kidney and genito-urinary trac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uma, cystitis, renal calculi, tumo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leeding disorder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Hemophil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8ca92"/>
                </a:solidFill>
                <a:latin typeface="Constantia"/>
              </a:rPr>
              <a:t>Hemoglob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esence of hemolysed blood in urine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oglobinopath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ickle cell an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alassemia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ransfusion re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Blood group incompatibilit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268560" y="380880"/>
            <a:ext cx="255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Hemat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trodu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bnormal composition of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 (multiple myeloma)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743040" indent="-285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lycosuria: fructosuria, galactos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eto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maturia: hemoglob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46040" y="53352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is a fluid excreted by most animals including huma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formed in the kidneys (renal glomeruli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luid undergoes chemical changes before it is excreted as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excretion by a healthy person is about 1.5 L per d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33000" y="38088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rine contains organic and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in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od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tassium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hlorid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mall amounts of Ca, Mg, sulfur and phosphate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Fe, Cu, Zn, I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jor organic constituent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Non-protein nitrogen (NPN) compoun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Organic acid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ugar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68520" indent="-2570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races of proteins, vitamins, hormones, pigment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04040" y="380880"/>
            <a:ext cx="65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2193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rmal urine contains small amount of protein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&lt; 200 mg/da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more than this level causes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retion of abnormal amounts of protein in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38960" indent="-13896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teinuria has three typ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re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378720" indent="-1454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Post-renal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72000" y="380880"/>
            <a:ext cx="705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Abnormal composition of ur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ome diseases or conditions increase plasma protein levels not involving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increased filtration of these proteins in the kidne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exceeds the normal reabsorptive capacity of renal tubul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sults in overflow of proteins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ncer of the antibody-producing plasma cel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63440" indent="-16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ses pre-renal proteinuria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0663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erum contains elevated levels of light-chain monoclonal antibodies called Bence-Jones prote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protein is filtered in the kidneys in high amou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ceeding the tubular reabsorption capacit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ence excreted in the urin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nce-Jones protein coagulates at 40–6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 and dissolves at 100 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52640" indent="-1526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ltiple myeloma cases are diagnosed b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Serum 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415800" indent="-15984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Immunoelectrophoresi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41120" y="380880"/>
            <a:ext cx="48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ca92"/>
                </a:solidFill>
                <a:latin typeface="Constantia"/>
                <a:ea typeface="Arial"/>
              </a:rPr>
              <a:t>Pre-renal proteinu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2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3" name="Rectangle 4"/>
          <p:cNvSpPr/>
          <p:nvPr/>
        </p:nvSpPr>
        <p:spPr>
          <a:xfrm>
            <a:off x="2646720" y="166680"/>
            <a:ext cx="34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7791"/>
                </a:solidFill>
                <a:latin typeface="Constantia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533520" y="5766480"/>
            <a:ext cx="828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</a:rPr>
              <a:t>A: Serum protein electrophoresis showing the M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7791"/>
                </a:solidFill>
                <a:latin typeface="Constantia"/>
              </a:rPr>
              <a:t>B: Serum and urine immunofixation electrophor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3"/>
          <p:cNvSpPr/>
          <p:nvPr/>
        </p:nvSpPr>
        <p:spPr>
          <a:xfrm>
            <a:off x="1295280" y="5094720"/>
            <a:ext cx="713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A: Normal se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B: Multiple myeloma (M component in </a:t>
            </a:r>
            <a:r>
              <a:rPr b="1" lang="en-US" sz="2000" spc="-1" strike="noStrike">
                <a:solidFill>
                  <a:srgbClr val="eb8803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 reg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C: Densitometry of 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613880"/>
                </a:solidFill>
                <a:latin typeface="Constantia"/>
              </a:rPr>
              <a:t>A</a:t>
            </a:r>
            <a:r>
              <a:rPr b="1" lang="ja-JP" sz="2000" spc="-1" strike="noStrike">
                <a:solidFill>
                  <a:srgbClr val="613880"/>
                </a:solidFill>
                <a:latin typeface="Constanti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D: Densitometry of 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</a:rPr>
              <a:t>“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B</a:t>
            </a:r>
            <a:r>
              <a:rPr b="1" lang="ja-JP" sz="2000" spc="-1" strike="noStrike">
                <a:solidFill>
                  <a:srgbClr val="eb8803"/>
                </a:solidFill>
                <a:latin typeface="Constantia"/>
              </a:rPr>
              <a:t>”</a:t>
            </a:r>
            <a:r>
              <a:rPr b="1" lang="en-US" sz="2000" spc="-1" strike="noStrike">
                <a:solidFill>
                  <a:srgbClr val="eb8803"/>
                </a:solidFill>
                <a:latin typeface="Constantia"/>
              </a:rPr>
              <a:t> (M component is called M Spik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54:02Z</dcterms:created>
  <dc:creator/>
  <dc:description/>
  <dc:language>en-US</dc:language>
  <cp:lastModifiedBy/>
  <dcterms:modified xsi:type="dcterms:W3CDTF">2015-04-20T06:53:39Z</dcterms:modified>
  <cp:revision>3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513351033</vt:lpwstr>
  </property>
</Properties>
</file>