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3247-6C55-4959-B3FB-CCE75DE3A4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92AC-EE28-4329-BD05-0B2C139220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8623-80C5-449E-BB43-8D7490A205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0C65-F584-452D-9085-0481862CEF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1469-F3DE-409D-83D3-614458E8A8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F688-C704-4E68-BB57-0ECF86138B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46DC-F65A-40F1-9A81-5345A78A1F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67BF-33FD-4AA7-8125-4E5A7DB521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B3D7-8411-4238-8A30-0EC1C74597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3D00-87D5-4865-8061-BBE97B2168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E06D-6A57-43BE-9E9A-12036CAC7A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E388-8BFB-4389-9CD1-8AF0A7D098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8B2B-AB22-4D36-9A20-1AE6F6630F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78E9-A459-4229-9682-BC07CED4CF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608B-3C03-4A62-8ED2-F853EE1DD2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6F97-A7EB-4D7F-8C2E-84E518F17A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4A77-903B-40E3-9A69-DF583D43CF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B5D2-51D5-47AE-8073-59694803E1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65D-51BC-49BE-B99C-69D15C81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101-B16F-4C13-BE9A-7F0E11A5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583-2A73-4BA8-AE11-231B20E7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917-389B-4F27-9856-F79A913E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8872-2716-4D19-9BBB-15998B0A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70E1-55D5-41BC-A8AE-FA18A9B3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ED63-4526-4AAA-8D83-706C755E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33F0-DDED-4233-BDCA-4FE8D1AD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3E6A-D55A-448E-9D77-0C2E4F81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8142-0260-4DA8-832B-230AA22A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BFA5-CAC7-4FFB-8678-B547CB36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BB5-4AA0-4055-9C5A-E5871C85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2FF3-62B4-43A2-9814-AB38AC21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6C14-7A2C-4444-9EBD-5ACF8F32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E8BE-319F-44F2-A2D6-F231D3A8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D724-945C-4DA1-B3E2-FC258291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9D8D-F880-4B81-A1B2-BD989FFE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2C04E-DD0C-4C10-B692-09A48708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16851-FD03-4B34-B12A-63A038B3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EBC67-7EAC-419D-872D-80A053A3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92238-7039-48FC-B822-15C309C1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BACB9-5C44-490B-B3EB-121C8000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245-3442-4D93-BA84-1DB88C2C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39D51-B730-4A1A-B616-9741EACA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40510-8427-48C3-8979-A92541A5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AA234-1EC5-4F04-9E97-4E394E6E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0236D-99D8-4D82-9235-929B16C9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5F6F3-79E1-458C-BF0C-0B6CE36D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225E5-DD52-4E89-95D4-68236E49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DC7F2-2297-4156-9941-B287CA80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64844-DB86-4692-A9CF-2C5E9A02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67AC4-021B-4BA8-8C0E-8D3504C1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10FB2-B589-47AD-91EA-A3C0A52E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AEE-1DA5-4046-892C-3731ADD3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364CD-B2B9-407B-AE57-387FEA55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088A-AD4B-43B2-A39B-20105FF6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938E-0376-408A-9657-52FC923F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B2D4-1DEE-427F-BC5F-6AA7D4C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6E6B-7054-4269-98BB-B834C0CE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4B7C4-85D2-4CF4-944A-A4BA2A2A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20BD-592A-4515-AEF8-AC134A84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919D-C486-422B-BBB6-BBCBB7BC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6CDD2-998B-493E-8B00-2627547C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122AEC-5375-4330-AD61-2DE4B131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942-959D-47B0-9029-98DADF71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BC1E8-0EF0-4046-A93F-B5C42E39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EEEE67-6BB5-4EDA-91EF-CE529E51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BC95AA-D103-43DE-A166-241270BA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E2A462-C824-4D06-9610-E3B5BA50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83665C-982E-4712-9AB7-59658F2D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8FDD8C-3BA3-4DA7-9446-D052E60F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7BF3BD-80A6-4D78-8FCA-5D46FB65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D9E387-750C-4491-8229-38351350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5F64D7-1B3D-4168-A9BE-E132AA67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EA26F2-B1D0-4729-B728-4B953D34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F51-4412-4092-8C4D-A8094379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960670-13CF-402B-934F-69F39FDF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1CC-BC72-47E9-B684-FE262B49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F53-6CE3-4777-BF24-0AD7ACA2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3E8-4811-4202-ADCD-F81A2A05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4C8D-66EB-4E2C-8797-D064638D4538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0AAC-6979-469E-A6B8-C02362915114}" type="slidenum">
              <a:rPr b="0" lang="ar-SA" sz="1200" spc="-1" strike="noStrike">
                <a:solidFill>
                  <a:srgbClr val="d6ec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E10C-6114-4963-9A28-F1BE986FAB81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A7BA-5057-449B-BC7E-B990D1A7D19E}" type="slidenum">
              <a:rPr b="0" lang="en-US" sz="1600" spc="-1" strike="noStrike">
                <a:solidFill>
                  <a:srgbClr val="444d2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F4DD-E976-4F81-8889-30733D811AB2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 Bloc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 Lectu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r. </a:t>
            </a:r>
            <a:r>
              <a:rPr b="0" lang="en-GB" sz="2400" spc="-1" strike="noStrike">
                <a:solidFill>
                  <a:srgbClr val="fefac9"/>
                </a:solidFill>
                <a:latin typeface="Constantia"/>
              </a:rPr>
              <a:t>Ahmed H. Mujamamm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37520" y="236232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  <a:ea typeface="Arial"/>
              </a:rPr>
              <a:t>Chemical Examina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ciated with renal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omer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glomerular permeability causes filtration of high molecular weight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glomerulo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Tub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w tubular reabsorption with normal glomerular permeabi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excretion of low mol. wt.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chronic 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Orthostatic (postural)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form of benign or physiologic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curs frequently in young adults due to periods spent in a vertical posture (body position) or during muscular exerci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d pressure on the renal vein in the vertical position causes orthostatic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appears in horizontal pos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Microalbum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mall amounts of albumin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0–200 mg/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not be detected by ordinary urine te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eds special tests for dete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ly indicator of glomerular dysfunction 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ncontrolled diabetes mellitu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ypertens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 are added to the urine after kidney filt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ile passing through the lower urinary tract (ureters, bladder, urethra, prostate, vagin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er urinary tract infe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ton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56600" y="3808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ost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ugar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uc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gluc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diabetes mellitu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lasma glucose level exceeds the renal threshold                      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renal disease (renal glucosuri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rmal plasma glucose level with proximal tubular malfun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creased renal threshold as observed in gestational diabetes and Fanconi’s syndrom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Fru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fru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igh fructose intak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fructokinase or aldolase B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ala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gala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 high galactose intak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galactokinase or galactose -1-PO4 uridyl transferase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ketones, acetone, acetoacetic acid and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hydroxybutyric aci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abetic ketoacidos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rv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etary imbalance: high fat and low CHO di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henylketonuria (PKU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80880" y="380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Keto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bile, bilirubin and bile salts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Bilirub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no billirubin is detecte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detecte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bstruction of bile duct due to stones (extrahepatic) and hepatic tumors (intrahepatic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Urobilinoge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present in trace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urobilinogen is foun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lytic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Nitrit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itive nitrite test indicates bacteria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01320" y="38088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Chol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bloo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ute / chronic glomerulonephrit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cal disorders of kidney and genito-urinary tra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, cystitis, renal calculi, 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eeding disor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phil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Hemoglob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hemolysed blood in urine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oglobinopath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ckle cell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alass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nsfusion rea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lood group incompatibilit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 (multiple myeloma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lycosuria: fructosuria, galactos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to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aturia: hemoglob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46040" y="53352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is a fluid excreted by most animals including huma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formed in the kidneys (renal glomeruli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luid undergoes chemical changes before it is excreted as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excretion by a healthy person is about 1.5 L per d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33000" y="38088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contains organic and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d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tass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hlori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all amounts of Ca, Mg, sulfur and phosphat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Fe, Cu, Zn, I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n-protein nitrogen (NPN) compoun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rganic aci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uga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proteins, vitamins, hormones, pigmen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04040" y="38088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contains small amount of prote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&lt; 200 mg/da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more than this level causes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abnormal amounts of protein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 has three typ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2000" y="38088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Ab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me diseases or conditions increase plasma protein levels not involving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increased filtration of these proteins in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exceeds the normal reabsorptive capacity of renal tubu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sults in overflow of proteins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cer of the antibody-producing plasma ce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pre-ren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erum contains elevated levels of light-chain monoclonal antibodies called Bence-Jones prote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protein is filtered in the kidneys in high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eding the tubular reabsorption capa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nce excreted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nce-Jones protein coagulates at 40–6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 and dissolves at 10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 cases are diagnosed b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erum 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mmuno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2" name="Picture 3" descr="179-6-iline_default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96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3" name="Rectangle 4"/>
          <p:cNvSpPr/>
          <p:nvPr/>
        </p:nvSpPr>
        <p:spPr>
          <a:xfrm>
            <a:off x="2646720" y="166680"/>
            <a:ext cx="34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7791"/>
                </a:solidFill>
                <a:latin typeface="Constantia"/>
              </a:rPr>
              <a:t>Multiple myel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33520" y="5766480"/>
            <a:ext cx="82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</a:rPr>
              <a:t>A: Serum protein electrophoresis showing the M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</a:rPr>
              <a:t>B: Serum and urine immunofixation electrophor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179-5-iline_default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49006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1295280" y="5094720"/>
            <a:ext cx="713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A: Normal se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B: Multiple myeloma (M component in </a:t>
            </a:r>
            <a:r>
              <a:rPr b="1" lang="en-US" sz="2000" spc="-1" strike="noStrike">
                <a:solidFill>
                  <a:srgbClr val="eb8803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 reg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C: Densitometry of 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</a:rPr>
              <a:t>“</a:t>
            </a: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A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D: Densitometry of 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</a:rPr>
              <a:t>“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B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</a:rPr>
              <a:t>”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 (M component is called M Spik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54:02Z</dcterms:created>
  <dc:creator/>
  <dc:description/>
  <dc:language>en-US</dc:language>
  <cp:lastModifiedBy/>
  <dcterms:modified xsi:type="dcterms:W3CDTF">2015-04-20T06:53:39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13351033</vt:lpwstr>
  </property>
</Properties>
</file>