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28C3-C5BA-40BB-BACF-DB1DB260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127E-15F8-4969-88B1-6A1D1F54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623148-62E7-4C74-9455-A146A9F5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379C1D-47E1-44EE-A48B-5854F65C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676159-14B7-46F7-A21F-7B32A0A9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DDEC69-D296-43CB-8E46-A92AB11D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E2BD43-2A99-4325-B8E3-E6DE9322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D5EE62-E521-4A3E-965A-3B4649CD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BCB32A-A240-4782-83A0-1D03DE96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4AD9BE-D26C-44B7-8472-7155807A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3B4DA8-C776-4955-9EAA-F38C249C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84278A-CE5E-486E-8FA3-933A9AEE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F20D-45F4-4903-8AC5-33740065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E76E86-E0C2-4E3E-AAC8-C2324CFB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CB4E1D-B730-4029-8489-331FE7C2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FD77F7-6019-4145-BA69-904993B6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4D64A-7616-4356-B846-D8E10AD7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C9D5A8-EB57-401B-BDD6-CF24BC8E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0DE343-1868-4906-9224-D3A2B984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4E230A-E60A-44D8-9B12-9AD3B517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EF35D0-43E2-4703-A11A-EB200432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09A43C-E49B-4C38-B598-661479C0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8ECC87-38FA-4354-B81F-82206468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A3137-2863-4018-8059-7B2AC7D0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9DF144-921E-4433-950C-98358920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AEF875-EA4E-4B09-B25E-B815D3F0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B14BA9-B8C6-40B8-8FFF-0AEE7656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7FB549-4C2F-4548-866B-48F8A01E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0439AE-F24C-4387-BEB0-ED853CE6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CDD4C2-CB94-4DD9-BE06-978EDBB7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F1873F-359D-4F3D-9AC3-525D6D65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6B06C6-5F85-4DF7-8CCF-B188C5E8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8164F9-862E-493F-B0DD-C1D1EE46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65475A-9809-4A18-953A-E262FDB0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69C32-8FEC-4B78-AE4E-B8AC01C9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BBCD33-8A4D-4200-A400-F19A65FE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933222-A14F-4B97-A65F-94E59974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78E8BA-C52D-460D-8DFA-420973DD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4FD86C-9653-4CE6-8EBF-39D6D82E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5D2B6E-8017-4E24-B69D-CF25D2EE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9D8CCE-8C73-4EB3-A7FE-10C56EEC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39F6D8-0808-47FE-9FE2-E728DB22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C2039C-F58D-4070-AB68-A178EEA4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D085F5-F8E5-48CF-B114-E07C209D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CCA7F8-BE33-47A5-806A-2C0E5961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F5A6C-239B-4A33-94FA-C76C4023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97721D-394D-4E3C-85BA-87832303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DC30F1-3B03-4093-A8BC-8D0CA0C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496751-7273-4A05-A441-1288FF8E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6C58FE-D335-4D9A-933B-037F8690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21ECCE-58DB-4243-9597-E39C3114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F6EE60-3B62-4C3F-9B63-2927F4D0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E71259-8E16-4A04-AF97-6E50271B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9FAD44-E621-4205-8366-D5797596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D30F3A-1C1E-4C73-81EA-2E33B76C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B26719-5D87-4507-8E0B-7144C06A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72AFC-97CC-4B67-8F8E-0C92F091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73B99B-916B-4B41-91F7-84DF70C5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357A98-92CD-4F91-A8B5-8215429E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C3E91E-5C49-4D24-8C4A-C8FFCFAA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E61312-9BB3-4D84-AB91-3401F07A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366281-2F57-46BB-B34B-3B4B33CF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A3F75C-E909-48FA-8794-A2AB0F55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A956FA-5238-42E1-8D6B-E7B17752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84F4A-6B02-4B93-8A83-790BA097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37E91-085A-43B3-8521-4A1DAE29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1C182-8AA8-4A65-90C6-A4B3383C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09E16-BC4C-47FC-A243-109AD3C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8D75-637C-4FE3-A3D8-AA5101FA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240F4-ECD0-4C64-B432-BCC441F2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CB286-0326-466A-A0B5-63DAE218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46E24-5615-4B6C-BC21-2F9D094A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D48B4-B9A7-4C0A-833F-840F18CE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E9281-FA2A-4226-8916-4DB307D6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0D056-584C-4ADB-9622-04BB96A6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B0020-632F-479D-8DA6-4523B1F1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CDBAA-50C3-4CA8-A83C-27E61C89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5BF67-C708-4A6E-8FFF-3B6449DB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1294F-7676-4E6D-8431-FF6897B4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10A2-4B5F-4751-8DEB-D540D9DA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45195-75D0-46D5-9593-4E7866D0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EE09A-490E-49DB-99FB-4C2C3009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798C3-B1AC-4533-BA7C-BFF15592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FB932-8CE9-4015-A485-DC6551CC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66E3B-9BE8-4BA0-8ACB-47EC791A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A2BFC-66E5-4105-BC04-B1ABFA2C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4EB7E-D86A-4D6B-ACD1-B3AFAF18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B8779-555A-4C03-BF1A-8504C64F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F286A-798D-4878-97F3-7AA096AF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554C9-2F8E-4D47-BE19-8F586B0E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A1BE-DE59-4145-B7D9-31BE027F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0E3CD-D598-4F4B-977E-9FFB1C8B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AD862-C27A-4470-8DF9-0E8F1B02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E517C-1777-4E36-B506-BC77CF65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E4138-6956-47E4-B2A4-BB4D2136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888E9-87EA-432E-995F-77CF792C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B9329-79BA-4548-B6B6-154AC615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22CE2-714B-43A5-9EDB-3827EA8C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8F70E-D18D-401E-A1AB-E598FABE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49BC9-5165-47DF-9A30-3467EFFD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931DD-1909-40AE-94BF-615B37E5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2A36-6A5F-43C9-B675-8260A147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7B66F-2AEF-42C9-84B8-51A0FD81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44EB5-F410-4477-8B88-9B908269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902D4-0BC5-4B10-A117-8253CACF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94650-991C-40D1-AA1E-E0684ECD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04697-24B1-4770-8ACE-2EDE64EB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84445-2CB0-4E71-BA2D-C8546EE0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D180E-9C12-43DC-B12A-D87E1625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E5482-3DF4-4083-80AB-863EE26A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F2AD2-443A-4BA6-8E0F-EC24F2B4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F639A-4298-4630-A37A-20AD2BA1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1A30-493D-4505-95D2-51DBE2C7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5C03E-E86D-4EDC-9AC7-7E3CF0BB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1CD73-CD53-4712-B94B-872845B7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74C17-F751-41FE-A845-4985B660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C4E7C-1506-4FD7-B090-AC90935F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7273E-420E-4E21-8984-7AF84887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8B422-FC90-461F-88DE-0459C44B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F8116-BEFB-47E0-AFA4-E0E39714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B5F9A-FD60-448E-8F75-F51EB104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4A21A-CD83-4C41-8488-C92EFDA7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526CC-7FE1-4F48-A37A-80EC489C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056A-6E4B-4447-AF2E-1E92ED9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6A416-C34E-4362-8D1A-1B9083A3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9C80E-AE4B-4594-9CC7-901FA10E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8E9A8-16ED-4D4D-9D41-E9BACBDB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9885E-E858-4FAD-9437-EE422939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AC337-CDD8-42A0-A860-BDBF8581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9B72C-0262-4EC3-B21C-5340B7B5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A308E-6212-48E4-9A26-BFF4C14F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19A49-FD0F-443F-92CE-7B5A2260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16689-1103-4078-9D76-359EC95B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F5FB6-658B-4AEE-A4A9-EF7E91EE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F436-18B1-46DD-9208-6489B385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8CB1A-1901-4359-B03F-15244210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01DC6-B88F-494A-B258-0772813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E94EB-96D4-4657-A520-20375B15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879F1-AB3B-494B-8E67-4EB388FD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DFB20-CF6C-4DE9-930E-5609B3B6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25EB07-6916-4ED7-BE64-347F0CC4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25C601-6DDD-44B0-B207-755E5C17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97F76A-A156-4E0A-810A-48198B8A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33C4ED-6C9F-4A41-9DC6-475E0EF9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D04B9A-B5EF-461F-AD4D-521DE864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D6D66-650C-43D3-9068-2350F05E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63D95C-3DE0-41F0-BA96-2DAD5115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4E16B3-FE44-46AA-8C98-0726AB26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E2ABD-B059-4A3F-975D-C86E118D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7A67B7-BC27-4A72-8D25-18FF9C0D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C7E05D-0EC7-4A57-AC97-17CA9437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97A3C5-02E8-41B2-8C9C-AFC72A3E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B8E3B-C468-415B-B296-7DFB1615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330441-C635-4F37-B88C-44062407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8C77C6-346E-4994-9A06-F266DDF1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94B60E-A9A9-4238-B658-DFDA080E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BC6E-3055-4A58-A116-642039E87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0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8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9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D864-05E6-448E-BEBE-5C9FF32DA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dt" idx="30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5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3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8B1C-B6ED-4654-A95B-479276A7B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dt" idx="3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9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3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3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FAC2-F739-4353-AA10-82BB3B276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dt" idx="3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54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3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3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BB59-B7A8-488E-BE43-A1316C65C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dt" idx="3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0"/>
            <a:ext cx="10285200" cy="6858000"/>
            <a:chOff x="0" y="0"/>
            <a:chExt cx="1028520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0"/>
              <a:ext cx="162504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12"/>
            <p:cNvGrpSpPr/>
            <p:nvPr/>
          </p:nvGrpSpPr>
          <p:grpSpPr>
            <a:xfrm>
              <a:off x="680400" y="3619440"/>
              <a:ext cx="9588240" cy="76320"/>
              <a:chOff x="680400" y="3619440"/>
              <a:chExt cx="9588240" cy="76320"/>
            </a:xfrm>
          </p:grpSpPr>
          <p:sp>
            <p:nvSpPr>
              <p:cNvPr id="48" name="Line 3"/>
              <p:cNvSpPr/>
              <p:nvPr/>
            </p:nvSpPr>
            <p:spPr>
              <a:xfrm>
                <a:off x="680400" y="3695760"/>
                <a:ext cx="958824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4"/>
              <p:cNvSpPr/>
              <p:nvPr/>
            </p:nvSpPr>
            <p:spPr>
              <a:xfrm>
                <a:off x="680400" y="3619440"/>
                <a:ext cx="958824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3"/>
            <p:cNvSpPr/>
            <p:nvPr/>
          </p:nvSpPr>
          <p:spPr>
            <a:xfrm>
              <a:off x="685440" y="1523880"/>
              <a:ext cx="959976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97DB-94F9-4E65-A0F6-1756BD63A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9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D826-7A2D-44DD-A5F2-E407C1EB1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3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0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D61B-A4F3-484A-9B98-C51BA78A2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12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8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3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4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92C7-5458-4DAC-BDA5-5405E1110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dt" idx="15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2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6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7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DDA7-3EC2-4708-9910-479E91A88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dt" idx="18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7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9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20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AA49-0317-4F70-A636-53714ED43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dt" idx="21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1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2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C9A4-24A5-4C00-9300-150207BE4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dt" idx="24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6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5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6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CCB9-7FD7-4C91-9F9D-10FE09059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dt" idx="27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9001080" cy="1316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Kidney Stone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562200" y="3733920"/>
            <a:ext cx="3181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. Usman Gh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028"/>
          <p:cNvSpPr/>
          <p:nvPr/>
        </p:nvSpPr>
        <p:spPr>
          <a:xfrm>
            <a:off x="1812960" y="552600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030"/>
          <p:cNvSpPr/>
          <p:nvPr/>
        </p:nvSpPr>
        <p:spPr>
          <a:xfrm>
            <a:off x="622440" y="838080"/>
            <a:ext cx="2209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al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es of calcium salt st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ypercalci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urinary calcium ex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en: &gt; 7.5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Women &gt; 6.2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or 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be due to hypercalc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es the formation of calcium oxalates without hypercalci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iet rich in oxa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oxalate absorption in fat malabsor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imary 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ue to inbor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ary oxalate excretion: &gt; 400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6" descr="01_calcium_oxalate"/>
          <p:cNvPicPr/>
          <p:nvPr/>
        </p:nvPicPr>
        <p:blipFill>
          <a:blip r:embed="rId1"/>
          <a:stretch/>
        </p:blipFill>
        <p:spPr>
          <a:xfrm>
            <a:off x="647640" y="1447920"/>
            <a:ext cx="4496040" cy="2970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7"/>
          <p:cNvSpPr/>
          <p:nvPr/>
        </p:nvSpPr>
        <p:spPr>
          <a:xfrm>
            <a:off x="4365720" y="545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3293640" y="557532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lcium oxalate 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11" descr="Calcium oxalate"/>
          <p:cNvPicPr/>
          <p:nvPr/>
        </p:nvPicPr>
        <p:blipFill>
          <a:blip r:embed="rId2"/>
          <a:stretch/>
        </p:blipFill>
        <p:spPr>
          <a:xfrm>
            <a:off x="5143680" y="1447920"/>
            <a:ext cx="4495680" cy="297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 of primary causes such as infection, hypercalcemia, hyperoxal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xalat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cidific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 stones are formed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bout 8% of renal ston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conta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be associated with hyperuricemia (with or without gou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Small, friable, yellow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form stag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Radiolucent (plain x-rays cannot dete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Visualized by ultrasound or i.v. pyel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urin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02_uric_acid"/>
          <p:cNvPicPr/>
          <p:nvPr/>
        </p:nvPicPr>
        <p:blipFill>
          <a:blip r:embed="rId1"/>
          <a:stretch/>
        </p:blipFill>
        <p:spPr>
          <a:xfrm>
            <a:off x="495360" y="1752480"/>
            <a:ext cx="4495680" cy="2970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3"/>
          <p:cNvSpPr/>
          <p:nvPr/>
        </p:nvSpPr>
        <p:spPr>
          <a:xfrm>
            <a:off x="3941640" y="557532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ric acid 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Picture 4" descr="06_uric_acid"/>
          <p:cNvPicPr/>
          <p:nvPr/>
        </p:nvPicPr>
        <p:blipFill>
          <a:blip r:embed="rId2"/>
          <a:stretch/>
        </p:blipFill>
        <p:spPr>
          <a:xfrm>
            <a:off x="5295960" y="1752480"/>
            <a:ext cx="4495680" cy="29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  <a:ea typeface="Arial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bout 10% of all renal stones contain Mg amm.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so called struvite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ssociated with chronic urinary tract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icroorganisms (such as from Proteus genus) that metabolize urea into am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ing urine pH to become alkaline and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  <a:ea typeface="Arial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ommonly associated with staghorn calcu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75% of staghorn stones are of struvit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 of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e acid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993320" y="5562720"/>
            <a:ext cx="63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g ammonium phosphate (struvite) st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3" descr="08_struvite"/>
          <p:cNvPicPr/>
          <p:nvPr/>
        </p:nvPicPr>
        <p:blipFill>
          <a:blip r:embed="rId1"/>
          <a:stretch/>
        </p:blipFill>
        <p:spPr>
          <a:xfrm>
            <a:off x="1638360" y="762120"/>
            <a:ext cx="6705720" cy="44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verview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onditions causing kidney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ypes of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aboratory investig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ystine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 rare type of kidney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ue to homozygous cysti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Soluble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aint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Penicillamin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(binds to cysteine to form a compound more soluble than cyst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09_cystine"/>
          <p:cNvPicPr/>
          <p:nvPr/>
        </p:nvPicPr>
        <p:blipFill>
          <a:blip r:embed="rId1"/>
          <a:stretch/>
        </p:blipFill>
        <p:spPr>
          <a:xfrm>
            <a:off x="1790640" y="1066680"/>
            <a:ext cx="6296040" cy="41594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3951000" y="55753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ystine s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f stone has formed and remov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emical analysis of stone help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dentify the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dvise patient on prevention and future recur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If stone has not form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This type of investigation identifies causes that may contribute to stone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Serum calcium and uric aci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lysis: volume, calcium, oxalates and cystin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e pH &gt; 8 suggests urinary tract infection (Mg amm. P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ry tract imag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ltrasound and i.v. pye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What are kidney stones?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Renal calculi (kidney stones) are form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renal tubul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, ureter or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Composed of metabolic product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present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 in glomerular fil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These products are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high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 co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Near or above maximum solu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37880" y="1903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High conc. of metabolic products in glomerular fil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Changes in urine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ry stag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Deficiency of stone-forming inhibitors in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3788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igh conc. of metabolic products in glomerular filtrate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ow urinary volume (with normal renal function) due to restrict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loss from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excretion of metabolic products forming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igh plasma volume (high filtrate lev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ow tubular reabsorption from fil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3788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anges in urine pH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Bacterial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ecipitation of salts at different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ary stagnation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bstruction of urinary 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3788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eficiency of stone-forming inhibi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itrate, pyrophosphate, glycoprotein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inhibi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growth of calcium phosphate and calcium oxalate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 type I renal tubular acidosis, hypocitraturia leads to renal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69640" y="761760"/>
            <a:ext cx="7869240" cy="571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Types 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57480" y="1904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3200400" y="41911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3200400" y="44956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80% of kidney stones contain calc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he type of salt depend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e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vailability of oxa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White, hard,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staghor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in renal pelvis (lar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oxalate: presen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uret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(sm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23:32:10Z</dcterms:created>
  <dc:creator>Usman Ghani</dc:creator>
  <dc:description/>
  <dc:language>en-US</dc:language>
  <cp:lastModifiedBy>ma100914</cp:lastModifiedBy>
  <dcterms:modified xsi:type="dcterms:W3CDTF">2015-04-26T08:02:12Z</dcterms:modified>
  <cp:revision>190</cp:revision>
  <dc:subject/>
  <dc:title>[Project Name] Post-Mortem</dc:title>
</cp:coreProperties>
</file>