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A13DE-3132-42EE-A9A1-0CE07990B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85130-7A2D-43C2-BD88-CD88046F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8DA127-8FCF-4974-8052-4B5DC661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3D4C1C-6AF3-425D-AEC3-FB8CDA2B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337392-921D-46B3-A817-BA9083C5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014A06-3340-49E5-B128-9A399E95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815396-A74D-422E-8955-663F0BD5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42A399-E781-41B6-BED6-27745E00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215236-D81E-47FA-BABF-B3D8E0DE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C988BA-1644-4D95-87FD-B84C14D7A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4C60D5-F4EF-45C9-A416-A443B57F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79760D-B28E-4F02-9049-5EA66777D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72320-0D3E-4238-87B7-613D5B32F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2D8865-5785-46AD-AC59-471208E8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9A43A7-0727-4DFD-AA32-18A8CBCB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7293D4-B999-4C75-9A86-4A931F01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8CF042-26F6-4BCC-AEA3-40B5D1FF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B3EA48-814A-4C0E-AA1F-B83A38D8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130088-95A1-4C11-B4CC-9EC27CFF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3472AF-0DAE-4BA4-AFBA-B1C644E7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5539BC-7220-4865-9B16-2E35DFCF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022883-0143-4478-A2B3-6B97C70B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7747E9-8668-481E-A272-7F7136E91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EB5BA-EC94-4976-AF5C-E61A3077B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C33809-1485-4CF8-92D7-86F74F244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3F3299D-10A7-49B5-ADD9-6F58FACD7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320D26-D865-44F5-8B02-780C5740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3EAE38-F5EF-4E2D-B5BC-AFC37BCC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B2AC5C-B942-4205-A4B3-8BE8BC87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75BC562-5652-4966-8F76-F66BBF9A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A27B2C-37F4-4FB6-A08E-440B2FDE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FEC57FF-13E3-4E05-95BE-F7E15B9D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3E1913-1CDC-4387-89AD-385ABEEB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6718CFA-0800-4A4E-808E-8A768BEB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66D8A-FD45-4EF4-8170-75EE1B51F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2601A23-D567-42B4-B529-8348A1A4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B7BE44-17ED-4F88-8200-D823BCF5F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8CC81B-95E0-4FF3-A89B-24A4D2CA3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3A4C57-9C5B-444A-B264-ACDC2B30F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313DAD-0A8A-4F35-B916-547C8420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E7723E-6494-4FCE-A7F3-8E3AF037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25A80C0-6B6B-4268-A597-EFC6249C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0A7B8EA-1F1E-43CE-B4B6-5EB5668B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E4531BB-87F0-4BF1-A425-49C50100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DE449F3-4CBE-4E4E-ACBC-B97CAFE8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C874F-1944-4DC7-B215-66DBA025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65C0223-1637-4F1D-9008-4B52C152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2E20339-78C7-4045-AE81-D658B152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A23AF95-F252-44F6-9302-C91134E2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3F756E3-5843-4965-9419-5BAACFC05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D6297AC-E673-44C7-8EBF-6B95B407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73BEF1-518C-4B14-ABA6-13CA4CF1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6A2CC2-C16C-48C8-A9E8-83D21307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32E4D7-2EE9-473C-A860-5B025D6B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99DC74-8DA0-40F3-91A8-AE9003E6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09FDDB-FD2B-4880-BA4A-C9658360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F6B28-DB38-4928-A973-F2332412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6424E9-6CAB-4279-AE1F-7B76B27F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B9E257-3477-42F6-A77A-AD3932AD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CABC25-749D-4C33-BB84-18639CB7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A6CF8D-2648-4F8C-BA46-3F03CC76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A49CDC-D37A-4B38-BAC4-443FDDD0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71ED86-B84D-4BAC-A9EF-69C0184C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CBFFE6-E797-47A0-B5C6-E856A4BEF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59D46-F9E7-4AD2-B1C2-B3B2EB3D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28859-03FF-4A3D-B0DE-353545F3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CC655-94AB-4C1C-B86B-81E7AB54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24527-6AA2-42C7-8BA7-DD413F32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89F36-3F3B-451F-A89A-2B525235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7C77F-89E6-40D3-B57E-7413E303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131CC-4761-4791-A56E-4A872225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CED9F-36F6-4D46-8990-1A22517A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17AF5-1348-4265-BAD6-3E14060E1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2DD77-6F65-4143-979B-70CB32483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7BBA35-30BF-4225-A1D8-406FD5CC5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73649B-96B3-4783-A496-5D6011DC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BF3B50-9C3D-4841-99C4-990B5A67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731138-94AE-48EF-B0E8-AEFAE914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EED66A-386F-40E2-A38E-50D4D0A0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92766-0CD2-4D62-874D-4E68461A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89FEC2-3676-4AB9-8F93-62E9CEA5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A1820F-4154-427E-AD9C-21987A88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E5A0EE-2D68-45D1-9BBE-B50927E5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75D2C6-90E8-466E-BFBA-247AEBB0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26D40E-59FB-4C96-8EF5-335DC945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A6D600-1EEF-4AD8-9E01-51815C50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2AD30D-BEF2-40B1-AE02-DFDB26766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585CA0-3F39-4981-A98F-F57580C49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DF2468-1B2E-475E-BFE1-80D13ADA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446BDB-A71C-4EA7-8498-652D1442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4A05A-FFF7-4ABC-BF7C-ABF01A20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DAE3D8-4EE1-4D92-A88A-1062D7EE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433F9F-EE6B-4E1D-A08B-45A32ABA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E5F071-42E7-4F96-A64B-074BAFDF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ED002E-5905-47A9-9C29-0C96D59E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0AC2AD-F518-427A-AE40-AF87DD3B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17FB66-05E1-4A69-AB9A-4A4A5F96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3F2DE0-703C-4FF9-8222-7AB729C7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78BDA0-56EB-4A16-B879-D451097B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36C222-9ACA-4DC7-A9DA-67C0C7736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2A8DDD-F2A5-4A34-A256-D2116318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E8667-C886-410E-837A-B58030BF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E295AA-F922-4181-A0C6-8655E03A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26D439-1360-49BF-98C3-4248627C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CE0E42-4C36-47F4-BDE1-B9F8B397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8FE9DE-113C-45F5-B7E8-4D8348F8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D387F9-C4AE-4683-8B62-3D8AFCD5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33150B-CA30-4BF7-97EA-65AEA3B8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BEC65F-29A4-407A-8A62-95A1B9F9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59AF9C-97EC-469F-9640-E5F3E7BB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424705-C0F5-4F3F-9A35-01C9A2FA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80E4FB-DEBE-4E15-A4DD-03D4F99A7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A1A25-0918-4690-8DB6-DC217FDC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910290-C14A-4666-9431-4256B5DC4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88801E-7F33-4498-B8FD-BCC6A31E4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2FA52C-C332-43D9-A764-02B29B71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30F212-2541-4A67-953D-267DEC1F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1DD276-3FB0-4C42-87E3-7F5224DB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089110-AA95-4C2A-89E3-9DD9E1F2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2036AF-9B40-4B41-8010-84776E52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720A56-4818-44E0-9780-17F18884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B72023-17EE-4015-8A39-66506A5E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73929D-13A2-421B-BC1A-72B4863A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D9DC8-6BEF-4CEA-B2E4-68F3389A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4CD824-1973-4335-9009-A1192CCF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022172-D405-4637-95C2-2440C95B6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03BC61-24F8-4BDC-B519-065E739AB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350FA9-387B-40E9-A3EF-29A35C964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40D33C-F30E-47BA-8675-1FAE4327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D961C8-D752-4279-849C-EE691869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4949B5-0279-4697-ACA8-FC69DE7B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5CF7D0-08AF-49CF-804D-ED0CCFA7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A20B76-7B76-4A65-81A4-F25D2336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C857E8-AE0F-4632-A76E-FC246337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D3091-7FB2-4C55-AC41-DA9EB182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6A44FE-EBB2-4F4D-9486-83E8F093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C3C197-661E-4058-90D5-B926794A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7D0E09-AE3B-4C42-A768-54EF2892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7414C6-F920-4EA4-A86C-B07AF38E4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B3C765-C90B-49ED-90EF-68779E28E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C5ED45-D8C7-460F-B3F2-DE70792DB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417072-ABAC-4A23-BCCC-29EF6DF0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5E2B70-D7D0-4618-8E9C-5661B939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8CB984-AD4F-4651-9305-CB43EBAC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10763E-12B9-4975-B46B-BA8AFC06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C7775-62C5-4180-8E40-C1542EDF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664920" y="266400"/>
            <a:ext cx="93646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D3A618-BDF0-4EEE-8619-0B453114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D461F3-2A50-4650-92CE-0FECED84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F0D5A7-61AB-4930-AFB1-611A46F7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3A6967-5617-488E-BC58-2E1311FB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1285560" y="4079160"/>
            <a:ext cx="874404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D141FD-EA05-40D8-BF38-01C2F14E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766480" y="179028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28556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766480" y="4079160"/>
            <a:ext cx="426708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36F800-5863-4E2A-BBB7-06D2619FC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24188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7198200" y="179028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128556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424188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7198200" y="4079160"/>
            <a:ext cx="28152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875BDC-143E-44C0-BFB9-42D5900D9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D556E1-2C79-4B47-98C7-E1D61BEA5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721DEA-9CE5-453C-90FE-54A38C97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C07816-525D-4972-AEC7-25124214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2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E38A-A7F7-4C03-9534-35574EC44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8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409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ftr" idx="28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sldNum" idx="29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9D52-D511-4005-A323-A952D93DE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dt" idx="30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3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454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ftr" idx="31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sldNum" idx="32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8452-CFB1-4560-98B0-1B79AF501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dt" idx="33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8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499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ftr" idx="34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sldNum" idx="35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C6F8-32F1-48A9-96BE-896B77FA3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dt" idx="36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3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544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ftr" idx="37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sldNum" idx="38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2559-62F2-4E27-92B0-B34B297186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dt" idx="39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0" y="0"/>
            <a:ext cx="10285200" cy="6858000"/>
            <a:chOff x="0" y="0"/>
            <a:chExt cx="10285200" cy="6858000"/>
          </a:xfrm>
        </p:grpSpPr>
        <p:sp>
          <p:nvSpPr>
            <p:cNvPr id="46" name="Rectangle 2"/>
            <p:cNvSpPr/>
            <p:nvPr/>
          </p:nvSpPr>
          <p:spPr>
            <a:xfrm>
              <a:off x="0" y="0"/>
              <a:ext cx="162504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Group 12"/>
            <p:cNvGrpSpPr/>
            <p:nvPr/>
          </p:nvGrpSpPr>
          <p:grpSpPr>
            <a:xfrm>
              <a:off x="680400" y="3619440"/>
              <a:ext cx="9588240" cy="76320"/>
              <a:chOff x="680400" y="3619440"/>
              <a:chExt cx="9588240" cy="76320"/>
            </a:xfrm>
          </p:grpSpPr>
          <p:sp>
            <p:nvSpPr>
              <p:cNvPr id="48" name="Line 3"/>
              <p:cNvSpPr/>
              <p:nvPr/>
            </p:nvSpPr>
            <p:spPr>
              <a:xfrm>
                <a:off x="680400" y="3695760"/>
                <a:ext cx="958824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Line 4"/>
              <p:cNvSpPr/>
              <p:nvPr/>
            </p:nvSpPr>
            <p:spPr>
              <a:xfrm>
                <a:off x="680400" y="3619440"/>
                <a:ext cx="958824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Rectangle 13"/>
            <p:cNvSpPr/>
            <p:nvPr/>
          </p:nvSpPr>
          <p:spPr>
            <a:xfrm>
              <a:off x="685440" y="1523880"/>
              <a:ext cx="9599760" cy="609840"/>
            </a:xfrm>
            <a:prstGeom prst="rect">
              <a:avLst/>
            </a:prstGeom>
            <a:gradFill rotWithShape="0">
              <a:gsLst>
                <a:gs pos="0">
                  <a:srgbClr val="3366cc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80CA-02D9-4762-8409-796C041DF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94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7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8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1E42-A7E8-4FD1-A2FC-F26F29E26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dt" idx="9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139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10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D0E1-93E9-4AFC-B815-561D64ABC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dt" idx="12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184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13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14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1A53-5144-4324-AEA7-58150E170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dt" idx="15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229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6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sldNum" idx="17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8FB1-3FAD-4B51-B575-24D2B6466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dt" idx="18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3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274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ftr" idx="19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sldNum" idx="20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638D-571C-4EAC-8AB1-AE4F458BE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dt" idx="21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319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ftr" idx="22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23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8B1D-217F-4D9C-A5BC-A7C04AE68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dt" idx="24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0" y="0"/>
            <a:ext cx="16272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3" name="Group 5"/>
          <p:cNvGrpSpPr/>
          <p:nvPr/>
        </p:nvGrpSpPr>
        <p:grpSpPr>
          <a:xfrm>
            <a:off x="698400" y="1447920"/>
            <a:ext cx="9588240" cy="75960"/>
            <a:chOff x="698400" y="1447920"/>
            <a:chExt cx="9588240" cy="75960"/>
          </a:xfrm>
        </p:grpSpPr>
        <p:sp>
          <p:nvSpPr>
            <p:cNvPr id="364" name="Line 3"/>
            <p:cNvSpPr/>
            <p:nvPr/>
          </p:nvSpPr>
          <p:spPr>
            <a:xfrm>
              <a:off x="698400" y="1523880"/>
              <a:ext cx="958824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4"/>
            <p:cNvSpPr/>
            <p:nvPr/>
          </p:nvSpPr>
          <p:spPr>
            <a:xfrm>
              <a:off x="698400" y="1447920"/>
              <a:ext cx="958824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64920" y="266400"/>
            <a:ext cx="9364680" cy="1104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1285560" y="1790280"/>
            <a:ext cx="87440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25"/>
          </p:nvPr>
        </p:nvSpPr>
        <p:spPr>
          <a:xfrm>
            <a:off x="368568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sldNum" idx="26"/>
          </p:nvPr>
        </p:nvSpPr>
        <p:spPr>
          <a:xfrm>
            <a:off x="788652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31C9-DE9E-4586-AA19-B274B8DEC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dt" idx="27"/>
          </p:nvPr>
        </p:nvSpPr>
        <p:spPr>
          <a:xfrm>
            <a:off x="-36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440" y="1143000"/>
            <a:ext cx="9001080" cy="13161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aramond"/>
              </a:rPr>
              <a:t>Kidney Stones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3562200" y="3733920"/>
            <a:ext cx="31816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r. Usman Gha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 Box 1028"/>
          <p:cNvSpPr/>
          <p:nvPr/>
        </p:nvSpPr>
        <p:spPr>
          <a:xfrm>
            <a:off x="1812960" y="5526000"/>
            <a:ext cx="176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Rectangle 1030"/>
          <p:cNvSpPr/>
          <p:nvPr/>
        </p:nvSpPr>
        <p:spPr>
          <a:xfrm>
            <a:off x="622440" y="838080"/>
            <a:ext cx="2209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nal Bl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Calcium salt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4264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auses of calcium salt ston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Hypercalciur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ncreased urinary calcium excre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Men: &gt; 7.5 mmols/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Women &gt; 6.2 mmols/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May or ma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  <a:ea typeface="Arial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 be due to hypercalce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Calcium salt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14264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Hyperoxalur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auses the formation of calcium oxalates without hypercalciu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Diet rich in oxal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ncreased oxalate absorption in fat malabsor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Primary hyperoxalur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Due to inborn err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Urinary oxalate excretion: &gt; 400 mmols/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6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6" descr="01_calcium_oxalate"/>
          <p:cNvPicPr/>
          <p:nvPr/>
        </p:nvPicPr>
        <p:blipFill>
          <a:blip r:embed="rId1"/>
          <a:stretch/>
        </p:blipFill>
        <p:spPr>
          <a:xfrm>
            <a:off x="647640" y="1447920"/>
            <a:ext cx="4496040" cy="297000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7"/>
          <p:cNvSpPr/>
          <p:nvPr/>
        </p:nvSpPr>
        <p:spPr>
          <a:xfrm>
            <a:off x="4365720" y="5450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 Box 10"/>
          <p:cNvSpPr/>
          <p:nvPr/>
        </p:nvSpPr>
        <p:spPr>
          <a:xfrm>
            <a:off x="3293640" y="5575320"/>
            <a:ext cx="34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alcium oxalate st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6" name="Picture 11" descr="Calcium oxalate"/>
          <p:cNvPicPr/>
          <p:nvPr/>
        </p:nvPicPr>
        <p:blipFill>
          <a:blip r:embed="rId2"/>
          <a:stretch/>
        </p:blipFill>
        <p:spPr>
          <a:xfrm>
            <a:off x="5143680" y="1447920"/>
            <a:ext cx="4495680" cy="2970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Calcium salt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Treatment of primary causes such as infection, hypercalcemia, hyperoxalu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Oxalate-restricted di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ncreased fluid int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Acidification of urine (by dietary chang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alcium salt stones are formed in alkaline u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Uric acid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About 8% of renal ston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  <a:ea typeface="Arial"/>
              </a:rPr>
              <a:t>contai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 uric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May be associated with hyperuricemia (with or without gout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Form in acidic u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General appearanc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Small, friable, yellow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May form stagho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Radiolucent (plain x-rays cannot detec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Visualized by ultrasound or i.v. pyel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6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6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6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Uric acid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Purine-restricted di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Alkalinization of urine (by dietary chang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ncreased fluid int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2" descr="02_uric_acid"/>
          <p:cNvPicPr/>
          <p:nvPr/>
        </p:nvPicPr>
        <p:blipFill>
          <a:blip r:embed="rId1"/>
          <a:stretch/>
        </p:blipFill>
        <p:spPr>
          <a:xfrm>
            <a:off x="495360" y="1752480"/>
            <a:ext cx="4495680" cy="297036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3"/>
          <p:cNvSpPr/>
          <p:nvPr/>
        </p:nvSpPr>
        <p:spPr>
          <a:xfrm>
            <a:off x="3941640" y="5575320"/>
            <a:ext cx="24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ric acid st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5" name="Picture 4" descr="06_uric_acid"/>
          <p:cNvPicPr/>
          <p:nvPr/>
        </p:nvPicPr>
        <p:blipFill>
          <a:blip r:embed="rId2"/>
          <a:stretch/>
        </p:blipFill>
        <p:spPr>
          <a:xfrm>
            <a:off x="5295960" y="1752480"/>
            <a:ext cx="4495680" cy="297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Mg ammonium PO</a:t>
            </a:r>
            <a:r>
              <a:rPr b="1" lang="en-US" sz="3500" spc="-1" strike="noStrike" baseline="-25000">
                <a:solidFill>
                  <a:srgbClr val="ffcc66"/>
                </a:solidFill>
                <a:latin typeface="Garamond"/>
                <a:ea typeface="Arial"/>
              </a:rPr>
              <a:t>4</a:t>
            </a: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About 10% of all renal stones contain Mg amm. 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  <a:ea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Also called struvite kidney st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Associated with chronic urinary tract inf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Microorganisms (such as from Proteus genus) that metabolize urea into ammo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ausing urine pH to become alkaline and stone 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Mg ammonium PO</a:t>
            </a:r>
            <a:r>
              <a:rPr b="1" lang="en-US" sz="3500" spc="-1" strike="noStrike" baseline="-25000">
                <a:solidFill>
                  <a:srgbClr val="ffcc66"/>
                </a:solidFill>
                <a:latin typeface="Garamond"/>
                <a:ea typeface="Arial"/>
              </a:rPr>
              <a:t>4</a:t>
            </a: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ommonly associated with staghorn calcu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75% of staghorn stones are of struvite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Treatment of inf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Urine acid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ncreased fluid int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2"/>
          <p:cNvSpPr/>
          <p:nvPr/>
        </p:nvSpPr>
        <p:spPr>
          <a:xfrm>
            <a:off x="1993320" y="5562720"/>
            <a:ext cx="63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g ammonium phosphate (struvite) sto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1" name="Picture 3" descr="08_struvite"/>
          <p:cNvPicPr/>
          <p:nvPr/>
        </p:nvPicPr>
        <p:blipFill>
          <a:blip r:embed="rId1"/>
          <a:stretch/>
        </p:blipFill>
        <p:spPr>
          <a:xfrm>
            <a:off x="1638360" y="762120"/>
            <a:ext cx="6705720" cy="4430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50760" y="515520"/>
            <a:ext cx="8304480" cy="685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Overview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onditions causing kidney stone 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Types of kidney st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alcium sa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Uric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Mg ammonium 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  <a:ea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yst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Other (xanthine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Laboratory investig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Cystine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A rare type of kidney st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Due to homozygous cystinu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Form in acidic u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Soluble in alkaline u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Faint radio-opa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Treat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ncreased fluid int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Alkalinization of urine (by dietary chang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  <a:ea typeface="Arial"/>
              </a:rPr>
              <a:t>Penicillamin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 (binds to cysteine to form a compound more soluble than cysti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6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6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6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6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2" descr="09_cystine"/>
          <p:cNvPicPr/>
          <p:nvPr/>
        </p:nvPicPr>
        <p:blipFill>
          <a:blip r:embed="rId1"/>
          <a:stretch/>
        </p:blipFill>
        <p:spPr>
          <a:xfrm>
            <a:off x="1790640" y="1066680"/>
            <a:ext cx="6296040" cy="415944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3"/>
          <p:cNvSpPr/>
          <p:nvPr/>
        </p:nvSpPr>
        <p:spPr>
          <a:xfrm>
            <a:off x="3951000" y="55753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ystine st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Laboratory investigations</a:t>
            </a:r>
            <a:br>
              <a:rPr sz="3500"/>
            </a:b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of kidney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f stone has formed and remov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hemical analysis of stone helps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dentify the ca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Advise patient on prevention and future recur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6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Laboratory investigations</a:t>
            </a:r>
            <a:br>
              <a:rPr sz="3500"/>
            </a:b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of kidney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142640" y="13712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If stone has not form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This type of investigation identifies causes that may contribute to stone 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Serum calcium and uric acid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Urinalysis: volume, calcium, oxalates and cystine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Urine pH &gt; 8 suggests urinary tract infection (Mg amm. P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 Antiqua"/>
                <a:ea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Urinary tract imag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Ultrasound and i.v. pyel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6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6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6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50760" y="515520"/>
            <a:ext cx="8304480" cy="6858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What are kidney stones?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83822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Renal calculi (kidney stones) are formed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ook Antiqua"/>
                <a:ea typeface="Arial"/>
              </a:rPr>
              <a:t>renal tubules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, ureter or blad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Composed of metabolic product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ook Antiqua"/>
                <a:ea typeface="Arial"/>
              </a:rPr>
              <a:t>present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 in glomerular filt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These products are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Book Antiqua"/>
                <a:ea typeface="Arial"/>
              </a:rPr>
              <a:t>high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 con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Near or above maximum solubili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Conditions causing</a:t>
            </a:r>
            <a:br>
              <a:rPr sz="3500"/>
            </a:b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kidney stone formation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037880" y="19033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High conc. of metabolic products in glomerular filt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Changes in urine 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Urinary stag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Arial"/>
              </a:rPr>
              <a:t>Deficiency of stone-forming inhibitors in ur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Conditions causing</a:t>
            </a:r>
            <a:br>
              <a:rPr sz="3500"/>
            </a:b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kidney stone formation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037880" y="14479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High conc. of metabolic products in glomerular filtrate is due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Low urinary volume (with normal renal function) due to restricted fluid int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ncreased fluid loss from the bo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ncreased excretion of metabolic products forming st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High plasma volume (high filtrate lev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Low tubular reabsorption from filt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Conditions causing</a:t>
            </a:r>
            <a:br>
              <a:rPr sz="3500"/>
            </a:b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kidney stone formation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03788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hanges in urine pH due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Bacterial inf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Precipitation of salts at different 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Urinary stagnation is due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Obstruction of urinary flo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Conditions causing</a:t>
            </a:r>
            <a:br>
              <a:rPr sz="3500"/>
            </a:b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kidney stone formation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3788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Deficiency of stone-forming inhibito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itrate, pyrophosphate, glycoprotein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  <a:ea typeface="Arial"/>
              </a:rPr>
              <a:t>inhibit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 growth of calcium phosphate and calcium oxalate cryst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In type I renal tubular acidosis, hypocitraturia leads to renal st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69640" y="761760"/>
            <a:ext cx="7869240" cy="571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Types of kidney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57480" y="1904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alcium sa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Uric ac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Mg ammonium 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  <a:ea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yst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Other (xanthine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Rectangle 4"/>
          <p:cNvSpPr/>
          <p:nvPr/>
        </p:nvSpPr>
        <p:spPr>
          <a:xfrm>
            <a:off x="3200400" y="4191120"/>
            <a:ext cx="6019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3200400" y="4495680"/>
            <a:ext cx="5943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869240" cy="762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3366">
                <a:alpha val="7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cc66"/>
                </a:solidFill>
                <a:latin typeface="Garamond"/>
                <a:ea typeface="Arial"/>
              </a:rPr>
              <a:t>Calcium salt stones</a:t>
            </a:r>
            <a:endParaRPr b="0" lang="en-US" sz="35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80% of kidney stones contain calc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The type of salt depends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Urine 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Availability of oxal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General appearanc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White, hard, radio-opa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alcium 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  <a:ea typeface="Arial"/>
              </a:rPr>
              <a:t>4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: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  <a:ea typeface="Arial"/>
              </a:rPr>
              <a:t>staghor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 in renal pelvis (lar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Calcium oxalate: present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  <a:ea typeface="Arial"/>
              </a:rPr>
              <a:t>ureter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 (sma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2T23:32:10Z</dcterms:created>
  <dc:creator>Usman Ghani</dc:creator>
  <dc:description/>
  <dc:language>en-US</dc:language>
  <cp:lastModifiedBy>ma100914</cp:lastModifiedBy>
  <dcterms:modified xsi:type="dcterms:W3CDTF">2015-04-26T08:02:12Z</dcterms:modified>
  <cp:revision>190</cp:revision>
  <dc:subject/>
  <dc:title>[Project Name] Post-Mortem</dc:title>
</cp:coreProperties>
</file>