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DF8-96CC-4A3F-8A4E-4E3480CB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EEA-3562-4826-AA61-F9360F7D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CD6-2BFB-4E35-B95A-5CFCA699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5F16-59F1-4FE1-BDF7-865AB8B9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275-AA33-4537-9E20-5D7EA444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6AB1-E972-4A5F-B1A1-6C32D808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AB7-DD0A-4D9A-B438-5C4B1419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39D-DB4B-41D5-A235-30BC55B6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5D3-072F-4D35-ADA6-0AA28F2E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B82-4826-4E28-A7C2-E7F416DD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BC57-1AF2-413E-8CD0-3FF262B5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73E-0BE9-4AD5-9056-927B32FF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60C4-CBF5-4A0F-849B-07A02EA3981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Develop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the urinary bladd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urethra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Bradley Hand ITC"/>
              </a:rPr>
              <a:t>Dr. Sanaa  Alsharawi / Dr. Essam Salama</a:t>
            </a:r>
            <a:r>
              <a:rPr b="1" lang="en-US" sz="2700" spc="-1" strike="noStrike">
                <a:solidFill>
                  <a:srgbClr val="ff0000"/>
                </a:solidFill>
                <a:latin typeface="Bradley Hand ITC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5384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emale Ureth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3538440" cy="52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male ureth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rived from endoderm of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elvi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 sin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rnal urethral orifice opens dorsal to the glans clito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5" descr="genitalia.jpg"/>
          <p:cNvPicPr/>
          <p:nvPr/>
        </p:nvPicPr>
        <p:blipFill>
          <a:blip r:embed="rId1"/>
          <a:stretch/>
        </p:blipFill>
        <p:spPr>
          <a:xfrm>
            <a:off x="4965840" y="981000"/>
            <a:ext cx="3638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467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ale Ureth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10080" cy="469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ital tubercle elongates forming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ll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the precursor of the pen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le urethra prostatic, membranous and spongy parts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ived from endoderm of th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elv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l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s of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l (terminal) par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male urethra in glans penis starts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ctodermal solid cor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grows towards the root of pens to meet the spongy urethra , later it canalizes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rcRect l="1255" t="2240" r="1255" b="5823"/>
          <a:stretch/>
        </p:blipFill>
        <p:spPr>
          <a:xfrm>
            <a:off x="4788000" y="3438360"/>
            <a:ext cx="4184640" cy="3159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rcRect l="1039" t="2678" r="1039" b="5081"/>
          <a:stretch/>
        </p:blipFill>
        <p:spPr>
          <a:xfrm>
            <a:off x="4692600" y="333360"/>
            <a:ext cx="4343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Anomalies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600200"/>
            <a:ext cx="8218440" cy="38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chal anoma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ethral Anomal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strophy of the bladder (Ectopiae vesica); exposure of the posterior wall of the bladder due to a defect in the anterior abdominal wall and anterior wall  of the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rachal anoma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898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, Urachal cy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tence or remna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pithel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ing of urach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chal sinu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cha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ous fluid from the umbli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, Urachal fistula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re urachus remains patent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ine to escape from the umbili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4" descr="27B4F603"/>
          <p:cNvPicPr/>
          <p:nvPr/>
        </p:nvPicPr>
        <p:blipFill>
          <a:blip r:embed="rId1"/>
          <a:srcRect l="43172" t="11649" r="27629" b="22223"/>
          <a:stretch/>
        </p:blipFill>
        <p:spPr>
          <a:xfrm>
            <a:off x="4932360" y="190440"/>
            <a:ext cx="3889440" cy="640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Oval 6"/>
          <p:cNvSpPr/>
          <p:nvPr/>
        </p:nvSpPr>
        <p:spPr>
          <a:xfrm>
            <a:off x="5867280" y="907920"/>
            <a:ext cx="79236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5435640" y="549360"/>
            <a:ext cx="720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5003640" y="3141720"/>
            <a:ext cx="93672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5003640" y="5013360"/>
            <a:ext cx="936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0024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Urethral Anoma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368316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Hypospadiu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most common anomaly, with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comple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sion of the urethral folds, and abnormal openings of the urethra occur along the ventral (inferior) aspect of the pen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Epispadiu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rare abnormality, in which the urethral meatus is found on the dorsum of penis, it is most often associated with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strophy of the blad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Documents and Settings\EssamEldin\Desktop\emb urinary and urethra\imagesCAOS18AR.jpg"/>
          <p:cNvPicPr/>
          <p:nvPr/>
        </p:nvPicPr>
        <p:blipFill>
          <a:blip r:embed="rId1"/>
          <a:stretch/>
        </p:blipFill>
        <p:spPr>
          <a:xfrm>
            <a:off x="4572000" y="1052640"/>
            <a:ext cx="4086360" cy="32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6" descr="F2FD6340"/>
          <p:cNvPicPr/>
          <p:nvPr/>
        </p:nvPicPr>
        <p:blipFill>
          <a:blip r:embed="rId2"/>
          <a:srcRect l="13603" t="42522" r="57283" b="29769"/>
          <a:stretch/>
        </p:blipFill>
        <p:spPr>
          <a:xfrm>
            <a:off x="4932360" y="4437000"/>
            <a:ext cx="316692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800" spc="-1" strike="noStrike">
                <a:solidFill>
                  <a:srgbClr val="ff0000"/>
                </a:solidFill>
                <a:latin typeface="Forte"/>
              </a:rPr>
              <a:t>Thank you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end of the lecture the student is able to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cloaca and the formation of th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ogenital sinus.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division of the urogenital sinus into various parts and name the adult organs that are derived from each par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e caudal parts of the mesonephric ducts and ureters are absorbed into the urogenital sinus and the significance of this embryonic event.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position of the urachus and its significance and f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various anomalies concerned with the urinary bladder and ureth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683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loaca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6003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oaca is the dilated terminal part of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nd gu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receives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nto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loor is closed by the cloaca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2" descr="C:\Documents and Settings\EssamEldin\Desktop\emb urinary and urethra\Kidney.jpg"/>
          <p:cNvPicPr/>
          <p:nvPr/>
        </p:nvPicPr>
        <p:blipFill>
          <a:blip r:embed="rId1"/>
          <a:stretch/>
        </p:blipFill>
        <p:spPr>
          <a:xfrm>
            <a:off x="3989520" y="1341360"/>
            <a:ext cx="5037120" cy="3888000"/>
          </a:xfrm>
          <a:prstGeom prst="rect">
            <a:avLst/>
          </a:prstGeom>
          <a:ln w="0">
            <a:noFill/>
          </a:ln>
        </p:spPr>
      </p:pic>
      <p:sp>
        <p:nvSpPr>
          <p:cNvPr id="48" name="Oval 4"/>
          <p:cNvSpPr/>
          <p:nvPr/>
        </p:nvSpPr>
        <p:spPr>
          <a:xfrm>
            <a:off x="3995640" y="4149720"/>
            <a:ext cx="576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995640" y="3860640"/>
            <a:ext cx="64764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5580000" y="4437000"/>
            <a:ext cx="863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6360" y="404280"/>
            <a:ext cx="300852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oaca, con. 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3744720" cy="564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sodermal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rectal septum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vi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loaca and the cloacal membrane in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al p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itive urogenital sinus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mmunicates with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nto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loor is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rsal p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orectal ca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forms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t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upper part o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l can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loor is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l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6ABD1CE8"/>
          <p:cNvPicPr/>
          <p:nvPr/>
        </p:nvPicPr>
        <p:blipFill>
          <a:blip r:embed="rId1"/>
          <a:srcRect l="20246" t="34687" r="41604" b="38631"/>
          <a:stretch/>
        </p:blipFill>
        <p:spPr>
          <a:xfrm>
            <a:off x="4140360" y="1484280"/>
            <a:ext cx="495108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TextBox 4"/>
          <p:cNvSpPr/>
          <p:nvPr/>
        </p:nvSpPr>
        <p:spPr>
          <a:xfrm>
            <a:off x="5796000" y="3500280"/>
            <a:ext cx="576360" cy="462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11640" y="2637000"/>
            <a:ext cx="57636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443640" y="3573360"/>
            <a:ext cx="576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51944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rimitive urogenital sin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4033800" cy="469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ivided into three part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nial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sical 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forms most of the bladder and continuous with the allanto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lvic 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forms main part of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le ureth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entir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male ureth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dal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llic pa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s towards genital tubercle and shares in the formation of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le ureth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2610BC6D"/>
          <p:cNvPicPr/>
          <p:nvPr/>
        </p:nvPicPr>
        <p:blipFill>
          <a:blip r:embed="rId1"/>
          <a:srcRect l="7974" t="29367" r="44147" b="53110"/>
          <a:stretch/>
        </p:blipFill>
        <p:spPr>
          <a:xfrm>
            <a:off x="4500720" y="1484280"/>
            <a:ext cx="446400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Oval 4"/>
          <p:cNvSpPr/>
          <p:nvPr/>
        </p:nvSpPr>
        <p:spPr>
          <a:xfrm>
            <a:off x="7093080" y="2205000"/>
            <a:ext cx="7189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7020000" y="3213000"/>
            <a:ext cx="720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7020000" y="3500280"/>
            <a:ext cx="647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885080" y="2924280"/>
            <a:ext cx="1008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3308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rinary bladd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827520" cy="494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velops mainly 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sical pa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urogenital sin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g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rived from the absorb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s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pithelium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oder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origin, of th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rogenital sinu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ther layers are derived 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lanchinic mesoder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스캔0053"/>
          <p:cNvPicPr/>
          <p:nvPr/>
        </p:nvPicPr>
        <p:blipFill>
          <a:blip r:embed="rId1"/>
          <a:srcRect l="0" t="0" r="3865" b="0"/>
          <a:stretch/>
        </p:blipFill>
        <p:spPr>
          <a:xfrm>
            <a:off x="4643280" y="3789360"/>
            <a:ext cx="4284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6" descr="2610BC6D"/>
          <p:cNvPicPr/>
          <p:nvPr/>
        </p:nvPicPr>
        <p:blipFill>
          <a:blip r:embed="rId2"/>
          <a:srcRect l="7974" t="28938" r="44996" b="53110"/>
          <a:stretch/>
        </p:blipFill>
        <p:spPr>
          <a:xfrm>
            <a:off x="4716360" y="1413000"/>
            <a:ext cx="396108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Oval 5"/>
          <p:cNvSpPr/>
          <p:nvPr/>
        </p:nvSpPr>
        <p:spPr>
          <a:xfrm>
            <a:off x="7524720" y="5157720"/>
            <a:ext cx="1368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7"/>
          <p:cNvSpPr/>
          <p:nvPr/>
        </p:nvSpPr>
        <p:spPr>
          <a:xfrm>
            <a:off x="7020000" y="2205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691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Urinary bladder, con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33080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llanto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t fist continues with the bladder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it becomes a thick fibrous cor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ach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extends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bladder to the umbilicu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ult it is represented by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an umblical liga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bsorption of the mesonephric ducts to form the trigon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ete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eparately in the bladd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스캔0053"/>
          <p:cNvPicPr/>
          <p:nvPr/>
        </p:nvPicPr>
        <p:blipFill>
          <a:blip r:embed="rId1"/>
          <a:srcRect l="0" t="0" r="4438" b="0"/>
          <a:stretch/>
        </p:blipFill>
        <p:spPr>
          <a:xfrm>
            <a:off x="4932360" y="981000"/>
            <a:ext cx="4032360" cy="26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2" descr="C:\Documents and Settings\Dr.Essam\My Documents\Downloads\f27-9a_urinary_bladder_c.jpg"/>
          <p:cNvPicPr/>
          <p:nvPr/>
        </p:nvPicPr>
        <p:blipFill>
          <a:blip r:embed="rId2"/>
          <a:stretch/>
        </p:blipFill>
        <p:spPr>
          <a:xfrm>
            <a:off x="4854600" y="3645000"/>
            <a:ext cx="5173560" cy="3168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7667640" y="3716280"/>
            <a:ext cx="2089080" cy="28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7308720" y="5013360"/>
            <a:ext cx="2519640" cy="16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12"/>
          <p:cNvCxnSpPr/>
          <p:nvPr/>
        </p:nvCxnSpPr>
        <p:spPr>
          <a:xfrm flipV="1">
            <a:off x="5075640" y="1773000"/>
            <a:ext cx="359640" cy="50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Straight Connector 14"/>
          <p:cNvSpPr/>
          <p:nvPr/>
        </p:nvSpPr>
        <p:spPr>
          <a:xfrm flipH="1" flipV="1">
            <a:off x="5076720" y="2276280"/>
            <a:ext cx="503280" cy="122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infants and children the bladder is an abdominal organ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tarts to enter the greater pelvis at about 6 years  and becomes a pelvic organ after puber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Urethr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4114800" cy="487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different stage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ital tuberc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senchymal elevation) develops at the cranial end of the cloacal membran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ethral fol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velop on either side of the urogenital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ly two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ioscrotal, (cloacal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ds develop on either side of the urethral fol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urethral folds in ma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se with each other to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ose the penile ureth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urethral folds in fema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main separate to form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ia mino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3EBEB0E2"/>
          <p:cNvPicPr/>
          <p:nvPr/>
        </p:nvPicPr>
        <p:blipFill>
          <a:blip r:embed="rId1"/>
          <a:srcRect l="10230" t="27631" r="50717" b="54143"/>
          <a:stretch/>
        </p:blipFill>
        <p:spPr>
          <a:xfrm>
            <a:off x="4716360" y="2133720"/>
            <a:ext cx="4248360" cy="19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Text Box 8"/>
          <p:cNvSpPr/>
          <p:nvPr/>
        </p:nvSpPr>
        <p:spPr>
          <a:xfrm>
            <a:off x="6227640" y="278136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ff"/>
                </a:solidFill>
                <a:uFillTx/>
                <a:latin typeface="Arial"/>
              </a:rPr>
              <a:t>(Labioscrotal fol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8"/>
          <p:cNvCxnSpPr/>
          <p:nvPr/>
        </p:nvCxnSpPr>
        <p:spPr>
          <a:xfrm flipV="1">
            <a:off x="5292720" y="3283920"/>
            <a:ext cx="288000" cy="73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" name="Straight Arrow Connector 13"/>
          <p:cNvCxnSpPr/>
          <p:nvPr/>
        </p:nvCxnSpPr>
        <p:spPr>
          <a:xfrm flipH="1" flipV="1">
            <a:off x="7956360" y="3141360"/>
            <a:ext cx="2880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" name="Oval 15"/>
          <p:cNvSpPr/>
          <p:nvPr/>
        </p:nvSpPr>
        <p:spPr>
          <a:xfrm>
            <a:off x="8244000" y="2997360"/>
            <a:ext cx="6490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6"/>
          <p:cNvSpPr/>
          <p:nvPr/>
        </p:nvSpPr>
        <p:spPr>
          <a:xfrm>
            <a:off x="4716360" y="3213000"/>
            <a:ext cx="57636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100914</cp:lastModifiedBy>
  <dcterms:modified xsi:type="dcterms:W3CDTF">2015-04-28T09:51:32Z</dcterms:modified>
  <cp:revision>153</cp:revision>
  <dc:subject/>
  <dc:title>Development of the urinary bladder and urethra </dc:title>
</cp:coreProperties>
</file>