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85EB-9452-4BB4-B147-D6F0A464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FB2B-E47D-46CF-B1A9-0B5BDA0F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B784-03FC-413C-B3C5-FB791C26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C626-5D49-4645-B1CF-51318AFB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1DE7-29F9-4747-999A-9F492888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936F-14F1-46D6-9DAF-C9D7D082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2D9B-1EE1-4881-B05A-A1413FF7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787D-0E98-4553-BE95-9A4BEEE0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48BB-09A1-4DB4-B829-9430B36E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DCE9-07C4-442E-9C47-37784C8F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8464-D33D-416F-BB0D-4B8EC86C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AF01-6DF6-4E31-B98E-D2E82461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8D7B-374B-4C1E-91AB-891A0C51EEC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31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Developmen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the urinary bladde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urethra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Bradley Hand ITC"/>
              </a:rPr>
              <a:t>Dr. Sanaa  Alsharawi / Dr. Essam Salama</a:t>
            </a:r>
            <a:r>
              <a:rPr b="1" lang="en-US" sz="2700" spc="-1" strike="noStrike">
                <a:solidFill>
                  <a:srgbClr val="ff0000"/>
                </a:solidFill>
                <a:latin typeface="Bradley Hand ITC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53844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Female Ureth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3538440" cy="52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tir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emale ureth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derived from endoderm of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elvi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of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ogenital sin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ternal urethral orifice opens dorsal to the glans clitor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5" descr="genitalia.jpg"/>
          <p:cNvPicPr/>
          <p:nvPr/>
        </p:nvPicPr>
        <p:blipFill>
          <a:blip r:embed="rId1"/>
          <a:stretch/>
        </p:blipFill>
        <p:spPr>
          <a:xfrm>
            <a:off x="4965840" y="981000"/>
            <a:ext cx="36385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46716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ale Ureth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610080" cy="469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ital tubercle elongates forming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ll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is the precursor of the pen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of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le urethra prostatic, membranous and spongy parts 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rived from endoderm of the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elv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l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s of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ogenit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n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l (terminal) par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male urethra in glans penis starts as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ctodermal solid cor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grows towards the root of pens to meet the spongy urethra , later it canalizes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rcRect l="1255" t="2240" r="1255" b="5823"/>
          <a:stretch/>
        </p:blipFill>
        <p:spPr>
          <a:xfrm>
            <a:off x="4788000" y="3438360"/>
            <a:ext cx="4184640" cy="3159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rcRect l="1039" t="2678" r="1039" b="5081"/>
          <a:stretch/>
        </p:blipFill>
        <p:spPr>
          <a:xfrm>
            <a:off x="4692600" y="333360"/>
            <a:ext cx="4343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Anomalies</a:t>
            </a: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600200"/>
            <a:ext cx="8218440" cy="384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achal anoma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ethral Anomal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strophy of the bladder (Ectopiae vesica); exposure of the posterior wall of the bladder due to a defect in the anterior abdominal wall and anterior wall  of the blad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425916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rachal anoma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8988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, Urachal cys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istence or remnant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pithel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ning of urach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U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chal sinus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char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rous fluid from the umblic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, Urachal fistula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tire urachus remains patent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rine to escape from the umbilic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4" descr="27B4F603"/>
          <p:cNvPicPr/>
          <p:nvPr/>
        </p:nvPicPr>
        <p:blipFill>
          <a:blip r:embed="rId1"/>
          <a:srcRect l="43172" t="11649" r="27629" b="22223"/>
          <a:stretch/>
        </p:blipFill>
        <p:spPr>
          <a:xfrm>
            <a:off x="4932360" y="190440"/>
            <a:ext cx="3889440" cy="640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" name="Oval 6"/>
          <p:cNvSpPr/>
          <p:nvPr/>
        </p:nvSpPr>
        <p:spPr>
          <a:xfrm>
            <a:off x="5867280" y="907920"/>
            <a:ext cx="79236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5435640" y="549360"/>
            <a:ext cx="72072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8"/>
          <p:cNvSpPr/>
          <p:nvPr/>
        </p:nvSpPr>
        <p:spPr>
          <a:xfrm>
            <a:off x="5003640" y="3141720"/>
            <a:ext cx="936720" cy="358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9"/>
          <p:cNvSpPr/>
          <p:nvPr/>
        </p:nvSpPr>
        <p:spPr>
          <a:xfrm>
            <a:off x="5003640" y="5013360"/>
            <a:ext cx="93672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00244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</a:rPr>
              <a:t>Urethral Anomal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907920"/>
            <a:ext cx="3683160" cy="54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-Hypospadius 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most common anomaly, with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comple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sion of the urethral folds, and abnormal openings of the urethra occur along the ventral (inferior) aspect of the pen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-Epispadius 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rare abnormality, in which the urethral meatus is found on the dorsum of penis, it is most often associated with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strophy of the bladd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C:\Documents and Settings\EssamEldin\Desktop\emb urinary and urethra\imagesCAOS18AR.jpg"/>
          <p:cNvPicPr/>
          <p:nvPr/>
        </p:nvPicPr>
        <p:blipFill>
          <a:blip r:embed="rId1"/>
          <a:stretch/>
        </p:blipFill>
        <p:spPr>
          <a:xfrm>
            <a:off x="4572000" y="1052640"/>
            <a:ext cx="4086360" cy="3271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7" name="Picture 6" descr="F2FD6340"/>
          <p:cNvPicPr/>
          <p:nvPr/>
        </p:nvPicPr>
        <p:blipFill>
          <a:blip r:embed="rId2"/>
          <a:srcRect l="13603" t="42522" r="57283" b="29769"/>
          <a:stretch/>
        </p:blipFill>
        <p:spPr>
          <a:xfrm>
            <a:off x="4932360" y="4437000"/>
            <a:ext cx="3166920" cy="21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800" spc="-1" strike="noStrike">
                <a:solidFill>
                  <a:srgbClr val="ff0000"/>
                </a:solidFill>
                <a:latin typeface="Forte"/>
              </a:rPr>
              <a:t>Thank you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r>
              <a:rPr b="0" lang="en-GB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end of the lecture the student is able to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cloaca and the formation of the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ogenital sinus.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 the division of the urogenital sinus into various parts and name the adult organs that are derived from each par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he caudal parts of the mesonephric ducts and ureters are absorbed into the urogenital sinus and the significance of this embryonic event.                                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 the position of the urachus and its significance and fat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various anomalies concerned with the urinary bladder and urethr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68316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Cloaca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36003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oaca is the dilated terminal part of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nd gu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receives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lanto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sonephric duc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 floor is closed by the cloacal membra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2" descr="C:\Documents and Settings\EssamEldin\Desktop\emb urinary and urethra\Kidney.jpg"/>
          <p:cNvPicPr/>
          <p:nvPr/>
        </p:nvPicPr>
        <p:blipFill>
          <a:blip r:embed="rId1"/>
          <a:stretch/>
        </p:blipFill>
        <p:spPr>
          <a:xfrm>
            <a:off x="3989520" y="1341360"/>
            <a:ext cx="5037120" cy="3888000"/>
          </a:xfrm>
          <a:prstGeom prst="rect">
            <a:avLst/>
          </a:prstGeom>
          <a:ln w="0">
            <a:noFill/>
          </a:ln>
        </p:spPr>
      </p:pic>
      <p:sp>
        <p:nvSpPr>
          <p:cNvPr id="48" name="Oval 4"/>
          <p:cNvSpPr/>
          <p:nvPr/>
        </p:nvSpPr>
        <p:spPr>
          <a:xfrm>
            <a:off x="3995640" y="4149720"/>
            <a:ext cx="57636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5"/>
          <p:cNvSpPr/>
          <p:nvPr/>
        </p:nvSpPr>
        <p:spPr>
          <a:xfrm>
            <a:off x="3995640" y="3860640"/>
            <a:ext cx="647640" cy="21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5580000" y="4437000"/>
            <a:ext cx="86364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76360" y="404280"/>
            <a:ext cx="300852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oaca, con. 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476280"/>
            <a:ext cx="3744720" cy="564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sodermal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orectal septu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vid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cloaca and the cloacal membrane in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ral pa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itive urogenital sinus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communicates with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lantoi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sonephric du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 floor is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ogenital membra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rsal pa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orectal ca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forms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t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upper part of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al cana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 floor is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al membra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7" descr="6ABD1CE8"/>
          <p:cNvPicPr/>
          <p:nvPr/>
        </p:nvPicPr>
        <p:blipFill>
          <a:blip r:embed="rId1"/>
          <a:srcRect l="20246" t="34687" r="41604" b="38631"/>
          <a:stretch/>
        </p:blipFill>
        <p:spPr>
          <a:xfrm>
            <a:off x="4140360" y="1484280"/>
            <a:ext cx="495108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TextBox 4"/>
          <p:cNvSpPr/>
          <p:nvPr/>
        </p:nvSpPr>
        <p:spPr>
          <a:xfrm>
            <a:off x="5796000" y="3500280"/>
            <a:ext cx="576360" cy="462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4211640" y="2637000"/>
            <a:ext cx="576360" cy="36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6443640" y="3573360"/>
            <a:ext cx="576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519444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rimitive urogenital sin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4033800" cy="469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divided into three part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anial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sical p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forms most of the bladder and continuous with the allanto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dle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lvic p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forms main part of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le ureth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entir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emale ureth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dal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llic par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ws towards genital tubercle and shares in the formation of 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le ureth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2610BC6D"/>
          <p:cNvPicPr/>
          <p:nvPr/>
        </p:nvPicPr>
        <p:blipFill>
          <a:blip r:embed="rId1"/>
          <a:srcRect l="7974" t="29367" r="44147" b="53110"/>
          <a:stretch/>
        </p:blipFill>
        <p:spPr>
          <a:xfrm>
            <a:off x="4500720" y="1484280"/>
            <a:ext cx="4464000" cy="30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Oval 4"/>
          <p:cNvSpPr/>
          <p:nvPr/>
        </p:nvSpPr>
        <p:spPr>
          <a:xfrm>
            <a:off x="7093080" y="2205000"/>
            <a:ext cx="71892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5"/>
          <p:cNvSpPr/>
          <p:nvPr/>
        </p:nvSpPr>
        <p:spPr>
          <a:xfrm>
            <a:off x="7020000" y="3213000"/>
            <a:ext cx="72072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7020000" y="3500280"/>
            <a:ext cx="64764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885080" y="2924280"/>
            <a:ext cx="100800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433080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Urinary bladder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827520" cy="494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develops mainly from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sical par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urogenital sinu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ig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derived from the absorb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s of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sonephric du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pithelium 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doderm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origin, of th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urogenital sinu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ther layers are derived from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lanchinic mesoder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스캔0053"/>
          <p:cNvPicPr/>
          <p:nvPr/>
        </p:nvPicPr>
        <p:blipFill>
          <a:blip r:embed="rId1"/>
          <a:srcRect l="0" t="0" r="3865" b="0"/>
          <a:stretch/>
        </p:blipFill>
        <p:spPr>
          <a:xfrm>
            <a:off x="4643280" y="3789360"/>
            <a:ext cx="4284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Picture 6" descr="2610BC6D"/>
          <p:cNvPicPr/>
          <p:nvPr/>
        </p:nvPicPr>
        <p:blipFill>
          <a:blip r:embed="rId2"/>
          <a:srcRect l="7974" t="28938" r="44996" b="53110"/>
          <a:stretch/>
        </p:blipFill>
        <p:spPr>
          <a:xfrm>
            <a:off x="4716360" y="1413000"/>
            <a:ext cx="3961080" cy="21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" name="Oval 5"/>
          <p:cNvSpPr/>
          <p:nvPr/>
        </p:nvSpPr>
        <p:spPr>
          <a:xfrm>
            <a:off x="7524720" y="5157720"/>
            <a:ext cx="136836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7"/>
          <p:cNvSpPr/>
          <p:nvPr/>
        </p:nvSpPr>
        <p:spPr>
          <a:xfrm>
            <a:off x="7020000" y="220500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469116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Urinary bladder, con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330800" cy="52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allanto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t fist continues with the bladder 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it becomes a thick fibrous cor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achu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extends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p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bladder to the umbilicu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dult it is represented by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dian umblical ligam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bsorption of the mesonephric ducts to form the trigone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ete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eparately in the bladd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스캔0053"/>
          <p:cNvPicPr/>
          <p:nvPr/>
        </p:nvPicPr>
        <p:blipFill>
          <a:blip r:embed="rId1"/>
          <a:srcRect l="0" t="0" r="4438" b="0"/>
          <a:stretch/>
        </p:blipFill>
        <p:spPr>
          <a:xfrm>
            <a:off x="4932360" y="981000"/>
            <a:ext cx="4032360" cy="262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Picture 2" descr="C:\Documents and Settings\Dr.Essam\My Documents\Downloads\f27-9a_urinary_bladder_c.jpg"/>
          <p:cNvPicPr/>
          <p:nvPr/>
        </p:nvPicPr>
        <p:blipFill>
          <a:blip r:embed="rId2"/>
          <a:stretch/>
        </p:blipFill>
        <p:spPr>
          <a:xfrm>
            <a:off x="4854600" y="3645000"/>
            <a:ext cx="5173560" cy="31687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7667640" y="3716280"/>
            <a:ext cx="2089080" cy="28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7308720" y="5013360"/>
            <a:ext cx="2519640" cy="165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Straight Arrow Connector 12"/>
          <p:cNvCxnSpPr/>
          <p:nvPr/>
        </p:nvCxnSpPr>
        <p:spPr>
          <a:xfrm flipV="1">
            <a:off x="5075640" y="1773000"/>
            <a:ext cx="359640" cy="504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7" name="Straight Connector 14"/>
          <p:cNvSpPr/>
          <p:nvPr/>
        </p:nvSpPr>
        <p:spPr>
          <a:xfrm flipH="1" flipV="1">
            <a:off x="5076720" y="2276280"/>
            <a:ext cx="503280" cy="122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infants and children the bladder is an abdominal organ 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tarts to enter the greater pelvis at about 6 years  and becomes a pelvic organ after pubert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Urethra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34960"/>
            <a:ext cx="4114800" cy="487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different stage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nital tuberc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esenchymal elevation) develops at the cranial end of the cloacal membrane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ethral fol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velop on either side of the urogenital membra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rally two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bioscrotal, (cloacal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ds develop on either side of the urethral fol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r o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urethral folds in mal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se with each other to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ose the penile ureth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urethral folds in femal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main separate to form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bia mino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3EBEB0E2"/>
          <p:cNvPicPr/>
          <p:nvPr/>
        </p:nvPicPr>
        <p:blipFill>
          <a:blip r:embed="rId1"/>
          <a:srcRect l="10230" t="27631" r="50717" b="54143"/>
          <a:stretch/>
        </p:blipFill>
        <p:spPr>
          <a:xfrm>
            <a:off x="4716360" y="2133720"/>
            <a:ext cx="4248360" cy="192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Text Box 8"/>
          <p:cNvSpPr/>
          <p:nvPr/>
        </p:nvSpPr>
        <p:spPr>
          <a:xfrm>
            <a:off x="6227640" y="2781360"/>
            <a:ext cx="13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ff"/>
                </a:solidFill>
                <a:uFillTx/>
                <a:latin typeface="Arial"/>
              </a:rPr>
              <a:t>(Labioscrotal fol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8"/>
          <p:cNvCxnSpPr/>
          <p:nvPr/>
        </p:nvCxnSpPr>
        <p:spPr>
          <a:xfrm flipV="1">
            <a:off x="5292720" y="3283920"/>
            <a:ext cx="288000" cy="73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5" name="Straight Arrow Connector 13"/>
          <p:cNvCxnSpPr/>
          <p:nvPr/>
        </p:nvCxnSpPr>
        <p:spPr>
          <a:xfrm flipH="1" flipV="1">
            <a:off x="7956360" y="3141360"/>
            <a:ext cx="28800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6" name="Oval 15"/>
          <p:cNvSpPr/>
          <p:nvPr/>
        </p:nvSpPr>
        <p:spPr>
          <a:xfrm>
            <a:off x="8244000" y="2997360"/>
            <a:ext cx="64908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6"/>
          <p:cNvSpPr/>
          <p:nvPr/>
        </p:nvSpPr>
        <p:spPr>
          <a:xfrm>
            <a:off x="4716360" y="3213000"/>
            <a:ext cx="57636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100914</cp:lastModifiedBy>
  <dcterms:modified xsi:type="dcterms:W3CDTF">2015-04-28T09:51:32Z</dcterms:modified>
  <cp:revision>153</cp:revision>
  <dc:subject/>
  <dc:title>Development of the urinary bladder and urethra </dc:title>
</cp:coreProperties>
</file>