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9109-98C3-495F-B52D-9AF532150C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C593-49B1-4AB4-A267-594BDA1064A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4759-B942-4BC5-BB7E-EF65F30EE6C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91A9-EEE3-4D02-A82C-98990C55C89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FEB7-BDC3-4BBB-9CC4-DC0661590A8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B252-EB9A-4734-B90F-788F5AF98AC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B0C7-49AD-4025-86F2-F420932955A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5319-75E0-4790-B717-C94533AF70B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3E7A-F809-4DE4-8EEE-FA41860FA65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BAB6-DFB6-4150-A4F4-3B61CE0E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01B-FBBB-494E-B876-4BAE0663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B79-DFE9-475B-BDBC-7B17E6C0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417-CD0E-4A4C-B0F2-E3BA550B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5FAF-B6E1-46E9-A55C-8B07DEF2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5D6C-39C7-487A-8140-B235C81B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ED40-7303-4D43-8724-240F7129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43BE-5A67-4006-9975-F980D318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54DC-C0D5-46C9-94B8-EC99B0CC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4132-157A-476E-BB5A-1D885B05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05CA-3A87-4DBE-80AA-F91E78EE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6239-3836-4FEA-94B4-2D20E222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E319-360F-4A9C-B1E2-33DE34AE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EDA3-BD03-44C4-B463-AB9CD343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C6B4-7391-487B-BF93-CF64E8D5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5162-AEAD-4FDA-ADA4-84AF651B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EB3D-8026-459A-97B9-92756A55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4E5-680F-4163-ABF2-BC5231CF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4F14-CAC9-4729-A76F-77766D99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E52-D4B2-4C1D-8C72-EAF52955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98E5-F694-4960-A026-5E9387B7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FFB-1A2F-41DC-AA85-20465280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AA6-189C-44E9-BFA4-D8CBC551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76F-23F3-49F5-9998-CA5CBC5B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AE5-6F3D-4DED-BFA7-6CD54D4A4E5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E319-4B5E-4F9A-B8E6-EB0321675FA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سم الله الرحمن الرحيم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Fe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urethra is short and lined by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- Epitheliu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Transitional epith. Near the bla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Pseudostratified columnar epith.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Stratified squamous non-keratinized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- Sub-epithelial fibroelastic 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contains glands of Littre (mucus-secreting gland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- Smooth musc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longitudinal and outer circular laye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long and is divided into 3 reg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static urethr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d with transitional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mbranous urethra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lined with:          Stratified columnar epith.  with patches of pseudustratified columnar epitheli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nile (spongy) urethr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is lined with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ified columnar epith.  with patches of pseudustratified columnar epithel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 navicular fossa ( enlarged terminal portion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atified squamous non-keratinized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mina propria contains mucus-secreting glands of Lit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EST WISHES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rinary passage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981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be able to describe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The microscopic structure of the Renal pelvis and ur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The microscopic structure of the urinary bladder and male and female uret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7C6E7C31"/>
          <p:cNvPicPr/>
          <p:nvPr/>
        </p:nvPicPr>
        <p:blipFill>
          <a:blip r:embed="rId1"/>
          <a:srcRect l="0" t="6889" r="11431" b="54068"/>
          <a:stretch/>
        </p:blipFill>
        <p:spPr>
          <a:xfrm>
            <a:off x="4267080" y="3048120"/>
            <a:ext cx="4876920" cy="3740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4" descr="98BD9F5"/>
          <p:cNvPicPr/>
          <p:nvPr/>
        </p:nvPicPr>
        <p:blipFill>
          <a:blip r:embed="rId2"/>
          <a:srcRect l="49630" t="18337" r="15294" b="28497"/>
          <a:stretch/>
        </p:blipFill>
        <p:spPr>
          <a:xfrm>
            <a:off x="0" y="1708200"/>
            <a:ext cx="419112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3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The macula dens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distal tubule: Tall cells with centrally-placed nuc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Juxtaglomerular ce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fferent glomerular arteriole (modified smooth muscle of tunica media). Nuclei are round with granular cytopla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They secrete ren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9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-The extraglomer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sangial cell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Documents and Settings\Aly\My Documents\back\Janquira Images\19\F19_21.jpg"/>
          <p:cNvPicPr/>
          <p:nvPr/>
        </p:nvPicPr>
        <p:blipFill>
          <a:blip r:embed="rId1"/>
          <a:stretch/>
        </p:blipFill>
        <p:spPr>
          <a:xfrm>
            <a:off x="5791320" y="37339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Aly\My Documents\My Pictures\kidney0221he.jpg"/>
          <p:cNvPicPr/>
          <p:nvPr/>
        </p:nvPicPr>
        <p:blipFill>
          <a:blip r:embed="rId1"/>
          <a:stretch/>
        </p:blipFill>
        <p:spPr>
          <a:xfrm>
            <a:off x="1752480" y="228600"/>
            <a:ext cx="6248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nal Caly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alyx accepts urine from the renal papilla of a renal pyram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lined with transitional epith., lamina propria and smooth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calyces merge to form major calyces (with same lining tissue as minor calyc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calyces open i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pelv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25C78913"/>
          <p:cNvPicPr/>
          <p:nvPr/>
        </p:nvPicPr>
        <p:blipFill>
          <a:blip r:embed="rId1"/>
          <a:srcRect l="30592" t="20588" r="35778" b="49514"/>
          <a:stretch/>
        </p:blipFill>
        <p:spPr>
          <a:xfrm>
            <a:off x="4775040" y="4267080"/>
            <a:ext cx="4368960" cy="24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34080" indent="-334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os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formed of transitional epith. and lamina prop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Muscular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scular coat):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2 layers of smooth muscle in the upper  2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 Outer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3001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3 layers of smooth muscle in the lower 1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Middle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   Out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Adventi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brous C.T. covering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ser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AE4A960F"/>
          <p:cNvPicPr/>
          <p:nvPr/>
        </p:nvPicPr>
        <p:blipFill>
          <a:blip r:embed="rId1"/>
          <a:srcRect l="0" t="15719" r="62354" b="38691"/>
          <a:stretch/>
        </p:blipFill>
        <p:spPr>
          <a:xfrm>
            <a:off x="3657600" y="3857760"/>
            <a:ext cx="2895480" cy="23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6553080" y="3862440"/>
            <a:ext cx="259092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inary bladd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the same structure as the lower third of ure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ficial layer of  transitional epithelium has dome-shaped cells (in empty bladd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3 layers of smooth muscle: inner and outer longitudinal  (thin) and middle circular (thick)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outer covering is adventi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sero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8" descr="D1B010FD"/>
          <p:cNvPicPr/>
          <p:nvPr/>
        </p:nvPicPr>
        <p:blipFill>
          <a:blip r:embed="rId1"/>
          <a:srcRect l="72552" t="34776" r="982" b="39295"/>
          <a:stretch/>
        </p:blipFill>
        <p:spPr>
          <a:xfrm>
            <a:off x="5562720" y="3624120"/>
            <a:ext cx="2646360" cy="323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1B010FD"/>
          <p:cNvPicPr/>
          <p:nvPr/>
        </p:nvPicPr>
        <p:blipFill>
          <a:blip r:embed="rId2"/>
          <a:srcRect l="39295" t="27453" r="23772" b="41181"/>
          <a:stretch/>
        </p:blipFill>
        <p:spPr>
          <a:xfrm>
            <a:off x="1981080" y="4646520"/>
            <a:ext cx="31244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2590920" y="3889440"/>
            <a:ext cx="4138560" cy="281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286000" y="304920"/>
            <a:ext cx="5029200" cy="342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Aly</cp:lastModifiedBy>
  <dcterms:modified xsi:type="dcterms:W3CDTF">2015-04-25T18:47:47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