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CAD2-96D9-4175-99B0-CF3A155A9C1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87C8-611C-4256-94DF-7E863236D7B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C574-3F8E-4A39-B068-EF4BCED5FCA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5E3E-4354-47B2-8AFD-7666B48CB8F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8282-1A91-4347-B2A4-DD6A349E252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4BD4-9061-46F4-BFF0-FBBFC7FDA5B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924D-2DCD-41A6-88BB-ACE4B8C1D28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250F-09E4-4043-BB7F-25337D95205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ACE0-21E3-457E-8C3E-37C0FACE6E6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5945-891F-4101-9FEE-16FD39D83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1614-7BFA-49BD-9286-3A9D2BE1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0364-C4D3-45A1-BA93-F8D583C48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FA99-BA1D-4D80-88CD-94A3EB5FE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2CC3-58C9-4070-9A0F-6A7A986CF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1CC9-6792-4B60-B71C-098DF124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1763-6A68-40BF-BADA-E01A4114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9A6A-7D75-4D47-8C1A-970C081D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9648-9408-4AE1-9EA5-70D773AC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B21B-738D-4F88-845D-6CDE0248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1005-2AC1-4722-BEE4-3AF51912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6573-BE71-4B37-AC05-DC29EDF0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764E-03CA-4233-83FD-6A1436B2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E109-E6F7-48C1-9766-AAB600A3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C618-8BF3-436B-B5B8-AFAFEF46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12FE-174D-4596-B2F1-DCCDA3811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992A-38F8-408D-9217-9E6EE2A75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368B-A93A-4FDC-9D44-F902C913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815F-3E7A-45AE-9482-960A8B65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8CCF-6B8D-46F3-B75D-B4A1B88E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1327-772C-4970-B020-8F0F8245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06F3-6C51-4871-8D37-1BC2E034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BAFD-56C1-4CE1-8436-4FB2B952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2C48-62EA-4AEC-90D7-A7AECE00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56AE-582A-4169-8698-76308988C4F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051C-91C4-4E66-8440-F4C073E07410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بسم الله الرحمن الرحيم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Female Urethr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male urethra is short and lined by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- Epitheliu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-Transitional epith. Near the blad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- Pseudostratified columnar epith.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- Stratified squamous non-keratinized epit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- Sub-epithelial fibroelastic 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contains glands of Littre (mucus-secreting gland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- Smooth muscl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ner longitudinal and outer circular layer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Male Urethr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long and is divided into 3 reg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-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rostatic urethr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ed with transitional epi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-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embranous urethra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lined with:          Stratified columnar epith.  with patches of pseudustratified columnar epitheliu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-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enile (spongy) urethr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is lined with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tified columnar epith.  with patches of pseudustratified columnar epitheliu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.B.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 navicular fossa ( enlarged terminal portion)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tratified squamous non-keratinized epi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.B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mina propria contains mucus-secreting glands of Litt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BEST WISHES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urinary passage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198108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bjectiv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y the end of this lecture, the student should be able to describe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.The microscopic structure of the Renal pelvis and ure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. The microscopic structure of the urinary bladder and male and female ureth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7C6E7C31"/>
          <p:cNvPicPr/>
          <p:nvPr/>
        </p:nvPicPr>
        <p:blipFill>
          <a:blip r:embed="rId1"/>
          <a:srcRect l="0" t="6889" r="11431" b="54068"/>
          <a:stretch/>
        </p:blipFill>
        <p:spPr>
          <a:xfrm>
            <a:off x="4267080" y="3048120"/>
            <a:ext cx="4876920" cy="3740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Juxtaglomerular apparatus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2" name="Picture 4" descr="98BD9F5"/>
          <p:cNvPicPr/>
          <p:nvPr/>
        </p:nvPicPr>
        <p:blipFill>
          <a:blip r:embed="rId2"/>
          <a:srcRect l="49630" t="18337" r="15294" b="28497"/>
          <a:stretch/>
        </p:blipFill>
        <p:spPr>
          <a:xfrm>
            <a:off x="0" y="1708200"/>
            <a:ext cx="4191120" cy="51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Juxtaglomerular apparatus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has 3 compone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-The macula densa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distal tubule: Tall cells with centrally-placed nucle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Juxtaglomerular cell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afferent glomerular arteriole (modified smooth muscle of tunica media). Nuclei are round with granular cytoplas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They secrete ren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9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-The extraglomerula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sangial cell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2" descr="C:\Documents and Settings\Aly\My Documents\back\Janquira Images\19\F19_21.jpg"/>
          <p:cNvPicPr/>
          <p:nvPr/>
        </p:nvPicPr>
        <p:blipFill>
          <a:blip r:embed="rId1"/>
          <a:stretch/>
        </p:blipFill>
        <p:spPr>
          <a:xfrm>
            <a:off x="5791320" y="3733920"/>
            <a:ext cx="335268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C:\Documents and Settings\Aly\My Documents\My Pictures\kidney0221he.jpg"/>
          <p:cNvPicPr/>
          <p:nvPr/>
        </p:nvPicPr>
        <p:blipFill>
          <a:blip r:embed="rId1"/>
          <a:stretch/>
        </p:blipFill>
        <p:spPr>
          <a:xfrm>
            <a:off x="1752480" y="228600"/>
            <a:ext cx="624852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nal Calyc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calyx accepts urine from the renal papilla of a renal pyrami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lined with transitional epith., lamina propria and smooth musc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or calyces merge to form major calyces (with same lining tissue as minor calyce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jor calyces open in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nal pelv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4" descr="25C78913"/>
          <p:cNvPicPr/>
          <p:nvPr/>
        </p:nvPicPr>
        <p:blipFill>
          <a:blip r:embed="rId1"/>
          <a:srcRect l="30592" t="20588" r="35778" b="49514"/>
          <a:stretch/>
        </p:blipFill>
        <p:spPr>
          <a:xfrm>
            <a:off x="4775040" y="4267080"/>
            <a:ext cx="4368960" cy="248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Uret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3808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334080" indent="-3340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ucosa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formed of transitional epith. and lamina propr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. Muscular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muscular coat):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b0f0"/>
                </a:solidFill>
                <a:latin typeface="Times New Roman"/>
              </a:rPr>
              <a:t>Is formed of 2 layers of smooth muscle in the upper  2/3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-  Inner longitudi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-   Outer circu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3001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b0f0"/>
                </a:solidFill>
                <a:latin typeface="Times New Roman"/>
              </a:rPr>
              <a:t>Is formed of 3 layers of smooth muscle in the lower 1/3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-  Inner longitudinal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-  Middle circu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-   Outer longitudi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. Adventit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brous C.T. covering.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.B. 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No sero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5" descr="AE4A960F"/>
          <p:cNvPicPr/>
          <p:nvPr/>
        </p:nvPicPr>
        <p:blipFill>
          <a:blip r:embed="rId1"/>
          <a:srcRect l="0" t="15719" r="62354" b="38691"/>
          <a:stretch/>
        </p:blipFill>
        <p:spPr>
          <a:xfrm>
            <a:off x="3657600" y="3857760"/>
            <a:ext cx="2895480" cy="2363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6553080" y="3862440"/>
            <a:ext cx="2590920" cy="19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-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Urinary bladd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the same structure as the lower third of ure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erficial layer of  transitional epithelium has dome-shaped cells (in empty bladde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3 layers of smooth muscle: inner and outer longitudinal  (thin) and middle circular (thick) lay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s outer covering is adventit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 sero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8" descr="D1B010FD"/>
          <p:cNvPicPr/>
          <p:nvPr/>
        </p:nvPicPr>
        <p:blipFill>
          <a:blip r:embed="rId1"/>
          <a:srcRect l="72552" t="34776" r="982" b="39295"/>
          <a:stretch/>
        </p:blipFill>
        <p:spPr>
          <a:xfrm>
            <a:off x="5562720" y="3624120"/>
            <a:ext cx="2646360" cy="3233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D1B010FD"/>
          <p:cNvPicPr/>
          <p:nvPr/>
        </p:nvPicPr>
        <p:blipFill>
          <a:blip r:embed="rId2"/>
          <a:srcRect l="39295" t="27453" r="23772" b="41181"/>
          <a:stretch/>
        </p:blipFill>
        <p:spPr>
          <a:xfrm>
            <a:off x="1981080" y="4646520"/>
            <a:ext cx="3124440" cy="21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9" descr=""/>
          <p:cNvPicPr/>
          <p:nvPr/>
        </p:nvPicPr>
        <p:blipFill>
          <a:blip r:embed="rId1"/>
          <a:stretch/>
        </p:blipFill>
        <p:spPr>
          <a:xfrm>
            <a:off x="2590920" y="3889440"/>
            <a:ext cx="4138560" cy="2816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2"/>
          <a:stretch/>
        </p:blipFill>
        <p:spPr>
          <a:xfrm>
            <a:off x="2286000" y="304920"/>
            <a:ext cx="5029200" cy="3422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ony</dc:creator>
  <dc:description/>
  <dc:language>en-US</dc:language>
  <cp:lastModifiedBy>Aly</cp:lastModifiedBy>
  <dcterms:modified xsi:type="dcterms:W3CDTF">2015-04-25T18:47:47Z</dcterms:modified>
  <cp:revision>1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