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5.png" ContentType="image/png"/>
  <Override PartName="/ppt/media/image35.png" ContentType="image/png"/>
  <Override PartName="/ppt/media/image31.jpeg" ContentType="image/jpeg"/>
  <Override PartName="/ppt/media/image8.png" ContentType="image/png"/>
  <Override PartName="/ppt/media/image11.jpeg" ContentType="image/jpeg"/>
  <Override PartName="/ppt/media/image40.png" ContentType="image/png"/>
  <Override PartName="/ppt/media/image36.jpeg" ContentType="image/jpeg"/>
  <Override PartName="/ppt/media/image13.png" ContentType="image/png"/>
  <Override PartName="/ppt/media/image37.png" ContentType="image/png"/>
  <Override PartName="/ppt/media/image41.jpeg" ContentType="image/jpeg"/>
  <Override PartName="/ppt/media/image6.png" ContentType="image/png"/>
  <Override PartName="/ppt/media/image29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1A52-673E-459B-96FD-67DB0C1CF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3130-477B-414D-959A-B528022E8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FA2-FB95-4F7E-BA4C-D90DEA95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480-4290-484C-A252-2F6C77AD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BA2-883C-401D-868B-BBFEE568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C59-141F-4E89-B524-C1B2C437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13C-5244-4A9B-83F5-B36EE2A9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FE5-1CA9-4E24-B07B-759D2AFB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BB5-0159-408E-8189-5860EDCF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DFA-C371-4D7D-B98A-E0199160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75D-3762-4579-8825-74D62F5C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38A-0D14-4CB1-B91A-57851C4E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87D0-983C-453F-896B-C56DCFE2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1899-AAF7-4B55-AFF7-EF20031D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688A-7F9D-48FA-BA66-F46D9F517C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medlib.med.utah.edu/WebPath/jpeg1/RENAL085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62485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31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7-14 days </a:t>
            </a:r>
            <a:r>
              <a:rPr b="0" i="1" lang="en-US" sz="2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pharyngiti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4-21 days </a:t>
            </a:r>
            <a:r>
              <a:rPr b="0" i="1" lang="en-US" sz="2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(skin infe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brupt onset (</a:t>
            </a:r>
            <a:r>
              <a:rPr b="0" lang="en-GB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ute nephritic syndrom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rep antigens trigger antibodies that cross-react to glomeruli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during filtration in the glomerulus deposit  in the kidne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activate comp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1"/>
          <a:stretch/>
        </p:blipFill>
        <p:spPr>
          <a:xfrm>
            <a:off x="304920" y="231840"/>
            <a:ext cx="8534160" cy="6760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Caused by known streptococcal types called: nephritic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hildren bacterial culture will b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–streptolysin-O antibody(ASO) will be the only         ev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ti-DNAse B titre is a better indicator of          streptococcal skin sepsis than the ASO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holesterol and lipids in skin suppress the ASO antibody response but not the anti-DNAse B antibody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381880" cy="113976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57200" y="144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ve GN (PG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28600" y="23623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on of glomerular cel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infiltration  of leukocytes  (especiall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utroph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228600" y="417996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ypical features of immune complex dise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Hypocomplement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Granular deposits of IgG &amp; complement on G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D1F9-3EFE-4CEA-B0D4-D01AB521992B}" type="slidenum">
              <a:rPr b="1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RENAL086"/>
          <p:cNvPicPr/>
          <p:nvPr/>
        </p:nvPicPr>
        <p:blipFill>
          <a:blip r:embed="rId1"/>
          <a:stretch/>
        </p:blipFill>
        <p:spPr>
          <a:xfrm>
            <a:off x="0" y="3429000"/>
            <a:ext cx="2590920" cy="24112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6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04920" y="5867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deposits are distributed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in the capillary loops in a granular, bumpy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ttern because of the focal nature of the deposi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ENAL0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43000"/>
            <a:ext cx="2590920" cy="227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ost streptococcal nephritis.jpg"/>
          <p:cNvPicPr/>
          <p:nvPr/>
        </p:nvPicPr>
        <p:blipFill>
          <a:blip r:embed="rId5"/>
          <a:stretch/>
        </p:blipFill>
        <p:spPr>
          <a:xfrm>
            <a:off x="2590920" y="1143000"/>
            <a:ext cx="6270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8600" y="1981080"/>
            <a:ext cx="8763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lowly progressive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form of chronic immune-complex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common between 30 - 50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Memb_illustrationcapillary.jpg"/>
          <p:cNvPicPr/>
          <p:nvPr/>
        </p:nvPicPr>
        <p:blipFill>
          <a:blip r:embed="rId1"/>
          <a:stretch/>
        </p:blipFill>
        <p:spPr>
          <a:xfrm>
            <a:off x="50760" y="609480"/>
            <a:ext cx="904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152280" y="182520"/>
            <a:ext cx="8613720" cy="963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t is a chronic progressive glomerulonephritis that occurs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lder children and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 main typ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ype I MPGN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(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have been identif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in association with hepatitis B&amp;C antigenemi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tra-renal infections  or S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bendothelial and mesangial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po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IF membranoproliferative I.jpg"/>
          <p:cNvPicPr/>
          <p:nvPr/>
        </p:nvPicPr>
        <p:blipFill>
          <a:blip r:embed="rId2"/>
          <a:stretch/>
        </p:blipFill>
        <p:spPr>
          <a:xfrm>
            <a:off x="5715000" y="2320920"/>
            <a:ext cx="34290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0" y="822240"/>
            <a:ext cx="906768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ype II MPGN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lso known a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se deposit disease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fundamental  abnormality i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cessive complement acti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me patients have autoantibod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gainst C3 convertase called: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3 nephritic factor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membranous dense depos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IF MEM PROF II.jpg"/>
          <p:cNvPicPr/>
          <p:nvPr/>
        </p:nvPicPr>
        <p:blipFill>
          <a:blip r:embed="rId1"/>
          <a:stretch/>
        </p:blipFill>
        <p:spPr>
          <a:xfrm>
            <a:off x="5934240" y="3962520"/>
            <a:ext cx="318744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Rectangl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6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obr4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100" name="Down Arrow 4"/>
          <p:cNvSpPr/>
          <p:nvPr/>
        </p:nvSpPr>
        <p:spPr>
          <a:xfrm>
            <a:off x="6781680" y="2057400"/>
            <a:ext cx="152640" cy="167652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nderstand the importance of immun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xes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n the pathogenesis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renal inju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Learn that immune complexes form in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irculation and may deposit in different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is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nderstand the dynamics of deposition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xes which depend on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he size and rat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dentify the different types of renal disease based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n the site of deposition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the immune complex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689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 most common from of primary      glomerulonephritis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ffects children and young ad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Begins as an episode of gross hematuria that occurs within 1-2 days of a non specific upper respiratory tract inf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871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04560" y="15235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athogenic hallmark i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position of IgA &amp; complement C3 in th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sangiu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re is evidence of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complement by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he alternativ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pathway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serum complement C2 and C4 will b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rm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IgA.jpg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03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228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This immunofluorescence pattern demonstrates positivity with antibody to IgA. The pattern is that of mesangial deposition in the glomerulus. This is IgA nephropat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2286000" y="152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  <a:ea typeface="Arial"/>
              </a:rPr>
              <a:t>IgA Nephro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-360" y="1523880"/>
            <a:ext cx="8839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PGN is a clinical syndrome and not a specific form of 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ases the glomerular injury is immunologically med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practical classification divides CrGN  into three groups on the basis of immunologic finding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www.health-writings.com/img/oy/membrane-glomerulonephritis/rapidly_progressive_crescentic_glomerulonephritis_02.jpg"/>
          <p:cNvPicPr/>
          <p:nvPr/>
        </p:nvPicPr>
        <p:blipFill>
          <a:blip r:embed="rId1"/>
          <a:stretch/>
        </p:blipFill>
        <p:spPr>
          <a:xfrm>
            <a:off x="0" y="1003320"/>
            <a:ext cx="8991720" cy="586404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4" descr=""/>
          <p:cNvPicPr/>
          <p:nvPr/>
        </p:nvPicPr>
        <p:blipFill>
          <a:blip r:embed="rId2"/>
          <a:stretch/>
        </p:blipFill>
        <p:spPr>
          <a:xfrm>
            <a:off x="0" y="152280"/>
            <a:ext cx="9144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linear deposition of IgG and C3 on the G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Goodpasture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bodies bind also in the pulmonary    alveolar capillary basement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anti gbm1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as a complication of any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complex nephriti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st infectio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gA nephropat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stic granular (lumpy-bumpy) pattern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ining of the GBM for immunoglobulin &amp; comple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md_99-08-0054.jpg"/>
          <p:cNvPicPr/>
          <p:nvPr/>
        </p:nvPicPr>
        <p:blipFill>
          <a:blip r:embed="rId1"/>
          <a:stretch/>
        </p:blipFill>
        <p:spPr>
          <a:xfrm>
            <a:off x="228600" y="990720"/>
            <a:ext cx="8705880" cy="586728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4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Defined by the lack of anti-GBM antibod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ost cases are  associated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-neutrophil cytoplasmic antibodi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rum (ANCA) and systemic vascul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GNspectrumB.gif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04920" y="152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of antibody with various microbial OR  self antigens induce type II or III hypersensitivity reactions in the kidne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086600" y="5105520"/>
            <a:ext cx="1676520" cy="1218960"/>
          </a:xfrm>
          <a:prstGeom prst="rect">
            <a:avLst/>
          </a:prstGeom>
          <a:solidFill>
            <a:srgbClr val="fdea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lam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920" y="5029200"/>
            <a:ext cx="160020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jury to renal 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91320" y="3276720"/>
            <a:ext cx="838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09680" y="32767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191120" y="380988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8"/>
          <p:cNvSpPr/>
          <p:nvPr/>
        </p:nvSpPr>
        <p:spPr>
          <a:xfrm>
            <a:off x="6172200" y="3886200"/>
            <a:ext cx="380880" cy="15238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wn Arrow 9"/>
          <p:cNvSpPr/>
          <p:nvPr/>
        </p:nvSpPr>
        <p:spPr>
          <a:xfrm>
            <a:off x="4267080" y="4114800"/>
            <a:ext cx="381240" cy="143496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10"/>
          <p:cNvSpPr/>
          <p:nvPr/>
        </p:nvSpPr>
        <p:spPr>
          <a:xfrm>
            <a:off x="2209680" y="3886200"/>
            <a:ext cx="228600" cy="1816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pauci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093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380880" y="6211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Granular staining (Immune comp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733920" y="6211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Linear st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(Anti-G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6248520" y="6172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No antibody st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(Pauci associated with vasculit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mmune complexes underlie the pathogenesis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many of the glomerulo-nephrit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Activation of the complement system is an integral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part of the process, and measurement of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complement proteins help in diagnosis and follow-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up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of pati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Immunofluoresence of renal biopsy demonstrat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the presence of immune complexes and confirm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Calibri"/>
              </a:rPr>
              <a:t>diagno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agram 1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52801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2"/>
          <a:stretch/>
        </p:blipFill>
        <p:spPr>
          <a:xfrm>
            <a:off x="384120" y="152280"/>
            <a:ext cx="853452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weeningslide200804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4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accumulate in tissues where filtration of plasma occurs. This explains the high incidenc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lomerulonephritis (deposition in the   kidn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asculitis (deposition in the arteri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thritis (deposition in the synovial j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Introduction-NIER_01.png"/>
          <p:cNvPicPr/>
          <p:nvPr/>
        </p:nvPicPr>
        <p:blipFill>
          <a:blip r:embed="rId1"/>
          <a:stretch/>
        </p:blipFill>
        <p:spPr>
          <a:xfrm>
            <a:off x="2631960" y="1998720"/>
            <a:ext cx="6512040" cy="485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imagesCAMCCZKX.jpg"/>
          <p:cNvPicPr/>
          <p:nvPr/>
        </p:nvPicPr>
        <p:blipFill>
          <a:blip r:embed="rId2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stock-photo-scheme-of-a-nephron-dissected-in-which-we-can-see-inside-72413677.jpg"/>
          <p:cNvPicPr/>
          <p:nvPr/>
        </p:nvPicPr>
        <p:blipFill>
          <a:blip r:embed="rId3"/>
          <a:stretch/>
        </p:blipFill>
        <p:spPr>
          <a:xfrm>
            <a:off x="0" y="2666880"/>
            <a:ext cx="26701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048120" y="304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Nephron and glomeru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weeningslide200809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627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ntibody-mediated Inju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mbran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IgA nephropat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embranoproliferative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Post infecti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ntiglomerular basement membrane dise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6:13:51Z</dcterms:created>
  <dc:creator>Dr.Hazem</dc:creator>
  <dc:description/>
  <dc:language>en-US</dc:language>
  <cp:lastModifiedBy>saeed nassar</cp:lastModifiedBy>
  <dcterms:modified xsi:type="dcterms:W3CDTF">2015-05-04T18:45:45Z</dcterms:modified>
  <cp:revision>118</cp:revision>
  <dc:subject/>
  <dc:title>Immunology of  nephritis.</dc:title>
</cp:coreProperties>
</file>