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13.png" ContentType="image/png"/>
  <Override PartName="/ppt/media/image37.png" ContentType="image/png"/>
  <Override PartName="/ppt/media/image41.jpeg" ContentType="image/jpeg"/>
  <Override PartName="/ppt/media/image6.png" ContentType="image/png"/>
  <Override PartName="/ppt/media/image2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2E94-A67D-4047-AA04-C9130E160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7EE-3A4A-4E6A-B0C0-DEBD0BE1F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008-EC2B-4EF8-8098-21572814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6CB-79F9-4ED6-BE55-14ABCC4A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4AC-28E9-4DF3-B09D-506FC38B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494-D11F-41EA-BEF2-59DA808E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BC7-CE93-45FF-8F4A-4C6636B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0D9-410F-4E53-9142-E4BBF07F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D32-7121-4D16-9BB4-B685D6D2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F36-011E-4831-83BA-1FA7786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E9B-3199-44CD-93CF-C26C44A0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CDF-CA14-4293-96CB-FEA87EF4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35E-E4E2-4DBF-A3E5-177D523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0FC-893A-49A0-827B-2005B3E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9D55-0CF7-49EA-9204-2A5BEAAEE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medlib.med.utah.edu/WebPath/jpeg1/RENAL085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6248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31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7-14 days </a:t>
            </a:r>
            <a:r>
              <a:rPr b="0" i="1" lang="en-US" sz="2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pharyngit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4-21 days </a:t>
            </a:r>
            <a:r>
              <a:rPr b="0" i="1" lang="en-US" sz="2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(skin infe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brupt onset (</a:t>
            </a:r>
            <a:r>
              <a:rPr b="0" lang="en-GB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ute nephritic syndrom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rep antigens trigger antibodies that cross-react to glomerul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during filtration in the glomerulus deposit  in the kidn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activate comp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534160" cy="676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Caused by known streptococcal types called: nephritic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hildren bacterial culture will b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–streptolysin-O antibody(ASO) will be the only        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-DNAse B titre is a better indicator of          streptococcal skin sepsis than the ASO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holesterol and lipids in skin suppress the ASO antibody response but not the anti-DNAse B antibody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381880" cy="1139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ve GN (PG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28600" y="23623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on of glomerular cel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infiltration  of leukocytes  (especiall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utroph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28600" y="41799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ypical features of immune complex dise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Hypocomplement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Granular deposits of IgG &amp; complement on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2D2-B046-4881-8CA0-15D63E6E9CAD}" type="slidenum"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RENAL086"/>
          <p:cNvPicPr/>
          <p:nvPr/>
        </p:nvPicPr>
        <p:blipFill>
          <a:blip r:embed="rId1"/>
          <a:stretch/>
        </p:blipFill>
        <p:spPr>
          <a:xfrm>
            <a:off x="0" y="3429000"/>
            <a:ext cx="259092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04920" y="5867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deposits are distribute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 the capillary loops in a granular, bumpy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ttern because of the focal nature of the deposi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ENAL0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2590920" cy="22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 streptococcal nephritis.jpg"/>
          <p:cNvPicPr/>
          <p:nvPr/>
        </p:nvPicPr>
        <p:blipFill>
          <a:blip r:embed="rId5"/>
          <a:stretch/>
        </p:blipFill>
        <p:spPr>
          <a:xfrm>
            <a:off x="2590920" y="1143000"/>
            <a:ext cx="62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1981080"/>
            <a:ext cx="8763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lowly progressiv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form of chronic immune-complex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common between 30 -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Memb_illustrationcapillary.jpg"/>
          <p:cNvPicPr/>
          <p:nvPr/>
        </p:nvPicPr>
        <p:blipFill>
          <a:blip r:embed="rId1"/>
          <a:stretch/>
        </p:blipFill>
        <p:spPr>
          <a:xfrm>
            <a:off x="50760" y="609480"/>
            <a:ext cx="904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152280" y="182520"/>
            <a:ext cx="8613720" cy="963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t is a chronic progressive glomerulonephritis that occur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lder children and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main typ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ype I MPGN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(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have been ident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in association with hepatitis B&amp;C antigenemi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tra-renal infections  or S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endothelial and mesangial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po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F membranoproliferative I.jpg"/>
          <p:cNvPicPr/>
          <p:nvPr/>
        </p:nvPicPr>
        <p:blipFill>
          <a:blip r:embed="rId2"/>
          <a:stretch/>
        </p:blipFill>
        <p:spPr>
          <a:xfrm>
            <a:off x="5715000" y="2320920"/>
            <a:ext cx="3429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822240"/>
            <a:ext cx="90676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ype II MPGN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lso known a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se deposit dis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undamental  abnormality i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cessive complement ac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patients have autoantibod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gainst C3 convertase called: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3 nephritic factor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membranous dense depo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IF MEM PROF II.jpg"/>
          <p:cNvPicPr/>
          <p:nvPr/>
        </p:nvPicPr>
        <p:blipFill>
          <a:blip r:embed="rId1"/>
          <a:stretch/>
        </p:blipFill>
        <p:spPr>
          <a:xfrm>
            <a:off x="5934240" y="3962520"/>
            <a:ext cx="3187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6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obr4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0" name="Down Arrow 4"/>
          <p:cNvSpPr/>
          <p:nvPr/>
        </p:nvSpPr>
        <p:spPr>
          <a:xfrm>
            <a:off x="6781680" y="2057400"/>
            <a:ext cx="152640" cy="16765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nderstand the importance of immun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xes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n the pathogenesis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renal inju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Learn that immune complexes form in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irculation and may deposit in different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is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nderstand the dynamics of deposition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xes which depend on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he size and rat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dentify the different types of renal disease based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n the site of deposition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the immune complex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89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 most common from of primary      glomerulonephritis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ffects children and you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Begins as an episode of gross hematuria that occurs within 1-2 days of a non specific upper respiratory tract 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4560" y="15235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athogenic hallmark i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position of IgA &amp; complement C3 in th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sangi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re is evidence of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complement by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 alternativ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thway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serum complement C2 and C4 will b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rm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IgA.jpg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This immunofluorescence pattern demonstrates positivity with antibody to IgA. The pattern is that of mesangial deposition in the glomerulus. This is IgA nephropat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286000" y="152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Arial"/>
              </a:rPr>
              <a:t>IgA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1523880"/>
            <a:ext cx="8839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PGN is a clinical syndrome and not a specific form of 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ases the glomerular injury is immunologically med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practical classification divides CrGN  into three groups on the basis of immunologic fi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health-writings.com/img/oy/membrane-glomerulonephritis/rapidly_progressive_crescentic_glomerulonephritis_02.jpg"/>
          <p:cNvPicPr/>
          <p:nvPr/>
        </p:nvPicPr>
        <p:blipFill>
          <a:blip r:embed="rId1"/>
          <a:stretch/>
        </p:blipFill>
        <p:spPr>
          <a:xfrm>
            <a:off x="0" y="1003320"/>
            <a:ext cx="8991720" cy="58640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linear deposition of IgG and C3 on the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Goodpasture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bodies bind also in the pulmonary    alveolar capillary basement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anti gbm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as a complication of any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complex nephrit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 infect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gA nephropat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stic granular (lumpy-bumpy) pattern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ining of the GBM for immunoglobulin &amp; comple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md_99-08-0054.jpg"/>
          <p:cNvPicPr/>
          <p:nvPr/>
        </p:nvPicPr>
        <p:blipFill>
          <a:blip r:embed="rId1"/>
          <a:stretch/>
        </p:blipFill>
        <p:spPr>
          <a:xfrm>
            <a:off x="228600" y="990720"/>
            <a:ext cx="8705880" cy="58672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Defined by the lack of anti-GBM anti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ost cases are  associated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-neutrophil cytoplasmic antibodi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rum (ANCA) and systemic vascul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GNspectrumB.gif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04920" y="15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of antibody with various microbial OR  self antigens induce type II or III hypersensitivity reactions in the kidn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086600" y="5105520"/>
            <a:ext cx="1676520" cy="1218960"/>
          </a:xfrm>
          <a:prstGeom prst="rect">
            <a:avLst/>
          </a:prstGeom>
          <a:solidFill>
            <a:srgbClr val="fdea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5029200"/>
            <a:ext cx="160020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jury to renal 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91320" y="3276720"/>
            <a:ext cx="838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09680" y="32767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191120" y="38098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8"/>
          <p:cNvSpPr/>
          <p:nvPr/>
        </p:nvSpPr>
        <p:spPr>
          <a:xfrm>
            <a:off x="6172200" y="3886200"/>
            <a:ext cx="380880" cy="15238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9"/>
          <p:cNvSpPr/>
          <p:nvPr/>
        </p:nvSpPr>
        <p:spPr>
          <a:xfrm>
            <a:off x="4267080" y="4114800"/>
            <a:ext cx="381240" cy="143496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0"/>
          <p:cNvSpPr/>
          <p:nvPr/>
        </p:nvSpPr>
        <p:spPr>
          <a:xfrm>
            <a:off x="2209680" y="3886200"/>
            <a:ext cx="228600" cy="1816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pauci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093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80880" y="6211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Granular staining (Immune comp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733920" y="621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Linear s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(Anti-G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6248520" y="6172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No antibody st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(Pauci associated with vasculit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mmune complexes underlie the pathogenesis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many of the glomerulo-nephrit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Activation of the complement system is an integral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part of the process, and measurement of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ment proteins help in diagnosis and follow-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p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mmunofluoresence of renal biopsy demonstrat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he presence of immune complexes and confirm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diagn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1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384120" y="152280"/>
            <a:ext cx="85345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eeningslide20080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4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accumulate in tissues where filtration of plasma occurs. This explains the high incidenc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lomerulonephritis (deposition in the   kidn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sculitis (deposition in the arteri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thritis (deposition in the synovial j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ntroduction-NIER_01.png"/>
          <p:cNvPicPr/>
          <p:nvPr/>
        </p:nvPicPr>
        <p:blipFill>
          <a:blip r:embed="rId1"/>
          <a:stretch/>
        </p:blipFill>
        <p:spPr>
          <a:xfrm>
            <a:off x="2631960" y="1998720"/>
            <a:ext cx="6512040" cy="48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sCAMCCZKX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stock-photo-scheme-of-a-nephron-dissected-in-which-we-can-see-inside-72413677.jpg"/>
          <p:cNvPicPr/>
          <p:nvPr/>
        </p:nvPicPr>
        <p:blipFill>
          <a:blip r:embed="rId3"/>
          <a:stretch/>
        </p:blipFill>
        <p:spPr>
          <a:xfrm>
            <a:off x="0" y="2666880"/>
            <a:ext cx="26701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04812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Nephron and glomer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weeningslide200809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627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ntibody-mediated Inju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mbran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IgA nephropat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Post infecti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ntiglomerular basement membrane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13:51Z</dcterms:created>
  <dc:creator>Dr.Hazem</dc:creator>
  <dc:description/>
  <dc:language>en-US</dc:language>
  <cp:lastModifiedBy>saeed nassar</cp:lastModifiedBy>
  <dcterms:modified xsi:type="dcterms:W3CDTF">2015-05-04T18:45:45Z</dcterms:modified>
  <cp:revision>118</cp:revision>
  <dc:subject/>
  <dc:title>Immunology of  nephritis.</dc:title>
</cp:coreProperties>
</file>