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D42B-03CD-4CC2-A1D8-23C49F19E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8FF1-7943-4ECB-8713-C0C06055AC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RD = end stage renal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FAF-958B-491A-8899-394C76E0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9D8-2BCD-4248-929A-997E3B0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05E-BBBE-465E-BA5E-4D058853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516-2F8B-4156-9E4E-A82EEF9F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1411B-1405-4AB0-9221-F8AFB472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6F764-430E-448A-920E-B8D8E87F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90D14-9A89-40CE-B986-40488453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800A4-EA15-49A2-A432-9557964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712BF-0F25-4FFF-82E4-B6972C75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5FB82-F10C-4F21-AC45-A6DF874A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701C8-CF1B-484E-A9C5-AAB4909C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21F-FC18-4298-AF3B-ABBDD970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40951-A3DC-47CA-A6D9-0848367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51838-A4EE-4812-9797-5EC081A5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C3054-F15F-4908-941B-45EDE8D5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7A216-5C9C-4FC0-B80F-C0732E14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B2AF-9817-4D35-8736-83F45B14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95A-998B-4C88-9216-742A0B29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156-41A7-4188-80A5-0EF8C665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589-9C4D-4A4D-8683-664796E7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C0F-7732-457C-A0D3-7EA66591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4DF-6856-4FE5-8AF7-E95C99D8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C87-5D08-4773-8E80-D35C197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E96-1170-4D45-8E47-9FB7B5E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9A0A-83C4-4290-93FA-577BC8E3FA5E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C958-4274-4FF9-8D28-AB0FC3758B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6DE2-F0E2-4ECB-BE97-A2C0CB60F9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yelonephrit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2DB-127A-49EF-95CD-AE904D09ED68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or recurring symptomless infection persisting for months o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6 weeks course if re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up urine culture 2 weeks after completion of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04ED-4254-4793-B00F-1F75744646A6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 Pyelonephr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d bouts of acute pyelonephritis may lead to chronic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linical manife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ymptoms of infection unless an acute exacerbation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appet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scarr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nal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A3B9-3CD2-4D89-936F-D0F7F7513893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Assessment and diagnostic find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um creatin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u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and 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Complic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RD=end stage rena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Medic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C&amp;S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carefully titrated if renal function is impa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029F-5B53-4076-8DE3-D19E5D574626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Nursing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 balance – I / O 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s encouraged unless contraind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urly te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 how to prevent recurrent infections : adequate fluids, emptying the bladder regularly and performing recommended perineal hygiene taking antibiotics a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564-9660-4921-92EC-CFBE75B546B6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arred and contorted kidney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hronic_pyelonephritis"/>
          <p:cNvPicPr/>
          <p:nvPr/>
        </p:nvPicPr>
        <p:blipFill>
          <a:blip r:embed="rId1"/>
          <a:stretch/>
        </p:blipFill>
        <p:spPr>
          <a:xfrm>
            <a:off x="0" y="701640"/>
            <a:ext cx="8531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D471-C71E-4271-AC62-DBC6A18F4EFA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Destruction of approximately 70% of the kidney. Numerous dilated calyces with yellow-brown calculi. The central necrotic areas are surrounded by dense fibrosis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Kidney_XGP_Gross4"/>
          <p:cNvPicPr/>
          <p:nvPr/>
        </p:nvPicPr>
        <p:blipFill>
          <a:blip r:embed="rId1"/>
          <a:srcRect l="0" t="0" r="0" b="10509"/>
          <a:stretch/>
        </p:blipFill>
        <p:spPr>
          <a:xfrm>
            <a:off x="609480" y="1114560"/>
            <a:ext cx="85345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70A1-7583-4F7B-B732-E53629C5AB29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ganism causing pyelonephrit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cending pathway or vesicoureteric refl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inly – E. co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- 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Klebsiella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aerogenes (causes          renal st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Enterob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Enterococcus faec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aphylococcus saprophyti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.    Haematogenous patho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aphylococcus aureus from infection elsew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ycobacterium tubercu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lmonella typh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rucella meliten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andida alb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7F20-33B7-4E39-B834-411D56EB708D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boratory diagnosis of Pyelonephrit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A. Urine exa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a.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yuria : Presence of pus cell 10 pus cells/cmm unspun uri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. Gram stain one drop of u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1 organism indicate 10⁵ significant bacteri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. Urine biochemical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1. nitrate reduction to Nitrate by enterobacteriaceae e.g. 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2. Leukocyte esterase indicate presence of pus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B. Blood Culture :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s acute Pyelonephritis is most accompanied by fever and Bacterim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. Radiological Stud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se indicate Kidneys and urinary tract abnormalities in chronic Pyelonep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7318-3E56-4E99-8616-8B9D940CCE52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ment of Pyelonephritis by Antimicrobial ag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Most of the antibiotics used for cytitis can be used in treatment of Pyelonephritis as far as they are distributed in Blood stream exampl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mpicillin /amoxicillin/ clavulan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ephospor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iprosfloxa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entami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Other Anti-microbial which cannot be used in treatment of Pyelonephritis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Nitrofuranto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Nalidix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14D5-1F73-4B03-AB8D-D379189C5516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Bacterial infection of the renal pelvis, tubules and interstitial tissue of one or both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athophysiology and aet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n usually ascends from the urethra most bacterial causes eg Eco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ematogenous spread is rare eg Staph aur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ly due to ureterovesic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l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5D40-00D3-44A8-908C-7ABBED13FD03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auses are :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tract obstruction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dder tumo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thral str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ign prostatic hyper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7ECF-9F0A-438B-9159-9BA4BDDF5F0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elonephritis may be acute or chr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Pa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s en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stitial infiltration of inflammatory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cesses on the capsule and at corticomedullary j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in destruction of tubules and the glomer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hronic, kidneys become scarred, contracted and nonfunc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0F96-4AAE-4FDC-8835-72C23D86222E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1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Clinical Manifestations  of acute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ly 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nk pain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al angle tende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ukocy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 symptoms of lower tract invol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EA86-2F21-472B-92DB-8F8BC06EEBC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cccc"/>
                </a:solidFill>
                <a:uFillTx/>
                <a:latin typeface="Arial"/>
              </a:rPr>
              <a:t>Investig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P=intra venous pye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nucleotide imaging with gallium citrate and indium-111-labeled WB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 culture and 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0214-E28B-4248-A8CE-AE3F2A85884A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4860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cturiting cystourethrogram (MCW showing bilateral VUR, grade IV on right and grade III on left-side. There is bilateral ureteral and pelvic dilation with blunting of fornices in the right kid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the next picture al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51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4B3E-C966-47D8-BAF6-D90D79E94815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10080" y="-36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e3ff"/>
                </a:solidFill>
                <a:latin typeface="Arial"/>
              </a:rPr>
              <a:t>Bilateral reflux extending into the pelvicalyceal systems of the kidney without dilatation of the calyces or ureters. (Note catheter in bladder)</a:t>
            </a:r>
            <a:endParaRPr b="0" lang="en-US" sz="3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11015" t="8139" r="43275" b="10466"/>
          <a:stretch/>
        </p:blipFill>
        <p:spPr>
          <a:xfrm>
            <a:off x="45720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5257800" y="5118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To go to any slide type the number and press enter during slide show onl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A38-A347-4290-BBB3-C3775AD5AF01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Medical Management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ed as outpatients if there is no nausea, vomiting or dehydration and other signs and symptoms of sep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ill patients and all pregnant women are hospitalized at least for 2 to 3 days for parenteral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weeks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r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rofloxa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amicin with or without amoxicil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3:30:40Z</dcterms:created>
  <dc:creator>Kasiviswanathan</dc:creator>
  <dc:description/>
  <dc:language>en-US</dc:language>
  <cp:lastModifiedBy>JERICA</cp:lastModifiedBy>
  <dcterms:modified xsi:type="dcterms:W3CDTF">2014-08-04T08:46:23Z</dcterms:modified>
  <cp:revision>16</cp:revision>
  <dc:subject/>
  <dc:title>Slide 1</dc:title>
</cp:coreProperties>
</file>