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C4AB-C8A2-4E84-84BB-BD1095FAD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A471-0A14-4777-B189-3DC08BCF5B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5A9-C301-43ED-8577-DA160889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3BD-E087-43E4-B7DD-D310B20F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571-B821-486E-817D-0E472352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074-F485-42F9-8FA0-EFF054B1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CDAFC-B1EB-4FFE-AC97-9DFB6782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D79C0-C269-4F4B-8AF5-3446DADD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9FA13-BEFA-4B8C-BE13-EF17D056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97DC8-E508-4214-9D42-03015663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25084-D18D-4679-86C2-B6EFCB59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6BAFC-81C0-4F47-B9F0-6616E577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95602-6589-4328-8ADD-70DFDECC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EB3-C11A-4AF3-A876-47A882B3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C06C4-67D8-4680-88C3-6AF53C87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DF885-8956-4EAF-9B8B-34B160F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12914-830B-4FD9-A2E2-BDEB2512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7F571-A005-4C7E-9F2B-6D6C426B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4F46E-8AFE-400B-832A-FD0E9B88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784-F812-48E3-85F2-2159B23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3AFA-A8CE-491C-8732-1C6C220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27BE-7097-49D9-A477-6EDB0927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A53-2798-4F52-BA3F-B1931DC3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CCA-3D47-4CDE-B817-31ED2A55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F65-E3BC-4D60-9CD0-A3203D6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6F8-E8CD-4B7C-8B02-83643812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9F2B-DC17-4C7A-A6C5-F9A62537C9DD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alatino Linotype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B1EB-07E8-4E5F-A08B-A40805EECF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4B12-9BE2-4D82-819B-38C20FC5ED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yelonephriti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F042-85E8-42C4-BF9F-E72938C4A9B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oblem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other 6 weeks course if re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 up urine culture 2 weeks after completion of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222-B113-4A48-B0FC-E5CD84E0434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onic Pyelonephriti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d bouts of acute pyelonephritis may lead to chronic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linical manifes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symptoms of infection unless an acute exacerbation occ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appet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y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th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ive scarr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nal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E97-DA92-4BE8-AA01-64D20029DE7C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Assessment and diagnostic find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um creatin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u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and 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Complic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RD=end stage rena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ten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 st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rding to C&amp;S res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carefully titrated if renal function is impai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79DC-C16B-4895-8568-34CDEF17B50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cccc"/>
                </a:solidFill>
                <a:uFillTx/>
                <a:latin typeface="Arial"/>
              </a:rPr>
              <a:t>Nursing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 balance – I / O 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ids encouraged unless contraindic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urly te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 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E722-F1F6-4FDC-9005-140EA27447FA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arred and contorted kidney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hronic_pyelonephritis"/>
          <p:cNvPicPr/>
          <p:nvPr/>
        </p:nvPicPr>
        <p:blipFill>
          <a:blip r:embed="rId1"/>
          <a:stretch/>
        </p:blipFill>
        <p:spPr>
          <a:xfrm>
            <a:off x="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555F-93ED-472E-9E81-91F1898A53FF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609480" y="111456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EDDC-74A9-4BE2-A39F-64D8E384811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ism causing pyelonephriti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cending pathway or vesicoureteric refl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inly – E. 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-  </a:t>
            </a:r>
            <a:r>
              <a:rPr b="0" i="1" lang="en-US" sz="2400" spc="-1" strike="noStrike">
                <a:solidFill>
                  <a:srgbClr val="ffffff"/>
                </a:solidFill>
                <a:latin typeface="Footlight MT Light"/>
              </a:rPr>
              <a:t>Klebsiella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aerogenes (causes          renal st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bac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seudom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Enterococcus faecal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saprophyti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.    Haematogenous patho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aphylococcus aureus from infection elsew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ycobacterium tubercu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lmonella typh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rucella meliten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-39600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andida alb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80DC-F263-4610-B0A2-7510A91E80F6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aboratory diagnosis of Pyelonephrit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Urine exa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a.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yuria : Presence of pus cell 10 pus cells/cmm unspun uri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. Gram stain one drop of u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 organism indicate 10⁵ significant bacteriu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. Urine biochemical 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1. nitrate reduction to Nitrate by enterobacteriaceae e.g. E. co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2. Leukocyte esterase indicate presence of pus cel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B. Blood Culture :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s acute Pyelonephritis is most accompanied by fever and Bacterim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. Radiological Stud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se indicate Kidneys and urinary tract abnormalities in chronic Pyelonephr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2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0DCE-B188-43CE-BC10-A06FBA128855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eatment of Pyelonephritis by Antimicrobial ag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Most of the antibiotics used for cytitis can be used in treatment of Pyelonephritis as far as they are distributed in Blood stream exampl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mpicillin /amoxicillin/ clavulan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ephospor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iprosfloxa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entamic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Footlight MT Light"/>
              </a:rPr>
              <a:t>Other Anti-microbial which cannot be used in treatment of Pyelonephritis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itrofuranto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Footlight MT Ligh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Nalidixic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0CDA-C1D7-47A6-B09B-C4EA93078507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Bacterial infection of the renal pelvis, tubules and interstitial tissue of one or both kidn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Pathophysiology and aet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n usually ascends from the urethra most bacterial causes eg Ecol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ematogenous spread is rare eg Staph aur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ly due to ureterovesica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l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F730-A019-4C4D-A41C-FC4575BBD7F3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causes are :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tract obstruction 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dder tum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ethral str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ign prostatic hyperpl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ary st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BD3D-4582-42B3-BA7A-E8474D36424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yelonephritis may be acute or chro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Path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neys en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stitial infiltration of inflammatory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cesses on the capsule and at corticomedullary j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 in destruction of tubules and the glomeru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hronic, kidneys become scarred, contracted and nonfuncti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617-978C-4398-8032-20058AC41A4A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1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Clinical Manifestations  of acute pyelonep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ly 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nk pain 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al angle tender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ukocyt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ddition symptoms of lower tract invol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su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A200-5B41-4425-A14E-049AB2121431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cccc"/>
                </a:solidFill>
                <a:uFillTx/>
                <a:latin typeface="Arial"/>
              </a:rPr>
              <a:t>Investig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VP=intra venous pyel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onucleotide imaging with gallium citrate and indium-111-labeled WB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ine culture and sensi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110D-2553-4D58-94C0-B8A169BC12CB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the next picture al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324E-AE49-489C-8C61-66C7E2E23944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10080" y="-36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e3ff"/>
                </a:solidFill>
                <a:latin typeface="Arial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5257800" y="5118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Palatino Linotype"/>
              </a:rPr>
              <a:t>To go to any slide type the number and press enter during slide show only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967-71F0-4C05-9A40-1AB43FC99752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cccc"/>
                </a:solidFill>
                <a:uFillTx/>
                <a:latin typeface="Arial"/>
              </a:rPr>
              <a:t>Medical Management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weeks co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r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profloxa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tamicin with or without amoxicil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ERICA</cp:lastModifiedBy>
  <dcterms:modified xsi:type="dcterms:W3CDTF">2014-08-04T08:46:23Z</dcterms:modified>
  <cp:revision>16</cp:revision>
  <dc:subject/>
  <dc:title>Slide 1</dc:title>
</cp:coreProperties>
</file>