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93BB-FC5A-4882-9560-A3EC0E2B42E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7CCA9-2A7A-4A38-A143-C6FA0302C4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A096-283C-445F-BC8C-77A8669B16B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EDED-8A4D-4ABD-A756-521FA837C5A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F51C-BD45-43D5-AB28-95659241324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5BAD-97AF-489B-A21B-72706E1E13F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9F5A-6488-4A56-88B0-8306CFA01EAE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C2FD-46D7-4EB3-BA6A-25628E9121C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97E6-FB4D-4DA4-8B68-EDF486D0EF3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A10E-EEA8-45EE-80F7-78EF0DFE7D4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EBA8-1D11-46F3-92FC-C740A5A6C40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7FCF-F571-4D2C-80B4-D8CE2837CE7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461A-9547-4A14-B06F-64A8C487A9DD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FE7B-920B-4FD6-ADA4-ECBEA5F8569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8EB-5438-435B-AC82-A4B4A3D53FA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5495-0F58-4BFF-8B8C-161C58A496D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6EE4-C38D-466F-BC47-5C950117C53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2187-E8C9-4920-9ABA-CB8F08D9743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D9B2D-6BA0-417C-A2A1-FC0496A85F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A8CD-47BA-4EB7-A41E-D441C312019C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6F79-4924-4472-84F7-7B57ECAC52D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DC0-C7E8-4300-A98D-35118CAE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1E0A-BA8D-46B1-A6F8-081F2E9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58A-AF65-48B7-B1E2-8E6E4F8C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A8C-02AE-4BBE-ABDE-2FADAC5F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9E6B-5813-4130-9BAE-7BFF697F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555-95DB-4193-86FF-2434DB2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CF8A-0D9A-41A9-B39F-632B7E9B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FEDD-001E-47E4-9D9C-5A4EDA97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1917-F603-4E34-8CDF-AC1A9CCA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8D17-6ABF-4D2C-94FD-B9E74572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FBE3-7815-4936-8E18-0134C98E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1019-98D7-481F-90BA-F235242E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9790-1D28-4E60-95E8-AD44296F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7A96-E3E5-4860-B6C6-7967792C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D951-97BF-4984-B654-D79F0DB7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606C-9A84-4FCE-8B0A-BA78A547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D080-9F92-4B76-94BF-492AAB50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BB5-78E4-48C4-A635-0E5EC097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B99-1EB7-41CC-8CA9-4E87C52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1D4-7D69-46E1-BB9D-3F51B3AF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BCF-2F83-40F6-B5E2-1DF7D95F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8A0-A8CF-43A1-AB1F-A5C1BAB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229-1B2E-4E15-8EFB-989380A0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AAE-2F91-4BC7-A561-61FCC400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9A6E-2724-43C5-9CA9-E6B6D00F172B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16C7-B198-4DBC-B850-A9FC5EC6CFB8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84080" y="3429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e.g.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nicill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thus less amount of penicillin will be excreted → prolonged duration of action of penicillin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ubular lumen back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128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8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ncreases excretion of uric acid in urin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ＭＳ Ｐゴシック"/>
              </a:rPr>
              <a:t>inhibiting  active tubular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the endogenous metabolite u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Garamond"/>
              </a:rPr>
              <a:t>Renal Excretion of drugs in neonates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body water than ad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distribution of water-soluble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ower concentration of dru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blood coming to the kidneys and decreased rate of drug clear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l blood flow in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erular filtra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Effects of Aging on the Kidney (in Elderly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functional neph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merular filtration rate (G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rug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ang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d to enhance renal 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03320" y="6097680"/>
            <a:ext cx="894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reabsorbed back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203040" y="616572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eliminated into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50920" y="981000"/>
            <a:ext cx="8642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volume of blood that is cleared of creatinine per uni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lithium, digoxin, warfarin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0000"/>
                </a:solidFill>
                <a:latin typeface="Garamond"/>
              </a:rPr>
              <a:t>So what should we do in renal impairment?</a:t>
            </a:r>
            <a:r>
              <a:rPr b="0" lang="en-AU" sz="34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gentamicin)</a:t>
            </a:r>
            <a:r>
              <a:rPr b="0" lang="en-A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in case of drugs with narrow therapeutic index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dig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50920" y="1268280"/>
            <a:ext cx="86421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mino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04-23T04:55:44Z</dcterms:modified>
  <cp:revision>322</cp:revision>
  <dc:subject/>
  <dc:title>GENERAL PHARMACOLOGY</dc:title>
</cp:coreProperties>
</file>