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E4C4-13DC-4E92-8BA9-0074B320E0B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5F192-05A1-4335-8349-7BDEC10A06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7676-A1BB-43D6-BE39-A8BA29E5D218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D74F-1078-4AD1-96E9-366EC2B1364D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B904-1A2E-478A-B26F-F2780EE6FFF7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6883-B86E-49C4-9CCC-4760B2D6752B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3555-2F84-41BA-9196-665DA04B6BC5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6742-8C74-476C-8873-A43D3CB27AE5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0B92-E315-4FF8-B864-E981D515CA73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AD3D-A1E4-4BB4-A00C-0AF7AFB9E008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3C2C-B4BA-4CF1-BBBF-0FB6E369A410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0F8E-31FC-493F-B8F7-476B41D554A0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5AEB-4E14-412F-AFCA-825255F68A5C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99FE-CE59-4A5F-AAB6-119D8AD6952B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3188-A0ED-4250-9CFB-673BE3600C64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FCB7-ACC6-4619-BC24-ED2653443DA3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D3BC-98CA-4287-9E0B-A39DA0443EBD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F8E0-BDA1-4AD8-A0AE-2E7C54452FA6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142CA-EF58-424C-B62A-78192C08D2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07F1-0F8D-4ADA-941B-805E61FBFD68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732E-7751-4BD1-98E2-2D388EBA2090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28B-0A5B-4791-96AB-44E44428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654-18E6-4F5F-A6A8-0E84802B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2DF-ED85-4555-84E4-FB8B79D6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C9FB-11CB-4276-88B5-004607A5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F56D-4C3A-4291-A624-A6187A61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116D-AB80-4086-B6D8-1E58DE4C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FBE0-0EFE-4C02-9255-F2A4759E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7EF2-8D0A-4F74-B6FE-706F3240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483F-3C57-461E-BE5A-A36686D7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0E5A-DEFC-41F8-B402-EE6E97CF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F071-8D17-416A-A672-085DCE80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C70-D4CD-403C-821D-5B971D7B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ABCA-2187-45CB-AED4-885ADC3F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C22E-65AA-4068-92E4-45751E4B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729A-DFED-4F0E-A282-58BEA601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EE83-862B-4953-856E-3D2D5AC4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4B6C-A974-4DD3-96F0-5FAE9325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C12D-7A41-4DC8-8C04-1EB11181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1A9-27AC-4452-9354-A08EA572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DA8C-4FA3-42A6-9B91-5BA92AF8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3CC-3EAB-4A61-85F9-A9488879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BF0-4BF8-4E5B-909E-3B239BC0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270-89B6-4311-AA2E-E3AAA5B2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79AD-98F3-477F-83E9-127338B2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1BBA-81ED-47A0-BFE1-548CF03E719C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855D-C079-4927-9F2F-804E7F8DA3BC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187280" y="2060640"/>
            <a:ext cx="67694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Excretion of Drug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84080" y="342900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logy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logo"/>
          <p:cNvPicPr/>
          <p:nvPr/>
        </p:nvPicPr>
        <p:blipFill>
          <a:blip r:embed="rId1"/>
          <a:stretch/>
        </p:blipFill>
        <p:spPr>
          <a:xfrm>
            <a:off x="7812000" y="404640"/>
            <a:ext cx="90828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5092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53800" indent="-2538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Blood is filtered across </a:t>
            </a:r>
            <a:r>
              <a:rPr b="0" lang="en-US" sz="32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a semi-permeable membrane into the Bowman’s Caps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Driving force for  GF  is hydrostatic pressure of blood flowing in capill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53800" indent="-2538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Filtrate contains water, glucose, amino acids, sodium bicarbonates, organic solutes and electrolytes (sodium, potassium, chlorid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Blood cells, platelets, and plasma proteins are retained in the blood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ＭＳ Ｐゴシック"/>
              </a:rPr>
              <a:t>not filtered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588320" y="189000"/>
            <a:ext cx="55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omerular filtration (GF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omerular Filtra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rugs are filtered through glomerul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Glomerular filtration of drugs occu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Low molecular weight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Water soluble drugs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e.g. aminoglycosides, tubocurarine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Free form of the drugs (not bound to plasma protein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Drugs with low volume of distribution (V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omerular Filtration Rate (GF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amount of blood filtered by the glomeruli in a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GFR = 125 ml/m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FR i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used as a marker or indicator for kidney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FR is determined by creatinine, inulin (inulin is easily filtered by kidney not reabsorb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eatinine clearance (CrCl) is used as a marker instead of GF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1280" y="18864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Active Tubular Secre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2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occurs mainly in proximal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2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It increases drug concentration in the filt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2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Drugs undergo active secretion have excretion rate values greater than normal GF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Secretion of ionized drugs into the 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e.g. penici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605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acters of active tubular secre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needs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transports drug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ＭＳ Ｐゴシック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concentration gradients between blood and filt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requires carriers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ＭＳ Ｐゴシック"/>
              </a:rPr>
              <a:t>transporter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Sat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Not specific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ＭＳ Ｐゴシック"/>
              </a:rPr>
              <a:t>competition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ay happe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50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Types of transpor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578880">
              <a:lnSpc>
                <a:spcPct val="100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Transporters for organic acid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e.g Penicillin, aspirin, sulfonamides, probeneci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578880">
              <a:lnSpc>
                <a:spcPct val="100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Transporters for organic base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e.g morphine, catecholamines, atropine,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inin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578880">
              <a:lnSpc>
                <a:spcPct val="100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Two drugs can compete for the same carrier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Probenecid &amp; penicill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Probenecid &amp; nitrofurant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ally similar drug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similar ionic charge and employing th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e carrier- mediated proces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cretion enter into competi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rug with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ea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e of excretion wil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tar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excretion of other drug with which it compet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f life of both drugs is increased since the total sites for active secretion are limi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Competitive active tubular se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4920" y="1052280"/>
            <a:ext cx="8497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Beneficial competition: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33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Probenecid &amp; penici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oth require the same carrier for renal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bene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competes with or retards renal tubular secre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enicill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d thus less amount of penicillin will be excreted → prolonged duration of action of penicillin &amp; increase in its antibacterial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le 1"/>
          <p:cNvSpPr/>
          <p:nvPr/>
        </p:nvSpPr>
        <p:spPr>
          <a:xfrm>
            <a:off x="108000" y="189000"/>
            <a:ext cx="90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Competitive active tubular secretion of dru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94920" y="105228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Harmful competition: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Probenecid &amp; nitrofuranto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beneci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hibits renal tubular secretion of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itrofurantoi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hus decreases its efficacy  in urinary tract infections (UTIs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108000" y="189000"/>
            <a:ext cx="90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Competitive active tubular secretion of dru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788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bular Re-absorp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fter glomerular filtration, drugs may be reabsorb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ubular lumen back into systemic blood circ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akes place along all the renal tubu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absorption increases half life of a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absorption may b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s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8000" y="286920"/>
            <a:ext cx="67690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Dru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is lecture, students should be abl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main and minor routes of Excretion including renal elimination and biliary excre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its consequences on duration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different factors controlling renal excretion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meaning of urinary ion trapp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how we can prescribe drugs in patients with renal impai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788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sive Tubular re-absorp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istal convoluted tubules &amp; collecting 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nly lipid soluble drugs (non-ionize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dergo passive tubular re-absorption from tubular lumen back into bloo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not excreted in the urine, urinary excretion will be low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onized dru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ater soluble) are poorly reabsorbed, excreted easily in the urine,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excretion will be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33744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  <p:sp>
        <p:nvSpPr>
          <p:cNvPr id="128" name="Oval 5"/>
          <p:cNvSpPr/>
          <p:nvPr/>
        </p:nvSpPr>
        <p:spPr>
          <a:xfrm>
            <a:off x="457200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395280" y="83664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421164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4788000" y="2565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5292720" y="2349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500364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3708360" y="249228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485928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457200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"/>
          <p:cNvSpPr/>
          <p:nvPr/>
        </p:nvSpPr>
        <p:spPr>
          <a:xfrm>
            <a:off x="471636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457200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6"/>
          <p:cNvSpPr/>
          <p:nvPr/>
        </p:nvSpPr>
        <p:spPr>
          <a:xfrm>
            <a:off x="471636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7"/>
          <p:cNvSpPr/>
          <p:nvPr/>
        </p:nvSpPr>
        <p:spPr>
          <a:xfrm>
            <a:off x="4572000" y="9079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8"/>
          <p:cNvSpPr/>
          <p:nvPr/>
        </p:nvSpPr>
        <p:spPr>
          <a:xfrm>
            <a:off x="478800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9"/>
          <p:cNvSpPr/>
          <p:nvPr/>
        </p:nvSpPr>
        <p:spPr>
          <a:xfrm>
            <a:off x="4500720" y="2421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0"/>
          <p:cNvSpPr/>
          <p:nvPr/>
        </p:nvSpPr>
        <p:spPr>
          <a:xfrm>
            <a:off x="4716360" y="119700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1"/>
          <p:cNvSpPr/>
          <p:nvPr/>
        </p:nvSpPr>
        <p:spPr>
          <a:xfrm>
            <a:off x="500364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2"/>
          <p:cNvSpPr/>
          <p:nvPr/>
        </p:nvSpPr>
        <p:spPr>
          <a:xfrm>
            <a:off x="4427640" y="549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478800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4"/>
          <p:cNvSpPr/>
          <p:nvPr/>
        </p:nvSpPr>
        <p:spPr>
          <a:xfrm>
            <a:off x="4859280" y="333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5"/>
          <p:cNvSpPr/>
          <p:nvPr/>
        </p:nvSpPr>
        <p:spPr>
          <a:xfrm>
            <a:off x="39528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61128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 drug= water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611280" y="692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 polar drug = lipid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8"/>
          <p:cNvSpPr/>
          <p:nvPr/>
        </p:nvSpPr>
        <p:spPr>
          <a:xfrm>
            <a:off x="5003640" y="1341360"/>
            <a:ext cx="14292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9"/>
          <p:cNvSpPr/>
          <p:nvPr/>
        </p:nvSpPr>
        <p:spPr>
          <a:xfrm>
            <a:off x="5003640" y="1557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72 -0.07052 C 0.01042 0.03168 0.01302 0.12578 0.00816 0.22543 C 0.0059 0.37919 0.0283 0.33364 -0.09826 0.3311 C -0.10139 0.32971 -0.10469 0.32832 -0.10781 0.32694 C -0.11337 0.32462 -0.12517 0.32902 -0.12517 0.32902 L -0.12517 0.3163 E">
                                      <p:cBhvr>
                                        <p:cTn id="471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2.65896E-006 C 0.01633 0.08671 -0.00954 0.18012 0.00799 0.26636 C 0.00747 0.30428 0.0073 0.34243 0.00626 0.38035 C 0.00521 0.42335 0.00539 0.39145 0.00313 0.3889 C 0.00105 0.38659 -0.00225 0.38752 -0.00485 0.38682 C -0.0085 0.38567 -0.01562 0.38289 -0.01909 0.38266 C -0.07673 0.37873 -0.07465 0.40509 -0.07465 0.37179 E">
                                      <p:cBhvr>
                                        <p:cTn id="47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9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1 0.01573 C 0.00903 0.02197 0.01007 0.02844 0.01007 0.03469 C 0.01007 0.4837 0.10678 0.43191 -0.11215 0.42775 C -0.12829 0.42521 -0.1434 0.42359 -0.15972 0.42359 E">
                                      <p:cBhvr>
                                        <p:cTn id="485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9" dur="3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3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5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1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3" dur="3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7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1" dur="3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3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5" dur="3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9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5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1" dur="3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5" dur="3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3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9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ve Tubular re-absorp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occurs with endogenous substances or nutrients that the body needs to conserve. e.g. glucose, electrolytes, amino acids, uric acid, vitam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Probene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cts as 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uricosuric ag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n the treatment of g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ncreases excretion of uric acid in urine by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ＭＳ Ｐゴシック"/>
              </a:rPr>
              <a:t>inhibiting  active tubular re-absorp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f the endogenous metabolite uric ac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46040" y="836280"/>
            <a:ext cx="84470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to the 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ochemical properties of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of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 of distrib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 charac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factor e.g.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79280" y="980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nal blood flow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renal function depends upon renal blood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e in renal blood flow can decrease excretion of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AIDS e.g. aspirin and ibuprofen inhibit the produc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gland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refore reduces renal perfusion and GF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980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) Molecular weight of the drug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r MW drugs are difficult to be excreted than smaller MW especially by glomerular fil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) Lipid solubility of drug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excretion is inversely related to lipophil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lipid solubility increases volume of distribution of drug and decreases renal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79280" y="980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) Degree of ionization of drug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ionization of drug increases its water solubility and thus enhances its renal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or water soluble drugs are easily filtered e.g aminoglycosides, tubocura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560" y="980640"/>
            <a:ext cx="87138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) Volume of distribution (vd)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 is inversely related to volume of distribution of drugs (Vd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wi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V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poorly excreted in ur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restricted to bloo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w vd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higher renal excretion 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560" y="980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) Binding characteristics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that are bound to plasma proteins behave as macromolecules and cannot be filtered through glomerulus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nly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unbound form of dru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ree form) appears in glomerular filt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in bound drugs have long half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4614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50560" y="980640"/>
            <a:ext cx="87138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) Biological factor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 can affect renal clear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 is reduced 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nat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der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pharmacokinetic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 reduc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dvisable otherwise toxicity may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xcre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utes of Excretio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jor routes of excre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ary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nor routes of excre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vary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mmary excretion via mil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/ Dermal excretion via swe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Garamond"/>
              </a:rPr>
              <a:t>Renal Excretion of drugs in neonates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or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body water than adul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Greate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lume of distribution of water-soluble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ower concentration of dru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blood coming to the kidneys and decreased rate of drug clearanc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nal blood flow in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omerular filtration of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Garamond"/>
              </a:rPr>
              <a:t>Effects of Aging on the Kidney (in Elderly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001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dney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blood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functional neph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bular se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lomerular filtration rate (GF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drug cl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eases stat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irs the elimination of drugs thus may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alf-life (t ½ ) of dru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is may occur du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renal blood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rrh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genic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renal excre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disease (e.g. glomerulonephrit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excretion of drugs and pH of u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ost drugs are weak acids or weak b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Normal urine (</a:t>
            </a:r>
            <a:r>
              <a:rPr b="0" lang="en-GB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pH 5.3</a:t>
            </a:r>
            <a:r>
              <a:rPr b="0" lang="en-GB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)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slightly acidic and favors excretion of </a:t>
            </a: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basic drug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ost of </a:t>
            </a:r>
            <a:r>
              <a:rPr b="0" lang="en-GB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acidic drugs</a:t>
            </a:r>
            <a:r>
              <a:rPr b="0" lang="en-GB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will be reabsorbed back into bod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Change pH of urine can inhibit or enhance the passive tubular re-absorption of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13840" y="0"/>
            <a:ext cx="85726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pH trapping (Ion trap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s used to enhance renal clearance of drugs during tox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e acidific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mmonium chloride (NH4Cl) increases excretion of basic drugs (amphetamine)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e alkaliza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odium bicarbonate NaHCO3 increases excretion of acidic drugs (aspir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Comic Sans MS"/>
              </a:rPr>
              <a:t>Ion trapp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52280" y="1031760"/>
            <a:ext cx="8712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ider a barbiturate (weak acidic drug) overdo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4140360" y="1844640"/>
            <a:ext cx="291960" cy="3111480"/>
          </a:xfrm>
          <a:prstGeom prst="rect">
            <a:avLst/>
          </a:prstGeom>
          <a:solidFill>
            <a:srgbClr val="5f5f5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619280" y="1628640"/>
            <a:ext cx="5473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63de8"/>
                </a:solidFill>
                <a:latin typeface="Arial"/>
              </a:rPr>
              <a:t>Urine                          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63de8"/>
                </a:solidFill>
                <a:latin typeface="Arial"/>
              </a:rPr>
              <a:t>pH 5.3                          pH 7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50920" y="2852640"/>
            <a:ext cx="8569080" cy="32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More non-io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ortion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ak acid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Less Ionized 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3780000" y="5037120"/>
            <a:ext cx="0" cy="792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3"/>
          <p:cNvSpPr/>
          <p:nvPr/>
        </p:nvSpPr>
        <p:spPr>
          <a:xfrm>
            <a:off x="324000" y="1628640"/>
            <a:ext cx="835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103320" y="6097680"/>
            <a:ext cx="8940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of acidic drug will be reabsorbed back into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3494160" y="3333600"/>
            <a:ext cx="1584360" cy="935280"/>
          </a:xfrm>
          <a:custGeom>
            <a:avLst/>
            <a:gdLst>
              <a:gd name="textAreaLeft" fmla="*/ 212040 w 1584360"/>
              <a:gd name="textAreaRight" fmla="*/ 1372320 w 1584360"/>
              <a:gd name="textAreaTop" fmla="*/ 163440 h 935280"/>
              <a:gd name="textAreaBottom" fmla="*/ 67824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Comic Sans MS"/>
              </a:rPr>
              <a:t>Ion trappin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4067280" y="2133720"/>
            <a:ext cx="291960" cy="3111480"/>
          </a:xfrm>
          <a:prstGeom prst="rect">
            <a:avLst/>
          </a:prstGeom>
          <a:solidFill>
            <a:srgbClr val="5f5f5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1547640" y="2133720"/>
            <a:ext cx="5473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63de8"/>
                </a:solidFill>
                <a:latin typeface="Arial"/>
              </a:rPr>
              <a:t>Urine                          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63de8"/>
                </a:solidFill>
                <a:latin typeface="Arial"/>
              </a:rPr>
              <a:t>pH 8.0                          pH 7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539640" y="3141720"/>
            <a:ext cx="8280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Less Non-ionized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weak acid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ore Io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3203640" y="3933720"/>
            <a:ext cx="22320" cy="1195560"/>
          </a:xfrm>
          <a:prstGeom prst="line">
            <a:avLst/>
          </a:prstGeom>
          <a:ln w="181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250920" y="2133720"/>
            <a:ext cx="835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3635280" y="3284640"/>
            <a:ext cx="1657440" cy="360360"/>
          </a:xfrm>
          <a:custGeom>
            <a:avLst/>
            <a:gdLst>
              <a:gd name="textAreaLeft" fmla="*/ 221760 w 1657440"/>
              <a:gd name="textAreaRight" fmla="*/ 1435680 w 165744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152280" y="1031760"/>
            <a:ext cx="87123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presence of sodium bicarbonate, urine is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alkali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mo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retion of acidic drug into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203040" y="6165720"/>
            <a:ext cx="8940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of acidic drug will be eliminated into ur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2"/>
          <p:cNvSpPr/>
          <p:nvPr/>
        </p:nvSpPr>
        <p:spPr>
          <a:xfrm>
            <a:off x="324000" y="2271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Creatinine clearance and drugs ex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250920" y="981000"/>
            <a:ext cx="864216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66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 clearance rate (CrCl) is the volume of blood that is cleared of creatinine per uni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66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 clearance (CrC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ed to estimate glomerular filtration rate (GFR) because creatinine is produced from muscle and freely filter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low MW, water soluble, and is not protein boun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075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clea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l/mi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r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concentration  [Cp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: drug concentration in the 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u : volume of urine in 24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:  drug concentration in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3143160" y="214308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322200" y="1126800"/>
            <a:ext cx="8642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ckcroft-Gault equ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stima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 cl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: CrCl  =        0.85 (140 − age) X body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um creatinine ×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:    CrCl  =   (140 − age) X body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um creatinine ×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324000" y="260280"/>
            <a:ext cx="856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stimation of Creatinine Cleara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3203640" y="458136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3780000" y="292428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Ex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e of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al unit of kidney i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onsists o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le’s loop (Ascending –Descen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ng 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clearance of drug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renal clearance is impaired, this may incr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½  of drugs and may result into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ug toxi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 is especially important for some drugs which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in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ed by the 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arrow therapeutic 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 lithium, digoxin, warfarin)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3059280" y="2421000"/>
            <a:ext cx="432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179280" y="189000"/>
            <a:ext cx="8640720" cy="61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rugs excreted mainly by the kidney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Antibiotic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enicillins, cephalospori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Aminoglycosides (gentamyc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lfonam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NSAIDs e.g. aspir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Lithiu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Digox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Immunosuppressants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(cyclosporin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Anticancer drugs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(cisplat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aramond"/>
              </a:rPr>
              <a:t>Be careful upon prescribing those drugs in: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Renal failure patients – Elderly pat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78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ff0000"/>
                </a:solidFill>
                <a:latin typeface="Garamond"/>
              </a:rPr>
              <a:t>So what should we do in renal impairment?</a:t>
            </a:r>
            <a:r>
              <a:rPr b="0" lang="en-AU" sz="34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 reduction of drugs is required </a:t>
            </a:r>
            <a:r>
              <a:rPr b="1" i="1" lang="en-A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when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reatinine clearance is below 60 ml/m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usual dose but prolong the dosing intervals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e.g. gentamicin)</a:t>
            </a:r>
            <a:r>
              <a:rPr b="0" lang="en-A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the dose without changing dosing intervals in case of drugs with narrow therapeutic index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e.g. dig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blood levels of drugs </a:t>
            </a:r>
            <a:r>
              <a:rPr b="1" lang="en-A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therapeutic drug monitor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2"/>
          <p:cNvSpPr/>
          <p:nvPr/>
        </p:nvSpPr>
        <p:spPr>
          <a:xfrm>
            <a:off x="324000" y="227160"/>
            <a:ext cx="856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eatinine clearance and drugs excretio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250920" y="1268280"/>
            <a:ext cx="864216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that are primarily excreted by the kidne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dose adjus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r dose adjustment if CrCl = 30-60 mL/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dose adjustment if CrCl &lt; 15mL/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When dose reduction is not required in renal impairment 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drugs e.g.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eftriaxone, minocycl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re excreted mainly into feces (biliary excretion) doesn’t need dose adjustment in renal impair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drugs are readily excreted and poorly re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le drugs are reabsorbed back and excretion will be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drugs are best excreted in alkaline ur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drugs are best excreted in acidic ur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ulin and creatinine are used to assess renal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tion for active secretion prolongs half life of some drugs e.g penicillin and probenic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: hananhhagar@yah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j0078711"/>
          <p:cNvPicPr/>
          <p:nvPr/>
        </p:nvPicPr>
        <p:blipFill>
          <a:blip r:embed="rId1"/>
          <a:stretch/>
        </p:blipFill>
        <p:spPr>
          <a:xfrm>
            <a:off x="6084720" y="1268280"/>
            <a:ext cx="2057400" cy="393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71280" y="1214280"/>
            <a:ext cx="9001440" cy="5572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57120" y="76320"/>
            <a:ext cx="8501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e of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al unit of kidney i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23"/>
          <p:cNvPicPr/>
          <p:nvPr/>
        </p:nvPicPr>
        <p:blipFill>
          <a:blip r:embed="rId1"/>
          <a:stretch/>
        </p:blipFill>
        <p:spPr>
          <a:xfrm>
            <a:off x="71280" y="115920"/>
            <a:ext cx="8964720" cy="66690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05" name="Text Box 5"/>
          <p:cNvSpPr/>
          <p:nvPr/>
        </p:nvSpPr>
        <p:spPr>
          <a:xfrm>
            <a:off x="2050920" y="260280"/>
            <a:ext cx="482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57120" y="53578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eph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excre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st important organ for drug excretion is the kidney.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6500880" y="3071880"/>
            <a:ext cx="1800000" cy="286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4704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>
                <a:solidFill>
                  <a:srgbClr val="ff0000"/>
                </a:solidFill>
                <a:latin typeface="Garamond"/>
              </a:rPr>
              <a:t>Normal kidney func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3840" y="1052280"/>
            <a:ext cx="8821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 of electrolytes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ldoster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 of water balance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-diuretic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orm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wastes &amp; drug metabolites such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Renal excretion of drug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ary excretion of drugs occurs through three proc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merular fil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tubular se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ve or active tubular re-absorp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Hanan Hagar</cp:lastModifiedBy>
  <dcterms:modified xsi:type="dcterms:W3CDTF">2015-04-23T04:55:44Z</dcterms:modified>
  <cp:revision>322</cp:revision>
  <dc:subject/>
  <dc:title>GENERAL PHARMACOLOGY</dc:title>
</cp:coreProperties>
</file>