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6B7C0-3909-4555-8B8A-B37FE3A634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5C5DF-5058-4B51-BA6F-04EBAF2A0A4C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7D6D7-9C37-4FC6-BFA4-EE0DC494ACC2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68B3F-33FE-413A-81E3-A1911B90684E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43F9A-7F97-4C62-A7B1-64BA9598B6EF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B3772-A1E3-43D2-83C0-8A4A76CA1E8D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3E28D-E69D-454D-A139-8114AC9CEF9E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B3A0F-73A3-4B25-BB9E-0C611F53E255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E763E-42C3-47EF-98B6-C96D22D99CB3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3C9D-CC19-4557-800A-24E86BF87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CC29-08E4-4212-9651-39036F322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DE02-F04F-4362-8E08-9F12EAEF9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83BA-B33F-490D-A61E-B032B0151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8ED8-04D8-4B48-8B81-17F38D75D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F2A6-9623-4AD6-ACBA-F2F49199E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DBA4-A52D-4791-9587-93BB5EB02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E053-7FA9-4535-B3D8-9CEB6C76E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9F78-B142-4A71-8464-92529B860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428D-58D2-492B-80CE-FF1AA6E8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B757-73BF-418C-B7F4-21D3423E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B0C7-5CF9-4FBC-8FEC-1F714A20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CB8EC-926A-403F-BFB4-0D068C1841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449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of. Mohammad Alhumayy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epartment of Pharmac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ECHANISM OF A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-Aminobenzoic Ac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hydropteroate  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Sulfonamid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het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hydrofol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hydrofol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ductase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trahydrofol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cleic acid synthesis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Line 4"/>
          <p:cNvSpPr/>
          <p:nvPr/>
        </p:nvSpPr>
        <p:spPr>
          <a:xfrm>
            <a:off x="3492360" y="206064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5"/>
          <p:cNvSpPr/>
          <p:nvPr/>
        </p:nvSpPr>
        <p:spPr>
          <a:xfrm>
            <a:off x="3419640" y="37893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6"/>
          <p:cNvSpPr/>
          <p:nvPr/>
        </p:nvSpPr>
        <p:spPr>
          <a:xfrm>
            <a:off x="3348000" y="5084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7"/>
          <p:cNvSpPr/>
          <p:nvPr/>
        </p:nvSpPr>
        <p:spPr>
          <a:xfrm>
            <a:off x="468360" y="2276640"/>
            <a:ext cx="280836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8"/>
          <p:cNvSpPr/>
          <p:nvPr/>
        </p:nvSpPr>
        <p:spPr>
          <a:xfrm>
            <a:off x="324000" y="3571920"/>
            <a:ext cx="2447640" cy="1009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9"/>
          <p:cNvSpPr/>
          <p:nvPr/>
        </p:nvSpPr>
        <p:spPr>
          <a:xfrm flipH="1">
            <a:off x="3564000" y="2637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0"/>
          <p:cNvSpPr/>
          <p:nvPr/>
        </p:nvSpPr>
        <p:spPr>
          <a:xfrm flipH="1">
            <a:off x="3564000" y="393372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4932360" y="3716280"/>
            <a:ext cx="302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rimethopr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Ink 13" descr=""/>
          <p:cNvPicPr/>
          <p:nvPr/>
        </p:nvPicPr>
        <p:blipFill>
          <a:blip r:embed="rId1"/>
          <a:stretch/>
        </p:blipFill>
        <p:spPr>
          <a:xfrm>
            <a:off x="6527880" y="4840200"/>
            <a:ext cx="704880" cy="1133640"/>
          </a:xfrm>
          <a:prstGeom prst="rect">
            <a:avLst/>
          </a:prstGeom>
          <a:ln w="0">
            <a:noFill/>
          </a:ln>
        </p:spPr>
      </p:pic>
      <p:pic>
        <p:nvPicPr>
          <p:cNvPr id="76" name="Ink 14" descr=""/>
          <p:cNvPicPr/>
          <p:nvPr/>
        </p:nvPicPr>
        <p:blipFill>
          <a:blip r:embed="rId2"/>
          <a:stretch/>
        </p:blipFill>
        <p:spPr>
          <a:xfrm>
            <a:off x="7564320" y="4759200"/>
            <a:ext cx="552600" cy="874800"/>
          </a:xfrm>
          <a:prstGeom prst="rect">
            <a:avLst/>
          </a:prstGeom>
          <a:ln w="0">
            <a:noFill/>
          </a:ln>
        </p:spPr>
      </p:pic>
      <p:pic>
        <p:nvPicPr>
          <p:cNvPr id="77" name="Ink 15" descr=""/>
          <p:cNvPicPr/>
          <p:nvPr/>
        </p:nvPicPr>
        <p:blipFill>
          <a:blip r:embed="rId3"/>
          <a:stretch/>
        </p:blipFill>
        <p:spPr>
          <a:xfrm>
            <a:off x="7724880" y="5635800"/>
            <a:ext cx="1330200" cy="534960"/>
          </a:xfrm>
          <a:prstGeom prst="rect">
            <a:avLst/>
          </a:prstGeom>
          <a:ln w="0">
            <a:noFill/>
          </a:ln>
        </p:spPr>
      </p:pic>
      <p:pic>
        <p:nvPicPr>
          <p:cNvPr id="78" name="Ink 16" descr=""/>
          <p:cNvPicPr/>
          <p:nvPr/>
        </p:nvPicPr>
        <p:blipFill>
          <a:blip r:embed="rId4"/>
          <a:stretch/>
        </p:blipFill>
        <p:spPr>
          <a:xfrm>
            <a:off x="6402240" y="6162840"/>
            <a:ext cx="857520" cy="347400"/>
          </a:xfrm>
          <a:prstGeom prst="rect">
            <a:avLst/>
          </a:prstGeom>
          <a:ln w="0">
            <a:noFill/>
          </a:ln>
        </p:spPr>
      </p:pic>
      <p:pic>
        <p:nvPicPr>
          <p:cNvPr id="79" name="Ink 17" descr=""/>
          <p:cNvPicPr/>
          <p:nvPr/>
        </p:nvPicPr>
        <p:blipFill>
          <a:blip r:embed="rId5"/>
          <a:stretch/>
        </p:blipFill>
        <p:spPr>
          <a:xfrm>
            <a:off x="7751880" y="6259680"/>
            <a:ext cx="865080" cy="2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350"/>
                            </p:stCondLst>
                            <p:childTnLst>
                              <p:par>
                                <p:cTn id="6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4150"/>
                            </p:stCondLst>
                            <p:childTnLst>
                              <p:par>
                                <p:cTn id="7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7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8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7300"/>
                            </p:stCondLst>
                            <p:childTnLst>
                              <p:par>
                                <p:cTn id="9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8200"/>
                            </p:stCondLst>
                            <p:childTnLst>
                              <p:par>
                                <p:cTn id="10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9450"/>
                            </p:stCondLst>
                            <p:childTnLst>
                              <p:par>
                                <p:cTn id="11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9900"/>
                            </p:stCondLst>
                            <p:childTnLst>
                              <p:par>
                                <p:cTn id="11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1350"/>
                            </p:stCondLst>
                            <p:childTnLst>
                              <p:par>
                                <p:cTn id="1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8002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bsorption,metabolism&amp;Exce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304560" y="1916280"/>
            <a:ext cx="8001000" cy="37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Sulfonami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Mainly given oral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Rapidly absorbed from stomach and small intesti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Widely distributed to tissues and body fluids ( including CNS, CSF ), placenta and fetu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Absorbed sulfonamides bind to serum protein( approx. 70% 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Metabolized in the liver by the process of acetyl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Eliminated in the urine, partly as such and partly as acetylated derivativ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Trimehoprim ( TMP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sually given orally, alone or in combination with SMX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ell absorbed from the g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idely distributed in body fluids &amp; tissues ( including CSF 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ore lipid soluble than SMX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tein bound ( approx.40 % 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60% of TMP or its metabolite is excreted in the urin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TMP concentrates in the prostatic fluid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" dur="1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1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" dur="10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58ed5"/>
                </a:solidFill>
                <a:latin typeface="Calibri"/>
              </a:rPr>
              <a:t>ADVERSE EFF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.Gastrointestinal- Nausea, vomi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 Aller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. Hematolog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) Acute hemolytic anem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) hypersensitvity b) G6PD defici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) Megaloblastic anemia due to TMP.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. Drug intera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isplace bilirubin- if severe – kernicter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tentiate warfarin, oral hypoglycemic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6c0a"/>
                </a:solidFill>
                <a:latin typeface="Calibri"/>
              </a:rPr>
              <a:t>CONTRAIND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Pregna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Nursing mo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 Infants under 6 week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. Renal or hepatic fail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. Blood disord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77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9" dur="77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1" dur="77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3" dur="77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77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0" dur="77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2" dur="77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4" dur="77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77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1" dur="77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3" dur="77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5" dur="77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77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2" dur="77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4" dur="77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6" dur="77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77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3" dur="77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5" dur="77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7" dur="77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Nitrofuranto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33520" y="2590560"/>
            <a:ext cx="7238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64a2"/>
                </a:solidFill>
                <a:latin typeface="Calibri"/>
              </a:rPr>
              <a:t>Antibacterial Spectrum</a:t>
            </a: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Effective against E. coli or Staph. saprophyticus, but other common UT gm- bacteria may be resista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8ed5"/>
                </a:solidFill>
                <a:latin typeface="Calibri"/>
              </a:rPr>
              <a:t>Mechanism of action of nitrofurantoi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440" y="205704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Sensitive bacteria reduce the drug to an active agent that inhibits various enzymes and damages D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64a2"/>
                </a:solidFill>
                <a:latin typeface="Calibri"/>
              </a:rPr>
              <a:t>Pharmacokinetics of nitrofuranto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80880" y="1981080"/>
            <a:ext cx="7391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lang="en-US" sz="2700" spc="-1" strike="noStrike">
                <a:solidFill>
                  <a:srgbClr val="898989"/>
                </a:solidFill>
                <a:latin typeface="Calibri"/>
              </a:rPr>
              <a:t>Absorption is complete after oral us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lang="en-US" sz="2700" spc="-1" strike="noStrike">
                <a:solidFill>
                  <a:srgbClr val="898989"/>
                </a:solidFill>
                <a:latin typeface="Calibri"/>
              </a:rPr>
              <a:t>Metabolized (75%)&amp; excreted so rapidly that no    systemic antibacterial action is achieved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lang="en-US" sz="2700" spc="-1" strike="noStrike">
                <a:solidFill>
                  <a:srgbClr val="898989"/>
                </a:solidFill>
                <a:latin typeface="Calibri"/>
              </a:rPr>
              <a:t>Concentrated in the urine(25% of the dose       excreted unchanged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98989"/>
                </a:solidFill>
                <a:latin typeface="Calibri"/>
              </a:rPr>
              <a:t>Urinary pH is kept &lt;5.5(acidic) to enhance drug activity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98989"/>
                </a:solidFill>
                <a:latin typeface="Calibri"/>
              </a:rPr>
              <a:t>It turns urine to a dark orange-brow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Adverse effects of nitrofuranto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238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98989"/>
                </a:solidFill>
                <a:latin typeface="Calibri"/>
              </a:rPr>
              <a:t>GI disturbances: bleeding of the stomach,nausea, vomiting and diarrhea(must be taken with food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98989"/>
                </a:solidFill>
                <a:latin typeface="Calibri"/>
              </a:rPr>
              <a:t>Pulmonary fibrosi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98989"/>
                </a:solidFill>
                <a:latin typeface="Calibri"/>
              </a:rPr>
              <a:t>Headache and nystagmu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953735"/>
                </a:solidFill>
                <a:latin typeface="Calibri"/>
              </a:rPr>
              <a:t>Containdication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98989"/>
                </a:solidFill>
                <a:latin typeface="Calibri"/>
              </a:rPr>
              <a:t>Pts with G6PD deficiency(haemolytic anaemia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98989"/>
                </a:solidFill>
                <a:latin typeface="Calibri"/>
              </a:rPr>
              <a:t>Neonat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98989"/>
                </a:solidFill>
                <a:latin typeface="Calibri"/>
              </a:rPr>
              <a:t>Pregnant women(after 38 wks of pregnanc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bb59"/>
                </a:solidFill>
                <a:latin typeface="Calibri"/>
              </a:rPr>
              <a:t>Therapeutic Uses of nitrofuranto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28600" y="2133720"/>
            <a:ext cx="86868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It is used as urinary antiseptics .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Its usefulness is limited to lower UTI’s &amp; cannot be used for upper UT or systemic infec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Dose: 50-100 mg, po q 6h/7 day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Long acting: 100mg twice dai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2388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Tetracycline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(e.g. Doxycycline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33160" y="20570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bb59"/>
                </a:solidFill>
                <a:latin typeface="Calibri"/>
              </a:rPr>
              <a:t>It is a long acting tetracyc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Mechanism of 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Inhibit protein synthesis by binding reversibly to 30 s subun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Doxycycline ( Cont. 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Calibri"/>
              </a:rPr>
              <a:t>Pharmacokine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Usually </a:t>
            </a:r>
            <a:r>
              <a:rPr b="1" lang="en-US" sz="2400" spc="-1" strike="noStrike">
                <a:solidFill>
                  <a:srgbClr val="376092"/>
                </a:solidFill>
                <a:latin typeface="Calibri"/>
              </a:rPr>
              <a:t>given oral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092"/>
                </a:solidFill>
                <a:latin typeface="Calibri"/>
              </a:rPr>
              <a:t>Absorption is 90-100%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092"/>
                </a:solidFill>
                <a:latin typeface="Calibri"/>
              </a:rPr>
              <a:t>Absorbed in the upper s. intestine &amp; best in absence of fo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092"/>
                </a:solidFill>
                <a:latin typeface="Calibri"/>
              </a:rPr>
              <a:t>Food &amp; di &amp; tri-valent cations ( Ca, Mg, Fe, AL) impair absorp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092"/>
                </a:solidFill>
                <a:latin typeface="Calibri"/>
              </a:rPr>
              <a:t>Protein binding 40-80 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092"/>
                </a:solidFill>
                <a:latin typeface="Calibri"/>
              </a:rPr>
              <a:t>Distributed well, including  CS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092"/>
                </a:solidFill>
                <a:latin typeface="Calibri"/>
              </a:rPr>
              <a:t>Cross placenta and excreted in mil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092"/>
                </a:solidFill>
                <a:latin typeface="Calibri"/>
              </a:rPr>
              <a:t>Largely metabolized in the li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760"/>
                            </p:stCondLst>
                            <p:childTnLst>
                              <p:par>
                                <p:cTn id="4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8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8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5" dur="8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6" dur="8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8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840"/>
                            </p:stCondLst>
                            <p:childTnLst>
                              <p:par>
                                <p:cTn id="4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1" dur="8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2" dur="8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8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9" dur="8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8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1240"/>
                            </p:stCondLst>
                            <p:childTnLst>
                              <p:par>
                                <p:cTn id="4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8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Doxycycline ( Cont. 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Calibri"/>
              </a:rPr>
              <a:t>Side eff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 nausea, vomiting ,diarrhea &amp; epigastric pain(give with foo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. Thrombophlebitis – i.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. Hepatic toxicity ( prolonged therapy with high dose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. Brown discolouration of teeth – child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. Deformity or growth inhibition of bones – child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6. Phototoxic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7. Vertig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8. Superinfection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4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760"/>
                            </p:stCondLst>
                            <p:childTnLst>
                              <p:par>
                                <p:cTn id="4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8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3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5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8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7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8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9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8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1" dur="8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2" dur="8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3" dur="8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8" dur="8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9" dur="8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0" dur="8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5" dur="8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6" dur="8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7" dur="8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raind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gna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east fee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ildren(below 10 y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1840F-3593-44E3-97CE-725E444C8DC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Calibri"/>
              </a:rPr>
              <a:t>Therapeutic Uses of Doxycyc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761760" y="2057400"/>
            <a:ext cx="70102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Treatment of UTI’s due to Mycoplasma &amp; Chlamydia, 100 mg po bid for 7 day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Prostati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Calibri"/>
              </a:rPr>
              <a:t>Aminoglycosi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e.g. GENTAMICIN,i.m,i.v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tericidal antibio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hibits protein synthesis by binding to 30S  ribosomal subuni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tive against gram negative aerobic organis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orly absorbed orally(highly charged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oss placen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Calibri"/>
              </a:rPr>
              <a:t>Gentamicin(CONT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creted  unchanged in ur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active in alkaline med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Adverse effects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otox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phrotox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uromuscular blocking eff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Therapeutic uses of Gentamicin in UTI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e infections caused by gram negative organisms (pseudomonas or enterobacter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371600" y="2438280"/>
            <a:ext cx="64008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alibri"/>
              </a:rPr>
              <a:t>1-Extended- spectrum penicill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alibri"/>
              </a:rPr>
              <a:t>                  </a:t>
            </a:r>
            <a:r>
              <a:rPr b="0" lang="en-US" sz="3200" spc="-1" strike="noStrike">
                <a:solidFill>
                  <a:srgbClr val="77933c"/>
                </a:solidFill>
                <a:latin typeface="Calibri"/>
              </a:rPr>
              <a:t>(e.g.piperacill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77933c"/>
                </a:solidFill>
                <a:latin typeface="Calibri"/>
              </a:rPr>
              <a:t>2-Cephalosporins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A45A8-3F52-422F-A513-C47A723DC69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0000"/>
                </a:solidFill>
                <a:latin typeface="Calibri"/>
              </a:rPr>
              <a:t>β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-Lactam antibiotics</a:t>
            </a:r>
            <a:br>
              <a:rPr sz="4400"/>
            </a:b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(Detail was explained in respiratory le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Piperacill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ffective against pseudomonas aeruginosa &amp; Enterobac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nicillinase sensitiv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be given in combination with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β-lactamase inhibitors as tazobactam(piperacillin-tazobact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Urinary tract infections(UTI’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0" y="1066680"/>
            <a:ext cx="91440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1.   </a:t>
            </a:r>
            <a:r>
              <a:rPr b="1" lang="en-US" sz="2800" spc="-1" strike="noStrike">
                <a:solidFill>
                  <a:srgbClr val="898989"/>
                </a:solidFill>
                <a:latin typeface="Calibri"/>
              </a:rPr>
              <a:t>Upper urinary tract (kidney &amp;ureters) infections: pyelonephrit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98989"/>
                </a:solidFill>
                <a:latin typeface="Calibri"/>
              </a:rPr>
              <a:t>Lower urinary tract (bladder, urethra &amp; prostate): cystitis , urethritis &amp; prostatit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** Upper urinary tract infections are more seriou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58ed5"/>
                </a:solidFill>
                <a:latin typeface="Calibri"/>
              </a:rPr>
              <a:t>3</a:t>
            </a:r>
            <a:r>
              <a:rPr b="1" lang="en-US" sz="4400" spc="-1" strike="noStrike" baseline="30000">
                <a:solidFill>
                  <a:srgbClr val="558ed5"/>
                </a:solidFill>
                <a:latin typeface="Calibri"/>
              </a:rPr>
              <a:t>rd</a:t>
            </a:r>
            <a:r>
              <a:rPr b="1" lang="en-US" sz="4400" spc="-1" strike="noStrike">
                <a:solidFill>
                  <a:srgbClr val="558ed5"/>
                </a:solidFill>
                <a:latin typeface="Calibri"/>
              </a:rPr>
              <a:t> generation cephalosporins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eftriaxone  &amp; Ceftazid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inly effective against gm- bacter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ts by inhibition of cell wall synth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tericid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are given parenter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n in severe / complicated U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amp; acute prostati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Calibri"/>
              </a:rPr>
              <a:t>Fluroquinolones</a:t>
            </a:r>
            <a:br>
              <a:rPr sz="4400"/>
            </a:b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(Detail was explained in respiratory le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.g.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iprofloxaci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Mechanism of 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hibits DNA gyrase enzy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Calibri"/>
              </a:rPr>
              <a:t>Clinical u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TI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used by multidrug resistance organisms as pseudomon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statitis ( acute / chronic )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Calibri"/>
              </a:rPr>
              <a:t>PROSTATIT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58ed5"/>
                </a:solidFill>
                <a:latin typeface="Calibri"/>
              </a:rPr>
              <a:t>ETIOLOGY</a:t>
            </a:r>
            <a:r>
              <a:rPr b="1" lang="en-US" sz="3000" spc="-1" strike="noStrike">
                <a:solidFill>
                  <a:srgbClr val="898989"/>
                </a:solidFill>
                <a:latin typeface="Calibri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1859c"/>
                </a:solidFill>
                <a:latin typeface="Calibri"/>
              </a:rPr>
              <a:t>a) Acute prostatiti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98989"/>
                </a:solidFill>
                <a:latin typeface="Calibri"/>
              </a:rPr>
              <a:t>Non- catheter</a:t>
            </a: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- usually due to gm- bacteria(E.coli or Klebsiell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     </a:t>
            </a: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Antibiotics used:TMP/SMX,IV(160/800mg bid), a cephalosporin 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     </a:t>
            </a: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ciprofloxaci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98989"/>
                </a:solidFill>
                <a:latin typeface="Calibri"/>
              </a:rPr>
              <a:t>Catheter associated </a:t>
            </a: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due to gm- or enterococci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     </a:t>
            </a: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Antibiotics used: ciprofloxacin or ceftriaxon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1859c"/>
                </a:solidFill>
                <a:latin typeface="Calibri"/>
              </a:rPr>
              <a:t>b</a:t>
            </a:r>
            <a:r>
              <a:rPr b="1" lang="en-US" sz="2200" spc="-1" strike="noStrike">
                <a:solidFill>
                  <a:srgbClr val="31859c"/>
                </a:solidFill>
                <a:latin typeface="Calibri"/>
              </a:rPr>
              <a:t>) </a:t>
            </a:r>
            <a:r>
              <a:rPr b="1" lang="en-US" sz="3000" spc="-1" strike="noStrike">
                <a:solidFill>
                  <a:srgbClr val="31859c"/>
                </a:solidFill>
                <a:latin typeface="Calibri"/>
              </a:rPr>
              <a:t>Chronic prostatitis </a:t>
            </a: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due to E.coli, Klebsiella &amp; Proteu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     </a:t>
            </a: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Antibiotics used: ciprofloxacin,500mg bid for at least 12 w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Urinary tract infections(UTI’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t is the 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most common  infection ( after RTI’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t is often associated with some obstruction of the flow of urin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t is more common in women more than 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0:1  (Why?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cidence of UTI increases in old age(10% of men &amp; 20% of women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-914760"/>
            <a:ext cx="845820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2d050"/>
                </a:solidFill>
                <a:latin typeface="Calibri"/>
              </a:rPr>
              <a:t>What are the causes of UTI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-360" y="990720"/>
            <a:ext cx="88390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Normally urine is sterile. Bacteria comes from digestive tract to opening of the urethr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898989"/>
                </a:solidFill>
                <a:latin typeface="Calibri"/>
              </a:rPr>
              <a:t>Obstruction of the flow of urine(e.g. kidney ston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898989"/>
                </a:solidFill>
                <a:latin typeface="Calibri"/>
              </a:rPr>
              <a:t>Enlargement of prostate gland in men(common cau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898989"/>
                </a:solidFill>
                <a:latin typeface="Calibri"/>
              </a:rPr>
              <a:t>Catheters placed in urethra and bladd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898989"/>
                </a:solidFill>
                <a:latin typeface="Calibri"/>
              </a:rPr>
              <a:t>Not drinking enough flui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98989"/>
                </a:solidFill>
                <a:latin typeface="Calibri"/>
              </a:rPr>
              <a:t>Waiting too long to urina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898989"/>
                </a:solidFill>
                <a:latin typeface="Calibri"/>
              </a:rPr>
              <a:t>Large uterus in pregnant wom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898989"/>
                </a:solidFill>
                <a:latin typeface="Calibri"/>
              </a:rPr>
              <a:t>Poor toilet habits(wiping back to front for wom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898989"/>
                </a:solidFill>
                <a:latin typeface="Calibri"/>
              </a:rPr>
              <a:t>Disorders that suppress the immune system(diabetes &amp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98989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898989"/>
                </a:solidFill>
                <a:latin typeface="Calibri"/>
              </a:rPr>
              <a:t>cancer chemotherapy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Bacteria responsible of urinary tract infections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04560" y="1447560"/>
            <a:ext cx="8839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Gm- bacteria (most common)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98989"/>
                </a:solidFill>
                <a:latin typeface="Calibri"/>
              </a:rPr>
              <a:t>E.coli (approx. 80% of case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98989"/>
                </a:solidFill>
                <a:latin typeface="Calibri"/>
              </a:rPr>
              <a:t>Proteu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98989"/>
                </a:solidFill>
                <a:latin typeface="Calibri"/>
              </a:rPr>
              <a:t>Klebsiell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98989"/>
                </a:solidFill>
                <a:latin typeface="Calibri"/>
              </a:rPr>
              <a:t>Pseudomon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f81bd"/>
                </a:solidFill>
                <a:latin typeface="Calibri"/>
              </a:rPr>
              <a:t>Gm+ bacteria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98989"/>
                </a:solidFill>
                <a:latin typeface="Calibri"/>
              </a:rPr>
              <a:t>Staphylococcus Saprophyticu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98989"/>
                </a:solidFill>
                <a:latin typeface="Calibri"/>
              </a:rPr>
              <a:t>Chlamydia trachomatis ,Mycoplasma &amp;  N. gonorrhe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98989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(limited to urethra, unlike E.coli may be sexually transmit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504d"/>
                </a:solidFill>
                <a:latin typeface="Calibri"/>
              </a:rPr>
              <a:t>Urinary tract infections can be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-360" y="1447560"/>
            <a:ext cx="92962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Simple</a:t>
            </a: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: 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Non-catheter associated(community-acquired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o not spread to other parts of the body and go away readily with treatment</a:t>
            </a:r>
            <a:r>
              <a:rPr b="1" lang="en-US" sz="2800" spc="-1" strike="noStrike">
                <a:solidFill>
                  <a:srgbClr val="898989"/>
                </a:solidFill>
                <a:latin typeface="Calibri"/>
              </a:rPr>
              <a:t> (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Due to E.coli in most cases</a:t>
            </a:r>
            <a:r>
              <a:rPr b="1" lang="en-US" sz="2800" spc="-1" strike="noStrike">
                <a:solidFill>
                  <a:srgbClr val="898989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Complicated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:</a:t>
            </a: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Catheter- associated(nosocomial) , immunosuppression,stones,renal disease, diabet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pread to other parts of the body and resistant to many antibiotics and more difficult to treat.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{Due to hospital- acquired bacteria(E.coli, Klebsiella,, Proteus, Pseudomonas, enterococci, staphylococci)}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9694"/>
                </a:solidFill>
                <a:latin typeface="Calibri"/>
              </a:rPr>
              <a:t>Treatment of uncomplicated and complicated UTI’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6960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Antibiotic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58ed5"/>
                </a:solidFill>
                <a:latin typeface="Calibri"/>
              </a:rPr>
              <a:t>TMP, TMP/SMX (co-trimoxazole),p.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58ed5"/>
                </a:solidFill>
                <a:latin typeface="Calibri"/>
              </a:rPr>
              <a:t>Nitrofurantoin,p.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58ed5"/>
                </a:solidFill>
                <a:latin typeface="Calibri"/>
              </a:rPr>
              <a:t>Tetracyclines, e.g. Doxycycline,p.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58ed5"/>
                </a:solidFill>
                <a:latin typeface="Calibri"/>
              </a:rPr>
              <a:t>Aminoglycosides, e.g. gentamici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558ed5"/>
                </a:solidFill>
                <a:latin typeface="Calibri"/>
              </a:rPr>
              <a:t>Β</a:t>
            </a:r>
            <a:r>
              <a:rPr b="1" lang="en-US" sz="2800" spc="-1" strike="noStrike">
                <a:solidFill>
                  <a:srgbClr val="558ed5"/>
                </a:solidFill>
                <a:latin typeface="Calibri"/>
              </a:rPr>
              <a:t>-lactam antibiotic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e46c0a"/>
                </a:solidFill>
                <a:latin typeface="Calibri"/>
              </a:rPr>
              <a:t>extended – spectrum penicillins(e.g.piperacilli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e46c0a"/>
                </a:solidFill>
                <a:latin typeface="Calibri"/>
              </a:rPr>
              <a:t>3</a:t>
            </a:r>
            <a:r>
              <a:rPr b="1" lang="en-US" sz="2800" spc="-1" strike="noStrike" baseline="30000">
                <a:solidFill>
                  <a:srgbClr val="e46c0a"/>
                </a:solidFill>
                <a:latin typeface="Calibri"/>
              </a:rPr>
              <a:t>rd</a:t>
            </a:r>
            <a:r>
              <a:rPr b="1" lang="en-US" sz="2800" spc="-1" strike="noStrike">
                <a:solidFill>
                  <a:srgbClr val="e46c0a"/>
                </a:solidFill>
                <a:latin typeface="Calibri"/>
              </a:rPr>
              <a:t> generation </a:t>
            </a:r>
            <a:r>
              <a:rPr b="1" lang="en-US" sz="2800" spc="-1" strike="noStrike">
                <a:solidFill>
                  <a:srgbClr val="558ed5"/>
                </a:solidFill>
                <a:latin typeface="Calibri"/>
              </a:rPr>
              <a:t>cephalosporins(e.g.ceftriaxone&amp;ceftazid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58ed5"/>
                </a:solidFill>
                <a:latin typeface="Calibri"/>
              </a:rPr>
              <a:t>Quinolones, e.g. ciprofloxacin,p.o</a:t>
            </a:r>
            <a:r>
              <a:rPr b="1" lang="en-US" sz="28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Calibri"/>
              </a:rPr>
              <a:t>Sulfamethoxazole- Trimethoprim</a:t>
            </a:r>
            <a:br>
              <a:rPr sz="3600"/>
            </a:br>
            <a:r>
              <a:rPr b="1" lang="en-US" sz="3600" spc="-1" strike="noStrike">
                <a:solidFill>
                  <a:srgbClr val="00cc00"/>
                </a:solidFill>
                <a:latin typeface="Calibri"/>
              </a:rPr>
              <a:t>        (SMX)                   (TMP)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Calibri"/>
              </a:rPr>
              <a:t>Co-trimoxazole ( Bactrim, Septra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one, each agent is bacteriost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gether they are bactericidals(synergis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ptimal ratio of TMP to SMX in vivo is 1: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mulated 5(SMX):1(TMP); 800mg SMX+160mg TMP; 400 mg SMX+ 80 mg TMP; 40 mg SMX+8 mg TMP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4T06:55:00Z</dcterms:created>
  <dc:creator>Alhumayyd</dc:creator>
  <dc:description/>
  <dc:language>en-US</dc:language>
  <cp:lastModifiedBy>عبدالرحمن</cp:lastModifiedBy>
  <dcterms:modified xsi:type="dcterms:W3CDTF">2015-04-27T09:04:40Z</dcterms:modified>
  <cp:revision>305</cp:revision>
  <dc:subject/>
  <dc:title>Urinary tract infections</dc:title>
</cp:coreProperties>
</file>