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92FA-7945-49D0-B2DD-AA53C86A7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8D44-D327-4D62-BDA6-6F1BFEDE363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F53C-210C-48AA-A31F-B5BCC853CBC8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3019-847B-4873-9C87-1B4EF51EAD8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66AC-5F93-4CEE-B421-180B76E0EF4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8E37-E0A6-48E5-B75B-550FE0D3E32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8E5F-B652-474C-93C9-BA2B19E75C1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0E26-0E74-40A9-A361-F733116D8B4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39CC-9656-480F-BBB9-88D11BE6EC6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499-C329-4D6B-BD04-4444920A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C2A-7A22-4B08-93B6-2C9FEC36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4F4-11D9-45DF-82D8-F66DA7B2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B76-E69D-4C65-BF0A-3A14F419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3DC-0FC7-4C08-84A1-8BD2689B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073-1A49-4AB0-B321-A9BB9499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D7E-D550-4F7C-B20A-139E20C8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4332-3119-423D-90AF-EF887594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8AF-C6CF-4D42-B35F-AB20870F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F9D1-FE90-4223-8133-0188D451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9427-A8C1-4394-A929-6C0A69C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ED4-30F3-4419-9A83-6957DB6C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F145-C1BD-4B34-B03E-A380D69F9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f. Mohammad Alhumayy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artment of Pharma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-Aminobenzo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pteroate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Sulfonami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tas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tra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ic acid synthesi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4"/>
          <p:cNvSpPr/>
          <p:nvPr/>
        </p:nvSpPr>
        <p:spPr>
          <a:xfrm>
            <a:off x="3492360" y="2060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341964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348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468360" y="2276640"/>
            <a:ext cx="280836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324000" y="3571920"/>
            <a:ext cx="244764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356400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H="1">
            <a:off x="356400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932360" y="371628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imethop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nk 13" descr=""/>
          <p:cNvPicPr/>
          <p:nvPr/>
        </p:nvPicPr>
        <p:blipFill>
          <a:blip r:embed="rId1"/>
          <a:stretch/>
        </p:blipFill>
        <p:spPr>
          <a:xfrm>
            <a:off x="6527880" y="4840200"/>
            <a:ext cx="70488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Ink 14" descr=""/>
          <p:cNvPicPr/>
          <p:nvPr/>
        </p:nvPicPr>
        <p:blipFill>
          <a:blip r:embed="rId2"/>
          <a:stretch/>
        </p:blipFill>
        <p:spPr>
          <a:xfrm>
            <a:off x="7564320" y="4759200"/>
            <a:ext cx="552600" cy="874800"/>
          </a:xfrm>
          <a:prstGeom prst="rect">
            <a:avLst/>
          </a:prstGeom>
          <a:ln w="0">
            <a:noFill/>
          </a:ln>
        </p:spPr>
      </p:pic>
      <p:pic>
        <p:nvPicPr>
          <p:cNvPr id="77" name="Ink 15" descr=""/>
          <p:cNvPicPr/>
          <p:nvPr/>
        </p:nvPicPr>
        <p:blipFill>
          <a:blip r:embed="rId3"/>
          <a:stretch/>
        </p:blipFill>
        <p:spPr>
          <a:xfrm>
            <a:off x="7724880" y="5635800"/>
            <a:ext cx="1330200" cy="534960"/>
          </a:xfrm>
          <a:prstGeom prst="rect">
            <a:avLst/>
          </a:prstGeom>
          <a:ln w="0">
            <a:noFill/>
          </a:ln>
        </p:spPr>
      </p:pic>
      <p:pic>
        <p:nvPicPr>
          <p:cNvPr id="78" name="Ink 16" descr=""/>
          <p:cNvPicPr/>
          <p:nvPr/>
        </p:nvPicPr>
        <p:blipFill>
          <a:blip r:embed="rId4"/>
          <a:stretch/>
        </p:blipFill>
        <p:spPr>
          <a:xfrm>
            <a:off x="6402240" y="6162840"/>
            <a:ext cx="857520" cy="347400"/>
          </a:xfrm>
          <a:prstGeom prst="rect">
            <a:avLst/>
          </a:prstGeom>
          <a:ln w="0">
            <a:noFill/>
          </a:ln>
        </p:spPr>
      </p:pic>
      <p:pic>
        <p:nvPicPr>
          <p:cNvPr id="79" name="Ink 17" descr=""/>
          <p:cNvPicPr/>
          <p:nvPr/>
        </p:nvPicPr>
        <p:blipFill>
          <a:blip r:embed="rId5"/>
          <a:stretch/>
        </p:blipFill>
        <p:spPr>
          <a:xfrm>
            <a:off x="7751880" y="6259680"/>
            <a:ext cx="865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bsorption,metabolism&amp;Exc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1916280"/>
            <a:ext cx="80010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Sulfonam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ainly 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Rapidly absorbed from stomach and small intest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Widely distributed to tissues and body fluids ( including CNS, CSF ), placenta and fet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Absorbed sulfonamides bind to serum protein( approx. 70%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Metabolized in the liver by the process of acety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Eliminated in the urine, partly as such and partly as acetylated deriva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rimehoprim ( TMP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ually given orally, alone or in combination with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ll absorbed from the g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dely distributed in body fluids &amp; tissues ( including CSF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lipid soluble than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tein bound ( approx.40 %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0% of TMP or its metabolite is excreted in the 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MP concentrates in the prostatic flui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Gastrointestinal- Nausea,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Al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Hematolo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Acute hemolyt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hypersensitvity b) G6PD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) Megaloblastic anemia due to TMP.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Drug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place bilirubin- if severe – kernicte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te warfarin, oral hypoglycem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Nursing 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Infants under 6 wee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Renal or hepatic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Blood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1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3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77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4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7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77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3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7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3520" y="25905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64a2"/>
                </a:solidFill>
                <a:latin typeface="Calibri"/>
              </a:rPr>
              <a:t>Antibacterial Spectrum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Effective against E. coli or Staph. saprophyticus, but other common UT gm- bacteria may be resis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Mechanism of action of nitrofuranto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ensitive bacteria reduce the drug to an active agent that inhibits various enzymes and damage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64a2"/>
                </a:solidFill>
                <a:latin typeface="Calibri"/>
              </a:rPr>
              <a:t>Pharmacokinetic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Absorption is complete after oral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Metabolized (75%)&amp; excreted so rapidly that no    systemic antibacterial action is achie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Concentrated in the urine(25% of the dose       excreted unchang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Urinary pH is kept &lt;5.5(acidic) to enhance drug activ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It turns urine to a dark orange-bro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dverse effects of 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GI disturbances: bleeding of the stomach,nausea, vomiting and diarrhea(must be taken with foo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Pulmonary fibr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Headache and nystagm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53735"/>
                </a:solidFill>
                <a:latin typeface="Calibri"/>
              </a:rPr>
              <a:t>Containdication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Pts with G6PD deficiency(haemolytic anaemia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Neon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898989"/>
                </a:solidFill>
                <a:latin typeface="Calibri"/>
              </a:rPr>
              <a:t>Pregnant women(after 38 wks of pregna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bb59"/>
                </a:solidFill>
                <a:latin typeface="Calibri"/>
              </a:rPr>
              <a:t>Therapeutic Use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It is used as urinary antiseptics 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 usefulness is limited to lower UTI’s &amp; cannot be used for upper UT or systemic inf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Dose: 50-100 mg, po q 6h/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ong acting: 100mg twice da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tracyclin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e.g. Doxycycli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bb59"/>
                </a:solidFill>
                <a:latin typeface="Calibri"/>
              </a:rPr>
              <a:t>It is a long acting tetracyc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Inhibit protein synthesis by binding reversibly to 30 s sub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Pharmacoki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Usually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Absorption is 90-10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Absorbed in the upper s. intestine &amp; best in absence of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Food &amp; di &amp; tri-valent cations ( Ca, Mg, Fe, AL) impair 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Protein binding 40-8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Distributed well, including  CS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Cross placenta and excreted in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092"/>
                </a:solidFill>
                <a:latin typeface="Calibri"/>
              </a:rPr>
              <a:t>Largely metabolized in the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nausea, vomiting ,diarrhea &amp; epigastric pain(give with fo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Thrombophlebitis – i.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Hepatic toxicity ( prolonged therapy with high dos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Brown discolouration of teeth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Deformity or growth inhibition of bones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Phototox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Verti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Superinfe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st f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(below 1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F6C5-B96A-460E-A45F-09EEAE99809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Therapeutic Use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Treatment of UTI’s due to Mycoplasma &amp; Chlamydia, 100 mg po bid for 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minoglycos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 GENTAMICIN,i.m,i.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cidal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protein synthesis by binding to 30S  ribosomal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ly absorbed orally(highly charg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 plac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Gentamicin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ed  unchanged in 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active in alkaline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Adverse effect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phr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romuscular blocking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apeutic uses of Gentamicin in UTI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e infections caused by gram negative organisms (pseudomonas or enterobact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1-Extended- spectrum penicill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                 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(e.g.piperacill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77933c"/>
                </a:solidFill>
                <a:latin typeface="Calibri"/>
              </a:rPr>
              <a:t>2-Cephalosporins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991B-2D9F-4E81-81CB-05B6049054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-Lactam antibiotics</a:t>
            </a:r>
            <a:br>
              <a:rPr sz="44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iperacil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against pseudomonas aeruginosa &amp; Enterobac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icillinase sensi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given in combination wi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β-lactamase inhibitors as tazobactam(piperacillin-tazobact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1.  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Upper urinary tract (kidney &amp;ureters) infections: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Lower urinary tract (bladder, urethra &amp; prostate): cystitis , urethritis &amp; prostatit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** Upper urinary tract infections are more seri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3</a:t>
            </a:r>
            <a:r>
              <a:rPr b="1" lang="en-US" sz="4400" spc="-1" strike="noStrike" baseline="30000">
                <a:solidFill>
                  <a:srgbClr val="558ed5"/>
                </a:solidFill>
                <a:latin typeface="Calibri"/>
              </a:rPr>
              <a:t>rd</a:t>
            </a: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 generation cephalosporin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ftriaxone  &amp; Ceftazid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nly effective against gm-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s by inhibition of cell wal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given paren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in severe / complicated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acute 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Fluroquinolones</a:t>
            </a:r>
            <a:br>
              <a:rPr sz="44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profloxac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DNA gyr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linical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multidrug resistance organisms as pseudomo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tatitis ( acute / chronic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PROSTAT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ETIOLOGY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1859c"/>
                </a:solidFill>
                <a:latin typeface="Calibri"/>
              </a:rPr>
              <a:t>a) Acute prostatit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Non- catheter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- usually due to gm- bacteria(E.coli or Klebsiell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Antibiotics used:TMP/SMX,IV(160/800mg bid), a cephalosporin 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ciprofloxaci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Catheter associated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ue to gm- or enterococc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Antibiotics used: ciprofloxacin or ceftriaxon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1859c"/>
                </a:solidFill>
                <a:latin typeface="Calibri"/>
              </a:rPr>
              <a:t>b</a:t>
            </a:r>
            <a:r>
              <a:rPr b="1" lang="en-US" sz="2200" spc="-1" strike="noStrike">
                <a:solidFill>
                  <a:srgbClr val="31859c"/>
                </a:solidFill>
                <a:latin typeface="Calibri"/>
              </a:rPr>
              <a:t>) </a:t>
            </a:r>
            <a:r>
              <a:rPr b="1" lang="en-US" sz="3000" spc="-1" strike="noStrike">
                <a:solidFill>
                  <a:srgbClr val="31859c"/>
                </a:solidFill>
                <a:latin typeface="Calibri"/>
              </a:rPr>
              <a:t>Chronic prostatitis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due to E.coli, Klebsiella &amp; Prote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Antibiotics used: ciprofloxacin,500mg bid for at least 12 w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st common  infection ( after RTI’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often associated with some obstruction of the flow of ur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more common in women more than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:1  (Why?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idence of UTI increases in old age(10% of men &amp; 20% of wom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91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What are the causes of UT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Normally urine is sterile. Bacteria comes from digestive tract to opening of the ureth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Obstruction of the flow of urine(e.g. kidney st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Enlargement of prostate gland in men(common cau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Catheters placed in urethra and blad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Not drinking enough flu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Waiting too long to urin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Large uterus in pregnant w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Poor toilet habits(wiping back to front for wo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Disorders that suppress the immune system(diabetes &amp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cancer chemotherap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acteria responsible of urinary tract infec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Gm- bacteria (most common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E.coli (approx. 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Prote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Klebsiel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Pseudomon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Gm+ bacteria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Staphylococcus Saprophyticu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Chlamydia trachomatis ,Mycoplasma &amp;  N. gonorrh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(limited to urethra, unlike E.coli may be sexually transmit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Urinary tract infections can b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9296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Simple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Non-catheter associated(community-acquire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o not spread to other parts of the body and go away readily with treatment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(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Due to E.coli in most cases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mplicated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Catheter- associated(nosocomial) , immunosuppression,stones,renal disease, diabet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read to other parts of the body and resistant to many antibiotics and more difficult to treat.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{Due to hospital- acquired bacteria(E.coli, Klebsiella,, Proteus, Pseudomonas, enterococci, staphylococci)}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9694"/>
                </a:solidFill>
                <a:latin typeface="Calibri"/>
              </a:rPr>
              <a:t>Treatment of uncomplicated and complicated UTI’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ntibiotic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TMP, TMP/SMX (co-trimoxazole),p.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Nitrofurantoin,p.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Tetracyclines, e.g. Doxycycline,p.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Aminoglycosides, e.g. gentamic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558ed5"/>
                </a:solidFill>
                <a:latin typeface="Calibri"/>
              </a:rPr>
              <a:t>Β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-lactam antibio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tended – spectrum penicillins(e.g.piperacill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3</a:t>
            </a:r>
            <a:r>
              <a:rPr b="1" lang="en-US" sz="2800" spc="-1" strike="noStrike" baseline="30000">
                <a:solidFill>
                  <a:srgbClr val="e46c0a"/>
                </a:solidFill>
                <a:latin typeface="Calibri"/>
              </a:rPr>
              <a:t>rd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 generation </a:t>
            </a: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cephalosporins(e.g.ceftriaxone&amp;ceftazid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58ed5"/>
                </a:solidFill>
                <a:latin typeface="Calibri"/>
              </a:rPr>
              <a:t>Quinolones, e.g. ciprofloxacin,p.o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Calibri"/>
              </a:rPr>
              <a:t>Sulfamethoxazole- Trimethoprim</a:t>
            </a:r>
            <a:br>
              <a:rPr sz="3600"/>
            </a:br>
            <a:r>
              <a:rPr b="1" lang="en-US" sz="3600" spc="-1" strike="noStrike">
                <a:solidFill>
                  <a:srgbClr val="00cc00"/>
                </a:solidFill>
                <a:latin typeface="Calibri"/>
              </a:rPr>
              <a:t>        (SMX)                   (TMP)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Calibri"/>
              </a:rPr>
              <a:t>Co-trimoxazole ( Bactrim, Septra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e, each agent is bacterio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they are bactericidals(synerg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ptimal ratio of TMP to SMX in vivo is 1: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ulated 5(SMX):1(TMP); 800mg SMX+160mg TMP; 400 mg SMX+ 80 mg TMP; 40 mg SMX+8 mg TM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6:55:00Z</dcterms:created>
  <dc:creator>Alhumayyd</dc:creator>
  <dc:description/>
  <dc:language>en-US</dc:language>
  <cp:lastModifiedBy>عبدالرحمن</cp:lastModifiedBy>
  <dcterms:modified xsi:type="dcterms:W3CDTF">2015-04-27T09:04:40Z</dcterms:modified>
  <cp:revision>305</cp:revision>
  <dc:subject/>
  <dc:title>Urinary tract infections</dc:title>
</cp:coreProperties>
</file>