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31E4-869B-4743-B822-1472CCABFC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5E82-17B9-48D3-A110-C45FB2307DB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Hb represents 80% of the non-bicarbonate buffer power of the ECF. 36 of Hbs 574 amino acids are histidines which have dissociable protons on their side groups. It has an average pK value of ~6.5 making it a good buffer in the physiological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1ECB-CA13-4795-9B6D-06DDE23CFA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C5C3-54C5-4BE1-8C79-9293982F46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Phosphoric acid (H3PO4) has three dissociable protons. The pK value of H2PO4 to H + HPO4 is 6.8 making it a good ECF buf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EEED-2516-426B-9939-A6E78470C7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34E-BA0B-4E42-8B4B-F52E9F74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A39-443A-47E8-AE37-71A0485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AC7-F66D-41B8-962D-E545A48A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8AD-8711-4209-944F-29C94C83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95A4-CB0E-4DC3-9365-770FEF24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6BD6-2251-4188-B18C-632A1F4A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6A81-EB8F-4668-9663-6E0EBE6F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39B0-BE47-41A9-8C48-D6709A8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5F5C-EF9F-42DA-8CA0-7D98CE3F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C4FD-C1D6-4124-8D96-60C8C68F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A59A-FDB4-4258-982B-534B5B81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28A-F12A-4187-92A1-A907B581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774C-7FC1-4691-97B1-CBE53DF1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3C96-C2D5-4E37-9358-B9BE226F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4D24-FB18-48DF-A489-93BB0B7D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7413-60E4-4E0E-A24F-281C6D4A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AB15-1DE7-467B-A3C5-D98C24B9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BBDD7-94E7-4A55-9D6F-384B459A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BEFB4-7956-425B-9DC3-A3CFA62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072D-EFB9-48EB-AF71-5A2DDAC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835AE-29B5-4255-AF9F-CE12CD15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5ED5B-997F-457E-94F7-F7D12D9D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442-B678-46DE-AC1C-C92522BC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CDD3-C967-4430-ABD3-060C0D66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77C8-EA79-4679-971A-D79A5A0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8205F-112E-4804-946F-046A73F2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3628-F0A2-435A-BB7D-A4730DA4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9BE6-8D6D-48AD-9E9A-B9BE7333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BFAF1-B898-4396-95CA-4CBBBDCC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7BBC-D4EB-4162-BC24-31CF6B64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A0CCC-15FD-4192-AB02-ACEBA08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24B7-9539-4852-8D4B-E27F3E25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0FC0B-D883-4A76-8478-BC9B297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0A8-743E-4808-98DA-23294E4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FA356-D63B-43C4-A6BF-9E80328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BF442-63E0-46DF-B9B3-489437A1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7BA7-D11E-4CD7-A330-94D0CB5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F38C-8AE6-42DB-A493-4602F7A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CE9E-A9C0-417C-94B2-7FC018A6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53C4-B638-4B11-9697-32E360BA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F25CE-4B6D-4A95-9C6F-6228DB2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B6123-5E09-4396-8F1B-FDF86115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CBEEB-B888-43A8-A800-82A2DDCA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9F2D4-AD55-467D-80EE-14347BEC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BA7-2016-4A5B-951F-4C482FCB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888FB-BBA4-43E4-9456-CFCF46F2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A6B0-C037-428D-8D6C-65CC8E8F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0A862-277E-4FF0-B10F-5BAD04B0C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01CD3-FFCE-4248-96C9-F8AA1FDA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3E94B-C30F-4664-8E28-A37159DE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4ABF-20BE-4E5C-AFCD-5B40D9C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31BC4-7BBD-4454-9758-CD5F8F0E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95FEA-7681-47FB-94CB-8645F672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A5F59-C747-4A61-9380-410AD092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75F9B-F0AE-4EF5-A98C-328CB895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436-DCD3-41C6-9506-E8C363E6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734D-C3CB-4F77-BF1F-707557AC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03B37-A5D0-4E76-B4E4-250135A8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9B4C-C5E9-4F5A-80A0-62FAC6B2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3B0D-E9C6-443E-9C6D-4C269E4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101B-971D-4BED-9406-D39E70D1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4D09B-A410-4DBB-83AE-C14E5E02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4D53F-DCC8-48B9-806B-60E85537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3D208-6263-4A64-AC26-7C7661FE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369C-9757-4395-974F-E6343AF5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54603-6042-4F6A-982A-E7FC96E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6B6-61D3-4792-8D21-1CE0254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696A-8BB3-457E-8508-15A5F8C2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DE5F-A9D6-4F1A-B0C3-04BAF1EF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20E0-71DB-4CB3-8A76-F6F9C261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5BAFE-4A72-4156-B025-C0FA4D84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06E45-15C5-4249-BF28-D0263CF6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0304-C6D4-496F-85FC-532DFB78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5B6E-8F4F-4718-92DC-8E6E5CEE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FD3ED-EC0C-4FB0-B742-F97A0852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E94AB-E4EB-43DF-8500-2CAB1BD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FDF0E-7969-49B5-AB5C-FF661D0A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B34-73F7-4926-A0FD-9FD352E2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7671E-9C4A-4657-9F97-55243DA0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46A16-0087-4750-B175-D65FEE4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5AB21-8802-410A-9CBE-3CD6CF07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DFB35-A1C2-4F83-AA3E-E675427E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81AEC-D547-47F7-873A-0F751B3AD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47F-003B-4653-84DA-F82AA260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AE8-93EF-41FF-8E13-A9B379DBDB89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D9FD-BE8A-4CDF-9868-9C9890C8F24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7055-5A3B-4ABA-B35D-45E700A5068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1DC3-7854-4706-8384-202A299FE1D5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6A39-3E7A-435D-80CC-0517973F105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3C27-8C77-4295-BC06-BF757346167C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8080" y="12175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8080" y="12823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1080" y="137016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54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1080" y="143496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960" y="1473120"/>
              <a:ext cx="673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50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960" y="1537920"/>
              <a:ext cx="673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7BC0-735F-4339-A7C7-16582EBED8C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uffer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D782-9313-4F48-9B33-57635A05A47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521280" y="5119560"/>
            <a:ext cx="854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 of cells changes in proportion to pH of extracellular flui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rapidly traverse cell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718200" y="1577880"/>
            <a:ext cx="78505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ost important non-bicarbonate buffering protein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itratable groups on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HAEMOGLOBI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(Hb also important for buffering CO</a:t>
            </a:r>
            <a:r>
              <a:rPr b="1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-403200" y="3322800"/>
            <a:ext cx="12031200" cy="1628280"/>
            <a:chOff x="-403200" y="3322800"/>
            <a:chExt cx="12031200" cy="1628280"/>
          </a:xfrm>
        </p:grpSpPr>
        <p:sp>
          <p:nvSpPr>
            <p:cNvPr id="450" name="Rectangle 2"/>
            <p:cNvSpPr/>
            <p:nvPr/>
          </p:nvSpPr>
          <p:spPr>
            <a:xfrm>
              <a:off x="-403200" y="3322800"/>
              <a:ext cx="8143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O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CO</a:t>
              </a:r>
              <a:r>
                <a:rPr b="0" lang="en-GB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2"/>
            <p:cNvSpPr/>
            <p:nvPr/>
          </p:nvSpPr>
          <p:spPr>
            <a:xfrm>
              <a:off x="3484440" y="4402440"/>
              <a:ext cx="814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3600" indent="-363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             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H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+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+ Hb</a:t>
              </a:r>
              <a:r>
                <a:rPr b="0" lang="en-GB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</a:t>
              </a:r>
              <a:r>
                <a:rPr b="0" lang="en-GB" sz="2800" spc="-1" strike="noStrike">
                  <a:solidFill>
                    <a:srgbClr val="ffff00"/>
                  </a:solidFill>
                  <a:latin typeface="Arial"/>
                </a:rPr>
                <a:t> HHb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19560" y="3841920"/>
              <a:ext cx="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Box 10"/>
            <p:cNvSpPr/>
            <p:nvPr/>
          </p:nvSpPr>
          <p:spPr>
            <a:xfrm>
              <a:off x="2098080" y="4308480"/>
              <a:ext cx="268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(DeoxyHb a better buff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r>
                <a:rPr b="0" i="1" lang="en-IE" sz="1800" spc="-1" strike="noStrike">
                  <a:solidFill>
                    <a:srgbClr val="66ff33"/>
                  </a:solidFill>
                  <a:latin typeface="Arial"/>
                </a:rPr>
                <a:t>than OxyH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 Box 4"/>
          <p:cNvSpPr/>
          <p:nvPr/>
        </p:nvSpPr>
        <p:spPr>
          <a:xfrm>
            <a:off x="1896120" y="49680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93840" y="2349360"/>
            <a:ext cx="85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important source of buffer 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abo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osi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nal tubular acidosis &amp; uraemic 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414720" y="1166760"/>
            <a:ext cx="86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ably involved in providing a degree of buffering (by i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change) in most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8"/>
          <p:cNvSpPr/>
          <p:nvPr/>
        </p:nvSpPr>
        <p:spPr>
          <a:xfrm>
            <a:off x="413640" y="3500280"/>
            <a:ext cx="837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base) is most important buffer released from b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ing metabolic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443160" y="4694400"/>
            <a:ext cx="81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in major depletion of skeletal minera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hronic metabolic acidosis that occurs wi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tubule acidosis (RTA) can lead to development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kets / osteomalaci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896120" y="-284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4) B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4"/>
          <p:cNvSpPr/>
          <p:nvPr/>
        </p:nvSpPr>
        <p:spPr>
          <a:xfrm>
            <a:off x="507960" y="1109520"/>
            <a:ext cx="73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ember that all of these buffer systems work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TAND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o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484200" y="2320920"/>
            <a:ext cx="779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s can only </a:t>
            </a:r>
            <a:r>
              <a:rPr b="1" i="1" lang="en-IE" sz="2400" spc="-1" strike="noStrike">
                <a:solidFill>
                  <a:srgbClr val="ffff00"/>
                </a:solidFill>
                <a:latin typeface="Arial"/>
              </a:rPr>
              <a:t>LIMIT CHANG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n pH, they cann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b8803"/>
                </a:solidFill>
                <a:latin typeface="Arial"/>
              </a:rPr>
              <a:t>REVERSE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19560" y="359892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nce arterial pH has deviated from normal value, can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e returned to normal by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SPIRATORY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RENAL</a:t>
            </a:r>
            <a:r>
              <a:rPr b="0" lang="en-IE" sz="2400" spc="-1" strike="noStrike">
                <a:solidFill>
                  <a:srgbClr val="ef0bf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COMPENS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896120" y="14292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4"/>
          <p:cNvSpPr/>
          <p:nvPr/>
        </p:nvSpPr>
        <p:spPr>
          <a:xfrm>
            <a:off x="709200" y="2449440"/>
            <a:ext cx="77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279360" y="2502000"/>
            <a:ext cx="8864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alveolar ventilation can alter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plasma Pco</a:t>
            </a:r>
            <a:r>
              <a:rPr b="1" lang="en-IE" sz="24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ventilation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↓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↑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-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↓ ventilation, ↑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↓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Object 2"/>
          <p:cNvGraphicFramePr/>
          <p:nvPr/>
        </p:nvGraphicFramePr>
        <p:xfrm>
          <a:off x="5653080" y="3916440"/>
          <a:ext cx="300816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3080" y="3916440"/>
                    <a:ext cx="300816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9" name="TextBox 4"/>
          <p:cNvSpPr/>
          <p:nvPr/>
        </p:nvSpPr>
        <p:spPr>
          <a:xfrm>
            <a:off x="341280" y="1428840"/>
            <a:ext cx="88214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ulmonary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normally </a:t>
            </a:r>
            <a:r>
              <a:rPr b="1" lang="en-IE" sz="2400" spc="-1" strike="noStrike">
                <a:solidFill>
                  <a:srgbClr val="66ff33"/>
                </a:solidFill>
                <a:latin typeface="Arial"/>
              </a:rPr>
              <a:t>BALAN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rm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4"/>
          <p:cNvSpPr/>
          <p:nvPr/>
        </p:nvSpPr>
        <p:spPr>
          <a:xfrm>
            <a:off x="278640" y="4606920"/>
            <a:ext cx="439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 in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lso al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ALVEOLAR VENTILA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4"/>
          <p:cNvSpPr/>
          <p:nvPr/>
        </p:nvSpPr>
        <p:spPr>
          <a:xfrm>
            <a:off x="539640" y="1000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spiratory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450720" y="1353960"/>
            <a:ext cx="779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OWERFU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-2 x better than extracellular chemic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), bu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nnot fully rectif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urbances outs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iratory system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fixed acids like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446760" y="2924280"/>
            <a:ext cx="81201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s relativel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PID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stop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hanging too mu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til renal buffering kicks in but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imin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from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482400" y="4591080"/>
            <a:ext cx="86281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normalities of respiration can alter bodily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resulting in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1572120" y="2205000"/>
            <a:ext cx="606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Acid-Base 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EF7F-AF01-410D-96E4-7B0688538710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2"/>
          <p:cNvSpPr/>
          <p:nvPr/>
        </p:nvSpPr>
        <p:spPr>
          <a:xfrm>
            <a:off x="971640" y="822240"/>
            <a:ext cx="7200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There are three major renal mechanisms for the maintenance of normal body pH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absorption of filtered bicarbon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duction of titrable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cretion of ammon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ach of these three mechanisms involve the secretion of hydrogen ions into the urine and the addition of bicarbonate ions to the bloo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1188000" y="1000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-624960" y="7128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OST EFFECTI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ulator of pH but much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L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max. activity after 5-6 days) than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-469800" y="1643040"/>
            <a:ext cx="86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ponsible for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IMINA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80 -100 mEq of fix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enerated each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-672480" y="2714760"/>
            <a:ext cx="10063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mally, must also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PREV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LO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freely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able </a:t>
            </a:r>
            <a:r>
              <a:rPr b="1" lang="en-US" sz="2400" spc="-1" strike="noStrike">
                <a:solidFill>
                  <a:srgbClr val="d6ecff"/>
                </a:solidFill>
                <a:latin typeface="Arial"/>
              </a:rPr>
              <a:t>HCO</a:t>
            </a:r>
            <a:r>
              <a:rPr b="1" lang="en-US" sz="2400" spc="-1" strike="noStrike" baseline="-25000">
                <a:solidFill>
                  <a:srgbClr val="d6ecff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d6ecff"/>
                </a:solidFill>
                <a:latin typeface="Arial"/>
              </a:rPr>
              <a:t>-</a:t>
            </a:r>
            <a:r>
              <a:rPr b="0" lang="en-US" sz="2400" spc="-1" strike="noStrike" baseline="30000">
                <a:solidFill>
                  <a:srgbClr val="d6ec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rder to preserve this primary buffe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-682200" y="3738600"/>
            <a:ext cx="956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OTH PROCE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dependent on both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ration 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retion into renal tubules and secretion / reabsorp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sma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>
            <a:off x="41400" y="5099040"/>
            <a:ext cx="934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neys also responsible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ENSATORY CHANG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during respiratory acid-base disor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1147320" y="5586480"/>
            <a:ext cx="778428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*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KIDNEYS FAIL, pH BALANCE WILL FAIL</a:t>
            </a:r>
            <a:r>
              <a:rPr b="1" lang="en-US" sz="7200" spc="-1" strike="noStrike" baseline="-25000">
                <a:solidFill>
                  <a:srgbClr val="ffff00"/>
                </a:solidFill>
                <a:latin typeface="Arial"/>
              </a:rPr>
              <a:t> *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1188000" y="771480"/>
            <a:ext cx="683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Renal Regulation of Acid-B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412560" y="2111400"/>
            <a:ext cx="792576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all mechanism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continuously filtered into tub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rg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secreted into tub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than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acid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↑p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ore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iltered than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cre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a net loss of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ba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↓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fine buffer system and discuss the role of blood buffers and to explain their relevant roles in the bo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kidney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describe the role of lungs in the regulation of acid-base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E1C2-B074-4E8D-B573-9586E3081D0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360-CC8B-4F72-8BBE-C2CAEC481A0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-401400" y="928800"/>
            <a:ext cx="86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ters filtrate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ILT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ough glomeruli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SECRETIO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 tub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2" descr="fox25642_1729"/>
          <p:cNvPicPr/>
          <p:nvPr/>
        </p:nvPicPr>
        <p:blipFill>
          <a:blip r:embed="rId1"/>
          <a:stretch/>
        </p:blipFill>
        <p:spPr>
          <a:xfrm>
            <a:off x="3571920" y="2714760"/>
            <a:ext cx="5492880" cy="27511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415080" y="53820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nal H</a:t>
            </a:r>
            <a:r>
              <a:rPr b="1" lang="en-GB" sz="24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23760" y="1812960"/>
            <a:ext cx="88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(80%) occurs across wall of PC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tiporter  (&amp;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ase in type A cells of DCT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219240" y="2857680"/>
            <a:ext cx="2885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s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bsor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988560" y="-302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34560" y="4359240"/>
            <a:ext cx="51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imary fact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ing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stemic acid-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en-GB" sz="2400" spc="-1" strike="noStrike">
                <a:solidFill>
                  <a:srgbClr val="0099ff"/>
                </a:solidFill>
                <a:latin typeface="Arial"/>
              </a:rPr>
              <a:t>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imulat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ALKAL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duce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0F5C-D3FD-4801-A09D-7E2F9644577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353880" y="68256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-674640" y="1143000"/>
            <a:ext cx="9367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FREELY FILTER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 glomeruli (3 mM/min)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goes significant (&gt; 99%) reabsorption in PCT, aLo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cortical collecting ducts (CCD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4" descr="segmental reabsorption of bicarbonate - fig 36.1.JPG"/>
          <p:cNvPicPr/>
          <p:nvPr/>
        </p:nvPicPr>
        <p:blipFill>
          <a:blip r:embed="rId1"/>
          <a:stretch/>
        </p:blipFill>
        <p:spPr>
          <a:xfrm>
            <a:off x="5881680" y="2173320"/>
            <a:ext cx="3244680" cy="42148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988560" y="2844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6"/>
          <p:cNvSpPr/>
          <p:nvPr/>
        </p:nvSpPr>
        <p:spPr>
          <a:xfrm>
            <a:off x="-747360" y="2867040"/>
            <a:ext cx="65833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sms of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CT (&amp; aLoH) and CCD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re simi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ut not identic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ll look at CC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s in acid-base practica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-663480" y="4941720"/>
            <a:ext cx="6758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absorption is 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-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dependent on tubu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ff33"/>
                </a:solidFill>
                <a:uFillTx/>
                <a:latin typeface="Arial"/>
              </a:rPr>
              <a:t>secretion of H</a:t>
            </a:r>
            <a:r>
              <a:rPr b="0" lang="en-US" sz="2400" spc="-1" strike="noStrike" u="sng" baseline="30000">
                <a:solidFill>
                  <a:srgbClr val="66ff33"/>
                </a:solidFill>
                <a:uFillTx/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i="1" lang="en-US" sz="2400" spc="-1" strike="noStrike" u="sng">
                <a:solidFill>
                  <a:srgbClr val="0099ff"/>
                </a:solidFill>
                <a:uFillTx/>
                <a:latin typeface="Arial"/>
              </a:rPr>
              <a:t>ap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anspor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ump for 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2FF2-AF84-41FA-8AA0-A6CF1B19370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3" name="Group 14"/>
          <p:cNvGrpSpPr/>
          <p:nvPr/>
        </p:nvGrpSpPr>
        <p:grpSpPr>
          <a:xfrm>
            <a:off x="1116000" y="530280"/>
            <a:ext cx="7302600" cy="5635440"/>
            <a:chOff x="1116000" y="530280"/>
            <a:chExt cx="7302600" cy="5635440"/>
          </a:xfrm>
        </p:grpSpPr>
        <p:pic>
          <p:nvPicPr>
            <p:cNvPr id="504" name="Picture 3" descr=""/>
            <p:cNvPicPr/>
            <p:nvPr/>
          </p:nvPicPr>
          <p:blipFill>
            <a:blip r:embed="rId1"/>
            <a:stretch/>
          </p:blipFill>
          <p:spPr>
            <a:xfrm>
              <a:off x="1116000" y="530280"/>
              <a:ext cx="7302600" cy="56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Box 13"/>
            <p:cNvSpPr/>
            <p:nvPr/>
          </p:nvSpPr>
          <p:spPr>
            <a:xfrm>
              <a:off x="1658160" y="943920"/>
              <a:ext cx="97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CT &amp; Lo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6"/>
          <p:cNvSpPr/>
          <p:nvPr/>
        </p:nvSpPr>
        <p:spPr>
          <a:xfrm>
            <a:off x="563400" y="1557360"/>
            <a:ext cx="784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nal ammonium-ammonia buffer system is subjec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ysiological contr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587520" y="2565360"/>
            <a:ext cx="7187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stimulates renal glutamine metabol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ew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mation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↑ buffering of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for ↓ ECF [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570600" y="3943440"/>
            <a:ext cx="8082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, ammonia buffer system accounts for ~ 50%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ed (&amp;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creat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18840" y="5100480"/>
            <a:ext cx="812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CHRONIC ACIDO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mmoniagenesis can incre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~10 fold (500 mEq/day; over days) to become domi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id excretion mechan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988560" y="214200"/>
            <a:ext cx="7173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/ HCO</a:t>
            </a:r>
            <a:r>
              <a:rPr b="1" lang="en-GB" sz="36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 Control by the Kidn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511920" y="9079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Bicarbonate regeneration -  Metabolism of glutam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1"/>
          <p:cNvSpPr/>
          <p:nvPr/>
        </p:nvSpPr>
        <p:spPr>
          <a:xfrm>
            <a:off x="8610480" y="6308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FC29-EAB2-457C-A94B-89FA674997F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63240" y="563400"/>
            <a:ext cx="85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Titratable Acid Secretion and Urine p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436680" y="1249200"/>
            <a:ext cx="774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art from generating new bicarbonate, titratable a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retion is important for regulating urinary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-78480" y="4606920"/>
            <a:ext cx="864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there were no non-bicarbonate buffers pres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80 mEq/ day excess of fixed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uld be eliminated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onic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-129600" y="2106720"/>
            <a:ext cx="85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um urine acidity ~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 4.5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quates to urine 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ef0bf5"/>
                </a:solidFill>
                <a:uFillTx/>
                <a:latin typeface="Arial"/>
              </a:rPr>
              <a:t>only ~ 0.03 mM/L!!</a:t>
            </a:r>
            <a:r>
              <a:rPr b="0" lang="en-US" sz="2400" spc="-1" strike="noStrike">
                <a:solidFill>
                  <a:srgbClr val="ef0bf5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-149040" y="3017880"/>
            <a:ext cx="88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80 mEq/L excess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ingested each day, and an eq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acid is excreted each day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15840" y="3776760"/>
            <a:ext cx="897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uld need to excrete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667 L urine / 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norm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rete only1-2 L / day) i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mained in ionised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0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F1BB-3575-47E8-9786-88B8F42C740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A0CB-EF6C-4759-994D-EA68B2BFCEB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273600" y="812880"/>
            <a:ext cx="813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Buffer is substance that stabilises (limits the change of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 when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ons are added or removed from a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134640" y="185724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 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eliminate 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from body –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REVERSIBLY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b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until balance is re-establ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2518920" y="3786120"/>
            <a:ext cx="2789640" cy="520560"/>
            <a:chOff x="2518920" y="3786120"/>
            <a:chExt cx="2789640" cy="520560"/>
          </a:xfrm>
        </p:grpSpPr>
        <p:sp>
          <p:nvSpPr>
            <p:cNvPr id="385" name="TextBox 6"/>
            <p:cNvSpPr/>
            <p:nvPr/>
          </p:nvSpPr>
          <p:spPr>
            <a:xfrm>
              <a:off x="2518920" y="3786120"/>
              <a:ext cx="278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HA         H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+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+ A</a:t>
              </a:r>
              <a:r>
                <a:rPr b="1" lang="en-IE" sz="2800" spc="-1" strike="noStrike" baseline="30000">
                  <a:solidFill>
                    <a:srgbClr val="66ff33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66ff33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6" name="Straight Arrow Connector 8"/>
            <p:cNvCxnSpPr/>
            <p:nvPr/>
          </p:nvCxnSpPr>
          <p:spPr>
            <a:xfrm>
              <a:off x="3152160" y="398772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tailEnd len="med" type="arrow" w="med"/>
            </a:ln>
          </p:spPr>
        </p:cxnSp>
        <p:cxnSp>
          <p:nvCxnSpPr>
            <p:cNvPr id="387" name="Straight Arrow Connector 11"/>
            <p:cNvCxnSpPr/>
            <p:nvPr/>
          </p:nvCxnSpPr>
          <p:spPr>
            <a:xfrm>
              <a:off x="3101400" y="4140000"/>
              <a:ext cx="611640" cy="2160"/>
            </a:xfrm>
            <a:prstGeom prst="straightConnector1">
              <a:avLst/>
            </a:prstGeom>
            <a:ln w="28440">
              <a:solidFill>
                <a:srgbClr val="66ff33"/>
              </a:solidFill>
              <a:miter/>
              <a:headEnd len="med" type="arrow" w="med"/>
            </a:ln>
          </p:spPr>
        </p:cxnSp>
      </p:grpSp>
      <p:sp>
        <p:nvSpPr>
          <p:cNvPr id="388" name="Text Box 6"/>
          <p:cNvSpPr/>
          <p:nvPr/>
        </p:nvSpPr>
        <p:spPr>
          <a:xfrm>
            <a:off x="166680" y="459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Reaction direction (&amp; dissociation rate) dependent on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ncentration of each chemical spec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6"/>
          <p:cNvSpPr/>
          <p:nvPr/>
        </p:nvSpPr>
        <p:spPr>
          <a:xfrm>
            <a:off x="179280" y="5599080"/>
            <a:ext cx="803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f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↑ then equation moves leftwards and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vice versa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]↓ - 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minimises changes in [H</a:t>
            </a:r>
            <a:r>
              <a:rPr b="1" i="1" lang="en-IE" sz="2400" spc="-1" strike="noStrike" baseline="30000">
                <a:solidFill>
                  <a:srgbClr val="66ff33"/>
                </a:solidFill>
                <a:latin typeface="Arial"/>
                <a:ea typeface="Arial"/>
              </a:rPr>
              <a:t>+</a:t>
            </a:r>
            <a:r>
              <a:rPr b="1" i="1" lang="en-IE" sz="2400" spc="-1" strike="noStrike">
                <a:solidFill>
                  <a:srgbClr val="66ff33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12"/>
          <p:cNvSpPr/>
          <p:nvPr/>
        </p:nvSpPr>
        <p:spPr>
          <a:xfrm>
            <a:off x="5616000" y="3711600"/>
            <a:ext cx="338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HA = undissociated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= conjugate base (any an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34280" y="2943360"/>
            <a:ext cx="89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General form of buffering reaction usually in form of conjug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cid-base pa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26C7-4F51-4769-8FA5-1BF0D20B55B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Picture 2" descr="defenses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E2A1-0602-438E-B903-00C8A687121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525960" y="571680"/>
            <a:ext cx="62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What buffer systems exist in the bod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518400" y="1143000"/>
            <a:ext cx="57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578520" y="1785960"/>
            <a:ext cx="721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- Most important buffering system. Works by ac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roton acceptor for carbonic aci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1598760" y="2712960"/>
            <a:ext cx="5759280" cy="96696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24"/>
          <p:cNvGrpSpPr/>
          <p:nvPr/>
        </p:nvGrpSpPr>
        <p:grpSpPr>
          <a:xfrm>
            <a:off x="586080" y="4032360"/>
            <a:ext cx="7219080" cy="1058760"/>
            <a:chOff x="586080" y="4032360"/>
            <a:chExt cx="7219080" cy="1058760"/>
          </a:xfrm>
        </p:grpSpPr>
        <p:sp>
          <p:nvSpPr>
            <p:cNvPr id="401" name="TextBox 9"/>
            <p:cNvSpPr/>
            <p:nvPr/>
          </p:nvSpPr>
          <p:spPr>
            <a:xfrm>
              <a:off x="586080" y="4367880"/>
              <a:ext cx="31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Using HH equation,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2" name="Group 18"/>
            <p:cNvGrpSpPr/>
            <p:nvPr/>
          </p:nvGrpSpPr>
          <p:grpSpPr>
            <a:xfrm>
              <a:off x="3707280" y="4032360"/>
              <a:ext cx="4097880" cy="1058760"/>
              <a:chOff x="3707280" y="4032360"/>
              <a:chExt cx="4097880" cy="1058760"/>
            </a:xfrm>
          </p:grpSpPr>
          <p:sp>
            <p:nvSpPr>
              <p:cNvPr id="403" name="TextBox 13"/>
              <p:cNvSpPr/>
              <p:nvPr/>
            </p:nvSpPr>
            <p:spPr>
              <a:xfrm>
                <a:off x="3707280" y="4321440"/>
                <a:ext cx="27550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pH = p</a:t>
                </a:r>
                <a:r>
                  <a:rPr b="1" i="1" lang="en-IE" sz="2800" spc="-1" strike="noStrike">
                    <a:solidFill>
                      <a:srgbClr val="ffff00"/>
                    </a:solidFill>
                    <a:latin typeface="Arial"/>
                  </a:rPr>
                  <a:t>K</a:t>
                </a:r>
                <a:r>
                  <a:rPr b="1" lang="en-IE" sz="2800" spc="-1" strike="noStrike">
                    <a:solidFill>
                      <a:srgbClr val="ffff00"/>
                    </a:solidFill>
                    <a:latin typeface="Arial"/>
                  </a:rPr>
                  <a:t> + log</a:t>
                </a:r>
                <a:r>
                  <a:rPr b="1" lang="en-IE" sz="2800" spc="-1" strike="noStrike" baseline="-25000">
                    <a:solidFill>
                      <a:srgbClr val="ffff00"/>
                    </a:solidFill>
                    <a:latin typeface="Arial"/>
                  </a:rPr>
                  <a:t>10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4" name="Group 27"/>
              <p:cNvGrpSpPr/>
              <p:nvPr/>
            </p:nvGrpSpPr>
            <p:grpSpPr>
              <a:xfrm>
                <a:off x="6332760" y="4032360"/>
                <a:ext cx="1472400" cy="1058760"/>
                <a:chOff x="6332760" y="4032360"/>
                <a:chExt cx="1472400" cy="1058760"/>
              </a:xfrm>
            </p:grpSpPr>
            <p:sp>
              <p:nvSpPr>
                <p:cNvPr id="405" name="TextBox 15"/>
                <p:cNvSpPr/>
                <p:nvPr/>
              </p:nvSpPr>
              <p:spPr>
                <a:xfrm>
                  <a:off x="6415560" y="4032360"/>
                  <a:ext cx="138960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 baseline="30000">
                      <a:solidFill>
                        <a:srgbClr val="ffff00"/>
                      </a:solidFill>
                      <a:latin typeface="Arial"/>
                    </a:rPr>
                    <a:t>-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Straight Connector 16"/>
                <p:cNvSpPr/>
                <p:nvPr/>
              </p:nvSpPr>
              <p:spPr>
                <a:xfrm>
                  <a:off x="6531120" y="4564080"/>
                  <a:ext cx="928800" cy="14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TextBox 17"/>
                <p:cNvSpPr/>
                <p:nvPr/>
              </p:nvSpPr>
              <p:spPr>
                <a:xfrm>
                  <a:off x="6332760" y="4511520"/>
                  <a:ext cx="1434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[H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2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CO</a:t>
                  </a:r>
                  <a:r>
                    <a:rPr b="1" lang="en-IE" sz="2800" spc="-1" strike="noStrike" baseline="-25000">
                      <a:solidFill>
                        <a:srgbClr val="ffff00"/>
                      </a:solidFill>
                      <a:latin typeface="Arial"/>
                    </a:rPr>
                    <a:t>3</a:t>
                  </a:r>
                  <a:r>
                    <a:rPr b="1" lang="en-IE" sz="2800" spc="-1" strike="noStrike">
                      <a:solidFill>
                        <a:srgbClr val="ffff00"/>
                      </a:solidFill>
                      <a:latin typeface="Arial"/>
                    </a:rPr>
                    <a:t>]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8" name="TextBox 23"/>
          <p:cNvSpPr/>
          <p:nvPr/>
        </p:nvSpPr>
        <p:spPr>
          <a:xfrm>
            <a:off x="645840" y="5500800"/>
            <a:ext cx="7819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very low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(6800 x less than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, difficult 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asure but directly proportional to dissolved arte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x solubility coefficient (0.03 for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E67D-5E4B-4A44-BA8F-D846071E819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503280" y="9810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Therefore at 37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°</a:t>
            </a:r>
            <a:r>
              <a:rPr b="0" lang="en-IE" sz="2800" spc="-1" strike="noStrike">
                <a:solidFill>
                  <a:srgbClr val="66ff33"/>
                </a:solidFill>
                <a:latin typeface="Arial"/>
              </a:rPr>
              <a:t>C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11"/>
          <p:cNvGrpSpPr/>
          <p:nvPr/>
        </p:nvGrpSpPr>
        <p:grpSpPr>
          <a:xfrm>
            <a:off x="2385000" y="1338120"/>
            <a:ext cx="5580000" cy="1057680"/>
            <a:chOff x="2385000" y="1338120"/>
            <a:chExt cx="5580000" cy="1057680"/>
          </a:xfrm>
        </p:grpSpPr>
        <p:sp>
          <p:nvSpPr>
            <p:cNvPr id="414" name="TextBox 5"/>
            <p:cNvSpPr/>
            <p:nvPr/>
          </p:nvSpPr>
          <p:spPr>
            <a:xfrm>
              <a:off x="2385000" y="1627200"/>
              <a:ext cx="27777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pH = 6.1 + log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10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Box 7"/>
            <p:cNvSpPr/>
            <p:nvPr/>
          </p:nvSpPr>
          <p:spPr>
            <a:xfrm>
              <a:off x="5398920" y="1338120"/>
              <a:ext cx="138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[H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en-IE" sz="2800" spc="-1" strike="noStrike" baseline="30000">
                  <a:solidFill>
                    <a:srgbClr val="ffff00"/>
                  </a:solidFill>
                  <a:latin typeface="Arial"/>
                </a:rPr>
                <a:t>-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]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Straight Connector 7"/>
            <p:cNvSpPr/>
            <p:nvPr/>
          </p:nvSpPr>
          <p:spPr>
            <a:xfrm>
              <a:off x="5116320" y="1870200"/>
              <a:ext cx="1871640" cy="14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Box 9"/>
            <p:cNvSpPr/>
            <p:nvPr/>
          </p:nvSpPr>
          <p:spPr>
            <a:xfrm>
              <a:off x="5023080" y="1816200"/>
              <a:ext cx="2941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0.03 x Pco</a:t>
              </a:r>
              <a:r>
                <a:rPr b="1" lang="en-IE" sz="2800" spc="-1" strike="noStrike" baseline="-25000">
                  <a:solidFill>
                    <a:srgbClr val="ffff00"/>
                  </a:solidFill>
                  <a:latin typeface="Arial"/>
                </a:rPr>
                <a:t>2 </a:t>
              </a:r>
              <a:r>
                <a:rPr b="1" lang="en-IE" sz="2800" spc="-1" strike="noStrike">
                  <a:solidFill>
                    <a:srgbClr val="ffff00"/>
                  </a:solidFill>
                  <a:latin typeface="Arial"/>
                </a:rPr>
                <a:t>(mM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TextBox 9"/>
          <p:cNvSpPr/>
          <p:nvPr/>
        </p:nvSpPr>
        <p:spPr>
          <a:xfrm>
            <a:off x="187560" y="2349360"/>
            <a:ext cx="8870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s pH and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can both easily be measured, possibl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stimat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(normally ~ 24 mEq/L in arterial bloo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an estimate [acid or base] required to correct imbalance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10"/>
          <p:cNvSpPr/>
          <p:nvPr/>
        </p:nvSpPr>
        <p:spPr>
          <a:xfrm>
            <a:off x="170640" y="3686040"/>
            <a:ext cx="7809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maintain pH of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7.4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: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IE" sz="2400" spc="-1" strike="noStrike">
                <a:solidFill>
                  <a:srgbClr val="ef0bf5"/>
                </a:solidFill>
                <a:latin typeface="Arial"/>
              </a:rPr>
              <a:t>20:1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– if rat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anges, so too will p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11"/>
          <p:cNvSpPr/>
          <p:nvPr/>
        </p:nvSpPr>
        <p:spPr>
          <a:xfrm>
            <a:off x="230040" y="4673520"/>
            <a:ext cx="8750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When enough [H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added to halve 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, pH would dr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o 6.0, </a:t>
            </a:r>
            <a:r>
              <a:rPr b="1" lang="en-IE" sz="2400" spc="-1" strike="noStrike" u="sng">
                <a:solidFill>
                  <a:srgbClr val="66ff33"/>
                </a:solidFill>
                <a:uFillTx/>
                <a:latin typeface="Arial"/>
              </a:rPr>
              <a:t>BU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,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O +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→ ventilation↑ and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m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12"/>
          <p:cNvSpPr/>
          <p:nvPr/>
        </p:nvSpPr>
        <p:spPr>
          <a:xfrm>
            <a:off x="165960" y="5826240"/>
            <a:ext cx="70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means that </a:t>
            </a:r>
            <a:r>
              <a:rPr b="1" lang="en-IE" sz="2400" spc="-1" strike="noStrike" u="sng">
                <a:solidFill>
                  <a:srgbClr val="00b0f0"/>
                </a:solidFill>
                <a:uFillTx/>
                <a:latin typeface="Arial"/>
              </a:rPr>
              <a:t>pH only drops to ~ 7.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13"/>
          <p:cNvSpPr/>
          <p:nvPr/>
        </p:nvSpPr>
        <p:spPr>
          <a:xfrm>
            <a:off x="1958760" y="4287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73B7-EAC5-4488-8221-D900E22D089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179280" y="1285920"/>
            <a:ext cx="8701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ing power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/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system (against acids but </a:t>
            </a:r>
            <a:r>
              <a:rPr b="1" i="1" lang="en-IE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ases) usually only limited by depletion of 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6207120" y="3743280"/>
            <a:ext cx="2755800" cy="2430360"/>
          </a:xfrm>
          <a:prstGeom prst="rect">
            <a:avLst/>
          </a:prstGeom>
          <a:ln w="0">
            <a:noFill/>
          </a:ln>
        </p:spPr>
      </p:pic>
      <p:grpSp>
        <p:nvGrpSpPr>
          <p:cNvPr id="426" name="Group 13"/>
          <p:cNvGrpSpPr/>
          <p:nvPr/>
        </p:nvGrpSpPr>
        <p:grpSpPr>
          <a:xfrm>
            <a:off x="216720" y="2286000"/>
            <a:ext cx="7903800" cy="3283560"/>
            <a:chOff x="216720" y="2286000"/>
            <a:chExt cx="7903800" cy="3283560"/>
          </a:xfrm>
        </p:grpSpPr>
        <p:sp>
          <p:nvSpPr>
            <p:cNvPr id="427" name="TextBox 14"/>
            <p:cNvSpPr/>
            <p:nvPr/>
          </p:nvSpPr>
          <p:spPr>
            <a:xfrm>
              <a:off x="216720" y="2286000"/>
              <a:ext cx="7903800" cy="32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ff33"/>
                </a:buClr>
                <a:buSzPct val="9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s pH of a 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/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solution depends on the ratio of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: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rather than [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and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a) [H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IE" sz="2400" spc="-1" strike="noStrike" baseline="30000">
                  <a:solidFill>
                    <a:srgbClr val="ffffff"/>
                  </a:solidFill>
                  <a:latin typeface="Arial"/>
                </a:rPr>
                <a:t>-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] is controlled mainly by kidneys, whilst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b) Pco</a:t>
              </a:r>
              <a:r>
                <a:rPr b="0" lang="en-IE" sz="2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is controlled by lung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IE" sz="2400" spc="-1" strike="noStrike">
                  <a:solidFill>
                    <a:srgbClr val="ffffff"/>
                  </a:solidFill>
                  <a:latin typeface="Arial"/>
                </a:rPr>
                <a:t>pH can be expressed as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800" spc="-1" strike="noStrike">
                  <a:solidFill>
                    <a:srgbClr val="ffffff"/>
                  </a:solidFill>
                  <a:latin typeface="Arial"/>
                </a:rPr>
                <a:t>                          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2800" spc="-1" strike="noStrike">
                  <a:solidFill>
                    <a:srgbClr val="ef0bf5"/>
                  </a:solidFill>
                  <a:latin typeface="Arial"/>
                </a:rPr>
                <a:t>             </a:t>
              </a:r>
              <a:r>
                <a:rPr b="1" lang="en-IE" sz="2800" spc="-1" strike="noStrike">
                  <a:solidFill>
                    <a:srgbClr val="eb8803"/>
                  </a:solidFill>
                  <a:latin typeface="Arial"/>
                </a:rPr>
                <a:t>pH  = constant +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8" name="Group 11"/>
            <p:cNvGrpSpPr/>
            <p:nvPr/>
          </p:nvGrpSpPr>
          <p:grpSpPr>
            <a:xfrm>
              <a:off x="4286880" y="4548960"/>
              <a:ext cx="1505160" cy="1020600"/>
              <a:chOff x="4286880" y="4548960"/>
              <a:chExt cx="1505160" cy="1020600"/>
            </a:xfrm>
          </p:grpSpPr>
          <p:sp>
            <p:nvSpPr>
              <p:cNvPr id="429" name="Rectangle 6"/>
              <p:cNvSpPr/>
              <p:nvPr/>
            </p:nvSpPr>
            <p:spPr>
              <a:xfrm>
                <a:off x="4286880" y="4548960"/>
                <a:ext cx="1505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kidney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Rectangle 8"/>
              <p:cNvSpPr/>
              <p:nvPr/>
            </p:nvSpPr>
            <p:spPr>
              <a:xfrm>
                <a:off x="4500360" y="5049000"/>
                <a:ext cx="1127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IE" sz="2800" spc="-1" strike="noStrike">
                    <a:solidFill>
                      <a:srgbClr val="eb8803"/>
                    </a:solidFill>
                    <a:latin typeface="Arial"/>
                  </a:rPr>
                  <a:t>lungs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Straight Connector 10"/>
              <p:cNvSpPr/>
              <p:nvPr/>
            </p:nvSpPr>
            <p:spPr>
              <a:xfrm>
                <a:off x="4362480" y="5121360"/>
                <a:ext cx="1359000" cy="1440"/>
              </a:xfrm>
              <a:prstGeom prst="line">
                <a:avLst/>
              </a:prstGeom>
              <a:ln w="28440">
                <a:solidFill>
                  <a:srgbClr val="61b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2" name="Text Box 4"/>
          <p:cNvSpPr/>
          <p:nvPr/>
        </p:nvSpPr>
        <p:spPr>
          <a:xfrm>
            <a:off x="1938960" y="-27000"/>
            <a:ext cx="52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12"/>
          <p:cNvSpPr/>
          <p:nvPr/>
        </p:nvSpPr>
        <p:spPr>
          <a:xfrm>
            <a:off x="2030040" y="642960"/>
            <a:ext cx="50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ef0bf5"/>
                </a:solidFill>
                <a:latin typeface="Arial"/>
              </a:rPr>
              <a:t>1) Bicarbonate buffer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4E1C-BBBF-4E66-9DE4-BB638E9B380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890360" y="-28440"/>
            <a:ext cx="545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2) Phosphate Buffe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4"/>
          <p:cNvSpPr/>
          <p:nvPr/>
        </p:nvSpPr>
        <p:spPr>
          <a:xfrm>
            <a:off x="308880" y="1157400"/>
            <a:ext cx="85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hosphate buffer system not important as extracellular fl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buffer (concentration too low)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5"/>
          <p:cNvSpPr/>
          <p:nvPr/>
        </p:nvSpPr>
        <p:spPr>
          <a:xfrm>
            <a:off x="294120" y="2035080"/>
            <a:ext cx="81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However, major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INTRACELLULAR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buffer and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RENAL TUBULAR FLUI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858600" y="3571920"/>
            <a:ext cx="659556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acid converted to weak acid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"/>
          <p:cNvSpPr/>
          <p:nvPr/>
        </p:nvSpPr>
        <p:spPr>
          <a:xfrm>
            <a:off x="336960" y="3027240"/>
            <a:ext cx="610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mponents are H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and H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055880" y="4944960"/>
            <a:ext cx="67478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+ H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trong base converted to weak bas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ess effect on p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4"/>
          <p:cNvSpPr/>
          <p:nvPr/>
        </p:nvSpPr>
        <p:spPr>
          <a:xfrm>
            <a:off x="1896120" y="311040"/>
            <a:ext cx="5287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Control of [H</a:t>
            </a:r>
            <a:r>
              <a:rPr b="1" lang="en-GB" sz="36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] - Buff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3) Protein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293040" y="4235400"/>
            <a:ext cx="86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boxyl an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ino groups on plasma proteins are eff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ffer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243360" y="2871720"/>
            <a:ext cx="87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 60 - 70% of total chemical buffering of body fluids is loc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acellularly, mostly due to intracellular prot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246600" y="1492200"/>
            <a:ext cx="82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s among most plentiful buffers in body, particular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y concentrated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NTRACELLULARLY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265040" y="469728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COOH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COO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1590480" y="5213520"/>
            <a:ext cx="527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↔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 RNH</a:t>
            </a:r>
            <a:r>
              <a:rPr b="1" lang="en-US" sz="28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 + H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Ahmad Ahmeda</cp:lastModifiedBy>
  <dcterms:modified xsi:type="dcterms:W3CDTF">2015-05-10T23:00:23Z</dcterms:modified>
  <cp:revision>536</cp:revision>
  <dc:subject/>
  <dc:title>Slide 1</dc:title>
</cp:coreProperties>
</file>