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0844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7B55-0401-4E79-A959-4981D58968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0106-A940-4EE5-8872-277E62BC21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b represents 80% of the non-bicarbonate buffer power of the ECF. 36 of Hbs 574 amino acids are histidines which have dissociable protons on their side groups. It has an average pK value of ~6.5 making it a good buffer in the physiological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A0B1-B273-450A-965D-4E1D2DB674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3F69-7146-4BF1-B9BB-F7630160EF6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hosphoric acid (H3PO4) has three dissociable protons. The pK value of H2PO4 to H + HPO4 is 6.8 making it a good ECF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F041-0892-4C72-BDF0-CB784325295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D7D-BCEC-4A48-AC74-EFFF6E57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4A7-D2EC-479D-9D9B-50C13B74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B8F-E578-49C2-8110-21DE0E91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820-BC26-4847-82CF-9B898B6C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F730-38A2-4D6A-A8C5-0FF45316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05E0-EBAB-4E32-A664-DEB231FF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BAB5-2235-4811-B0D5-360F205A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5715-CA9E-4937-9E13-91FBBF41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47C9-F943-4498-AC6D-CF97A9C1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7A22-7A84-4EC8-BD0B-B3582F1C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8F64-B9CE-4CD2-97E5-41301778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A24-2B74-49CE-B74C-17A38047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3BF9-0781-4F2F-8CCF-791BCC2F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3B51-510B-42F3-8C9F-08AE30D4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FA7D-1B2F-424E-868F-47ADB147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6E53-7BB6-4489-9B52-3FF2B21B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C4B4-0D55-4ED9-8439-1269D938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30095-10ED-41FF-8B8D-71808071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9A9B-6956-4A3E-849B-E83BC853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FDDC-0F2D-4C88-A88A-A808F26B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8099-3343-4332-9993-A111CF51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391C3-2BEF-4398-A026-01C458C2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1AE-8466-4A33-BADD-A79A35D5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3EDD-1E58-4B8D-8A8B-E24D84BB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DC51E-5717-4AB8-8653-1EB5ACE2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AC3D2-48B7-4458-9C73-7288C90B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D8531-7D89-4B22-A0AC-1646585A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1690-0C67-4532-BAE4-E5ADDD5E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125B-98FC-4752-8E4D-C51E7866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490FD-2E77-4429-BB75-F2E2A90E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F3D45-7AE2-4CA5-B8BC-EBADC5E8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24DBF-7812-4122-B467-3DECCBC8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2B4A2-37C1-48AD-8332-4BC9A634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83F-F70A-42A6-A175-59B93BB0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07AA4-F1A9-4E81-9E3D-6A6A4C13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41E9A-C81F-46E1-AA9E-15FDBACC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5301C-F318-4C8F-A38D-87E178C1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8258C-61F8-4708-9F9F-A3764A68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F70D7-BB5B-4854-BFB9-0341C5D2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1C4C1-F199-483A-ADF0-F05DA072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1EC4A-6FEF-4C07-91DA-3800B7F5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9469A-4548-43E2-8175-BEAC5B39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1177D-0EE6-4219-9B3B-94DB3EF9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02C17-0DDF-400E-B5E4-462CFC25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C0F-9284-4CAA-B314-15FF513B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A675F-F44A-4C80-99E4-6F9D35AE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08999-91DA-42E8-8E89-5286ACE1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65447-47F7-49A1-A681-CF9BDA35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1FA78-C52E-4CA9-80E7-EA71F694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D064A-2B6F-4197-A1D1-C571C100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64596-4496-4D65-AFB9-3986559E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6D865-F0A6-4A76-AAD4-21EC6ED8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6098E-43C0-4A1B-A884-F1221C56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170DA-3CAE-4B0F-9B96-9BBDDA34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830A0-868A-4BD4-8D34-ADFA0809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5B8-C5B3-4FB4-8BD5-7028EF31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31416-53DE-4318-8518-50288743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7A4FF-3340-48DA-B6DD-A309136B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F17CD-C93B-4323-BCEB-0BDBF2F4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DB8D5-4B52-4230-989A-FAC2C487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6D449-DFA0-4839-BCFA-A39D6690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4A02E-F6A4-4800-9847-42924CB4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F4828-76DD-4BF4-95FB-7CFE61BB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AB55F-D71E-4D5A-BED1-7C97323A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F911E-8AE2-49BF-A8C1-28A1010B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D211F-4969-4BFF-8754-C1EC4182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74E-F8B8-4143-A70B-9E8CDEC7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EC617-9D23-417D-9050-8D3B3D89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546F1-9661-4DCF-A6C4-CEA24731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1D7EF-14CE-4EAF-A7E9-3A4B8F84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D1CE0-6A0A-4698-A21F-8EB4BFE6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C153E-217E-45B4-A476-CB8CFCBC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8504B-5518-4D48-9DB2-5C757C1C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13835-DDFA-4EC0-B4C9-1C44869A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5F125-345B-4322-B163-E717E975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43272-603F-497D-8CD0-03B9B8B3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2C620-4E08-40E8-A444-6447904C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4DE-0B01-4663-B250-DE7D3BCC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D4D52-0924-486E-BEC9-CFEC0E3F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9A41C-D6D5-470E-8381-6D0E741D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DFDFC-1F30-4FC0-B626-3F6FE8D4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B9072-6B4E-4D3A-8C54-C067A49F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B4D55-D81B-4D1A-9F82-170EA991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BD7-457C-4971-8EFB-B3F46503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D579-D571-406F-A235-6071580E7CD4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B20F-6C2E-4DBD-8119-5FE884358364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ED48-D3D8-498B-B590-BC759F008EE2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C037-71C2-43F3-B8AF-A4C67D6FFEE2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B75A-05AA-40E5-823C-5ED988B53097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4EB4-D451-4D76-ADD0-7F7AB0004F99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4CB8-6239-43C8-993C-684943389042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1950840" y="1413000"/>
            <a:ext cx="492948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1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id-Base Balanc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uffer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2643480" y="3849840"/>
            <a:ext cx="368424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Ahmad Ahme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aahmeda@ksu.edu.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Cell phone: 05363134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Slide Number Placeholder 6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7E76-E188-47C0-94C7-5472FB1A5794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521280" y="5119560"/>
            <a:ext cx="854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 of cells changes in proportion to pH of extracellular flu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rapidly traverse cell membr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718200" y="1577880"/>
            <a:ext cx="7850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ost important non-bicarbonate buffering proteins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itratable groups on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HAEMOGLOBI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(Hb also important for buffering CO</a:t>
            </a:r>
            <a:r>
              <a:rPr b="1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Group 13"/>
          <p:cNvGrpSpPr/>
          <p:nvPr/>
        </p:nvGrpSpPr>
        <p:grpSpPr>
          <a:xfrm>
            <a:off x="-403200" y="3322800"/>
            <a:ext cx="12031200" cy="1628280"/>
            <a:chOff x="-403200" y="3322800"/>
            <a:chExt cx="12031200" cy="1628280"/>
          </a:xfrm>
        </p:grpSpPr>
        <p:sp>
          <p:nvSpPr>
            <p:cNvPr id="450" name="Rectangle 2"/>
            <p:cNvSpPr/>
            <p:nvPr/>
          </p:nvSpPr>
          <p:spPr>
            <a:xfrm>
              <a:off x="-403200" y="3322800"/>
              <a:ext cx="8143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3600" indent="-363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             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O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2"/>
            <p:cNvSpPr/>
            <p:nvPr/>
          </p:nvSpPr>
          <p:spPr>
            <a:xfrm>
              <a:off x="3484440" y="4402440"/>
              <a:ext cx="814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3600" indent="-363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             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b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H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19560" y="3841920"/>
              <a:ext cx="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Box 10"/>
            <p:cNvSpPr/>
            <p:nvPr/>
          </p:nvSpPr>
          <p:spPr>
            <a:xfrm>
              <a:off x="2098080" y="4308480"/>
              <a:ext cx="268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(DeoxyHb a better buff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 </a:t>
              </a: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than OxyH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 Box 4"/>
          <p:cNvSpPr/>
          <p:nvPr/>
        </p:nvSpPr>
        <p:spPr>
          <a:xfrm>
            <a:off x="1896120" y="49680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3) Protein Buf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5"/>
          <p:cNvSpPr/>
          <p:nvPr/>
        </p:nvSpPr>
        <p:spPr>
          <a:xfrm>
            <a:off x="393840" y="2349360"/>
            <a:ext cx="85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ever, important source of buffer in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HRON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abo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idosis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.e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nal tubular acidosis &amp; uraemic acidosi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414720" y="1166760"/>
            <a:ext cx="86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bably involved in providing a degree of buffering (by i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hange) in most acid-base disor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8"/>
          <p:cNvSpPr/>
          <p:nvPr/>
        </p:nvSpPr>
        <p:spPr>
          <a:xfrm>
            <a:off x="413640" y="3500280"/>
            <a:ext cx="837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base) is most important buffer released from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ring metabolic acid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443160" y="4694400"/>
            <a:ext cx="81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in major depletion of skeletal minera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hronic metabolic acidosis that occurs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nal tubule acidosis (RTA) can lead to development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ckets / osteomalac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896120" y="-2844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4) 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4"/>
          <p:cNvSpPr/>
          <p:nvPr/>
        </p:nvSpPr>
        <p:spPr>
          <a:xfrm>
            <a:off x="507960" y="1109520"/>
            <a:ext cx="73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at all of these buffer systems work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AND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iso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484200" y="2320920"/>
            <a:ext cx="779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s can only </a:t>
            </a:r>
            <a:r>
              <a:rPr b="1" i="1" lang="en-IE" sz="2400" spc="-1" strike="noStrike">
                <a:solidFill>
                  <a:srgbClr val="ffff00"/>
                </a:solidFill>
                <a:latin typeface="Arial"/>
              </a:rPr>
              <a:t>LIMIT CHANG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in pH, they canno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eb8803"/>
                </a:solidFill>
                <a:latin typeface="Arial"/>
              </a:rPr>
              <a:t>REVERSE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619560" y="3598920"/>
            <a:ext cx="835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nce arterial pH has deviated from normal value, can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e returned to normal by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RESPIRATORY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RENAL</a:t>
            </a:r>
            <a:r>
              <a:rPr b="0" lang="en-IE" sz="2400" spc="-1" strike="noStrike">
                <a:solidFill>
                  <a:srgbClr val="ef0bf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66ff33"/>
                </a:solidFill>
                <a:latin typeface="Arial"/>
              </a:rPr>
              <a:t>COMPENSA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896120" y="14292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4"/>
          <p:cNvSpPr/>
          <p:nvPr/>
        </p:nvSpPr>
        <p:spPr>
          <a:xfrm>
            <a:off x="709200" y="2449440"/>
            <a:ext cx="779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Acid-Base 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4"/>
          <p:cNvSpPr/>
          <p:nvPr/>
        </p:nvSpPr>
        <p:spPr>
          <a:xfrm>
            <a:off x="539640" y="10008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4"/>
          <p:cNvSpPr/>
          <p:nvPr/>
        </p:nvSpPr>
        <p:spPr>
          <a:xfrm>
            <a:off x="279360" y="2502000"/>
            <a:ext cx="8864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anges in alveolar ventilation can alter </a:t>
            </a:r>
            <a:r>
              <a:rPr b="1" lang="en-IE" sz="2400" spc="-1" strike="noStrike">
                <a:solidFill>
                  <a:srgbClr val="0099ff"/>
                </a:solidFill>
                <a:latin typeface="Arial"/>
              </a:rPr>
              <a:t>plasma Pco</a:t>
            </a:r>
            <a:r>
              <a:rPr b="1" lang="en-IE" sz="2400" spc="-1" strike="noStrike" baseline="-25000">
                <a:solidFill>
                  <a:srgbClr val="0099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ventilation,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↓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↑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↓ ventilation, ↑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, ↓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2"/>
          <p:cNvGraphicFramePr/>
          <p:nvPr/>
        </p:nvGraphicFramePr>
        <p:xfrm>
          <a:off x="5653080" y="3916440"/>
          <a:ext cx="300816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3080" y="3916440"/>
                    <a:ext cx="300816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TextBox 4"/>
          <p:cNvSpPr/>
          <p:nvPr/>
        </p:nvSpPr>
        <p:spPr>
          <a:xfrm>
            <a:off x="341280" y="1428840"/>
            <a:ext cx="882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ulmonary expir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normally </a:t>
            </a:r>
            <a:r>
              <a:rPr b="1" lang="en-IE" sz="2400" spc="-1" strike="noStrike">
                <a:solidFill>
                  <a:srgbClr val="66ff33"/>
                </a:solidFill>
                <a:latin typeface="Arial"/>
              </a:rPr>
              <a:t>BALANC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metabol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rm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278640" y="4606920"/>
            <a:ext cx="43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anges in 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also al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ALVEOLAR VENTILA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539640" y="10008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50720" y="1353960"/>
            <a:ext cx="77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OWER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-2 x better than extracellular chem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s), but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nnot fully rectif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urbances outs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system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fixed acids like lact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446760" y="2924280"/>
            <a:ext cx="8120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s relativel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PID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stop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changing too mu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il renal buffering kicks in but </a:t>
            </a:r>
            <a:r>
              <a:rPr b="1" lang="en-US" sz="2400" spc="-1" strike="noStrike" u="sng">
                <a:solidFill>
                  <a:srgbClr val="ef0bf5"/>
                </a:solidFill>
                <a:uFillTx/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imi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or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from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482400" y="4591080"/>
            <a:ext cx="8628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normalities of respiration can alter bodily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resulting i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ORY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RESPIRATORY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4"/>
          <p:cNvSpPr/>
          <p:nvPr/>
        </p:nvSpPr>
        <p:spPr>
          <a:xfrm>
            <a:off x="1572120" y="2205000"/>
            <a:ext cx="606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Acid-Base 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7540-ED31-4B0F-8246-866CD1492062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2"/>
          <p:cNvSpPr/>
          <p:nvPr/>
        </p:nvSpPr>
        <p:spPr>
          <a:xfrm>
            <a:off x="971640" y="822240"/>
            <a:ext cx="72007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There are three major renal mechanisms for the maintenance of normal body pH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absorption of filtered bicarbon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roduction of titrable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cretion of ammon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ach of these three mechanisms involve the secretion of hydrogen ions into the urine and the addition of bicarbonate ions to the bloo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1188000" y="100080"/>
            <a:ext cx="68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-624960" y="712800"/>
            <a:ext cx="88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OST EFFECT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 of pH but much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L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max. activity after 5-6 days) than other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-469800" y="1643040"/>
            <a:ext cx="86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ible for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ELIMINA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80 -100 mEq of fix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enerated each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-672480" y="2714760"/>
            <a:ext cx="10063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ly, must also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PREV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nal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LO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freely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terable </a:t>
            </a:r>
            <a:r>
              <a:rPr b="1" lang="en-US" sz="2400" spc="-1" strike="noStrike">
                <a:solidFill>
                  <a:srgbClr val="d6ecff"/>
                </a:solidFill>
                <a:latin typeface="Arial"/>
              </a:rPr>
              <a:t>HCO</a:t>
            </a:r>
            <a:r>
              <a:rPr b="1" lang="en-US" sz="2400" spc="-1" strike="noStrike" baseline="-25000">
                <a:solidFill>
                  <a:srgbClr val="d6ec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d6ecff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d6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rder to preserve this primary buffer syst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-682200" y="3738600"/>
            <a:ext cx="9565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BOTH PROCES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dependent on both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ration 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ion into renal tubules and secretion / reabsorp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ma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9"/>
          <p:cNvSpPr/>
          <p:nvPr/>
        </p:nvSpPr>
        <p:spPr>
          <a:xfrm>
            <a:off x="41400" y="5099040"/>
            <a:ext cx="9342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neys also responsible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ENSATORY CHANG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during respiratory acid-base disor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1147320" y="5586480"/>
            <a:ext cx="778428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-25000">
                <a:solidFill>
                  <a:srgbClr val="ffff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KIDNEYS FAIL, pH BALANCE WILL FAIL</a:t>
            </a:r>
            <a:r>
              <a:rPr b="1" lang="en-US" sz="7200" spc="-1" strike="noStrike" baseline="-25000">
                <a:solidFill>
                  <a:srgbClr val="ffff00"/>
                </a:solidFill>
                <a:latin typeface="Arial"/>
              </a:rPr>
              <a:t> *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4"/>
          <p:cNvSpPr/>
          <p:nvPr/>
        </p:nvSpPr>
        <p:spPr>
          <a:xfrm>
            <a:off x="1188000" y="771480"/>
            <a:ext cx="68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412560" y="2111400"/>
            <a:ext cx="792576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mechanism straightforwa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rge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continuously filtered into tub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rge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secreted into tubu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ore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creted than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e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 net loss of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acid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↑p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ore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ered than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cre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 net loss of </a:t>
            </a:r>
            <a:r>
              <a:rPr b="1" i="1" lang="en-US" sz="2400" spc="-1" strike="noStrike" u="sng">
                <a:solidFill>
                  <a:srgbClr val="0099ff"/>
                </a:solidFill>
                <a:uFillTx/>
                <a:latin typeface="Arial"/>
              </a:rPr>
              <a:t>b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↓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684360" y="2138400"/>
            <a:ext cx="77040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fine buffer system and discuss the role of blood buffers and to explain their relevant roles in the bo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scribe the role of kidneys in the regulation of acid-bas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scribe the role of lungs in the regulation of acid-bas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228040" y="406440"/>
            <a:ext cx="47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lide Number Placeholder 7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F997-3BD8-46A2-8FB5-C77078521D1A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D3DA-A106-4F28-BA27-F65F51860EE1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-401400" y="928800"/>
            <a:ext cx="86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ters filtrate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LT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ough glomeruli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SECRE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o tub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Picture 2" descr="fox25642_1729"/>
          <p:cNvPicPr/>
          <p:nvPr/>
        </p:nvPicPr>
        <p:blipFill>
          <a:blip r:embed="rId1"/>
          <a:stretch/>
        </p:blipFill>
        <p:spPr>
          <a:xfrm>
            <a:off x="3571920" y="2714760"/>
            <a:ext cx="5492880" cy="275112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"/>
          <p:cNvSpPr/>
          <p:nvPr/>
        </p:nvSpPr>
        <p:spPr>
          <a:xfrm>
            <a:off x="415080" y="53820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Renal H</a:t>
            </a:r>
            <a:r>
              <a:rPr b="1" lang="en-GB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23760" y="1812960"/>
            <a:ext cx="880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(80%) occurs across wall of PC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v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/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tiporter  (&amp;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TPase in type A cells of DCT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219240" y="2857680"/>
            <a:ext cx="2885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ables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bsorp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988560" y="-3024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34560" y="4359240"/>
            <a:ext cx="51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imary fac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ing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stemic acid-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GB" sz="2400" spc="-1" strike="noStrike">
                <a:solidFill>
                  <a:srgbClr val="0099ff"/>
                </a:solidFill>
                <a:latin typeface="Arial"/>
              </a:rPr>
              <a:t>ACID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timulate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GB" sz="2400" spc="-1" strike="noStrike">
                <a:solidFill>
                  <a:srgbClr val="ef0bf5"/>
                </a:solidFill>
                <a:latin typeface="Arial"/>
              </a:rPr>
              <a:t>ALKAL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duce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A3CA-CC96-4F82-ACB9-E13FB75069DB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353880" y="68256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Bicarbonate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-674640" y="1143000"/>
            <a:ext cx="9367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FREELY FILTER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glomeruli (3 mM/min)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goes significant (&gt; 99%) reabsorption in PCT, aLo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cortical collecting ducts (CCD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4" descr="segmental reabsorption of bicarbonate - fig 36.1.JPG"/>
          <p:cNvPicPr/>
          <p:nvPr/>
        </p:nvPicPr>
        <p:blipFill>
          <a:blip r:embed="rId1"/>
          <a:stretch/>
        </p:blipFill>
        <p:spPr>
          <a:xfrm>
            <a:off x="5881680" y="2173320"/>
            <a:ext cx="3244680" cy="42148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4"/>
          <p:cNvSpPr/>
          <p:nvPr/>
        </p:nvSpPr>
        <p:spPr>
          <a:xfrm>
            <a:off x="988560" y="2844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-747360" y="2867040"/>
            <a:ext cx="6583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sms of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bsorption 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CT (&amp; aLoH) and CC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re simi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ut not identic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ill look at CC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s in acid-base practical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-663480" y="4941720"/>
            <a:ext cx="6758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bsorption is 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-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dependent on tub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secretion of H</a:t>
            </a:r>
            <a:r>
              <a:rPr b="0" lang="en-US" sz="2400" spc="-1" strike="noStrike" u="sng" baseline="30000">
                <a:solidFill>
                  <a:srgbClr val="66ff33"/>
                </a:solidFill>
                <a:uFillTx/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i="1" lang="en-US" sz="2400" spc="-1" strike="noStrike" u="sng">
                <a:solidFill>
                  <a:srgbClr val="0099ff"/>
                </a:solidFill>
                <a:uFillTx/>
                <a:latin typeface="Arial"/>
              </a:rPr>
              <a:t>ap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nspor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ump for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1263-DF39-453A-8B59-E9570D29709D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Group 14"/>
          <p:cNvGrpSpPr/>
          <p:nvPr/>
        </p:nvGrpSpPr>
        <p:grpSpPr>
          <a:xfrm>
            <a:off x="1116000" y="530280"/>
            <a:ext cx="7302600" cy="5635440"/>
            <a:chOff x="1116000" y="530280"/>
            <a:chExt cx="7302600" cy="5635440"/>
          </a:xfrm>
        </p:grpSpPr>
        <p:pic>
          <p:nvPicPr>
            <p:cNvPr id="504" name="Picture 3" descr=""/>
            <p:cNvPicPr/>
            <p:nvPr/>
          </p:nvPicPr>
          <p:blipFill>
            <a:blip r:embed="rId1"/>
            <a:stretch/>
          </p:blipFill>
          <p:spPr>
            <a:xfrm>
              <a:off x="1116000" y="530280"/>
              <a:ext cx="7302600" cy="56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TextBox 13"/>
            <p:cNvSpPr/>
            <p:nvPr/>
          </p:nvSpPr>
          <p:spPr>
            <a:xfrm>
              <a:off x="1658160" y="943920"/>
              <a:ext cx="97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CT &amp; Lo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6"/>
          <p:cNvSpPr/>
          <p:nvPr/>
        </p:nvSpPr>
        <p:spPr>
          <a:xfrm>
            <a:off x="563400" y="1557360"/>
            <a:ext cx="78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nal ammonium-ammonia buffer system is subjec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ysiologica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587520" y="2565360"/>
            <a:ext cx="7187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CF [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] stimulates renal glutamine metabo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ew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formation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↑ buffering of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vice vers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for ↓ ECF [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]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570600" y="3943440"/>
            <a:ext cx="8082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rmally, ammonia buffer system accounts for ~ 50%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cid excreted (&amp;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crea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618840" y="5100480"/>
            <a:ext cx="812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CHRONIC ACID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mmoniagenesis can incre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~10 fold (500 mEq/day; over days) to become domina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cid excretion mechan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988560" y="21420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511920" y="90792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Bicarbonate regeneration -  Metabolism of glut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1"/>
          <p:cNvSpPr/>
          <p:nvPr/>
        </p:nvSpPr>
        <p:spPr>
          <a:xfrm>
            <a:off x="8610480" y="6308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FB1C-C844-40D6-82D5-EC0D16120E5B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363240" y="563400"/>
            <a:ext cx="85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Titratable Acid Secretion and Urine 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436680" y="1249200"/>
            <a:ext cx="774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art from generating new bicarbonate, titratable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retion is important for regulating urinary p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-78480" y="4606920"/>
            <a:ext cx="86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there were no non-bicarbonate buffers pres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 80 mEq/ day excess of fixed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eliminated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ic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-129600" y="2106720"/>
            <a:ext cx="85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um urine acidity ~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 4.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quates to urine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ef0bf5"/>
                </a:solidFill>
                <a:uFillTx/>
                <a:latin typeface="Arial"/>
              </a:rPr>
              <a:t>only ~ 0.03 mM/L!!</a:t>
            </a:r>
            <a:r>
              <a:rPr b="0" lang="en-US" sz="2400" spc="-1" strike="noStrike">
                <a:solidFill>
                  <a:srgbClr val="ef0bf5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-149040" y="3017880"/>
            <a:ext cx="88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80 mEq/L excess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ingested each day, and an eq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unt of acid is excreted each day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15840" y="3776760"/>
            <a:ext cx="897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need to excrete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2667 L urine / 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norm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rete only1-2 L / day) if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mained in ionised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0" name="Slide Number Placeholder 2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7EB4-800A-4E25-9651-DB210764A21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B280-E3E1-4D6B-B1D1-FEE9BBF8B26D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73600" y="812880"/>
            <a:ext cx="813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Buffer is substance that stabilises (limits the change of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 when 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ons are added or removed from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134640" y="1857240"/>
            <a:ext cx="820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</a:t>
            </a:r>
            <a:r>
              <a:rPr b="0" lang="en-IE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 not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eliminate 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from body –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REVERSIBLY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b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until balance is re-establish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2518920" y="3786120"/>
            <a:ext cx="2789640" cy="520560"/>
            <a:chOff x="2518920" y="3786120"/>
            <a:chExt cx="2789640" cy="520560"/>
          </a:xfrm>
        </p:grpSpPr>
        <p:sp>
          <p:nvSpPr>
            <p:cNvPr id="385" name="TextBox 6"/>
            <p:cNvSpPr/>
            <p:nvPr/>
          </p:nvSpPr>
          <p:spPr>
            <a:xfrm>
              <a:off x="2518920" y="3786120"/>
              <a:ext cx="278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HA         H</a:t>
              </a:r>
              <a:r>
                <a:rPr b="1" lang="en-IE" sz="2800" spc="-1" strike="noStrike" baseline="30000">
                  <a:solidFill>
                    <a:srgbClr val="66ff33"/>
                  </a:solidFill>
                  <a:latin typeface="Arial"/>
                </a:rPr>
                <a:t>+</a:t>
              </a: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 + A</a:t>
              </a:r>
              <a:r>
                <a:rPr b="1" lang="en-IE" sz="28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6" name="Straight Arrow Connector 8"/>
            <p:cNvCxnSpPr/>
            <p:nvPr/>
          </p:nvCxnSpPr>
          <p:spPr>
            <a:xfrm>
              <a:off x="3152160" y="3987720"/>
              <a:ext cx="611640" cy="2160"/>
            </a:xfrm>
            <a:prstGeom prst="straightConnector1">
              <a:avLst/>
            </a:prstGeom>
            <a:ln w="28440">
              <a:solidFill>
                <a:srgbClr val="66ff33"/>
              </a:solidFill>
              <a:miter/>
              <a:tailEnd len="med" type="arrow" w="med"/>
            </a:ln>
          </p:spPr>
        </p:cxnSp>
        <p:cxnSp>
          <p:nvCxnSpPr>
            <p:cNvPr id="387" name="Straight Arrow Connector 11"/>
            <p:cNvCxnSpPr/>
            <p:nvPr/>
          </p:nvCxnSpPr>
          <p:spPr>
            <a:xfrm>
              <a:off x="3101400" y="4140000"/>
              <a:ext cx="611640" cy="2160"/>
            </a:xfrm>
            <a:prstGeom prst="straightConnector1">
              <a:avLst/>
            </a:prstGeom>
            <a:ln w="28440">
              <a:solidFill>
                <a:srgbClr val="66ff33"/>
              </a:solidFill>
              <a:miter/>
              <a:headEnd len="med" type="arrow" w="med"/>
            </a:ln>
          </p:spPr>
        </p:cxnSp>
      </p:grpSp>
      <p:sp>
        <p:nvSpPr>
          <p:cNvPr id="388" name="Text Box 6"/>
          <p:cNvSpPr/>
          <p:nvPr/>
        </p:nvSpPr>
        <p:spPr>
          <a:xfrm>
            <a:off x="166680" y="459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Reaction direction (&amp; dissociation rate) dependent on eff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oncentration of each chemical spec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179280" y="5599080"/>
            <a:ext cx="803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f 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↑ then equation moves leftwards and </a:t>
            </a:r>
            <a:r>
              <a:rPr b="0" i="1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vice versa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↓ - </a:t>
            </a:r>
            <a:r>
              <a:rPr b="1" i="1" lang="en-IE" sz="2400" spc="-1" strike="noStrike">
                <a:solidFill>
                  <a:srgbClr val="66ff33"/>
                </a:solidFill>
                <a:latin typeface="Arial"/>
                <a:ea typeface="Arial"/>
              </a:rPr>
              <a:t>minimises changes in [H</a:t>
            </a:r>
            <a:r>
              <a:rPr b="1" i="1" lang="en-IE" sz="2400" spc="-1" strike="noStrike" baseline="30000">
                <a:solidFill>
                  <a:srgbClr val="66ff33"/>
                </a:solidFill>
                <a:latin typeface="Arial"/>
                <a:ea typeface="Arial"/>
              </a:rPr>
              <a:t>+</a:t>
            </a:r>
            <a:r>
              <a:rPr b="1" i="1" lang="en-IE" sz="2400" spc="-1" strike="noStrike">
                <a:solidFill>
                  <a:srgbClr val="66ff33"/>
                </a:solidFill>
                <a:latin typeface="Arial"/>
                <a:ea typeface="Arial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12"/>
          <p:cNvSpPr/>
          <p:nvPr/>
        </p:nvSpPr>
        <p:spPr>
          <a:xfrm>
            <a:off x="5616000" y="3711600"/>
            <a:ext cx="33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HA = undissociated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= conjugate base (any an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34280" y="2943360"/>
            <a:ext cx="89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General form of buffering reaction usually in form of conjug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cid-base pa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52AB-8694-4401-90DE-B51E2464DC2D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" descr="defenses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604A-A7E5-4AA8-9A00-AE7D3BC60B0D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525960" y="571680"/>
            <a:ext cx="62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66ff33"/>
                </a:solidFill>
                <a:latin typeface="Arial"/>
              </a:rPr>
              <a:t>What buffer systems exist in the bod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518400" y="1143000"/>
            <a:ext cx="57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f0bf5"/>
                </a:solidFill>
                <a:latin typeface="Arial"/>
              </a:rPr>
              <a:t>1) Bicarbonate buffe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578520" y="1785960"/>
            <a:ext cx="72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- Most important buffering system. Works by ac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s proton acceptor for carbonic aci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1598760" y="2712960"/>
            <a:ext cx="5759280" cy="96696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24"/>
          <p:cNvGrpSpPr/>
          <p:nvPr/>
        </p:nvGrpSpPr>
        <p:grpSpPr>
          <a:xfrm>
            <a:off x="586080" y="4032360"/>
            <a:ext cx="7219080" cy="1058760"/>
            <a:chOff x="586080" y="4032360"/>
            <a:chExt cx="7219080" cy="1058760"/>
          </a:xfrm>
        </p:grpSpPr>
        <p:sp>
          <p:nvSpPr>
            <p:cNvPr id="401" name="TextBox 9"/>
            <p:cNvSpPr/>
            <p:nvPr/>
          </p:nvSpPr>
          <p:spPr>
            <a:xfrm>
              <a:off x="586080" y="4367880"/>
              <a:ext cx="31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ff33"/>
                </a:buClr>
                <a:buSzPct val="9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Using HH equation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2" name="Group 18"/>
            <p:cNvGrpSpPr/>
            <p:nvPr/>
          </p:nvGrpSpPr>
          <p:grpSpPr>
            <a:xfrm>
              <a:off x="3707280" y="4032360"/>
              <a:ext cx="4097880" cy="1058760"/>
              <a:chOff x="3707280" y="4032360"/>
              <a:chExt cx="4097880" cy="1058760"/>
            </a:xfrm>
          </p:grpSpPr>
          <p:sp>
            <p:nvSpPr>
              <p:cNvPr id="403" name="TextBox 13"/>
              <p:cNvSpPr/>
              <p:nvPr/>
            </p:nvSpPr>
            <p:spPr>
              <a:xfrm>
                <a:off x="3707280" y="4321440"/>
                <a:ext cx="2755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800" spc="-1" strike="noStrike">
                    <a:solidFill>
                      <a:srgbClr val="ffff00"/>
                    </a:solidFill>
                    <a:latin typeface="Arial"/>
                  </a:rPr>
                  <a:t>pH = p</a:t>
                </a:r>
                <a:r>
                  <a:rPr b="1" i="1" lang="en-IE" sz="28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1" lang="en-IE" sz="2800" spc="-1" strike="noStrike">
                    <a:solidFill>
                      <a:srgbClr val="ffff00"/>
                    </a:solidFill>
                    <a:latin typeface="Arial"/>
                  </a:rPr>
                  <a:t> + log</a:t>
                </a:r>
                <a:r>
                  <a:rPr b="1" lang="en-IE" sz="2800" spc="-1" strike="noStrike" baseline="-25000">
                    <a:solidFill>
                      <a:srgbClr val="ffff00"/>
                    </a:solidFill>
                    <a:latin typeface="Arial"/>
                  </a:rPr>
                  <a:t>10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4" name="Group 27"/>
              <p:cNvGrpSpPr/>
              <p:nvPr/>
            </p:nvGrpSpPr>
            <p:grpSpPr>
              <a:xfrm>
                <a:off x="6332760" y="4032360"/>
                <a:ext cx="1472400" cy="1058760"/>
                <a:chOff x="6332760" y="4032360"/>
                <a:chExt cx="1472400" cy="1058760"/>
              </a:xfrm>
            </p:grpSpPr>
            <p:sp>
              <p:nvSpPr>
                <p:cNvPr id="405" name="TextBox 15"/>
                <p:cNvSpPr/>
                <p:nvPr/>
              </p:nvSpPr>
              <p:spPr>
                <a:xfrm>
                  <a:off x="6415560" y="4032360"/>
                  <a:ext cx="13896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[HCO</a:t>
                  </a:r>
                  <a:r>
                    <a:rPr b="1" lang="en-IE" sz="2800" spc="-1" strike="noStrike" baseline="-25000">
                      <a:solidFill>
                        <a:srgbClr val="ffff00"/>
                      </a:solidFill>
                      <a:latin typeface="Arial"/>
                    </a:rPr>
                    <a:t>3</a:t>
                  </a:r>
                  <a:r>
                    <a:rPr b="1" lang="en-IE" sz="2800" spc="-1" strike="noStrike" baseline="30000">
                      <a:solidFill>
                        <a:srgbClr val="ffff00"/>
                      </a:solidFill>
                      <a:latin typeface="Arial"/>
                    </a:rPr>
                    <a:t>-</a:t>
                  </a: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]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Straight Connector 16"/>
                <p:cNvSpPr/>
                <p:nvPr/>
              </p:nvSpPr>
              <p:spPr>
                <a:xfrm>
                  <a:off x="6531120" y="4564080"/>
                  <a:ext cx="928800" cy="14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TextBox 17"/>
                <p:cNvSpPr/>
                <p:nvPr/>
              </p:nvSpPr>
              <p:spPr>
                <a:xfrm>
                  <a:off x="6332760" y="4511520"/>
                  <a:ext cx="1434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[H</a:t>
                  </a:r>
                  <a:r>
                    <a:rPr b="1" lang="en-IE" sz="2800" spc="-1" strike="noStrike" baseline="-25000">
                      <a:solidFill>
                        <a:srgbClr val="ffff00"/>
                      </a:solidFill>
                      <a:latin typeface="Arial"/>
                    </a:rPr>
                    <a:t>2</a:t>
                  </a: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CO</a:t>
                  </a:r>
                  <a:r>
                    <a:rPr b="1" lang="en-IE" sz="2800" spc="-1" strike="noStrike" baseline="-25000">
                      <a:solidFill>
                        <a:srgbClr val="ffff00"/>
                      </a:solidFill>
                      <a:latin typeface="Arial"/>
                    </a:rPr>
                    <a:t>3</a:t>
                  </a: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]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8" name="TextBox 23"/>
          <p:cNvSpPr/>
          <p:nvPr/>
        </p:nvSpPr>
        <p:spPr>
          <a:xfrm>
            <a:off x="645840" y="5500800"/>
            <a:ext cx="7819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very low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(6800 x less than 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), difficult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easure but directly proportional to dissolved arte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[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=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x solubility coefficient (0.03 for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7825-5E4F-40B2-8FC5-6AE54F68997D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503280" y="981000"/>
            <a:ext cx="31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66ff33"/>
                </a:solidFill>
                <a:latin typeface="Arial"/>
              </a:rPr>
              <a:t>Therefore at 37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°</a:t>
            </a:r>
            <a:r>
              <a:rPr b="0" lang="en-IE" sz="2800" spc="-1" strike="noStrike">
                <a:solidFill>
                  <a:srgbClr val="66ff33"/>
                </a:solidFill>
                <a:latin typeface="Arial"/>
              </a:rPr>
              <a:t>C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11"/>
          <p:cNvGrpSpPr/>
          <p:nvPr/>
        </p:nvGrpSpPr>
        <p:grpSpPr>
          <a:xfrm>
            <a:off x="2385000" y="1338120"/>
            <a:ext cx="5580000" cy="1057680"/>
            <a:chOff x="2385000" y="1338120"/>
            <a:chExt cx="5580000" cy="1057680"/>
          </a:xfrm>
        </p:grpSpPr>
        <p:sp>
          <p:nvSpPr>
            <p:cNvPr id="414" name="TextBox 5"/>
            <p:cNvSpPr/>
            <p:nvPr/>
          </p:nvSpPr>
          <p:spPr>
            <a:xfrm>
              <a:off x="2385000" y="162720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pH = 6.1 + log</a:t>
              </a:r>
              <a:r>
                <a:rPr b="1" lang="en-IE" sz="2800" spc="-1" strike="noStrike" baseline="-25000">
                  <a:solidFill>
                    <a:srgbClr val="ffff00"/>
                  </a:solidFill>
                  <a:latin typeface="Arial"/>
                </a:rPr>
                <a:t>10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Box 7"/>
            <p:cNvSpPr/>
            <p:nvPr/>
          </p:nvSpPr>
          <p:spPr>
            <a:xfrm>
              <a:off x="5398920" y="1338120"/>
              <a:ext cx="138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[HCO</a:t>
              </a:r>
              <a:r>
                <a:rPr b="1" lang="en-IE" sz="2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en-IE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Straight Connector 7"/>
            <p:cNvSpPr/>
            <p:nvPr/>
          </p:nvSpPr>
          <p:spPr>
            <a:xfrm>
              <a:off x="5116320" y="1870200"/>
              <a:ext cx="1871640" cy="1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Box 9"/>
            <p:cNvSpPr/>
            <p:nvPr/>
          </p:nvSpPr>
          <p:spPr>
            <a:xfrm>
              <a:off x="5023080" y="1816200"/>
              <a:ext cx="2941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0.03 x Pco</a:t>
              </a:r>
              <a:r>
                <a:rPr b="1" lang="en-IE" sz="2800" spc="-1" strike="noStrike" baseline="-25000">
                  <a:solidFill>
                    <a:srgbClr val="ffff00"/>
                  </a:solidFill>
                  <a:latin typeface="Arial"/>
                </a:rPr>
                <a:t>2 </a:t>
              </a: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(mM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TextBox 9"/>
          <p:cNvSpPr/>
          <p:nvPr/>
        </p:nvSpPr>
        <p:spPr>
          <a:xfrm>
            <a:off x="187560" y="2349360"/>
            <a:ext cx="8870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s pH and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can both easily be measured, possibl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estimate [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(normally ~ 24 mEq/L in arterial bl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an estimate [acid or base] required to correct imbalanc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10"/>
          <p:cNvSpPr/>
          <p:nvPr/>
        </p:nvSpPr>
        <p:spPr>
          <a:xfrm>
            <a:off x="170640" y="3686040"/>
            <a:ext cx="7809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o maintain pH of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7.4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, 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: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20:1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– if rati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anges, so too will p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Box 11"/>
          <p:cNvSpPr/>
          <p:nvPr/>
        </p:nvSpPr>
        <p:spPr>
          <a:xfrm>
            <a:off x="230040" y="4673520"/>
            <a:ext cx="8750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When enough 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added to halve [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, pH would dro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o 6.0, </a:t>
            </a:r>
            <a:r>
              <a:rPr b="1" lang="en-IE" sz="2400" spc="-1" strike="noStrike" u="sng">
                <a:solidFill>
                  <a:srgbClr val="66ff33"/>
                </a:solidFill>
                <a:uFillTx/>
                <a:latin typeface="Arial"/>
              </a:rPr>
              <a:t>BUT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 +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→ ventilation↑ and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remo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12"/>
          <p:cNvSpPr/>
          <p:nvPr/>
        </p:nvSpPr>
        <p:spPr>
          <a:xfrm>
            <a:off x="165960" y="5826240"/>
            <a:ext cx="70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ing means that </a:t>
            </a:r>
            <a:r>
              <a:rPr b="1" lang="en-IE" sz="2400" spc="-1" strike="noStrike" u="sng">
                <a:solidFill>
                  <a:srgbClr val="00b0f0"/>
                </a:solidFill>
                <a:uFillTx/>
                <a:latin typeface="Arial"/>
              </a:rPr>
              <a:t>pH only drops to ~ 7.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1958760" y="428760"/>
            <a:ext cx="50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f0bf5"/>
                </a:solidFill>
                <a:latin typeface="Arial"/>
              </a:rPr>
              <a:t>1) Bicarbonate buff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8CBB-39B8-4EA3-A4A3-D7A3B47A422F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179280" y="1285920"/>
            <a:ext cx="8701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ing power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/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system (against acids but 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ases) usually only limited by depletion of 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6207120" y="3743280"/>
            <a:ext cx="2755800" cy="2430360"/>
          </a:xfrm>
          <a:prstGeom prst="rect">
            <a:avLst/>
          </a:prstGeom>
          <a:ln w="0">
            <a:noFill/>
          </a:ln>
        </p:spPr>
      </p:pic>
      <p:grpSp>
        <p:nvGrpSpPr>
          <p:cNvPr id="426" name="Group 13"/>
          <p:cNvGrpSpPr/>
          <p:nvPr/>
        </p:nvGrpSpPr>
        <p:grpSpPr>
          <a:xfrm>
            <a:off x="216720" y="2286000"/>
            <a:ext cx="7903800" cy="3283560"/>
            <a:chOff x="216720" y="2286000"/>
            <a:chExt cx="7903800" cy="3283560"/>
          </a:xfrm>
        </p:grpSpPr>
        <p:sp>
          <p:nvSpPr>
            <p:cNvPr id="427" name="TextBox 14"/>
            <p:cNvSpPr/>
            <p:nvPr/>
          </p:nvSpPr>
          <p:spPr>
            <a:xfrm>
              <a:off x="216720" y="2286000"/>
              <a:ext cx="7903800" cy="32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ff33"/>
                </a:buClr>
                <a:buSzPct val="9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As pH of a 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/H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IE" sz="24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solution depends on the ratio 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H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IE" sz="24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: P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rather than [H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IE" sz="24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] and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a) [H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IE" sz="2400" spc="-1" strike="noStrike" baseline="30000">
                  <a:solidFill>
                    <a:srgbClr val="ffffff"/>
                  </a:solidFill>
                  <a:latin typeface="Arial"/>
                </a:rPr>
                <a:t>-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] is controlled mainly by kidneys, whilst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b) P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is controlled by lung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pH can be expressed as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ffffff"/>
                  </a:solidFill>
                  <a:latin typeface="Arial"/>
                </a:rPr>
                <a:t>                         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ef0bf5"/>
                  </a:solidFill>
                  <a:latin typeface="Arial"/>
                </a:rPr>
                <a:t>             </a:t>
              </a:r>
              <a:r>
                <a:rPr b="1" lang="en-IE" sz="2800" spc="-1" strike="noStrike">
                  <a:solidFill>
                    <a:srgbClr val="eb8803"/>
                  </a:solidFill>
                  <a:latin typeface="Arial"/>
                </a:rPr>
                <a:t>pH  = constant +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8" name="Group 11"/>
            <p:cNvGrpSpPr/>
            <p:nvPr/>
          </p:nvGrpSpPr>
          <p:grpSpPr>
            <a:xfrm>
              <a:off x="4286880" y="4548960"/>
              <a:ext cx="1505160" cy="1020600"/>
              <a:chOff x="4286880" y="4548960"/>
              <a:chExt cx="1505160" cy="1020600"/>
            </a:xfrm>
          </p:grpSpPr>
          <p:sp>
            <p:nvSpPr>
              <p:cNvPr id="429" name="Rectangle 6"/>
              <p:cNvSpPr/>
              <p:nvPr/>
            </p:nvSpPr>
            <p:spPr>
              <a:xfrm>
                <a:off x="4286880" y="4548960"/>
                <a:ext cx="150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800" spc="-1" strike="noStrike">
                    <a:solidFill>
                      <a:srgbClr val="eb8803"/>
                    </a:solidFill>
                    <a:latin typeface="Arial"/>
                  </a:rPr>
                  <a:t>kidneys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Rectangle 8"/>
              <p:cNvSpPr/>
              <p:nvPr/>
            </p:nvSpPr>
            <p:spPr>
              <a:xfrm>
                <a:off x="4500360" y="5049000"/>
                <a:ext cx="112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800" spc="-1" strike="noStrike">
                    <a:solidFill>
                      <a:srgbClr val="eb8803"/>
                    </a:solidFill>
                    <a:latin typeface="Arial"/>
                  </a:rPr>
                  <a:t>lungs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Straight Connector 10"/>
              <p:cNvSpPr/>
              <p:nvPr/>
            </p:nvSpPr>
            <p:spPr>
              <a:xfrm>
                <a:off x="4362480" y="5121360"/>
                <a:ext cx="1359000" cy="1440"/>
              </a:xfrm>
              <a:prstGeom prst="line">
                <a:avLst/>
              </a:prstGeom>
              <a:ln w="28440">
                <a:solidFill>
                  <a:srgbClr val="61b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12"/>
          <p:cNvSpPr/>
          <p:nvPr/>
        </p:nvSpPr>
        <p:spPr>
          <a:xfrm>
            <a:off x="2030040" y="642960"/>
            <a:ext cx="50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f0bf5"/>
                </a:solidFill>
                <a:latin typeface="Arial"/>
              </a:rPr>
              <a:t>1) Bicarbonate buff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42DB-67F7-4526-A656-3A41159572EE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890360" y="-28440"/>
            <a:ext cx="5453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2) Phosphate Buffer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4"/>
          <p:cNvSpPr/>
          <p:nvPr/>
        </p:nvSpPr>
        <p:spPr>
          <a:xfrm>
            <a:off x="308880" y="1157400"/>
            <a:ext cx="85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hosphate buffer system not important as extracellular fl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 (concentration too low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294120" y="2035080"/>
            <a:ext cx="81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However, major </a:t>
            </a:r>
            <a:r>
              <a:rPr b="1" lang="en-IE" sz="2400" spc="-1" strike="noStrike">
                <a:solidFill>
                  <a:srgbClr val="00b0f0"/>
                </a:solidFill>
                <a:latin typeface="Arial"/>
              </a:rPr>
              <a:t>INTRACELLULAR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buffer and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RENAL TUBULAR FLUI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858600" y="3571920"/>
            <a:ext cx="659556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rong acid converted to weak acid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ess effect on p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7"/>
          <p:cNvSpPr/>
          <p:nvPr/>
        </p:nvSpPr>
        <p:spPr>
          <a:xfrm>
            <a:off x="336960" y="3027240"/>
            <a:ext cx="610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ain components are HP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1055880" y="4944960"/>
            <a:ext cx="67478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+ H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rong base converted to weak bas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ess effect on p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4"/>
          <p:cNvSpPr/>
          <p:nvPr/>
        </p:nvSpPr>
        <p:spPr>
          <a:xfrm>
            <a:off x="1896120" y="31104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3) Protein Buf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293040" y="4235400"/>
            <a:ext cx="86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xyl an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ino groups on plasma proteins are eff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243360" y="2871720"/>
            <a:ext cx="87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 60 - 70% of total chemical buffering of body fluids is lo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cellularly, mostly due to intracellular protei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46600" y="14922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s among most plentiful buffers in body, particul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y concentrated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NTRACELLULARL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1265040" y="469728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RCOOH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↔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RCOO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+ H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1590480" y="5213520"/>
            <a:ext cx="527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RNH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↔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RNH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+ H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9:34:33Z</dcterms:created>
  <dc:creator>Computer Centre</dc:creator>
  <dc:description/>
  <dc:language>en-US</dc:language>
  <cp:lastModifiedBy>Ahmad Ahmeda</cp:lastModifiedBy>
  <dcterms:modified xsi:type="dcterms:W3CDTF">2015-05-10T23:00:23Z</dcterms:modified>
  <cp:revision>536</cp:revision>
  <dc:subject/>
  <dc:title>Slide 1</dc:title>
</cp:coreProperties>
</file>