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0A2F-53B1-4881-BFD8-67DFC5B31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94B9-07C5-4FD1-B6E2-40B99A4E10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5AD3-DD98-4CD3-B78B-62A2D9D1EE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EB2-CA32-4BD8-BE1F-E34C66BE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57E-D9E3-4A7C-AC26-C8CE079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015-C35D-449E-8D1D-AB4EE463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FF0-7C99-477C-B995-6D700FC1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D098-CD34-431B-81B1-89A34128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161-71A2-4A98-B450-D749A47C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8092-7802-47BF-B09E-9181747D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680-3A79-495C-8FFB-A87F515F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6D58-016A-4BBF-B7B2-6CCB1327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C3B8-ED37-4BD4-B0D4-8A98583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EDF-8627-47CC-A8ED-91658BB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A6A-B3DE-478E-812C-EA91CD82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E4C-A4A2-4CD1-810B-414F772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C264-03B2-492E-8502-44B5179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058-A408-4D8D-9054-F1792523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64CC-C817-46CC-B5BA-FA77634A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4EF0-A7C9-4ED8-8FDA-B6C6C0E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3403-2615-4296-8D58-644AFD8C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B6F6-B8E2-40C6-A401-F852D92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F2CF-7559-44A3-974E-4590CBE4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57AD-6E10-4605-AAF5-468765F7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A7F3-E776-4066-A590-2D8B4C7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17C-B950-42D4-9CAE-72A28A25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7013-FD85-4D35-B90D-F2FCDD8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952E-04E7-4FAF-AB8A-29304AB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3574-BC56-4103-B58D-A96E10C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CAA7-B59B-492D-ABE8-55E1ED8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D0A9-EA5B-4ECD-883F-F8DC2E1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91AA-5D8B-4A03-828E-225486DD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A48A-1BF8-49AA-A96F-C282DE17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1FC0-77AF-4B30-85A1-A3A9C6B3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BEA6-4E5E-4B6B-912B-6617252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6564-1765-4617-957D-C693610B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CCB-4DA0-4751-9197-D740377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E940-3611-478A-956A-FAA688F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2343-D013-4872-A73A-C84B3F4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2F90-FD3B-4BA5-BFDB-A8919D66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DB50-ABC6-4994-B922-0BB1F170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1D8D-C861-40A6-8F0F-E25B526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3D45-2630-45C0-B6E9-D175D3EF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0449-A14F-4B5E-B9A8-CBC372FE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DD6F-5237-42C0-B98B-A6218E41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090D-B550-4A79-9149-EA356EE8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AC9C-57AB-492D-9B93-EE8FADCC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B68-D1D5-449D-B8FE-3C9E664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4A19-2C09-4D01-AEC0-AB5CF87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F756-F96F-428A-8762-AB977F2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D861-9591-4356-B588-20E581E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1EC1-17D6-45B9-A6F1-50999A74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24EC-0D5D-4CF1-99D3-7DDE6841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8A78-0598-4C8F-8BC8-2B83D57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B46F-B81B-4927-A5F3-551C3FE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39C9-4383-4BD0-9332-3F02C871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8E2F-45E0-4B48-AF62-EEDFBB7B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A9D6-3CDE-4010-B4EE-C73A1A09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897-687F-444D-9BA6-CC030173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292F-3223-465D-AB4C-EFEBC2CC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3B9F0-0DAC-4A82-8B09-6D686F1D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96C3-9EA4-4EE0-A274-5830972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53985-7986-41F2-A667-8B088D35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7CCF-E72D-47D2-AD31-54C21AE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59D5-591F-4D63-AA2E-FD9D326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E35E-56C9-40E1-B032-21A52C1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24DC4-7AAA-49CE-9208-E27B1A3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DC01-6A79-49A9-B8AE-96C8D54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00AF-AC0B-419D-8870-540603E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99E-104F-4B1F-8534-BB89AB3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FEBB-38C6-4B88-94B9-A4EA5A0B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E4D7-E60F-487F-828E-F58C2EB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CB36C-3131-4BDC-B704-65C347A6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B7135-18C0-4D81-BBE3-28DCF585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63DB-039A-40B3-8444-2090F901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1D21B-4C83-4953-89F8-6D5946E5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1302-E7E7-4AC8-9128-05244AB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799F-A0A3-4238-8796-6549472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43D8-38C2-436C-B90F-CDEB54A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A8228-3089-4813-A82D-EA020E3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251-40F2-40AC-BAE2-1582AD96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5A1EA-C9B5-4C28-83A3-361DE2DA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CE0B-E591-4FB6-A72B-D6DEB61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D03C-0FD5-4075-A89B-98F974A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A5BF-A7C2-46A2-9611-DFB76DAA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9A6A-03C5-4AF6-A68A-C6B41E51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C44-7FFF-462B-93A1-19024D9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E377-0F59-489F-8877-AB834956DD3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5406-F281-4221-9BB7-14CD7F0D122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DABF-FA79-4F68-8EBB-CC44DF72FA4A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EAC-14BD-4745-A009-2F78BB48B1C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D36-5575-4A87-9E81-5CC1197747E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57D2-43A8-4743-97E2-A904690F371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6DF-D5CC-4D53-81F4-FDF691550C32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Bas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1C8-C013-4E24-9C72-85AB2572426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D51-E0BD-4C22-90B4-024AF585BC3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90600" y="16430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buClr>
                <a:srgbClr val="d6ecff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igh protein diet - protein catabolism prod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phosphoric acid and sulphur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2) High fat diet  - fat catabolism produces fatty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3) Heavy exercise – stimulates anaerobic metabolism, producing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) Addition of fixed acid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abetic keto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) Severe diarrhoea – loss of bicarbonate from intest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) Alterations in renal function (inability to excrete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) Tissue hypoxia (produces lact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8) Ingested substances such as methanol, aspirin (acetylsalicylic acid), ethylene glyc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1420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used by either i)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INCREA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produc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ii)</a:t>
            </a: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00b0f0"/>
                </a:solidFill>
                <a:latin typeface="Corbel"/>
              </a:rPr>
              <a:t>IMPAIR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cre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25C-3FA6-4DAB-847C-000C88D7EE0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352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irst line of defence is shift of buffering reactions to the left to neutralise excess acid (for bicarbonate, cell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&amp; bone buff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1643040" y="1890720"/>
            <a:ext cx="5759640" cy="9669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95360" y="72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35000" y="5618160"/>
            <a:ext cx="986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Characterised by DECREASED [HCO</a:t>
            </a:r>
            <a:r>
              <a:rPr b="1" lang="en-GB" sz="2800" spc="-1" strike="noStrike" u="sng" baseline="-25000">
                <a:solidFill>
                  <a:srgbClr val="ef0bf5"/>
                </a:solidFill>
                <a:uFillTx/>
                <a:latin typeface="Arial"/>
              </a:rPr>
              <a:t>3</a:t>
            </a:r>
            <a:r>
              <a:rPr b="1" lang="en-GB" sz="2800" spc="-1" strike="noStrike" u="sng" baseline="30000">
                <a:solidFill>
                  <a:srgbClr val="ef0bf5"/>
                </a:solidFill>
                <a:uFillTx/>
                <a:latin typeface="Arial"/>
              </a:rPr>
              <a:t>-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(&lt;25mM) and p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90680" y="28576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tabolic acidosis increases ventilation rate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emoreceptor acti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473040" y="3787920"/>
            <a:ext cx="852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d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duces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s pH of ECF (respiratory compen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92120" y="4691160"/>
            <a:ext cx="930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cidosis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SECRETION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ABSORPTION</a:t>
            </a:r>
            <a:r>
              <a:rPr b="0" lang="en-IE" sz="2400" spc="-1" strike="noStrike">
                <a:solidFill>
                  <a:srgbClr val="00b0f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00b0f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b0f0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EC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A4E-226F-4170-9E6C-7DBEBC564BE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579240" y="1714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50160" y="2214720"/>
            <a:ext cx="2050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B3EC-4A5C-43EE-9238-4DCF478D9B8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95360" y="15480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93760" y="107172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*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Uptake of exces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by cells is accompanied, in part, by </a:t>
            </a:r>
            <a:r>
              <a:rPr b="1" lang="en-GB" sz="2400" spc="-1" strike="noStrike">
                <a:solidFill>
                  <a:srgbClr val="0099ff"/>
                </a:solidFill>
                <a:latin typeface="Corbel"/>
              </a:rPr>
              <a:t>LOSS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of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in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(and 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) to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fluid to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en-GB" sz="2400" spc="-1" strike="noStrike">
                <a:solidFill>
                  <a:srgbClr val="ef0bf5"/>
                </a:solidFill>
                <a:latin typeface="Corbel"/>
              </a:rPr>
              <a:t>ELECTRONEUTRALITY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285840" y="271476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us, metabolic acidosis often associated with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plasma [K</a:t>
            </a:r>
            <a:r>
              <a:rPr b="1" lang="en-GB" sz="2400" spc="-1" strike="noStrike" baseline="30000">
                <a:solidFill>
                  <a:srgbClr val="66ff33"/>
                </a:solidFill>
                <a:latin typeface="Corbe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]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relative to that expected from state of 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93760" y="4286160"/>
            <a:ext cx="8610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HYPERKALEMI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can develop even though body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stor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dimin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99880" y="5357880"/>
            <a:ext cx="8610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tion shift is </a:t>
            </a:r>
            <a:r>
              <a:rPr b="1" lang="en-GB" sz="2400" spc="-1" strike="noStrike">
                <a:solidFill>
                  <a:srgbClr val="ffc000"/>
                </a:solidFill>
                <a:latin typeface="Corbel"/>
              </a:rPr>
              <a:t>REVER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with correction of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013-1A53-4CAC-B3CC-B62D3ADE798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111276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1) Excessive vomiting – loss of HCl from stomach (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tention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(duodenal) bicarbonate in circul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2) Alterations in renal function (↑ excretion of titratable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.,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thiazide and loop diuretics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absorptio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re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of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3) Excessive ingestion of bicarbonate antacids paired with renal fail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4)  Volume contraction (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via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diuretic therapy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plasma [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5) Excess aldosterone (stimulates collecting duct 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ATPases to excrete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55560" y="423540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 in pH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ventilation rate, elev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2960" y="509436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duction in renal absorption and ↑ excretion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the nephron.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68120" y="57927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Characterised by ELEVATED plasma [H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2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and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-59400" y="668160"/>
            <a:ext cx="88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ly rare phenomenon that 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214200" y="375120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ss of acid ↑ dissociation of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↑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FCC-6E5B-4CC0-9FB1-934B8ACC03A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79240" y="17146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04160" y="2214720"/>
            <a:ext cx="280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,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008440" y="60480"/>
            <a:ext cx="503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cid-Base Imbal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Summ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98240" y="10717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-base balance can be altered in one of four 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respiratory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metabolic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00400" y="4286160"/>
            <a:ext cx="86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 / in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↓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92120" y="518472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METABOLIC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imin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↑ in 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98960" y="2357280"/>
            <a:ext cx="800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secondary to either ↓ respiration 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19840" y="3216240"/>
            <a:ext cx="8128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fd13b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by hyperventil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1"/>
          <a:srcRect l="23660" t="39286" r="10715" b="25003"/>
          <a:stretch/>
        </p:blipFill>
        <p:spPr>
          <a:xfrm>
            <a:off x="46080" y="1859040"/>
            <a:ext cx="9063000" cy="3082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495360" y="176040"/>
            <a:ext cx="82533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id / 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F0E8-D585-4F43-96A7-B96D0E5A4E2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8320" y="928800"/>
            <a:ext cx="83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aimed at identifying underlying cause  of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uch that appropriate therapy can be ini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50280" y="1955880"/>
            <a:ext cx="81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usual history taking and physical find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of arterial blood can yield valuable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97080" y="302724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blood sample data is straightforwar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pproached systematically either using the Daven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nomogram or flow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Davenport diagram-fig 30"/>
          <p:cNvPicPr/>
          <p:nvPr/>
        </p:nvPicPr>
        <p:blipFill>
          <a:blip r:embed="rId1"/>
          <a:stretch/>
        </p:blipFill>
        <p:spPr>
          <a:xfrm>
            <a:off x="3000240" y="4286160"/>
            <a:ext cx="280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EBD-D958-4589-8D31-23935ABB5B3A}" type="slidenum">
              <a:rPr b="0" lang="en-GB" sz="1200" spc="-1" strike="noStrike">
                <a:solidFill>
                  <a:srgbClr val="d6e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ow to Analyze an AB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826920" y="1415880"/>
            <a:ext cx="7848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80 – 10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 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7.35 – 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35 – 45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22 – 26 m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          &lt;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explain the principles of blood gas and acid-bas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interpret blood gas analysis and diagnose various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scribe causes of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derstand use of acid base nom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993-C9F3-4BB3-A1D5-1601C4370F5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FD60-8B62-4E08-80E0-5B43344BC40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approach for the analysis of simple acid-base disorders - fig 36.6.JPG"/>
          <p:cNvPicPr/>
          <p:nvPr/>
        </p:nvPicPr>
        <p:blipFill>
          <a:blip r:embed="rId1"/>
          <a:stretch/>
        </p:blipFill>
        <p:spPr>
          <a:xfrm>
            <a:off x="3733920" y="928800"/>
            <a:ext cx="5367240" cy="48466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8000" y="1214280"/>
            <a:ext cx="336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pH = 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16mEq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2 = 30 mm 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4040" y="285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1) Evaluate pH - 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1040" y="3344760"/>
            <a:ext cx="370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2) Metabolic or respiratory sour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] &lt; 24mM = meta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6360" y="4354560"/>
            <a:ext cx="311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3) Analysis of compens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↓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– respir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0600" y="5878440"/>
            <a:ext cx="81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Mixed acid-base disorders can also occur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mphysema with diarrhea)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which an appropriate compensatory response has not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EC0-6B6C-4EFE-93B9-45143944B50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685800" y="522360"/>
            <a:ext cx="7924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A 50 year-old man with history of type 2 diabetes was admitted to the emergency department with history of polyuria. On examination he had rapid and deep breathing. Blood analysis showed glucose level of 400 mg/dl.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ollowing is the arterial blood analysis report of  this patient: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H = 7.1,  P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40 mmHg and H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= 18 mmol/L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Normal reference ranges: PCO2 = 36.0-46.0 mmHg, HCO3- = 22.0-26.0 mmol/L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acid base disturbance in this ca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4FE-6E58-42D4-B3FA-11DC16C526B0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858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2) PH= 7.12, PaCO2= 60mmHg, HCO3‾ = 24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a) Compensated metabolic acid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b) Uncompensated metabolic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) 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d) Un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9E5F-1ADA-454C-B741-896AF17EDCA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85800" y="45720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H= 7.51, PaCO2= 40mmHg, HCO3‾ = 31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Norm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respiratory alkal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metabolic alkal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AFC9-D0A5-420B-A378-A9D7B1AC82A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39640" y="692280"/>
            <a:ext cx="81518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4 y-o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hx chronic renal failure and chronic diuretic therapy was admitted to ICU comatose and severely dehydrated.  On 40% oxygen her ABG &amp; Vital 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5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0/9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5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0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2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 mmol/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847800" y="472428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pretation: Partly compensated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C89F-C8EB-4A96-9D94-C603697AB21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874-D17E-47BC-B08D-47CCB7456B3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rcRect l="19922" t="34686" r="8008" b="10001"/>
          <a:stretch/>
        </p:blipFill>
        <p:spPr>
          <a:xfrm>
            <a:off x="182520" y="1285920"/>
            <a:ext cx="8786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854-E12B-4402-893C-30A8A0A955E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298440" y="1042920"/>
            <a:ext cx="86025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A66-60D2-4607-89CF-4D161E3EBE1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rcRect l="22267" t="39377" r="9180" b="17499"/>
          <a:stretch/>
        </p:blipFill>
        <p:spPr>
          <a:xfrm>
            <a:off x="98280" y="1000080"/>
            <a:ext cx="8902800" cy="35006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1836-5DE3-4739-88A8-910821D0094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56560" y="2286000"/>
            <a:ext cx="80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65280" y="809640"/>
            <a:ext cx="78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41440" y="17622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-base disturbances may be either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42520" y="2739960"/>
            <a:ext cx="792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 problems due to a respiratory disorder resul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H problems arising from acids or bases of a non-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gin result in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519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b8803"/>
                </a:solidFill>
                <a:latin typeface="Arial"/>
                <a:ea typeface="Arial"/>
              </a:rPr>
              <a:t>Respiratory Acid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  <a:ea typeface="Arial"/>
              </a:rPr>
              <a:t>RESPIRATORY FAILU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OPDs like emphysema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nadequate alveolar ventilatio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mpaired gas diffusion (</a:t>
            </a:r>
            <a:r>
              <a:rPr b="0" i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pulmonary oedema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aracterised by ↑ Pco</a:t>
            </a:r>
            <a:r>
              <a:rPr b="1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(hypercapnia) and ↓ plasma p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itial response is increased conversion of 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o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 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INCREASE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ECF [H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</a:t>
            </a:r>
            <a:r>
              <a:rPr b="1" lang="en-GB" sz="2000" spc="-1" strike="noStrike" u="sng">
                <a:solidFill>
                  <a:srgbClr val="ef0bf5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plasma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ff33"/>
                </a:solidFill>
                <a:latin typeface="Arial"/>
                <a:ea typeface="Arial"/>
              </a:rPr>
              <a:t>INCREASED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) renal </a:t>
            </a:r>
            <a:r>
              <a:rPr b="1" lang="en-IE" sz="2000" spc="-1" strike="noStrike">
                <a:solidFill>
                  <a:srgbClr val="ffff00"/>
                </a:solidFill>
                <a:latin typeface="Arial"/>
                <a:ea typeface="Arial"/>
              </a:rPr>
              <a:t>SECRETION OF H</a:t>
            </a:r>
            <a:r>
              <a:rPr b="1" lang="en-IE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and ii) </a:t>
            </a:r>
            <a:r>
              <a:rPr b="1" lang="en-IE" sz="2000" spc="-1" strike="noStrike">
                <a:solidFill>
                  <a:srgbClr val="0099ff"/>
                </a:solidFill>
                <a:latin typeface="Arial"/>
                <a:ea typeface="Arial"/>
              </a:rPr>
              <a:t>ABSORPTION OF </a:t>
            </a:r>
            <a:r>
              <a:rPr b="1" lang="en-GB" sz="2000" spc="-1" strike="noStrike">
                <a:solidFill>
                  <a:srgbClr val="0099ff"/>
                </a:solidFill>
                <a:latin typeface="Arial"/>
                <a:ea typeface="Arial"/>
              </a:rPr>
              <a:t>HC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COMPENSATORY MECHANISM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 ACUTE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,1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 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tissue buffering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RONICAL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, 3.5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 renal acid excretion)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955-6573-4A5E-ADD5-C160103E33A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8644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484440" y="1744560"/>
            <a:ext cx="4730760" cy="3970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81040" y="1714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Arial"/>
              </a:rPr>
              <a:t>Respiratory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7968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pH, ↑ P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112536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Respiratory Alkal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educed plasma Pco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(hypocapnia) and elevated p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used by increased gas exchange mainly due to </a:t>
            </a:r>
            <a:r>
              <a:rPr b="1" lang="en-GB" sz="2200" spc="-1" strike="noStrike">
                <a:solidFill>
                  <a:srgbClr val="ef0bf5"/>
                </a:solidFill>
                <a:latin typeface="Arial"/>
                <a:ea typeface="Arial"/>
              </a:rPr>
              <a:t>HYPERVENTI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xiety / f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altitu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- Characterised by ↓ P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 and ↑ plasma p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duction in P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hifts buffering reaction to the lef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DECREASE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in ECF [H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 plasma [HCO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  <a:ea typeface="Arial"/>
              </a:rPr>
              <a:t>DECREASE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)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SECRETION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  <a:ea typeface="Arial"/>
              </a:rPr>
              <a:t>ABSORP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till an excess of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elative to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MPENSATORY MECHANIS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86440" y="6215040"/>
            <a:ext cx="26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see G &amp;H, p.396-7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ACC6-B9AE-412D-BE91-BAF60967EA8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81400" y="17146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Respiratory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4800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↓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149840" y="10008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Metabolic Acidosis &amp;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-440280" y="1041480"/>
            <a:ext cx="90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acidosis and alkalosis includes all situations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ose in which primary problem is respira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-382320" y="2090880"/>
            <a:ext cx="927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inition, metabolic acidosis and alkalosis cannot be d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cess retention or loss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oes arterial P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remain unchanged in these ca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-478080" y="3392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-414360" y="3886200"/>
            <a:ext cx="9660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in acidosis will reflexly stimulate ventilation to lower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ely, ventilation will be inhibited in alkalosis to re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-410400" y="5216400"/>
            <a:ext cx="941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, plasma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anges during metabolic acidosis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sis are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no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compensatory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es to non-respiratory abnorma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Ahmad Ahmeda</cp:lastModifiedBy>
  <dcterms:modified xsi:type="dcterms:W3CDTF">2015-05-11T21:20:37Z</dcterms:modified>
  <cp:revision>516</cp:revision>
  <dc:subject/>
  <dc:title>Slide 1</dc:title>
</cp:coreProperties>
</file>