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980C-FEDC-4D4D-B467-EFB0D2F90C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D9C5-B0A9-4616-9A24-299D37C3716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0C06-E0EA-414B-B482-5D904DAF71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6BCD-FAD2-4F6A-89F5-06D5BB610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77C-0795-4BA2-89F3-388548FA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47C-FD70-4197-B080-6F346233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2EB-62C1-47B4-A6C0-96E67389B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71F6-A839-4B12-8F15-9CA98300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967C-BA4F-42C5-875A-BB0658EB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674-DB24-418E-A5AC-1FC15C05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8582-0E5E-45C7-BE5B-DCD4975B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4C31-9B1C-4FB8-A5FD-4671A77B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4615-AF94-4282-A0FB-7BC54560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DC8-1A40-425B-B95A-818EB5EE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DBE-2202-4675-A4E5-B4879517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C94F-C6B2-4A06-960B-7A4D82C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D8E4-CEDA-490E-AA9A-37ECF5CB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912C-9E52-4F64-9D4E-79FBF791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9E55-8558-4F73-8301-4972742F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B57A-D4D8-467B-AEF9-1741EDB5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65B5D-E3AC-497B-B054-EA13B77C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ABEA1-A219-4408-B277-B12C5212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AB15-AFBE-4CA6-B40C-DF7ACC27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6326-D4CD-4DE0-AF60-9DDC13F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1005-88D3-4F14-8249-208CDBBB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977-8725-4989-B129-366079CB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42AED-3683-4C58-AA18-38197D54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359DA-4CEC-4E1B-A58A-0F79D6E5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73ED6-109B-49DA-84AA-309FC11F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55F8-EB8F-48D1-B503-E2D20A2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C60F-D3D9-44D8-AF2D-77C8D27D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61FC9-0E52-46FE-9CB8-DCC843B4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19FF-D952-4813-8831-339816BE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9C174-45C0-4730-9C69-A0C2331C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BCBD-7F2B-459C-9B47-8FB33059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046ED-A476-4CFB-84A7-D38BCDE8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54C-9EE9-4D0A-9845-1077A002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1D37-4A4B-4BA4-93D4-AFC89C4A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D412-D27F-4B5B-BD66-7C1B74B2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73FC4-1881-49BB-89FA-18679C9A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A7D35-1F1C-4669-B312-1B447D7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DBB0-56D4-4277-AD6A-A3CD547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157E9-89AD-4F3D-91B3-26B6FF07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C816-1224-41CD-B80E-93EBAA18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3D50-F63F-48C3-B3C7-0036C733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1EDD0-E91F-4A83-9293-98C7F0E6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D9438-B330-4B10-99E0-2373E7D2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08F0-83A4-4D77-A8A4-ADB13C51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907FC-6BF3-43F9-9106-9D91E894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726E9-F23C-4DA6-AD21-4D3F493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F74E6-1662-4CE6-838A-00C411FF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4278-D760-4115-A292-79F40B21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30EA-34AD-4485-AE0A-16A24F56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7BD6C-9027-4A76-9849-29A3366F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0CC59-F1FB-4B07-9470-4BD72402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4151D-760A-4924-91E9-A2F53E84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790C-9B0F-42A1-9D2A-CB20429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3D26-98BD-430F-8AEA-F1E61049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81E6-0BB8-48F2-BCD9-ED746CF7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D8EF-E6A2-47DE-9D27-C2C8F49F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73F0-1D80-4521-8512-D5B7A03A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A04C5-FFA0-46DC-922F-6D58A26A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6989-40CC-4CDB-B1CF-9B011B26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F98E3-1009-44F6-81BE-6F41432C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447BA-798A-4862-AB0C-1B251ED2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54467-1117-4EA2-9078-E31C1035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A1E2-26E5-4A9D-9BEF-5F79B040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0E9C8-6C4A-4DF5-B76C-7C86331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FF00-DB8B-456E-92B2-0FBF91EA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8CB-4A65-4142-9FA3-68A204B0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18BA-3018-429A-8C96-40C2B60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38F2F-5C0B-40BE-940C-10BA5D81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258B9-864E-414A-81D9-0E9107BA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E4453-572D-4452-8E13-829CC815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7DD81-3A49-434A-A18E-444F121F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DF42-C57F-47B1-80E2-B2224ADD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CE9E2-CB1F-44BB-B828-7A88D0EC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61E9-3975-4C3A-A29A-B9DC2803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3C832-AC14-4C70-9E99-AFA7243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A9DE-ECF1-4D83-8EB4-A0C3885D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A8C-30FF-4A3E-8BC9-BA54FB7B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D2928-E713-4A82-B9F1-2823F7F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7D31D-8E44-410E-96C1-411FBDFF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F79FB-E518-4816-8A60-C9BE10F8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2FBF-1A67-431C-8192-F55CED257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55F7F-F99C-4E51-8BF7-90BA04BB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E36-5607-4784-8866-3F1764F5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BE7A-2894-40F4-8961-48E85E132C8F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5A65-B3DC-42D4-B5C9-6724EF83471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8B85-231E-4735-871E-47F6DE7CCF43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414-CF11-4B87-AD28-A5132BBD54A6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C7B8-483C-4EC7-9727-7A11C9A21F4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F397-7A34-4527-900C-42ACD54FB5F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9784-78D2-4A94-9E58-3B5550C047CD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141300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Bas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643480" y="3849840"/>
            <a:ext cx="36842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Cell phone: 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E318-CAC0-436E-83BE-BCFD0BFEB9D1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D768-6EB3-4D83-87FF-8A7D6F10197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90600" y="16430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buClr>
                <a:srgbClr val="d6ecff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igh protein diet - protein catabolism prod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phosphoric acid and sulphur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2) High fat diet  - fat catabolism produces fatty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3) Heavy exercise – stimulates anaerobic metabolism, producing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) Addition of fixed acid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abetic keto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) Severe diarrhoea – loss of bicarbonate from intest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) Alterations in renal function (inability to excrete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) Tissue hypoxia (produces lact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8) Ingested substances such as methanol, aspirin (acetylsalicylic acid), ethylene glyc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1420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used by either i)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INCREA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produc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ii)</a:t>
            </a: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00b0f0"/>
                </a:solidFill>
                <a:latin typeface="Corbel"/>
              </a:rPr>
              <a:t>IMPAIR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cre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FB7E-77AF-4B4E-8896-783B3CDAADF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352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irst line of defence is shift of buffering reactions to the left to neutralise excess acid (for bicarbonate, cell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&amp; bone buff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1643040" y="1890720"/>
            <a:ext cx="5759640" cy="9669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95360" y="72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35000" y="5618160"/>
            <a:ext cx="986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Characterised by DECREASED [HCO</a:t>
            </a:r>
            <a:r>
              <a:rPr b="1" lang="en-GB" sz="2800" spc="-1" strike="noStrike" u="sng" baseline="-25000">
                <a:solidFill>
                  <a:srgbClr val="ef0bf5"/>
                </a:solidFill>
                <a:uFillTx/>
                <a:latin typeface="Arial"/>
              </a:rPr>
              <a:t>3</a:t>
            </a:r>
            <a:r>
              <a:rPr b="1" lang="en-GB" sz="2800" spc="-1" strike="noStrike" u="sng" baseline="30000">
                <a:solidFill>
                  <a:srgbClr val="ef0bf5"/>
                </a:solidFill>
                <a:uFillTx/>
                <a:latin typeface="Arial"/>
              </a:rPr>
              <a:t>-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(&lt;25mM) and p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90680" y="28576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tabolic acidosis increases ventilation rate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emoreceptor acti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473040" y="3787920"/>
            <a:ext cx="852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d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duces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s pH of ECF (respiratory compen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92120" y="4691160"/>
            <a:ext cx="930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cidosis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SECRETION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ABSORPTION</a:t>
            </a:r>
            <a:r>
              <a:rPr b="0" lang="en-IE" sz="2400" spc="-1" strike="noStrike">
                <a:solidFill>
                  <a:srgbClr val="00b0f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00b0f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b0f0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EC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E8F-F881-41E6-BCED-413D4D2321E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579240" y="1714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50160" y="2214720"/>
            <a:ext cx="2050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201-02C6-4D35-9568-78F3EEBB7290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95360" y="15480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93760" y="107172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*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Uptake of exces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by cells is accompanied, in part, by </a:t>
            </a:r>
            <a:r>
              <a:rPr b="1" lang="en-GB" sz="2400" spc="-1" strike="noStrike">
                <a:solidFill>
                  <a:srgbClr val="0099ff"/>
                </a:solidFill>
                <a:latin typeface="Corbel"/>
              </a:rPr>
              <a:t>LOSS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of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in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(and 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) to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fluid to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en-GB" sz="2400" spc="-1" strike="noStrike">
                <a:solidFill>
                  <a:srgbClr val="ef0bf5"/>
                </a:solidFill>
                <a:latin typeface="Corbel"/>
              </a:rPr>
              <a:t>ELECTRONEUTRALITY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285840" y="271476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us, metabolic acidosis often associated with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plasma [K</a:t>
            </a:r>
            <a:r>
              <a:rPr b="1" lang="en-GB" sz="2400" spc="-1" strike="noStrike" baseline="30000">
                <a:solidFill>
                  <a:srgbClr val="66ff33"/>
                </a:solidFill>
                <a:latin typeface="Corbe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]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relative to that expected from state of 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93760" y="4286160"/>
            <a:ext cx="8610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HYPERKALEMI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can develop even though body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stor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dimin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99880" y="5357880"/>
            <a:ext cx="8610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tion shift is </a:t>
            </a:r>
            <a:r>
              <a:rPr b="1" lang="en-GB" sz="2400" spc="-1" strike="noStrike">
                <a:solidFill>
                  <a:srgbClr val="ffc000"/>
                </a:solidFill>
                <a:latin typeface="Corbel"/>
              </a:rPr>
              <a:t>REVER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with correction of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AA08-9B8D-4DE9-9B7B-9285D813F89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111276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1) Excessive vomiting – loss of HCl from stomach (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tention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(duodenal) bicarbonate in circul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2) Alterations in renal function (↑ excretion of titratable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.,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thiazide and loop diuretics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absorptio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re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of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3) Excessive ingestion of bicarbonate antacids paired with renal fail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4)  Volume contraction (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via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diuretic therapy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plasma [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5) Excess aldosterone (stimulates collecting duct 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ATPases to excrete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55560" y="423540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 in pH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ventilation rate, elev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2960" y="509436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duction in renal absorption and ↑ excretion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the nephron.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68120" y="57927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Characterised by ELEVATED plasma [H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2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and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-59400" y="668160"/>
            <a:ext cx="88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ly rare phenomenon that 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214200" y="375120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ss of acid ↑ dissociation of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↑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2CA-8598-4306-A0BC-08C7A3D1061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79240" y="17146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04160" y="2214720"/>
            <a:ext cx="280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,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008440" y="60480"/>
            <a:ext cx="503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cid-Base Imbal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Summ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98240" y="10717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-base balance can be altered in one of four 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respiratory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metabolic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00400" y="4286160"/>
            <a:ext cx="86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 / in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↓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92120" y="518472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METABOLIC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imin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↑ in 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98960" y="2357280"/>
            <a:ext cx="800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secondary to either ↓ respiration 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19840" y="3216240"/>
            <a:ext cx="8128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fd13b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by hyperventil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1"/>
          <a:srcRect l="23660" t="39286" r="10715" b="25003"/>
          <a:stretch/>
        </p:blipFill>
        <p:spPr>
          <a:xfrm>
            <a:off x="46080" y="1859040"/>
            <a:ext cx="9063000" cy="3082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495360" y="176040"/>
            <a:ext cx="82533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id / 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BD5C-6AA8-4F75-8CD7-5F085788C58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8320" y="928800"/>
            <a:ext cx="83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aimed at identifying underlying cause  of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uch that appropriate therapy can be ini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50280" y="1955880"/>
            <a:ext cx="81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usual history taking and physical find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of arterial blood can yield valuable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97080" y="302724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blood sample data is straightforwar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pproached systematically either using the Daven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nomogram or flow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Davenport diagram-fig 30"/>
          <p:cNvPicPr/>
          <p:nvPr/>
        </p:nvPicPr>
        <p:blipFill>
          <a:blip r:embed="rId1"/>
          <a:stretch/>
        </p:blipFill>
        <p:spPr>
          <a:xfrm>
            <a:off x="3000240" y="4286160"/>
            <a:ext cx="280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50AA-6554-41F9-9AD3-A11493CE049D}" type="slidenum">
              <a:rPr b="0" lang="en-GB" sz="1200" spc="-1" strike="noStrike">
                <a:solidFill>
                  <a:srgbClr val="d6e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ow to Analyze an AB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826920" y="1415880"/>
            <a:ext cx="7848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80 – 10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 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7.35 – 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35 – 45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22 – 26 m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          &lt;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explain the principles of blood gas and acid-bas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interpret blood gas analysis and diagnose various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scribe causes of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derstand use of acid base nom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7020-4BE5-4E51-ADE8-0522654BE43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8A1E-DB81-4ECE-9EF4-6BF73365E0C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approach for the analysis of simple acid-base disorders - fig 36.6.JPG"/>
          <p:cNvPicPr/>
          <p:nvPr/>
        </p:nvPicPr>
        <p:blipFill>
          <a:blip r:embed="rId1"/>
          <a:stretch/>
        </p:blipFill>
        <p:spPr>
          <a:xfrm>
            <a:off x="3733920" y="928800"/>
            <a:ext cx="5367240" cy="48466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8000" y="1214280"/>
            <a:ext cx="336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pH = 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16mEq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2 = 30 mm 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4040" y="285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1) Evaluate pH - 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1040" y="3344760"/>
            <a:ext cx="370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2) Metabolic or respiratory sour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] &lt; 24mM = meta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6360" y="4354560"/>
            <a:ext cx="311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3) Analysis of compens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↓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– respir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0600" y="5878440"/>
            <a:ext cx="81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Mixed acid-base disorders can also occur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mphysema with diarrhea)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which an appropriate compensatory response has not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850B-F889-4204-AB11-75279DC3F3AF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685800" y="522360"/>
            <a:ext cx="7924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A 50 year-old man with history of type 2 diabetes was admitted to the emergency department with history of polyuria. On examination he had rapid and deep breathing. Blood analysis showed glucose level of 400 mg/dl.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ollowing is the arterial blood analysis report of  this patient: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H = 7.1,  P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40 mmHg and H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= 18 mmol/L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Normal reference ranges: PCO2 = 36.0-46.0 mmHg, HCO3- = 22.0-26.0 mmol/L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acid base disturbance in this ca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772D-376D-4DC3-8E22-AB102A5C8DC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858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2) PH= 7.12, PaCO2= 60mmHg, HCO3‾ = 24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a) Compensated metabolic acid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b) Uncompensated metabolic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) 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d) Un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46EF-462F-48B8-8D8C-9A9D96302C23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85800" y="45720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H= 7.51, PaCO2= 40mmHg, HCO3‾ = 31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Norm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respiratory alkal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metabolic alkal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482D-ED36-4F27-ACDF-B2CD185E275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39640" y="692280"/>
            <a:ext cx="81518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4 y-o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hx chronic renal failure and chronic diuretic therapy was admitted to ICU comatose and severely dehydrated.  On 40% oxygen her ABG &amp; Vital 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5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0/9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5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0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2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 mmol/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847800" y="472428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pretation: Partly compensated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B333-2CB2-4479-A18E-8132B5BF810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8401-B11F-491C-B2F3-D26A609A2C5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rcRect l="19922" t="34686" r="8008" b="10001"/>
          <a:stretch/>
        </p:blipFill>
        <p:spPr>
          <a:xfrm>
            <a:off x="182520" y="1285920"/>
            <a:ext cx="8786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CC9-345D-4A4A-9D59-82A42B0B1BE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298440" y="1042920"/>
            <a:ext cx="86025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51F0-640E-479D-B3AD-2B6EE8F3D33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rcRect l="22267" t="39377" r="9180" b="17499"/>
          <a:stretch/>
        </p:blipFill>
        <p:spPr>
          <a:xfrm>
            <a:off x="98280" y="1000080"/>
            <a:ext cx="8902800" cy="35006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3F40-80F8-4E56-B8CE-3A3A5B71875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56560" y="2286000"/>
            <a:ext cx="80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65280" y="809640"/>
            <a:ext cx="78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41440" y="17622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-base disturbances may be either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42520" y="2739960"/>
            <a:ext cx="792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 problems due to a respiratory disorder resul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H problems arising from acids or bases of a non-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gin result in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519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b8803"/>
                </a:solidFill>
                <a:latin typeface="Arial"/>
                <a:ea typeface="Arial"/>
              </a:rPr>
              <a:t>Respiratory Acid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  <a:ea typeface="Arial"/>
              </a:rPr>
              <a:t>RESPIRATORY FAILU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OPDs like emphysema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nadequate alveolar ventilatio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mpaired gas diffusion (</a:t>
            </a:r>
            <a:r>
              <a:rPr b="0" i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pulmonary oedema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aracterised by ↑ Pco</a:t>
            </a:r>
            <a:r>
              <a:rPr b="1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(hypercapnia) and ↓ plasma p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itial response is increased conversion of 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o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 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INCREASE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ECF [H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</a:t>
            </a:r>
            <a:r>
              <a:rPr b="1" lang="en-GB" sz="2000" spc="-1" strike="noStrike" u="sng">
                <a:solidFill>
                  <a:srgbClr val="ef0bf5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plasma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ff33"/>
                </a:solidFill>
                <a:latin typeface="Arial"/>
                <a:ea typeface="Arial"/>
              </a:rPr>
              <a:t>INCREASED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) renal </a:t>
            </a:r>
            <a:r>
              <a:rPr b="1" lang="en-IE" sz="2000" spc="-1" strike="noStrike">
                <a:solidFill>
                  <a:srgbClr val="ffff00"/>
                </a:solidFill>
                <a:latin typeface="Arial"/>
                <a:ea typeface="Arial"/>
              </a:rPr>
              <a:t>SECRETION OF H</a:t>
            </a:r>
            <a:r>
              <a:rPr b="1" lang="en-IE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and ii) </a:t>
            </a:r>
            <a:r>
              <a:rPr b="1" lang="en-IE" sz="2000" spc="-1" strike="noStrike">
                <a:solidFill>
                  <a:srgbClr val="0099ff"/>
                </a:solidFill>
                <a:latin typeface="Arial"/>
                <a:ea typeface="Arial"/>
              </a:rPr>
              <a:t>ABSORPTION OF </a:t>
            </a:r>
            <a:r>
              <a:rPr b="1" lang="en-GB" sz="2000" spc="-1" strike="noStrike">
                <a:solidFill>
                  <a:srgbClr val="0099ff"/>
                </a:solidFill>
                <a:latin typeface="Arial"/>
                <a:ea typeface="Arial"/>
              </a:rPr>
              <a:t>HC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COMPENSATORY MECHANISM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 ACUTE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,1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 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tissue buffering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RONICAL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, 3.5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 renal acid excretion)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1E5C-F922-4512-9641-4BC0FDB502B6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8644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484440" y="1744560"/>
            <a:ext cx="4730760" cy="3970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81040" y="1714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Arial"/>
              </a:rPr>
              <a:t>Respiratory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7968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pH, ↑ P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112536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Respiratory Alkal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educed plasma Pco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(hypocapnia) and elevated p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used by increased gas exchange mainly due to </a:t>
            </a:r>
            <a:r>
              <a:rPr b="1" lang="en-GB" sz="2200" spc="-1" strike="noStrike">
                <a:solidFill>
                  <a:srgbClr val="ef0bf5"/>
                </a:solidFill>
                <a:latin typeface="Arial"/>
                <a:ea typeface="Arial"/>
              </a:rPr>
              <a:t>HYPERVENTI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xiety / f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altitu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- Characterised by ↓ P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 and ↑ plasma p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duction in P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hifts buffering reaction to the lef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DECREASE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in ECF [H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 plasma [HCO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  <a:ea typeface="Arial"/>
              </a:rPr>
              <a:t>DECREASE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)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SECRETION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  <a:ea typeface="Arial"/>
              </a:rPr>
              <a:t>ABSORP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till an excess of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elative to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MPENSATORY MECHANIS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86440" y="6215040"/>
            <a:ext cx="26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see G &amp;H, p.396-7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B40C-43BC-42BC-8B84-EF08D8D69105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81400" y="17146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Respiratory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4800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↓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149840" y="10008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Metabolic Acidosis &amp;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-440280" y="1041480"/>
            <a:ext cx="90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acidosis and alkalosis includes all situations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ose in which primary problem is respira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-382320" y="2090880"/>
            <a:ext cx="927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inition, metabolic acidosis and alkalosis cannot be d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cess retention or loss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oes arterial P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remain unchanged in these ca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-478080" y="3392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-414360" y="3886200"/>
            <a:ext cx="9660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in acidosis will reflexly stimulate ventilation to lower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ely, ventilation will be inhibited in alkalosis to re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-410400" y="5216400"/>
            <a:ext cx="941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, plasma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anges during metabolic acidosis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sis are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no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compensatory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es to non-respiratory abnorma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Ahmad Ahmeda</cp:lastModifiedBy>
  <dcterms:modified xsi:type="dcterms:W3CDTF">2015-05-11T21:20:37Z</dcterms:modified>
  <cp:revision>516</cp:revision>
  <dc:subject/>
  <dc:title>Slide 1</dc:title>
</cp:coreProperties>
</file>