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56EE-090E-4406-9CB0-F9F5DEB20688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Calibri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Calibri"/>
              </a:rPr>
              <a:t>Direct dynamic measurements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en-GB" sz="1000" spc="-1" strike="noStrike">
                <a:solidFill>
                  <a:srgbClr val="ff0000"/>
                </a:solidFill>
                <a:latin typeface="Calibri"/>
              </a:rPr>
              <a:t>Electromagnetic flowmeter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This is a non-invasive technique not interrupting blood flow to the organ.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 probe is placed around the renal artery which contains an electromagnet generating a magnetic field across the arter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Movement of charged fluid across the magnetic field creates an electrical signal which is detected by two electrode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The electrical current is amplified and transduced into a signal which is then recorde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Calibri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Calibri"/>
              </a:rPr>
              <a:t>Ultrasound flowmeter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other non-invasive technique which does not interrupt flow to the organ.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Small piezo-electric crystals are placed on the renal artery.  A high frequency sound signal, ultrasound,  is transmitted across the vessel and is reflected back from the opposite wall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The reflected ultrasound is Doppler shifted.  Its frequency is reduced as it returns through fluid moving in the opposite direction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The Doppler shift can be converted to a direct flow reading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Calibri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0000"/>
                </a:solidFill>
                <a:latin typeface="Calibri"/>
              </a:rPr>
              <a:t>Laser-Doppler flowmetry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i="1" lang="en-GB" sz="1000" spc="-1" strike="noStrike">
                <a:solidFill>
                  <a:srgbClr val="ff0000"/>
                </a:solidFill>
                <a:latin typeface="Calibri"/>
              </a:rPr>
              <a:t>Intrarenal haemodynamic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This technique utilises a laser light beam which is transmitted into a tissue using glass micro-fibres.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Light reflected from moving red cells in the tissue is Doppler shifted, collected by a receiving fibre and the difference calculated and displayed as a reading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Micro-fibres inserted into cortex and medulla to different depths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Qualitative not quantitative values of flow (perfusion) but has the great advantage that dynamic and continuous measurements can be mad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E7DF-D65D-414C-BDBC-8B5D2B39645C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9318-3464-43BC-A165-6D2EAA7527F4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F1E7-AA77-426A-9FBB-12D26AC1A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8DBD-12C8-481F-93CC-F88B3D63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CCFA-D9CE-4534-80BC-5620F8DA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F94F-13B0-41A8-8CA3-CBFC202D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343E-B282-4B79-99FF-5D39724A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432E-FA22-410C-B885-BE1BE9DA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F217-B652-4A39-B041-6740DA45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DAD1-E1F3-4E46-855E-84853903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324E-AD72-48D2-B897-5DC7A8D5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94B7-A326-4D8D-A22C-79D69847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0E05-BB6F-4C6B-B837-5473B726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608D-D4A2-45E1-8FF3-E87F3DAB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1E58-5794-47F2-992B-51DEA766D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762120" y="1143000"/>
            <a:ext cx="7696080" cy="1866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00"/>
                </a:solidFill>
                <a:latin typeface="Arial"/>
              </a:rPr>
              <a:t>Renal Physiology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Renal Haemodynamic &amp; Glomerular Filtration 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822680" y="3833640"/>
            <a:ext cx="351684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Dr Ahmad Ah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ahmeda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Mobile No: 0536313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2CB3-9CA0-4FC2-8FFB-ED2921B3B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2"/>
          <a:stretch/>
        </p:blipFill>
        <p:spPr>
          <a:xfrm>
            <a:off x="5715000" y="3814920"/>
            <a:ext cx="1523880" cy="1442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655200"/>
            <a:ext cx="7619760" cy="109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Vascular Resistance in Microcircul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erent and efferent arterioles offer high resistance to bloo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pressure declines from 95mm Hg in renal arteries to 8 mm Hg in renal v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n afferent arterio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s glomeruli from fluctuations in systemic blood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n efferent arterio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inforces high glomerula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s hydrostatic pressure in peritubular capilla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8821-C787-4AB2-911E-5CAD78633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3FF0-4E38-4CA0-8A35-B00203F94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1419120" y="609480"/>
            <a:ext cx="5896080" cy="5600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6960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easurement of renal blood 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190512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Clearance method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a substance which is filtered, secreted but not reabsorbed by the nephrons and apply the clearance formu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example is para-amino-hippuric acid (PAH) which is freely filtered, secreted by the organic pumps of the proximal tubule and is 100% removed on passage through the kidn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64D8-7C12-40F8-A900-8BBA866D2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620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easurement of renal blood 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38080" y="1980720"/>
            <a:ext cx="7467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Direct dynamic measurem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</a:rPr>
              <a:t>Electromagnetic flowme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Ultrasound flowme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Laser-Doppler flowmet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GB" sz="3200" spc="-1" strike="noStrike">
                <a:solidFill>
                  <a:srgbClr val="ff0000"/>
                </a:solidFill>
                <a:latin typeface="Arial"/>
              </a:rPr>
              <a:t>Intrarenal haemodyna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9282-79BF-40C2-BBC0-3D2838A9C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09480" y="4572000"/>
            <a:ext cx="324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merular capillary 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pressure vascular b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ing oncotic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ood for fil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953960" y="4495680"/>
            <a:ext cx="3318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tubular capillary b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 pressure vascular bed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oncotic pres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ood for re-absor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878400" y="685800"/>
            <a:ext cx="7350840" cy="3657600"/>
            <a:chOff x="878400" y="685800"/>
            <a:chExt cx="7350840" cy="3657600"/>
          </a:xfrm>
        </p:grpSpPr>
        <p:pic>
          <p:nvPicPr>
            <p:cNvPr id="89" name="Picture 5" descr=""/>
            <p:cNvPicPr/>
            <p:nvPr/>
          </p:nvPicPr>
          <p:blipFill>
            <a:blip r:embed="rId1"/>
            <a:stretch/>
          </p:blipFill>
          <p:spPr>
            <a:xfrm flipH="1" rot="5400000">
              <a:off x="2903040" y="-982800"/>
              <a:ext cx="3657600" cy="699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6"/>
            <p:cNvSpPr/>
            <p:nvPr/>
          </p:nvSpPr>
          <p:spPr>
            <a:xfrm>
              <a:off x="878400" y="3543840"/>
              <a:ext cx="181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fferent arterio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7"/>
            <p:cNvSpPr/>
            <p:nvPr/>
          </p:nvSpPr>
          <p:spPr>
            <a:xfrm>
              <a:off x="3503160" y="3995280"/>
              <a:ext cx="161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fferent arterio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8"/>
            <p:cNvSpPr/>
            <p:nvPr/>
          </p:nvSpPr>
          <p:spPr>
            <a:xfrm>
              <a:off x="5528160" y="3769560"/>
              <a:ext cx="2111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itubular capilla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1099080" y="2415600"/>
              <a:ext cx="178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owman’s capsu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0"/>
            <p:cNvSpPr/>
            <p:nvPr/>
          </p:nvSpPr>
          <p:spPr>
            <a:xfrm>
              <a:off x="5286240" y="911160"/>
              <a:ext cx="257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ximal convoluted tubu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FED0-5546-4E99-8E5D-36B84DD90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655200"/>
            <a:ext cx="7696080" cy="109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chanisms of Urine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idneys filter the body’s entire plasma volume 40 times each da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ltr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all plasma components except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es water, nutrients, and essential ions to become u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ine contains metabolic wastes and unneeded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1DAD-3927-4B89-AC07-415043462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1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55560"/>
            <a:ext cx="7772400" cy="1020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chanisms of Urine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685800" y="1828800"/>
            <a:ext cx="3505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ine formation and adjustment of blood composition involves three major proc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Glomerular fil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ubular re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Secr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_x0018_25-08_SingleNephrn_1.jpg                                       00022699_x000c_Macintosh HD                   ABA78158:"/>
          <p:cNvPicPr/>
          <p:nvPr/>
        </p:nvPicPr>
        <p:blipFill>
          <a:blip r:embed="rId1"/>
          <a:stretch/>
        </p:blipFill>
        <p:spPr>
          <a:xfrm>
            <a:off x="4405320" y="1752480"/>
            <a:ext cx="4067280" cy="4496040"/>
          </a:xfrm>
          <a:prstGeom prst="rect">
            <a:avLst/>
          </a:prstGeom>
          <a:ln w="0">
            <a:noFill/>
          </a:ln>
        </p:spPr>
      </p:pic>
      <p:sp>
        <p:nvSpPr>
          <p:cNvPr id="10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B503-68C7-4AD5-AEC9-265450169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omerular Fil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2027160"/>
            <a:ext cx="75438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step in urine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flows through the glomerulus, allowing protein-free plasma to be filtered through the glomerular capillaries into the Bowman’s caps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20% of plasma entering the glomerulus is fil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5 ml/min filtered fl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EEF9-83EF-4A78-877F-64644D070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ubular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ment of substances from tubular lumen back into th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bsorbed substances not lost in the urine, but are carried by the peritubular capillaries to the venou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filtered plasma is re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D942-1B7F-418E-8115-E8BC22341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ubular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46784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lective transfer of substances from the peritubular capillary into the tubular 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rapid elimination of substances from the plasma via extraction of the 80% of unfiltered plasma in peritubular capillaries and adding it to the substances already in tubule as result of fil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00F1-2612-4FA5-8E2A-C06E16958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1020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9480" y="1752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hat the mechanism of urine formation include three basic processes; glomerular filtration, tubular reabsorption and tubular secre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e GFR and quote normal valu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nd describe the factors controlling GFR in terms of starling forces, permeability with respect to size, shape and electrical charges and ultra-filtration coeffici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Intrinsic and extrinsic mechanism that regulate GF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autoregulation of GFR &amp;  tubuloglomerular feedback mechanis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2ABF-3943-4516-98FC-CE5CFB542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96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rine Excretion “The end produc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imination of substances from the body in the u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lasma constituents filtered or secreted, but not reabsorbed remain in the tubules and pass into the renal pelvis to be excreted as urine and eliminated from th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F17F-3858-47E5-B950-4A5FC8621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Tubular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bsorption can be 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transcellular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ross the cell) or 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paracell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etween the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substance has moved pass the tubular epithelium cell into the interstitial space </a:t>
            </a:r>
            <a:r>
              <a:rPr b="0" i="1" lang="en-US" sz="2400" spc="-1" strike="noStrike">
                <a:solidFill>
                  <a:srgbClr val="ff0066"/>
                </a:solidFill>
                <a:latin typeface="Arial"/>
              </a:rPr>
              <a:t>bulk f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accounts for its movement back into the peritubular capill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F43A-B888-4B63-BBE0-0EFB2615A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6960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ssive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3200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lk flow results from the imbalance of osmotic or hydrostatic forces at the peritubular capillary.  Exactly the same as at the peripheral capillary or the glomer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showimage"/>
          <p:cNvPicPr/>
          <p:nvPr/>
        </p:nvPicPr>
        <p:blipFill>
          <a:blip r:embed="rId1"/>
          <a:stretch/>
        </p:blipFill>
        <p:spPr>
          <a:xfrm>
            <a:off x="3657600" y="2286000"/>
            <a:ext cx="4876920" cy="3168720"/>
          </a:xfrm>
          <a:prstGeom prst="rect">
            <a:avLst/>
          </a:prstGeom>
          <a:ln w="0">
            <a:noFill/>
          </a:ln>
        </p:spPr>
      </p:pic>
      <p:sp>
        <p:nvSpPr>
          <p:cNvPr id="12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9108-2CA1-42FC-8787-A901E9459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substances are reabsorbed via active transport.  These are substances that are needed by the body (e.g.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lucose, aas, other electroly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reabsorption-99.5% of filtered sodium is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imal tubules (67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 of Henle (2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l/Collecting tubules (8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197C-265B-4D51-A461-ED1C6998E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1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696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reabsorption is via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rimary active trans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sed on ATP hydrolysis (e.g. Na+) or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econdary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ctive transp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sed on an ion gradient (e.g. gluc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transpor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+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P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6DDF-D6B5-44A2-A19B-EFA0B10AD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8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655200"/>
            <a:ext cx="7696080" cy="109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 Filtration Pressure (NF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sure responsible for filtrate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P equals the glomerular hydrostatic pressure (H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minus the oncotic pressure of glomerular blood (O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mbined with the capsular hydrostatic pressure (H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600200" y="4313160"/>
            <a:ext cx="6172200" cy="1690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FP = H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(O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g 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FP =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G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G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5265-06B4-4883-AFA1-5083355DB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omerular Filtration 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2179800"/>
            <a:ext cx="762012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merular filtration rate (GFR) is the rate of production of filtrate at the glomeruli from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80 – 140 ml/min depending on age, sex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of the filtration rates of all functioning neph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of kidney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9E0C-7251-48AF-9C31-57B8173AF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731880"/>
            <a:ext cx="7696080" cy="868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F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governing filtration rate at the capillary bed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surface area available for fil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ration membrane perme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 filtration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FR is directly proportional to the N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GFR normally result from changes in glomerular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0CAC-1EE1-4088-B7F0-F5C860084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6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1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99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F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467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GFR i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oo hig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ed substances cannot be reabsorbed quickly enough and are lost in the u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GFR is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oo l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is reabsorbed, including wastes that are normally dispose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67B0-5A71-4859-A919-BD40F7B77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3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4" descr=""/>
          <p:cNvPicPr/>
          <p:nvPr/>
        </p:nvPicPr>
        <p:blipFill>
          <a:blip r:embed="rId1"/>
          <a:stretch/>
        </p:blipFill>
        <p:spPr>
          <a:xfrm>
            <a:off x="554040" y="512640"/>
            <a:ext cx="6389640" cy="9082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1993320" y="1305000"/>
            <a:ext cx="570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glomerular hydrostatic pressure (GH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ush fluid out of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apsular hydrostatic pressure (CsH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ush fluid back into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953360" y="3657600"/>
            <a:ext cx="46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et hydrostatic pressure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(NH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2857320" y="4648320"/>
            <a:ext cx="29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HP  =  GHP - Cs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3506760" y="533412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- 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2062080" y="533412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35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6388200" y="533412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m 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50D3-2651-4502-8F15-43B156B05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69608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lood supply to the 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 one-fourth (1200 ml) of systemic cardiac output flows through the kidneys each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erial flow into and venous flow out of the kidneys follow similar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cortex receives more than 90% of the blood that perfused into the kidney, which is perfused at a rate of about 500 ml/min per 100 gm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100 times greater than resting muscle blood 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85FB-BA46-4CFF-B9A1-B0A010979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Rectangle 4" descr=""/>
          <p:cNvPicPr/>
          <p:nvPr/>
        </p:nvPicPr>
        <p:blipFill>
          <a:blip r:embed="rId1"/>
          <a:stretch/>
        </p:blipFill>
        <p:spPr>
          <a:xfrm>
            <a:off x="669960" y="682560"/>
            <a:ext cx="4859280" cy="798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930240" y="2076480"/>
            <a:ext cx="7299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blood colloid osmotic pressure (BC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roteins in blood (hyperosmo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draw water back into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~ 25 mm 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BF09-E750-420A-8FF1-AA80C7107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Rectangle 4" descr=""/>
          <p:cNvPicPr/>
          <p:nvPr/>
        </p:nvPicPr>
        <p:blipFill>
          <a:blip r:embed="rId1"/>
          <a:stretch/>
        </p:blipFill>
        <p:spPr>
          <a:xfrm>
            <a:off x="590400" y="609480"/>
            <a:ext cx="6755040" cy="7923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1743480" y="144792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P = NHP - BC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799720" y="245916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35  - 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603800" y="245916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1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5006880" y="245916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m 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637560" y="327672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mportance of bloo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1893240" y="4495680"/>
            <a:ext cx="41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20% drop in blood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50mm Hg to 40mm 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iltration would 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F7BF-2CCB-426F-8B88-5049437A6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14_08"/>
          <p:cNvPicPr/>
          <p:nvPr/>
        </p:nvPicPr>
        <p:blipFill>
          <a:blip r:embed="rId1"/>
          <a:stretch/>
        </p:blipFill>
        <p:spPr>
          <a:xfrm>
            <a:off x="4772160" y="1219320"/>
            <a:ext cx="382572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1" name="Rectangle 3"/>
          <p:cNvSpPr/>
          <p:nvPr/>
        </p:nvSpPr>
        <p:spPr>
          <a:xfrm>
            <a:off x="609480" y="609480"/>
            <a:ext cx="41148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n b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ure inside capillaries &gt; Pressure outs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 of fluid from bl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in capillaries: hydrostatic pressure 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+ 60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otic pressu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- 29 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 outward pressure = 60 – 29 = 31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in capsule: hydrostatic pressure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-15mmH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otic pressu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B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 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: 31 – 15 = 16 mmHg out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e adults GFR: ~ 90 – 140 ml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: 80 – 125 ml/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5 ml/min usually good a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D670-56B9-48DF-9A97-0EC2269E1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9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2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2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5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0" dur="50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3" dur="500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6" dur="500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6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70A9-B12F-4422-9EE4-036383A60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lood supply to the 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remainder of the renal blood supply goes to the capsule and the renal adipose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ome of the cortical blood then passes to the medulla, the outer medulla has a blood flow of 100ml/min per 100 g tissue, and the inner medulla a flow of 20 ml/min per 100 g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ue to high blood flows to the cortex so, more oxygen than required and that lead to the arterio-venous oxygen difference is only 1-2 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1665-BCCD-42C6-B551-3A4922869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od supply to the 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CE68-3C36-47FE-B93D-93DB8F6F5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840800" cy="5270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M9780323045827-032-f002"/>
          <p:cNvPicPr/>
          <p:nvPr/>
        </p:nvPicPr>
        <p:blipFill>
          <a:blip r:embed="rId1"/>
          <a:srcRect l="0" t="0" r="54447" b="5912"/>
          <a:stretch/>
        </p:blipFill>
        <p:spPr>
          <a:xfrm>
            <a:off x="4014720" y="609480"/>
            <a:ext cx="3986280" cy="563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Text Box 16"/>
          <p:cNvSpPr/>
          <p:nvPr/>
        </p:nvSpPr>
        <p:spPr>
          <a:xfrm>
            <a:off x="762120" y="905040"/>
            <a:ext cx="29718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= interlobar arteries 1a= interlobar v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= arcuate art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a= arcuate v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= interlobular art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a= interlobular v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= stellate v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= afferent arteri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= efferent arteri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a,7b= glomerular capillary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,8a = descending vasa re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= ascending vasa rec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CC0A-81E3-4266-BBA3-2CF19CF78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197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pillary Beds of the Neph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9480" y="15238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nephron has two capillary b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merul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tubular capil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glomerulus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 by an afferent arterio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ined by an efferent arteri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pressure in the glomerulus is high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erioles are high-resistance vess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erent arterioles have larger diameters than efferent arteri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uids and solutes are forced out of the blood throughout the entire length of the glomer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45A6-A858-4629-8939-8E2E94662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5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731520"/>
            <a:ext cx="7543800" cy="102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pillary B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eritubular be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low-pressure, porous capillaries adapted for absorption th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se from efferent arteri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here to adjacent renal tub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ty into the renal venou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Vasa rec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long, straight efferent arterioles of juxtamedullary nephr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2D90-FE7C-4A02-8F63-9AF0BD7A5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_x0018_25-05a_AnatNephrns_1.jpg                                       00022699_x000c_Macintosh HD                   ABA78158:"/>
          <p:cNvPicPr/>
          <p:nvPr/>
        </p:nvPicPr>
        <p:blipFill>
          <a:blip r:embed="rId1"/>
          <a:stretch/>
        </p:blipFill>
        <p:spPr>
          <a:xfrm>
            <a:off x="579600" y="914400"/>
            <a:ext cx="7954920" cy="5184720"/>
          </a:xfrm>
          <a:prstGeom prst="rect">
            <a:avLst/>
          </a:prstGeom>
          <a:ln w="0">
            <a:noFill/>
          </a:ln>
        </p:spPr>
      </p:pic>
      <p:sp>
        <p:nvSpPr>
          <p:cNvPr id="7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E198-74D3-4BED-854F-6EE51C261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hmad Ahmeda</cp:lastModifiedBy>
  <dcterms:modified xsi:type="dcterms:W3CDTF">2015-04-20T22:46:11Z</dcterms:modified>
  <cp:revision>1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