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37B5-1370-4147-AF31-4F6C829C07D6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Direct dynamic measurement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GB" sz="1000" spc="-1" strike="noStrike">
                <a:solidFill>
                  <a:srgbClr val="ff0000"/>
                </a:solidFill>
                <a:latin typeface="Calibri"/>
              </a:rPr>
              <a:t>Electromagnetic flowmet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is is a non-invasive technique not interrupting blood flow to the organ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probe is placed around the renal artery which contains an electromagnet generating a magnetic field across the arter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ovement of charged fluid across the magnetic field creates an electrical signal which is detected by two electrod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electrical current is amplified and transduced into a signal which is then record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Ultrasound flowmet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other non-invasive technique which does not interrupt flow to the organ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mall piezo-electric crystals are placed on the renal artery.  A high frequency sound signal, ultrasound,  is transmitted across the vessel and is reflected back from the opposite wal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reflected ultrasound is Doppler shifted.  Its frequency is reduced as it returns through fluid moving in the opposite direc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Doppler shift can be converted to a direct flow reading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Calibri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Laser-Doppler flowmetry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i="1" lang="en-GB" sz="1000" spc="-1" strike="noStrike">
                <a:solidFill>
                  <a:srgbClr val="ff0000"/>
                </a:solidFill>
                <a:latin typeface="Calibri"/>
              </a:rPr>
              <a:t>Intrarenal haemodynamic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is technique utilises a laser light beam which is transmitted into a tissue using glass micro-fibres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ight reflected from moving red cells in the tissue is Doppler shifted, collected by a receiving fibre and the difference calculated and displayed as a reading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icro-fibres inserted into cortex and medulla to different depths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Qualitative not quantitative values of flow (perfusion) but has the great advantage that dynamic and continuous measurements can be mad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10FF-BDBC-4072-A73F-E2C039D2B363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53E1-7A23-44E9-B117-8B292888850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CAE-5750-4E1D-8D64-147E4ED1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5F8-E98F-47D8-BE02-507E3EA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95C-C24B-4D57-B1D3-B209B533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3E4-3E5E-4067-9070-264AC944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98B-15C4-4796-A66A-B141B1C2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E69-E40A-4356-A4BC-FB13DD7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667-AC2A-402B-9B39-A48ECB2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1A9-1A10-4312-A0F9-5D57F558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A78-0CA5-45A7-A2F1-3E0AAB3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40D-1A3C-4DB3-A26C-1287F3C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27F-33FA-453A-A238-882B628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6B2-135B-4B13-9033-5A41236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21E1-F5B8-4834-BEB3-00C8A9B5E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62120" y="1143000"/>
            <a:ext cx="7696080" cy="186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"/>
              </a:rPr>
              <a:t>Renal Physiology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nal Haemodynamic &amp; 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2680" y="3833640"/>
            <a:ext cx="3516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Dr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Mobile No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9C5-BAFA-4DEF-A0F3-15D7C496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5715000" y="3814920"/>
            <a:ext cx="1523880" cy="1442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1976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scular Resistance in Microcircu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rent and efferent arterioles offer high resistance to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declines from 95mm Hg in renal arteries to 8 mm Hg in renal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a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glomeruli from fluctuations in systemic bloo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e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forces high glomer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hydrostatic pressure in peritubular capill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8029-D279-422E-8E0C-BD781FD98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EE2F-270F-44AA-83E5-A861BF14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419120" y="609480"/>
            <a:ext cx="5896080" cy="560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asurement of renal blood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9051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earance meth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a substance which is filtered, secreted but not reabsorbed by the nephrons and apply the clearance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xample is para-amino-hippuric acid (PAH) which is freely filtered, secreted by the organic pumps of the proximal tubule and is 100% removed on passage through the kid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0B70-817A-454D-AB96-4FB19191E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asurement of renal blood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Direct dynamic measur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Electromagnetic flowme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Ultrasound flowme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Laser-Doppler flowmet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Intrarenal hae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BE04-8CC8-45D3-9D24-0E272E17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4572000"/>
            <a:ext cx="324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merular capillary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ressure vascular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oncotic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od for 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953960" y="4495680"/>
            <a:ext cx="331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tubular capillary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pressure vascular be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oncotic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od for re-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878400" y="685800"/>
            <a:ext cx="7350840" cy="3657600"/>
            <a:chOff x="878400" y="685800"/>
            <a:chExt cx="7350840" cy="3657600"/>
          </a:xfrm>
        </p:grpSpPr>
        <p:pic>
          <p:nvPicPr>
            <p:cNvPr id="89" name="Picture 5" descr=""/>
            <p:cNvPicPr/>
            <p:nvPr/>
          </p:nvPicPr>
          <p:blipFill>
            <a:blip r:embed="rId1"/>
            <a:stretch/>
          </p:blipFill>
          <p:spPr>
            <a:xfrm flipH="1" rot="5400000">
              <a:off x="2903040" y="-982800"/>
              <a:ext cx="3657600" cy="699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878400" y="3543840"/>
              <a:ext cx="18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erent arteri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3503160" y="399528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fferent arteri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5528160" y="3769560"/>
              <a:ext cx="211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itubular capilla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099080" y="2415600"/>
              <a:ext cx="178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wman’s caps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5286240" y="911160"/>
              <a:ext cx="25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ximal convoluted tub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8DD5-5D38-4965-BD25-779ABD87F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dneys filter the body’s entire plasma volume 40 times each d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all plasma components except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s water, nutrients, and essential ions to becom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ine contains metabolic wastes and unneeded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654-AA70-4975-8CDD-49CFB8E3F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85800" y="182880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ne formation and adjustment of blood composition involves three major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lomerular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ubular re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_x0018_25-08_SingleNephrn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4405320" y="1752480"/>
            <a:ext cx="4067280" cy="449604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EBC7-F067-4A0E-A159-3F209DD4C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027160"/>
            <a:ext cx="7543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n urin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flows through the glomerulus, allowing protein-free plasma to be filtered through the glomerular capillaries into the Bowman’s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% of plasma entering the glomerulus is fi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ml/min filtered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9E0-A709-44CC-9923-1EE25F98C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 of substances from tubular lumen back in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bed substances not lost in the urine, but are carried by the peritubular capillaries to the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filtered plasma is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7C0D-4A1E-418C-86CE-976A0EA1E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ve transfer of substances from the peritubular capillary into the tubular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apid elimination of substances from the plasma via extraction of the 80% of unfiltered plasma in peritubular capillaries and adding it to the substances already in tubule as result of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3998-9564-4487-921F-5DF14459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at the mechanism of urine formation include three basic processes; glomerular filtration, tubular reabsorption and tubular se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GFR and quote normal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factors controlling GFR in terms of starling forces, permeability with respect to size, shape and electrical charges and ultra-filtration coeffi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Intrinsic and extrinsic mechanism that regulate G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autoregulation of GFR &amp;  tubuloglomerular feedback mech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38DA-5D69-490C-894B-7B8144F0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Excretion “The end produc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imination of substances from the body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lasma constituents filtered or secreted, but not reabsorbed remain in the tubules and pass into the renal pelvis to be excreted as urine and eliminated from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F64-021C-45EC-A627-9FFEC07F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tion can b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ranscellula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ross the cell) or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para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substance has moved pass the tubular epithelium cell into the interstitial spac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bulk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accounts for its movement back into the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EC60-8656-4618-9441-FA12F152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flow results from the imbalance of osmotic or hydrostatic forces at the peritubular capillary.  Exactly the same as at the peripheral capillary or th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showimage"/>
          <p:cNvPicPr/>
          <p:nvPr/>
        </p:nvPicPr>
        <p:blipFill>
          <a:blip r:embed="rId1"/>
          <a:stretch/>
        </p:blipFill>
        <p:spPr>
          <a:xfrm>
            <a:off x="3657600" y="2286000"/>
            <a:ext cx="4876920" cy="316872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4092-B2F7-4561-A4EC-850168BB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ubstances are reabsorbed via active transport.  These are substances that are needed by the body (e.g.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aas, other electrol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-99.5% of filtered sodium is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tubules (6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of Henle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/Collecting tubules (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E452-346F-4F9B-ABAA-60945A3D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reabsorption is vi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rimary 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TP hydrolysis (e.g. Na+) o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condary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n ion gradient (e.g. gluc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ans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3AC-72E1-437D-B186-A84DA32D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 Filtration Pressure (NF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ure responsible for filtrat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 equals the glomer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inus the oncotic pressure of glomerular blood (O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mbined with the caps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600200" y="4313160"/>
            <a:ext cx="6172200" cy="169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P = 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O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P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DCC-04D9-47E4-8846-2A36FBB98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17980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merular filtration rate (GFR) is the rate of production of filtrate at the glomeruli from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80 – 140 ml/min depending on age, sex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the filtration rates of all functioning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of kidne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18CD-B2E1-4FEB-87C3-6365923F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731880"/>
            <a:ext cx="769608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governing filtration rate at the capillary bed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urface area available for 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tion membrane perm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filtration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R is directly proportional to the N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GFR normally result from changes in glomerular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FBFD-CA3A-46E1-BB82-A351160D9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substances cannot be reabsorbed quickly enough and are lost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s reabsorbed, including wastes that are normally dispose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4530-F6CC-4F68-81D0-1E43AFF4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1"/>
          <a:stretch/>
        </p:blipFill>
        <p:spPr>
          <a:xfrm>
            <a:off x="554040" y="512640"/>
            <a:ext cx="6389640" cy="908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993320" y="1305000"/>
            <a:ext cx="57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glomerular hydrostatic pressure (G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ush fluid out of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psular hydrostatic pressure (Cs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ush fluid back into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953360" y="365760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t hydrostatic pressur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(N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857320" y="46483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HP  =  GHP - Cs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506760" y="5334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-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062080" y="5334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35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388200" y="5334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208-F97F-4505-BCA6-1183EA263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one-fourth (1200 ml) of systemic cardiac output flows through the kidneys each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al flow into and venous flow out of the kidneys follow simila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cortex receives more than 90% of the blood that perfused into the kidney, which is perfused at a rate of about 500 ml/min per 100 gm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100 times greater than resting muscle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5415-B7E8-4EA3-A712-CBD944E1D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4" descr=""/>
          <p:cNvPicPr/>
          <p:nvPr/>
        </p:nvPicPr>
        <p:blipFill>
          <a:blip r:embed="rId1"/>
          <a:stretch/>
        </p:blipFill>
        <p:spPr>
          <a:xfrm>
            <a:off x="669960" y="682560"/>
            <a:ext cx="4859280" cy="798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930240" y="2076480"/>
            <a:ext cx="729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ood colloid osmotic pressure (BC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roteins in blood (hyper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raw water back into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~ 25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B80-037A-4B99-A605-351564AC8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4" descr=""/>
          <p:cNvPicPr/>
          <p:nvPr/>
        </p:nvPicPr>
        <p:blipFill>
          <a:blip r:embed="rId1"/>
          <a:stretch/>
        </p:blipFill>
        <p:spPr>
          <a:xfrm>
            <a:off x="590400" y="609480"/>
            <a:ext cx="6755040" cy="79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743480" y="144792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P = NHP - B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99720" y="24591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35  -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03800" y="24591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006880" y="245916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37560" y="32767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ortance of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893240" y="449568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20% drop in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50mm Hg to 40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ltration would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7F3B-FB77-4A73-AC77-765B3633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4_08"/>
          <p:cNvPicPr/>
          <p:nvPr/>
        </p:nvPicPr>
        <p:blipFill>
          <a:blip r:embed="rId1"/>
          <a:stretch/>
        </p:blipFill>
        <p:spPr>
          <a:xfrm>
            <a:off x="4772160" y="1219320"/>
            <a:ext cx="38257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Rectangle 3"/>
          <p:cNvSpPr/>
          <p:nvPr/>
        </p:nvSpPr>
        <p:spPr>
          <a:xfrm>
            <a:off x="609480" y="609480"/>
            <a:ext cx="4114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inside capillaries &gt; Pressure out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of fluid from b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in capillaries: hydrostatic pressure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+ 60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 29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outward pressure = 60 – 29 = 31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in capsule: hydrostatic pressur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15mmH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: 31 – 15 = 16 mmHg out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adults GFR: ~ 90 – 140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80 – 125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 ml/min usually good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D5D9-6034-4379-B09B-66F20484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3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7BEB-992B-4C00-882B-2C57C8C7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remainder of the renal blood supply goes to the capsule and the renal adipos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of the cortical blood then passes to the medulla, the outer medulla has a blood flow of 100ml/min per 100 g tissue, and the inner medulla a flow of 20 ml/min per 100 g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high blood flows to the cortex so, more oxygen than required and that lead to the arterio-venous oxygen difference is only 1-2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AA3F-FF9A-4FAA-BD39-376EA6E8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2CE3-BFFF-49C9-9085-639F67BA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0800" cy="527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9780323045827-032-f002"/>
          <p:cNvPicPr/>
          <p:nvPr/>
        </p:nvPicPr>
        <p:blipFill>
          <a:blip r:embed="rId1"/>
          <a:srcRect l="0" t="0" r="54447" b="5912"/>
          <a:stretch/>
        </p:blipFill>
        <p:spPr>
          <a:xfrm>
            <a:off x="4014720" y="609480"/>
            <a:ext cx="398628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 Box 16"/>
          <p:cNvSpPr/>
          <p:nvPr/>
        </p:nvSpPr>
        <p:spPr>
          <a:xfrm>
            <a:off x="762120" y="905040"/>
            <a:ext cx="29718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= interlobar arteries 1a= interlobar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= arcuate ar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= arcuate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= interlobular ar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a= interlobular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= stellate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= a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= e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a,7b= glomerular capillar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,8a = descending vasa 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= ascending vasa rec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4864-BB61-40B6-9661-6E0D70CA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 of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5238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ephron has two capillary b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meru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tub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lomerulus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by an afferent arteri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ed by an efferent arteri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in the glomerulus is high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oles are high-resistance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rent arterioles have larger diameters than e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s and solutes are forced out of the blood throughout the entire length of th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255-CF8D-472C-B15E-3D0B04AA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31520"/>
            <a:ext cx="75438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eritubular b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ow-pressure, porous capillaries adapted for absorption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e from efferent arte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 to adjacent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into the renal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asa rec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ng, straight efferent arterioles of juxtamedullary neph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E369-FCB2-484C-942C-53BC5B831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_x0018_25-05a_AnatNephrns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579600" y="914400"/>
            <a:ext cx="7954920" cy="518472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CF0F-9F3B-431D-80CA-AE3D6249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4-20T22:46:11Z</dcterms:modified>
  <cp:revision>1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