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FF28-703D-43A2-9944-D40FD4695683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9B2A-6D56-4616-8BB3-99F6D46F040B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D0E6-A002-4E09-9B1E-8B4A669C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E96-53D9-4B72-A9CB-5842FCA8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70D-F8F7-4136-99A9-36828DBE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327-0111-4464-A625-591A2A3E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315-75B9-492D-AF76-745D6228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02F-3AFF-4F95-B80E-963CC5BB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A30-7BBB-430A-A14D-47CDA13F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6BA8-8E52-4308-BE3A-C33425EA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64D-B672-44A4-A916-67BFAC9A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E00-985B-4C8A-80AB-0DDBC567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A1E-ACA0-4528-BB0E-292A6C41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CE2-C75C-436C-8697-8FCABC82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A6B0-473B-4513-8138-701270ED7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58960" y="1171440"/>
            <a:ext cx="7446960" cy="125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Renal Transpor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8756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0CF0-9C1B-4DFE-9DD7-1C5092908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4876920" y="2976480"/>
            <a:ext cx="3208320" cy="2509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18A1-9F7B-45E2-A8FE-1468ECADF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0" t="0" r="65132" b="0"/>
          <a:stretch/>
        </p:blipFill>
        <p:spPr>
          <a:xfrm>
            <a:off x="609480" y="609480"/>
            <a:ext cx="2764080" cy="5645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429000" y="609480"/>
            <a:ext cx="5094360" cy="5645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655560"/>
            <a:ext cx="739152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mino acids,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very high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o urinary excretion oc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kidney does regulate some substances by means of the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chanism, eg sulphate and phosphate ions. This is because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set at a level whereby the normal [plasma] causes saturation so an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bove the normal level will be excreted, therefore achieving its plasma regulation. (Also subject to PTH regulation for phosphate, PTH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absorp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27E7-57F5-4CF3-96D2-FE9BDCE27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543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epithelial process whereby most tubule contents are returned to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d substances move through three membran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al and basolateral membranes of tubul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thelium of peritubular capil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some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reabsorbed via paracellular 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38FA-7EB5-430F-A7A3-4C495751E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086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Diagram 1" descr=""/>
          <p:cNvPicPr/>
          <p:nvPr/>
        </p:nvPicPr>
        <p:blipFill>
          <a:blip r:embed="rId1"/>
          <a:stretch/>
        </p:blipFill>
        <p:spPr>
          <a:xfrm>
            <a:off x="701640" y="2133720"/>
            <a:ext cx="7716960" cy="370656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7D92-C8E6-4A9C-8B26-62B9F84DC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4714" t="0" r="5662" b="0"/>
          <a:stretch/>
        </p:blipFill>
        <p:spPr>
          <a:xfrm>
            <a:off x="533520" y="2757600"/>
            <a:ext cx="8001000" cy="2728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tion, Excretion, and Reabsorption of Water, Electrolyte, and Solute by the Kid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16C6-E123-47D4-944A-EB2CEC6A5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dium Reabsorp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ary Activ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reabsorption is almost always by 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ters the tubule cells at the lumina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tively transported out of the tubules by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Pase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A822-6D4B-4850-BC1D-B511110D5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Water &amp; Solute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ne of the main functions of neph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- 25,000 mEq/day N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79 L/day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ortant solutes are linked either directly or indirectly to reabsorption of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4724280" y="3178080"/>
            <a:ext cx="217440" cy="647640"/>
          </a:xfrm>
          <a:custGeom>
            <a:avLst/>
            <a:gdLst>
              <a:gd name="textAreaLeft" fmla="*/ 0 w 217440"/>
              <a:gd name="textAreaRight" fmla="*/ 78480 w 21744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181480" y="31399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bsorped daily by renal tub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BEE6-73ED-4C4E-866F-A8D515C19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chanisms of tubular absorption &amp;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d diff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cyt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038480" y="2895480"/>
            <a:ext cx="217440" cy="533520"/>
          </a:xfrm>
          <a:custGeom>
            <a:avLst/>
            <a:gdLst>
              <a:gd name="textAreaLeft" fmla="*/ 0 w 217440"/>
              <a:gd name="textAreaRight" fmla="*/ 78480 w 2174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610160" y="2743200"/>
            <a:ext cx="308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own chemic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lectric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076640" y="4267080"/>
            <a:ext cx="217440" cy="571680"/>
          </a:xfrm>
          <a:custGeom>
            <a:avLst/>
            <a:gdLst>
              <a:gd name="textAreaLeft" fmla="*/ 0 w 217440"/>
              <a:gd name="textAreaRight" fmla="*/ 78480 w 21744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648320" y="4038480"/>
            <a:ext cx="3429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gainst chemic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lectrical gradient, nee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ABC9-FFD7-44DB-A91C-807B8BDF4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315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roximal convoluted tub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y epithelium permeable to ions &amp;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70 % of Na+, Cl-, K+, water absorbed passively (follows Na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+ Reabsorption (transcellula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ly PCT Na+ absorb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d with H+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HCO3-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organic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, amino acids, lactate,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867280" y="4419720"/>
            <a:ext cx="293760" cy="1371600"/>
          </a:xfrm>
          <a:custGeom>
            <a:avLst/>
            <a:gdLst>
              <a:gd name="textAreaLeft" fmla="*/ 0 w 293760"/>
              <a:gd name="textAreaRight" fmla="*/ 106200 w 293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477120" y="4495680"/>
            <a:ext cx="148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-ATPas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78DD-6A4C-4B8E-9E16-B4FEC601F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6C9B-1DE5-498B-AA48-74055CFD3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72000" cy="5639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earning Objectiv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ubular reabsorption, tubular secretion, transcellular and paracellular trans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describe mechanisms of tubular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ubular reabsorption of sodium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 tubulo-glomerular feedback and describe its physiological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describe mechanism involved in Glucose  re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glucose titration curve in terms of renal threshold, tubular transport maximum, splay, excretion and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ubular site and describe how Amino Acids, HCO3-, P04- and Urea are reabsor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01FB-5894-4539-AA77-B945F75F9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26708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39621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NHE takes up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uses reabsorption of HCO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Sympor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ac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994280" y="609480"/>
            <a:ext cx="3540240" cy="563904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71F1-BBE8-4356-9C3F-4ED8AB7C4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716040"/>
            <a:ext cx="739152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ucos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7524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ubular lumen to tubular cell: Sodium co-transporter (Carrier-mediated secondary active transport). Uphill transport of glucose driven by electro-chemical gradient of sodium, which is maintained by Na-K pump presents in basolateral cell membr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ubular cell to peritubular capillary: Facilitated diffusion (Carrier-mediated passive transpor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BF3D-AB7C-4CCC-AAE8-CF5F377C1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0ADF-FCBD-4656-B3E6-8515C28B9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46200" y="792000"/>
            <a:ext cx="7888320" cy="530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2388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PCT Na+ Reabsorbed mainly with Cl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y 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e to different transport mechanisms in late PCT,  lack of organic molec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Transcellular: Na+ entry using NHE &amp; 1 or 2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nion anti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creted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anion combine in the tubular fluid &amp; reenter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ions involved: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mate, oxalate,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3E00-FB12-4E65-9700-3765722CA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990720" y="587520"/>
            <a:ext cx="7162560" cy="566100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F27B-E073-425E-9B09-2A7BA0FE2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Paracellular (passive diffusion) With C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high [Cl-] in tub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mEq/L in the tubule lumen and 105 mEq/L in interstit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c. gradient favors diffusion of Cl- from the tubular lumen a cross the tight junction into the lateral intercellula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ve charge in tubu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+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 of Na+ reabsorbed thi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3AC2-338F-4306-9C9B-B925C44D7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990720" y="587520"/>
            <a:ext cx="7162560" cy="566100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44B2-0F45-4F63-8D13-1F5A471CB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639720"/>
            <a:ext cx="7086600" cy="96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ea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7226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 plasma level of urea 2.5-6.5 mM/L (15-39 mg/100m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Mechanism of urea reabsor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0-70%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filtered load of urea is reabsorped 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half of P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ullary CT and CD (ADH depend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water reabsorption in the first half of PCT, the conc. of urea is increased in the second half and urea is reabsorbed by simple diffusion (downhi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61DB-222C-4384-A196-A6BAB12AD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CABC-C19F-4279-9EBC-53F2EA762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rcRect l="0" t="0" r="50003" b="58889"/>
          <a:stretch/>
        </p:blipFill>
        <p:spPr>
          <a:xfrm>
            <a:off x="2133720" y="690480"/>
            <a:ext cx="4800600" cy="5558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T cells permeable to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T Reabsorbs 67% of filter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tubular Passive (osmosis), due to osmotic active substances that are absorbed e.g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lucose, HCO3-, C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ule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 space osmol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7A46-C2AE-4F9E-8B33-9AF769479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4674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Thres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7985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en the plasma concentration of the substance is beyond it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he substance begins to appear in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t this level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he filtered load exceeds the absorptive capacity of the 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high threshold: glucose, amino acids &amp; vitam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medium threshold: K+ &amp; u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low threshold: phosphate &amp; u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no threshold: creatinine, mannitol &amp; inu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F31D-659E-4434-83DB-DBF7CF3BA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934320" cy="5608800"/>
          </a:xfrm>
          <a:prstGeom prst="rect">
            <a:avLst/>
          </a:prstGeom>
          <a:ln w="0">
            <a:noFill/>
          </a:ln>
        </p:spPr>
      </p:pic>
      <p:sp>
        <p:nvSpPr>
          <p:cNvPr id="1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CDBC-9906-4B9A-9C55-F2A02C887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nt drag: K+, Ca2+, carried with water &amp; hence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umulation of fluid and solutes within the lateral intercellular space increases hydrostatic pressure in this compar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hydrostatic pressure forces fluid and solutes into the capillaries. Thus, water reabsorption follows sol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proximal tubule reabsorption is isosmo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1F86-D420-45CE-A228-07B79168B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3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54380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in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hormones, small proteins &amp; amino acids reabsorbed in P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 Endocytosis into PCT, either intact or after being partially degraded by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protein inside the cell, enzyme digest them into amino acids, which leave the cell to bl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maximum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oo much protein filtered = protein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4D83-D904-4CD1-B97C-45C869A84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ganic ion/cation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ndogenous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d products of meta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le sa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reati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techolamines (adrenaline, noradrenail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ogenous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enicil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SAIDs (e.g. ibuprof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orp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43EE-F9F0-4BA5-8416-091126CE4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01064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617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nal tubules are poorly-permeable to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However, it is still reabsorbed but in the form of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to which the tubules are very highly permeabl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occurs through the following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formed inside the cells then secreted in the tubular flu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bines with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he tubular fluid forming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2676-C409-4873-BBC7-116DC578D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rcRect l="0" t="0" r="0" b="52705"/>
          <a:stretch/>
        </p:blipFill>
        <p:spPr>
          <a:xfrm>
            <a:off x="1447920" y="914400"/>
            <a:ext cx="6473880" cy="4876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23924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ctivity of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rbonic anhydrase enzyme (C.A.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tubular cells,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ssociates into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ffuses into the cells where it combines with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(by activity of an intracellular C.A.), forming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ich dissociates into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ssively diffuses into the interstitial fluid (then to the blood) while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secreted into the tubular fluid to help more reabsorption of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D729-AAE5-4A36-AD7B-7442810EB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9152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90360" y="190476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s affect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absorp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terial P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[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 Aldoster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 [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FD86-11D2-4FB4-B120-37F2998BA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7C0A-3712-4219-A232-BBE6402BD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033C-FE1E-435A-ADA6-30F8BD746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573280" y="0"/>
            <a:ext cx="399744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2481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Thres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1828440"/>
            <a:ext cx="7238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o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ppearance of glucose in urine before the transport maximum is reached is termed “Splay” and result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phron variability: “in glomerular size &amp; tubular length”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Variability in the number of glucose carriers &amp; the transport rate of the carr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1BEB-B79E-4F35-B1C9-984597BD5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5DFA-5E7B-4273-A808-9E670CB21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136600" y="0"/>
            <a:ext cx="48708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1760" y="213372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t is the maximal amount of a substance (in mg) which can be transported (reabsorbed or secreted) by tubular cells/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9021-7DFC-4578-A82D-68996AB40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substances are reabsorbed by carrier mediated transport systems e.g. glucose, amino acids, organic acids, sulphate and phosphate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iers have a maximum transport capacity (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n-GB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due to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satu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e carriers. If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exceeded, then the excess substrate enters the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is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freely filter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so whatever its [plasma] that will be filt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4742-7FD8-42B7-BA80-D287FBDBE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71480" y="760320"/>
            <a:ext cx="7686720" cy="5335560"/>
          </a:xfrm>
          <a:prstGeom prst="rect">
            <a:avLst/>
          </a:prstGeom>
          <a:ln w="0">
            <a:noFill/>
          </a:ln>
        </p:spPr>
      </p:pic>
      <p:sp>
        <p:nvSpPr>
          <p:cNvPr id="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832F-178F-4BEA-A860-B1B213C14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50880" y="635040"/>
            <a:ext cx="7883640" cy="553716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6CF0-0BC3-4AA5-8921-A44130CC0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1028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man for plasma glucose up t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g/dl, all will be </a:t>
            </a: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reabsorb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Beyond this level of plasma [glucose], it appears in the urine = Renal plasma threshold for gluco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f plasma [glucose] = 275 mg/dl, 275 mg/dl will be filtered, 180mg/dl reabsorbed and 90 mg/dl excret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idney does NOT regulate [glucose], (insulin and glucagon). Normal [glucose] of 5 mmoles/l,  so T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set way above any possible level of (non-diabetic) [glucose]. Thus, ensure that all this valuable nutrient is normally reabsorbed. The appearance of glucose in the urine of diabetic patients = glycosuria, is due to failure of insulin, NOT, the kidn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BE0C-8365-4387-BB12-68581AC26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HMAD</cp:lastModifiedBy>
  <dcterms:modified xsi:type="dcterms:W3CDTF">2015-05-03T06:45:16Z</dcterms:modified>
  <cp:revision>2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