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jpeg" ContentType="image/jpe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0F5B-3F0C-428A-B05A-4E19CBCAB60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C069-64F1-402A-B2B0-60D1354AD1B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3AA-B3BE-497B-8C00-E1F194F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0E4-8AEA-4FCB-BB59-9C2983CA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04D-FC2D-42C8-A072-554667802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356-3E4D-4A39-87C6-6806046E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3E5-5A0B-482B-9778-EA925BE6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2CD-93A3-44FC-9402-B4DFC501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402-3162-497D-89FB-09C85686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281-A1CF-41A3-B108-193A649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390-5E96-48BE-BE9E-244F5C04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BE8-A7AC-4E94-BAD6-E0E51806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D1F-5BC8-4E9B-B9DC-5CD7E7D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3A0-1397-4055-BF6A-8483F180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3B71-0816-4DD3-934F-ECD9B23C4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4636-BA34-42E9-84F3-612E6B8A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7A0E-C66F-4514-8A3E-69BC18598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0" r="65132" b="0"/>
          <a:stretch/>
        </p:blipFill>
        <p:spPr>
          <a:xfrm>
            <a:off x="609480" y="609480"/>
            <a:ext cx="2764080" cy="5645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5094360" cy="5645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55560"/>
            <a:ext cx="7391520" cy="1020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mino acids,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so very hig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o urinary excret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kidney does regulate some substances by means of th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chanism, eg sulphate and phosphate ions. This is because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set at a level whereby the normal [plasma] causes saturation so an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bove the normal level will be excreted, therefore achieving its plasma regulation. (Also subject to PTH regulation for phosphate, PTH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bsor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892E-6D77-4368-A84F-0557E051F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5438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ansepithelial process whereby most tubule contents are returned to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d substances move through three membran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minal and basolateral membranes of tubule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thelium of peritubular capill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g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m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reabsorbed via paracellular path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58FD-DA1E-4A67-897C-0576CAB8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83808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bula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Diagram 1" descr=""/>
          <p:cNvPicPr/>
          <p:nvPr/>
        </p:nvPicPr>
        <p:blipFill>
          <a:blip r:embed="rId1"/>
          <a:stretch/>
        </p:blipFill>
        <p:spPr>
          <a:xfrm>
            <a:off x="701640" y="2133720"/>
            <a:ext cx="7716960" cy="370656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AC79-8A97-4AB0-BA8C-A7953FD6C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4714" t="0" r="5662" b="0"/>
          <a:stretch/>
        </p:blipFill>
        <p:spPr>
          <a:xfrm>
            <a:off x="533520" y="2757600"/>
            <a:ext cx="8001000" cy="2728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ion, Excretion, and Reabsorption of Water, Electrolyte, and Solute by the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29C-D8EC-44F0-B574-414BC474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dium Reabsorptio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reabsorption is almost always by 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ters the tubule cells at the lumin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ctively transported out of the tubules by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Pas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591D-C013-458F-B157-6C4C2914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Water &amp; Solute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ne of the main functions of neph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 25,000 mEq/day N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79 L/day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ortant solutes are linked either directly or indirectly to reabsorption of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724280" y="3178080"/>
            <a:ext cx="217440" cy="647640"/>
          </a:xfrm>
          <a:custGeom>
            <a:avLst/>
            <a:gdLst>
              <a:gd name="textAreaLeft" fmla="*/ 0 w 217440"/>
              <a:gd name="textAreaRight" fmla="*/ 78480 w 21744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181480" y="31399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bsorped daily by renal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252-3A0C-4FB3-A0D7-DF611E79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chanisms of tubular absorption &amp;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d diff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yt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4038480" y="2895480"/>
            <a:ext cx="217440" cy="533520"/>
          </a:xfrm>
          <a:custGeom>
            <a:avLst/>
            <a:gdLst>
              <a:gd name="textAreaLeft" fmla="*/ 0 w 217440"/>
              <a:gd name="textAreaRight" fmla="*/ 78480 w 21744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10160" y="2743200"/>
            <a:ext cx="308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wn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76640" y="4267080"/>
            <a:ext cx="217440" cy="571680"/>
          </a:xfrm>
          <a:custGeom>
            <a:avLst/>
            <a:gdLst>
              <a:gd name="textAreaLeft" fmla="*/ 0 w 217440"/>
              <a:gd name="textAreaRight" fmla="*/ 78480 w 21744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648320" y="4038480"/>
            <a:ext cx="34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gainst chemic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lectrical gradient, nee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5371-79A7-4099-94E0-A35C1E51A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31520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Proximal convoluted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y epithelium permeable to ions &amp;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 70 % of Na+, Cl-, K+, water absorbed passively (follows Na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+ Reabsorption (transcellul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PCT Na+ absor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d with H+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HCO3-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organic sub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cose, amino acids, lactate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867280" y="4419720"/>
            <a:ext cx="293760" cy="1371600"/>
          </a:xfrm>
          <a:custGeom>
            <a:avLst/>
            <a:gdLst>
              <a:gd name="textAreaLeft" fmla="*/ 0 w 293760"/>
              <a:gd name="textAreaRight" fmla="*/ 106200 w 29376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77120" y="4495680"/>
            <a:ext cx="148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IE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-ATPase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83DD-63AB-425C-B704-125EC5B87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4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7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926-33A0-44DA-8392-D3F09DB0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47200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earning Objectiv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904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ubular reabsorption, tubular secretion, transcellular and paracellular trans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s of tubular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ubular reabsorption of sodium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 tubulo-glomerular feedback and describe its physiological impor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and describe mechanism involved in Glucose  reabsor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glucose titration curve in terms of renal threshold, tubular transport maximum, splay, excretion and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ubular site and describe how Amino Acids, HCO3-, P04- and Urea are reabsor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FEE3-5B32-4D1B-8223-386AC2EDC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267080" cy="838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3962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NHE takes up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s reabsorption of HCO3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Sympor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ac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94280" y="609480"/>
            <a:ext cx="3540240" cy="5639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D215-049A-457C-B5EE-C2CB1F899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604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lucose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7524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lumen to tubular cell: Sodium co-transporter (Carrier-mediated secondary active transport). Uphill transport of glucose driven by electro-chemical gradient of sodium, which is maintained by Na-K pump presents in basolateral cell membra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tubular cell to peritubular capillary: Facilitated diffusion (Carrier-mediated passive transpor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4625-273B-447E-981A-1E2AA1D2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B9AB-64E4-4CD7-A662-D64AB07D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46200" y="792000"/>
            <a:ext cx="7888320" cy="530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2388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PCT Na+ Reabsorbed mainly with Cl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e to different transport mechanisms in late PCT,  lack of organic molec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Transcellular: Na+ entry using NHE &amp; 1 or 2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nion antipo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creted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anion combine in the tubular fluid &amp; reenter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ions involved: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rmate, oxalate, sulf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A15C-A688-4495-82F7-6A6BCE7E0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A5DE-F6F9-4765-B379-D5158BE8A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aracellular (passive diffusion) With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high [Cl-] in tub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mEq/L in the tubule lumen and 105 mEq/L in interstit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c. gradient favors diffusion of Cl- from the tubular lumen a cross the tight junction into the lateral intercellular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ve charge in tubu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+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 of Na+ reabsorbed thi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A9B2-3522-4915-982C-4F1D85AA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6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990720" y="587520"/>
            <a:ext cx="7162560" cy="566100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1F76-3A68-4016-AD94-EE876449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639720"/>
            <a:ext cx="7086600" cy="96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e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722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 plasma level of urea 2.5-6.5 mM/L (15-39 mg/100m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Mechanism of urea reabsor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40-7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filtered load of urea is reabsorped i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half of P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CT and CD (ADH depend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water reabsorption in the first half of PCT, the conc. of urea is increased in the second half and urea is reabsorbed by simple diffusion (downhil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46E4-A1F7-4AC2-A069-EE3E081BC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FB6C-B06D-4789-8169-4BF997F5B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rcRect l="0" t="0" r="50003" b="58889"/>
          <a:stretch/>
        </p:blipFill>
        <p:spPr>
          <a:xfrm>
            <a:off x="2133720" y="690480"/>
            <a:ext cx="4800600" cy="5558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197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cells permeable to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T Reabsorbs 67% of filter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tubular Passive (osmosis), due to osmotic active substances that are absorbed e.g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lucose, HCO3-, C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ule osmol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space osmol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4B08-7A0B-424E-BA8B-BCCC0707B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6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4674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7985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n the plasma concentration of the substance is beyond it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substance begins to appear in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 this level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he filtered load exceeds the absorptive capacity of the 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high threshold: glucose, amino acids &amp; vitam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medium threshold: K+ &amp;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low threshold: phosphate &amp;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bstances of no threshold: creatinine, mannitol &amp; in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1DCE-86A2-424F-A692-A310F5A6E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934320" cy="5608800"/>
          </a:xfrm>
          <a:prstGeom prst="rect">
            <a:avLst/>
          </a:prstGeom>
          <a:ln w="0">
            <a:noFill/>
          </a:ln>
        </p:spPr>
      </p:pic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7C90-FA72-4433-81FD-0EBC8C8D6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nt drag: K+, Ca2+, carried with water &amp; hence re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umulation of fluid and solutes within the lateral intercellular space increases hydrostatic pressure in this compar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hydrostatic pressure forces fluid and solutes into the capillaries. Thus, water reabsorption follows sol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proximal tubule reabsorption is isosmo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B8AE-F7C8-4721-A4BE-75C41828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ein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hormones, small proteins &amp; amino acids reabsorbed in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 Endocytosis into PCT, either intact or after being partially degraded by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protein inside the cell, enzyme digest them into amino acids, which leave the cell to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maximum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oo much protein filtered = protein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36FC-87A8-4864-8822-D7B94C08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ganic ion/cation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nd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d products of metabo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le sa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eati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echolamines (adrenaline, noradrenail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ogenous compou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nicil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SAIDs (e.g. ibuprof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orp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33E0-086A-4D67-A276-DA1526A6E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685800"/>
            <a:ext cx="70106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617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nal tubules are poorly-permeable 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However, it is still reabsorbed but in the form of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o which the tubules are very highly permeab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occurs through the following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formed inside the cells then secreted in the tubular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bines with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e tubular fluid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CFD1-B901-4771-A936-6C465D510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rcRect l="0" t="0" r="0" b="52705"/>
          <a:stretch/>
        </p:blipFill>
        <p:spPr>
          <a:xfrm>
            <a:off x="1447920" y="914400"/>
            <a:ext cx="647388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23924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ctivity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arbonic anhydrase enzyme (C.A.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tubular cells,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ssociates into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uses into the cells where it combines with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(by activity of an intracellular C.A.), form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ich dissociates into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&amp;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vely diffuses into the interstitial fluid (then to the blood) while H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secreted into the tubular fluid to help more reabsorption of H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B83-84B9-4BCD-84A2-7B36B5CF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360" y="19047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tors affecting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absorp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terial P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sma [c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5065-1BF3-4558-94CC-1C3CFA855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B6FF-E053-45D4-8C10-593687599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51E5-3C0D-4702-976D-6894B7CD6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573280" y="0"/>
            <a:ext cx="39974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2481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Thres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No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arance of glucose in urine before the transport maximum is reached is termed “Splay” and result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phron variability: “in glomerular size &amp; tubular length”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riability in the number of glucose carriers &amp; the transport rate of th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DA3C-4157-4D3B-A95B-71D58A79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2CEE-6352-46E3-B374-23A6F6F4C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136600" y="0"/>
            <a:ext cx="48708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1760" y="213372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t is the maximal amount of a substance (in mg) which can be transported (reabsorbed or secreted) by tubular cells/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3F9E-DB9F-44FF-90C2-524B405F7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substances are reabsorbed by carrier mediated transport systems e.g. glucose, amino acids, organic acids, sulphate and phosphate 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iers have a maximum transport capacity (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GB" sz="2400" spc="-1" strike="noStrike" baseline="-25000">
                <a:solidFill>
                  <a:srgbClr val="ff3300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is due to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satu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the carriers. If T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exceeded, then the excess substrate enters the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is 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freely filter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so whatever its [plasma] that will be fil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54CE-CF9A-47E3-8941-741567987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71480" y="760320"/>
            <a:ext cx="7686720" cy="533556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2CC-CF90-46C6-B4AB-C56894D56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650880" y="635040"/>
            <a:ext cx="7883640" cy="553716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45A0-A94C-40B1-84BE-D5EBC5B93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685800"/>
            <a:ext cx="70102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ubular Transport Maxim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man for plasma glucose up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mg/dl, all will be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reabsorb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Beyond this level of plasma [glucose], it appears in the urine = Renal plasma threshold for gluco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f plasma [glucose] = 275 mg/dl, 275 mg/dl will be filtered, 180mg/dl reabsorbed and 90 mg/dl excrete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idney does NOT regulate [glucose], (insulin and glucagon). Normal [glucose] of 5 mmoles/l,  so T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 set way above any possible level of (non-diabetic) [glucose]. Thus, ensure that all this valuable nutrient is normally reabsorbed. The appearance of glucose in the urine of diabetic patients = glycosuria, is due to failure of insulin, NOT, the kidne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96FF-6E7E-4114-ABFE-5D7E253F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AD</cp:lastModifiedBy>
  <dcterms:modified xsi:type="dcterms:W3CDTF">2015-05-03T06:45:16Z</dcterms:modified>
  <cp:revision>2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