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812E-96D6-4293-A8AC-055B0D205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n future, adding a picture for monkey with bananas to say what happen when we eat to much banan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5397-0504-4672-A8DE-4C3A33E87C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BF9-7CC7-4B64-AEAB-B79671A1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D053-1C72-42CE-BC64-C582E7A6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7AD-D968-4DBB-AC1D-A7E13AE5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B4F-AEAA-440C-B21E-93CA7C18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4211-A90C-4D38-9C05-E4B28833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DA62-38CF-4DB3-96D8-F07998A6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9DF-51E4-4FA7-BAB0-31BD90CA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798-5CA8-4C5C-83AF-E1790A5E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F3E-5945-4EEE-8F71-78DF712A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D4E-C8B7-4091-9AAD-D68817B8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0272-E2D9-4E2A-A3B9-029E4E91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BBDD-2FB1-4824-9F80-BE4D5334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B180-5502-48ED-93A1-4F5ED9212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858960" y="1171440"/>
            <a:ext cx="7446960" cy="125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Renal Transport Proces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087560" y="3505320"/>
            <a:ext cx="36172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MS PGothic"/>
              </a:rPr>
              <a:t>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ea typeface="MS PGothic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MS PGothic"/>
              </a:rPr>
              <a:t>Cell phone: 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4252-4C4C-4FD0-AE39-6DD3422F0B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4876920" y="2976480"/>
            <a:ext cx="3208320" cy="2509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4674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port of potass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2103480"/>
            <a:ext cx="71625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abundant cation in the 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,500-4,000 mmol in blo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8 % is intracellular, [150m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tes intracellular function such as Cell volume,  Acid/base status, cell growth &amp; div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% K extra-cellular [3.5-5m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regulates membrane potentials in excitable cells and diffusion potentials in transporting epithel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0B01-762E-4550-892E-1D405A53A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6960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a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-120 mmol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damage leading to cell lysis increases plasma [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extracellular [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and total body potassium are tightly regu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s regulates extracellular [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AL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s regulates total body potass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04EB-FF4C-4BD4-AD3F-306030711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4674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nal potassium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46280"/>
            <a:ext cx="79250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assium content of average meal is 30-40mmol. This is rapidly absorb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nal elimination is slow.  It can take up to six hours eliminate this lo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nothing happened then this absorbed load would cause Plasma [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 to rise by ~ 2-5mmol which is potentially leth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ffering of the load occurs by increased intracellular uptake via 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mp into Skeletal Muscle, Liver, Bone RBCs etc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 of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rom exercising muscle can seriously increase  plasma 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,trained athletes show accelerated uptake after 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2B37-075D-4DC4-98CD-5A9C3F465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excretion of potass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72260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0-95% of Dietary K excreted via the kidne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-10% in Sweat &amp; Feces (This is unregulated and may become significant in diarrhe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normal individual intake is matched by excretion and potassium balance is maintain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tered load of potassium ~ 720 mmol/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lk absorbed by proximal tubule and loop of Hen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72A4-A0B1-46FD-A427-CFB3AD37A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558040" cy="5639040"/>
          </a:xfrm>
          <a:prstGeom prst="rect">
            <a:avLst/>
          </a:prstGeom>
          <a:ln w="0">
            <a:noFill/>
          </a:ln>
        </p:spPr>
      </p:pic>
      <p:sp>
        <p:nvSpPr>
          <p:cNvPr id="91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AAE4-8148-4FA5-8D94-23666DE09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986120" y="609480"/>
            <a:ext cx="5557680" cy="563904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DE2B-1087-4361-89EE-194AABFC0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46784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nal K</a:t>
            </a:r>
            <a:r>
              <a:rPr b="1" lang="en-GB" sz="3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Transport mechanis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ell membrane transpor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 ATPase, H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 ATP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K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channels,  K:Cl cotrans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Na:K:2Cl cotrans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is Reabsorbed in PT, TAL &amp; intercalated cell in C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ecreted in late distal tubule and in principal cells of late DT &amp; C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69B4-7F8F-4A10-AFB5-396DB5D88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2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2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7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rcRect l="0" t="0" r="47118" b="8052"/>
          <a:stretch/>
        </p:blipFill>
        <p:spPr>
          <a:xfrm>
            <a:off x="1244520" y="2246400"/>
            <a:ext cx="6680160" cy="400212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ECE0-EE51-45E4-ADBB-0A1793362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09480" y="685800"/>
            <a:ext cx="7925040" cy="1447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3300"/>
                </a:solidFill>
                <a:latin typeface="Arial"/>
              </a:rPr>
              <a:t>Proximal Tubule: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s absorbed by intercellular solvent drag whereby fluid movement driven by Na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bsorption entrains K</a:t>
            </a:r>
            <a:r>
              <a:rPr b="0" lang="en-GB" sz="2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rcRect l="48079" t="0" r="0" b="8372"/>
          <a:stretch/>
        </p:blipFill>
        <p:spPr>
          <a:xfrm>
            <a:off x="1249200" y="2143080"/>
            <a:ext cx="6751800" cy="4105440"/>
          </a:xfrm>
          <a:prstGeom prst="rect">
            <a:avLst/>
          </a:prstGeom>
          <a:ln w="0">
            <a:noFill/>
          </a:ln>
        </p:spPr>
      </p:pic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BFE5-8FCD-4899-97A1-2F78CFBDE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838080" y="685800"/>
            <a:ext cx="746784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TAL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:K:2Cl in lumina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:Cl co-transport in baso-latera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rcRect l="0" t="0" r="42858" b="6292"/>
          <a:stretch/>
        </p:blipFill>
        <p:spPr>
          <a:xfrm>
            <a:off x="838080" y="1844640"/>
            <a:ext cx="7467840" cy="447984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6F94-3F70-4412-8655-D6F92B30B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838080" y="609480"/>
            <a:ext cx="746784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reabsorption is by the intercalated cells via a luminal H-K ATPa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76201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040" y="228564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ubular secretion with PAH transport and K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scribe the characteristic of loop of Henle, distal convoluted tubule and collecting ducts for reabsorption and secr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the site and describe the influence of aldosterone on reabsorption of Na+ in the late distal tubu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8ADD-3426-47B6-9F13-286E0B823C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rcRect l="54288" t="0" r="0" b="13623"/>
          <a:stretch/>
        </p:blipFill>
        <p:spPr>
          <a:xfrm>
            <a:off x="1523880" y="2085840"/>
            <a:ext cx="6019920" cy="4162680"/>
          </a:xfrm>
          <a:prstGeom prst="rect">
            <a:avLst/>
          </a:prstGeom>
          <a:ln w="0">
            <a:noFill/>
          </a:ln>
        </p:spPr>
      </p:pic>
      <p:sp>
        <p:nvSpPr>
          <p:cNvPr id="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9537-F3E3-4EEA-B3B5-100BBE3DC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09480" y="609480"/>
            <a:ext cx="7925040" cy="129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D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+ secretion in the principal cells (via luminal K channels and basolateral Na-K ATPase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actors affecting potassium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8745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eritubular fa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yperkalemia: increase K in tubular cells, increase chemical gradient of K between tubular cell and tubular lumen which lead to increase in the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yper-aldosteronism: increase aldosterone increase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kalosis: increase H-K exchange at baso-lateral membrane then increase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5546-42F6-4F86-91E8-735C47A4A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actors affecting potassium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8745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uminal fact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uresis: increase volume of urine and decrease conc of K in lumen which causes secretion via chemical gradient. (increase secretion and excre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d urinary excretion of Na: increase in Na-K exchange at luminal membrane causes an increase in secretion and excretion of 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creased urinary excretion of bicarbonate, phosphate, sulphate and ketone acids: increase negativeness of lumen then increase electrochemical gradient between cell and lumen causes secretion and excretion of K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930A-979C-4623-B473-5F7F2A6DD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Cl Transport along the Neph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rcRect l="4169" t="0" r="5559" b="53809"/>
          <a:stretch/>
        </p:blipFill>
        <p:spPr>
          <a:xfrm>
            <a:off x="609480" y="2163600"/>
            <a:ext cx="7925040" cy="1570320"/>
          </a:xfrm>
          <a:prstGeom prst="rect">
            <a:avLst/>
          </a:prstGeom>
          <a:ln w="0">
            <a:noFill/>
          </a:ln>
        </p:spPr>
      </p:pic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A0E8-DF8E-47F3-A7F9-26B0835DC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2"/>
          <a:srcRect l="4169" t="45235" r="5559" b="40369"/>
          <a:stretch/>
        </p:blipFill>
        <p:spPr>
          <a:xfrm>
            <a:off x="609480" y="3700440"/>
            <a:ext cx="7925040" cy="490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rcRect l="4169" t="58674" r="5559" b="26913"/>
          <a:stretch/>
        </p:blipFill>
        <p:spPr>
          <a:xfrm>
            <a:off x="609480" y="4157640"/>
            <a:ext cx="7925040" cy="490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4"/>
          <a:srcRect l="4169" t="72131" r="5559" b="0"/>
          <a:stretch/>
        </p:blipFill>
        <p:spPr>
          <a:xfrm>
            <a:off x="609480" y="4614840"/>
            <a:ext cx="7925040" cy="947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391520" cy="1067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Transport along the Neph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6124" t="0" r="8702" b="58875"/>
          <a:stretch/>
        </p:blipFill>
        <p:spPr>
          <a:xfrm>
            <a:off x="609480" y="2438280"/>
            <a:ext cx="7848720" cy="1067040"/>
          </a:xfrm>
          <a:prstGeom prst="rect">
            <a:avLst/>
          </a:prstGeom>
          <a:ln w="0">
            <a:noFill/>
          </a:ln>
        </p:spPr>
      </p:pic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94F9-4E25-4FD2-AEC9-3BE8CD0EC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2"/>
          <a:srcRect l="6124" t="40041" r="8702" b="41240"/>
          <a:stretch/>
        </p:blipFill>
        <p:spPr>
          <a:xfrm>
            <a:off x="609480" y="3476520"/>
            <a:ext cx="7848720" cy="48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3"/>
          <a:srcRect l="6124" t="57999" r="8702" b="29507"/>
          <a:stretch/>
        </p:blipFill>
        <p:spPr>
          <a:xfrm>
            <a:off x="609480" y="3941640"/>
            <a:ext cx="7848720" cy="325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4"/>
          <a:srcRect l="6124" t="68972" r="8702" b="10212"/>
          <a:stretch/>
        </p:blipFill>
        <p:spPr>
          <a:xfrm>
            <a:off x="609480" y="4227480"/>
            <a:ext cx="7848720" cy="539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8625-29B7-49FC-9535-7F33B2C79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152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p of Hen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NaCl, K+ absorbed as well as C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s in thick ascending limb (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ermeable to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% water absorbed in thin descending li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eable to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19-1j"/>
          <p:cNvPicPr/>
          <p:nvPr/>
        </p:nvPicPr>
        <p:blipFill>
          <a:blip r:embed="rId1"/>
          <a:stretch/>
        </p:blipFill>
        <p:spPr>
          <a:xfrm>
            <a:off x="6019920" y="2209680"/>
            <a:ext cx="2367000" cy="335304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0F0C-D6BC-4F00-8BF5-5695646FF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2388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p of Hen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e absorption (TAL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sv-SE" sz="2200" spc="-1" strike="noStrike">
                <a:solidFill>
                  <a:srgbClr val="ff3300"/>
                </a:solidFill>
                <a:latin typeface="Arial"/>
              </a:rPr>
              <a:t>Transcellular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 (50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a) Na+/2Cl-/K+ cotransporter/ sympo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b) N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i) Na+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v-SE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) H+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i) HCO3-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547F-22D6-444F-8619-72BA5B49D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5334120" cy="3733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0866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p of Hen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6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Paracellul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5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ss of NaCl in 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itive charge compared to blood drives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ADC9-952E-4A6D-903E-D741AC561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41334" r="0" b="6666"/>
          <a:stretch/>
        </p:blipFill>
        <p:spPr>
          <a:xfrm>
            <a:off x="3200400" y="2209680"/>
            <a:ext cx="5334120" cy="3273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467840" cy="129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istal convoluted tubule (DCT) &amp; collecting duct (C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2895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7% Na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 – 15 % water reabsorbed (needs ADH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me K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ecreted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tub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Early DCT</a:t>
            </a: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bsorbs Na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, Cl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and Ca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(impermeable to w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2F01-4A5C-43AE-B938-5FDB9EF70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3429000" y="2209680"/>
            <a:ext cx="5105520" cy="3610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75438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istal convoluted tubule (DCT) &amp; collecting duct (C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55760"/>
            <a:ext cx="777240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Late DCT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cell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) principle cells: reabsorb N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water, secrete 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) intercalated cells: secrete or reabsorb H+ (inverse for HCO3-), reabsorb 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ffuses via selective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ecreted down concen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C3B0-2986-473D-9F2A-F7E6A2946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2590920" y="609480"/>
            <a:ext cx="4195800" cy="571500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39E1-38DD-4D10-8F7E-35112C8D0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639360"/>
            <a:ext cx="7620120" cy="80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actors affecting Na reabsor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09480" y="1493640"/>
            <a:ext cx="7848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FR: when increased causes an increase in filtration of Na which sensitise the macula den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doster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strogen: Increase reabsorption of Na and decrease Na excre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atriuretic horm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Osmotic diuresis (Increase Glucose, Mannitol and Urea) increase their conc. In the filtered load then causes a decrease in water reabsorption and Na (the solution should be iso-osmotic in PC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uretic Drugs (Lasi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orly reabsorbed anions causes retension of equal amount of 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37A8-8E68-485F-8F10-271340B0B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hmad Ahmeda</cp:lastModifiedBy>
  <dcterms:modified xsi:type="dcterms:W3CDTF">2015-05-05T00:27:45Z</dcterms:modified>
  <cp:revision>2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