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64FD-321D-4A3C-AE91-93D9035D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n future, adding a picture for monkey with bananas to say what happen when we eat to much bana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8094-4378-4334-9023-158C0ECB03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671-DE9D-4466-A99D-16FCBF76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170-9F28-4DF1-87AB-7861CB2B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B61-EA08-4418-AC57-D06C1728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B5C-2296-4CD3-AD5E-B7376E4D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F32-8A28-4E68-B141-36C7D09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24A-DA58-4311-B02D-4AE140F5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AF6-5B8A-4AF4-98EB-9961AB62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3BD-FFA9-46E4-86BA-1E941229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C5E-BD82-499C-9FD3-CB0C211B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A12-4DC0-464A-BA89-C7A59424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639-CB7E-44EE-97A2-AD208A5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9FA-3F25-4844-9A3B-640E5A74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6DCE-1972-4A0F-A0C8-09175A4AB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8756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58C3-4564-44D1-A0C4-7418203BD5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103480"/>
            <a:ext cx="7162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bundant cation in the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500-4,000 mmol in bl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8 % is intracellular, [150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tes intracellular function such as Cell volume,  Acid/base status, cell growth &amp;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% K extra-cellular [3.5-5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gulates membrane potentials in excitable cells and diffusion potentials in transporting epithel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968C-E07A-4E17-B9A8-443236542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-120 mmo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damage leading to cell lysis increases plasma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nd total body potassium are tightly reg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total body potass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8811-BF4C-49F3-B0B7-EE3F1D0CB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4674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potassium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7925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assium content of average meal is 30-40mmol. This is rapidly absor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elimination is slow.  It can take up to six hours eliminate this 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nothing happened then this absorbed load would cause Plasma 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to rise by ~ 2-5mmol which is potentially leth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ffering of the load occurs by increased intracellular uptake via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mp into Skeletal Muscle, Liver, Bone RBCs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exercising muscle can seriously increase  plasma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,trained athletes show accelerated uptake after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8F6B-7544-46A5-80F0-91F2F9A7D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-95% of Dietary K excreted via the kidn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-10% in Sweat &amp; Feces (This is unregulated and may become significant in diarrhe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normal individual intake is matched by excretion and potassium balance is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ed load of potassium ~ 720 mmol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lk absorbed by proximal tubule and loop of Hen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AA9E-CBCF-451F-9596-DD4291C8A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558040" cy="563904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F7D0-1231-4407-A3AB-08941E1C5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986120" y="609480"/>
            <a:ext cx="5557680" cy="563904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DD8D-4506-48CC-ACED-BE53DAE0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46784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Transport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l membrane transpo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hannels,  K: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:K:2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Reabsorbed in PT, TAL &amp; intercalated cell in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in late distal tubule and in principal cells of late DT &amp;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428E-E165-415B-A739-70DCC80EC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0" t="0" r="47118" b="8052"/>
          <a:stretch/>
        </p:blipFill>
        <p:spPr>
          <a:xfrm>
            <a:off x="1244520" y="2246400"/>
            <a:ext cx="6680160" cy="400212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307E-A2A6-4A62-A2F1-9675C654F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Arial"/>
              </a:rPr>
              <a:t>Proximal Tubule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absorbed by intercellular solvent drag whereby fluid movement driven by 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bsorption entrains 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48079" t="0" r="0" b="8372"/>
          <a:stretch/>
        </p:blipFill>
        <p:spPr>
          <a:xfrm>
            <a:off x="1249200" y="2143080"/>
            <a:ext cx="6751800" cy="41054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6C3D-6501-4A5A-898E-EF7F15639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38080" y="685800"/>
            <a:ext cx="746784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AL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:K:2Cl in lumin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:Cl co-transport in baso-later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rcRect l="0" t="0" r="42858" b="6292"/>
          <a:stretch/>
        </p:blipFill>
        <p:spPr>
          <a:xfrm>
            <a:off x="838080" y="1844640"/>
            <a:ext cx="7467840" cy="44798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A240-8E97-4310-8A17-10574591C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38080" y="609480"/>
            <a:ext cx="7467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reabsorption is by the intercalated cells via a luminal H-K ATPa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04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ubular secretion with PAH transport and K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characteristic of loop of Henle, distal convoluted tubule and collecting ducts for reabsorption and se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629D-8AD9-4D8D-AAAF-6D92FA2878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rcRect l="54288" t="0" r="0" b="13623"/>
          <a:stretch/>
        </p:blipFill>
        <p:spPr>
          <a:xfrm>
            <a:off x="1523880" y="2085840"/>
            <a:ext cx="6019920" cy="416268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7A8E-2037-4945-9F89-E14E2382F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09480" y="609480"/>
            <a:ext cx="7925040" cy="12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secretion in the principal cells (via luminal K channels and basolateral Na-K ATPase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eritubular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kalemia: increase K in tubular cells, increase chemical gradient of K between tubular cell and tubular lumen which lead to increase in th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-aldosteronism: increase aldosterone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kalosis: increase H-K exchange at baso-lateral membrane then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A945-DFB4-40D3-A0E8-6AA837471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minal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sis: increase volume of urine and decrease conc of K in lumen which causes secretion via chemical gradient. (increase secretion and excre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Na: increase in Na-K exchange at luminal membrane causes an increase in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bicarbonate, phosphate, sulphate and ketone acids: increase negativeness of lumen then increase electrochemical gradient between cell and lumen causes secretion and excretion of K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4917-84F6-4CAA-A3AE-77E4AA82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Cl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4169" t="0" r="5559" b="53809"/>
          <a:stretch/>
        </p:blipFill>
        <p:spPr>
          <a:xfrm>
            <a:off x="609480" y="2163600"/>
            <a:ext cx="7925040" cy="157032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6F8D-82AB-4A08-8B0D-405069004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rcRect l="4169" t="45235" r="5559" b="40369"/>
          <a:stretch/>
        </p:blipFill>
        <p:spPr>
          <a:xfrm>
            <a:off x="609480" y="37004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rcRect l="4169" t="58674" r="5559" b="26913"/>
          <a:stretch/>
        </p:blipFill>
        <p:spPr>
          <a:xfrm>
            <a:off x="609480" y="41576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rcRect l="4169" t="72131" r="5559" b="0"/>
          <a:stretch/>
        </p:blipFill>
        <p:spPr>
          <a:xfrm>
            <a:off x="609480" y="4614840"/>
            <a:ext cx="7925040" cy="94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39152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6124" t="0" r="8702" b="58875"/>
          <a:stretch/>
        </p:blipFill>
        <p:spPr>
          <a:xfrm>
            <a:off x="609480" y="2438280"/>
            <a:ext cx="7848720" cy="106704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192-D2A9-43B1-8F2B-6AEDBD11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rcRect l="6124" t="40041" r="8702" b="41240"/>
          <a:stretch/>
        </p:blipFill>
        <p:spPr>
          <a:xfrm>
            <a:off x="609480" y="3476520"/>
            <a:ext cx="7848720" cy="4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rcRect l="6124" t="57999" r="8702" b="29507"/>
          <a:stretch/>
        </p:blipFill>
        <p:spPr>
          <a:xfrm>
            <a:off x="609480" y="3941640"/>
            <a:ext cx="7848720" cy="32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4"/>
          <a:srcRect l="6124" t="68972" r="8702" b="10212"/>
          <a:stretch/>
        </p:blipFill>
        <p:spPr>
          <a:xfrm>
            <a:off x="609480" y="4227480"/>
            <a:ext cx="7848720" cy="53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43A8-D9EF-48F7-BD51-004272773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NaCl, K+ absorbed as well as C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hick ascending limb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meable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water absorbed in thin descending li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eable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9-1j"/>
          <p:cNvPicPr/>
          <p:nvPr/>
        </p:nvPicPr>
        <p:blipFill>
          <a:blip r:embed="rId1"/>
          <a:stretch/>
        </p:blipFill>
        <p:spPr>
          <a:xfrm>
            <a:off x="6019920" y="2209680"/>
            <a:ext cx="2367000" cy="335304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1DCE-E128-4ED4-AC22-1C8BDCA8C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e absorption (T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sv-SE" sz="2200" spc="-1" strike="noStrike">
                <a:solidFill>
                  <a:srgbClr val="ff3300"/>
                </a:solidFill>
                <a:latin typeface="Arial"/>
              </a:rPr>
              <a:t>Transcellular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a) Na+/2Cl-/K+ cotransporter/ sympo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b) N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) Na+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H+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HCO3-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C71E-919B-4993-B745-8B18B8E7B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334120" cy="3733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racellul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NaCl in 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charge compared to blood drives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F412-86B4-4F55-AEA1-F205DBDB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41334" r="0" b="6666"/>
          <a:stretch/>
        </p:blipFill>
        <p:spPr>
          <a:xfrm>
            <a:off x="3200400" y="2209680"/>
            <a:ext cx="5334120" cy="3273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28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% Na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– 15 % water reabsorbed (needs AD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ub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arly DCT</a:t>
            </a: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bsorbs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C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impermeable to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6AAC-49A2-409A-B982-D29BED63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105520" cy="361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55760"/>
            <a:ext cx="77724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Late DCT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cell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principle cells: reabsorb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ater, secrete 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intercalated cells: secrete or reabsorb H+ (inverse for HCO3-), reabsorb 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ffuses via selective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creted down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9EE-C0A7-4F12-AA4B-C98ABCC92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19580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9DA0-2410-40BD-BDBB-0FE75EF3D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39360"/>
            <a:ext cx="762012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N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480" y="1493640"/>
            <a:ext cx="7848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FR: when increased causes an increase in filtration of Na which sensitise the macula den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rogen: Increase reabsorption of Na and decrease Na excr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triuretic horm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smotic diuresis (Increase Glucose, Mannitol and Urea) increase their conc. In the filtered load then causes a decrease in water reabsorption and Na (the solution should be iso-osmotic in PC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tic Drugs (Lasi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orly reabsorbed anions causes retension of equal amount of 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CB9C-7A2C-4C7D-BF3E-27725A414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5-05-05T00:27:45Z</dcterms:modified>
  <cp:revision>2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