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wmf" ContentType="image/x-wmf"/>
  <Override PartName="/ppt/media/image3.jpeg" ContentType="image/jpeg"/>
  <Override PartName="/ppt/media/image4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jpeg" ContentType="image/jpe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3C5C1-FC58-4B29-A60A-F6454AE87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111EA-3549-4699-B75E-24AE2E176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8D9B8-E692-40E8-9A2B-58E0BA480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24764-CF83-4A32-A5F9-8AF83EF7E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BBC1B-A358-44CB-906E-3F23BFCCB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60A18-7A41-4717-8560-1E8BA7863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15DCE-D2A9-4130-A7CB-1B3DAC6AA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1AAC7-5540-4279-B57C-D7DDB35FF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8A9D8-42D6-41E9-A078-CA27D955E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2F0E0-DA13-4753-AEB4-3D97A5C1C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3ED86-0253-4B2F-B30F-D04D32BB0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2A644-0B19-4398-B58D-69DC7AED1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C9A9F-F874-455F-BBDC-2E06921271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aahmeda@ksu.edu.sa" TargetMode="Externa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858960" y="1171440"/>
            <a:ext cx="7446960" cy="1256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0066"/>
                </a:solidFill>
                <a:latin typeface="Arial"/>
              </a:rPr>
              <a:t>(Renal Physiology 7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nal Regulation of Body Flu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2457720" y="3505320"/>
            <a:ext cx="3617280" cy="13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"/>
                <a:ea typeface="MS PGothic"/>
              </a:rPr>
              <a:t>Ahmad Ahme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"/>
                <a:ea typeface="MS PGothic"/>
              </a:rPr>
              <a:t>  </a:t>
            </a:r>
            <a:r>
              <a:rPr b="0" lang="en-IE" sz="2400" spc="-1" strike="noStrike" u="sng">
                <a:solidFill>
                  <a:srgbClr val="009999"/>
                </a:solidFill>
                <a:uFillTx/>
                <a:latin typeface="Arial"/>
                <a:ea typeface="MS PGothic"/>
                <a:hlinkClick r:id="rId1"/>
              </a:rPr>
              <a:t>aahmeda@ksu.edu.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"/>
                <a:ea typeface="MS PGothic"/>
              </a:rPr>
              <a:t>Cell phone: 053631345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8A1E4-0138-4623-82C8-447F7BFFEA3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1760" y="685440"/>
            <a:ext cx="7543800" cy="1066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0000"/>
                </a:solidFill>
                <a:latin typeface="Arial"/>
              </a:rPr>
              <a:t>Control of circulating volu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) Hormona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Renin-angiotensin-aldosterone system (</a:t>
            </a:r>
            <a:r>
              <a:rPr b="0" lang="sv-SE" sz="20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 pressure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nin secreted, b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) Sympathetic stim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) 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perfusion press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) 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Na+ reaching </a:t>
            </a: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macula den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giotensin II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) aldosterone release by adrenal cort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sv-SE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 reabsorption in TAL, DT, C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i) Vasoconstri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ii) ADH rel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v) 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Na</a:t>
            </a:r>
            <a:r>
              <a:rPr b="0" lang="en-GB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reabsorption in P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40158-1F77-4236-A694-42D71BB7CD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2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5" dur="5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8" dur="5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1" dur="5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4" dur="500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7" dur="500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2" dur="500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5" dur="500"/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8" dur="500"/>
                                        <p:tgtEl>
                                          <p:spTgt spid="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1" dur="500"/>
                                        <p:tgtEl>
                                          <p:spTgt spid="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4" dur="500"/>
                                        <p:tgtEl>
                                          <p:spTgt spid="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7" dur="500"/>
                                        <p:tgtEl>
                                          <p:spTgt spid="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1066680" y="914040"/>
            <a:ext cx="69343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2) ANP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From 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atrial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myocy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Released by stretch of atrium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NaCl &amp; water excre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ntagonist of renin-angiotensin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) vasodilation of afferent arteriole,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vasoconstriction of effer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.e. </a:t>
            </a:r>
            <a:r>
              <a:rPr b="0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GF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i) </a:t>
            </a:r>
            <a:r>
              <a:rPr b="0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renin rele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ii) direct </a:t>
            </a:r>
            <a:r>
              <a:rPr b="0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aldosterone rele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v) </a:t>
            </a:r>
            <a:r>
              <a:rPr b="0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Na</a:t>
            </a:r>
            <a:r>
              <a:rPr b="0" lang="en-GB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reabsorption in C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v) </a:t>
            </a:r>
            <a:r>
              <a:rPr b="0" lang="en-GB" sz="22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ADH rele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37FDE-7364-485C-BC8F-68B57AB5CE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4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7" dur="5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0" dur="5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3" dur="500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8" dur="500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41" dur="500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44" dur="500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47" dur="500"/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0" dur="500"/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3" dur="500"/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6" dur="500"/>
                                        <p:tgtEl>
                                          <p:spTgt spid="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1760" y="609480"/>
            <a:ext cx="7467480" cy="10670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0000"/>
                </a:solidFill>
                <a:latin typeface="Arial"/>
              </a:rPr>
              <a:t>Regulation of volume &amp; osmola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water intake </a:t>
            </a:r>
            <a:r>
              <a:rPr b="0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hypoosmotic urin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dilute (~ 50 mOsm/kg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large volume (up to 18 L/d!!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water intake </a:t>
            </a:r>
            <a:r>
              <a:rPr b="0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hyperosmotic urin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concentrated (up to 1200 mOsm/kg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mall volume (0.5 L/d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Renal water excretion mechanism(s) independent of solute excretion mechanism(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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allows water balance maintenance without damaging solute homeostasis (e.g. Na+, K+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F3E3D-22FC-44F2-B9F1-596FF9BD35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3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6" dur="5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9" dur="5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4" dur="5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7" dur="5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80" dur="500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83" dur="500"/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86" dur="500"/>
                                        <p:tgtEl>
                                          <p:spTgt spid="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39152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0000"/>
                </a:solidFill>
                <a:latin typeface="Arial"/>
              </a:rPr>
              <a:t>Antidiuretic hormone (ADH)/Vasopress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51055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t is synthesized in neuroendocrine cells located within the supraoptic and paraventricular nuclei of the hypothalamu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synthesized hormone is packaged in granules that are transported down the axon of the cell and stored in nerve terminals located in the neurohypophysis (posterior pituitary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03661-36A0-4B1B-B84C-6C3C547EA9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3"/>
          <p:cNvSpPr/>
          <p:nvPr/>
        </p:nvSpPr>
        <p:spPr>
          <a:xfrm>
            <a:off x="5715000" y="2133720"/>
            <a:ext cx="26668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prevents water lo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small protein hormone (only 9 amino acid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fast acting, short half life in circul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thir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93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98" dur="5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03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08" dur="50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13" dur="5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18" dur="500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746784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0000"/>
                </a:solidFill>
                <a:latin typeface="Arial"/>
              </a:rPr>
              <a:t>Antidiuretic hormone (ADH)/Vasopress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90720" y="2057400"/>
            <a:ext cx="73152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Factors influencing relea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1) Osmolali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2) Haemodynamic facto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3) Nausea → stimul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4) Atrial natriuretic peptide (ANP) → inhib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5) Angiotensin II → stimul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5"/>
          <p:cNvSpPr/>
          <p:nvPr/>
        </p:nvSpPr>
        <p:spPr>
          <a:xfrm>
            <a:off x="4952880" y="2895480"/>
            <a:ext cx="114480" cy="669960"/>
          </a:xfrm>
          <a:custGeom>
            <a:avLst/>
            <a:gdLst>
              <a:gd name="textAreaLeft" fmla="*/ 0 w 114480"/>
              <a:gd name="textAreaRight" fmla="*/ 41400 w 114480"/>
              <a:gd name="textAreaTop" fmla="*/ 13680 h 669960"/>
              <a:gd name="textAreaBottom" fmla="*/ 656280 h 669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717"/>
                  <a:pt x="10800" y="1433"/>
                </a:cubicBezTo>
                <a:lnTo>
                  <a:pt x="10800" y="9367"/>
                </a:lnTo>
                <a:cubicBezTo>
                  <a:pt x="10800" y="10084"/>
                  <a:pt x="16200" y="10800"/>
                  <a:pt x="21600" y="10800"/>
                </a:cubicBezTo>
                <a:cubicBezTo>
                  <a:pt x="16200" y="10800"/>
                  <a:pt x="10800" y="11517"/>
                  <a:pt x="10800" y="12233"/>
                </a:cubicBezTo>
                <a:lnTo>
                  <a:pt x="10800" y="20167"/>
                </a:lnTo>
                <a:cubicBezTo>
                  <a:pt x="10800" y="20884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5257800" y="2743200"/>
            <a:ext cx="2895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Main physiological fa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26DA3-30DB-4168-B0B5-1380A55945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25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28" dur="5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31" dur="5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3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3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4" dur="500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9" dur="500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4" dur="500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4" descr=""/>
          <p:cNvPicPr/>
          <p:nvPr/>
        </p:nvPicPr>
        <p:blipFill>
          <a:blip r:embed="rId1"/>
          <a:stretch/>
        </p:blipFill>
        <p:spPr>
          <a:xfrm>
            <a:off x="762120" y="585720"/>
            <a:ext cx="7619760" cy="5686560"/>
          </a:xfrm>
          <a:prstGeom prst="rect">
            <a:avLst/>
          </a:prstGeom>
          <a:ln w="0">
            <a:noFill/>
          </a:ln>
        </p:spPr>
      </p:pic>
      <p:sp>
        <p:nvSpPr>
          <p:cNvPr id="88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2C798-8BD5-4BF5-9C63-DEFA54EAE2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685800" y="685800"/>
            <a:ext cx="784872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rough estimate of ECF osmolality can be obtained by doubling Plasma sodium concent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45mEq/l X 2 = 290 (Normal 285-295 mOsm/kg H2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∴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dium concentration gives best estimate of effective osmolality of ECF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clinical situations glucose &amp; urea concentrations (mmols) are also taken into account, useful in cases of patients with diabetes mellitus or chronic renal fail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ither glucose or urea are “effective osmoles” i.e. they do not shift fluid between ECF &amp; ICF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non-absorbed glucose in kidney tubule can however prevent fluid absorption generating an osmotic diuresi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3312B-5592-4E1E-BEBA-D85EBB94D1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1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6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71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76" dur="5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81" dur="50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86" dur="500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6680" y="685440"/>
            <a:ext cx="701064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0000"/>
                </a:solidFill>
                <a:latin typeface="Arial"/>
              </a:rPr>
              <a:t>Osmola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61760" y="2179800"/>
            <a:ext cx="3809880" cy="345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Osmoreceptors in hypothalamus, outside blood-brain barri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osmolality </a:t>
            </a:r>
            <a:r>
              <a:rPr b="0" lang="en-IE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 ADH rele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set point” ~ 280 – 285 mOsm/kg H2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"/>
          <p:cNvPicPr/>
          <p:nvPr/>
        </p:nvPicPr>
        <p:blipFill>
          <a:blip r:embed="rId1"/>
          <a:srcRect l="19012" t="0" r="20947" b="70576"/>
          <a:stretch/>
        </p:blipFill>
        <p:spPr>
          <a:xfrm>
            <a:off x="4419720" y="2220840"/>
            <a:ext cx="4114800" cy="3417840"/>
          </a:xfrm>
          <a:prstGeom prst="rect">
            <a:avLst/>
          </a:prstGeom>
          <a:ln w="0">
            <a:noFill/>
          </a:ln>
        </p:spPr>
      </p:pic>
      <p:sp>
        <p:nvSpPr>
          <p:cNvPr id="94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90DE7-CD0C-41A0-AC1A-766E50111F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93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98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6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62120" y="685800"/>
            <a:ext cx="4114800" cy="990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0000"/>
                </a:solidFill>
                <a:latin typeface="Arial"/>
              </a:rPr>
              <a:t>Blood volu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44197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blood volume </a:t>
            </a:r>
            <a:r>
              <a:rPr b="0" lang="en-IE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 ADH rele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less sensitive than osmol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need 5 – 10% </a:t>
            </a:r>
            <a:r>
              <a:rPr b="0" lang="en-IE" sz="24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 blood volu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As would be expected changes in blood volume affect osmol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volume/BP </a:t>
            </a:r>
            <a:r>
              <a:rPr b="0" lang="en-IE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24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 set point steeper cur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"/>
          <p:cNvPicPr/>
          <p:nvPr/>
        </p:nvPicPr>
        <p:blipFill>
          <a:blip r:embed="rId1"/>
          <a:srcRect l="19012" t="31716" r="20947" b="4284"/>
          <a:stretch/>
        </p:blipFill>
        <p:spPr>
          <a:xfrm>
            <a:off x="5183280" y="609480"/>
            <a:ext cx="3122640" cy="5639040"/>
          </a:xfrm>
          <a:prstGeom prst="rect">
            <a:avLst/>
          </a:prstGeom>
          <a:ln w="0">
            <a:noFill/>
          </a:ln>
        </p:spPr>
      </p:pic>
      <p:sp>
        <p:nvSpPr>
          <p:cNvPr id="98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55D72-7CF0-4B22-BE54-F50FB3587A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13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1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21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26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31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36" dur="5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315200" cy="1066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0000"/>
                </a:solidFill>
                <a:latin typeface="Arial"/>
              </a:rPr>
              <a:t>ADH renal targ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61976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Collecting duct cells only permeable to water in presence of AD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ADH causes </a:t>
            </a:r>
            <a:r>
              <a:rPr b="0" lang="en-IE" sz="24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 in </a:t>
            </a:r>
            <a:r>
              <a:rPr b="1" lang="en-IE" sz="2400" spc="-1" strike="noStrike">
                <a:solidFill>
                  <a:srgbClr val="000000"/>
                </a:solidFill>
                <a:latin typeface="Arial"/>
              </a:rPr>
              <a:t>urea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 permeability in inner medullary C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ADH stimulates reabsorption of NaCl by the thick ascending limb of Henle’s loop and by the DCT and cortical segment of C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BAEF5-B713-4AE8-A180-54928D5C70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43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48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53" dur="5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7720" y="685440"/>
            <a:ext cx="762012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earning Objectiv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914040" y="2133360"/>
            <a:ext cx="71629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dentify and describe the role of the Sensors and Effectors in the renal regulation of body fluid volume &amp; osmolality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scribe the role of the kidney in regulation of body fluid volume &amp; osmolality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nderstand the role of ADH in the reabsorption of water and ure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dentify the site and describe the influence of aldosterone on reabsorption of Na+ in the late distal tubul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A77C6-5A98-426D-8274-4991D64E5CF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4" descr=""/>
          <p:cNvPicPr/>
          <p:nvPr/>
        </p:nvPicPr>
        <p:blipFill>
          <a:blip r:embed="rId1"/>
          <a:stretch/>
        </p:blipFill>
        <p:spPr>
          <a:xfrm>
            <a:off x="1676520" y="609480"/>
            <a:ext cx="5790960" cy="5651640"/>
          </a:xfrm>
          <a:prstGeom prst="rect">
            <a:avLst/>
          </a:prstGeom>
          <a:ln w="0">
            <a:noFill/>
          </a:ln>
        </p:spPr>
      </p:pic>
      <p:sp>
        <p:nvSpPr>
          <p:cNvPr id="103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17817-601F-4367-8C0C-3CC8930F9A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7467840" cy="1066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gulation of Water Inta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120" y="2285640"/>
            <a:ext cx="76964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hypothalamic thirst center is stimulate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a decline in plasma volume of 10%–15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increases in plasma osmolality of 1–2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a baroreceptor input, angiotensin II, and other stimul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9E0A2-5E4B-45EF-BC97-7E84366C29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60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65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70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75" dur="5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1760" y="685440"/>
            <a:ext cx="7543800" cy="1066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gulation of Water Inta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4678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st is quenched as soon as we begin to drink w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edback signals that inhibit the thirst centers includ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istening of the mucosa of the mouth and thro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ation of stomach and intestinal stretch recep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31A10-5C1E-491E-A6FC-F539E88952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82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87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92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97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4" descr=""/>
          <p:cNvPicPr/>
          <p:nvPr/>
        </p:nvPicPr>
        <p:blipFill>
          <a:blip r:embed="rId1"/>
          <a:stretch/>
        </p:blipFill>
        <p:spPr>
          <a:xfrm>
            <a:off x="1841400" y="685800"/>
            <a:ext cx="5092920" cy="5562720"/>
          </a:xfrm>
          <a:prstGeom prst="rect">
            <a:avLst/>
          </a:prstGeom>
          <a:ln w="0">
            <a:noFill/>
          </a:ln>
        </p:spPr>
      </p:pic>
      <p:sp>
        <p:nvSpPr>
          <p:cNvPr id="111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EF96E-BE91-446D-AFAD-597CCF461F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609480"/>
            <a:ext cx="7238880" cy="990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Actions of Angiotensin I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.  Angiotensin II receptors are found on the zona glomerulosa cells of the adrenal cortex.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tivation of these receptors leads to an immediate and rapid increase in aldosterone secre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dosterone acts on the distal tubule and collecting duct to cause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sodium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reten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is likely to be an important mechanism for determining long-term sodium bal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23A69-D3C8-4562-A4D2-5B7F7C228C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04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09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14" dur="5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19" dur="500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685800"/>
            <a:ext cx="7543800" cy="990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Actions of Angiotensin I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62120" y="164628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.   Vascular 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giotensin II is one of the most potent vasoconstrictors know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striction of vascular smooth muscle leads to a prompt rise in blood press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 plays an important role in maintaining vascular tone and blood pressure in volume depleted states, for example haemorrhage and fluid deple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53C46-FD4D-4895-AF68-7FD57E08C4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26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31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36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41" dur="5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WordArt 2"/>
          <p:cNvSpPr txBox="1"/>
          <p:nvPr/>
        </p:nvSpPr>
        <p:spPr>
          <a:xfrm>
            <a:off x="2057400" y="1371600"/>
            <a:ext cx="5486400" cy="380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Thanks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119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15904-8218-4E82-88B2-D336154AFB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"/>
          <p:cNvPicPr/>
          <p:nvPr/>
        </p:nvPicPr>
        <p:blipFill>
          <a:blip r:embed="rId1"/>
          <a:stretch/>
        </p:blipFill>
        <p:spPr>
          <a:xfrm>
            <a:off x="609480" y="2344680"/>
            <a:ext cx="7848720" cy="298944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6"/>
          <p:cNvSpPr/>
          <p:nvPr/>
        </p:nvSpPr>
        <p:spPr>
          <a:xfrm>
            <a:off x="1143000" y="685800"/>
            <a:ext cx="6991200" cy="1189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mposition of the Human Body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4C82F-7D08-471B-940E-A1F572ACA11F}" type="slidenum">
              <a:rPr b="0" lang="fr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2120" y="685440"/>
            <a:ext cx="761976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olute Overview: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Intracellular vs. Extracellul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715680" y="2487240"/>
            <a:ext cx="3322440" cy="37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onic composition very diffe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ionic concentration very simi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osmotic concentrations virtually ident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S02401-025-f002"/>
          <p:cNvPicPr/>
          <p:nvPr/>
        </p:nvPicPr>
        <p:blipFill>
          <a:blip r:embed="rId1"/>
          <a:srcRect l="14625" t="0" r="14614" b="4940"/>
          <a:stretch/>
        </p:blipFill>
        <p:spPr>
          <a:xfrm>
            <a:off x="4713120" y="1954080"/>
            <a:ext cx="3821400" cy="4294440"/>
          </a:xfrm>
          <a:prstGeom prst="rect">
            <a:avLst/>
          </a:prstGeom>
          <a:ln w="0">
            <a:noFill/>
          </a:ln>
        </p:spPr>
      </p:pic>
      <p:sp>
        <p:nvSpPr>
          <p:cNvPr id="53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097D9-2D36-4AC8-A3BD-76CEE23E6D9C}" type="slidenum">
              <a:rPr b="0" lang="fr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1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9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4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84872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600" spc="-1" strike="noStrike">
                <a:solidFill>
                  <a:srgbClr val="000000"/>
                </a:solidFill>
                <a:latin typeface="Arial"/>
              </a:rPr>
              <a:t>The major body fluid compartment and membranes separate th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S02401-025-f001"/>
          <p:cNvPicPr/>
          <p:nvPr/>
        </p:nvPicPr>
        <p:blipFill>
          <a:blip r:embed="rId1"/>
          <a:stretch/>
        </p:blipFill>
        <p:spPr>
          <a:xfrm>
            <a:off x="1708200" y="2052720"/>
            <a:ext cx="5226120" cy="4195800"/>
          </a:xfrm>
          <a:prstGeom prst="rect">
            <a:avLst/>
          </a:prstGeom>
          <a:ln w="0">
            <a:noFill/>
          </a:ln>
        </p:spPr>
      </p:pic>
      <p:sp>
        <p:nvSpPr>
          <p:cNvPr id="5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7604A-26F2-4233-A43F-C15BC463C688}" type="slidenum">
              <a:rPr b="0" lang="fr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61760" y="685440"/>
            <a:ext cx="7543800" cy="1066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0000"/>
                </a:solidFill>
                <a:latin typeface="Arial"/>
              </a:rPr>
              <a:t>Regulation of volume &amp; osmola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38080" y="1980720"/>
            <a:ext cx="73152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Body water balance must be maintain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Kidneys concentrate or dilute urin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 remain properly hydrated, water intake must equal water outpu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creases in plasma osmolality trigger thirst and release of antidiuretic hormone (ADH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63707-0257-4692-A7C3-20CEE6FF2D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8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3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8" dur="5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3" dur="500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467840" cy="884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ater Steady Stat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609120" y="2133720"/>
            <a:ext cx="312444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cc351c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mount ingested = amount eliminat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351c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athological  losse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scular blee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omit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arrhe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EA878-ECC5-4632-854D-C97AA492FA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"/>
          <p:cNvPicPr/>
          <p:nvPr/>
        </p:nvPicPr>
        <p:blipFill>
          <a:blip r:embed="rId1"/>
          <a:srcRect l="15894" t="0" r="18336" b="3166"/>
          <a:stretch/>
        </p:blipFill>
        <p:spPr>
          <a:xfrm>
            <a:off x="4114800" y="1525680"/>
            <a:ext cx="4272120" cy="471492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720" y="685440"/>
            <a:ext cx="7238880" cy="1066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0000"/>
                </a:solidFill>
                <a:latin typeface="Arial"/>
              </a:rPr>
              <a:t>Control of circulating volu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All down to Na</a:t>
            </a:r>
            <a:r>
              <a:rPr b="0" lang="en-IE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 balance i.e. absorption &amp; excre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Volume sensors: (Effectively pressure receptor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Vascular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Low pressure sensors: Cardiac atria (ANP), pulmonary vasculatu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igh pressure: carotid sinus, aortic arch and juxtaglomerular apparatus of the kidne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entral nervous syste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epatic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97278-3216-48B4-A2D3-738C1B220B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4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9" dur="5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2" dur="50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5" dur="500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8" dur="500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1" dur="500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4" dur="500"/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1760" y="685440"/>
            <a:ext cx="7543800" cy="1066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0000"/>
                </a:solidFill>
                <a:latin typeface="Arial"/>
              </a:rPr>
              <a:t>Control of circulating volu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2120" y="1752120"/>
            <a:ext cx="761976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-5972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olume sensor signals/Mediator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spcBef>
                <a:spcPts val="550"/>
              </a:spcBef>
              <a:buClr>
                <a:srgbClr val="0000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eural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f pressure ↓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nal sympathetic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) afferent &amp; Efferent arterioles constri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) GRF ↓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i) less Na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filtr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ii) more Na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absorbed by P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) renin releas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) ↑ aldostero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i) ↑ angiotensin I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AFB5A-7E61-44D6-A65D-F0912CBC4E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1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4" dur="5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7" dur="5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2" dur="500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5" dur="500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0" dur="500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3" dur="500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6" dur="500"/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9" dur="500"/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2" dur="500"/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5" dur="500"/>
                                        <p:tgtEl>
                                          <p:spTgt spid="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3422</cp:lastModifiedBy>
  <dcterms:modified xsi:type="dcterms:W3CDTF">2015-05-05T08:23:32Z</dcterms:modified>
  <cp:revision>16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