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7C1-1367-4F33-88EA-F5E7E13D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B92-B12F-4522-A8CD-A6505D99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BF3-8031-4A27-8A64-835FBE66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E09-18DF-4C40-91D2-AA04AE7E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152-614E-4429-B167-161862A8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D24-7FB3-4209-BA1A-F2DFB88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D63-4B89-48D1-B494-1255BF7E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ED0-A7F3-4354-87B1-A00BC5D3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095-B50B-4077-A439-D11E6DD4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FC2-B08F-4C04-92A4-FEB59E5C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773-AEB7-42B8-A0E9-7727B85B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1E7-66CE-4A08-9D03-1833675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E673-D1BA-4A01-B31B-523CD8607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l Regulation of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45772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C3DB-7D67-4B29-B0D8-54231CFE51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Horm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nin-angiotensin-aldosterone system (</a:t>
            </a:r>
            <a:r>
              <a:rPr b="0" lang="sv-SE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pressur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in secreted,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) Sympathetic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fusion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+ reaching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acula d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giotensin 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) aldosterone release by adrenal 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reabsorption in TAL, DT,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) Vasocon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i) ADH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absorption in P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8426-62F7-4BA9-A793-702413587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914040"/>
            <a:ext cx="693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) AN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tri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yoc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leased by stretch of atri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Cl &amp; water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tagonist of renin-angiotens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) vasodilation of afferent arteriole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soconstriction of eff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nin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direc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ldosterone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absorption in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3B20-51E0-48A3-88FB-0661E0FC3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46748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o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dilute (~ 5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arge volume (up to 18 L/d!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er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ncentrated (up to 120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volume (0.5 L/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nal water excretion mechanism(s) independent of solute excretion mechanism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ows water balance maintenance without damaging solute homeostasis (e.g. Na+, K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EC9A-0D3B-4E83-A59E-A8D86F020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synthesized in neuroendocrine cells located within the supraoptic and paraventricular nuclei of the hypothala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nthesized hormone is packaged in granules that are transported down the axon of the cell and stored in nerve terminals located in the neurohypophysis (posterior pituitary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51DE-C424-44CB-8182-673B6BD2D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5000" y="2133720"/>
            <a:ext cx="266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events water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protein hormone (only 9 amino aci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ast acting, short half life in cir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actors influencing 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Haemodynamic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Nausea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Atrial natriuretic peptide (ANP) → inhi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Angiotensin II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952880" y="2895480"/>
            <a:ext cx="114480" cy="669960"/>
          </a:xfrm>
          <a:custGeom>
            <a:avLst/>
            <a:gdLst>
              <a:gd name="textAreaLeft" fmla="*/ 0 w 114480"/>
              <a:gd name="textAreaRight" fmla="*/ 41400 w 114480"/>
              <a:gd name="textAreaTop" fmla="*/ 13680 h 669960"/>
              <a:gd name="textAreaBottom" fmla="*/ 656280 h 66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7"/>
                  <a:pt x="10800" y="1433"/>
                </a:cubicBezTo>
                <a:lnTo>
                  <a:pt x="10800" y="9367"/>
                </a:lnTo>
                <a:cubicBezTo>
                  <a:pt x="10800" y="10084"/>
                  <a:pt x="16200" y="10800"/>
                  <a:pt x="21600" y="10800"/>
                </a:cubicBezTo>
                <a:cubicBezTo>
                  <a:pt x="16200" y="10800"/>
                  <a:pt x="10800" y="11517"/>
                  <a:pt x="10800" y="12233"/>
                </a:cubicBezTo>
                <a:lnTo>
                  <a:pt x="10800" y="20167"/>
                </a:lnTo>
                <a:cubicBezTo>
                  <a:pt x="10800" y="208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257800" y="2743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in physiologic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C808-91BB-4250-AD79-BBC4BD492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0877-2F1E-4E4D-B5BB-F5A8F274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gh estimate of ECF osmolality can be obtained by doubling Plasma sodium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mEq/l X 2 = 290 (Normal 285-295 mOsm/kg H2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concentration gives best estimate of effective osmolality of E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inical situations glucose &amp; urea concentrations (mmols) are also taken into account, useful in cases of patients with diabetes mellitus or chronic renal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glucose or urea are “effective osmoles” i.e. they do not shift fluid between ECF &amp; IC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absorbed glucose in kidney tubule can however prevent fluid absorption generating an osmotic diures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B1AC-9F13-4F18-B3AD-CD7D50012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0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179800"/>
            <a:ext cx="38098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receptors in hypothalamus, outside blood-brain b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lality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t point” ~ 280 – 285 mOsm/kg H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19012" t="0" r="20947" b="70576"/>
          <a:stretch/>
        </p:blipFill>
        <p:spPr>
          <a:xfrm>
            <a:off x="4419720" y="2220840"/>
            <a:ext cx="4114800" cy="341784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A192-D647-4061-B692-6A57E6B2F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4114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Blood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lood volum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ess sensitive than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eed 5 – 10%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loo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 would be expected changes in blood volume affect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olume/BP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t point steeper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19012" t="31716" r="20947" b="4284"/>
          <a:stretch/>
        </p:blipFill>
        <p:spPr>
          <a:xfrm>
            <a:off x="5183280" y="609480"/>
            <a:ext cx="3122640" cy="56390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E49A-D147-47B7-8297-E6228830F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DH re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llecting duct cells only permeable to water in presence of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permeability in inner medullary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stimulates reabsorption of NaCl by the thick ascending limb of Henle’s loop and by the DCT and cortical segment of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CDE8-E22B-478D-A0C8-EA2254408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040" y="21333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role of the Sensors and Effectors in the renal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the kidney in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ole of ADH in the reabsorption of water and u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BDE9-5EBF-41DD-83D4-D1B7456C59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790960" cy="565164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6187-BE7D-4E2A-A565-B514E5FF8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pothalamic thirst center is stimu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 decline in plasma volume of 10%–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creases in plasma osmolality of 1–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 baroreceptor input, angiotensin II, and other stimu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85BE-95E9-4E79-85F8-35285D14F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st is quenched as soon as we begin to drink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signals that inhibit the thirst center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stening of the mucosa of the mouth and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of stomach and intestinal stretch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D453-24FE-49D2-80FA-7F54E909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841400" y="685800"/>
            <a:ext cx="5092920" cy="556272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D7B1-A9E3-46A4-96E2-298861DFD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2388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Angiotensin II receptors are found on the zona glomerulosa cells of the adrenal cortex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ation of these receptors leads to an immediate and rapid increase in aldosterone secr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dosterone acts on the distal tubule and collecting duct to ca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diu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likely to be an important mechanism for determining long-term sodium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9B90-A184-47EB-947D-C9120985A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462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  Vascula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iotensin II is one of the most potent vasoconstrictor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iction of vascular smooth muscle leads to a prompt rise in blood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plays an important role in maintaining vascular tone and blood pressure in volume depleted states, for example haemorrhage and fluid de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BF95-8B24-4349-81B5-C44953051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D467-046F-4B64-A3AE-5F74D7CB7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09480" y="2344680"/>
            <a:ext cx="7848720" cy="2989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1143000" y="685800"/>
            <a:ext cx="6991200" cy="118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mposition of the Human Bo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14B3-12F5-4822-A684-5D4D39A1F06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e Overview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tracellular vs. Extra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5680" y="2487240"/>
            <a:ext cx="3322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02401-025-f002"/>
          <p:cNvPicPr/>
          <p:nvPr/>
        </p:nvPicPr>
        <p:blipFill>
          <a:blip r:embed="rId1"/>
          <a:srcRect l="14625" t="0" r="14614" b="4940"/>
          <a:stretch/>
        </p:blipFill>
        <p:spPr>
          <a:xfrm>
            <a:off x="4713120" y="1954080"/>
            <a:ext cx="3821400" cy="429444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4B83-D6C5-4DA1-846F-9261372D45D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</a:rPr>
              <a:t>The major body fluid compartment and membranes separate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02401-025-f001"/>
          <p:cNvPicPr/>
          <p:nvPr/>
        </p:nvPicPr>
        <p:blipFill>
          <a:blip r:embed="rId1"/>
          <a:stretch/>
        </p:blipFill>
        <p:spPr>
          <a:xfrm>
            <a:off x="1708200" y="2052720"/>
            <a:ext cx="5226120" cy="41958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5609-9748-4603-A720-56E9AC540AF6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ody water balance must be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Kidneys concentrate or dilute ur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main properly hydrated, water intake must equal water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s in plasma osmolality trigger thirst and release of antidiuretic hormone (AD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E8A-C3B3-4B7C-AF20-C826E37BA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8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Steady St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2133720"/>
            <a:ext cx="3124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E8DD-822E-40D7-B90C-A40740DD5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15894" t="0" r="18336" b="3166"/>
          <a:stretch/>
        </p:blipFill>
        <p:spPr>
          <a:xfrm>
            <a:off x="4114800" y="1525680"/>
            <a:ext cx="427212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 down to N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balance i.e. absorption &amp;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olume sensors: (Effectively pressure recep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asc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w pressure sensors: Cardiac atria (ANP), pulmonary vascul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essure: carotid sinus, aortic arch and juxtaglomerular apparatus of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 nervous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pa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E564-A7E8-452A-B558-1AFED7F67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ume sensor signals/Mediat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u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pressure 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sympathe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afferent &amp; Efferent arterioles con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GRF 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less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lt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i) more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sorbed by P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renin rele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↑ aldoster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↑ angiotensin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BD90-79B5-4D9C-9517-2DCA22E75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422</cp:lastModifiedBy>
  <dcterms:modified xsi:type="dcterms:W3CDTF">2015-05-05T08:23:32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