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4F22-074D-49BF-8523-468BF690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2018-6A9B-4B1F-A33C-D7C87F1A7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267-D18E-4400-A4AF-6442C4FD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30C-CDCB-4134-8963-53D455D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2D0-A302-4685-B1BA-E79CCE0C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EB6-1885-4CBE-B87F-E4815F99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BE1-40CE-419E-941B-7F400DF6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2A3-F369-4487-941F-162BC6B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796-CFE1-46B4-9BAC-44C91D6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95F-C757-4D8B-958F-4913884D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589-791E-4370-9CFE-209ADD9F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BF9-8742-45FE-8D11-D22E997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C86-6CAB-45D8-9D0E-410656DD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BC82-F59F-4383-AEC7-CAA2292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19C5-9C8E-43B4-B820-9A2799E4F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31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rine Concentration Mecha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5772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1FF2-75EA-4322-8635-83519812E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) Osmolality of medullary tissue high up to 1200 mOsm/kg water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ue to NaCl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rea (accounts for 6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arly CD impermeable to u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allows water reabsorption pass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398-4757-4C45-B004-2D3C9CEA0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39152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en ADH levels high urea levels in medullary  CD &amp; interstitium equilib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ost water absorbed in presence of ADH is in the cortical collecting 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B47B-3237-4B40-8332-68143D786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760" y="685800"/>
            <a:ext cx="4190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3392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ycles NaCl in medu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s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from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 transpor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aporin proteins 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chann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ending lim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estrated capill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17_17"/>
          <p:cNvPicPr/>
          <p:nvPr/>
        </p:nvPicPr>
        <p:blipFill>
          <a:blip r:embed="rId1"/>
          <a:srcRect l="7500" t="4244" r="7500" b="0"/>
          <a:stretch/>
        </p:blipFill>
        <p:spPr>
          <a:xfrm>
            <a:off x="4267080" y="1933560"/>
            <a:ext cx="4267440" cy="408636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BB8-98FE-45C0-AC15-C9F3CE6D6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Vasa Rect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a recta maintains hypertonicity by countercurrent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and urea diffuse into descending limb and diffuse back into medullary tissue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of the medulla, [solute] is higher in the ascending limb than in the interstitial fluid; and higher in the interstitial fluid than in descending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s are permeable to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NaCl and u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oid osmotic pressure in vasa recta &gt; interstitial flu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5BF8-931E-4D31-BA13-5A5A6217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874520"/>
            <a:ext cx="7620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H: causes an increase in permeability of DCT, CT, and CD for water. It also increase the permeability of medullary CD to u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ngth of the loop of Henle: the longer the loop of Henle, the greater the countercurrent multiplication effect and more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born baby having shorter loop of Henle can not concentrate as same as the adul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BB6-4633-4061-8BD1-2B26C811F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21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salt to ALH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a decrease in GFR (Hemorrhage) the filter load of solute is decre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ads to a decrease in the delivery of salt to ALH resulting in decreased reabsorption of salt from AL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 there is decreased addition of salts to the medullary ISF, leading to decreased medullary longitudinal osmotic gradient and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1D5-5EA1-48E6-8535-034EA25DE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120" y="1951200"/>
            <a:ext cx="769644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bsorption of salt out of ALH: Diuretic drugs (Lasix) prevents NaCl reabsorption from thick ALH, leading to decreased addition of salts to the medullary ISF, decreased medullary longitudinal osmotic gradient and finally decreased urine concentr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 of fluid to medullary CT and C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urine concentration occures when only a small amount of fluid enters the medullary CT and 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14A-9702-4646-AF62-093443A2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1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during an osmotic diuresis, the increased fluid volume delivered to the medullary CT and CD leads to wash out of medullary longitudinal osmotic gradient and cause decreased urine concentr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ullary blood flow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mally very low blood flow (about 5% of total RBF) to the medu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d blood flow to the medulla may cause wash out of the medullary longitudinal osmotic gradient, decreased effectiveness of the countercurrent exchange system and decreased urine concen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FF82-B5B6-4762-93E9-98BC5C5CF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7720" y="2026800"/>
            <a:ext cx="72392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ea recycling contributes significantly to the medullary longitudinal osmotic gradient and is essential for the countercurrent syst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erson on a protein free diet loses the ability to concentrate urine due to lack of urea in the medu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1B97-9571-4B69-ACBC-61D8314FD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7724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 urine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er Diuresis and Osmotic Diu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4823-00AF-4AF3-A9DC-C2CAAE540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828800"/>
            <a:ext cx="7848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at the loop of Henle is referred to as countercurrent multiplier and the loop and vasa recta as countercurrent  exchange systems in concentrating and diluting ur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what happens to osmolarity of tubular fluid in the various segments of the loop of Henle when concentrated urine is being produc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ain the factors that determine the ability of loop of Henle to make a concentrated medullary grad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iate between water diuresis and osmotic diur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e clinical correlates of diabetes mellitus and diabetes insipid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1048-42BE-4A50-AFD2-2E7C50545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ontent Placeholder 4" descr=""/>
          <p:cNvPicPr/>
          <p:nvPr/>
        </p:nvPicPr>
        <p:blipFill>
          <a:blip r:embed="rId1"/>
          <a:stretch/>
        </p:blipFill>
        <p:spPr>
          <a:xfrm>
            <a:off x="749160" y="719280"/>
            <a:ext cx="7645680" cy="1268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7B6-949E-4344-AF5C-ABB71D0A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05A-2273-4709-A206-857DFFC46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743040" y="719280"/>
            <a:ext cx="7657920" cy="53766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EA6F-6179-43C3-A878-B886BCF8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178596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BB4B-532F-4827-86D4-69D7FA90C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248112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D238-60B2-46ED-A350-E0CFE9A13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39686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3C22-89DA-4968-B9AB-B8A31478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ontent Placeholder 4" descr=""/>
          <p:cNvPicPr/>
          <p:nvPr/>
        </p:nvPicPr>
        <p:blipFill>
          <a:blip r:embed="rId1"/>
          <a:stretch/>
        </p:blipFill>
        <p:spPr>
          <a:xfrm>
            <a:off x="669960" y="719280"/>
            <a:ext cx="7804080" cy="54990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E3A-0985-47B7-B89D-0D23B0D3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35200"/>
            <a:ext cx="3581280" cy="30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to produce or release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: low fixed specific gravity (diluted u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u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dip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4720" y="1839600"/>
            <a:ext cx="4041720" cy="90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phrogenic diabetes insipi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76560" y="2711520"/>
            <a:ext cx="3429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: inability of kidney to respond to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specific gravity ur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5848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7AB-7B9B-4AD2-9151-E3CE3E3D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76176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Disorders of urinary concentrating 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AEC2-EA31-443A-AC6B-5CEF8AF34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197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untercurr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1828800"/>
            <a:ext cx="3733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in which inflow runs parallel and in close proximity but opposite to the outf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eration of such a system allows the outgoing fluid to heat the incoming flui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97A-4400-4AA1-81C9-7C3FED5F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30764" t="67276" r="62244" b="9015"/>
          <a:stretch/>
        </p:blipFill>
        <p:spPr>
          <a:xfrm>
            <a:off x="5403960" y="1828800"/>
            <a:ext cx="2174760" cy="4151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Arial"/>
              </a:rPr>
              <a:t>Mechanism for urine concentration/di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loop of Henle reabsorbs another 20% of the salt/water in tubular fluid, primary function is to determine osmolarity of urine (i.e. whether concentrated or diluted)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ountercurrent multiplie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collecting duct is where urine concentration is determined, osmolarity of interstitial fluid in medulla must be high and osmolarity of tubular fluid must b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current multiplier system achiev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84CB-812E-4F59-AF37-5CE55E99E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on (low or no AD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 solute don’t absorb 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) Isoosmotic fluid from P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) Thin descending limb permeable to water, less for N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ater reabsorbed, tubule osomolality = medulla (i.e. hi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BF73-E50A-4FEF-A862-E393F844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381024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3) Thin ascending limb impermeable to water, permeable to NaCl (pass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ubule volume unchanged, [NaCl]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) TAL impermeable to water, NaCl actively reabsorbed (diluting segment of nephr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iluting tubule fluid 15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0C2F-B512-424F-A565-68F3E826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rcRect l="8622" t="1591" r="0" b="55718"/>
          <a:stretch/>
        </p:blipFill>
        <p:spPr>
          <a:xfrm>
            <a:off x="4495680" y="2362320"/>
            <a:ext cx="4038840" cy="2895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dilute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365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) Collecting duct reabsorb NaCl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smolality, may reach 50 mOsm/kg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CDCE-FE9F-4D05-8BEE-0ABFBBDA8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720" y="609120"/>
            <a:ext cx="403848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ntration of urine (ADH dependen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1-4 same as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absorbed NaCl in loop of Henle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osmolality of intersti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nerated by </a:t>
            </a: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untercurren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209680"/>
            <a:ext cx="4191120" cy="301176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159F-36D7-4223-8CC5-8B2DD2900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1640" y="609120"/>
            <a:ext cx="388620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he kidney excrete concentrated uri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5) Fluid reaching CD hypoosmotic (osm due u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H causes water to diffuse out up to a max of 300 mOsm/kg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9648" t="53430" r="0" b="4284"/>
          <a:stretch/>
        </p:blipFill>
        <p:spPr>
          <a:xfrm>
            <a:off x="4343400" y="2057400"/>
            <a:ext cx="4191120" cy="30114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1D12-CEBA-4628-9E71-DDCAC139C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7T04:28:24Z</dcterms:modified>
  <cp:revision>1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