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AC199-7256-413A-820A-2D67D3B44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3B662-A8A1-4B38-BB58-ADD44C18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14CF1-6820-49F2-B04A-3CBC0313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2BE8E-08AB-483F-A1F9-055E5092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36004-B985-4AF1-B9DB-A7CD58E9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75D-F7E0-4EE3-9A20-CEBA6DF7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DF7-E253-4408-9EC9-0707709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A3B-F9A9-49B5-8196-41C716C9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674-973F-42E9-AD8D-2319A84E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522-07BB-400C-B31F-BCD5BEA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4C93-856C-408A-A44F-DB1AAD7A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D3C-2011-4313-B40D-314771C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E10-4280-46C4-B63B-808E731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D4A-7433-4E81-84E6-21EA9DFC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BAAF-28AE-4F0F-939A-4FE7015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0C0-FA3E-4240-9D37-6E8747E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221-E16B-4B7B-96EB-A3EF440C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5AE0-56BC-4E69-BDD8-D0760E3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7A0-92DD-43D2-AF77-63A7FBA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6982-9F23-4FFD-9B45-5152849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8D30-D3C3-4D58-A3DE-6690B3A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BDD-FC24-49A1-A00F-337C51F7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191-AF51-4CFB-9584-FB3D4B51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5B49-7DE3-45F3-980C-E9CB259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67B7-D4BC-4FEF-B84D-629148F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E31F-CB19-4350-AC9F-EB3AE8F8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213-DE8D-456D-B0A5-4FF0E4D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4C98-CECF-4C38-A376-6AA159A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9FA5-2C9D-4674-A67D-4708949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5210-66DB-4B55-B58F-D470B44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126A-5B16-4AD0-ADFD-5D248F1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4439-0B78-44D3-B62E-6439C15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D213-AEB0-4B89-9317-F0FF059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16B3-F66F-4766-9AAE-104A829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B71E-FFEB-47B3-9A5B-FAC6C42D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F2F4-2CA6-4E6A-9159-BA872FC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EFB-1463-4FC2-A01A-C96B709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787-8A39-43BA-A31F-304B1B9B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2E8-58FB-4EF8-AB04-28281F3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BEC-6983-498E-9C79-7080419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A62-426E-4050-9C6E-07B7F9D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855-12D2-4B1B-B71D-758C77C0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90440" y="1143000"/>
            <a:ext cx="8763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190440" y="1219320"/>
            <a:ext cx="8763120" cy="0"/>
          </a:xfrm>
          <a:prstGeom prst="line">
            <a:avLst/>
          </a:prstGeom>
          <a:ln w="38160">
            <a:solidFill>
              <a:srgbClr val="67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48360" y="6095880"/>
            <a:ext cx="1143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207-6243-4EF4-A3BF-99187EEB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440" y="1066680"/>
            <a:ext cx="8763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90440" y="1143000"/>
            <a:ext cx="8763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37C-4F83-4FF4-9FC0-16612339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858960" y="147636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)</a:t>
            </a: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Arial"/>
              </a:rPr>
              <a:t>Revision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Ahmad Ahmeda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Cell phone: 0536313454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C67-B022-440D-8B92-18AA949F5B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of the glomerulus are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fenes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ores allow water and solutes to leave but not blood cells and plasma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entering the glomerular capsule is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fil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s must pass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fenestrae (the primary cause for not passing the Protein by the glomeru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Glomerular basement membr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Visceral layer of the glomerular capsule composed of cells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od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xtensions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ed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fox78119_1709"/>
          <p:cNvPicPr/>
          <p:nvPr/>
        </p:nvPicPr>
        <p:blipFill>
          <a:blip r:embed="rId1"/>
          <a:stretch/>
        </p:blipFill>
        <p:spPr>
          <a:xfrm>
            <a:off x="4724280" y="1981080"/>
            <a:ext cx="4241880" cy="3803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fox78119_1708"/>
          <p:cNvPicPr/>
          <p:nvPr/>
        </p:nvPicPr>
        <p:blipFill>
          <a:blip r:embed="rId2"/>
          <a:stretch/>
        </p:blipFill>
        <p:spPr>
          <a:xfrm>
            <a:off x="380880" y="1828800"/>
            <a:ext cx="3740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ts in the pedicles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slit diaphragm p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ajor barrier for the filtration of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here causes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rotein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teins in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lbumin is filtered out but is reabsorbed by active end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rafil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in glomerular capsule gets there via hydrostatic pressure of the blood, colloid osmotic pressure, and very permeable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fox78119_1710"/>
          <p:cNvPicPr/>
          <p:nvPr/>
        </p:nvPicPr>
        <p:blipFill>
          <a:blip r:embed="rId1"/>
          <a:stretch/>
        </p:blipFill>
        <p:spPr>
          <a:xfrm>
            <a:off x="2362320" y="3581280"/>
            <a:ext cx="409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 rate (GFR): rate of filtrate produced by both kidneys each minute = 115−125 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l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blood volume filtered every 4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ust be reabsorb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1981080" y="129528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456"/>
                </a:solidFill>
                <a:latin typeface="Arial"/>
              </a:rPr>
              <a:t>Net Pressure that driving the glomerular filtration. How to calculate?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456"/>
                </a:solidFill>
                <a:latin typeface="Arial"/>
              </a:rPr>
              <a:t>How to calculate clearance?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Filtra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constriction or dilation of afferent arterioles changes filtration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regulation via sympathetic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nsic regulation via signals from the kidneys;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renal aut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hetic Nerv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ight/flight reaction, there is vasoconstriction of the afferent arteri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ivert blood to heart and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formation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Aut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R is maintained at a constant level even when blood pressure (BP) fluctuates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arterioles dilate if BP &lt; 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arterioles constrict if BP &gt;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yogenic constriction: Smooth muscles in arterioles sense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the extracellular fluid environment in the body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plasma (affects blood pres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Aut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buloglomerular feedback:  Cells in the ascending limb of the loop of Henle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macula den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 rise in water and sodium as occurs with increased blood pressure (and filtration r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nd a chemical signal to constrict the afferent arteri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happen to urine concentration in low blood pressure or blood vol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ompound would increase most in case of drop of GF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ubtitle 2"/>
          <p:cNvSpPr/>
          <p:nvPr/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happen in case of renal artery stenosis?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Reabsorption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 ml of water is filtered per day, but only 1−2 ml is excreted as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increase when well hydrated and decrease when dehyd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imum 400 ml  must be excreted to rid the body of wastes =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obligatory water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f reabsorption occurs in the proximal tubules and descending loop of Henle.This portion is unreg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 in the Proximal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smolality of filtrate in the glomerular capsule is equal to that of blood 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tively transported out of the filtrate into the peritubular blood to set up a concentration gradient to drive osm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al Tubular Fl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fox78119_1713"/>
          <p:cNvPicPr/>
          <p:nvPr/>
        </p:nvPicPr>
        <p:blipFill>
          <a:blip r:embed="rId1"/>
          <a:stretch/>
        </p:blipFill>
        <p:spPr>
          <a:xfrm>
            <a:off x="1612800" y="1371600"/>
            <a:ext cx="6578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20% of water is reabsorb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continuously and is un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15% of water (~27 L) is absorbed later in the nephron under hormonal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entering loop of Henle is isotonic to extracellular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(NaCl) is actively pumped into the interstitial fl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its electrochemical gradient  from filtrate into tubule cells powers the secondary active transport of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ved into interstitial space via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mp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s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ively due to electrical attraction,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ively diffuses back into fil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fox78119_1715"/>
          <p:cNvPicPr/>
          <p:nvPr/>
        </p:nvPicPr>
        <p:blipFill>
          <a:blip r:embed="rId1"/>
          <a:stretch/>
        </p:blipFill>
        <p:spPr>
          <a:xfrm>
            <a:off x="1825560" y="1981080"/>
            <a:ext cx="5337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s are not permeable to water, so osmosis cannot occur from the ascending part of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 interstitial fluid becomes increasingly solute concentrated at the bottom of the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ular fluid entering the ascending loop of Henle becomes more hypotonic as it ascends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1" descr="figure_18_04c_unlabeled"/>
          <p:cNvPicPr/>
          <p:nvPr/>
        </p:nvPicPr>
        <p:blipFill>
          <a:blip r:embed="rId1"/>
          <a:stretch/>
        </p:blipFill>
        <p:spPr>
          <a:xfrm>
            <a:off x="1197000" y="1041480"/>
            <a:ext cx="6750000" cy="477360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3736800" y="121932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25800" y="1219320"/>
            <a:ext cx="333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751200" y="185112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759120" y="240192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4049640" y="1843200"/>
            <a:ext cx="44928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711400" y="1785960"/>
            <a:ext cx="53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5290920" y="1785960"/>
            <a:ext cx="9572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736800" y="3548160"/>
            <a:ext cx="124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736800" y="3548160"/>
            <a:ext cx="122724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3736800" y="4535640"/>
            <a:ext cx="10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920920" y="3759120"/>
            <a:ext cx="32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117440" y="1650960"/>
            <a:ext cx="256248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130400" y="1015920"/>
            <a:ext cx="256212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1130400" y="2184480"/>
            <a:ext cx="256212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l corpusc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140360" y="5232240"/>
            <a:ext cx="2765160" cy="40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tical nephron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930320" y="3327480"/>
            <a:ext cx="171144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6311880" y="1600200"/>
            <a:ext cx="171144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6311880" y="3568680"/>
            <a:ext cx="153360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c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2336760" y="4317840"/>
            <a:ext cx="1355760" cy="7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eable to salt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eable to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drawn out of the filtrate and into the interstitial space where it is quickly picked up by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t descends, the fluid becomes more solute concen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p of Hen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e and Water 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fox78119_1714"/>
          <p:cNvPicPr/>
          <p:nvPr/>
        </p:nvPicPr>
        <p:blipFill>
          <a:blip r:embed="rId1"/>
          <a:stretch/>
        </p:blipFill>
        <p:spPr>
          <a:xfrm>
            <a:off x="2308320" y="1752480"/>
            <a:ext cx="42228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dback mechanism is created between the two portions of the loop of Hen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salt the ascending limb removes, the saltier the fluid entering it will be (due to loss of water in descending lim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blood vessels around loop of Henle, which also have a descending and ascending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reate the countercurrent system because they take in salts in the descending region but lose them again in the ascending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alts in the interstiti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alt concentration at the beginning of the ascending region pulls in water, which is removed from the interstitia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eps salt concentration in the interstitial space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fox78119_1716"/>
          <p:cNvPicPr/>
          <p:nvPr/>
        </p:nvPicPr>
        <p:blipFill>
          <a:blip r:embed="rId1"/>
          <a:stretch/>
        </p:blipFill>
        <p:spPr>
          <a:xfrm>
            <a:off x="2514600" y="1752480"/>
            <a:ext cx="3956040" cy="4784760"/>
          </a:xfrm>
          <a:prstGeom prst="rect">
            <a:avLst/>
          </a:prstGeom>
          <a:ln w="0">
            <a:noFill/>
          </a:ln>
        </p:spPr>
      </p:pic>
      <p:sp>
        <p:nvSpPr>
          <p:cNvPr id="351" name="Title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Tubule Osmol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fox78119_1718"/>
          <p:cNvPicPr/>
          <p:nvPr/>
        </p:nvPicPr>
        <p:blipFill>
          <a:blip r:embed="rId1"/>
          <a:stretch/>
        </p:blipFill>
        <p:spPr>
          <a:xfrm>
            <a:off x="2406600" y="1765440"/>
            <a:ext cx="4137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op in urin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fluenced by hypertonicity of interstitial space – water will leave via osmosis if ab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ability to water depends on the number of aquaporin channels in the cells of the 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aquaporins determined by 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 binds to receptors on collecting duct cel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kin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icles with aquaporin channels fuse to plasma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hannels are removed without AD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fox78119_1719"/>
          <p:cNvPicPr/>
          <p:nvPr/>
        </p:nvPicPr>
        <p:blipFill>
          <a:blip r:embed="rId1"/>
          <a:stretch/>
        </p:blipFill>
        <p:spPr>
          <a:xfrm>
            <a:off x="2506680" y="1539720"/>
            <a:ext cx="3730680" cy="5089680"/>
          </a:xfrm>
          <a:prstGeom prst="rect">
            <a:avLst/>
          </a:prstGeom>
          <a:ln w="0">
            <a:noFill/>
          </a:ln>
        </p:spPr>
      </p:pic>
      <p:sp>
        <p:nvSpPr>
          <p:cNvPr id="359" name="Title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0" descr="figure_18_04d_unlabeled"/>
          <p:cNvPicPr/>
          <p:nvPr/>
        </p:nvPicPr>
        <p:blipFill>
          <a:blip r:embed="rId1"/>
          <a:stretch/>
        </p:blipFill>
        <p:spPr>
          <a:xfrm>
            <a:off x="981000" y="352440"/>
            <a:ext cx="7182000" cy="6151680"/>
          </a:xfrm>
          <a:prstGeom prst="rect">
            <a:avLst/>
          </a:prstGeom>
          <a:ln w="0">
            <a:noFill/>
          </a:ln>
        </p:spPr>
      </p:pic>
      <p:sp>
        <p:nvSpPr>
          <p:cNvPr id="197" name="Line 25"/>
          <p:cNvSpPr/>
          <p:nvPr/>
        </p:nvSpPr>
        <p:spPr>
          <a:xfrm>
            <a:off x="3505320" y="51588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3700440" y="515880"/>
            <a:ext cx="787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513240" y="13636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3726000" y="1363680"/>
            <a:ext cx="287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 flipV="1">
            <a:off x="3513240" y="1777680"/>
            <a:ext cx="7459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13240" y="2548080"/>
            <a:ext cx="27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 flipV="1">
            <a:off x="3784680" y="1972800"/>
            <a:ext cx="22860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 flipH="1">
            <a:off x="5011560" y="820800"/>
            <a:ext cx="4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4452840" y="820800"/>
            <a:ext cx="55872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4858920" y="820800"/>
            <a:ext cx="15228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 flipH="1">
            <a:off x="4910040" y="1447920"/>
            <a:ext cx="51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4884840" y="3429000"/>
            <a:ext cx="56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5181480" y="416556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3512880" y="524988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1244520" y="2387520"/>
            <a:ext cx="219384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1257480" y="1181160"/>
            <a:ext cx="219384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006640" y="1752480"/>
            <a:ext cx="14572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Glomerulu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2286000" y="5054760"/>
            <a:ext cx="1177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Nephron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5511960" y="4013280"/>
            <a:ext cx="1177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llecting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uc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5486400" y="1308240"/>
            <a:ext cx="229536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ist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 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CT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927000" y="343080"/>
            <a:ext cx="2536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roxim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 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CT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5486400" y="660240"/>
            <a:ext cx="26128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eritubular 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486400" y="3263760"/>
            <a:ext cx="136836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Vasa recta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3720960" y="5994360"/>
            <a:ext cx="30322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4456"/>
                </a:solidFill>
                <a:latin typeface="Arial"/>
              </a:rPr>
              <a:t>Juxtamedullary nephron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ADH in Plasma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ox78119_1720"/>
          <p:cNvPicPr/>
          <p:nvPr/>
        </p:nvPicPr>
        <p:blipFill>
          <a:blip r:embed="rId1"/>
          <a:stretch/>
        </p:blipFill>
        <p:spPr>
          <a:xfrm>
            <a:off x="2473200" y="1730520"/>
            <a:ext cx="3915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ADH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fox78119_tb1703"/>
          <p:cNvPicPr/>
          <p:nvPr/>
        </p:nvPicPr>
        <p:blipFill>
          <a:blip r:embed="rId1"/>
          <a:stretch/>
        </p:blipFill>
        <p:spPr>
          <a:xfrm>
            <a:off x="406440" y="2560680"/>
            <a:ext cx="8356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 Renal Plasma Cl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ance of In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ulin is a compound found in garlic, onion, and artich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marker of glomerular filtration rate because it is filtered but not reabsorbed or se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X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= 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 rate of urin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 inulin concentration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 inulin concentration in plas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bsorption of Glucose and 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filtered out in the glomerular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reabsorbed in the proximal tubule via secondary active transport with sodium, facilitated diffusion, and simple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er 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/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transporters have a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transpor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too much glucose in the filtrate, it will not be complete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in the urine =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glycos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s a sign of diabetes melli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glucose in the blood also results in decreased water reabsorption and possible dehydration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Renal Control of Electrolyte and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doste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90% of filtered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absorbed early in the neph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reg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ssessment of what the body needs is made, and aldosterone controls additional reabsorption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ecretion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distal tubule and collecting d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osterone independent response: Increa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s an increase in the number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nels in the cortical collecting 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loo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drop, these channels are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osterone-dependent response: Increa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s adrenal cortex to release aldoste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reases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ion in the distal tubule and collecting 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6" descr="figure_18_05_0_unlabeled"/>
          <p:cNvPicPr/>
          <p:nvPr/>
        </p:nvPicPr>
        <p:blipFill>
          <a:blip r:embed="rId1"/>
          <a:stretch/>
        </p:blipFill>
        <p:spPr>
          <a:xfrm>
            <a:off x="1327320" y="136440"/>
            <a:ext cx="6487920" cy="65851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4"/>
          <p:cNvSpPr/>
          <p:nvPr/>
        </p:nvSpPr>
        <p:spPr>
          <a:xfrm>
            <a:off x="3041640" y="223920"/>
            <a:ext cx="6951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NEPHRON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3" name="Text Box 75"/>
          <p:cNvSpPr/>
          <p:nvPr/>
        </p:nvSpPr>
        <p:spPr>
          <a:xfrm>
            <a:off x="1989000" y="642960"/>
            <a:ext cx="1679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Proximal convoluted tubule 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4" name="Text Box 76"/>
          <p:cNvSpPr/>
          <p:nvPr/>
        </p:nvSpPr>
        <p:spPr>
          <a:xfrm>
            <a:off x="3922560" y="642960"/>
            <a:ext cx="14763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Distal convoluted tubule 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5" name="Text Box 77"/>
          <p:cNvSpPr/>
          <p:nvPr/>
        </p:nvSpPr>
        <p:spPr>
          <a:xfrm>
            <a:off x="1974960" y="912960"/>
            <a:ext cx="16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absorption of water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ions, and all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organic nutrient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6" name="Text Box 78"/>
          <p:cNvSpPr/>
          <p:nvPr/>
        </p:nvSpPr>
        <p:spPr>
          <a:xfrm>
            <a:off x="3911760" y="911160"/>
            <a:ext cx="1323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ecretion of ions, acids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rugs, toxi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7" name="Text Box 79"/>
          <p:cNvSpPr/>
          <p:nvPr/>
        </p:nvSpPr>
        <p:spPr>
          <a:xfrm>
            <a:off x="2128680" y="2201760"/>
            <a:ext cx="5810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Glomerulu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8" name="Text Box 80"/>
          <p:cNvSpPr/>
          <p:nvPr/>
        </p:nvSpPr>
        <p:spPr>
          <a:xfrm>
            <a:off x="1889280" y="2465280"/>
            <a:ext cx="8222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9" name="Text Box 81"/>
          <p:cNvSpPr/>
          <p:nvPr/>
        </p:nvSpPr>
        <p:spPr>
          <a:xfrm>
            <a:off x="1889280" y="2706840"/>
            <a:ext cx="8222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fferent arterio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0" name="Text Box 82"/>
          <p:cNvSpPr/>
          <p:nvPr/>
        </p:nvSpPr>
        <p:spPr>
          <a:xfrm>
            <a:off x="4024440" y="1800360"/>
            <a:ext cx="8222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nal tubu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1" name="Text Box 83"/>
          <p:cNvSpPr/>
          <p:nvPr/>
        </p:nvSpPr>
        <p:spPr>
          <a:xfrm>
            <a:off x="3301920" y="3049560"/>
            <a:ext cx="8222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oop begi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2" name="Text Box 84"/>
          <p:cNvSpPr/>
          <p:nvPr/>
        </p:nvSpPr>
        <p:spPr>
          <a:xfrm>
            <a:off x="4654440" y="2909880"/>
            <a:ext cx="5684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oop end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3" name="Text Box 85"/>
          <p:cNvSpPr/>
          <p:nvPr/>
        </p:nvSpPr>
        <p:spPr>
          <a:xfrm>
            <a:off x="1744560" y="330048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Renal corpuscle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4" name="Text Box 86"/>
          <p:cNvSpPr/>
          <p:nvPr/>
        </p:nvSpPr>
        <p:spPr>
          <a:xfrm>
            <a:off x="1687680" y="3583080"/>
            <a:ext cx="10569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Production of filtrat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5" name="Text Box 87"/>
          <p:cNvSpPr/>
          <p:nvPr/>
        </p:nvSpPr>
        <p:spPr>
          <a:xfrm>
            <a:off x="3427560" y="3800520"/>
            <a:ext cx="599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scending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imb of loop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6" name="Text Box 88"/>
          <p:cNvSpPr/>
          <p:nvPr/>
        </p:nvSpPr>
        <p:spPr>
          <a:xfrm>
            <a:off x="4587840" y="4164120"/>
            <a:ext cx="600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scending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imb of loop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7" name="Line 89"/>
          <p:cNvSpPr/>
          <p:nvPr/>
        </p:nvSpPr>
        <p:spPr>
          <a:xfrm>
            <a:off x="3429000" y="13525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8" name="Line 91"/>
          <p:cNvSpPr/>
          <p:nvPr/>
        </p:nvSpPr>
        <p:spPr>
          <a:xfrm flipV="1">
            <a:off x="4394160" y="1955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9" name="Line 92"/>
          <p:cNvSpPr/>
          <p:nvPr/>
        </p:nvSpPr>
        <p:spPr>
          <a:xfrm flipH="1">
            <a:off x="4140000" y="2038320"/>
            <a:ext cx="2538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0" name="Line 93"/>
          <p:cNvSpPr/>
          <p:nvPr/>
        </p:nvSpPr>
        <p:spPr>
          <a:xfrm>
            <a:off x="4394160" y="2038320"/>
            <a:ext cx="2350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1" name="Line 95"/>
          <p:cNvSpPr/>
          <p:nvPr/>
        </p:nvSpPr>
        <p:spPr>
          <a:xfrm>
            <a:off x="2736720" y="2298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2" name="Line 96"/>
          <p:cNvSpPr/>
          <p:nvPr/>
        </p:nvSpPr>
        <p:spPr>
          <a:xfrm>
            <a:off x="2952720" y="2298600"/>
            <a:ext cx="2412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3" name="Line 97"/>
          <p:cNvSpPr/>
          <p:nvPr/>
        </p:nvSpPr>
        <p:spPr>
          <a:xfrm>
            <a:off x="2762280" y="254628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4" name="Line 98"/>
          <p:cNvSpPr/>
          <p:nvPr/>
        </p:nvSpPr>
        <p:spPr>
          <a:xfrm>
            <a:off x="2743200" y="278136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5" name="Line 102"/>
          <p:cNvSpPr/>
          <p:nvPr/>
        </p:nvSpPr>
        <p:spPr>
          <a:xfrm flipV="1">
            <a:off x="3765600" y="2813040"/>
            <a:ext cx="22212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6" name="Line 103"/>
          <p:cNvSpPr/>
          <p:nvPr/>
        </p:nvSpPr>
        <p:spPr>
          <a:xfrm flipH="1" flipV="1">
            <a:off x="4528800" y="2649600"/>
            <a:ext cx="2221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7" name="Line 104"/>
          <p:cNvSpPr/>
          <p:nvPr/>
        </p:nvSpPr>
        <p:spPr>
          <a:xfrm flipH="1">
            <a:off x="4051440" y="38545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8" name="Line 105"/>
          <p:cNvSpPr/>
          <p:nvPr/>
        </p:nvSpPr>
        <p:spPr>
          <a:xfrm>
            <a:off x="4438800" y="4210200"/>
            <a:ext cx="1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9" name="Text Box 106"/>
          <p:cNvSpPr/>
          <p:nvPr/>
        </p:nvSpPr>
        <p:spPr>
          <a:xfrm>
            <a:off x="3825720" y="545940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Nephron loop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0" name="Text Box 107"/>
          <p:cNvSpPr/>
          <p:nvPr/>
        </p:nvSpPr>
        <p:spPr>
          <a:xfrm>
            <a:off x="1704960" y="5032440"/>
            <a:ext cx="29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KEY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1" name="Text Box 108"/>
          <p:cNvSpPr/>
          <p:nvPr/>
        </p:nvSpPr>
        <p:spPr>
          <a:xfrm>
            <a:off x="1955880" y="524340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2" name="Text Box 109"/>
          <p:cNvSpPr/>
          <p:nvPr/>
        </p:nvSpPr>
        <p:spPr>
          <a:xfrm>
            <a:off x="1955880" y="543384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Solutes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3" name="Text Box 110"/>
          <p:cNvSpPr/>
          <p:nvPr/>
        </p:nvSpPr>
        <p:spPr>
          <a:xfrm>
            <a:off x="1955880" y="562464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Filtrate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4" name="Text Box 111"/>
          <p:cNvSpPr/>
          <p:nvPr/>
        </p:nvSpPr>
        <p:spPr>
          <a:xfrm>
            <a:off x="1949400" y="581508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Variable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reabsorption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or secretion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5" name="Text Box 112"/>
          <p:cNvSpPr/>
          <p:nvPr/>
        </p:nvSpPr>
        <p:spPr>
          <a:xfrm>
            <a:off x="3556080" y="5745240"/>
            <a:ext cx="147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Further reabsorption of wate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scending limb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and both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odium and chlorid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ions 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scending limb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6" name="Text Box 118"/>
          <p:cNvSpPr/>
          <p:nvPr/>
        </p:nvSpPr>
        <p:spPr>
          <a:xfrm>
            <a:off x="6462720" y="5060880"/>
            <a:ext cx="942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Papillary duct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7" name="Text Box 119"/>
          <p:cNvSpPr/>
          <p:nvPr/>
        </p:nvSpPr>
        <p:spPr>
          <a:xfrm>
            <a:off x="5410080" y="5643720"/>
            <a:ext cx="473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Toward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urete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8" name="Text Box 120"/>
          <p:cNvSpPr/>
          <p:nvPr/>
        </p:nvSpPr>
        <p:spPr>
          <a:xfrm>
            <a:off x="6469200" y="5313240"/>
            <a:ext cx="9554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livery of urin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to minor calyx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9" name="Text Box 121"/>
          <p:cNvSpPr/>
          <p:nvPr/>
        </p:nvSpPr>
        <p:spPr>
          <a:xfrm>
            <a:off x="6392880" y="3171960"/>
            <a:ext cx="10954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Variable reabsorption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of water and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absorption o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ecretion of sodium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potassium, hydrogen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nd bicarbonate io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0" name="Text Box 122"/>
          <p:cNvSpPr/>
          <p:nvPr/>
        </p:nvSpPr>
        <p:spPr>
          <a:xfrm>
            <a:off x="6467400" y="290196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Collecting duct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1" name="Text Box 123"/>
          <p:cNvSpPr/>
          <p:nvPr/>
        </p:nvSpPr>
        <p:spPr>
          <a:xfrm>
            <a:off x="6039000" y="241200"/>
            <a:ext cx="11142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COLLECTING SYSTEM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2" name="Text Box 125"/>
          <p:cNvSpPr/>
          <p:nvPr/>
        </p:nvSpPr>
        <p:spPr>
          <a:xfrm>
            <a:off x="3911760" y="1200240"/>
            <a:ext cx="1481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Variable reabsorption of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water and sodium io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under hormonal control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and Potas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 sodium absorption drive extra potassium secre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difference created by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bsorption driving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on of renin-angiotensin-aldosterone system by water and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l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flow rates bend cilia on the cells of the distal tubule, resulting in activation of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of Aldosterone Se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ly stimulates production of aldosterone in the adrenal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ll in blood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rectly stimulates production of aldosterone via the renin- angiotensin-aldosteron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xtaglomerular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77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where the afferent arteriole comes into contact with the distal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fox78119_1726"/>
          <p:cNvPicPr/>
          <p:nvPr/>
        </p:nvPicPr>
        <p:blipFill>
          <a:blip r:embed="rId1"/>
          <a:stretch/>
        </p:blipFill>
        <p:spPr>
          <a:xfrm>
            <a:off x="1135080" y="2819520"/>
            <a:ext cx="694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xtaglomerular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088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rease in plasma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fall in blood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d by juxtaglomerular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cells secret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re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he afferent arteri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verts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60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-converting enzy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</a:rPr>
              <a:t>(AC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this into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tensi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s adrenal cortex to make ald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the reabsorption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secretion of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blood volume and raises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Renin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lt levels result in lower blood volume due to inhibition of ADH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water is reabsorbed in collecting ducts and more is excreted in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blood volume is detected by granular cells that act as baroreceptors.  They then secrete r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cells are also stimulated by sympathetic innervation from the baroreceptor ref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ula D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distal tubule that forms the juxtaglomerular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 for tubuloglomerular feedback needed for regulation of glomerular filtration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more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 the filtrate, a signal is sent to the afferent arteriole to constrict limiting filtra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via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ula D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mor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the filtrate, a signal is sent to the afferent arteriole to inhibit the production of r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s in less reabsorption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lowing more to be exc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elps lower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al Natriuretic 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 blood volume also increase the release of atrial natriuretic peptide hormone from the atria of the heart when atrial walls are stre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kidneys to excrete more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Sodium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fox78119_1727"/>
          <p:cNvPicPr/>
          <p:nvPr/>
        </p:nvPicPr>
        <p:blipFill>
          <a:blip r:embed="rId1"/>
          <a:stretch/>
        </p:blipFill>
        <p:spPr>
          <a:xfrm>
            <a:off x="2395440" y="1832040"/>
            <a:ext cx="4095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4" descr="figure_18_06a_unlabeled"/>
          <p:cNvPicPr/>
          <p:nvPr/>
        </p:nvPicPr>
        <p:blipFill>
          <a:blip r:embed="rId1"/>
          <a:stretch/>
        </p:blipFill>
        <p:spPr>
          <a:xfrm>
            <a:off x="406440" y="136440"/>
            <a:ext cx="832968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30"/>
          <p:cNvSpPr/>
          <p:nvPr/>
        </p:nvSpPr>
        <p:spPr>
          <a:xfrm>
            <a:off x="1187280" y="4254480"/>
            <a:ext cx="200160" cy="851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1193760" y="4673520"/>
            <a:ext cx="0" cy="67968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3924360" y="5969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3809880" y="4215960"/>
            <a:ext cx="43200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8" name="Line 34"/>
          <p:cNvSpPr/>
          <p:nvPr/>
        </p:nvSpPr>
        <p:spPr>
          <a:xfrm flipV="1">
            <a:off x="3809880" y="3949560"/>
            <a:ext cx="82548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49640" y="473724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 flipH="1">
            <a:off x="3772080" y="3924360"/>
            <a:ext cx="4572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 flipH="1">
            <a:off x="3162240" y="43941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 flipH="1">
            <a:off x="3161880" y="3467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3137040" y="2959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3378240" y="2959200"/>
            <a:ext cx="990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4178160" y="2451240"/>
            <a:ext cx="723960" cy="79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5384880" y="2146320"/>
            <a:ext cx="355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6718320" y="220968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6590880" y="2413080"/>
            <a:ext cx="1270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8128080" y="24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0" name="Line 47"/>
          <p:cNvSpPr/>
          <p:nvPr/>
        </p:nvSpPr>
        <p:spPr>
          <a:xfrm flipH="1">
            <a:off x="6959520" y="2705040"/>
            <a:ext cx="116856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1" name="Line 48"/>
          <p:cNvSpPr/>
          <p:nvPr/>
        </p:nvSpPr>
        <p:spPr>
          <a:xfrm flipV="1">
            <a:off x="7988400" y="4127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419040" y="5384880"/>
            <a:ext cx="177480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Juxta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3" name="Text Box 51"/>
          <p:cNvSpPr/>
          <p:nvPr/>
        </p:nvSpPr>
        <p:spPr>
          <a:xfrm>
            <a:off x="1333440" y="4610160"/>
            <a:ext cx="177480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Juxta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4" name="Text Box 52"/>
          <p:cNvSpPr/>
          <p:nvPr/>
        </p:nvSpPr>
        <p:spPr>
          <a:xfrm>
            <a:off x="1549440" y="4254480"/>
            <a:ext cx="15969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Macula densa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>
            <a:off x="1143000" y="3340080"/>
            <a:ext cx="192708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ist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1143000" y="2832120"/>
            <a:ext cx="192708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2933640" y="5854680"/>
            <a:ext cx="924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fferen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8" name="Text Box 57"/>
          <p:cNvSpPr/>
          <p:nvPr/>
        </p:nvSpPr>
        <p:spPr>
          <a:xfrm>
            <a:off x="3390840" y="1955880"/>
            <a:ext cx="135576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aps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4673520" y="1663560"/>
            <a:ext cx="135576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apillary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0" name="Text Box 59"/>
          <p:cNvSpPr/>
          <p:nvPr/>
        </p:nvSpPr>
        <p:spPr>
          <a:xfrm>
            <a:off x="6045120" y="1714680"/>
            <a:ext cx="135576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arietal 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7442280" y="1727280"/>
            <a:ext cx="135576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Visceral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pithelium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odocyte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7315200" y="4876920"/>
            <a:ext cx="135576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roximal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hip Between 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imulates the secretion of other positive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osis stimulates the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nhibits the secretion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osis can lead to hyperkale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osis stimulates the secretion and excretion of more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maintain blood pH by reabsorbing bicarbonate and secreting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is thus acid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imal tubule uses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mps to exchang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an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ought in is used for the reabsorption of bicarbo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 of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from th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mps in the proximal tubule, the distal tubule ha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Pase pumps to increa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Disturb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osis:  Les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vailable to transport bicarbonate into tubule cells, so less bicarbonate is reabsor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icarbonate secretion compensates for alkal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Disturb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osis: Proximal tubule can make extra bicarbonate through the metabolism of the amino acid gluta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icarbonate enters the blood to compensate for acid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stays in urine to buffer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ry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8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hrons cannot produce urine with a pH below 4.5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ion, urine must be buff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and ammonia buffer the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enter via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comes from the deamination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C653-AB93-4C08-B2F2-2604F7DA03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rusor muscles line the wall of the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vated by parasympathetic neurons, which release acetylcholine onto muscarinic A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s surround ureth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urethral sphincter: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urethral sphincter: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receptors in the bladder send information to S1−S4 regions of the 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neurons normally inhibit parasympathetic nerves to the detrusor muscles, while somatic motor neurons to the external urethral sphincter are stim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guarding re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involuntary emptying of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of the bladder initiates the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voiding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stretch passes up the spinal cord to th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micturition cen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ympathetic neurons cause detrusor muscles to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 innervation of the internal urethral sphincter causes it to rel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feels the need to urinate and can control when with external urethral sphin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00:36Z</dcterms:created>
  <dc:creator>Amy</dc:creator>
  <dc:description/>
  <dc:language>en-US</dc:language>
  <cp:lastModifiedBy>DR.AHMAD</cp:lastModifiedBy>
  <dcterms:modified xsi:type="dcterms:W3CDTF">2015-05-18T06:54:27Z</dcterms:modified>
  <cp:revision>345</cp:revision>
  <dc:subject/>
  <dc:title>Slide 1</dc:title>
</cp:coreProperties>
</file>