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0"/>
          </p:nvPr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3000" cy="348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1"/>
          </p:nvPr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2"/>
          </p:nvPr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5BDBD5-FEC2-475B-9D63-CEDB36E18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1BB40E-4ECB-44F0-88E3-19608843C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9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650771-79FF-4924-AE8F-7D87B406C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9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E36049-ACBB-475E-BDF1-AF8C9713F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9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786478-F7C9-480B-B153-F40C49263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36720" y="4419360"/>
            <a:ext cx="5146560" cy="419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3145-C8A9-4C15-BBD8-5D65F2B2F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78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E78A-E3BA-4FB9-A2AD-6E090845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78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78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6412-2321-4296-8331-56E8EF03C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78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78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78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D754-A613-4622-9931-A7124260C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878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E593-BFBE-4C63-833F-41AF7B6C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878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78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878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78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878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878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878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878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C230-CB7B-486D-AEA8-EBFF3943A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34DA-B2BB-4CF1-B97F-3E466250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CEC7-9094-4D97-AB46-2A0F930E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FEAB-2F72-443A-A95D-2DA659F6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43C35-61A9-424C-8164-3138530B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70F9-8742-42BB-827C-D3226FAF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EE72-F235-4B8E-BE28-D6E63EB6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878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19045-8007-4722-955F-064ED3DD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878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AB384-B448-4BCB-882D-4C482AFC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878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F757-2055-4633-B029-DD0385CC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878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7D7CC-BB13-4F54-B269-E0B9C4F8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878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878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BD03-D1D1-4E69-9ACD-6E9086DA4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878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878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878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BEC2-E77A-49CD-B4C7-7808F506A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2D759-B8A1-4FA9-9D06-A30B0DC5B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67CD6-D8FC-49F4-A0A4-5492FF79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DA099-8DFC-4567-84E4-BF06F523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3D84-BB03-45B5-B76B-A6D3892A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83E70-E503-47D3-97AC-49B38BC6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869CB-3B07-4C9A-AEF8-26CC8558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92A3F-3C07-40A4-965C-BEBA14E2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878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6161A-0951-40F0-A0D3-0F0EE237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878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5739A-B653-4A08-97DE-CD7666E4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878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62AC7-7425-4316-B972-3883D7DC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878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F683E-9123-46E1-A4C5-50AECA1B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878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878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80848-1494-482F-8A77-07BC0BFDB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878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878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878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969DC-D107-4348-9FCD-3213F5B77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9B71-7873-4C74-B588-DDE211E2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1602-14E9-4A2E-8552-4ACB4C97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78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FFB9-98B4-4D8E-BFD1-0766798B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78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2434-B8D1-4A1F-9E6B-76BAEE12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78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BAAB-5998-47F0-BC5C-6FB3A9AC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A2B0-9104-4D88-A95C-91EDDECC9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190440" y="1143000"/>
            <a:ext cx="87631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190440" y="1219320"/>
            <a:ext cx="8763120" cy="0"/>
          </a:xfrm>
          <a:prstGeom prst="line">
            <a:avLst/>
          </a:prstGeom>
          <a:ln w="38160">
            <a:solidFill>
              <a:srgbClr val="67af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848360" y="6095880"/>
            <a:ext cx="1143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12B7-9ABE-47B2-BF59-6949A1314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7"/>
          <p:cNvSpPr/>
          <p:nvPr/>
        </p:nvSpPr>
        <p:spPr>
          <a:xfrm>
            <a:off x="190440" y="1066680"/>
            <a:ext cx="87631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86" name="Line 8"/>
          <p:cNvSpPr/>
          <p:nvPr/>
        </p:nvSpPr>
        <p:spPr>
          <a:xfrm>
            <a:off x="190440" y="1143000"/>
            <a:ext cx="87631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84CB-2046-41B8-B0D2-6EE779182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ahmeda@ksu.edu.sa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858960" y="1476360"/>
            <a:ext cx="7446960" cy="1256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0066"/>
                </a:solidFill>
                <a:latin typeface="Arial"/>
              </a:rPr>
              <a:t>(Renal Physiology)</a:t>
            </a:r>
            <a:endParaRPr b="0" lang="en-US" sz="36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4456"/>
                </a:solidFill>
                <a:latin typeface="Arial"/>
              </a:rPr>
              <a:t>Revision</a:t>
            </a:r>
            <a:endParaRPr b="0" lang="en-US" sz="32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2457720" y="3505320"/>
            <a:ext cx="361728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Ahmad Ahmeda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IE" sz="2400" spc="-1" strike="noStrike" u="sng">
                <a:solidFill>
                  <a:srgbClr val="67afbd"/>
                </a:solidFill>
                <a:uFillTx/>
                <a:latin typeface="Arial"/>
                <a:ea typeface="Arial"/>
                <a:hlinkClick r:id="rId1"/>
              </a:rPr>
              <a:t>aahmeda@ksu.edu.sa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Cell phone: 0536313454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C46F-897B-46A2-977C-8691A6B4188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42445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merular Corpus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llaries of the glomerulus are </a:t>
            </a:r>
            <a:r>
              <a:rPr b="0" lang="en-US" sz="3200" spc="-1" strike="noStrike">
                <a:solidFill>
                  <a:srgbClr val="326064"/>
                </a:solidFill>
                <a:latin typeface="Arial"/>
              </a:rPr>
              <a:t>fenestr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pores allow water and solutes to leave but not blood cells and plasma prote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id entering the glomerular capsule is called </a:t>
            </a:r>
            <a:r>
              <a:rPr b="0" lang="en-US" sz="3200" spc="-1" strike="noStrike">
                <a:solidFill>
                  <a:srgbClr val="326064"/>
                </a:solidFill>
                <a:latin typeface="Arial"/>
              </a:rPr>
              <a:t>filt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merular Corpus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trates must pass throug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llary fenestrae (the primary cause for not passing the Protein by the glomerul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Glomerular basement membr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Visceral layer of the glomerular capsule composed of cells called </a:t>
            </a:r>
            <a:r>
              <a:rPr b="0" lang="en-US" sz="2800" spc="-1" strike="noStrike">
                <a:solidFill>
                  <a:srgbClr val="326064"/>
                </a:solidFill>
                <a:latin typeface="Arial"/>
              </a:rPr>
              <a:t>podocy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extensions called </a:t>
            </a:r>
            <a:r>
              <a:rPr b="0" lang="en-US" sz="2800" spc="-1" strike="noStrike">
                <a:solidFill>
                  <a:srgbClr val="326064"/>
                </a:solidFill>
                <a:latin typeface="Arial"/>
              </a:rPr>
              <a:t>ped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26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merular Corpus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5" descr="fox78119_1709"/>
          <p:cNvPicPr/>
          <p:nvPr/>
        </p:nvPicPr>
        <p:blipFill>
          <a:blip r:embed="rId1"/>
          <a:stretch/>
        </p:blipFill>
        <p:spPr>
          <a:xfrm>
            <a:off x="4724280" y="1981080"/>
            <a:ext cx="4241880" cy="38037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6" descr="fox78119_1708"/>
          <p:cNvPicPr/>
          <p:nvPr/>
        </p:nvPicPr>
        <p:blipFill>
          <a:blip r:embed="rId2"/>
          <a:stretch/>
        </p:blipFill>
        <p:spPr>
          <a:xfrm>
            <a:off x="380880" y="1828800"/>
            <a:ext cx="37404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merular Corpus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ts in the pedicles called </a:t>
            </a:r>
            <a:r>
              <a:rPr b="0" lang="en-US" sz="3200" spc="-1" strike="noStrike">
                <a:solidFill>
                  <a:srgbClr val="326064"/>
                </a:solidFill>
                <a:latin typeface="Arial"/>
              </a:rPr>
              <a:t>slit diaphragm po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the major barrier for the filtration of plasma prote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ct here causes </a:t>
            </a:r>
            <a:r>
              <a:rPr b="0" lang="en-US" sz="2800" spc="-1" strike="noStrike">
                <a:solidFill>
                  <a:srgbClr val="326064"/>
                </a:solidFill>
                <a:latin typeface="Arial"/>
              </a:rPr>
              <a:t>proteinur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roteins in ur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albumin is filtered out but is reabsorbed by active endocyto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ltrafilt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id in glomerular capsule gets there via hydrostatic pressure of the blood, colloid osmotic pressure, and very permeable capilla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6" descr="fox78119_1710"/>
          <p:cNvPicPr/>
          <p:nvPr/>
        </p:nvPicPr>
        <p:blipFill>
          <a:blip r:embed="rId1"/>
          <a:stretch/>
        </p:blipFill>
        <p:spPr>
          <a:xfrm>
            <a:off x="2362320" y="3581280"/>
            <a:ext cx="409248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ration 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merular filtration rate (GFR): rate of filtrate produced by both kidneys each minute = 115−125 m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0 l/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blood volume filtered every 40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must be reabsorbed immedi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Box 1"/>
          <p:cNvSpPr/>
          <p:nvPr/>
        </p:nvSpPr>
        <p:spPr>
          <a:xfrm>
            <a:off x="1981080" y="1295280"/>
            <a:ext cx="5486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4456"/>
                </a:solidFill>
                <a:latin typeface="Arial"/>
              </a:rPr>
              <a:t>Net Pressure that driving the glomerular filtration. How to calculate?</a:t>
            </a: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24456"/>
                </a:solidFill>
                <a:latin typeface="Arial"/>
              </a:rPr>
              <a:t>How to calculate clearance?</a:t>
            </a: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tion of Filtration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oconstriction or dilation of afferent arterioles changes filtration 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insic regulation via sympathetic nervou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insic regulation via signals from the kidneys; called </a:t>
            </a:r>
            <a:r>
              <a:rPr b="0" lang="en-US" sz="2800" spc="-1" strike="noStrike">
                <a:solidFill>
                  <a:srgbClr val="326064"/>
                </a:solidFill>
                <a:latin typeface="Arial"/>
              </a:rPr>
              <a:t>renal auto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pathetic Nerve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fight/flight reaction, there is vasoconstriction of the afferent arterio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s divert blood to heart and 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ine formation de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al Auto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FR is maintained at a constant level even when blood pressure (BP) fluctuates grea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ferent arterioles dilate if BP &lt; 7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ferent arterioles constrict if BP &gt; nor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Myogenic constriction: Smooth muscles in arterioles sense blood pres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dney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tion of the extracellular fluid environment in the body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me of blood plasma (affects blood press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l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al Auto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80880" y="17521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ubuloglomerular feedback:  Cells in the ascending limb of the loop of Henle called </a:t>
            </a:r>
            <a:r>
              <a:rPr b="0" lang="en-US" sz="3200" spc="-1" strike="noStrike">
                <a:solidFill>
                  <a:srgbClr val="326064"/>
                </a:solidFill>
                <a:latin typeface="Arial"/>
              </a:rPr>
              <a:t>macula dens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e a rise in water and sodium as occurs with increased blood pressure (and filtration rat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send a chemical signal to constrict the afferent arterio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happen to urine concentration in low blood pressure or blood volu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compound would increase most in case of drop of GF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ubtitle 2"/>
          <p:cNvSpPr/>
          <p:nvPr/>
        </p:nvSpPr>
        <p:spPr>
          <a:xfrm>
            <a:off x="13716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happen in case of renal artery stenosis?</a:t>
            </a:r>
            <a:endParaRPr b="0" lang="en-US" sz="3200" spc="-1" strike="noStrike">
              <a:solidFill>
                <a:srgbClr val="4244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I. Reabsorption of Salt and 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bsor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0 ml of water is filtered per day, but only 1−2 ml is excreted as ur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ill increase when well hydrated and decrease when dehydr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inimum 400 ml  must be excreted to rid the body of wastes = </a:t>
            </a:r>
            <a:r>
              <a:rPr b="0" lang="en-US" sz="2800" spc="-1" strike="noStrike">
                <a:solidFill>
                  <a:srgbClr val="326064"/>
                </a:solidFill>
                <a:latin typeface="Arial"/>
              </a:rPr>
              <a:t>obligatory water lo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5% of reabsorption occurs in the proximal tubules and descending loop of Henle.This portion is unregul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bsorption in the Proximal Tub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smolality of filtrate in the glomerular capsule is equal to that of blood plas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ctively transported out of the filtrate into the peritubular blood to set up a concentration gradient to drive osmo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ximal Tubular Fl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6" descr="fox78119_1713"/>
          <p:cNvPicPr/>
          <p:nvPr/>
        </p:nvPicPr>
        <p:blipFill>
          <a:blip r:embed="rId1"/>
          <a:stretch/>
        </p:blipFill>
        <p:spPr>
          <a:xfrm>
            <a:off x="1612800" y="1371600"/>
            <a:ext cx="65786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ending Loop of Hen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dditional 20% of water is reabsorbed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ppens continuously and is unregu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nal 15% of water (~27 L) is absorbed later in the nephron under hormonal contr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id entering loop of Henle is isotonic to extracellular flu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cending Loop of Hen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t (NaCl) is actively pumped into the interstitial flu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ment of 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wn its electrochemical gradient  from filtrate into tubule cells powers the secondary active transport of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moved into interstitial space via 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ump. 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llows 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ssively due to electrical attraction, and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ssively diffuses back into filt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cending Loop of Hen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5" descr="fox78119_1715"/>
          <p:cNvPicPr/>
          <p:nvPr/>
        </p:nvPicPr>
        <p:blipFill>
          <a:blip r:embed="rId1"/>
          <a:stretch/>
        </p:blipFill>
        <p:spPr>
          <a:xfrm>
            <a:off x="1825560" y="1981080"/>
            <a:ext cx="533736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cending Loop of Hen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lls are not permeable to water, so osmosis cannot occur from the ascending part of the lo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rounding interstitial fluid becomes increasingly solute concentrated at the bottom of the tu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bular fluid entering the ascending loop of Henle becomes more hypotonic as it ascends the lo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31" descr="figure_18_04c_unlabeled"/>
          <p:cNvPicPr/>
          <p:nvPr/>
        </p:nvPicPr>
        <p:blipFill>
          <a:blip r:embed="rId1"/>
          <a:stretch/>
        </p:blipFill>
        <p:spPr>
          <a:xfrm>
            <a:off x="1197000" y="1041480"/>
            <a:ext cx="6750000" cy="4773600"/>
          </a:xfrm>
          <a:prstGeom prst="rect">
            <a:avLst/>
          </a:prstGeom>
          <a:ln w="0">
            <a:noFill/>
          </a:ln>
        </p:spPr>
      </p:pic>
      <p:sp>
        <p:nvSpPr>
          <p:cNvPr id="177" name="Line 11"/>
          <p:cNvSpPr/>
          <p:nvPr/>
        </p:nvSpPr>
        <p:spPr>
          <a:xfrm>
            <a:off x="3736800" y="121932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78" name="Line 12"/>
          <p:cNvSpPr/>
          <p:nvPr/>
        </p:nvSpPr>
        <p:spPr>
          <a:xfrm>
            <a:off x="3925800" y="1219320"/>
            <a:ext cx="3333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79" name="Line 13"/>
          <p:cNvSpPr/>
          <p:nvPr/>
        </p:nvSpPr>
        <p:spPr>
          <a:xfrm>
            <a:off x="3751200" y="1851120"/>
            <a:ext cx="341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80" name="Line 14"/>
          <p:cNvSpPr/>
          <p:nvPr/>
        </p:nvSpPr>
        <p:spPr>
          <a:xfrm>
            <a:off x="3759120" y="240192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 flipV="1">
            <a:off x="4049640" y="1843200"/>
            <a:ext cx="44928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82" name="Line 16"/>
          <p:cNvSpPr/>
          <p:nvPr/>
        </p:nvSpPr>
        <p:spPr>
          <a:xfrm flipH="1">
            <a:off x="5711400" y="1785960"/>
            <a:ext cx="53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83" name="Line 17"/>
          <p:cNvSpPr/>
          <p:nvPr/>
        </p:nvSpPr>
        <p:spPr>
          <a:xfrm flipH="1">
            <a:off x="5290920" y="1785960"/>
            <a:ext cx="957240" cy="39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3736800" y="3548160"/>
            <a:ext cx="124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85" name="Line 19"/>
          <p:cNvSpPr/>
          <p:nvPr/>
        </p:nvSpPr>
        <p:spPr>
          <a:xfrm>
            <a:off x="3736800" y="3548160"/>
            <a:ext cx="1227240" cy="32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86" name="Line 20"/>
          <p:cNvSpPr/>
          <p:nvPr/>
        </p:nvSpPr>
        <p:spPr>
          <a:xfrm>
            <a:off x="3736800" y="4535640"/>
            <a:ext cx="106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87" name="Line 21"/>
          <p:cNvSpPr/>
          <p:nvPr/>
        </p:nvSpPr>
        <p:spPr>
          <a:xfrm flipH="1">
            <a:off x="5920920" y="3759120"/>
            <a:ext cx="32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117440" y="1650960"/>
            <a:ext cx="2562480" cy="38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ferent arteriole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89" name="Text Box 23"/>
          <p:cNvSpPr/>
          <p:nvPr/>
        </p:nvSpPr>
        <p:spPr>
          <a:xfrm>
            <a:off x="1130400" y="1015920"/>
            <a:ext cx="2562120" cy="38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erent arteriole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90" name="Text Box 24"/>
          <p:cNvSpPr/>
          <p:nvPr/>
        </p:nvSpPr>
        <p:spPr>
          <a:xfrm>
            <a:off x="1130400" y="2184480"/>
            <a:ext cx="2562120" cy="38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nal corpuscle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91" name="Text Box 25"/>
          <p:cNvSpPr/>
          <p:nvPr/>
        </p:nvSpPr>
        <p:spPr>
          <a:xfrm>
            <a:off x="4140360" y="5232240"/>
            <a:ext cx="2765160" cy="40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tical nephron</a:t>
            </a:r>
            <a:endParaRPr b="0" lang="en-US" sz="2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92" name="Text Box 26"/>
          <p:cNvSpPr/>
          <p:nvPr/>
        </p:nvSpPr>
        <p:spPr>
          <a:xfrm>
            <a:off x="1930320" y="3327480"/>
            <a:ext cx="1711440" cy="70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tubular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93" name="Text Box 27"/>
          <p:cNvSpPr/>
          <p:nvPr/>
        </p:nvSpPr>
        <p:spPr>
          <a:xfrm>
            <a:off x="6311880" y="1600200"/>
            <a:ext cx="1711440" cy="70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tubular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94" name="Text Box 28"/>
          <p:cNvSpPr/>
          <p:nvPr/>
        </p:nvSpPr>
        <p:spPr>
          <a:xfrm>
            <a:off x="6311880" y="3568680"/>
            <a:ext cx="1533600" cy="70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lecting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ct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95" name="Text Box 29"/>
          <p:cNvSpPr/>
          <p:nvPr/>
        </p:nvSpPr>
        <p:spPr>
          <a:xfrm>
            <a:off x="2336760" y="4317840"/>
            <a:ext cx="1355760" cy="70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phron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ending Loop of Hen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 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meable to salt bu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meable to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is drawn out of the filtrate and into the interstitial space where it is quickly picked up by capilla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it descends, the fluid becomes more solute concentr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op of Henle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te and Water Trans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5" descr="fox78119_1714"/>
          <p:cNvPicPr/>
          <p:nvPr/>
        </p:nvPicPr>
        <p:blipFill>
          <a:blip r:embed="rId1"/>
          <a:stretch/>
        </p:blipFill>
        <p:spPr>
          <a:xfrm>
            <a:off x="2308320" y="1752480"/>
            <a:ext cx="422280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ercurrent Multi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feedback mechanism is created between the two portions of the loop of Hen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re salt the ascending limb removes, the saltier the fluid entering it will be (due to loss of water in descending limb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ized blood vessels around loop of Henle, which also have a descending and ascending po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create the countercurrent system because they take in salts in the descending region but lose them again in the ascending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salts in the interstitial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salt concentration at the beginning of the ascending region pulls in water, which is removed from the interstitial 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keeps salt concentration in the interstitial space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5" descr="fox78119_1716"/>
          <p:cNvPicPr/>
          <p:nvPr/>
        </p:nvPicPr>
        <p:blipFill>
          <a:blip r:embed="rId1"/>
          <a:stretch/>
        </p:blipFill>
        <p:spPr>
          <a:xfrm>
            <a:off x="2514600" y="1752480"/>
            <a:ext cx="3956040" cy="4784760"/>
          </a:xfrm>
          <a:prstGeom prst="rect">
            <a:avLst/>
          </a:prstGeom>
          <a:ln w="0">
            <a:noFill/>
          </a:ln>
        </p:spPr>
      </p:pic>
      <p:sp>
        <p:nvSpPr>
          <p:cNvPr id="351" name="Title 1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a Recta</a:t>
            </a: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al Tubule Osmol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5" descr="fox78119_1718"/>
          <p:cNvPicPr/>
          <p:nvPr/>
        </p:nvPicPr>
        <p:blipFill>
          <a:blip r:embed="rId1"/>
          <a:stretch/>
        </p:blipFill>
        <p:spPr>
          <a:xfrm>
            <a:off x="2406600" y="1765440"/>
            <a:ext cx="413712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ng Duct and AD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op in urine 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influenced by hypertonicity of interstitial space – water will leave via osmosis if abl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eability to water depends on the number of aquaporin channels in the cells of the collecting 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ility of aquaporins determined by AD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ng Duct and AD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4475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H binds to receptors on collecting duct cell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P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 kinas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sicles with aquaporin channels fuse to plasma membra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channels are removed without AD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5" descr="fox78119_1719"/>
          <p:cNvPicPr/>
          <p:nvPr/>
        </p:nvPicPr>
        <p:blipFill>
          <a:blip r:embed="rId1"/>
          <a:stretch/>
        </p:blipFill>
        <p:spPr>
          <a:xfrm>
            <a:off x="2506680" y="1539720"/>
            <a:ext cx="3730680" cy="5089680"/>
          </a:xfrm>
          <a:prstGeom prst="rect">
            <a:avLst/>
          </a:prstGeom>
          <a:ln w="0">
            <a:noFill/>
          </a:ln>
        </p:spPr>
      </p:pic>
      <p:sp>
        <p:nvSpPr>
          <p:cNvPr id="359" name="Title 1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ng Duct and ADH</a:t>
            </a: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50" descr="figure_18_04d_unlabeled"/>
          <p:cNvPicPr/>
          <p:nvPr/>
        </p:nvPicPr>
        <p:blipFill>
          <a:blip r:embed="rId1"/>
          <a:stretch/>
        </p:blipFill>
        <p:spPr>
          <a:xfrm>
            <a:off x="981000" y="352440"/>
            <a:ext cx="7182000" cy="6151680"/>
          </a:xfrm>
          <a:prstGeom prst="rect">
            <a:avLst/>
          </a:prstGeom>
          <a:ln w="0">
            <a:noFill/>
          </a:ln>
        </p:spPr>
      </p:pic>
      <p:sp>
        <p:nvSpPr>
          <p:cNvPr id="197" name="Line 25"/>
          <p:cNvSpPr/>
          <p:nvPr/>
        </p:nvSpPr>
        <p:spPr>
          <a:xfrm>
            <a:off x="3505320" y="515880"/>
            <a:ext cx="19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98" name="Line 26"/>
          <p:cNvSpPr/>
          <p:nvPr/>
        </p:nvSpPr>
        <p:spPr>
          <a:xfrm>
            <a:off x="3700440" y="515880"/>
            <a:ext cx="78732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99" name="Line 27"/>
          <p:cNvSpPr/>
          <p:nvPr/>
        </p:nvSpPr>
        <p:spPr>
          <a:xfrm>
            <a:off x="3513240" y="1363680"/>
            <a:ext cx="21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00" name="Line 28"/>
          <p:cNvSpPr/>
          <p:nvPr/>
        </p:nvSpPr>
        <p:spPr>
          <a:xfrm>
            <a:off x="3726000" y="1363680"/>
            <a:ext cx="28728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01" name="Line 29"/>
          <p:cNvSpPr/>
          <p:nvPr/>
        </p:nvSpPr>
        <p:spPr>
          <a:xfrm flipV="1">
            <a:off x="3513240" y="1777680"/>
            <a:ext cx="74592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02" name="Line 30"/>
          <p:cNvSpPr/>
          <p:nvPr/>
        </p:nvSpPr>
        <p:spPr>
          <a:xfrm>
            <a:off x="3513240" y="2548080"/>
            <a:ext cx="27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03" name="Line 31"/>
          <p:cNvSpPr/>
          <p:nvPr/>
        </p:nvSpPr>
        <p:spPr>
          <a:xfrm flipV="1">
            <a:off x="3784680" y="1972800"/>
            <a:ext cx="228600" cy="57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04" name="Line 32"/>
          <p:cNvSpPr/>
          <p:nvPr/>
        </p:nvSpPr>
        <p:spPr>
          <a:xfrm flipH="1">
            <a:off x="5011560" y="820800"/>
            <a:ext cx="42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05" name="Line 33"/>
          <p:cNvSpPr/>
          <p:nvPr/>
        </p:nvSpPr>
        <p:spPr>
          <a:xfrm flipH="1">
            <a:off x="4452840" y="820800"/>
            <a:ext cx="558720" cy="22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06" name="Line 34"/>
          <p:cNvSpPr/>
          <p:nvPr/>
        </p:nvSpPr>
        <p:spPr>
          <a:xfrm flipH="1">
            <a:off x="4858920" y="820800"/>
            <a:ext cx="152280" cy="169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07" name="Line 35"/>
          <p:cNvSpPr/>
          <p:nvPr/>
        </p:nvSpPr>
        <p:spPr>
          <a:xfrm flipH="1">
            <a:off x="4910040" y="1447920"/>
            <a:ext cx="517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08" name="Line 36"/>
          <p:cNvSpPr/>
          <p:nvPr/>
        </p:nvSpPr>
        <p:spPr>
          <a:xfrm>
            <a:off x="4884840" y="3429000"/>
            <a:ext cx="56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09" name="Line 37"/>
          <p:cNvSpPr/>
          <p:nvPr/>
        </p:nvSpPr>
        <p:spPr>
          <a:xfrm>
            <a:off x="5181480" y="4165560"/>
            <a:ext cx="246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10" name="Line 38"/>
          <p:cNvSpPr/>
          <p:nvPr/>
        </p:nvSpPr>
        <p:spPr>
          <a:xfrm flipH="1">
            <a:off x="3512880" y="5249880"/>
            <a:ext cx="77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11" name="Text Box 39"/>
          <p:cNvSpPr/>
          <p:nvPr/>
        </p:nvSpPr>
        <p:spPr>
          <a:xfrm>
            <a:off x="1244520" y="2387520"/>
            <a:ext cx="219384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Afferent arteriole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12" name="Text Box 40"/>
          <p:cNvSpPr/>
          <p:nvPr/>
        </p:nvSpPr>
        <p:spPr>
          <a:xfrm>
            <a:off x="1257480" y="1181160"/>
            <a:ext cx="219384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Efferent arteriole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13" name="Text Box 41"/>
          <p:cNvSpPr/>
          <p:nvPr/>
        </p:nvSpPr>
        <p:spPr>
          <a:xfrm>
            <a:off x="2006640" y="1752480"/>
            <a:ext cx="145728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Glomerulus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14" name="Text Box 42"/>
          <p:cNvSpPr/>
          <p:nvPr/>
        </p:nvSpPr>
        <p:spPr>
          <a:xfrm>
            <a:off x="2286000" y="5054760"/>
            <a:ext cx="117792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Nephron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loop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15" name="Text Box 43"/>
          <p:cNvSpPr/>
          <p:nvPr/>
        </p:nvSpPr>
        <p:spPr>
          <a:xfrm>
            <a:off x="5511960" y="4013280"/>
            <a:ext cx="117792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Collecting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duct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16" name="Text Box 44"/>
          <p:cNvSpPr/>
          <p:nvPr/>
        </p:nvSpPr>
        <p:spPr>
          <a:xfrm>
            <a:off x="5486400" y="1308240"/>
            <a:ext cx="229536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Distal convoluted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tubule </a:t>
            </a:r>
            <a:r>
              <a:rPr b="1" lang="en-US" sz="1800" spc="-1" strike="noStrike">
                <a:solidFill>
                  <a:srgbClr val="424456"/>
                </a:solidFill>
                <a:latin typeface="Symbol"/>
                <a:ea typeface="Symbol"/>
              </a:rPr>
              <a:t></a:t>
            </a: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DCT</a:t>
            </a:r>
            <a:r>
              <a:rPr b="1" lang="en-US" sz="1800" spc="-1" strike="noStrike">
                <a:solidFill>
                  <a:srgbClr val="424456"/>
                </a:solidFill>
                <a:latin typeface="Symbol"/>
                <a:ea typeface="Symbol"/>
              </a:rPr>
              <a:t>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17" name="Text Box 45"/>
          <p:cNvSpPr/>
          <p:nvPr/>
        </p:nvSpPr>
        <p:spPr>
          <a:xfrm>
            <a:off x="927000" y="343080"/>
            <a:ext cx="253692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Proximal convoluted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tubule </a:t>
            </a:r>
            <a:r>
              <a:rPr b="1" lang="en-US" sz="1800" spc="-1" strike="noStrike">
                <a:solidFill>
                  <a:srgbClr val="424456"/>
                </a:solidFill>
                <a:latin typeface="Symbol"/>
                <a:ea typeface="Symbol"/>
              </a:rPr>
              <a:t></a:t>
            </a: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PCT</a:t>
            </a:r>
            <a:r>
              <a:rPr b="1" lang="en-US" sz="1800" spc="-1" strike="noStrike">
                <a:solidFill>
                  <a:srgbClr val="424456"/>
                </a:solidFill>
                <a:latin typeface="Symbol"/>
                <a:ea typeface="Symbol"/>
              </a:rPr>
              <a:t>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18" name="Text Box 46"/>
          <p:cNvSpPr/>
          <p:nvPr/>
        </p:nvSpPr>
        <p:spPr>
          <a:xfrm>
            <a:off x="5486400" y="660240"/>
            <a:ext cx="261288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Peritubular capillaries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19" name="Text Box 47"/>
          <p:cNvSpPr/>
          <p:nvPr/>
        </p:nvSpPr>
        <p:spPr>
          <a:xfrm>
            <a:off x="5486400" y="3263760"/>
            <a:ext cx="136836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Vasa recta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20" name="Text Box 48"/>
          <p:cNvSpPr/>
          <p:nvPr/>
        </p:nvSpPr>
        <p:spPr>
          <a:xfrm>
            <a:off x="3720960" y="5994360"/>
            <a:ext cx="3032280" cy="31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4456"/>
                </a:solidFill>
                <a:latin typeface="Arial"/>
              </a:rPr>
              <a:t>Juxtamedullary nephron</a:t>
            </a:r>
            <a:endParaRPr b="0" lang="en-US" sz="2000" spc="-1" strike="noStrike">
              <a:solidFill>
                <a:srgbClr val="4244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le of ADH in Plasma Concen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5" descr="fox78119_1720"/>
          <p:cNvPicPr/>
          <p:nvPr/>
        </p:nvPicPr>
        <p:blipFill>
          <a:blip r:embed="rId1"/>
          <a:stretch/>
        </p:blipFill>
        <p:spPr>
          <a:xfrm>
            <a:off x="2473200" y="1730520"/>
            <a:ext cx="391500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ADH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5" descr="fox78119_tb1703"/>
          <p:cNvPicPr/>
          <p:nvPr/>
        </p:nvPicPr>
        <p:blipFill>
          <a:blip r:embed="rId1"/>
          <a:stretch/>
        </p:blipFill>
        <p:spPr>
          <a:xfrm>
            <a:off x="406440" y="2560680"/>
            <a:ext cx="835668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V.  Renal Plasma Clea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earance of Inu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ulin is a compound found in garlic, onion, and artichok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 marker of glomerular filtration rate because it is filtered but not reabsorbed or secr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ts val="20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X 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ts val="20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FR = ------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ts val="20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=  rate of urine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 inulin concentration in u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 inulin concentration in plasm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bsorption of Glucose and Amino Ac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ily filtered out in the glomerular caps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ly reabsorbed in the proximal tubule via secondary active transport with sodium, facilitated diffusion, and simple dif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rter Sat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ucose/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transporters have a </a:t>
            </a:r>
            <a:r>
              <a:rPr b="0" lang="en-US" sz="3200" spc="-1" strike="noStrike">
                <a:solidFill>
                  <a:srgbClr val="326064"/>
                </a:solidFill>
                <a:latin typeface="Arial"/>
              </a:rPr>
              <a:t>transport maxim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re is too much glucose in the filtrate, it will not be completely reabsor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ucose in the urine = </a:t>
            </a:r>
            <a:r>
              <a:rPr b="0" lang="en-US" sz="2800" spc="-1" strike="noStrike">
                <a:solidFill>
                  <a:srgbClr val="326064"/>
                </a:solidFill>
                <a:latin typeface="Arial"/>
              </a:rPr>
              <a:t>glycosur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is a sign of diabetes mellit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 glucose in the blood also results in decreased water reabsorption and possible dehydration.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. Renal Control of Electrolyte and Acid-Base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doster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90% of filtered 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reabsorbed early in the nephr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not regul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ssessment of what the body needs is made, and aldosterone controls additional reabsorption of 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secretion of 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distal tubule and collecting du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assium Secre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dosterone independent response: Increase in blood 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iggers an increase in the number of 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nnels in the cortical collecting du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blood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vels drop, these channels are remov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assium Secre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dosterone-dependent response: Increase in blood 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iggers adrenal cortex to release aldoster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ncreases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cretion in the distal tubule and collecting 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26" descr="figure_18_05_0_unlabeled"/>
          <p:cNvPicPr/>
          <p:nvPr/>
        </p:nvPicPr>
        <p:blipFill>
          <a:blip r:embed="rId1"/>
          <a:stretch/>
        </p:blipFill>
        <p:spPr>
          <a:xfrm>
            <a:off x="1327320" y="136440"/>
            <a:ext cx="6487920" cy="658512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74"/>
          <p:cNvSpPr/>
          <p:nvPr/>
        </p:nvSpPr>
        <p:spPr>
          <a:xfrm>
            <a:off x="3041640" y="223920"/>
            <a:ext cx="69516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24456"/>
                </a:solidFill>
                <a:latin typeface="Arial"/>
              </a:rPr>
              <a:t>NEPHRON</a:t>
            </a:r>
            <a:endParaRPr b="0" lang="en-US" sz="1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23" name="Text Box 75"/>
          <p:cNvSpPr/>
          <p:nvPr/>
        </p:nvSpPr>
        <p:spPr>
          <a:xfrm>
            <a:off x="1989000" y="642960"/>
            <a:ext cx="167976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24456"/>
                </a:solidFill>
                <a:latin typeface="Arial"/>
              </a:rPr>
              <a:t>Proximal convoluted tubule </a:t>
            </a:r>
            <a:endParaRPr b="0" lang="en-US" sz="1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24" name="Text Box 76"/>
          <p:cNvSpPr/>
          <p:nvPr/>
        </p:nvSpPr>
        <p:spPr>
          <a:xfrm>
            <a:off x="3922560" y="642960"/>
            <a:ext cx="147636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24456"/>
                </a:solidFill>
                <a:latin typeface="Arial"/>
              </a:rPr>
              <a:t>Distal convoluted tubule </a:t>
            </a:r>
            <a:endParaRPr b="0" lang="en-US" sz="1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25" name="Text Box 77"/>
          <p:cNvSpPr/>
          <p:nvPr/>
        </p:nvSpPr>
        <p:spPr>
          <a:xfrm>
            <a:off x="1974960" y="912960"/>
            <a:ext cx="16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Reabsorption of water,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ions, and all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organic nutrients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26" name="Text Box 78"/>
          <p:cNvSpPr/>
          <p:nvPr/>
        </p:nvSpPr>
        <p:spPr>
          <a:xfrm>
            <a:off x="3911760" y="911160"/>
            <a:ext cx="1323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• </a:t>
            </a: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Secretion of ions, acids,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   </a:t>
            </a: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drugs, toxins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27" name="Text Box 79"/>
          <p:cNvSpPr/>
          <p:nvPr/>
        </p:nvSpPr>
        <p:spPr>
          <a:xfrm>
            <a:off x="2128680" y="2201760"/>
            <a:ext cx="5810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Glomerulus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28" name="Text Box 80"/>
          <p:cNvSpPr/>
          <p:nvPr/>
        </p:nvSpPr>
        <p:spPr>
          <a:xfrm>
            <a:off x="1889280" y="2465280"/>
            <a:ext cx="82224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Efferent arteriole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29" name="Text Box 81"/>
          <p:cNvSpPr/>
          <p:nvPr/>
        </p:nvSpPr>
        <p:spPr>
          <a:xfrm>
            <a:off x="1889280" y="2706840"/>
            <a:ext cx="82224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Afferent arteriole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30" name="Text Box 82"/>
          <p:cNvSpPr/>
          <p:nvPr/>
        </p:nvSpPr>
        <p:spPr>
          <a:xfrm>
            <a:off x="4024440" y="1800360"/>
            <a:ext cx="822240" cy="1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Renal tubule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31" name="Text Box 83"/>
          <p:cNvSpPr/>
          <p:nvPr/>
        </p:nvSpPr>
        <p:spPr>
          <a:xfrm>
            <a:off x="3301920" y="3049560"/>
            <a:ext cx="82224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Loop begins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32" name="Text Box 84"/>
          <p:cNvSpPr/>
          <p:nvPr/>
        </p:nvSpPr>
        <p:spPr>
          <a:xfrm>
            <a:off x="4654440" y="2909880"/>
            <a:ext cx="56844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Loop ends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33" name="Text Box 85"/>
          <p:cNvSpPr/>
          <p:nvPr/>
        </p:nvSpPr>
        <p:spPr>
          <a:xfrm>
            <a:off x="1744560" y="3300480"/>
            <a:ext cx="9432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24456"/>
                </a:solidFill>
                <a:latin typeface="Arial"/>
              </a:rPr>
              <a:t>Renal corpuscle</a:t>
            </a:r>
            <a:endParaRPr b="0" lang="en-US" sz="1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34" name="Text Box 86"/>
          <p:cNvSpPr/>
          <p:nvPr/>
        </p:nvSpPr>
        <p:spPr>
          <a:xfrm>
            <a:off x="1687680" y="3583080"/>
            <a:ext cx="10569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Production of filtrate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35" name="Text Box 87"/>
          <p:cNvSpPr/>
          <p:nvPr/>
        </p:nvSpPr>
        <p:spPr>
          <a:xfrm>
            <a:off x="3427560" y="3800520"/>
            <a:ext cx="5997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Descending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limb of loop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36" name="Text Box 88"/>
          <p:cNvSpPr/>
          <p:nvPr/>
        </p:nvSpPr>
        <p:spPr>
          <a:xfrm>
            <a:off x="4587840" y="4164120"/>
            <a:ext cx="6001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Ascending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limb of loop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37" name="Line 89"/>
          <p:cNvSpPr/>
          <p:nvPr/>
        </p:nvSpPr>
        <p:spPr>
          <a:xfrm>
            <a:off x="3429000" y="135252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38" name="Line 91"/>
          <p:cNvSpPr/>
          <p:nvPr/>
        </p:nvSpPr>
        <p:spPr>
          <a:xfrm flipV="1">
            <a:off x="4394160" y="1955520"/>
            <a:ext cx="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39" name="Line 92"/>
          <p:cNvSpPr/>
          <p:nvPr/>
        </p:nvSpPr>
        <p:spPr>
          <a:xfrm flipH="1">
            <a:off x="4140000" y="2038320"/>
            <a:ext cx="25380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40" name="Line 93"/>
          <p:cNvSpPr/>
          <p:nvPr/>
        </p:nvSpPr>
        <p:spPr>
          <a:xfrm>
            <a:off x="4394160" y="2038320"/>
            <a:ext cx="23508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41" name="Line 95"/>
          <p:cNvSpPr/>
          <p:nvPr/>
        </p:nvSpPr>
        <p:spPr>
          <a:xfrm>
            <a:off x="2736720" y="229860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42" name="Line 96"/>
          <p:cNvSpPr/>
          <p:nvPr/>
        </p:nvSpPr>
        <p:spPr>
          <a:xfrm>
            <a:off x="2952720" y="2298600"/>
            <a:ext cx="24120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43" name="Line 97"/>
          <p:cNvSpPr/>
          <p:nvPr/>
        </p:nvSpPr>
        <p:spPr>
          <a:xfrm>
            <a:off x="2762280" y="254628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44" name="Line 98"/>
          <p:cNvSpPr/>
          <p:nvPr/>
        </p:nvSpPr>
        <p:spPr>
          <a:xfrm>
            <a:off x="2743200" y="2781360"/>
            <a:ext cx="158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45" name="Line 102"/>
          <p:cNvSpPr/>
          <p:nvPr/>
        </p:nvSpPr>
        <p:spPr>
          <a:xfrm flipV="1">
            <a:off x="3765600" y="2813040"/>
            <a:ext cx="222120" cy="247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46" name="Line 103"/>
          <p:cNvSpPr/>
          <p:nvPr/>
        </p:nvSpPr>
        <p:spPr>
          <a:xfrm flipH="1" flipV="1">
            <a:off x="4528800" y="2649600"/>
            <a:ext cx="222120" cy="23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47" name="Line 104"/>
          <p:cNvSpPr/>
          <p:nvPr/>
        </p:nvSpPr>
        <p:spPr>
          <a:xfrm flipH="1">
            <a:off x="4051440" y="385452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48" name="Line 105"/>
          <p:cNvSpPr/>
          <p:nvPr/>
        </p:nvSpPr>
        <p:spPr>
          <a:xfrm>
            <a:off x="4438800" y="4210200"/>
            <a:ext cx="104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49" name="Text Box 106"/>
          <p:cNvSpPr/>
          <p:nvPr/>
        </p:nvSpPr>
        <p:spPr>
          <a:xfrm>
            <a:off x="3825720" y="5459400"/>
            <a:ext cx="9432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24456"/>
                </a:solidFill>
                <a:latin typeface="Arial"/>
              </a:rPr>
              <a:t>Nephron loop</a:t>
            </a:r>
            <a:endParaRPr b="0" lang="en-US" sz="1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50" name="Text Box 107"/>
          <p:cNvSpPr/>
          <p:nvPr/>
        </p:nvSpPr>
        <p:spPr>
          <a:xfrm>
            <a:off x="1704960" y="5032440"/>
            <a:ext cx="2952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KEY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51" name="Text Box 108"/>
          <p:cNvSpPr/>
          <p:nvPr/>
        </p:nvSpPr>
        <p:spPr>
          <a:xfrm>
            <a:off x="1955880" y="5243400"/>
            <a:ext cx="3585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24456"/>
                </a:solidFill>
                <a:latin typeface="Arial"/>
              </a:rPr>
              <a:t>Water</a:t>
            </a:r>
            <a:endParaRPr b="0" lang="en-US" sz="8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52" name="Text Box 109"/>
          <p:cNvSpPr/>
          <p:nvPr/>
        </p:nvSpPr>
        <p:spPr>
          <a:xfrm>
            <a:off x="1955880" y="5433840"/>
            <a:ext cx="3585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24456"/>
                </a:solidFill>
                <a:latin typeface="Arial"/>
              </a:rPr>
              <a:t>Solutes</a:t>
            </a:r>
            <a:endParaRPr b="0" lang="en-US" sz="8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53" name="Text Box 110"/>
          <p:cNvSpPr/>
          <p:nvPr/>
        </p:nvSpPr>
        <p:spPr>
          <a:xfrm>
            <a:off x="1955880" y="5624640"/>
            <a:ext cx="3585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24456"/>
                </a:solidFill>
                <a:latin typeface="Arial"/>
              </a:rPr>
              <a:t>Filtrate</a:t>
            </a:r>
            <a:endParaRPr b="0" lang="en-US" sz="8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54" name="Text Box 111"/>
          <p:cNvSpPr/>
          <p:nvPr/>
        </p:nvSpPr>
        <p:spPr>
          <a:xfrm>
            <a:off x="1949400" y="5815080"/>
            <a:ext cx="6508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24456"/>
                </a:solidFill>
                <a:latin typeface="Arial"/>
              </a:rPr>
              <a:t>Variable</a:t>
            </a:r>
            <a:endParaRPr b="0" lang="en-US" sz="8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24456"/>
                </a:solidFill>
                <a:latin typeface="Arial"/>
              </a:rPr>
              <a:t>reabsorption</a:t>
            </a:r>
            <a:endParaRPr b="0" lang="en-US" sz="8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24456"/>
                </a:solidFill>
                <a:latin typeface="Arial"/>
              </a:rPr>
              <a:t>or secretion</a:t>
            </a:r>
            <a:endParaRPr b="0" lang="en-US" sz="8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55" name="Text Box 112"/>
          <p:cNvSpPr/>
          <p:nvPr/>
        </p:nvSpPr>
        <p:spPr>
          <a:xfrm>
            <a:off x="3556080" y="5745240"/>
            <a:ext cx="1476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Further reabsorption of water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Symbol"/>
                <a:ea typeface="Symbol"/>
              </a:rPr>
              <a:t></a:t>
            </a: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descending limb</a:t>
            </a:r>
            <a:r>
              <a:rPr b="1" lang="en-US" sz="900" spc="-1" strike="noStrike">
                <a:solidFill>
                  <a:srgbClr val="424456"/>
                </a:solidFill>
                <a:latin typeface="Symbol"/>
                <a:ea typeface="Symbol"/>
              </a:rPr>
              <a:t></a:t>
            </a: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 and both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sodium and chloride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ions </a:t>
            </a:r>
            <a:r>
              <a:rPr b="1" lang="en-US" sz="900" spc="-1" strike="noStrike">
                <a:solidFill>
                  <a:srgbClr val="424456"/>
                </a:solidFill>
                <a:latin typeface="Symbol"/>
                <a:ea typeface="Symbol"/>
              </a:rPr>
              <a:t></a:t>
            </a: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ascending limb</a:t>
            </a:r>
            <a:r>
              <a:rPr b="1" lang="en-US" sz="900" spc="-1" strike="noStrike">
                <a:solidFill>
                  <a:srgbClr val="424456"/>
                </a:solidFill>
                <a:latin typeface="Symbol"/>
                <a:ea typeface="Symbol"/>
              </a:rPr>
              <a:t>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56" name="Text Box 118"/>
          <p:cNvSpPr/>
          <p:nvPr/>
        </p:nvSpPr>
        <p:spPr>
          <a:xfrm>
            <a:off x="6462720" y="5060880"/>
            <a:ext cx="9428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24456"/>
                </a:solidFill>
                <a:latin typeface="Arial"/>
              </a:rPr>
              <a:t>Papillary duct</a:t>
            </a:r>
            <a:endParaRPr b="0" lang="en-US" sz="1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57" name="Text Box 119"/>
          <p:cNvSpPr/>
          <p:nvPr/>
        </p:nvSpPr>
        <p:spPr>
          <a:xfrm>
            <a:off x="5410080" y="5643720"/>
            <a:ext cx="4730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Toward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ureter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58" name="Text Box 120"/>
          <p:cNvSpPr/>
          <p:nvPr/>
        </p:nvSpPr>
        <p:spPr>
          <a:xfrm>
            <a:off x="6469200" y="5313240"/>
            <a:ext cx="95544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Delivery of urine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to minor calyx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59" name="Text Box 121"/>
          <p:cNvSpPr/>
          <p:nvPr/>
        </p:nvSpPr>
        <p:spPr>
          <a:xfrm>
            <a:off x="6392880" y="3171960"/>
            <a:ext cx="1095480" cy="7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Variable reabsorption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of water and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reabsorption or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secretion of sodium,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potassium, hydrogen,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and bicarbonate ions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60" name="Text Box 122"/>
          <p:cNvSpPr/>
          <p:nvPr/>
        </p:nvSpPr>
        <p:spPr>
          <a:xfrm>
            <a:off x="6467400" y="2901960"/>
            <a:ext cx="9432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24456"/>
                </a:solidFill>
                <a:latin typeface="Arial"/>
              </a:rPr>
              <a:t>Collecting duct</a:t>
            </a:r>
            <a:endParaRPr b="0" lang="en-US" sz="1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61" name="Text Box 123"/>
          <p:cNvSpPr/>
          <p:nvPr/>
        </p:nvSpPr>
        <p:spPr>
          <a:xfrm>
            <a:off x="6039000" y="241200"/>
            <a:ext cx="111420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24456"/>
                </a:solidFill>
                <a:latin typeface="Arial"/>
              </a:rPr>
              <a:t>COLLECTING SYSTEM</a:t>
            </a:r>
            <a:endParaRPr b="0" lang="en-US" sz="1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62" name="Text Box 125"/>
          <p:cNvSpPr/>
          <p:nvPr/>
        </p:nvSpPr>
        <p:spPr>
          <a:xfrm>
            <a:off x="3911760" y="1200240"/>
            <a:ext cx="148104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• </a:t>
            </a: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Variable reabsorption of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   </a:t>
            </a: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water and sodium ions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   </a:t>
            </a:r>
            <a:r>
              <a:rPr b="1" lang="en-US" sz="900" spc="-1" strike="noStrike">
                <a:solidFill>
                  <a:srgbClr val="424456"/>
                </a:solidFill>
                <a:latin typeface="Symbol"/>
                <a:ea typeface="Symbol"/>
              </a:rPr>
              <a:t></a:t>
            </a:r>
            <a:r>
              <a:rPr b="1" lang="en-US" sz="900" spc="-1" strike="noStrike">
                <a:solidFill>
                  <a:srgbClr val="424456"/>
                </a:solidFill>
                <a:latin typeface="Arial"/>
              </a:rPr>
              <a:t>under hormonal control</a:t>
            </a:r>
            <a:r>
              <a:rPr b="1" lang="en-US" sz="900" spc="-1" strike="noStrike">
                <a:solidFill>
                  <a:srgbClr val="424456"/>
                </a:solidFill>
                <a:latin typeface="Symbol"/>
                <a:ea typeface="Symbol"/>
              </a:rPr>
              <a:t></a:t>
            </a:r>
            <a:endParaRPr b="0" lang="en-US" sz="900" spc="-1" strike="noStrike">
              <a:solidFill>
                <a:srgbClr val="4244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dium and Potass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s in sodium absorption drive extra potassium secreti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 difference created by 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absorption driving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rough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mulation of renin-angiotensin-aldosterone system by water and 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fil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flow rates bend cilia on the cells of the distal tubule, resulting in activation of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rol of Aldosterone Secre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ise in blood 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rectly stimulates production of aldosterone in the adrenal corte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all in blood 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directly stimulates production of aldosterone via the renin- angiotensin-aldosterone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xtaglomerular Appar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4560" y="83772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d where the afferent arteriole comes into contact with the distal tub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6" descr="fox78119_1726"/>
          <p:cNvPicPr/>
          <p:nvPr/>
        </p:nvPicPr>
        <p:blipFill>
          <a:blip r:embed="rId1"/>
          <a:stretch/>
        </p:blipFill>
        <p:spPr>
          <a:xfrm>
            <a:off x="1135080" y="2819520"/>
            <a:ext cx="6942240" cy="36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xtaglomerular Appar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80880" y="13716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ecrease in plasma 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ults in a fall in blood volu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ed by juxtaglomerular appar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nular cells secrete </a:t>
            </a:r>
            <a:r>
              <a:rPr b="0" lang="en-US" sz="2800" spc="-1" strike="noStrike">
                <a:solidFill>
                  <a:srgbClr val="326064"/>
                </a:solidFill>
                <a:latin typeface="Arial"/>
              </a:rPr>
              <a:t>ren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the afferent arterio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onverts </a:t>
            </a:r>
            <a:r>
              <a:rPr b="0" lang="en-US" sz="2800" spc="-1" strike="noStrike">
                <a:solidFill>
                  <a:srgbClr val="326064"/>
                </a:solidFill>
                <a:latin typeface="Arial"/>
              </a:rPr>
              <a:t>angiotensinog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0" lang="en-US" sz="2800" spc="-1" strike="noStrike">
                <a:solidFill>
                  <a:srgbClr val="326064"/>
                </a:solidFill>
                <a:latin typeface="Arial"/>
              </a:rPr>
              <a:t>angiotensin 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260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6064"/>
                </a:solidFill>
                <a:latin typeface="Arial"/>
              </a:rPr>
              <a:t>Angiotensin-converting enzy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38086"/>
                </a:solidFill>
                <a:latin typeface="Arial"/>
              </a:rPr>
              <a:t>(ACE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s this into </a:t>
            </a:r>
            <a:r>
              <a:rPr b="0" lang="en-US" sz="2800" spc="-1" strike="noStrike">
                <a:solidFill>
                  <a:srgbClr val="326064"/>
                </a:solidFill>
                <a:latin typeface="Arial"/>
              </a:rPr>
              <a:t>angiotensin 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giotensin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mulates adrenal cortex to make aldoste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s the reabsorption of 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cortical collecting 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es secretion of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s blood volume and raises blood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tion of Renin Secre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salt levels result in lower blood volume due to inhibition of ADH secre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water is reabsorbed in collecting ducts and more is excreted in ur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d blood volume is detected by granular cells that act as baroreceptors.  They then secrete ren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nular cells are also stimulated by sympathetic innervation from the baroreceptor refle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ula Den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of the distal tubule that forms the juxtaglomerular appar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or for tubuloglomerular feedback needed for regulation of glomerular filtration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re is more 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in the filtrate, a signal is sent to the afferent arteriole to constrict limiting filtration 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led via negative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ula Den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re is more 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in the filtrate, a signal is sent to the afferent arteriole to inhibit the production of ren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results in less reabsorption of 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llowing more to be excre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helps lower 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evels in the bl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rial Natriuretic Pept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s in blood volume also increase the release of atrial natriuretic peptide hormone from the atria of the heart when atrial walls are stretch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mulates kidneys to excrete more s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sma Sodium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5" descr="fox78119_1727"/>
          <p:cNvPicPr/>
          <p:nvPr/>
        </p:nvPicPr>
        <p:blipFill>
          <a:blip r:embed="rId1"/>
          <a:stretch/>
        </p:blipFill>
        <p:spPr>
          <a:xfrm>
            <a:off x="2395440" y="1832040"/>
            <a:ext cx="4095720" cy="47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64" descr="figure_18_06a_unlabeled"/>
          <p:cNvPicPr/>
          <p:nvPr/>
        </p:nvPicPr>
        <p:blipFill>
          <a:blip r:embed="rId1"/>
          <a:stretch/>
        </p:blipFill>
        <p:spPr>
          <a:xfrm>
            <a:off x="406440" y="136440"/>
            <a:ext cx="8329680" cy="6585120"/>
          </a:xfrm>
          <a:prstGeom prst="rect">
            <a:avLst/>
          </a:prstGeom>
          <a:ln w="0">
            <a:noFill/>
          </a:ln>
        </p:spPr>
      </p:pic>
      <p:sp>
        <p:nvSpPr>
          <p:cNvPr id="264" name="AutoShape 30"/>
          <p:cNvSpPr/>
          <p:nvPr/>
        </p:nvSpPr>
        <p:spPr>
          <a:xfrm>
            <a:off x="1187280" y="4254480"/>
            <a:ext cx="200160" cy="851040"/>
          </a:xfrm>
          <a:custGeom>
            <a:avLst/>
            <a:gdLst>
              <a:gd name="textAreaLeft" fmla="*/ 127800 w 200160"/>
              <a:gd name="textAreaRight" fmla="*/ 200520 w 200160"/>
              <a:gd name="textAreaTop" fmla="*/ 0 h 851040"/>
              <a:gd name="textAreaBottom" fmla="*/ 851400 h 85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>
            <a:off x="1193760" y="4673520"/>
            <a:ext cx="0" cy="679680"/>
          </a:xfrm>
          <a:prstGeom prst="line">
            <a:avLst/>
          </a:prstGeom>
          <a:ln w="1260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3924360" y="5969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V="1">
            <a:off x="3809880" y="4215960"/>
            <a:ext cx="432000" cy="52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68" name="Line 34"/>
          <p:cNvSpPr/>
          <p:nvPr/>
        </p:nvSpPr>
        <p:spPr>
          <a:xfrm flipV="1">
            <a:off x="3809880" y="3949560"/>
            <a:ext cx="825480" cy="78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69" name="Line 36"/>
          <p:cNvSpPr/>
          <p:nvPr/>
        </p:nvSpPr>
        <p:spPr>
          <a:xfrm flipH="1">
            <a:off x="3149640" y="4737240"/>
            <a:ext cx="66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70" name="Line 37"/>
          <p:cNvSpPr/>
          <p:nvPr/>
        </p:nvSpPr>
        <p:spPr>
          <a:xfrm flipH="1">
            <a:off x="3772080" y="3924360"/>
            <a:ext cx="45720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71" name="Line 38"/>
          <p:cNvSpPr/>
          <p:nvPr/>
        </p:nvSpPr>
        <p:spPr>
          <a:xfrm flipH="1">
            <a:off x="3162240" y="439416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72" name="Line 39"/>
          <p:cNvSpPr/>
          <p:nvPr/>
        </p:nvSpPr>
        <p:spPr>
          <a:xfrm flipH="1">
            <a:off x="3161880" y="34671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73" name="Line 40"/>
          <p:cNvSpPr/>
          <p:nvPr/>
        </p:nvSpPr>
        <p:spPr>
          <a:xfrm>
            <a:off x="3137040" y="2959200"/>
            <a:ext cx="24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74" name="Line 41"/>
          <p:cNvSpPr/>
          <p:nvPr/>
        </p:nvSpPr>
        <p:spPr>
          <a:xfrm>
            <a:off x="3378240" y="2959200"/>
            <a:ext cx="99072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75" name="Line 42"/>
          <p:cNvSpPr/>
          <p:nvPr/>
        </p:nvSpPr>
        <p:spPr>
          <a:xfrm>
            <a:off x="4178160" y="2451240"/>
            <a:ext cx="723960" cy="799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76" name="Line 43"/>
          <p:cNvSpPr/>
          <p:nvPr/>
        </p:nvSpPr>
        <p:spPr>
          <a:xfrm>
            <a:off x="5384880" y="2146320"/>
            <a:ext cx="3556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77" name="Line 44"/>
          <p:cNvSpPr/>
          <p:nvPr/>
        </p:nvSpPr>
        <p:spPr>
          <a:xfrm>
            <a:off x="6718320" y="2209680"/>
            <a:ext cx="0" cy="20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78" name="Line 45"/>
          <p:cNvSpPr/>
          <p:nvPr/>
        </p:nvSpPr>
        <p:spPr>
          <a:xfrm flipH="1">
            <a:off x="6590880" y="2413080"/>
            <a:ext cx="12708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79" name="Line 46"/>
          <p:cNvSpPr/>
          <p:nvPr/>
        </p:nvSpPr>
        <p:spPr>
          <a:xfrm>
            <a:off x="8128080" y="2476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80" name="Line 47"/>
          <p:cNvSpPr/>
          <p:nvPr/>
        </p:nvSpPr>
        <p:spPr>
          <a:xfrm flipH="1">
            <a:off x="6959520" y="2705040"/>
            <a:ext cx="1168560" cy="876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81" name="Line 48"/>
          <p:cNvSpPr/>
          <p:nvPr/>
        </p:nvSpPr>
        <p:spPr>
          <a:xfrm flipV="1">
            <a:off x="7988400" y="4127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82" name="Text Box 49"/>
          <p:cNvSpPr/>
          <p:nvPr/>
        </p:nvSpPr>
        <p:spPr>
          <a:xfrm>
            <a:off x="419040" y="5384880"/>
            <a:ext cx="1774800" cy="46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Juxtaglomerular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complex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83" name="Text Box 51"/>
          <p:cNvSpPr/>
          <p:nvPr/>
        </p:nvSpPr>
        <p:spPr>
          <a:xfrm>
            <a:off x="1333440" y="4610160"/>
            <a:ext cx="1774800" cy="46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Juxtaglomerular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cells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84" name="Text Box 52"/>
          <p:cNvSpPr/>
          <p:nvPr/>
        </p:nvSpPr>
        <p:spPr>
          <a:xfrm>
            <a:off x="1549440" y="4254480"/>
            <a:ext cx="1596960" cy="23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Macula densa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85" name="Text Box 53"/>
          <p:cNvSpPr/>
          <p:nvPr/>
        </p:nvSpPr>
        <p:spPr>
          <a:xfrm>
            <a:off x="1143000" y="3340080"/>
            <a:ext cx="1927080" cy="46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Distal convoluted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tubule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86" name="Text Box 54"/>
          <p:cNvSpPr/>
          <p:nvPr/>
        </p:nvSpPr>
        <p:spPr>
          <a:xfrm>
            <a:off x="1143000" y="2832120"/>
            <a:ext cx="1927080" cy="24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Efferent arteriole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87" name="Text Box 55"/>
          <p:cNvSpPr/>
          <p:nvPr/>
        </p:nvSpPr>
        <p:spPr>
          <a:xfrm>
            <a:off x="2933640" y="5854680"/>
            <a:ext cx="924120" cy="51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Afferent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arteriole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88" name="Text Box 57"/>
          <p:cNvSpPr/>
          <p:nvPr/>
        </p:nvSpPr>
        <p:spPr>
          <a:xfrm>
            <a:off x="3390840" y="1955880"/>
            <a:ext cx="1355760" cy="49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Capsular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space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89" name="Text Box 58"/>
          <p:cNvSpPr/>
          <p:nvPr/>
        </p:nvSpPr>
        <p:spPr>
          <a:xfrm>
            <a:off x="4673520" y="1663560"/>
            <a:ext cx="1355760" cy="49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Glomerular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capillary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90" name="Text Box 59"/>
          <p:cNvSpPr/>
          <p:nvPr/>
        </p:nvSpPr>
        <p:spPr>
          <a:xfrm>
            <a:off x="6045120" y="1714680"/>
            <a:ext cx="1355760" cy="49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Parietal 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layer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91" name="Text Box 60"/>
          <p:cNvSpPr/>
          <p:nvPr/>
        </p:nvSpPr>
        <p:spPr>
          <a:xfrm>
            <a:off x="7442280" y="1727280"/>
            <a:ext cx="1355760" cy="74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Visceral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epithelium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Symbol"/>
                <a:ea typeface="Symbol"/>
              </a:rPr>
              <a:t></a:t>
            </a: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podocyte</a:t>
            </a:r>
            <a:r>
              <a:rPr b="1" lang="en-US" sz="1800" spc="-1" strike="noStrike">
                <a:solidFill>
                  <a:srgbClr val="424456"/>
                </a:solidFill>
                <a:latin typeface="Symbol"/>
                <a:ea typeface="Symbol"/>
              </a:rPr>
              <a:t>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92" name="Text Box 62"/>
          <p:cNvSpPr/>
          <p:nvPr/>
        </p:nvSpPr>
        <p:spPr>
          <a:xfrm>
            <a:off x="7315200" y="4876920"/>
            <a:ext cx="1355760" cy="74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Proximal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convoluted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24456"/>
                </a:solidFill>
                <a:latin typeface="Arial"/>
              </a:rPr>
              <a:t>tubule</a:t>
            </a:r>
            <a:endParaRPr b="0" lang="en-US" sz="1800" spc="-1" strike="noStrike">
              <a:solidFill>
                <a:srgbClr val="4244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lationship Between N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and 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bsorption of 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imulates the secretion of other positive 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e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idosis stimulates the secretion of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inhibits the secretion of 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idosis can lead to hyperkalem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kalosis stimulates the secretion and excretion of more 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id-Base 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dneys maintain blood pH by reabsorbing bicarbonate and secreting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ine is thus acid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ximal tubule uses 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umps to exchange 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ut and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f the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rought in is used for the reabsorption of bicarbon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retion of H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ide from the 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umps in the proximal tubule, the distal tubule has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Pase pumps to increase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cre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 Disturb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kalosis:  Less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vailable to transport bicarbonate into tubule cells, so less bicarbonate is reabsorb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 bicarbonate secretion compensates for alkalo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 Disturb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idosis: Proximal tubule can make extra bicarbonate through the metabolism of the amino acid gluta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 bicarbonate enters the blood to compensate for acido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monia stays in urine to buffer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inary Buff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80880" y="16765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phrons cannot produce urine with a pH below 4.5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increase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cretion, urine must be buffe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sphates and ammonia buffer the ur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sphates enter via fil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monia comes from the deamination of amino ac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WordArt 2"/>
          <p:cNvSpPr txBox="1"/>
          <p:nvPr/>
        </p:nvSpPr>
        <p:spPr>
          <a:xfrm>
            <a:off x="2057400" y="1371600"/>
            <a:ext cx="54864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ank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12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F494-CF91-4AB0-8F48-EF4D0C70B5C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42445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 of Mictur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rusor muscles line the wall of the urinary blad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ervated by parasympathetic neurons, which release acetylcholine onto muscarinic ACh rece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cters surround ureth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urethral sphincter: smooth mus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urethral sphincter: skeletal mus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 of Mictur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tch receptors in the bladder send information to S1−S4 regions of the spinal c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neurons normally inhibit parasympathetic nerves to the detrusor muscles, while somatic motor neurons to the external urethral sphincter are stimul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ed the </a:t>
            </a:r>
            <a:r>
              <a:rPr b="0" lang="en-US" sz="2800" spc="-1" strike="noStrike">
                <a:solidFill>
                  <a:srgbClr val="326064"/>
                </a:solidFill>
                <a:latin typeface="Arial"/>
              </a:rPr>
              <a:t>guarding ref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ents involuntary emptying of blad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 of Mictur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tch of the bladder initiates the </a:t>
            </a:r>
            <a:r>
              <a:rPr b="0" lang="en-US" sz="3200" spc="-1" strike="noStrike">
                <a:solidFill>
                  <a:srgbClr val="326064"/>
                </a:solidFill>
                <a:latin typeface="Arial"/>
              </a:rPr>
              <a:t>voiding refle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about stretch passes up the spinal cord to the </a:t>
            </a:r>
            <a:r>
              <a:rPr b="0" lang="en-US" sz="2800" spc="-1" strike="noStrike">
                <a:solidFill>
                  <a:srgbClr val="326064"/>
                </a:solidFill>
                <a:latin typeface="Arial"/>
              </a:rPr>
              <a:t>micturition cent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p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sympathetic neurons cause detrusor muscles to contr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pathetic innervation of the internal urethral sphincter causes it to rela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 feels the need to urinate and can control when with external urethral sphinc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2T21:00:36Z</dcterms:created>
  <dc:creator>Amy</dc:creator>
  <dc:description/>
  <dc:language>en-US</dc:language>
  <cp:lastModifiedBy>DR.AHMAD</cp:lastModifiedBy>
  <dcterms:modified xsi:type="dcterms:W3CDTF">2015-05-18T06:54:27Z</dcterms:modified>
  <cp:revision>345</cp:revision>
  <dc:subject/>
  <dc:title>Slide 1</dc:title>
</cp:coreProperties>
</file>